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5E1-D90A-4D23-8540-EB2D7538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640-62C3-42FC-8D58-34AA18B4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C03-4BF7-4F2F-93AC-85F8B0CF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9B0-D62C-47EA-AE9D-B8D5F5FB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8868-93F3-4ECF-8B81-2A8029A1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2145-C861-4706-B83C-78555D3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E6C7-E382-4554-BD95-3693F223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176D-F415-4105-8C6D-085A850D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F688-1265-440F-BB01-CC3C965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E2AD-859D-4B01-A5C7-3117122F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F78D-EA4A-4C39-8C58-5802BC7E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2F3-9D74-4DF7-BBA9-F7B3B135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153E-F4CF-4619-A0FD-6D7E0675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F67A-B6D2-4C2F-BE50-9B0038A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2A7E-96AE-43F3-8E01-6EBDF6FC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154D-D811-4E7A-A953-19A4CDCE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2841-4C21-4F4D-AF6F-A787BCE1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7F2-ADBC-42BE-AB17-89ACFEBC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E5A-E8D0-4319-BAD9-A6DE7C1F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D61-2674-46EF-9D6B-F5CC46F8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E3C-92B7-4008-A279-DB703B20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E38-0611-4459-8E2C-44E33B8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689-9E0D-4155-8050-3F26B36E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194-6CDE-49BE-9DA7-33D061BF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423-ED68-4195-93E1-495D67B4D4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DE93-F2DA-47E9-9AA2-C0441FA821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s.huji.ac.il/~kirk/SP.avi" TargetMode="External"/><Relationship Id="rId2" Type="http://schemas.openxmlformats.org/officeDocument/2006/relationships/hyperlink" Target="http://www.cs.huji.ac.il/~kirk/BP.avi" TargetMode="External"/><Relationship Id="rId3" Type="http://schemas.openxmlformats.org/officeDocument/2006/relationships/hyperlink" Target="http://www.cs.huji.ac.il/~kirk/mixedP.avi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hase Transitions – like death and taxes?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Why we should care; what to do about it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tt Kirkpatrick, Hebrew University, 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anks to:  Uri Gordon, Erik Aurell, Johannes Schneider,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hase transitions are inevitable in Avogadro-scale engineering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properties go from “good” to “not good enough” at the extremes of their parameter sp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n between these pha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limited tools for understanding such tran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s of disordered mater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 vs. smeared – Harris crite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ss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orics on large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 property crossovers – Friedgut’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 should care because computing is HARD at phase boundar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AT and 3-SAT as classic test cas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: N variables, M constraining clauses, M/N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3-SAT, phase diagram is kn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3.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easy,”  satisfiable (probably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9 &lt; M/N &lt; 4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hard,” but still satis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7… &lt; M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isfiable, exponential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advances, applying message-passing, pushed boundary of solubility in the “hard-SAT” region from N = 300 to N = 10^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echnique – soften the variables into beliefs or surve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urveys and Beliefs for the SAT problem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liefs – probabilities that the spin is up or d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. over satisfying configurations, as estimated by the local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s – probabilities that the spin is up or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l sat configu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ves a third possibility – spins that do both at differen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ons for both are nearly identical.  We can define hybrid methods, and they prove us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eliefs or surveys to guide decimation – this solves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pagating surveys or beliefs in a “cavity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2320" y="1600200"/>
            <a:ext cx="54975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pth of decimation characterizes BP, SP and mixed-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08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udy how SP, BP, m-P evolve by analyzing their hydrodynamic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ovies of N = 100,0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 at three cases, SP, BP, and the hybrid-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cs.huji.ac.il/~kirk/SP.a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cs.huji.ac.il/~kirk/BP.a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cs.huji.ac.il/~kirk/mixedP.a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ution, large fi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4:30:22Z</dcterms:created>
  <dc:creator>kirk</dc:creator>
  <dc:description/>
  <dc:language>en-US</dc:language>
  <cp:lastModifiedBy>kirk</cp:lastModifiedBy>
  <dcterms:modified xsi:type="dcterms:W3CDTF">2003-11-22T15:15:18Z</dcterms:modified>
  <cp:revision>9</cp:revision>
  <dc:subject/>
  <dc:title>Phase Transitions – like death and taxes?  Why we should care; what to do about it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