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2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pct" ContentType="image/x-pict"/>
  <Override PartName="/ppt/media/image1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8C8-E78F-4DE4-8221-6285B0C9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09E-BAC6-49B6-A4E8-50A02013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9FB-435E-4568-B223-5CC06D10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849-D8A8-4502-A155-6E5F3B74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A21-2A70-4D82-B5DA-BAF470A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9D3-A379-45FB-84D8-848304D3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353-9503-4359-B018-A6231DF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A44-F80F-4AE8-AD6E-C5C8EFB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B53-58AF-432A-B622-02DDBF2F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902-13C7-44CC-B200-1230F433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519-6A20-4255-A231-208CAB8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D34-F297-42CF-891B-744346F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B900-4CBD-4F03-8849-194A1822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24680" y="6400800"/>
            <a:ext cx="110520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7.pn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cd.ie/Chemistry/People/macdonaill/" TargetMode="External"/><Relationship Id="rId3" Type="http://schemas.openxmlformats.org/officeDocument/2006/relationships/hyperlink" Target="http://www.tcd.ie/Chemistry/People/macdonaill/" TargetMode="External"/><Relationship Id="rId4" Type="http://schemas.openxmlformats.org/officeDocument/2006/relationships/hyperlink" Target="http://www.tcd.ie/Chemistry/People/macdonaill/" TargetMode="External"/><Relationship Id="rId5" Type="http://schemas.openxmlformats.org/officeDocument/2006/relationships/hyperlink" Target="http://www.tcd.ie/Chemistry/People/macdonaill/" TargetMode="External"/><Relationship Id="rId6" Type="http://schemas.openxmlformats.org/officeDocument/2006/relationships/hyperlink" Target="http://www.tcd.ie/Chemistry/People/macdonaill/" TargetMode="External"/><Relationship Id="rId7" Type="http://schemas.openxmlformats.org/officeDocument/2006/relationships/hyperlink" Target="http://www.tcd.ie/Chemistry/People/macdonaill/" TargetMode="External"/><Relationship Id="rId8" Type="http://schemas.openxmlformats.org/officeDocument/2006/relationships/hyperlink" Target="http://www.tcd.ie/Chemistry/People/macdonaill/" TargetMode="External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eople.virginia.edu/~rjh9u/code.html" TargetMode="External"/><Relationship Id="rId3" Type="http://schemas.openxmlformats.org/officeDocument/2006/relationships/hyperlink" Target="http://www.people.virginia.edu/~rjh9u/code.html" TargetMode="External"/><Relationship Id="rId4" Type="http://schemas.openxmlformats.org/officeDocument/2006/relationships/hyperlink" Target="http://www.people.virginia.edu/~rjh9u/code.html" TargetMode="External"/><Relationship Id="rId5" Type="http://schemas.openxmlformats.org/officeDocument/2006/relationships/hyperlink" Target="http://www.people.virginia.edu/~rjh9u/code.html" TargetMode="External"/><Relationship Id="rId6" Type="http://schemas.openxmlformats.org/officeDocument/2006/relationships/hyperlink" Target="http://www.people.virginia.edu/~rjh9u/code.html" TargetMode="External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naPackViral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ding Theory and Protein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vogadro-Scale Engineering:  Form an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ember 18, 19 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beoba E.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al Biology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dia National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</a:rPr>
              <a:t>*eemay@sandia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6213600"/>
            <a:ext cx="648000" cy="64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5720" y="6251400"/>
            <a:ext cx="7370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200"/>
            </a:b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for the United States Department of Energy under contract DE-AC04-94AL85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5362200">
            <a:off x="-822600" y="2724120"/>
            <a:ext cx="3889440" cy="1787400"/>
          </a:xfrm>
          <a:prstGeom prst="ellipse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entral" descr=""/>
          <p:cNvPicPr/>
          <p:nvPr/>
        </p:nvPicPr>
        <p:blipFill>
          <a:blip r:embed="rId1"/>
          <a:stretch/>
        </p:blipFill>
        <p:spPr>
          <a:xfrm>
            <a:off x="3429000" y="932040"/>
            <a:ext cx="5715000" cy="5925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19720" y="3124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572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entral Dogma of Genetics  = Genetic Information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655308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(http://www-stat.stanford.edu/~susan/courses/s166/central.gi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0640" y="1702080"/>
            <a:ext cx="1120680" cy="3859920"/>
            <a:chOff x="530640" y="1702080"/>
            <a:chExt cx="1120680" cy="3859920"/>
          </a:xfrm>
        </p:grpSpPr>
        <p:sp>
          <p:nvSpPr>
            <p:cNvPr id="84" name=""/>
            <p:cNvSpPr/>
            <p:nvPr/>
          </p:nvSpPr>
          <p:spPr>
            <a:xfrm rot="5307600">
              <a:off x="710280" y="3074400"/>
              <a:ext cx="787680" cy="107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307600">
              <a:off x="855000" y="4419000"/>
              <a:ext cx="643680" cy="83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5280" y="4008600"/>
              <a:ext cx="13680" cy="50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6600" y="5164560"/>
              <a:ext cx="10440" cy="39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307600">
              <a:off x="636120" y="2112120"/>
              <a:ext cx="643680" cy="83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6400" y="1702080"/>
              <a:ext cx="1368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360" y="2856960"/>
              <a:ext cx="972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2960" y="2438280"/>
            <a:ext cx="71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6320" y="342900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s00100_" descr=""/>
          <p:cNvPicPr/>
          <p:nvPr/>
        </p:nvPicPr>
        <p:blipFill>
          <a:blip r:embed="rId2"/>
          <a:stretch/>
        </p:blipFill>
        <p:spPr>
          <a:xfrm>
            <a:off x="568440" y="5573880"/>
            <a:ext cx="1441440" cy="1207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43560" y="56620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6320" y="465120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s00100_" descr=""/>
          <p:cNvPicPr/>
          <p:nvPr/>
        </p:nvPicPr>
        <p:blipFill>
          <a:blip r:embed="rId3"/>
          <a:stretch/>
        </p:blipFill>
        <p:spPr>
          <a:xfrm>
            <a:off x="339840" y="685800"/>
            <a:ext cx="1441440" cy="120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2440" y="77436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31100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0481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5812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226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ing Theory Models of Protein Syn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486080"/>
            <a:ext cx="6745320" cy="118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3392640"/>
            <a:ext cx="6518160" cy="346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0666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Gatlin, LL.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Information theory and the Living System.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 19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1240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Yockey, Hubert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Information Theory and Molecular Biology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. 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124080"/>
            <a:ext cx="8763120" cy="358164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105520"/>
            <a:ext cx="3429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4952880"/>
            <a:ext cx="40384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791320"/>
            <a:ext cx="320040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276720"/>
            <a:ext cx="236196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762120"/>
            <a:ext cx="198144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netic 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524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ng Theory View of Protein Synthesis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ay et al., JFI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00200"/>
            <a:ext cx="2057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2193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71600" y="1219320"/>
            <a:ext cx="1295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114300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8280" y="228600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6280" y="827640"/>
            <a:ext cx="1335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ne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966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5720" y="1205640"/>
            <a:ext cx="2008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netic    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835600"/>
            <a:ext cx="327672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1000" y="5835600"/>
            <a:ext cx="1440" cy="38736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6920" y="5835600"/>
            <a:ext cx="1800" cy="387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91320"/>
            <a:ext cx="0" cy="387360"/>
          </a:xfrm>
          <a:prstGeom prst="line">
            <a:avLst/>
          </a:prstGeom>
          <a:ln cap="rnd" w="12600">
            <a:solidFill>
              <a:srgbClr val="00003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11000" y="57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790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99920" y="5790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6800" y="5181480"/>
            <a:ext cx="1145880" cy="581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6110280"/>
            <a:ext cx="1033200" cy="290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06520" y="6173640"/>
            <a:ext cx="1032120" cy="290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1800" y="6076800"/>
            <a:ext cx="1031760" cy="2905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6095880"/>
            <a:ext cx="1031760" cy="290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4560" y="5594400"/>
            <a:ext cx="1146240" cy="5792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0" y="5181480"/>
            <a:ext cx="1147680" cy="579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173640"/>
            <a:ext cx="230040" cy="241560"/>
          </a:xfrm>
          <a:prstGeom prst="irregularSeal1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6248520"/>
            <a:ext cx="230040" cy="241200"/>
          </a:xfrm>
          <a:prstGeom prst="irregularSeal1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477120" y="4647600"/>
            <a:ext cx="914400" cy="99036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687680"/>
            <a:ext cx="560160" cy="750240"/>
            <a:chOff x="457200" y="1687680"/>
            <a:chExt cx="560160" cy="750240"/>
          </a:xfrm>
        </p:grpSpPr>
        <p:sp>
          <p:nvSpPr>
            <p:cNvPr id="139" name=""/>
            <p:cNvSpPr/>
            <p:nvPr/>
          </p:nvSpPr>
          <p:spPr>
            <a:xfrm>
              <a:off x="457200" y="1687680"/>
              <a:ext cx="540000" cy="68688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360" y="1750680"/>
              <a:ext cx="540000" cy="68724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676520"/>
            <a:ext cx="459720" cy="446040"/>
            <a:chOff x="1676520" y="1676520"/>
            <a:chExt cx="459720" cy="446040"/>
          </a:xfrm>
        </p:grpSpPr>
        <p:sp>
          <p:nvSpPr>
            <p:cNvPr id="142" name=""/>
            <p:cNvSpPr/>
            <p:nvPr/>
          </p:nvSpPr>
          <p:spPr>
            <a:xfrm>
              <a:off x="1676520" y="1676520"/>
              <a:ext cx="443160" cy="40824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3080" y="1713960"/>
              <a:ext cx="443160" cy="40860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523880" y="2209680"/>
            <a:ext cx="460080" cy="446040"/>
            <a:chOff x="1523880" y="2209680"/>
            <a:chExt cx="460080" cy="446040"/>
          </a:xfrm>
        </p:grpSpPr>
        <p:sp>
          <p:nvSpPr>
            <p:cNvPr id="145" name=""/>
            <p:cNvSpPr/>
            <p:nvPr/>
          </p:nvSpPr>
          <p:spPr>
            <a:xfrm>
              <a:off x="1523880" y="2209680"/>
              <a:ext cx="443520" cy="40824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0440" y="2247120"/>
              <a:ext cx="443520" cy="40860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V="1">
            <a:off x="1066680" y="1778040"/>
            <a:ext cx="393840" cy="203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93480" cy="203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51560" y="3393000"/>
            <a:ext cx="757800" cy="670320"/>
            <a:chOff x="1051560" y="3393000"/>
            <a:chExt cx="757800" cy="670320"/>
          </a:xfrm>
        </p:grpSpPr>
        <p:sp>
          <p:nvSpPr>
            <p:cNvPr id="150" name=""/>
            <p:cNvSpPr/>
            <p:nvPr/>
          </p:nvSpPr>
          <p:spPr>
            <a:xfrm rot="4122000">
              <a:off x="1227240" y="3415320"/>
              <a:ext cx="451080" cy="58968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4122000">
              <a:off x="1182600" y="3450600"/>
              <a:ext cx="451080" cy="59004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6120" y="3962520"/>
            <a:ext cx="1800" cy="276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720" y="4343400"/>
            <a:ext cx="148896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124080" y="12193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48769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0520" y="5493600"/>
            <a:ext cx="964080" cy="7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9240" y="3034440"/>
            <a:ext cx="1752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netic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572000"/>
            <a:ext cx="609480" cy="1521000"/>
          </a:xfrm>
          <a:custGeom>
            <a:avLst/>
            <a:gdLst/>
            <a:ahLst/>
            <a:rect l="l" t="t" r="r" b="b"/>
            <a:pathLst>
              <a:path w="499" h="893">
                <a:moveTo>
                  <a:pt x="447" y="893"/>
                </a:moveTo>
                <a:cubicBezTo>
                  <a:pt x="396" y="884"/>
                  <a:pt x="355" y="880"/>
                  <a:pt x="324" y="835"/>
                </a:cubicBezTo>
                <a:cubicBezTo>
                  <a:pt x="338" y="781"/>
                  <a:pt x="320" y="822"/>
                  <a:pt x="279" y="809"/>
                </a:cubicBezTo>
                <a:cubicBezTo>
                  <a:pt x="266" y="805"/>
                  <a:pt x="240" y="796"/>
                  <a:pt x="240" y="796"/>
                </a:cubicBezTo>
                <a:cubicBezTo>
                  <a:pt x="208" y="774"/>
                  <a:pt x="203" y="740"/>
                  <a:pt x="195" y="705"/>
                </a:cubicBezTo>
                <a:cubicBezTo>
                  <a:pt x="196" y="699"/>
                  <a:pt x="197" y="644"/>
                  <a:pt x="208" y="627"/>
                </a:cubicBezTo>
                <a:cubicBezTo>
                  <a:pt x="226" y="600"/>
                  <a:pt x="256" y="592"/>
                  <a:pt x="285" y="582"/>
                </a:cubicBezTo>
                <a:cubicBezTo>
                  <a:pt x="345" y="562"/>
                  <a:pt x="396" y="544"/>
                  <a:pt x="460" y="537"/>
                </a:cubicBezTo>
                <a:cubicBezTo>
                  <a:pt x="480" y="516"/>
                  <a:pt x="490" y="499"/>
                  <a:pt x="499" y="472"/>
                </a:cubicBezTo>
                <a:cubicBezTo>
                  <a:pt x="482" y="403"/>
                  <a:pt x="496" y="436"/>
                  <a:pt x="460" y="382"/>
                </a:cubicBezTo>
                <a:cubicBezTo>
                  <a:pt x="456" y="375"/>
                  <a:pt x="447" y="362"/>
                  <a:pt x="447" y="362"/>
                </a:cubicBezTo>
                <a:cubicBezTo>
                  <a:pt x="404" y="392"/>
                  <a:pt x="395" y="381"/>
                  <a:pt x="331" y="375"/>
                </a:cubicBezTo>
                <a:cubicBezTo>
                  <a:pt x="299" y="354"/>
                  <a:pt x="272" y="354"/>
                  <a:pt x="233" y="349"/>
                </a:cubicBezTo>
                <a:cubicBezTo>
                  <a:pt x="218" y="354"/>
                  <a:pt x="202" y="355"/>
                  <a:pt x="188" y="362"/>
                </a:cubicBezTo>
                <a:cubicBezTo>
                  <a:pt x="163" y="375"/>
                  <a:pt x="144" y="395"/>
                  <a:pt x="117" y="407"/>
                </a:cubicBezTo>
                <a:cubicBezTo>
                  <a:pt x="74" y="380"/>
                  <a:pt x="18" y="314"/>
                  <a:pt x="0" y="265"/>
                </a:cubicBezTo>
                <a:cubicBezTo>
                  <a:pt x="9" y="241"/>
                  <a:pt x="12" y="221"/>
                  <a:pt x="26" y="200"/>
                </a:cubicBezTo>
                <a:cubicBezTo>
                  <a:pt x="133" y="210"/>
                  <a:pt x="236" y="212"/>
                  <a:pt x="344" y="207"/>
                </a:cubicBezTo>
                <a:cubicBezTo>
                  <a:pt x="370" y="189"/>
                  <a:pt x="390" y="162"/>
                  <a:pt x="408" y="136"/>
                </a:cubicBezTo>
                <a:cubicBezTo>
                  <a:pt x="398" y="83"/>
                  <a:pt x="382" y="80"/>
                  <a:pt x="356" y="39"/>
                </a:cubicBezTo>
                <a:cubicBezTo>
                  <a:pt x="348" y="26"/>
                  <a:pt x="331" y="0"/>
                  <a:pt x="331" y="0"/>
                </a:cubicBezTo>
              </a:path>
            </a:pathLst>
          </a:custGeom>
          <a:noFill/>
          <a:ln w="889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666880" y="914400"/>
            <a:ext cx="560160" cy="750600"/>
            <a:chOff x="2666880" y="914400"/>
            <a:chExt cx="560160" cy="750600"/>
          </a:xfrm>
        </p:grpSpPr>
        <p:sp>
          <p:nvSpPr>
            <p:cNvPr id="161" name=""/>
            <p:cNvSpPr/>
            <p:nvPr/>
          </p:nvSpPr>
          <p:spPr>
            <a:xfrm>
              <a:off x="2666880" y="914400"/>
              <a:ext cx="540000" cy="68724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87040" y="977400"/>
              <a:ext cx="540000" cy="687600"/>
            </a:xfrm>
            <a:custGeom>
              <a:avLst/>
              <a:gdLst/>
              <a:ahLst/>
              <a:rect l="l" t="t" r="r" b="b"/>
              <a:pathLst>
                <a:path w="395" h="650">
                  <a:moveTo>
                    <a:pt x="322" y="16"/>
                  </a:moveTo>
                  <a:cubicBezTo>
                    <a:pt x="276" y="0"/>
                    <a:pt x="244" y="12"/>
                    <a:pt x="199" y="27"/>
                  </a:cubicBezTo>
                  <a:cubicBezTo>
                    <a:pt x="192" y="38"/>
                    <a:pt x="182" y="48"/>
                    <a:pt x="177" y="60"/>
                  </a:cubicBezTo>
                  <a:cubicBezTo>
                    <a:pt x="168" y="82"/>
                    <a:pt x="155" y="127"/>
                    <a:pt x="155" y="127"/>
                  </a:cubicBezTo>
                  <a:cubicBezTo>
                    <a:pt x="203" y="143"/>
                    <a:pt x="251" y="144"/>
                    <a:pt x="299" y="160"/>
                  </a:cubicBezTo>
                  <a:cubicBezTo>
                    <a:pt x="395" y="252"/>
                    <a:pt x="166" y="258"/>
                    <a:pt x="144" y="260"/>
                  </a:cubicBezTo>
                  <a:cubicBezTo>
                    <a:pt x="132" y="264"/>
                    <a:pt x="83" y="271"/>
                    <a:pt x="99" y="304"/>
                  </a:cubicBezTo>
                  <a:cubicBezTo>
                    <a:pt x="104" y="315"/>
                    <a:pt x="122" y="311"/>
                    <a:pt x="133" y="316"/>
                  </a:cubicBezTo>
                  <a:cubicBezTo>
                    <a:pt x="205" y="353"/>
                    <a:pt x="231" y="360"/>
                    <a:pt x="311" y="371"/>
                  </a:cubicBezTo>
                  <a:cubicBezTo>
                    <a:pt x="307" y="393"/>
                    <a:pt x="306" y="417"/>
                    <a:pt x="299" y="438"/>
                  </a:cubicBezTo>
                  <a:cubicBezTo>
                    <a:pt x="282" y="488"/>
                    <a:pt x="223" y="515"/>
                    <a:pt x="188" y="549"/>
                  </a:cubicBezTo>
                  <a:cubicBezTo>
                    <a:pt x="166" y="527"/>
                    <a:pt x="144" y="504"/>
                    <a:pt x="122" y="482"/>
                  </a:cubicBezTo>
                  <a:cubicBezTo>
                    <a:pt x="114" y="474"/>
                    <a:pt x="99" y="460"/>
                    <a:pt x="99" y="460"/>
                  </a:cubicBezTo>
                  <a:cubicBezTo>
                    <a:pt x="77" y="464"/>
                    <a:pt x="53" y="461"/>
                    <a:pt x="33" y="471"/>
                  </a:cubicBezTo>
                  <a:cubicBezTo>
                    <a:pt x="0" y="488"/>
                    <a:pt x="9" y="537"/>
                    <a:pt x="22" y="560"/>
                  </a:cubicBezTo>
                  <a:cubicBezTo>
                    <a:pt x="32" y="578"/>
                    <a:pt x="71" y="587"/>
                    <a:pt x="88" y="593"/>
                  </a:cubicBezTo>
                  <a:cubicBezTo>
                    <a:pt x="127" y="650"/>
                    <a:pt x="139" y="649"/>
                    <a:pt x="211" y="649"/>
                  </a:cubicBezTo>
                </a:path>
              </a:pathLst>
            </a:custGeom>
            <a:noFill/>
            <a:ln cap="sq"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95480" y="2590920"/>
            <a:ext cx="4419720" cy="1602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8f8f8"/>
                </a:solidFill>
                <a:uFillTx/>
                <a:latin typeface="Times New Roman"/>
              </a:rPr>
              <a:t>Principal Hypothesis:</a:t>
            </a:r>
            <a:r>
              <a:rPr b="1" i="1" lang="en-US" sz="1800" spc="-1" strike="noStrike">
                <a:solidFill>
                  <a:srgbClr val="f8f8f8"/>
                </a:solidFill>
                <a:latin typeface="Times New Roman"/>
              </a:rPr>
              <a:t>   If mRNA is viewed as a noisy encoded signal, it is feasible to use principles of error control coding theory to interpret the genetic translation initiatio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90720"/>
            <a:ext cx="5410440" cy="1218960"/>
          </a:xfrm>
          <a:prstGeom prst="ellipse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s00100_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79600" cy="1172880"/>
          </a:xfrm>
          <a:prstGeom prst="rect">
            <a:avLst/>
          </a:prstGeom>
          <a:ln w="0">
            <a:noFill/>
          </a:ln>
        </p:spPr>
      </p:pic>
      <p:pic>
        <p:nvPicPr>
          <p:cNvPr id="166" name="bs00100_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14800" y="297180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6c2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0-000-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5181480"/>
            <a:ext cx="274320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14800"/>
            <a:ext cx="221004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52578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fee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000-1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429000"/>
            <a:ext cx="0" cy="6094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52578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5943600"/>
            <a:ext cx="220968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371600" y="34290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5880" y="3352680"/>
            <a:ext cx="14479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943600"/>
            <a:ext cx="83844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90560" y="4724280"/>
            <a:ext cx="99036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1160" y="297072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441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Erro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4417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000-1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1280" y="304704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47080" y="5561640"/>
            <a:ext cx="1288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ise+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1800" y="112500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5280" y="10648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990720"/>
            <a:ext cx="60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85840" y="2209680"/>
            <a:ext cx="60948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800" y="555228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~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590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79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89880" y="31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420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1818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ineering Communic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560" y="13716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3880" y="990720"/>
            <a:ext cx="5410440" cy="1218960"/>
          </a:xfrm>
          <a:prstGeom prst="ellipse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100_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79600" cy="1172880"/>
          </a:xfrm>
          <a:prstGeom prst="rect">
            <a:avLst/>
          </a:prstGeom>
          <a:ln w="0">
            <a:noFill/>
          </a:ln>
        </p:spPr>
      </p:pic>
      <p:pic>
        <p:nvPicPr>
          <p:cNvPr id="198" name="bs00100_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14800" y="297180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6c2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0-000-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181480"/>
            <a:ext cx="274320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4114800"/>
            <a:ext cx="221004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52578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fee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000-1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429000"/>
            <a:ext cx="0" cy="6094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52578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5943600"/>
            <a:ext cx="220968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371600" y="34290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95880" y="3352680"/>
            <a:ext cx="14479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5943600"/>
            <a:ext cx="83844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90560" y="4724280"/>
            <a:ext cx="99036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1160" y="297072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41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Erro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417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1-00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000-1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1280" y="304704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47080" y="5561640"/>
            <a:ext cx="1288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ise+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1800" y="112500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5280" y="10648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990720"/>
            <a:ext cx="60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85840" y="2209680"/>
            <a:ext cx="60948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800" y="5552280"/>
            <a:ext cx="1275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~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73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2590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479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9880" y="31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420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-0-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818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ineering Communic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560" y="13716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2743200"/>
            <a:ext cx="2057400" cy="12952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038120" y="2743200"/>
            <a:ext cx="2057400" cy="12952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3080" y="507348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???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dnaPackViral" descr=""/>
          <p:cNvPicPr/>
          <p:nvPr/>
        </p:nvPicPr>
        <p:blipFill>
          <a:blip r:embed="rId1"/>
          <a:stretch/>
        </p:blipFill>
        <p:spPr>
          <a:xfrm>
            <a:off x="76320" y="76320"/>
            <a:ext cx="9067680" cy="6705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It is the glory of God to conceal a matter; to search out a matter is the glory of kings.  Proverbs 25:2 (N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Error Control at Diverse Molecular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Coding Theory Models of Prote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at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Yoc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ay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pplications of Coding Theor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netic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olecula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ruction and Control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 Protein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1520" y="82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62520" y="1600200"/>
            <a:ext cx="5181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Coding for the Desoxyribonucleic Channel (S. W. Golomb 196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Biorthogonal codes to genetic coding problem (the codon to amino acid mapping challe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zej K. Konopka (19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rd Batt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ased Convolutional Cod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r (P. Berme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informational content of E. coli promoter, approximates the coding rate for promoter region as 1/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a possible 1/5 binary cod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r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ological Coding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320" y="914400"/>
            <a:ext cx="4114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171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vid Loewenstern, et.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ression for DNA sequence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 Adleman, et al.; Lila Kari,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for DNA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-control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Schneider,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 information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-control via sphere p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4800600"/>
            <a:ext cx="3352320" cy="1730520"/>
            <a:chOff x="304920" y="4800600"/>
            <a:chExt cx="3352320" cy="1730520"/>
          </a:xfrm>
        </p:grpSpPr>
        <p:pic>
          <p:nvPicPr>
            <p:cNvPr id="239" name="centralDogma" descr=""/>
            <p:cNvPicPr/>
            <p:nvPr/>
          </p:nvPicPr>
          <p:blipFill>
            <a:blip r:embed="rId1"/>
            <a:stretch/>
          </p:blipFill>
          <p:spPr>
            <a:xfrm>
              <a:off x="801720" y="5628240"/>
              <a:ext cx="2855520" cy="9028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240" name="dnaPackViral" descr=""/>
            <p:cNvPicPr/>
            <p:nvPr/>
          </p:nvPicPr>
          <p:blipFill>
            <a:blip r:embed="rId2"/>
            <a:stretch/>
          </p:blipFill>
          <p:spPr>
            <a:xfrm>
              <a:off x="304920" y="4888800"/>
              <a:ext cx="1829520" cy="638280"/>
            </a:xfrm>
            <a:prstGeom prst="rect">
              <a:avLst/>
            </a:prstGeom>
            <a:ln w="38160">
              <a:solidFill>
                <a:srgbClr val="00ff00"/>
              </a:solidFill>
              <a:miter/>
            </a:ln>
          </p:spPr>
        </p:pic>
        <p:sp>
          <p:nvSpPr>
            <p:cNvPr id="241" name=""/>
            <p:cNvSpPr/>
            <p:nvPr/>
          </p:nvSpPr>
          <p:spPr>
            <a:xfrm>
              <a:off x="1436400" y="5527800"/>
              <a:ext cx="2157480" cy="2764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Times New Roman"/>
                </a:rPr>
                <a:t>Trans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7720" y="4800600"/>
              <a:ext cx="124632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99"/>
                  </a:solidFill>
                  <a:latin typeface="Times New Roman"/>
                </a:rPr>
                <a:t>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191120" y="990720"/>
            <a:ext cx="4800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ror-Control Coding Ba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438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eanDist52MinProk2" descr="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81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447920" y="5637960"/>
            <a:ext cx="662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0066"/>
                </a:solidFill>
                <a:uFillTx/>
                <a:latin typeface="Times New Roman"/>
              </a:rPr>
              <a:t>Horizontal axis</a:t>
            </a:r>
            <a:r>
              <a:rPr b="0" lang="en-US" sz="1200" spc="-1" strike="noStrike">
                <a:solidFill>
                  <a:srgbClr val="cc0066"/>
                </a:solidFill>
                <a:latin typeface="Times New Roman"/>
              </a:rPr>
              <a:t> is position relative to the first base of the initiation co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0066"/>
                </a:solidFill>
                <a:uFillTx/>
                <a:latin typeface="Times New Roman"/>
              </a:rPr>
              <a:t>Vertical axis</a:t>
            </a:r>
            <a:r>
              <a:rPr b="0" lang="en-US" sz="1200" spc="-1" strike="noStrike">
                <a:solidFill>
                  <a:srgbClr val="cc0066"/>
                </a:solidFill>
                <a:latin typeface="Times New Roman"/>
              </a:rPr>
              <a:t> is the mean of the aligned minimum Hamming distance values by position,  for the 3 sequence groups (Hamming distance = # of positions where two vectors dif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324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20a77"/>
                </a:solidFill>
                <a:uFillTx/>
                <a:latin typeface="Times New Roman"/>
              </a:rPr>
              <a:t>Coding Theory in RBS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35560" y="5119920"/>
            <a:ext cx="97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00"/>
                </a:solidFill>
                <a:uFillTx/>
                <a:latin typeface="Times New Roman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5180400"/>
            <a:ext cx="457200" cy="307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3920" y="4876920"/>
            <a:ext cx="5648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21720" y="4800600"/>
            <a:ext cx="4276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y et al., BioSystems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54080" y="685800"/>
            <a:ext cx="4417920" cy="5856480"/>
            <a:chOff x="154080" y="685800"/>
            <a:chExt cx="4417920" cy="5856480"/>
          </a:xfrm>
        </p:grpSpPr>
        <p:sp>
          <p:nvSpPr>
            <p:cNvPr id="254" name=""/>
            <p:cNvSpPr/>
            <p:nvPr/>
          </p:nvSpPr>
          <p:spPr>
            <a:xfrm>
              <a:off x="154080" y="685800"/>
              <a:ext cx="4417920" cy="38862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640" y="1064160"/>
              <a:ext cx="3624840" cy="440640"/>
            </a:xfrm>
            <a:prstGeom prst="rect">
              <a:avLst/>
            </a:prstGeom>
            <a:noFill/>
            <a:ln cap="sq"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-15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-1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…,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-1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… ,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 A  U 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280" y="2789640"/>
              <a:ext cx="400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3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2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8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04760" y="1600200"/>
              <a:ext cx="529920" cy="53352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154880" y="1600200"/>
              <a:ext cx="294120" cy="76212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744560" y="1676520"/>
              <a:ext cx="235440" cy="6858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33160" y="1676520"/>
              <a:ext cx="235440" cy="60948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4120" y="2514600"/>
              <a:ext cx="2049120" cy="6858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6320" y="2666880"/>
              <a:ext cx="2108160" cy="68580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3280" y="2819520"/>
              <a:ext cx="2049480" cy="68580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1800" y="3684600"/>
              <a:ext cx="412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v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   Dav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……….                  Dav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960" y="3200400"/>
              <a:ext cx="0" cy="685800"/>
            </a:xfrm>
            <a:prstGeom prst="line">
              <a:avLst/>
            </a:prstGeom>
            <a:ln w="19080">
              <a:solidFill>
                <a:srgbClr val="000099"/>
              </a:solidFill>
              <a:prstDash val="lgDash"/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67800" y="3352680"/>
              <a:ext cx="0" cy="533520"/>
            </a:xfrm>
            <a:prstGeom prst="line">
              <a:avLst/>
            </a:prstGeom>
            <a:ln w="19080">
              <a:solidFill>
                <a:srgbClr val="ff00ff"/>
              </a:solidFill>
              <a:prstDash val="lgDash"/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23640" y="3505320"/>
              <a:ext cx="0" cy="380880"/>
            </a:xfrm>
            <a:prstGeom prst="line">
              <a:avLst/>
            </a:prstGeom>
            <a:ln w="19080">
              <a:solidFill>
                <a:srgbClr val="00ff00"/>
              </a:solidFill>
              <a:prstDash val="lgDash"/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0000" y="4559400"/>
              <a:ext cx="706680" cy="7617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86680" y="4178160"/>
              <a:ext cx="1296000" cy="77472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2680" y="4178160"/>
              <a:ext cx="1178280" cy="6987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03240" y="4162320"/>
              <a:ext cx="235440" cy="486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628000" y="4178160"/>
              <a:ext cx="235440" cy="4701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64520" y="4486320"/>
              <a:ext cx="61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38680" y="5838840"/>
              <a:ext cx="588960" cy="703440"/>
            </a:xfrm>
            <a:prstGeom prst="rect">
              <a:avLst/>
            </a:prstGeom>
            <a:solidFill>
              <a:srgbClr val="c0c0c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33160" y="524520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4419720" y="914400"/>
          <a:ext cx="45417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914400"/>
                    <a:ext cx="4541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600200" y="105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20a77"/>
                </a:solidFill>
                <a:uFillTx/>
                <a:latin typeface="Times New Roman"/>
              </a:rPr>
              <a:t>Coding Theory in RBS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578400" y="1828800"/>
            <a:ext cx="289548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236000" y="1905120"/>
            <a:ext cx="1222200" cy="961560"/>
            <a:chOff x="7236000" y="1905120"/>
            <a:chExt cx="1222200" cy="961560"/>
          </a:xfrm>
        </p:grpSpPr>
        <p:sp>
          <p:nvSpPr>
            <p:cNvPr id="281" name=""/>
            <p:cNvSpPr/>
            <p:nvPr/>
          </p:nvSpPr>
          <p:spPr>
            <a:xfrm>
              <a:off x="7236000" y="24188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71040" y="24188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25902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1536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6612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764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1688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9624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4700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4888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97760" y="24188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58320" y="199080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74240" y="190512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30280" y="1905120"/>
            <a:ext cx="289548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468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87480" y="2438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68360" y="266688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100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187880" y="1955880"/>
            <a:ext cx="1222200" cy="961560"/>
            <a:chOff x="4187880" y="1955880"/>
            <a:chExt cx="1222200" cy="961560"/>
          </a:xfrm>
        </p:grpSpPr>
        <p:sp>
          <p:nvSpPr>
            <p:cNvPr id="300" name=""/>
            <p:cNvSpPr/>
            <p:nvPr/>
          </p:nvSpPr>
          <p:spPr>
            <a:xfrm>
              <a:off x="4187880" y="24696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2920" y="246960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7240" y="264096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724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1800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1952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6876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4812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9888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0076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49640" y="24696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0200" y="204156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26120" y="195588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178600" y="2133720"/>
            <a:ext cx="1222200" cy="961560"/>
            <a:chOff x="5178600" y="2133720"/>
            <a:chExt cx="1222200" cy="961560"/>
          </a:xfrm>
        </p:grpSpPr>
        <p:sp>
          <p:nvSpPr>
            <p:cNvPr id="314" name=""/>
            <p:cNvSpPr/>
            <p:nvPr/>
          </p:nvSpPr>
          <p:spPr>
            <a:xfrm>
              <a:off x="5178600" y="26474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3640" y="26474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7960" y="28188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5796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024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5948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3884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960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9148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0360" y="264744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00920" y="221940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6840" y="2133720"/>
              <a:ext cx="18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7693200" y="1981080"/>
            <a:ext cx="3045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1960" y="1600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3480" y="25909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5280" y="22860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52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20a77"/>
                </a:solidFill>
                <a:uFillTx/>
                <a:latin typeface="Times New Roman"/>
              </a:rPr>
              <a:t>Coding Theory and Molecular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685800"/>
            <a:ext cx="5562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 M. Adleman, et al.; Lila Kari,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for DNA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-control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4200" y="6348240"/>
            <a:ext cx="347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http://www.scs.uiuc.edu/~scott/index_files/ligatio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429000"/>
            <a:ext cx="7619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Stojanovic and D. Stefanovic, “A deoxyribozyme-based molecular automaton.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 Biote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hieve computational robustness using cod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78055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naPackViral" descr=""/>
          <p:cNvPicPr/>
          <p:nvPr/>
        </p:nvPicPr>
        <p:blipFill>
          <a:blip r:embed="rId1"/>
          <a:stretch/>
        </p:blipFill>
        <p:spPr>
          <a:xfrm>
            <a:off x="76320" y="76320"/>
            <a:ext cx="9067680" cy="6705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It is the glory of God to conceal a matter; to search out a matter is the glory of kings.  Proverbs 25:2 (N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rror Control at Diverse Molecular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ding Theory Models of Prote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at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Yoc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ay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pplications of Coding Theor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netic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olecula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ruction and Control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 Protein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82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and control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ntify and Optimize Protein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281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80880" y="743760"/>
            <a:ext cx="8541360" cy="3852000"/>
            <a:chOff x="380880" y="743760"/>
            <a:chExt cx="8541360" cy="3852000"/>
          </a:xfrm>
        </p:grpSpPr>
        <p:sp>
          <p:nvSpPr>
            <p:cNvPr id="339" name=""/>
            <p:cNvSpPr/>
            <p:nvPr/>
          </p:nvSpPr>
          <p:spPr>
            <a:xfrm>
              <a:off x="380880" y="1923120"/>
              <a:ext cx="7942680" cy="406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00880" y="1923120"/>
              <a:ext cx="0" cy="406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93760" y="1923120"/>
              <a:ext cx="0" cy="406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4360" y="1923120"/>
              <a:ext cx="0" cy="406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01680" y="18262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00880" y="1886760"/>
              <a:ext cx="95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37160" y="188676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A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71920" y="1364040"/>
              <a:ext cx="1527120" cy="609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160" y="2126520"/>
              <a:ext cx="137448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880" y="3499200"/>
              <a:ext cx="7942680" cy="660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47880" y="2279160"/>
              <a:ext cx="137448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62960" y="2177280"/>
              <a:ext cx="1374480" cy="3049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30320" y="2533320"/>
              <a:ext cx="1374480" cy="3049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6640" y="1668960"/>
              <a:ext cx="1527120" cy="609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25400" y="1109520"/>
              <a:ext cx="1527120" cy="609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840" y="2279160"/>
              <a:ext cx="304920" cy="253800"/>
            </a:xfrm>
            <a:prstGeom prst="irregularSeal1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8120" y="2329920"/>
              <a:ext cx="304920" cy="254160"/>
            </a:xfrm>
            <a:prstGeom prst="irregularSeal1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97280" y="1373400"/>
              <a:ext cx="491760" cy="352800"/>
            </a:xfrm>
            <a:custGeom>
              <a:avLst/>
              <a:gdLst/>
              <a:ahLst/>
              <a:rect l="l" t="t" r="r" b="b"/>
              <a:pathLst>
                <a:path w="309" h="333">
                  <a:moveTo>
                    <a:pt x="296" y="333"/>
                  </a:moveTo>
                  <a:cubicBezTo>
                    <a:pt x="288" y="246"/>
                    <a:pt x="309" y="194"/>
                    <a:pt x="229" y="166"/>
                  </a:cubicBezTo>
                  <a:cubicBezTo>
                    <a:pt x="211" y="170"/>
                    <a:pt x="191" y="171"/>
                    <a:pt x="174" y="178"/>
                  </a:cubicBezTo>
                  <a:cubicBezTo>
                    <a:pt x="164" y="182"/>
                    <a:pt x="161" y="198"/>
                    <a:pt x="151" y="200"/>
                  </a:cubicBezTo>
                  <a:cubicBezTo>
                    <a:pt x="142" y="202"/>
                    <a:pt x="86" y="182"/>
                    <a:pt x="74" y="178"/>
                  </a:cubicBezTo>
                  <a:cubicBezTo>
                    <a:pt x="69" y="171"/>
                    <a:pt x="0" y="106"/>
                    <a:pt x="40" y="78"/>
                  </a:cubicBezTo>
                  <a:cubicBezTo>
                    <a:pt x="69" y="58"/>
                    <a:pt x="137" y="45"/>
                    <a:pt x="174" y="33"/>
                  </a:cubicBezTo>
                  <a:cubicBezTo>
                    <a:pt x="185" y="29"/>
                    <a:pt x="196" y="26"/>
                    <a:pt x="207" y="22"/>
                  </a:cubicBezTo>
                  <a:cubicBezTo>
                    <a:pt x="220" y="18"/>
                    <a:pt x="240" y="0"/>
                    <a:pt x="240" y="0"/>
                  </a:cubicBezTo>
                </a:path>
              </a:pathLst>
            </a:custGeom>
            <a:noFill/>
            <a:ln w="889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81400" y="914040"/>
              <a:ext cx="994320" cy="800280"/>
            </a:xfrm>
            <a:custGeom>
              <a:avLst/>
              <a:gdLst/>
              <a:ahLst/>
              <a:rect l="l" t="t" r="r" b="b"/>
              <a:pathLst>
                <a:path w="625" h="756">
                  <a:moveTo>
                    <a:pt x="233" y="145"/>
                  </a:moveTo>
                  <a:cubicBezTo>
                    <a:pt x="217" y="176"/>
                    <a:pt x="193" y="203"/>
                    <a:pt x="178" y="234"/>
                  </a:cubicBezTo>
                  <a:cubicBezTo>
                    <a:pt x="159" y="272"/>
                    <a:pt x="153" y="315"/>
                    <a:pt x="145" y="356"/>
                  </a:cubicBezTo>
                  <a:cubicBezTo>
                    <a:pt x="149" y="378"/>
                    <a:pt x="142" y="405"/>
                    <a:pt x="156" y="423"/>
                  </a:cubicBezTo>
                  <a:cubicBezTo>
                    <a:pt x="187" y="463"/>
                    <a:pt x="276" y="467"/>
                    <a:pt x="322" y="478"/>
                  </a:cubicBezTo>
                  <a:cubicBezTo>
                    <a:pt x="434" y="462"/>
                    <a:pt x="380" y="474"/>
                    <a:pt x="445" y="412"/>
                  </a:cubicBezTo>
                  <a:cubicBezTo>
                    <a:pt x="459" y="369"/>
                    <a:pt x="480" y="321"/>
                    <a:pt x="511" y="289"/>
                  </a:cubicBezTo>
                  <a:cubicBezTo>
                    <a:pt x="535" y="217"/>
                    <a:pt x="510" y="200"/>
                    <a:pt x="445" y="178"/>
                  </a:cubicBezTo>
                  <a:cubicBezTo>
                    <a:pt x="441" y="179"/>
                    <a:pt x="375" y="194"/>
                    <a:pt x="367" y="200"/>
                  </a:cubicBezTo>
                  <a:cubicBezTo>
                    <a:pt x="346" y="216"/>
                    <a:pt x="311" y="256"/>
                    <a:pt x="311" y="256"/>
                  </a:cubicBezTo>
                  <a:cubicBezTo>
                    <a:pt x="304" y="278"/>
                    <a:pt x="296" y="301"/>
                    <a:pt x="289" y="323"/>
                  </a:cubicBezTo>
                  <a:cubicBezTo>
                    <a:pt x="279" y="352"/>
                    <a:pt x="267" y="412"/>
                    <a:pt x="267" y="412"/>
                  </a:cubicBezTo>
                  <a:cubicBezTo>
                    <a:pt x="270" y="474"/>
                    <a:pt x="223" y="667"/>
                    <a:pt x="322" y="700"/>
                  </a:cubicBezTo>
                  <a:cubicBezTo>
                    <a:pt x="372" y="734"/>
                    <a:pt x="430" y="744"/>
                    <a:pt x="489" y="756"/>
                  </a:cubicBezTo>
                  <a:cubicBezTo>
                    <a:pt x="538" y="746"/>
                    <a:pt x="566" y="746"/>
                    <a:pt x="600" y="711"/>
                  </a:cubicBezTo>
                  <a:cubicBezTo>
                    <a:pt x="607" y="689"/>
                    <a:pt x="625" y="668"/>
                    <a:pt x="622" y="645"/>
                  </a:cubicBezTo>
                  <a:cubicBezTo>
                    <a:pt x="618" y="619"/>
                    <a:pt x="618" y="592"/>
                    <a:pt x="611" y="567"/>
                  </a:cubicBezTo>
                  <a:cubicBezTo>
                    <a:pt x="598" y="522"/>
                    <a:pt x="498" y="481"/>
                    <a:pt x="456" y="467"/>
                  </a:cubicBezTo>
                  <a:cubicBezTo>
                    <a:pt x="404" y="418"/>
                    <a:pt x="343" y="381"/>
                    <a:pt x="289" y="334"/>
                  </a:cubicBezTo>
                  <a:cubicBezTo>
                    <a:pt x="229" y="281"/>
                    <a:pt x="177" y="228"/>
                    <a:pt x="100" y="200"/>
                  </a:cubicBezTo>
                  <a:cubicBezTo>
                    <a:pt x="49" y="150"/>
                    <a:pt x="22" y="132"/>
                    <a:pt x="0" y="67"/>
                  </a:cubicBezTo>
                  <a:cubicBezTo>
                    <a:pt x="4" y="49"/>
                    <a:pt x="1" y="28"/>
                    <a:pt x="11" y="12"/>
                  </a:cubicBezTo>
                  <a:cubicBezTo>
                    <a:pt x="18" y="2"/>
                    <a:pt x="33" y="0"/>
                    <a:pt x="45" y="0"/>
                  </a:cubicBezTo>
                  <a:cubicBezTo>
                    <a:pt x="86" y="0"/>
                    <a:pt x="139" y="21"/>
                    <a:pt x="178" y="34"/>
                  </a:cubicBezTo>
                  <a:cubicBezTo>
                    <a:pt x="207" y="63"/>
                    <a:pt x="227" y="94"/>
                    <a:pt x="256" y="123"/>
                  </a:cubicBezTo>
                  <a:cubicBezTo>
                    <a:pt x="252" y="138"/>
                    <a:pt x="258" y="159"/>
                    <a:pt x="245" y="167"/>
                  </a:cubicBezTo>
                  <a:cubicBezTo>
                    <a:pt x="236" y="173"/>
                    <a:pt x="224" y="155"/>
                    <a:pt x="222" y="145"/>
                  </a:cubicBezTo>
                  <a:cubicBezTo>
                    <a:pt x="220" y="134"/>
                    <a:pt x="229" y="123"/>
                    <a:pt x="233" y="112"/>
                  </a:cubicBezTo>
                  <a:cubicBezTo>
                    <a:pt x="329" y="126"/>
                    <a:pt x="285" y="123"/>
                    <a:pt x="367" y="123"/>
                  </a:cubicBezTo>
                </a:path>
              </a:pathLst>
            </a:custGeom>
            <a:noFill/>
            <a:ln w="889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85800" y="26348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5880" y="1178640"/>
              <a:ext cx="123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50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sub-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4680" y="1465560"/>
              <a:ext cx="6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79040" y="2654280"/>
              <a:ext cx="123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30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sub-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671920" y="263448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12680" y="824400"/>
              <a:ext cx="12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Polypep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81000" y="1109520"/>
              <a:ext cx="2289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7280" y="743760"/>
              <a:ext cx="9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337800" y="957240"/>
              <a:ext cx="61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4560" y="349920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7440" y="349920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7680" y="349920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81160" y="3402360"/>
              <a:ext cx="67464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U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U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4280" y="3402360"/>
              <a:ext cx="67464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01680" y="35074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1000" y="3507480"/>
              <a:ext cx="151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eader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23440" y="3507480"/>
              <a:ext cx="266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ding Reg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6840" y="4196880"/>
              <a:ext cx="572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*Ribosome binding site contained in leader 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28360" y="2380680"/>
              <a:ext cx="0" cy="1016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28360" y="2634840"/>
              <a:ext cx="916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44920" y="2634840"/>
              <a:ext cx="0" cy="254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1000" y="2780640"/>
              <a:ext cx="175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Messenger RNA (mRN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88200" y="35042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8200" y="19040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4575240"/>
            <a:ext cx="8686800" cy="206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s of translation:  initiation, elongation, ter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tion is most time consuming, affects overall gene express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ative outline for initiation process exists:  1) 30S + Ifs bind to mRNA and fMet-tRNA; 2) Ternary complex binds 50S subunit; 3) IFs released prior to elong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mRNA is the only variable aspect of translation init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Information encoded in mRNA determines specificity and effici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6320" y="152280"/>
            <a:ext cx="899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and control 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ntify and Optimize Protein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1166760"/>
            <a:ext cx="7924680" cy="463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24480" y="1143000"/>
            <a:ext cx="0" cy="463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34320" y="1166760"/>
            <a:ext cx="0" cy="463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1051560"/>
            <a:ext cx="67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U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040" y="114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8920" y="114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7610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NA Leader Region (U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2138400"/>
            <a:ext cx="5486400" cy="928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2498760"/>
            <a:ext cx="838080" cy="46512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2654280"/>
            <a:ext cx="838080" cy="46368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1507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’..AUUCCUCCACUAG…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1175400"/>
            <a:ext cx="30481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ibosome Binding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24840" y="233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71840" y="1981080"/>
            <a:ext cx="3924360" cy="723960"/>
          </a:xfrm>
          <a:custGeom>
            <a:avLst/>
            <a:gdLst/>
            <a:ahLst/>
            <a:rect l="l" t="t" r="r" b="b"/>
            <a:pathLst>
              <a:path w="2472" h="674">
                <a:moveTo>
                  <a:pt x="336" y="74"/>
                </a:moveTo>
                <a:cubicBezTo>
                  <a:pt x="447" y="0"/>
                  <a:pt x="950" y="46"/>
                  <a:pt x="1080" y="50"/>
                </a:cubicBezTo>
                <a:cubicBezTo>
                  <a:pt x="1275" y="40"/>
                  <a:pt x="1437" y="37"/>
                  <a:pt x="1620" y="98"/>
                </a:cubicBezTo>
                <a:cubicBezTo>
                  <a:pt x="1680" y="78"/>
                  <a:pt x="1740" y="70"/>
                  <a:pt x="1800" y="50"/>
                </a:cubicBezTo>
                <a:cubicBezTo>
                  <a:pt x="1864" y="54"/>
                  <a:pt x="1928" y="53"/>
                  <a:pt x="1992" y="62"/>
                </a:cubicBezTo>
                <a:cubicBezTo>
                  <a:pt x="2017" y="65"/>
                  <a:pt x="2064" y="86"/>
                  <a:pt x="2064" y="86"/>
                </a:cubicBezTo>
                <a:cubicBezTo>
                  <a:pt x="2096" y="183"/>
                  <a:pt x="1946" y="229"/>
                  <a:pt x="1872" y="254"/>
                </a:cubicBezTo>
                <a:cubicBezTo>
                  <a:pt x="1671" y="321"/>
                  <a:pt x="1448" y="262"/>
                  <a:pt x="1236" y="266"/>
                </a:cubicBezTo>
                <a:cubicBezTo>
                  <a:pt x="1162" y="261"/>
                  <a:pt x="1081" y="262"/>
                  <a:pt x="1008" y="242"/>
                </a:cubicBezTo>
                <a:cubicBezTo>
                  <a:pt x="1008" y="242"/>
                  <a:pt x="918" y="212"/>
                  <a:pt x="900" y="206"/>
                </a:cubicBezTo>
                <a:cubicBezTo>
                  <a:pt x="888" y="202"/>
                  <a:pt x="864" y="194"/>
                  <a:pt x="864" y="194"/>
                </a:cubicBezTo>
                <a:cubicBezTo>
                  <a:pt x="796" y="198"/>
                  <a:pt x="728" y="200"/>
                  <a:pt x="660" y="206"/>
                </a:cubicBezTo>
                <a:cubicBezTo>
                  <a:pt x="584" y="213"/>
                  <a:pt x="509" y="251"/>
                  <a:pt x="432" y="254"/>
                </a:cubicBezTo>
                <a:cubicBezTo>
                  <a:pt x="344" y="258"/>
                  <a:pt x="256" y="262"/>
                  <a:pt x="168" y="266"/>
                </a:cubicBezTo>
                <a:cubicBezTo>
                  <a:pt x="119" y="278"/>
                  <a:pt x="73" y="292"/>
                  <a:pt x="24" y="302"/>
                </a:cubicBezTo>
                <a:cubicBezTo>
                  <a:pt x="16" y="314"/>
                  <a:pt x="0" y="324"/>
                  <a:pt x="0" y="338"/>
                </a:cubicBezTo>
                <a:cubicBezTo>
                  <a:pt x="0" y="373"/>
                  <a:pt x="68" y="413"/>
                  <a:pt x="96" y="422"/>
                </a:cubicBezTo>
                <a:cubicBezTo>
                  <a:pt x="628" y="387"/>
                  <a:pt x="336" y="401"/>
                  <a:pt x="972" y="386"/>
                </a:cubicBezTo>
                <a:cubicBezTo>
                  <a:pt x="1105" y="353"/>
                  <a:pt x="1027" y="367"/>
                  <a:pt x="1296" y="386"/>
                </a:cubicBezTo>
                <a:cubicBezTo>
                  <a:pt x="1320" y="388"/>
                  <a:pt x="1344" y="393"/>
                  <a:pt x="1368" y="398"/>
                </a:cubicBezTo>
                <a:cubicBezTo>
                  <a:pt x="1400" y="405"/>
                  <a:pt x="1464" y="422"/>
                  <a:pt x="1464" y="422"/>
                </a:cubicBezTo>
                <a:lnTo>
                  <a:pt x="1596" y="386"/>
                </a:lnTo>
                <a:cubicBezTo>
                  <a:pt x="1596" y="386"/>
                  <a:pt x="1596" y="386"/>
                  <a:pt x="1596" y="386"/>
                </a:cubicBezTo>
                <a:cubicBezTo>
                  <a:pt x="1628" y="378"/>
                  <a:pt x="1692" y="362"/>
                  <a:pt x="1692" y="362"/>
                </a:cubicBezTo>
                <a:cubicBezTo>
                  <a:pt x="1732" y="366"/>
                  <a:pt x="1772" y="367"/>
                  <a:pt x="1812" y="374"/>
                </a:cubicBezTo>
                <a:cubicBezTo>
                  <a:pt x="1837" y="379"/>
                  <a:pt x="1884" y="398"/>
                  <a:pt x="1884" y="398"/>
                </a:cubicBezTo>
                <a:cubicBezTo>
                  <a:pt x="1904" y="394"/>
                  <a:pt x="1933" y="403"/>
                  <a:pt x="1944" y="386"/>
                </a:cubicBezTo>
                <a:cubicBezTo>
                  <a:pt x="1955" y="369"/>
                  <a:pt x="1952" y="331"/>
                  <a:pt x="1932" y="326"/>
                </a:cubicBezTo>
                <a:cubicBezTo>
                  <a:pt x="1874" y="311"/>
                  <a:pt x="1812" y="334"/>
                  <a:pt x="1752" y="338"/>
                </a:cubicBezTo>
                <a:cubicBezTo>
                  <a:pt x="1662" y="398"/>
                  <a:pt x="1776" y="328"/>
                  <a:pt x="1668" y="374"/>
                </a:cubicBezTo>
                <a:cubicBezTo>
                  <a:pt x="1655" y="380"/>
                  <a:pt x="1645" y="392"/>
                  <a:pt x="1632" y="398"/>
                </a:cubicBezTo>
                <a:cubicBezTo>
                  <a:pt x="1576" y="423"/>
                  <a:pt x="1511" y="438"/>
                  <a:pt x="1452" y="458"/>
                </a:cubicBezTo>
                <a:cubicBezTo>
                  <a:pt x="1353" y="491"/>
                  <a:pt x="1244" y="466"/>
                  <a:pt x="1140" y="470"/>
                </a:cubicBezTo>
                <a:cubicBezTo>
                  <a:pt x="1044" y="466"/>
                  <a:pt x="948" y="458"/>
                  <a:pt x="852" y="458"/>
                </a:cubicBezTo>
                <a:cubicBezTo>
                  <a:pt x="779" y="458"/>
                  <a:pt x="719" y="488"/>
                  <a:pt x="648" y="494"/>
                </a:cubicBezTo>
                <a:cubicBezTo>
                  <a:pt x="572" y="500"/>
                  <a:pt x="496" y="502"/>
                  <a:pt x="420" y="506"/>
                </a:cubicBezTo>
                <a:cubicBezTo>
                  <a:pt x="321" y="526"/>
                  <a:pt x="246" y="528"/>
                  <a:pt x="144" y="518"/>
                </a:cubicBezTo>
                <a:cubicBezTo>
                  <a:pt x="202" y="430"/>
                  <a:pt x="159" y="473"/>
                  <a:pt x="360" y="494"/>
                </a:cubicBezTo>
                <a:cubicBezTo>
                  <a:pt x="447" y="503"/>
                  <a:pt x="528" y="557"/>
                  <a:pt x="612" y="578"/>
                </a:cubicBezTo>
                <a:cubicBezTo>
                  <a:pt x="736" y="609"/>
                  <a:pt x="869" y="602"/>
                  <a:pt x="996" y="614"/>
                </a:cubicBezTo>
                <a:cubicBezTo>
                  <a:pt x="1218" y="658"/>
                  <a:pt x="1075" y="636"/>
                  <a:pt x="1428" y="650"/>
                </a:cubicBezTo>
                <a:cubicBezTo>
                  <a:pt x="1546" y="643"/>
                  <a:pt x="1581" y="652"/>
                  <a:pt x="1668" y="626"/>
                </a:cubicBezTo>
                <a:cubicBezTo>
                  <a:pt x="1692" y="619"/>
                  <a:pt x="1716" y="610"/>
                  <a:pt x="1740" y="602"/>
                </a:cubicBezTo>
                <a:cubicBezTo>
                  <a:pt x="1752" y="598"/>
                  <a:pt x="1776" y="590"/>
                  <a:pt x="1776" y="590"/>
                </a:cubicBezTo>
                <a:cubicBezTo>
                  <a:pt x="1850" y="516"/>
                  <a:pt x="1976" y="505"/>
                  <a:pt x="2076" y="494"/>
                </a:cubicBezTo>
                <a:cubicBezTo>
                  <a:pt x="2156" y="510"/>
                  <a:pt x="2238" y="528"/>
                  <a:pt x="2316" y="554"/>
                </a:cubicBezTo>
                <a:cubicBezTo>
                  <a:pt x="2328" y="550"/>
                  <a:pt x="2347" y="554"/>
                  <a:pt x="2352" y="542"/>
                </a:cubicBezTo>
                <a:cubicBezTo>
                  <a:pt x="2355" y="535"/>
                  <a:pt x="2332" y="469"/>
                  <a:pt x="2328" y="458"/>
                </a:cubicBezTo>
                <a:cubicBezTo>
                  <a:pt x="2284" y="462"/>
                  <a:pt x="2238" y="457"/>
                  <a:pt x="2196" y="470"/>
                </a:cubicBezTo>
                <a:cubicBezTo>
                  <a:pt x="2182" y="474"/>
                  <a:pt x="2174" y="492"/>
                  <a:pt x="2172" y="506"/>
                </a:cubicBezTo>
                <a:cubicBezTo>
                  <a:pt x="2163" y="577"/>
                  <a:pt x="2204" y="580"/>
                  <a:pt x="2256" y="614"/>
                </a:cubicBezTo>
                <a:cubicBezTo>
                  <a:pt x="2317" y="655"/>
                  <a:pt x="2420" y="622"/>
                  <a:pt x="2472" y="674"/>
                </a:cubicBezTo>
              </a:path>
            </a:pathLst>
          </a:custGeom>
          <a:noFill/>
          <a:ln cap="sq" w="1015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9120" y="106668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wnstre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7440" y="109548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-ran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3352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ify E.coli Interg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 rot="18340800">
            <a:off x="5198040" y="5088600"/>
            <a:ext cx="347760" cy="53316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 rot="18340800">
            <a:off x="6035760" y="5163840"/>
            <a:ext cx="347760" cy="53388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 rot="18340800">
            <a:off x="5121360" y="5621040"/>
            <a:ext cx="347760" cy="53388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 rot="18340800">
            <a:off x="5655240" y="5393520"/>
            <a:ext cx="347760" cy="53316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 rot="18340800">
            <a:off x="5959440" y="5849640"/>
            <a:ext cx="347760" cy="53388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 rot="18340800">
            <a:off x="1997640" y="5622120"/>
            <a:ext cx="347760" cy="53316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 rot="18340800">
            <a:off x="2073600" y="5239800"/>
            <a:ext cx="347400" cy="533880"/>
          </a:xfrm>
          <a:custGeom>
            <a:avLst/>
            <a:gdLst/>
            <a:ahLst/>
            <a:rect l="l" t="t" r="r" b="b"/>
            <a:pathLst>
              <a:path w="625" h="756">
                <a:moveTo>
                  <a:pt x="233" y="145"/>
                </a:moveTo>
                <a:cubicBezTo>
                  <a:pt x="217" y="176"/>
                  <a:pt x="193" y="203"/>
                  <a:pt x="178" y="234"/>
                </a:cubicBezTo>
                <a:cubicBezTo>
                  <a:pt x="159" y="272"/>
                  <a:pt x="153" y="315"/>
                  <a:pt x="145" y="356"/>
                </a:cubicBezTo>
                <a:cubicBezTo>
                  <a:pt x="149" y="378"/>
                  <a:pt x="142" y="405"/>
                  <a:pt x="156" y="423"/>
                </a:cubicBezTo>
                <a:cubicBezTo>
                  <a:pt x="187" y="463"/>
                  <a:pt x="276" y="467"/>
                  <a:pt x="322" y="478"/>
                </a:cubicBezTo>
                <a:cubicBezTo>
                  <a:pt x="434" y="462"/>
                  <a:pt x="380" y="474"/>
                  <a:pt x="445" y="412"/>
                </a:cubicBezTo>
                <a:cubicBezTo>
                  <a:pt x="459" y="369"/>
                  <a:pt x="480" y="321"/>
                  <a:pt x="511" y="289"/>
                </a:cubicBezTo>
                <a:cubicBezTo>
                  <a:pt x="535" y="217"/>
                  <a:pt x="510" y="200"/>
                  <a:pt x="445" y="178"/>
                </a:cubicBezTo>
                <a:cubicBezTo>
                  <a:pt x="441" y="179"/>
                  <a:pt x="375" y="194"/>
                  <a:pt x="367" y="200"/>
                </a:cubicBezTo>
                <a:cubicBezTo>
                  <a:pt x="346" y="216"/>
                  <a:pt x="311" y="256"/>
                  <a:pt x="311" y="256"/>
                </a:cubicBezTo>
                <a:cubicBezTo>
                  <a:pt x="304" y="278"/>
                  <a:pt x="296" y="301"/>
                  <a:pt x="289" y="323"/>
                </a:cubicBezTo>
                <a:cubicBezTo>
                  <a:pt x="279" y="352"/>
                  <a:pt x="267" y="412"/>
                  <a:pt x="267" y="412"/>
                </a:cubicBezTo>
                <a:cubicBezTo>
                  <a:pt x="270" y="474"/>
                  <a:pt x="223" y="667"/>
                  <a:pt x="322" y="700"/>
                </a:cubicBezTo>
                <a:cubicBezTo>
                  <a:pt x="372" y="734"/>
                  <a:pt x="430" y="744"/>
                  <a:pt x="489" y="756"/>
                </a:cubicBezTo>
                <a:cubicBezTo>
                  <a:pt x="538" y="746"/>
                  <a:pt x="566" y="746"/>
                  <a:pt x="600" y="711"/>
                </a:cubicBezTo>
                <a:cubicBezTo>
                  <a:pt x="607" y="689"/>
                  <a:pt x="625" y="668"/>
                  <a:pt x="622" y="645"/>
                </a:cubicBezTo>
                <a:cubicBezTo>
                  <a:pt x="618" y="619"/>
                  <a:pt x="618" y="592"/>
                  <a:pt x="611" y="567"/>
                </a:cubicBezTo>
                <a:cubicBezTo>
                  <a:pt x="598" y="522"/>
                  <a:pt x="498" y="481"/>
                  <a:pt x="456" y="467"/>
                </a:cubicBezTo>
                <a:cubicBezTo>
                  <a:pt x="404" y="418"/>
                  <a:pt x="343" y="381"/>
                  <a:pt x="289" y="334"/>
                </a:cubicBezTo>
                <a:cubicBezTo>
                  <a:pt x="229" y="281"/>
                  <a:pt x="177" y="228"/>
                  <a:pt x="100" y="200"/>
                </a:cubicBezTo>
                <a:cubicBezTo>
                  <a:pt x="49" y="150"/>
                  <a:pt x="22" y="132"/>
                  <a:pt x="0" y="67"/>
                </a:cubicBezTo>
                <a:cubicBezTo>
                  <a:pt x="4" y="49"/>
                  <a:pt x="1" y="28"/>
                  <a:pt x="11" y="12"/>
                </a:cubicBezTo>
                <a:cubicBezTo>
                  <a:pt x="18" y="2"/>
                  <a:pt x="33" y="0"/>
                  <a:pt x="45" y="0"/>
                </a:cubicBezTo>
                <a:cubicBezTo>
                  <a:pt x="86" y="0"/>
                  <a:pt x="139" y="21"/>
                  <a:pt x="178" y="34"/>
                </a:cubicBezTo>
                <a:cubicBezTo>
                  <a:pt x="207" y="63"/>
                  <a:pt x="227" y="94"/>
                  <a:pt x="256" y="123"/>
                </a:cubicBezTo>
                <a:cubicBezTo>
                  <a:pt x="252" y="138"/>
                  <a:pt x="258" y="159"/>
                  <a:pt x="245" y="167"/>
                </a:cubicBezTo>
                <a:cubicBezTo>
                  <a:pt x="236" y="173"/>
                  <a:pt x="224" y="155"/>
                  <a:pt x="222" y="145"/>
                </a:cubicBezTo>
                <a:cubicBezTo>
                  <a:pt x="220" y="134"/>
                  <a:pt x="229" y="123"/>
                  <a:pt x="233" y="112"/>
                </a:cubicBezTo>
                <a:cubicBezTo>
                  <a:pt x="329" y="126"/>
                  <a:pt x="285" y="123"/>
                  <a:pt x="367" y="123"/>
                </a:cubicBezTo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5257800"/>
            <a:ext cx="114300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4876920"/>
            <a:ext cx="1981080" cy="1752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438280" y="3886200"/>
            <a:ext cx="990720" cy="1295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3886200"/>
            <a:ext cx="106668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naPackViral" descr="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76320" y="76320"/>
            <a:ext cx="9067680" cy="6705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7172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50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Times New Roman"/>
              </a:rPr>
              <a:t>NCSU: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Mladen Vouk, Donald Bitzer, and Winser Alexander, Ann Sto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50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SNL: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Anna Johnston, William Hart, Jean-Paul Watson, Richard Pry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spcBef>
                <a:spcPts val="649"/>
              </a:spcBef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800080"/>
                </a:solidFill>
                <a:uFillTx/>
                <a:latin typeface="Times New Roman"/>
              </a:rPr>
              <a:t>NIEHS:</a:t>
            </a: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  John Drake (Mutagenesis da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172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up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50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SNL Tier 1 Seniors Council LDRD/D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550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NSF, Ford Foun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nature select a parity check co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92200" y="1703520"/>
            <a:ext cx="6159600" cy="3450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105520"/>
            <a:ext cx="734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. A. Mac Dónai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 Numerical Interpretation of nucleotides depicted as positions on a B^4 hypercube: (a) even-parity nucleotides; (b) odd-parity nucleotides.  The natural alphabet is structured as an error-checking code.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D.A. Mac Dónaill, “A parity code interpretation of nucleotide alphabet composition,”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em. Com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2) 2062-2063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cd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Chemistry/People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acdonaill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in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generacy of the genet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638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. Hay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how quickly a biochemical puzzle … was reduced to an abstract problem in symbol manipulation.”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. Hayes, “The Invention of the Genetic Code,” Sc. Am. 1998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hysicist George Gamow and coding-theorist Solomon W. Golomb.  Experimental evidence from Marshall W. Nirenberg and J. Heinrich Matthaei, NI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448600" cy="496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5400000">
            <a:off x="5325120" y="2569320"/>
            <a:ext cx="371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people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virginia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edu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/~rjh9u/code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in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theory and binding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300640"/>
            <a:ext cx="73407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. D. Schne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“Strong minor groove base conservation in sequence logos implies DNA distortion or base flipping during replication and transcription initiation,”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ucleic Acids Research, 2001, Vol. 29, No. 23 4881-48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45400" cy="564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6140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arison of microbial genome base mutation rate to genome size: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xhibits power law behavior; inverse relation between genome size and base mutation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35812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tation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NA viruses:  1 -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microbes:  1/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eukaryotes:  1/300 EfG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me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reased length, increased fidel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467000" y="990720"/>
            <a:ext cx="6210000" cy="507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172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arison of higher eukaryotic genome base mutation rate to genome size: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inverse relation between genome size and base mutation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. Batta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“… increasing the codeword length results in a decreasing probability of error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gen16s" descr=""/>
          <p:cNvPicPr/>
          <p:nvPr/>
        </p:nvPicPr>
        <p:blipFill>
          <a:blip r:embed="rId1"/>
          <a:stretch/>
        </p:blipFill>
        <p:spPr>
          <a:xfrm>
            <a:off x="749160" y="127080"/>
            <a:ext cx="7556760" cy="6502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re evidence of error control in protein synthesis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164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Liebovitch et al. 1996, Rosen and Moore 2003 computational experiments did not find evidence for linear block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pproach not comprehensive, did not consider convolutional coding or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y et al. Looked for optimal generator for translation initiation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ighly probable for encoding model not to conform to known error control co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naPackViral" descr=""/>
          <p:cNvPicPr/>
          <p:nvPr/>
        </p:nvPicPr>
        <p:blipFill>
          <a:blip r:embed="rId1"/>
          <a:stretch/>
        </p:blipFill>
        <p:spPr>
          <a:xfrm>
            <a:off x="76320" y="76320"/>
            <a:ext cx="9067680" cy="6705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It is the glory of God to conceal a matter; to search out a matter is the glory of kings.  Proverbs 25:2 (N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Error Control at Diverse Molecular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ding Theory Models of Prote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at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Yoc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ay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pplications of Coding Theor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enetic </a:t>
            </a: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olecular </a:t>
            </a: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Construction and Control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n Protein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520" y="82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21:47:51Z</dcterms:created>
  <dc:creator>E. May</dc:creator>
  <dc:description/>
  <dc:language>en-US</dc:language>
  <cp:lastModifiedBy>E. May</cp:lastModifiedBy>
  <dcterms:modified xsi:type="dcterms:W3CDTF">2003-11-18T02:32:16Z</dcterms:modified>
  <cp:revision>48</cp:revision>
  <dc:subject/>
  <dc:title>Biological Coding Theory   Error-Control Code Models for Prokaryotic Translation Initiation</dc:title>
</cp:coreProperties>
</file>