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DCE-EF8D-458C-AD12-3FA30AC3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FAD-3013-4A91-A6C9-96521238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AB7-2C1F-46FA-820B-BF0D73AF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D84-E242-4378-AFD0-338BAF0B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BD5-5298-4C38-BE1C-FD5D02FE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D45-5FF9-48F4-B2BC-15FF8967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C25-FDCB-4CC1-B71B-E8759E94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BD1-B8D3-41F8-9A38-E1060294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F6B-8447-4878-9F49-76E05E75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B6E-077F-4572-96E7-7A6DE85B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E86-9B60-4B15-8BFA-66AE7527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100-AB0A-4C61-AE4F-C9F16096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ccff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0E71-88C0-4DEF-B738-A7603FF2E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ccccff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ccccff"/>
                </a:solidFill>
                <a:latin typeface="Verdana"/>
              </a:rPr>
              <a:t>Semialgebraic Relaxations</a:t>
            </a:r>
            <a:br>
              <a:rPr sz="3600"/>
            </a:br>
            <a:r>
              <a:rPr b="0" i="1" lang="en-US" sz="3600" spc="-1" strike="noStrike">
                <a:solidFill>
                  <a:srgbClr val="ccccff"/>
                </a:solidFill>
                <a:latin typeface="Verdana"/>
              </a:rPr>
              <a:t>and Semidefinite Program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Pablo A. Parril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TH Zürich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99ff99"/>
                </a:solidFill>
                <a:latin typeface="Verdana"/>
              </a:rPr>
              <a:t>control.ee.ethz.ch/~parrilo</a:t>
            </a:r>
            <a:br>
              <a:rPr sz="1600"/>
            </a:br>
            <a:br>
              <a:rPr sz="1600"/>
            </a:br>
            <a:br>
              <a:rPr sz="1600"/>
            </a:br>
            <a:endParaRPr b="0" i="1" lang="en-US" sz="1600" spc="-1" strike="noStrike">
              <a:solidFill>
                <a:srgbClr val="ccccff"/>
              </a:solidFill>
              <a:latin typeface="Verdana"/>
            </a:endParaRPr>
          </a:p>
        </p:txBody>
      </p:sp>
      <p:pic>
        <p:nvPicPr>
          <p:cNvPr id="42" name="ethlogo-negative" descr=""/>
          <p:cNvPicPr/>
          <p:nvPr/>
        </p:nvPicPr>
        <p:blipFill>
          <a:blip r:embed="rId1"/>
          <a:stretch/>
        </p:blipFill>
        <p:spPr>
          <a:xfrm>
            <a:off x="380880" y="5486400"/>
            <a:ext cx="3476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648720" cy="38466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4267080" y="5562720"/>
            <a:ext cx="4541760" cy="960480"/>
            <a:chOff x="4267080" y="5562720"/>
            <a:chExt cx="4541760" cy="960480"/>
          </a:xfrm>
        </p:grpSpPr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4267080" y="5943600"/>
                  <a:ext cx="18558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⊗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7010280" y="5791320"/>
              <a:ext cx="731880" cy="731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7238880" y="5867280"/>
                  <a:ext cx="379440" cy="48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>
              <a:off x="8076960" y="5791320"/>
              <a:ext cx="731880" cy="731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8273880" y="5867280"/>
                  <a:ext cx="395280" cy="48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>
              <a:off x="670752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50160" y="5562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160" y="4244760"/>
            <a:ext cx="8135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M state described by PSD Hermitian matrices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ρ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(density matrix, mixed stat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es of multipartite systems are described by operators on the tensor product of vector spac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parable stat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33cc33"/>
                </a:solidFill>
                <a:latin typeface="Verdana"/>
              </a:rPr>
              <a:t>convex</a:t>
            </a: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 combination of product states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295280" y="1828800"/>
                <a:ext cx="60343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⊗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33520" y="3200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tangled states: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all the 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65104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pretation: statistical ensemble of locally prepared sta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400800" y="4610160"/>
            <a:ext cx="2895480" cy="2209680"/>
            <a:chOff x="6400800" y="4610160"/>
            <a:chExt cx="2895480" cy="2209680"/>
          </a:xfrm>
        </p:grpSpPr>
        <p:sp>
          <p:nvSpPr>
            <p:cNvPr id="100" name=""/>
            <p:cNvSpPr/>
            <p:nvPr/>
          </p:nvSpPr>
          <p:spPr>
            <a:xfrm>
              <a:off x="6400800" y="4610160"/>
              <a:ext cx="1940040" cy="2171520"/>
            </a:xfrm>
            <a:custGeom>
              <a:avLst/>
              <a:gdLst/>
              <a:ahLst/>
              <a:rect l="l" t="t" r="r" b="b"/>
              <a:pathLst>
                <a:path w="1222" h="1368">
                  <a:moveTo>
                    <a:pt x="130" y="369"/>
                  </a:moveTo>
                  <a:cubicBezTo>
                    <a:pt x="260" y="224"/>
                    <a:pt x="865" y="0"/>
                    <a:pt x="999" y="142"/>
                  </a:cubicBezTo>
                  <a:cubicBezTo>
                    <a:pt x="1222" y="310"/>
                    <a:pt x="1062" y="1078"/>
                    <a:pt x="932" y="1223"/>
                  </a:cubicBezTo>
                  <a:cubicBezTo>
                    <a:pt x="802" y="1368"/>
                    <a:pt x="356" y="1156"/>
                    <a:pt x="222" y="1014"/>
                  </a:cubicBezTo>
                  <a:cubicBezTo>
                    <a:pt x="88" y="872"/>
                    <a:pt x="0" y="514"/>
                    <a:pt x="130" y="369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53080" y="537192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parable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8001000" y="4610160"/>
              <a:ext cx="533520" cy="22096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458200" y="4762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63120" y="56768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10480" y="5981760"/>
              <a:ext cx="152640" cy="152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0880" y="42292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Q: How to determine whether or not a given quantum state is entangl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cision problem is NP-hard (Gurv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313240" y="3192480"/>
            <a:ext cx="3830400" cy="3246480"/>
            <a:chOff x="5313240" y="3192480"/>
            <a:chExt cx="3830400" cy="3246480"/>
          </a:xfrm>
        </p:grpSpPr>
        <p:sp>
          <p:nvSpPr>
            <p:cNvPr id="108" name=""/>
            <p:cNvSpPr/>
            <p:nvPr/>
          </p:nvSpPr>
          <p:spPr>
            <a:xfrm>
              <a:off x="6138720" y="319248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ntangled not-P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313240" y="3695760"/>
              <a:ext cx="3830400" cy="2743200"/>
              <a:chOff x="5313240" y="3695760"/>
              <a:chExt cx="3830400" cy="2743200"/>
            </a:xfrm>
          </p:grpSpPr>
          <p:sp>
            <p:nvSpPr>
              <p:cNvPr id="110" name=""/>
              <p:cNvSpPr/>
              <p:nvPr/>
            </p:nvSpPr>
            <p:spPr>
              <a:xfrm>
                <a:off x="5313240" y="3695760"/>
                <a:ext cx="3830400" cy="274320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27600" y="4061160"/>
                <a:ext cx="3001680" cy="2241360"/>
              </a:xfrm>
              <a:prstGeom prst="ellips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38640" y="4518360"/>
                <a:ext cx="2587680" cy="17380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65560" y="5113440"/>
                <a:ext cx="129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Separab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02320" y="3741840"/>
                <a:ext cx="165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Entangled PP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02320" y="4167360"/>
                <a:ext cx="21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New relaxatio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198360" y="457200"/>
            <a:ext cx="853128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techniques to find certified “entanglement witnesses,”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neralizations of Bell’s inequalities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witnesses are self-certified, e.g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8360" y="1752480"/>
            <a:ext cx="8747280" cy="1209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8360" y="3559320"/>
            <a:ext cx="55292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btain a hierarchy of SDP-testable condition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 all entangled states tried, the second level of the hierarchy is enough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ccff"/>
                </a:solidFill>
                <a:latin typeface="Verdana"/>
              </a:rPr>
              <a:t>Future challenges</a:t>
            </a:r>
            <a:endParaRPr b="0" i="1" lang="en-US" sz="36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ucture: we know a lot, can we do mo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good algorithmic use of abstractions, and randomiz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finite # of variables? Possible, but not too nice computationally. PSD integral operators, discretizations,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ther kinds of structure to exploit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gorithmics: alternatives to interior point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91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ccff"/>
                </a:solidFill>
                <a:latin typeface="Verdana"/>
              </a:rPr>
              <a:t>Summary</a:t>
            </a:r>
            <a:endParaRPr b="0" i="1" lang="en-US" sz="36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gorithmic construction of SDP relax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neralization of many earlier sche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ery powerful in pract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ne properly, can fully exploit struc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ts of applications: bounds for combinatorial problems, control &amp; dynamical systems, entanglement, 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ccff"/>
                </a:solidFill>
                <a:latin typeface="Verdana"/>
              </a:rPr>
              <a:t>Semialgebraic modeling</a:t>
            </a:r>
            <a:endParaRPr b="0" i="1" lang="en-US" sz="36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y problems in different domains can be modeled by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olynomia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inequaliti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uous, discrete, hybr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P-hard in 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ns of examples: spin glasses, max-cut, nonlinear stability, robustness analysis, entanglement,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57150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How to </a:t>
            </a:r>
            <a:r>
              <a:rPr b="0" i="1" lang="en-US" sz="3200" spc="-1" strike="noStrike">
                <a:solidFill>
                  <a:srgbClr val="33cc33"/>
                </a:solidFill>
                <a:latin typeface="Arial"/>
              </a:rPr>
              <a:t>prove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 things about them, in an algorithmic, certified and efficient 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895480" y="2751120"/>
                <a:ext cx="31244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" name=""/>
          <p:cNvGrpSpPr/>
          <p:nvPr/>
        </p:nvGrpSpPr>
        <p:grpSpPr>
          <a:xfrm>
            <a:off x="990720" y="3581280"/>
            <a:ext cx="6172200" cy="3276720"/>
            <a:chOff x="990720" y="3581280"/>
            <a:chExt cx="6172200" cy="3276720"/>
          </a:xfrm>
        </p:grpSpPr>
        <p:sp>
          <p:nvSpPr>
            <p:cNvPr id="48" name=""/>
            <p:cNvSpPr/>
            <p:nvPr/>
          </p:nvSpPr>
          <p:spPr>
            <a:xfrm>
              <a:off x="990720" y="3581280"/>
              <a:ext cx="1523880" cy="762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10080" y="6095880"/>
              <a:ext cx="1752840" cy="762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ccff"/>
                </a:solidFill>
                <a:latin typeface="Verdana"/>
              </a:rPr>
              <a:t>Proving vs. disproving</a:t>
            </a:r>
            <a:endParaRPr b="0" i="1" lang="en-US" sz="36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lly, it’s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utomatic theorem prov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ig difference: finding counterexamples vs. producing proofs (NP vs. co-NP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good decision theory exists (Tarski-Seidenberg, etc), but practical performance is generally poo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ant unconditionally valid proofs, but may fail to get them someti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use a particular proof system from real algebra: the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ositivstellensat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ff"/>
                </a:solidFill>
                <a:latin typeface="Verdana"/>
              </a:rPr>
              <a:t>An example</a:t>
            </a:r>
            <a:endParaRPr b="0" i="1" lang="en-US" sz="2800" spc="-1" strike="noStrike">
              <a:solidFill>
                <a:srgbClr val="cccc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023840" y="1379520"/>
                <a:ext cx="73980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657600" y="223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935440" y="2895480"/>
                <a:ext cx="366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76280" y="4762440"/>
                <a:ext cx="80010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1523880" y="5943600"/>
            <a:ext cx="68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: consider signs on candidate feasible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838080" y="3123720"/>
            <a:ext cx="79250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neralizes Hilbert’s Nullstellensatz, LP duali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feasibility certificates for polynomial systems over the real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ms of squares (SOS) are essent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ditions are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onvex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in f,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ounded degree solutions can be computed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convex optimization probl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urthermore, it’s a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emidefinite progra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38320" y="2209680"/>
                <a:ext cx="67086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con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dea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ccff"/>
                </a:solidFill>
                <a:latin typeface="Verdana"/>
              </a:rPr>
              <a:t>Positivstellensatz (Real Nullstellensatz)</a:t>
            </a:r>
            <a:endParaRPr b="0" i="1" lang="en-US" sz="2000" spc="-1" strike="noStrike">
              <a:solidFill>
                <a:srgbClr val="cccc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495440" y="1050840"/>
                <a:ext cx="6281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s empt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657600" y="1676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nd only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ccff"/>
                </a:solidFill>
                <a:latin typeface="Verdana"/>
              </a:rPr>
              <a:t>P-satz proofs</a:t>
            </a:r>
            <a:br>
              <a:rPr sz="3600"/>
            </a:br>
            <a:r>
              <a:rPr b="0" lang="en-US" sz="1200" spc="-1" strike="noStrike">
                <a:solidFill>
                  <a:srgbClr val="ccccff"/>
                </a:solidFill>
                <a:latin typeface="Verdana"/>
              </a:rPr>
              <a:t>(P.,  Caltech thesis 2000, Math Prog 2003)</a:t>
            </a:r>
            <a:endParaRPr b="0" i="1" lang="en-US" sz="12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ofs are given by </a:t>
            </a: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algebraic identiti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remely easy to verif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</a:t>
            </a: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convex optimiza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o search for th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vexity, hence a duality structur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 the primal, simple proof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 the dual, weaker models (liftings, et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neral algorithmic constru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chniques for exploiting problem struc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98640" y="1871640"/>
            <a:ext cx="25146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-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98640" y="3276720"/>
            <a:ext cx="25909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590920"/>
            <a:ext cx="3200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metry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4267080"/>
            <a:ext cx="3200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3429000"/>
            <a:ext cx="3200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5105520"/>
            <a:ext cx="3200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5238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971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489560" y="2938320"/>
            <a:ext cx="1073160" cy="642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89560" y="3733920"/>
            <a:ext cx="1073160" cy="75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89560" y="3886200"/>
            <a:ext cx="1073160" cy="7621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89560" y="4114800"/>
            <a:ext cx="1073160" cy="12193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5105520"/>
            <a:ext cx="2355840" cy="12952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228600"/>
            <a:ext cx="2355840" cy="12952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4343400"/>
            <a:ext cx="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ccff"/>
                </a:solidFill>
                <a:latin typeface="Verdana"/>
              </a:rPr>
              <a:t>Exploiting structure</a:t>
            </a:r>
            <a:endParaRPr b="0" i="1" lang="en-US" sz="36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olate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lgebraic properti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mmetry reduction: invariance under a group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arsity: Few nonzeros, Newton polytop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al structure: Equalities, quotient 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ph structure: use the dependency graph to simplify the SD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thods (mostly) commute, can mix and matc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ccff"/>
                </a:solidFill>
                <a:latin typeface="Verdana"/>
              </a:rPr>
              <a:t>A few applications</a:t>
            </a:r>
            <a:endParaRPr b="0" i="1" lang="en-US" sz="32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uous and combinatorial optim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ptimization of polynomi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phs: stability numbers, cuts, 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ynamical systems: Lyapunov and Bendixson-Dulac function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bustness analy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chability analysis: set mappings, 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ometric theorem prov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day: deciding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quantum entanglem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9T20:25:13Z</dcterms:created>
  <dc:creator>Pablo A. Parrilo</dc:creator>
  <dc:description/>
  <dc:language>en-US</dc:language>
  <cp:lastModifiedBy>Pablo A. Parrilo</cp:lastModifiedBy>
  <dcterms:modified xsi:type="dcterms:W3CDTF">2003-11-20T15:23:10Z</dcterms:modified>
  <cp:revision>134</cp:revision>
  <dc:subject/>
  <dc:title>Entangled Quantum States (Doherty, Parrilo, Spedalieri 2001)</dc:title>
</cp:coreProperties>
</file>