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8.pct" ContentType="image/x-pict"/>
  <Override PartName="/ppt/media/image12.pct" ContentType="image/x-pict"/>
  <Override PartName="/ppt/media/image7.pct" ContentType="image/x-pict"/>
  <Override PartName="/ppt/media/image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6.pct" ContentType="image/x-pict"/>
  <Override PartName="/ppt/media/image4.pct" ContentType="image/x-pict"/>
  <Override PartName="/ppt/media/image18.jpeg" ContentType="image/jpeg"/>
  <Override PartName="/ppt/media/image1.pct" ContentType="image/x-pict"/>
  <Override PartName="/ppt/media/image13.jpeg" ContentType="image/jpeg"/>
  <Override PartName="/ppt/media/image2.png" ContentType="image/png"/>
  <Override PartName="/ppt/media/image3.pct" ContentType="image/x-pict"/>
  <Override PartName="/ppt/media/image11.png" ContentType="image/png"/>
  <Override PartName="/ppt/media/image5.pct" ContentType="image/x-pi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10058400" cy="7772400"/>
  <p:notesSz cx="7023100" cy="92741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631B4-CEEE-4268-B718-808077D025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0F04E-EF90-4F0E-A957-DF4DE974D8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20DAE-3AC7-4BE0-A017-0157BC58B6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068AF-EFD7-48BD-9D51-FE7D3E5C88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ACB2B-B6F7-4D3D-875C-AFE1EC0CB1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0B93E-1A02-4A31-B522-5D3053B1B0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0F8F4-5850-41CD-BCED-329BFD0A7F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DF860-6D78-469C-9F78-0BA3BF20BB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FAA3B-7C96-4940-91F1-33B79B236A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D75F9-164E-4418-BBC0-88E9E073B5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7D7AD-4907-4AAB-AAF4-C4DC41230D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47A01-5C56-4C0B-A806-AEC4AC8DCE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6858000"/>
            <a:ext cx="9296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8610120" y="7010280"/>
            <a:ext cx="838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8A21B-8F37-4517-AA11-1ABC66DA7B74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914400"/>
            <a:ext cx="9296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693432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vogadro-Scale Engineering:  Form and F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IT, November 18, 19 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562120" y="3481560"/>
            <a:ext cx="1005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284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4240" indent="-250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572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5756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5756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5756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ct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ct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ct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489480" y="155592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1219320"/>
            <a:ext cx="899136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Three Dimensional Integrated Circuits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3774960"/>
            <a:ext cx="8458200" cy="37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.S. Tan, A. Fan, K.N. Chen, S. Das, N. Checka and </a:t>
            </a: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R. Rei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ccff"/>
                </a:solidFill>
                <a:latin typeface="Verdana"/>
              </a:rPr>
              <a:t>Microsystems Technology Labora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ccff"/>
                </a:solidFill>
                <a:latin typeface="Verdana"/>
              </a:rPr>
              <a:t>M.I.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CB935-9030-4B49-8964-F371F3AEFFB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842840" y="1173240"/>
            <a:ext cx="44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rystallization of </a:t>
            </a:r>
            <a:r>
              <a:rPr b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-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213920" y="1906560"/>
            <a:ext cx="6024240" cy="4570200"/>
            <a:chOff x="1213920" y="1906560"/>
            <a:chExt cx="6024240" cy="4570200"/>
          </a:xfrm>
        </p:grpSpPr>
        <p:grpSp>
          <p:nvGrpSpPr>
            <p:cNvPr id="134" name=""/>
            <p:cNvGrpSpPr/>
            <p:nvPr/>
          </p:nvGrpSpPr>
          <p:grpSpPr>
            <a:xfrm>
              <a:off x="3043080" y="1906560"/>
              <a:ext cx="4195080" cy="4570200"/>
              <a:chOff x="3043080" y="1906560"/>
              <a:chExt cx="4195080" cy="4570200"/>
            </a:xfrm>
          </p:grpSpPr>
          <p:sp>
            <p:nvSpPr>
              <p:cNvPr id="135" name=""/>
              <p:cNvSpPr/>
              <p:nvPr/>
            </p:nvSpPr>
            <p:spPr>
              <a:xfrm flipH="1">
                <a:off x="4364640" y="2009880"/>
                <a:ext cx="909360" cy="495360"/>
              </a:xfrm>
              <a:custGeom>
                <a:avLst/>
                <a:gdLst/>
                <a:ahLst/>
                <a:rect l="l" t="t" r="r" b="b"/>
                <a:pathLst>
                  <a:path w="491" h="354">
                    <a:moveTo>
                      <a:pt x="0" y="347"/>
                    </a:moveTo>
                    <a:cubicBezTo>
                      <a:pt x="55" y="301"/>
                      <a:pt x="111" y="255"/>
                      <a:pt x="165" y="234"/>
                    </a:cubicBezTo>
                    <a:cubicBezTo>
                      <a:pt x="219" y="213"/>
                      <a:pt x="292" y="246"/>
                      <a:pt x="322" y="219"/>
                    </a:cubicBezTo>
                    <a:cubicBezTo>
                      <a:pt x="352" y="192"/>
                      <a:pt x="319" y="99"/>
                      <a:pt x="344" y="70"/>
                    </a:cubicBezTo>
                    <a:cubicBezTo>
                      <a:pt x="369" y="41"/>
                      <a:pt x="451" y="0"/>
                      <a:pt x="471" y="47"/>
                    </a:cubicBezTo>
                    <a:cubicBezTo>
                      <a:pt x="491" y="94"/>
                      <a:pt x="477" y="224"/>
                      <a:pt x="464" y="354"/>
                    </a:cubicBezTo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264840" y="2000520"/>
                <a:ext cx="924120" cy="508320"/>
              </a:xfrm>
              <a:custGeom>
                <a:avLst/>
                <a:gdLst/>
                <a:ahLst/>
                <a:rect l="l" t="t" r="r" b="b"/>
                <a:pathLst>
                  <a:path w="491" h="354">
                    <a:moveTo>
                      <a:pt x="0" y="347"/>
                    </a:moveTo>
                    <a:cubicBezTo>
                      <a:pt x="55" y="301"/>
                      <a:pt x="111" y="255"/>
                      <a:pt x="165" y="234"/>
                    </a:cubicBezTo>
                    <a:cubicBezTo>
                      <a:pt x="219" y="213"/>
                      <a:pt x="292" y="246"/>
                      <a:pt x="322" y="219"/>
                    </a:cubicBezTo>
                    <a:cubicBezTo>
                      <a:pt x="352" y="192"/>
                      <a:pt x="319" y="99"/>
                      <a:pt x="344" y="70"/>
                    </a:cubicBezTo>
                    <a:cubicBezTo>
                      <a:pt x="369" y="41"/>
                      <a:pt x="451" y="0"/>
                      <a:pt x="471" y="47"/>
                    </a:cubicBezTo>
                    <a:cubicBezTo>
                      <a:pt x="491" y="94"/>
                      <a:pt x="477" y="224"/>
                      <a:pt x="464" y="354"/>
                    </a:cubicBezTo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61800" y="2509200"/>
                <a:ext cx="2733840" cy="344376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050280" y="2497680"/>
                <a:ext cx="2762640" cy="345528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061800" y="5964480"/>
                <a:ext cx="2733840" cy="4968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050280" y="5952960"/>
                <a:ext cx="2762640" cy="5238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176360" y="6225480"/>
                <a:ext cx="514080" cy="20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178160" y="6238440"/>
                <a:ext cx="308520" cy="16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911040" y="6247800"/>
                <a:ext cx="113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Bulk S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805560" y="2728800"/>
                <a:ext cx="459360" cy="3333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816720" y="2722680"/>
                <a:ext cx="472680" cy="3492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635720" y="2728800"/>
                <a:ext cx="442800" cy="31464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632120" y="2722680"/>
                <a:ext cx="461160" cy="33768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101200" y="3984480"/>
                <a:ext cx="698400" cy="12528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089680" y="3971160"/>
                <a:ext cx="711720" cy="16128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850920" y="4137840"/>
                <a:ext cx="110880" cy="425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805560" y="4566240"/>
                <a:ext cx="1368720" cy="8244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782880" y="4552920"/>
                <a:ext cx="1438560" cy="12168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637880" y="5949360"/>
                <a:ext cx="555480" cy="16668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892320" y="5920920"/>
                <a:ext cx="200880" cy="25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812760" y="5958720"/>
                <a:ext cx="357480" cy="16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811320" y="5966280"/>
                <a:ext cx="2948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n+/p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963600" y="4483440"/>
                <a:ext cx="197640" cy="25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865680" y="4517280"/>
                <a:ext cx="355680" cy="16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864240" y="4526640"/>
                <a:ext cx="2948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n+/p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799520" y="4479840"/>
                <a:ext cx="186480" cy="25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776840" y="4524840"/>
                <a:ext cx="356040" cy="16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775400" y="4534200"/>
                <a:ext cx="2948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n+/p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206600" y="5714640"/>
                <a:ext cx="457560" cy="1634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195440" y="5695920"/>
                <a:ext cx="483480" cy="2102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278240" y="5654520"/>
                <a:ext cx="336600" cy="23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278240" y="5666040"/>
                <a:ext cx="303120" cy="16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276800" y="5675400"/>
                <a:ext cx="2491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Gat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236840" y="4325760"/>
                <a:ext cx="457200" cy="1198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225320" y="4316400"/>
                <a:ext cx="483480" cy="14436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319640" y="4267800"/>
                <a:ext cx="361080" cy="22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319640" y="4278960"/>
                <a:ext cx="303120" cy="16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318200" y="4288320"/>
                <a:ext cx="2491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Gat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061800" y="2728800"/>
                <a:ext cx="432720" cy="33732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050280" y="2722680"/>
                <a:ext cx="461520" cy="3492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356800" y="2711520"/>
                <a:ext cx="438840" cy="35424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353560" y="2722680"/>
                <a:ext cx="459360" cy="3492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904920" y="3056760"/>
                <a:ext cx="111240" cy="5457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925880" y="3768480"/>
                <a:ext cx="118080" cy="788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912920" y="5005440"/>
                <a:ext cx="116280" cy="949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899320" y="5902200"/>
                <a:ext cx="218520" cy="22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899320" y="5915520"/>
                <a:ext cx="210600" cy="19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898960" y="5927040"/>
                <a:ext cx="12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Times New Roman"/>
                  </a:rPr>
                  <a:t>T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918040" y="4457160"/>
                <a:ext cx="207360" cy="22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918040" y="4470480"/>
                <a:ext cx="209160" cy="19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916960" y="4479840"/>
                <a:ext cx="12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Times New Roman"/>
                  </a:rPr>
                  <a:t>T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918040" y="3927600"/>
                <a:ext cx="227880" cy="22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918040" y="3940920"/>
                <a:ext cx="252360" cy="19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916960" y="3952440"/>
                <a:ext cx="160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Times New Roman"/>
                  </a:rPr>
                  <a:t>M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906880" y="3561840"/>
                <a:ext cx="229680" cy="22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906880" y="3573000"/>
                <a:ext cx="252360" cy="19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905440" y="3582720"/>
                <a:ext cx="160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Times New Roman"/>
                  </a:rPr>
                  <a:t>M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884200" y="3233520"/>
                <a:ext cx="261720" cy="22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884200" y="3244680"/>
                <a:ext cx="252360" cy="19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882760" y="3254040"/>
                <a:ext cx="160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Times New Roman"/>
                  </a:rPr>
                  <a:t>M3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899320" y="2782800"/>
                <a:ext cx="259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899320" y="2796120"/>
                <a:ext cx="252360" cy="19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898960" y="2807280"/>
                <a:ext cx="160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Times New Roman"/>
                  </a:rPr>
                  <a:t>M4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590640" y="2404080"/>
                <a:ext cx="1355400" cy="936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577680" y="2390760"/>
                <a:ext cx="1382040" cy="12168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620600" y="2332440"/>
                <a:ext cx="169200" cy="24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577400" y="2356560"/>
                <a:ext cx="3556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575960" y="2365920"/>
                <a:ext cx="2948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n+/p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752640" y="2332440"/>
                <a:ext cx="152280" cy="241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673440" y="2355120"/>
                <a:ext cx="355680" cy="16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672000" y="2364480"/>
                <a:ext cx="2948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n+/p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029120" y="2165760"/>
                <a:ext cx="466920" cy="1029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018320" y="2152440"/>
                <a:ext cx="487440" cy="1332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101120" y="2103480"/>
                <a:ext cx="321840" cy="21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101120" y="2116800"/>
                <a:ext cx="301320" cy="16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100760" y="2126160"/>
                <a:ext cx="2491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Gat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799520" y="2516400"/>
                <a:ext cx="106920" cy="215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901680" y="2509200"/>
                <a:ext cx="110880" cy="204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069080" y="3269160"/>
                <a:ext cx="1726560" cy="142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057920" y="3256200"/>
                <a:ext cx="1755000" cy="17208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061800" y="3269160"/>
                <a:ext cx="781200" cy="142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050280" y="3256200"/>
                <a:ext cx="806040" cy="17208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061800" y="3971160"/>
                <a:ext cx="1811160" cy="142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050280" y="3959640"/>
                <a:ext cx="1837800" cy="1710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061800" y="3614400"/>
                <a:ext cx="2737800" cy="142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050280" y="3602880"/>
                <a:ext cx="2749320" cy="1688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1" name=""/>
              <p:cNvGrpSpPr/>
              <p:nvPr/>
            </p:nvGrpSpPr>
            <p:grpSpPr>
              <a:xfrm>
                <a:off x="4195440" y="5834880"/>
                <a:ext cx="468360" cy="115560"/>
                <a:chOff x="4195440" y="5834880"/>
                <a:chExt cx="468360" cy="115560"/>
              </a:xfrm>
            </p:grpSpPr>
            <p:pic>
              <p:nvPicPr>
                <p:cNvPr id="222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4195440" y="5834880"/>
                  <a:ext cx="122040" cy="115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3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317480" y="5834880"/>
                  <a:ext cx="126000" cy="115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443840" y="5834880"/>
                  <a:ext cx="122040" cy="115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5" name="" descr=""/>
                <p:cNvPicPr/>
                <p:nvPr/>
              </p:nvPicPr>
              <p:blipFill>
                <a:blip r:embed="rId4"/>
                <a:srcRect l="0" t="0" r="887500" b="0"/>
                <a:stretch/>
              </p:blipFill>
              <p:spPr>
                <a:xfrm>
                  <a:off x="4565880" y="5834880"/>
                  <a:ext cx="97920" cy="1155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26" name=""/>
              <p:cNvSpPr/>
              <p:nvPr/>
            </p:nvSpPr>
            <p:spPr>
              <a:xfrm>
                <a:off x="4195440" y="5834880"/>
                <a:ext cx="483480" cy="11988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7" name=""/>
              <p:cNvGrpSpPr/>
              <p:nvPr/>
            </p:nvGrpSpPr>
            <p:grpSpPr>
              <a:xfrm>
                <a:off x="4246200" y="4457160"/>
                <a:ext cx="466200" cy="106200"/>
                <a:chOff x="4246200" y="4457160"/>
                <a:chExt cx="466200" cy="106200"/>
              </a:xfrm>
            </p:grpSpPr>
            <p:pic>
              <p:nvPicPr>
                <p:cNvPr id="228" name="" descr=""/>
                <p:cNvPicPr/>
                <p:nvPr/>
              </p:nvPicPr>
              <p:blipFill>
                <a:blip r:embed="rId5"/>
                <a:srcRect l="0" t="437500" r="0" b="0"/>
                <a:stretch/>
              </p:blipFill>
              <p:spPr>
                <a:xfrm>
                  <a:off x="4246200" y="4457160"/>
                  <a:ext cx="122040" cy="106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9" name="" descr=""/>
                <p:cNvPicPr/>
                <p:nvPr/>
              </p:nvPicPr>
              <p:blipFill>
                <a:blip r:embed="rId6"/>
                <a:srcRect l="0" t="437500" r="0" b="0"/>
                <a:stretch/>
              </p:blipFill>
              <p:spPr>
                <a:xfrm>
                  <a:off x="4368240" y="4457160"/>
                  <a:ext cx="122400" cy="106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0" name="" descr=""/>
                <p:cNvPicPr/>
                <p:nvPr/>
              </p:nvPicPr>
              <p:blipFill>
                <a:blip r:embed="rId7"/>
                <a:srcRect l="0" t="437500" r="0" b="0"/>
                <a:stretch/>
              </p:blipFill>
              <p:spPr>
                <a:xfrm>
                  <a:off x="4490640" y="4457160"/>
                  <a:ext cx="125640" cy="106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1" name="" descr=""/>
                <p:cNvPicPr/>
                <p:nvPr/>
              </p:nvPicPr>
              <p:blipFill>
                <a:blip r:embed="rId8"/>
                <a:srcRect l="0" t="437500" r="887500" b="0"/>
                <a:stretch/>
              </p:blipFill>
              <p:spPr>
                <a:xfrm>
                  <a:off x="4616640" y="4457160"/>
                  <a:ext cx="95760" cy="106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32" name=""/>
              <p:cNvGrpSpPr/>
              <p:nvPr/>
            </p:nvGrpSpPr>
            <p:grpSpPr>
              <a:xfrm>
                <a:off x="4023720" y="2270880"/>
                <a:ext cx="466560" cy="119520"/>
                <a:chOff x="4023720" y="2270880"/>
                <a:chExt cx="466560" cy="119520"/>
              </a:xfrm>
            </p:grpSpPr>
            <p:pic>
              <p:nvPicPr>
                <p:cNvPr id="23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4023720" y="2270880"/>
                  <a:ext cx="122400" cy="119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4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4146120" y="2270880"/>
                  <a:ext cx="123840" cy="119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5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270320" y="2270880"/>
                  <a:ext cx="123840" cy="119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6" name="" descr=""/>
                <p:cNvPicPr/>
                <p:nvPr/>
              </p:nvPicPr>
              <p:blipFill>
                <a:blip r:embed="rId12"/>
                <a:srcRect l="0" t="0" r="887500" b="0"/>
                <a:stretch/>
              </p:blipFill>
              <p:spPr>
                <a:xfrm>
                  <a:off x="4394520" y="2270880"/>
                  <a:ext cx="95760" cy="119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37" name=""/>
              <p:cNvSpPr/>
              <p:nvPr/>
            </p:nvSpPr>
            <p:spPr>
              <a:xfrm>
                <a:off x="4023720" y="2270880"/>
                <a:ext cx="482040" cy="136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965120" y="2098080"/>
                <a:ext cx="977400" cy="25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699800" y="2150280"/>
                <a:ext cx="956160" cy="18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044320" y="1906560"/>
                <a:ext cx="2193840" cy="18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752640" y="5949360"/>
                <a:ext cx="480240" cy="16668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944960" y="5917680"/>
                <a:ext cx="163440" cy="22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739400" y="5955120"/>
                <a:ext cx="357480" cy="16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737960" y="5962680"/>
                <a:ext cx="2948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n+/p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251600" y="4552920"/>
                <a:ext cx="10800" cy="118080"/>
              </a:xfrm>
              <a:custGeom>
                <a:avLst/>
                <a:gdLst/>
                <a:ahLst/>
                <a:rect l="l" t="t" r="r" b="b"/>
                <a:pathLst>
                  <a:path w="6" h="63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57"/>
                    </a:lnTo>
                    <a:lnTo>
                      <a:pt x="6" y="63"/>
                    </a:lnTo>
                    <a:lnTo>
                      <a:pt x="6" y="5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044600" y="2390760"/>
                <a:ext cx="12960" cy="118080"/>
              </a:xfrm>
              <a:custGeom>
                <a:avLst/>
                <a:gdLst/>
                <a:ahLst/>
                <a:rect l="l" t="t" r="r" b="b"/>
                <a:pathLst>
                  <a:path w="7" h="63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63"/>
                    </a:lnTo>
                    <a:lnTo>
                      <a:pt x="7" y="6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464360" y="2390760"/>
                <a:ext cx="12960" cy="118080"/>
              </a:xfrm>
              <a:custGeom>
                <a:avLst/>
                <a:gdLst/>
                <a:ahLst/>
                <a:rect l="l" t="t" r="r" b="b"/>
                <a:pathLst>
                  <a:path w="7" h="63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3"/>
                    </a:lnTo>
                    <a:lnTo>
                      <a:pt x="7" y="6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675320" y="4547520"/>
                <a:ext cx="9360" cy="115920"/>
              </a:xfrm>
              <a:custGeom>
                <a:avLst/>
                <a:gdLst/>
                <a:ahLst/>
                <a:rect l="l" t="t" r="r" b="b"/>
                <a:pathLst>
                  <a:path w="5" h="62">
                    <a:moveTo>
                      <a:pt x="5" y="0"/>
                    </a:moveTo>
                    <a:lnTo>
                      <a:pt x="5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57"/>
                    </a:lnTo>
                    <a:lnTo>
                      <a:pt x="5" y="62"/>
                    </a:lnTo>
                    <a:lnTo>
                      <a:pt x="5" y="57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061800" y="4905720"/>
                <a:ext cx="2722320" cy="16128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050280" y="4894200"/>
                <a:ext cx="2749320" cy="1670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053880" y="5339160"/>
                <a:ext cx="1811160" cy="16164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043080" y="5328000"/>
                <a:ext cx="1837800" cy="16488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087880" y="5335920"/>
                <a:ext cx="703800" cy="16128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072400" y="5322600"/>
                <a:ext cx="736560" cy="16668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830040" y="5491440"/>
                <a:ext cx="146880" cy="448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914360" y="4662000"/>
                <a:ext cx="118440" cy="23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901480" y="5303880"/>
                <a:ext cx="345960" cy="22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901480" y="5316840"/>
                <a:ext cx="299160" cy="19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901120" y="5326200"/>
                <a:ext cx="1987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Times New Roman"/>
                  </a:rPr>
                  <a:t>M’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899320" y="4858920"/>
                <a:ext cx="321840" cy="22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899320" y="4874040"/>
                <a:ext cx="299160" cy="19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898960" y="4883400"/>
                <a:ext cx="1987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Times New Roman"/>
                  </a:rPr>
                  <a:t>M’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227480" y="4445640"/>
                <a:ext cx="485280" cy="114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4" name=""/>
              <p:cNvGrpSpPr/>
              <p:nvPr/>
            </p:nvGrpSpPr>
            <p:grpSpPr>
              <a:xfrm>
                <a:off x="4941000" y="2561400"/>
                <a:ext cx="1342800" cy="119520"/>
                <a:chOff x="4941000" y="2561400"/>
                <a:chExt cx="1342800" cy="119520"/>
              </a:xfrm>
            </p:grpSpPr>
            <p:sp>
              <p:nvSpPr>
                <p:cNvPr id="265" name=""/>
                <p:cNvSpPr/>
                <p:nvPr/>
              </p:nvSpPr>
              <p:spPr>
                <a:xfrm flipH="1">
                  <a:off x="5055120" y="2621160"/>
                  <a:ext cx="122868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4941000" y="2561400"/>
                  <a:ext cx="118440" cy="119520"/>
                </a:xfrm>
                <a:custGeom>
                  <a:avLst/>
                  <a:gdLst/>
                  <a:ahLst/>
                  <a:rect l="l" t="t" r="r" b="b"/>
                  <a:pathLst>
                    <a:path w="63" h="64">
                      <a:moveTo>
                        <a:pt x="63" y="0"/>
                      </a:moveTo>
                      <a:lnTo>
                        <a:pt x="0" y="32"/>
                      </a:lnTo>
                      <a:lnTo>
                        <a:pt x="63" y="64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7" name=""/>
              <p:cNvSpPr/>
              <p:nvPr/>
            </p:nvSpPr>
            <p:spPr>
              <a:xfrm>
                <a:off x="6246000" y="2458440"/>
                <a:ext cx="621000" cy="29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361920" y="2525760"/>
                <a:ext cx="390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VILI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9" name=""/>
              <p:cNvGrpSpPr/>
              <p:nvPr/>
            </p:nvGrpSpPr>
            <p:grpSpPr>
              <a:xfrm>
                <a:off x="5069160" y="5682600"/>
                <a:ext cx="1294920" cy="121680"/>
                <a:chOff x="5069160" y="5682600"/>
                <a:chExt cx="1294920" cy="121680"/>
              </a:xfrm>
            </p:grpSpPr>
            <p:sp>
              <p:nvSpPr>
                <p:cNvPr id="270" name=""/>
                <p:cNvSpPr/>
                <p:nvPr/>
              </p:nvSpPr>
              <p:spPr>
                <a:xfrm flipH="1">
                  <a:off x="5185440" y="5744520"/>
                  <a:ext cx="117864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5069160" y="5682600"/>
                  <a:ext cx="120240" cy="121680"/>
                </a:xfrm>
                <a:custGeom>
                  <a:avLst/>
                  <a:gdLst/>
                  <a:ahLst/>
                  <a:rect l="l" t="t" r="r" b="b"/>
                  <a:pathLst>
                    <a:path w="64" h="65">
                      <a:moveTo>
                        <a:pt x="64" y="0"/>
                      </a:moveTo>
                      <a:lnTo>
                        <a:pt x="0" y="33"/>
                      </a:lnTo>
                      <a:lnTo>
                        <a:pt x="64" y="65"/>
                      </a:lnTo>
                      <a:lnTo>
                        <a:pt x="6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342120" y="5605920"/>
                <a:ext cx="450000" cy="29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454440" y="5673240"/>
                <a:ext cx="230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Vi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>
                <a:off x="5306040" y="4433040"/>
                <a:ext cx="945360" cy="9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303960" y="4165920"/>
                <a:ext cx="71172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Memory o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Analo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1213920" y="2182680"/>
              <a:ext cx="5536800" cy="4171320"/>
              <a:chOff x="1213920" y="2182680"/>
              <a:chExt cx="5536800" cy="4171320"/>
            </a:xfrm>
          </p:grpSpPr>
          <p:sp>
            <p:nvSpPr>
              <p:cNvPr id="277" name=""/>
              <p:cNvSpPr/>
              <p:nvPr/>
            </p:nvSpPr>
            <p:spPr>
              <a:xfrm>
                <a:off x="1367640" y="4400640"/>
                <a:ext cx="1600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Recrystallized S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095880" y="6046920"/>
                <a:ext cx="654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Logi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H="1" flipV="1">
                <a:off x="5181120" y="6068880"/>
                <a:ext cx="91404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895480" y="4545000"/>
                <a:ext cx="761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213920" y="2182680"/>
                <a:ext cx="1748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Repeaters or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optical I/O devic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438280" y="2411280"/>
                <a:ext cx="99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3" name=""/>
          <p:cNvSpPr/>
          <p:nvPr/>
        </p:nvSpPr>
        <p:spPr>
          <a:xfrm>
            <a:off x="6934320" y="6186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(K.Saraswat, Stanfor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4798C-9934-4EEF-8BBE-5B4349A149D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685800" y="9907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3-D Research @ M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62120" y="2011320"/>
            <a:ext cx="86644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Process Technology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62120" y="2781360"/>
            <a:ext cx="88167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AD Tool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Verdana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Applications:  3-D Circuit/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- Partitioning Digital Circu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- Partitioning Mixed-Signal Circu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- Monolithically integrating several 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B7B4A-BAE5-4C93-9E96-DFAB79AAA83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990720" y="289548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Process Technology Development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64412-1938-4A1E-BCD9-4718D11DB79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762120" y="2133720"/>
            <a:ext cx="3124080" cy="426708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4038480" y="34290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114800" y="49528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M1 (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114800" y="236232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M1 (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14800" y="28954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LOCOS/S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14800" y="55627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LOCOS/S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114800" y="47242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u V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57400" y="4191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u P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96252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96252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96252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65760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96252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962520" y="5715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1828440" y="441972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895480" y="441972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990720" y="121932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Parallel FEOL Processes on 2 Device Waf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562720" y="2133720"/>
            <a:ext cx="152280" cy="1904760"/>
          </a:xfrm>
          <a:custGeom>
            <a:avLst/>
            <a:gdLst>
              <a:gd name="textAreaLeft" fmla="*/ 0 w 152280"/>
              <a:gd name="textAreaRight" fmla="*/ 55080 w 15228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562720" y="4800600"/>
            <a:ext cx="75960" cy="1600200"/>
          </a:xfrm>
          <a:custGeom>
            <a:avLst/>
            <a:gdLst>
              <a:gd name="textAreaLeft" fmla="*/ 0 w 75960"/>
              <a:gd name="textAreaRight" fmla="*/ 27360 w 7596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867280" y="25146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evice/Interconnect Layer 2 (SO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867280" y="50292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evice/Interconnect Layer 1 (Bulk S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F98C5-7490-4985-A3C6-333B9C19BBC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789120" y="5502240"/>
            <a:ext cx="3097080" cy="898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89120" y="4782960"/>
            <a:ext cx="3097080" cy="719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609560" y="5234040"/>
            <a:ext cx="182880" cy="268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703600" y="5234040"/>
            <a:ext cx="182520" cy="268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89120" y="5054760"/>
            <a:ext cx="1093680" cy="179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611440" y="5054760"/>
            <a:ext cx="1274760" cy="179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065320" y="5234040"/>
            <a:ext cx="363600" cy="268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89120" y="3435480"/>
            <a:ext cx="3097080" cy="2682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89120" y="3703680"/>
            <a:ext cx="3097080" cy="360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432240" y="4782960"/>
            <a:ext cx="182520" cy="2718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340080" y="4603680"/>
            <a:ext cx="365040" cy="17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89120" y="2895480"/>
            <a:ext cx="3097080" cy="540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336680" y="2895480"/>
            <a:ext cx="728640" cy="270000"/>
          </a:xfrm>
          <a:custGeom>
            <a:avLst/>
            <a:gdLst/>
            <a:ahLst/>
            <a:rect l="l" t="t" r="r" b="b"/>
            <a:pathLst>
              <a:path w="459" h="170">
                <a:moveTo>
                  <a:pt x="459" y="0"/>
                </a:moveTo>
                <a:lnTo>
                  <a:pt x="0" y="0"/>
                </a:lnTo>
                <a:lnTo>
                  <a:pt x="3" y="26"/>
                </a:lnTo>
                <a:lnTo>
                  <a:pt x="10" y="52"/>
                </a:lnTo>
                <a:lnTo>
                  <a:pt x="24" y="77"/>
                </a:lnTo>
                <a:lnTo>
                  <a:pt x="44" y="100"/>
                </a:lnTo>
                <a:lnTo>
                  <a:pt x="67" y="120"/>
                </a:lnTo>
                <a:lnTo>
                  <a:pt x="94" y="138"/>
                </a:lnTo>
                <a:lnTo>
                  <a:pt x="125" y="151"/>
                </a:lnTo>
                <a:lnTo>
                  <a:pt x="159" y="160"/>
                </a:lnTo>
                <a:lnTo>
                  <a:pt x="194" y="168"/>
                </a:lnTo>
                <a:lnTo>
                  <a:pt x="229" y="170"/>
                </a:lnTo>
                <a:lnTo>
                  <a:pt x="264" y="168"/>
                </a:lnTo>
                <a:lnTo>
                  <a:pt x="299" y="160"/>
                </a:lnTo>
                <a:lnTo>
                  <a:pt x="333" y="151"/>
                </a:lnTo>
                <a:lnTo>
                  <a:pt x="364" y="138"/>
                </a:lnTo>
                <a:lnTo>
                  <a:pt x="391" y="120"/>
                </a:lnTo>
                <a:lnTo>
                  <a:pt x="414" y="100"/>
                </a:lnTo>
                <a:lnTo>
                  <a:pt x="434" y="77"/>
                </a:lnTo>
                <a:lnTo>
                  <a:pt x="448" y="52"/>
                </a:lnTo>
                <a:lnTo>
                  <a:pt x="456" y="26"/>
                </a:lnTo>
                <a:lnTo>
                  <a:pt x="459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28920" y="2895480"/>
            <a:ext cx="728640" cy="270000"/>
          </a:xfrm>
          <a:custGeom>
            <a:avLst/>
            <a:gdLst/>
            <a:ahLst/>
            <a:rect l="l" t="t" r="r" b="b"/>
            <a:pathLst>
              <a:path w="459" h="170">
                <a:moveTo>
                  <a:pt x="459" y="0"/>
                </a:moveTo>
                <a:lnTo>
                  <a:pt x="0" y="0"/>
                </a:lnTo>
                <a:lnTo>
                  <a:pt x="3" y="26"/>
                </a:lnTo>
                <a:lnTo>
                  <a:pt x="11" y="52"/>
                </a:lnTo>
                <a:lnTo>
                  <a:pt x="25" y="77"/>
                </a:lnTo>
                <a:lnTo>
                  <a:pt x="45" y="100"/>
                </a:lnTo>
                <a:lnTo>
                  <a:pt x="67" y="120"/>
                </a:lnTo>
                <a:lnTo>
                  <a:pt x="95" y="138"/>
                </a:lnTo>
                <a:lnTo>
                  <a:pt x="126" y="151"/>
                </a:lnTo>
                <a:lnTo>
                  <a:pt x="159" y="160"/>
                </a:lnTo>
                <a:lnTo>
                  <a:pt x="195" y="168"/>
                </a:lnTo>
                <a:lnTo>
                  <a:pt x="230" y="170"/>
                </a:lnTo>
                <a:lnTo>
                  <a:pt x="265" y="168"/>
                </a:lnTo>
                <a:lnTo>
                  <a:pt x="300" y="160"/>
                </a:lnTo>
                <a:lnTo>
                  <a:pt x="334" y="151"/>
                </a:lnTo>
                <a:lnTo>
                  <a:pt x="364" y="138"/>
                </a:lnTo>
                <a:lnTo>
                  <a:pt x="392" y="120"/>
                </a:lnTo>
                <a:lnTo>
                  <a:pt x="415" y="100"/>
                </a:lnTo>
                <a:lnTo>
                  <a:pt x="435" y="77"/>
                </a:lnTo>
                <a:lnTo>
                  <a:pt x="449" y="52"/>
                </a:lnTo>
                <a:lnTo>
                  <a:pt x="456" y="26"/>
                </a:lnTo>
                <a:lnTo>
                  <a:pt x="459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89120" y="2176560"/>
            <a:ext cx="3097080" cy="718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609560" y="2625840"/>
            <a:ext cx="182880" cy="2696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703600" y="2625840"/>
            <a:ext cx="182520" cy="2696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89120" y="2444760"/>
            <a:ext cx="1093680" cy="1810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611440" y="2444760"/>
            <a:ext cx="1274760" cy="1810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065320" y="2625840"/>
            <a:ext cx="363600" cy="269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89120" y="1546200"/>
            <a:ext cx="3097080" cy="630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063800" y="4603680"/>
            <a:ext cx="728640" cy="17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336680" y="2895480"/>
            <a:ext cx="728640" cy="270000"/>
          </a:xfrm>
          <a:custGeom>
            <a:avLst/>
            <a:gdLst/>
            <a:ahLst/>
            <a:rect l="l" t="t" r="r" b="b"/>
            <a:pathLst>
              <a:path w="459" h="170">
                <a:moveTo>
                  <a:pt x="229" y="170"/>
                </a:moveTo>
                <a:lnTo>
                  <a:pt x="0" y="170"/>
                </a:lnTo>
                <a:lnTo>
                  <a:pt x="0" y="0"/>
                </a:lnTo>
                <a:lnTo>
                  <a:pt x="459" y="0"/>
                </a:lnTo>
                <a:lnTo>
                  <a:pt x="456" y="26"/>
                </a:lnTo>
                <a:lnTo>
                  <a:pt x="448" y="52"/>
                </a:lnTo>
                <a:lnTo>
                  <a:pt x="434" y="77"/>
                </a:lnTo>
                <a:lnTo>
                  <a:pt x="414" y="100"/>
                </a:lnTo>
                <a:lnTo>
                  <a:pt x="391" y="120"/>
                </a:lnTo>
                <a:lnTo>
                  <a:pt x="364" y="138"/>
                </a:lnTo>
                <a:lnTo>
                  <a:pt x="333" y="151"/>
                </a:lnTo>
                <a:lnTo>
                  <a:pt x="299" y="160"/>
                </a:lnTo>
                <a:lnTo>
                  <a:pt x="264" y="168"/>
                </a:lnTo>
                <a:lnTo>
                  <a:pt x="229" y="170"/>
                </a:lnTo>
                <a:close/>
              </a:path>
            </a:pathLst>
          </a:custGeom>
          <a:solidFill>
            <a:srgbClr val="ffff06"/>
          </a:solidFill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89120" y="2895480"/>
            <a:ext cx="639720" cy="449280"/>
          </a:xfrm>
          <a:custGeom>
            <a:avLst/>
            <a:gdLst/>
            <a:ahLst/>
            <a:rect l="l" t="t" r="r" b="b"/>
            <a:pathLst>
              <a:path w="403" h="283">
                <a:moveTo>
                  <a:pt x="403" y="0"/>
                </a:moveTo>
                <a:lnTo>
                  <a:pt x="400" y="40"/>
                </a:lnTo>
                <a:lnTo>
                  <a:pt x="395" y="79"/>
                </a:lnTo>
                <a:lnTo>
                  <a:pt x="386" y="117"/>
                </a:lnTo>
                <a:lnTo>
                  <a:pt x="375" y="153"/>
                </a:lnTo>
                <a:lnTo>
                  <a:pt x="360" y="185"/>
                </a:lnTo>
                <a:lnTo>
                  <a:pt x="343" y="213"/>
                </a:lnTo>
                <a:lnTo>
                  <a:pt x="323" y="237"/>
                </a:lnTo>
                <a:lnTo>
                  <a:pt x="302" y="257"/>
                </a:lnTo>
                <a:lnTo>
                  <a:pt x="279" y="271"/>
                </a:lnTo>
                <a:lnTo>
                  <a:pt x="254" y="280"/>
                </a:lnTo>
                <a:lnTo>
                  <a:pt x="230" y="283"/>
                </a:lnTo>
                <a:lnTo>
                  <a:pt x="0" y="283"/>
                </a:lnTo>
                <a:lnTo>
                  <a:pt x="0" y="0"/>
                </a:lnTo>
                <a:lnTo>
                  <a:pt x="403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428920" y="2895480"/>
            <a:ext cx="911160" cy="270000"/>
          </a:xfrm>
          <a:custGeom>
            <a:avLst/>
            <a:gdLst/>
            <a:ahLst/>
            <a:rect l="l" t="t" r="r" b="b"/>
            <a:pathLst>
              <a:path w="574" h="170">
                <a:moveTo>
                  <a:pt x="288" y="170"/>
                </a:moveTo>
                <a:lnTo>
                  <a:pt x="574" y="170"/>
                </a:lnTo>
                <a:lnTo>
                  <a:pt x="574" y="0"/>
                </a:lnTo>
                <a:lnTo>
                  <a:pt x="0" y="0"/>
                </a:lnTo>
                <a:lnTo>
                  <a:pt x="3" y="25"/>
                </a:lnTo>
                <a:lnTo>
                  <a:pt x="12" y="47"/>
                </a:lnTo>
                <a:lnTo>
                  <a:pt x="26" y="70"/>
                </a:lnTo>
                <a:lnTo>
                  <a:pt x="46" y="91"/>
                </a:lnTo>
                <a:lnTo>
                  <a:pt x="71" y="111"/>
                </a:lnTo>
                <a:lnTo>
                  <a:pt x="100" y="129"/>
                </a:lnTo>
                <a:lnTo>
                  <a:pt x="132" y="142"/>
                </a:lnTo>
                <a:lnTo>
                  <a:pt x="168" y="154"/>
                </a:lnTo>
                <a:lnTo>
                  <a:pt x="207" y="162"/>
                </a:lnTo>
                <a:lnTo>
                  <a:pt x="247" y="168"/>
                </a:lnTo>
                <a:lnTo>
                  <a:pt x="288" y="17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068640" y="2895480"/>
            <a:ext cx="817560" cy="449280"/>
          </a:xfrm>
          <a:custGeom>
            <a:avLst/>
            <a:gdLst/>
            <a:ahLst/>
            <a:rect l="l" t="t" r="r" b="b"/>
            <a:pathLst>
              <a:path w="515" h="283">
                <a:moveTo>
                  <a:pt x="0" y="0"/>
                </a:moveTo>
                <a:lnTo>
                  <a:pt x="1" y="40"/>
                </a:lnTo>
                <a:lnTo>
                  <a:pt x="6" y="79"/>
                </a:lnTo>
                <a:lnTo>
                  <a:pt x="15" y="117"/>
                </a:lnTo>
                <a:lnTo>
                  <a:pt x="26" y="153"/>
                </a:lnTo>
                <a:lnTo>
                  <a:pt x="41" y="185"/>
                </a:lnTo>
                <a:lnTo>
                  <a:pt x="58" y="213"/>
                </a:lnTo>
                <a:lnTo>
                  <a:pt x="78" y="237"/>
                </a:lnTo>
                <a:lnTo>
                  <a:pt x="99" y="257"/>
                </a:lnTo>
                <a:lnTo>
                  <a:pt x="122" y="271"/>
                </a:lnTo>
                <a:lnTo>
                  <a:pt x="147" y="280"/>
                </a:lnTo>
                <a:lnTo>
                  <a:pt x="171" y="283"/>
                </a:lnTo>
                <a:lnTo>
                  <a:pt x="515" y="283"/>
                </a:lnTo>
                <a:lnTo>
                  <a:pt x="515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36680" y="5502240"/>
            <a:ext cx="728640" cy="271440"/>
          </a:xfrm>
          <a:custGeom>
            <a:avLst/>
            <a:gdLst/>
            <a:ahLst/>
            <a:rect l="l" t="t" r="r" b="b"/>
            <a:pathLst>
              <a:path w="459" h="171">
                <a:moveTo>
                  <a:pt x="229" y="171"/>
                </a:moveTo>
                <a:lnTo>
                  <a:pt x="0" y="171"/>
                </a:lnTo>
                <a:lnTo>
                  <a:pt x="0" y="0"/>
                </a:lnTo>
                <a:lnTo>
                  <a:pt x="459" y="0"/>
                </a:lnTo>
                <a:lnTo>
                  <a:pt x="456" y="27"/>
                </a:lnTo>
                <a:lnTo>
                  <a:pt x="448" y="53"/>
                </a:lnTo>
                <a:lnTo>
                  <a:pt x="434" y="77"/>
                </a:lnTo>
                <a:lnTo>
                  <a:pt x="414" y="100"/>
                </a:lnTo>
                <a:lnTo>
                  <a:pt x="391" y="121"/>
                </a:lnTo>
                <a:lnTo>
                  <a:pt x="364" y="138"/>
                </a:lnTo>
                <a:lnTo>
                  <a:pt x="333" y="151"/>
                </a:lnTo>
                <a:lnTo>
                  <a:pt x="299" y="162"/>
                </a:lnTo>
                <a:lnTo>
                  <a:pt x="264" y="168"/>
                </a:lnTo>
                <a:lnTo>
                  <a:pt x="229" y="171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89120" y="5502240"/>
            <a:ext cx="639720" cy="450720"/>
          </a:xfrm>
          <a:custGeom>
            <a:avLst/>
            <a:gdLst/>
            <a:ahLst/>
            <a:rect l="l" t="t" r="r" b="b"/>
            <a:pathLst>
              <a:path w="403" h="284">
                <a:moveTo>
                  <a:pt x="403" y="0"/>
                </a:moveTo>
                <a:lnTo>
                  <a:pt x="400" y="41"/>
                </a:lnTo>
                <a:lnTo>
                  <a:pt x="395" y="80"/>
                </a:lnTo>
                <a:lnTo>
                  <a:pt x="386" y="118"/>
                </a:lnTo>
                <a:lnTo>
                  <a:pt x="375" y="153"/>
                </a:lnTo>
                <a:lnTo>
                  <a:pt x="360" y="186"/>
                </a:lnTo>
                <a:lnTo>
                  <a:pt x="343" y="215"/>
                </a:lnTo>
                <a:lnTo>
                  <a:pt x="323" y="239"/>
                </a:lnTo>
                <a:lnTo>
                  <a:pt x="302" y="258"/>
                </a:lnTo>
                <a:lnTo>
                  <a:pt x="279" y="272"/>
                </a:lnTo>
                <a:lnTo>
                  <a:pt x="254" y="281"/>
                </a:lnTo>
                <a:lnTo>
                  <a:pt x="230" y="284"/>
                </a:lnTo>
                <a:lnTo>
                  <a:pt x="0" y="284"/>
                </a:lnTo>
                <a:lnTo>
                  <a:pt x="0" y="0"/>
                </a:lnTo>
                <a:lnTo>
                  <a:pt x="403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428920" y="5502240"/>
            <a:ext cx="728640" cy="271440"/>
          </a:xfrm>
          <a:custGeom>
            <a:avLst/>
            <a:gdLst/>
            <a:ahLst/>
            <a:rect l="l" t="t" r="r" b="b"/>
            <a:pathLst>
              <a:path w="459" h="171">
                <a:moveTo>
                  <a:pt x="230" y="171"/>
                </a:moveTo>
                <a:lnTo>
                  <a:pt x="459" y="171"/>
                </a:lnTo>
                <a:lnTo>
                  <a:pt x="459" y="0"/>
                </a:lnTo>
                <a:lnTo>
                  <a:pt x="0" y="0"/>
                </a:lnTo>
                <a:lnTo>
                  <a:pt x="3" y="27"/>
                </a:lnTo>
                <a:lnTo>
                  <a:pt x="11" y="53"/>
                </a:lnTo>
                <a:lnTo>
                  <a:pt x="25" y="77"/>
                </a:lnTo>
                <a:lnTo>
                  <a:pt x="45" y="100"/>
                </a:lnTo>
                <a:lnTo>
                  <a:pt x="67" y="121"/>
                </a:lnTo>
                <a:lnTo>
                  <a:pt x="95" y="138"/>
                </a:lnTo>
                <a:lnTo>
                  <a:pt x="126" y="151"/>
                </a:lnTo>
                <a:lnTo>
                  <a:pt x="159" y="162"/>
                </a:lnTo>
                <a:lnTo>
                  <a:pt x="195" y="168"/>
                </a:lnTo>
                <a:lnTo>
                  <a:pt x="230" y="171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068640" y="5502240"/>
            <a:ext cx="817560" cy="450720"/>
          </a:xfrm>
          <a:custGeom>
            <a:avLst/>
            <a:gdLst/>
            <a:ahLst/>
            <a:rect l="l" t="t" r="r" b="b"/>
            <a:pathLst>
              <a:path w="515" h="284">
                <a:moveTo>
                  <a:pt x="0" y="0"/>
                </a:moveTo>
                <a:lnTo>
                  <a:pt x="1" y="41"/>
                </a:lnTo>
                <a:lnTo>
                  <a:pt x="6" y="80"/>
                </a:lnTo>
                <a:lnTo>
                  <a:pt x="15" y="118"/>
                </a:lnTo>
                <a:lnTo>
                  <a:pt x="26" y="153"/>
                </a:lnTo>
                <a:lnTo>
                  <a:pt x="41" y="186"/>
                </a:lnTo>
                <a:lnTo>
                  <a:pt x="58" y="215"/>
                </a:lnTo>
                <a:lnTo>
                  <a:pt x="78" y="239"/>
                </a:lnTo>
                <a:lnTo>
                  <a:pt x="99" y="258"/>
                </a:lnTo>
                <a:lnTo>
                  <a:pt x="122" y="272"/>
                </a:lnTo>
                <a:lnTo>
                  <a:pt x="147" y="281"/>
                </a:lnTo>
                <a:lnTo>
                  <a:pt x="171" y="284"/>
                </a:lnTo>
                <a:lnTo>
                  <a:pt x="515" y="284"/>
                </a:lnTo>
                <a:lnTo>
                  <a:pt x="515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62120" y="3686040"/>
            <a:ext cx="3124080" cy="4366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352680" y="3665520"/>
            <a:ext cx="365400" cy="1810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29000" y="2598840"/>
            <a:ext cx="182520" cy="10778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066680" y="3665520"/>
            <a:ext cx="728640" cy="17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648320" y="3184560"/>
            <a:ext cx="4647960" cy="19360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andle wafer provides mechanical support and ease of wafer hand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rong enough to withstand subsequent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ase of rel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0" y="2070000"/>
            <a:ext cx="4495680" cy="9471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SOI Wafer is attached to a handle wa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14800" y="1913040"/>
            <a:ext cx="4952880" cy="4412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SOI Wafer Thi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876920" y="2593800"/>
            <a:ext cx="4038480" cy="35913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OI wafer etch 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combination of mechanical grinding, plasma dry etch and chemical wet e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dvantage of SOI – Etch stop on 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495680" y="1843200"/>
            <a:ext cx="5105520" cy="4412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Cu Via and Pad 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800600" y="2516040"/>
            <a:ext cx="4800600" cy="13816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Via etch, passivation, barrier layer and f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u Pad for bo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419720" y="1854360"/>
            <a:ext cx="5257800" cy="2244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Precision alignment and bo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67573-3227-41AE-B4A6-F2D3A9AD5F6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865080" y="3619440"/>
            <a:ext cx="3097440" cy="360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38080" y="3581280"/>
            <a:ext cx="3124440" cy="4366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57160" y="5429160"/>
            <a:ext cx="3095640" cy="8892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57160" y="4718160"/>
            <a:ext cx="3095640" cy="711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76520" y="5160960"/>
            <a:ext cx="180720" cy="268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68760" y="5160960"/>
            <a:ext cx="180720" cy="268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57160" y="4983120"/>
            <a:ext cx="1092240" cy="177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678040" y="4983120"/>
            <a:ext cx="1274760" cy="177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131920" y="5160960"/>
            <a:ext cx="363600" cy="268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495600" y="4718160"/>
            <a:ext cx="182520" cy="2649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52480" y="3559320"/>
            <a:ext cx="3095640" cy="5331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398600" y="3559320"/>
            <a:ext cx="728640" cy="264960"/>
          </a:xfrm>
          <a:custGeom>
            <a:avLst/>
            <a:gdLst/>
            <a:ahLst/>
            <a:rect l="l" t="t" r="r" b="b"/>
            <a:pathLst>
              <a:path w="459" h="167">
                <a:moveTo>
                  <a:pt x="459" y="0"/>
                </a:moveTo>
                <a:lnTo>
                  <a:pt x="0" y="0"/>
                </a:lnTo>
                <a:lnTo>
                  <a:pt x="3" y="25"/>
                </a:lnTo>
                <a:lnTo>
                  <a:pt x="11" y="50"/>
                </a:lnTo>
                <a:lnTo>
                  <a:pt x="25" y="76"/>
                </a:lnTo>
                <a:lnTo>
                  <a:pt x="45" y="98"/>
                </a:lnTo>
                <a:lnTo>
                  <a:pt x="68" y="118"/>
                </a:lnTo>
                <a:lnTo>
                  <a:pt x="95" y="135"/>
                </a:lnTo>
                <a:lnTo>
                  <a:pt x="126" y="149"/>
                </a:lnTo>
                <a:lnTo>
                  <a:pt x="159" y="158"/>
                </a:lnTo>
                <a:lnTo>
                  <a:pt x="194" y="165"/>
                </a:lnTo>
                <a:lnTo>
                  <a:pt x="230" y="167"/>
                </a:lnTo>
                <a:lnTo>
                  <a:pt x="265" y="165"/>
                </a:lnTo>
                <a:lnTo>
                  <a:pt x="300" y="158"/>
                </a:lnTo>
                <a:lnTo>
                  <a:pt x="334" y="149"/>
                </a:lnTo>
                <a:lnTo>
                  <a:pt x="364" y="135"/>
                </a:lnTo>
                <a:lnTo>
                  <a:pt x="392" y="118"/>
                </a:lnTo>
                <a:lnTo>
                  <a:pt x="415" y="98"/>
                </a:lnTo>
                <a:lnTo>
                  <a:pt x="435" y="76"/>
                </a:lnTo>
                <a:lnTo>
                  <a:pt x="448" y="50"/>
                </a:lnTo>
                <a:lnTo>
                  <a:pt x="456" y="25"/>
                </a:lnTo>
                <a:lnTo>
                  <a:pt x="459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490840" y="3559320"/>
            <a:ext cx="728640" cy="264960"/>
          </a:xfrm>
          <a:custGeom>
            <a:avLst/>
            <a:gdLst/>
            <a:ahLst/>
            <a:rect l="l" t="t" r="r" b="b"/>
            <a:pathLst>
              <a:path w="459" h="167">
                <a:moveTo>
                  <a:pt x="459" y="0"/>
                </a:moveTo>
                <a:lnTo>
                  <a:pt x="0" y="0"/>
                </a:lnTo>
                <a:lnTo>
                  <a:pt x="3" y="25"/>
                </a:lnTo>
                <a:lnTo>
                  <a:pt x="11" y="50"/>
                </a:lnTo>
                <a:lnTo>
                  <a:pt x="25" y="76"/>
                </a:lnTo>
                <a:lnTo>
                  <a:pt x="45" y="98"/>
                </a:lnTo>
                <a:lnTo>
                  <a:pt x="68" y="118"/>
                </a:lnTo>
                <a:lnTo>
                  <a:pt x="95" y="135"/>
                </a:lnTo>
                <a:lnTo>
                  <a:pt x="126" y="149"/>
                </a:lnTo>
                <a:lnTo>
                  <a:pt x="159" y="158"/>
                </a:lnTo>
                <a:lnTo>
                  <a:pt x="195" y="165"/>
                </a:lnTo>
                <a:lnTo>
                  <a:pt x="230" y="167"/>
                </a:lnTo>
                <a:lnTo>
                  <a:pt x="265" y="165"/>
                </a:lnTo>
                <a:lnTo>
                  <a:pt x="300" y="158"/>
                </a:lnTo>
                <a:lnTo>
                  <a:pt x="334" y="149"/>
                </a:lnTo>
                <a:lnTo>
                  <a:pt x="364" y="135"/>
                </a:lnTo>
                <a:lnTo>
                  <a:pt x="392" y="118"/>
                </a:lnTo>
                <a:lnTo>
                  <a:pt x="415" y="98"/>
                </a:lnTo>
                <a:lnTo>
                  <a:pt x="435" y="76"/>
                </a:lnTo>
                <a:lnTo>
                  <a:pt x="448" y="50"/>
                </a:lnTo>
                <a:lnTo>
                  <a:pt x="456" y="25"/>
                </a:lnTo>
                <a:lnTo>
                  <a:pt x="459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52480" y="2847960"/>
            <a:ext cx="3095640" cy="711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673280" y="3290760"/>
            <a:ext cx="182520" cy="268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765520" y="3290760"/>
            <a:ext cx="182520" cy="268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52480" y="3112920"/>
            <a:ext cx="1092240" cy="177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673360" y="3112920"/>
            <a:ext cx="1274760" cy="177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27240" y="3290760"/>
            <a:ext cx="363600" cy="268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838080" y="2271600"/>
            <a:ext cx="3124440" cy="623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128600" y="4540320"/>
            <a:ext cx="728640" cy="1778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398600" y="3559320"/>
            <a:ext cx="728640" cy="264960"/>
          </a:xfrm>
          <a:custGeom>
            <a:avLst/>
            <a:gdLst/>
            <a:ahLst/>
            <a:rect l="l" t="t" r="r" b="b"/>
            <a:pathLst>
              <a:path w="459" h="167">
                <a:moveTo>
                  <a:pt x="230" y="167"/>
                </a:moveTo>
                <a:lnTo>
                  <a:pt x="0" y="167"/>
                </a:lnTo>
                <a:lnTo>
                  <a:pt x="0" y="0"/>
                </a:lnTo>
                <a:lnTo>
                  <a:pt x="459" y="0"/>
                </a:lnTo>
                <a:lnTo>
                  <a:pt x="456" y="25"/>
                </a:lnTo>
                <a:lnTo>
                  <a:pt x="448" y="50"/>
                </a:lnTo>
                <a:lnTo>
                  <a:pt x="435" y="76"/>
                </a:lnTo>
                <a:lnTo>
                  <a:pt x="415" y="98"/>
                </a:lnTo>
                <a:lnTo>
                  <a:pt x="392" y="118"/>
                </a:lnTo>
                <a:lnTo>
                  <a:pt x="364" y="135"/>
                </a:lnTo>
                <a:lnTo>
                  <a:pt x="334" y="149"/>
                </a:lnTo>
                <a:lnTo>
                  <a:pt x="300" y="158"/>
                </a:lnTo>
                <a:lnTo>
                  <a:pt x="265" y="165"/>
                </a:lnTo>
                <a:lnTo>
                  <a:pt x="230" y="167"/>
                </a:lnTo>
                <a:close/>
              </a:path>
            </a:pathLst>
          </a:custGeom>
          <a:solidFill>
            <a:srgbClr val="ffff06"/>
          </a:solidFill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852480" y="3559320"/>
            <a:ext cx="638280" cy="442800"/>
          </a:xfrm>
          <a:custGeom>
            <a:avLst/>
            <a:gdLst/>
            <a:ahLst/>
            <a:rect l="l" t="t" r="r" b="b"/>
            <a:pathLst>
              <a:path w="402" h="279">
                <a:moveTo>
                  <a:pt x="402" y="0"/>
                </a:moveTo>
                <a:lnTo>
                  <a:pt x="399" y="38"/>
                </a:lnTo>
                <a:lnTo>
                  <a:pt x="395" y="77"/>
                </a:lnTo>
                <a:lnTo>
                  <a:pt x="386" y="115"/>
                </a:lnTo>
                <a:lnTo>
                  <a:pt x="375" y="150"/>
                </a:lnTo>
                <a:lnTo>
                  <a:pt x="360" y="182"/>
                </a:lnTo>
                <a:lnTo>
                  <a:pt x="343" y="210"/>
                </a:lnTo>
                <a:lnTo>
                  <a:pt x="323" y="234"/>
                </a:lnTo>
                <a:lnTo>
                  <a:pt x="301" y="253"/>
                </a:lnTo>
                <a:lnTo>
                  <a:pt x="278" y="267"/>
                </a:lnTo>
                <a:lnTo>
                  <a:pt x="254" y="276"/>
                </a:lnTo>
                <a:lnTo>
                  <a:pt x="230" y="279"/>
                </a:lnTo>
                <a:lnTo>
                  <a:pt x="0" y="279"/>
                </a:lnTo>
                <a:lnTo>
                  <a:pt x="0" y="0"/>
                </a:lnTo>
                <a:lnTo>
                  <a:pt x="402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490840" y="3559320"/>
            <a:ext cx="911160" cy="264960"/>
          </a:xfrm>
          <a:custGeom>
            <a:avLst/>
            <a:gdLst/>
            <a:ahLst/>
            <a:rect l="l" t="t" r="r" b="b"/>
            <a:pathLst>
              <a:path w="574" h="167">
                <a:moveTo>
                  <a:pt x="288" y="167"/>
                </a:moveTo>
                <a:lnTo>
                  <a:pt x="574" y="167"/>
                </a:lnTo>
                <a:lnTo>
                  <a:pt x="574" y="0"/>
                </a:lnTo>
                <a:lnTo>
                  <a:pt x="0" y="0"/>
                </a:lnTo>
                <a:lnTo>
                  <a:pt x="3" y="23"/>
                </a:lnTo>
                <a:lnTo>
                  <a:pt x="13" y="46"/>
                </a:lnTo>
                <a:lnTo>
                  <a:pt x="26" y="68"/>
                </a:lnTo>
                <a:lnTo>
                  <a:pt x="46" y="89"/>
                </a:lnTo>
                <a:lnTo>
                  <a:pt x="71" y="109"/>
                </a:lnTo>
                <a:lnTo>
                  <a:pt x="100" y="126"/>
                </a:lnTo>
                <a:lnTo>
                  <a:pt x="132" y="140"/>
                </a:lnTo>
                <a:lnTo>
                  <a:pt x="169" y="152"/>
                </a:lnTo>
                <a:lnTo>
                  <a:pt x="207" y="159"/>
                </a:lnTo>
                <a:lnTo>
                  <a:pt x="247" y="165"/>
                </a:lnTo>
                <a:lnTo>
                  <a:pt x="288" y="16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130560" y="3559320"/>
            <a:ext cx="817560" cy="442800"/>
          </a:xfrm>
          <a:custGeom>
            <a:avLst/>
            <a:gdLst/>
            <a:ahLst/>
            <a:rect l="l" t="t" r="r" b="b"/>
            <a:pathLst>
              <a:path w="515" h="279">
                <a:moveTo>
                  <a:pt x="0" y="0"/>
                </a:moveTo>
                <a:lnTo>
                  <a:pt x="1" y="38"/>
                </a:lnTo>
                <a:lnTo>
                  <a:pt x="6" y="77"/>
                </a:lnTo>
                <a:lnTo>
                  <a:pt x="15" y="115"/>
                </a:lnTo>
                <a:lnTo>
                  <a:pt x="26" y="150"/>
                </a:lnTo>
                <a:lnTo>
                  <a:pt x="41" y="182"/>
                </a:lnTo>
                <a:lnTo>
                  <a:pt x="58" y="210"/>
                </a:lnTo>
                <a:lnTo>
                  <a:pt x="77" y="234"/>
                </a:lnTo>
                <a:lnTo>
                  <a:pt x="99" y="253"/>
                </a:lnTo>
                <a:lnTo>
                  <a:pt x="122" y="267"/>
                </a:lnTo>
                <a:lnTo>
                  <a:pt x="146" y="276"/>
                </a:lnTo>
                <a:lnTo>
                  <a:pt x="171" y="279"/>
                </a:lnTo>
                <a:lnTo>
                  <a:pt x="515" y="279"/>
                </a:lnTo>
                <a:lnTo>
                  <a:pt x="515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403280" y="5429160"/>
            <a:ext cx="728640" cy="265320"/>
          </a:xfrm>
          <a:custGeom>
            <a:avLst/>
            <a:gdLst/>
            <a:ahLst/>
            <a:rect l="l" t="t" r="r" b="b"/>
            <a:pathLst>
              <a:path w="459" h="167">
                <a:moveTo>
                  <a:pt x="230" y="167"/>
                </a:moveTo>
                <a:lnTo>
                  <a:pt x="0" y="167"/>
                </a:lnTo>
                <a:lnTo>
                  <a:pt x="0" y="0"/>
                </a:lnTo>
                <a:lnTo>
                  <a:pt x="459" y="0"/>
                </a:lnTo>
                <a:lnTo>
                  <a:pt x="456" y="25"/>
                </a:lnTo>
                <a:lnTo>
                  <a:pt x="448" y="52"/>
                </a:lnTo>
                <a:lnTo>
                  <a:pt x="435" y="76"/>
                </a:lnTo>
                <a:lnTo>
                  <a:pt x="415" y="98"/>
                </a:lnTo>
                <a:lnTo>
                  <a:pt x="392" y="118"/>
                </a:lnTo>
                <a:lnTo>
                  <a:pt x="364" y="135"/>
                </a:lnTo>
                <a:lnTo>
                  <a:pt x="334" y="149"/>
                </a:lnTo>
                <a:lnTo>
                  <a:pt x="300" y="159"/>
                </a:lnTo>
                <a:lnTo>
                  <a:pt x="265" y="165"/>
                </a:lnTo>
                <a:lnTo>
                  <a:pt x="230" y="167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57160" y="5429160"/>
            <a:ext cx="636840" cy="443160"/>
          </a:xfrm>
          <a:custGeom>
            <a:avLst/>
            <a:gdLst/>
            <a:ahLst/>
            <a:rect l="l" t="t" r="r" b="b"/>
            <a:pathLst>
              <a:path w="401" h="279">
                <a:moveTo>
                  <a:pt x="401" y="0"/>
                </a:moveTo>
                <a:lnTo>
                  <a:pt x="399" y="40"/>
                </a:lnTo>
                <a:lnTo>
                  <a:pt x="395" y="79"/>
                </a:lnTo>
                <a:lnTo>
                  <a:pt x="386" y="116"/>
                </a:lnTo>
                <a:lnTo>
                  <a:pt x="375" y="150"/>
                </a:lnTo>
                <a:lnTo>
                  <a:pt x="360" y="183"/>
                </a:lnTo>
                <a:lnTo>
                  <a:pt x="343" y="212"/>
                </a:lnTo>
                <a:lnTo>
                  <a:pt x="323" y="236"/>
                </a:lnTo>
                <a:lnTo>
                  <a:pt x="301" y="253"/>
                </a:lnTo>
                <a:lnTo>
                  <a:pt x="279" y="268"/>
                </a:lnTo>
                <a:lnTo>
                  <a:pt x="254" y="276"/>
                </a:lnTo>
                <a:lnTo>
                  <a:pt x="230" y="279"/>
                </a:lnTo>
                <a:lnTo>
                  <a:pt x="0" y="279"/>
                </a:lnTo>
                <a:lnTo>
                  <a:pt x="0" y="0"/>
                </a:lnTo>
                <a:lnTo>
                  <a:pt x="401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495520" y="5429160"/>
            <a:ext cx="728640" cy="265320"/>
          </a:xfrm>
          <a:custGeom>
            <a:avLst/>
            <a:gdLst/>
            <a:ahLst/>
            <a:rect l="l" t="t" r="r" b="b"/>
            <a:pathLst>
              <a:path w="459" h="167">
                <a:moveTo>
                  <a:pt x="230" y="167"/>
                </a:moveTo>
                <a:lnTo>
                  <a:pt x="459" y="167"/>
                </a:lnTo>
                <a:lnTo>
                  <a:pt x="459" y="0"/>
                </a:lnTo>
                <a:lnTo>
                  <a:pt x="0" y="0"/>
                </a:lnTo>
                <a:lnTo>
                  <a:pt x="3" y="25"/>
                </a:lnTo>
                <a:lnTo>
                  <a:pt x="11" y="52"/>
                </a:lnTo>
                <a:lnTo>
                  <a:pt x="25" y="76"/>
                </a:lnTo>
                <a:lnTo>
                  <a:pt x="45" y="98"/>
                </a:lnTo>
                <a:lnTo>
                  <a:pt x="68" y="118"/>
                </a:lnTo>
                <a:lnTo>
                  <a:pt x="95" y="135"/>
                </a:lnTo>
                <a:lnTo>
                  <a:pt x="126" y="149"/>
                </a:lnTo>
                <a:lnTo>
                  <a:pt x="159" y="159"/>
                </a:lnTo>
                <a:lnTo>
                  <a:pt x="193" y="165"/>
                </a:lnTo>
                <a:lnTo>
                  <a:pt x="230" y="167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132000" y="5429160"/>
            <a:ext cx="820800" cy="443160"/>
          </a:xfrm>
          <a:custGeom>
            <a:avLst/>
            <a:gdLst/>
            <a:ahLst/>
            <a:rect l="l" t="t" r="r" b="b"/>
            <a:pathLst>
              <a:path w="517" h="279">
                <a:moveTo>
                  <a:pt x="0" y="0"/>
                </a:moveTo>
                <a:lnTo>
                  <a:pt x="3" y="40"/>
                </a:lnTo>
                <a:lnTo>
                  <a:pt x="8" y="79"/>
                </a:lnTo>
                <a:lnTo>
                  <a:pt x="17" y="116"/>
                </a:lnTo>
                <a:lnTo>
                  <a:pt x="28" y="150"/>
                </a:lnTo>
                <a:lnTo>
                  <a:pt x="43" y="183"/>
                </a:lnTo>
                <a:lnTo>
                  <a:pt x="60" y="212"/>
                </a:lnTo>
                <a:lnTo>
                  <a:pt x="80" y="236"/>
                </a:lnTo>
                <a:lnTo>
                  <a:pt x="101" y="253"/>
                </a:lnTo>
                <a:lnTo>
                  <a:pt x="124" y="268"/>
                </a:lnTo>
                <a:lnTo>
                  <a:pt x="148" y="276"/>
                </a:lnTo>
                <a:lnTo>
                  <a:pt x="173" y="279"/>
                </a:lnTo>
                <a:lnTo>
                  <a:pt x="517" y="279"/>
                </a:lnTo>
                <a:lnTo>
                  <a:pt x="517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06680" y="4316400"/>
            <a:ext cx="363600" cy="223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128600" y="4272120"/>
            <a:ext cx="728640" cy="2682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52480" y="4092480"/>
            <a:ext cx="3095640" cy="265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494160" y="3290760"/>
            <a:ext cx="182520" cy="10670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406680" y="4449600"/>
            <a:ext cx="363600" cy="2685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62120" y="2209680"/>
            <a:ext cx="3276360" cy="6858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800600" y="2884320"/>
            <a:ext cx="4800600" cy="34160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ptical align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Back-to-face bon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Cu to Cu Bo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Via pad is for electrical conn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Dummy pad is to increase bonding str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419720" y="1676520"/>
            <a:ext cx="5257800" cy="9471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Precision alignment and bo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724280" y="1752480"/>
            <a:ext cx="4876920" cy="4876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Handle Wafer Rel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00600" y="2438280"/>
            <a:ext cx="4495680" cy="37576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ast process is required to minimize damage to the 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F2743-F9E1-4054-AC0B-E18D2CA0CEA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bonding_protocol_b" descr=""/>
          <p:cNvPicPr/>
          <p:nvPr/>
        </p:nvPicPr>
        <p:blipFill>
          <a:blip r:embed="rId1"/>
          <a:stretch/>
        </p:blipFill>
        <p:spPr>
          <a:xfrm>
            <a:off x="6539040" y="2997360"/>
            <a:ext cx="1995480" cy="3098520"/>
          </a:xfrm>
          <a:prstGeom prst="rect">
            <a:avLst/>
          </a:prstGeom>
          <a:ln w="0">
            <a:noFill/>
          </a:ln>
        </p:spPr>
      </p:pic>
      <p:pic>
        <p:nvPicPr>
          <p:cNvPr id="390" name="F" descr=""/>
          <p:cNvPicPr/>
          <p:nvPr/>
        </p:nvPicPr>
        <p:blipFill>
          <a:blip r:embed="rId2"/>
          <a:stretch/>
        </p:blipFill>
        <p:spPr>
          <a:xfrm>
            <a:off x="685800" y="2286000"/>
            <a:ext cx="2290680" cy="1730520"/>
          </a:xfrm>
          <a:prstGeom prst="rect">
            <a:avLst/>
          </a:prstGeom>
          <a:ln w="0">
            <a:noFill/>
          </a:ln>
        </p:spPr>
      </p:pic>
      <p:pic>
        <p:nvPicPr>
          <p:cNvPr id="391" name="Fig1" descr=""/>
          <p:cNvPicPr/>
          <p:nvPr/>
        </p:nvPicPr>
        <p:blipFill>
          <a:blip r:embed="rId3"/>
          <a:stretch/>
        </p:blipFill>
        <p:spPr>
          <a:xfrm>
            <a:off x="3200400" y="4572000"/>
            <a:ext cx="2228760" cy="168120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1087560" y="1157400"/>
            <a:ext cx="706572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Verdana"/>
              </a:rPr>
              <a:t>Cu Contact Bonding</a:t>
            </a: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702480" y="2286000"/>
            <a:ext cx="2141280" cy="417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Verdana"/>
                <a:ea typeface="PMingLiU"/>
              </a:rPr>
              <a:t>10 µ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PMingLiU"/>
              </a:rPr>
              <a:t>m conta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" name="c1" descr=""/>
          <p:cNvPicPr/>
          <p:nvPr/>
        </p:nvPicPr>
        <p:blipFill>
          <a:blip r:embed="rId4"/>
          <a:stretch/>
        </p:blipFill>
        <p:spPr>
          <a:xfrm>
            <a:off x="3200400" y="2286000"/>
            <a:ext cx="2286000" cy="1725480"/>
          </a:xfrm>
          <a:prstGeom prst="rect">
            <a:avLst/>
          </a:prstGeom>
          <a:ln w="0">
            <a:noFill/>
          </a:ln>
        </p:spPr>
      </p:pic>
      <p:pic>
        <p:nvPicPr>
          <p:cNvPr id="395" name="e1" descr=""/>
          <p:cNvPicPr/>
          <p:nvPr/>
        </p:nvPicPr>
        <p:blipFill>
          <a:blip r:embed="rId5"/>
          <a:stretch/>
        </p:blipFill>
        <p:spPr>
          <a:xfrm>
            <a:off x="685800" y="4495680"/>
            <a:ext cx="2286000" cy="172728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3811680" y="2441520"/>
            <a:ext cx="142668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zh-TW" sz="1400" spc="-1" strike="noStrike">
                <a:solidFill>
                  <a:srgbClr val="ffffff"/>
                </a:solidFill>
                <a:latin typeface="Verdana"/>
                <a:ea typeface="PMingLiU"/>
              </a:rPr>
              <a:t>10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PMingLiU"/>
              </a:rPr>
              <a:t>um cont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184200" y="2133720"/>
            <a:ext cx="10065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PMingLiU"/>
              </a:rPr>
              <a:t>SEM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179520" y="4343400"/>
            <a:ext cx="101124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PMingLiU"/>
              </a:rPr>
              <a:t>TEM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69600" y="4267080"/>
            <a:ext cx="10065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PMingLiU"/>
              </a:rPr>
              <a:t>SEM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69600" y="2133720"/>
            <a:ext cx="10065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PMingLiU"/>
              </a:rPr>
              <a:t>SEM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905120" y="4876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752480" y="28195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26668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848720" y="624852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(K.N.Ch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FE8AC-9463-414B-8593-5131080C4F9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1905120" y="269712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AD Tool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CF35B-5BC3-4969-B274-CF41C99A69B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254160" y="89280"/>
            <a:ext cx="86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FFT – Energy Consump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248520" y="1600200"/>
            <a:ext cx="3036600" cy="46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76200" indent="-3762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7% - 40% reduction in switching ener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obtain almost all the energy savings while maintaining cycle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8" name="FFT_energy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5649840" cy="4241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9B4F7-DC5C-43A0-A6A2-915E16BDE9C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762120" y="91440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Futu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85341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-376200">
              <a:spcBef>
                <a:spcPts val="876"/>
              </a:spcBef>
              <a:buClr>
                <a:srgbClr val="ffffff"/>
              </a:buClr>
              <a:buFont typeface="Times New Roman"/>
              <a:buChar char="•"/>
              <a:tabLst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Introduce nanotubes/nanowire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2840">
              <a:spcBef>
                <a:spcPts val="774"/>
              </a:spcBef>
              <a:buClr>
                <a:srgbClr val="ffffff"/>
              </a:buClr>
              <a:buFont typeface="Times New Roman"/>
              <a:buChar char="–"/>
              <a:tabLst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Develop active/passive interconnects (wires that process and/or transmit information)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2840">
              <a:spcBef>
                <a:spcPts val="774"/>
              </a:spcBef>
              <a:buClr>
                <a:srgbClr val="ffffff"/>
              </a:buClr>
              <a:buFont typeface="Times New Roman"/>
              <a:buChar char="–"/>
              <a:tabLst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Develop insulators with high thermal conductivities (thermal profiles)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2840">
              <a:spcBef>
                <a:spcPts val="774"/>
              </a:spcBef>
              <a:buClr>
                <a:srgbClr val="ffffff"/>
              </a:buClr>
              <a:buFont typeface="Times New Roman"/>
              <a:buChar char="–"/>
              <a:tabLst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Develop nano-inductors (RF applications)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0">
              <a:spcBef>
                <a:spcPts val="774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282AB-7BD2-46A7-B954-711B13718F5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927520"/>
            <a:ext cx="1005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19120"/>
            <a:ext cx="8915400" cy="19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3-D Integrated Circuits (3-D I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vertical stack of multiple device and interconnect layers connected together by interlayer vertical v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562120"/>
            <a:ext cx="1005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800600" y="56530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evice/Interconnec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19720" y="58672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648320" y="4191120"/>
            <a:ext cx="32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nterlayer Vertical V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027080" y="3886200"/>
            <a:ext cx="3773520" cy="23954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 flipH="1">
            <a:off x="4343040" y="4343400"/>
            <a:ext cx="60948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F30A4-5161-4177-9857-F7E5DA94CBF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752480" y="1143000"/>
            <a:ext cx="5867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3-D IC with Cu-Cu Wafer Bo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119440" y="5911920"/>
            <a:ext cx="152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(R. Reif, MI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2057400"/>
            <a:ext cx="2803680" cy="3581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990720" y="236232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terlayer Vertical V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2590560" y="3200400"/>
            <a:ext cx="609480" cy="53352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371808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u-Cu Bo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943600" y="1995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943600" y="2224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943600" y="24526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43600" y="37339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943600" y="4038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943600" y="43434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943600" y="33526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943600" y="29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L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943600" y="4952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L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5850000"/>
            <a:ext cx="3809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L – Device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 – Metal Interconnec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EBE1D-0A80-4FFD-9E82-C89FEE9378B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54160" y="210960"/>
            <a:ext cx="863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How Does 3-D Integration Help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5240" y="1371600"/>
            <a:ext cx="4330440" cy="46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eater number of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earest neighbor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for a given transis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ery transistor, gate, and module has increased wiring bandwid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connect distribution becomes shif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ewer global wires, more local w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ergy consumption and cycle time redu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re effective use of Si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00800" y="2747880"/>
            <a:ext cx="2262240" cy="2129040"/>
          </a:xfrm>
          <a:custGeom>
            <a:avLst/>
            <a:gdLst/>
            <a:ahLst/>
            <a:rect l="l" t="t" r="r" b="b"/>
            <a:pathLst>
              <a:path w="1152" h="864">
                <a:moveTo>
                  <a:pt x="0" y="0"/>
                </a:moveTo>
                <a:cubicBezTo>
                  <a:pt x="148" y="40"/>
                  <a:pt x="296" y="80"/>
                  <a:pt x="432" y="144"/>
                </a:cubicBezTo>
                <a:cubicBezTo>
                  <a:pt x="568" y="208"/>
                  <a:pt x="712" y="296"/>
                  <a:pt x="816" y="384"/>
                </a:cubicBezTo>
                <a:cubicBezTo>
                  <a:pt x="920" y="472"/>
                  <a:pt x="1000" y="592"/>
                  <a:pt x="1056" y="672"/>
                </a:cubicBezTo>
                <a:cubicBezTo>
                  <a:pt x="1112" y="752"/>
                  <a:pt x="1136" y="832"/>
                  <a:pt x="1152" y="864"/>
                </a:cubicBezTo>
              </a:path>
            </a:pathLst>
          </a:custGeom>
          <a:noFill/>
          <a:ln w="1908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00800" y="2984400"/>
            <a:ext cx="2733480" cy="1892520"/>
          </a:xfrm>
          <a:custGeom>
            <a:avLst/>
            <a:gdLst/>
            <a:ahLst/>
            <a:rect l="l" t="t" r="r" b="b"/>
            <a:pathLst>
              <a:path w="1392" h="768">
                <a:moveTo>
                  <a:pt x="0" y="0"/>
                </a:moveTo>
                <a:cubicBezTo>
                  <a:pt x="124" y="8"/>
                  <a:pt x="248" y="16"/>
                  <a:pt x="384" y="48"/>
                </a:cubicBezTo>
                <a:cubicBezTo>
                  <a:pt x="520" y="80"/>
                  <a:pt x="696" y="136"/>
                  <a:pt x="816" y="192"/>
                </a:cubicBezTo>
                <a:cubicBezTo>
                  <a:pt x="936" y="248"/>
                  <a:pt x="1008" y="288"/>
                  <a:pt x="1104" y="384"/>
                </a:cubicBezTo>
                <a:cubicBezTo>
                  <a:pt x="1200" y="480"/>
                  <a:pt x="1344" y="704"/>
                  <a:pt x="1392" y="768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384240" y="4954680"/>
            <a:ext cx="116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ire-leng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6220400">
            <a:off x="4038120" y="3429720"/>
            <a:ext cx="22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umber of Interconn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7000" y="2133720"/>
            <a:ext cx="146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Log-Log Plo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480800" y="2630520"/>
            <a:ext cx="695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2-D 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ff"/>
                </a:solidFill>
                <a:latin typeface="Arial"/>
              </a:rPr>
              <a:t>3-D 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008840" y="3576600"/>
            <a:ext cx="0" cy="130032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102440" y="3457440"/>
            <a:ext cx="0" cy="14194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500800" y="4876920"/>
            <a:ext cx="31096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500800" y="2393640"/>
            <a:ext cx="0" cy="248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7667280" y="4521240"/>
            <a:ext cx="377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7385040" y="4048200"/>
            <a:ext cx="378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894B6-BFEA-4537-BA14-BD677284A6E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990720" y="1066680"/>
            <a:ext cx="611820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700" spc="-1" strike="noStrike">
                <a:solidFill>
                  <a:srgbClr val="ffff00"/>
                </a:solidFill>
                <a:latin typeface="Verdana"/>
              </a:rPr>
              <a:t>Digital Block Partition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669960" y="2849400"/>
            <a:ext cx="4862160" cy="2628000"/>
            <a:chOff x="669960" y="2849400"/>
            <a:chExt cx="4862160" cy="2628000"/>
          </a:xfrm>
        </p:grpSpPr>
        <p:sp>
          <p:nvSpPr>
            <p:cNvPr id="86" name=""/>
            <p:cNvSpPr/>
            <p:nvPr/>
          </p:nvSpPr>
          <p:spPr>
            <a:xfrm>
              <a:off x="2011320" y="4963320"/>
              <a:ext cx="125748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880" rIns="101880" tIns="51120" bIns="51120" anchor="t">
              <a:spAutoFit/>
            </a:bodyPr>
            <a:p>
              <a:pPr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Verdana"/>
                </a:rPr>
                <a:t>2D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7" name=""/>
            <p:cNvGraphicFramePr/>
            <p:nvPr/>
          </p:nvGraphicFramePr>
          <p:xfrm>
            <a:off x="669960" y="2849400"/>
            <a:ext cx="4862160" cy="1984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69960" y="2849400"/>
                      <a:ext cx="4862160" cy="198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9" name=""/>
          <p:cNvGrpSpPr/>
          <p:nvPr/>
        </p:nvGrpSpPr>
        <p:grpSpPr>
          <a:xfrm>
            <a:off x="5867280" y="2244600"/>
            <a:ext cx="3435120" cy="3278520"/>
            <a:chOff x="5867280" y="2244600"/>
            <a:chExt cx="3435120" cy="3278520"/>
          </a:xfrm>
        </p:grpSpPr>
        <p:sp>
          <p:nvSpPr>
            <p:cNvPr id="90" name=""/>
            <p:cNvSpPr/>
            <p:nvPr/>
          </p:nvSpPr>
          <p:spPr>
            <a:xfrm>
              <a:off x="6665040" y="5009040"/>
              <a:ext cx="125748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880" rIns="101880" tIns="51120" bIns="51120" anchor="t">
              <a:spAutoFit/>
            </a:bodyPr>
            <a:p>
              <a:pPr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Verdana"/>
                </a:rPr>
                <a:t>3D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1" name=""/>
            <p:cNvGraphicFramePr/>
            <p:nvPr/>
          </p:nvGraphicFramePr>
          <p:xfrm>
            <a:off x="5867280" y="2244600"/>
            <a:ext cx="3435120" cy="2763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867280" y="2244600"/>
                      <a:ext cx="3435120" cy="276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3" name=""/>
          <p:cNvSpPr/>
          <p:nvPr/>
        </p:nvSpPr>
        <p:spPr>
          <a:xfrm>
            <a:off x="609480" y="5562720"/>
            <a:ext cx="816768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xploit locality to reduce interconnect leng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educe chip area for interconnect-dominated 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ncrease density for device-dominated 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FE4A6-8EB7-4459-AB62-A2C73727FFE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120320" y="1170000"/>
            <a:ext cx="4719960" cy="5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Mixed-Signal Partitio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334800" y="2849400"/>
            <a:ext cx="4862160" cy="2586600"/>
            <a:chOff x="334800" y="2849400"/>
            <a:chExt cx="4862160" cy="2586600"/>
          </a:xfrm>
        </p:grpSpPr>
        <p:graphicFrame>
          <p:nvGraphicFramePr>
            <p:cNvPr id="96" name=""/>
            <p:cNvGraphicFramePr/>
            <p:nvPr/>
          </p:nvGraphicFramePr>
          <p:xfrm>
            <a:off x="334800" y="2849400"/>
            <a:ext cx="4862160" cy="1897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34800" y="2849400"/>
                      <a:ext cx="4862160" cy="1897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8" name=""/>
            <p:cNvSpPr/>
            <p:nvPr/>
          </p:nvSpPr>
          <p:spPr>
            <a:xfrm>
              <a:off x="1609200" y="4921920"/>
              <a:ext cx="65088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Verdana"/>
                </a:rPr>
                <a:t>2D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5867280" y="1903320"/>
            <a:ext cx="3268440" cy="3620160"/>
            <a:chOff x="5867280" y="1903320"/>
            <a:chExt cx="3268440" cy="3620160"/>
          </a:xfrm>
        </p:grpSpPr>
        <p:sp>
          <p:nvSpPr>
            <p:cNvPr id="100" name=""/>
            <p:cNvSpPr/>
            <p:nvPr/>
          </p:nvSpPr>
          <p:spPr>
            <a:xfrm>
              <a:off x="6554160" y="5009400"/>
              <a:ext cx="65088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Verdana"/>
                </a:rPr>
                <a:t>3D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1" name=""/>
            <p:cNvGraphicFramePr/>
            <p:nvPr/>
          </p:nvGraphicFramePr>
          <p:xfrm>
            <a:off x="5867280" y="1903320"/>
            <a:ext cx="3268440" cy="2846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867280" y="1903320"/>
                      <a:ext cx="3268440" cy="284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3" name=""/>
          <p:cNvSpPr/>
          <p:nvPr/>
        </p:nvSpPr>
        <p:spPr>
          <a:xfrm>
            <a:off x="612720" y="5715000"/>
            <a:ext cx="748512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ixed-technology/mixed-signal based 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etter signal isolation between analog and digital compon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8C563-0F81-4F8E-83AE-221222A2137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066680" y="1143000"/>
            <a:ext cx="777240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700" spc="-1" strike="noStrike">
                <a:solidFill>
                  <a:srgbClr val="ffff00"/>
                </a:solidFill>
                <a:latin typeface="Verdana"/>
              </a:rPr>
              <a:t>Monolithic integration of different di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6370560" y="2590920"/>
            <a:ext cx="2806560" cy="2672280"/>
            <a:chOff x="6370560" y="2590920"/>
            <a:chExt cx="2806560" cy="2672280"/>
          </a:xfrm>
        </p:grpSpPr>
        <p:graphicFrame>
          <p:nvGraphicFramePr>
            <p:cNvPr id="106" name=""/>
            <p:cNvGraphicFramePr/>
            <p:nvPr/>
          </p:nvGraphicFramePr>
          <p:xfrm>
            <a:off x="6370560" y="2590920"/>
            <a:ext cx="2806560" cy="1886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370560" y="2590920"/>
                      <a:ext cx="2806560" cy="188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8" name=""/>
            <p:cNvSpPr/>
            <p:nvPr/>
          </p:nvSpPr>
          <p:spPr>
            <a:xfrm>
              <a:off x="7054200" y="4749120"/>
              <a:ext cx="65088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Verdana"/>
                </a:rPr>
                <a:t>3D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587520" y="2417760"/>
            <a:ext cx="5571720" cy="3191400"/>
            <a:chOff x="587520" y="2417760"/>
            <a:chExt cx="5571720" cy="3191400"/>
          </a:xfrm>
        </p:grpSpPr>
        <p:sp>
          <p:nvSpPr>
            <p:cNvPr id="110" name=""/>
            <p:cNvSpPr/>
            <p:nvPr/>
          </p:nvSpPr>
          <p:spPr>
            <a:xfrm>
              <a:off x="1760760" y="5095080"/>
              <a:ext cx="142452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880" rIns="101880" tIns="51120" bIns="51120" anchor="t">
              <a:spAutoFit/>
            </a:bodyPr>
            <a:p>
              <a:pPr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Verdana"/>
                </a:rPr>
                <a:t>2D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1" name=""/>
            <p:cNvGraphicFramePr/>
            <p:nvPr/>
          </p:nvGraphicFramePr>
          <p:xfrm>
            <a:off x="587520" y="2417760"/>
            <a:ext cx="5571720" cy="23731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87520" y="2417760"/>
                      <a:ext cx="5571720" cy="237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3" name=""/>
          <p:cNvSpPr/>
          <p:nvPr/>
        </p:nvSpPr>
        <p:spPr>
          <a:xfrm>
            <a:off x="1447920" y="575316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maller form 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Reduced power dissipation and/or energy consum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3498F-6D23-414C-83C5-23C011A434A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990720" y="1568520"/>
            <a:ext cx="57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3-D Approaches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2209680"/>
            <a:ext cx="8839440" cy="44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arallel fabrication, layer transfer by bo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- Dielectric : polymer, Si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- Metallic : Cu-C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tinuous layer growth/fabr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9E1E1-C6B4-42EF-9179-10A73955590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752480" y="1143000"/>
            <a:ext cx="5867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Cu-Cu Wafer Bo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119440" y="5911920"/>
            <a:ext cx="152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(R. Reif, MI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200400" y="2057400"/>
            <a:ext cx="2803680" cy="35812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143000" y="236232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terlayer Vertical V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2590560" y="3200400"/>
            <a:ext cx="609480" cy="53352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371808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u-Cu Bo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943600" y="1995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43600" y="2224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43600" y="24526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943600" y="37339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943600" y="4038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943600" y="43434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33526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943600" y="29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L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943600" y="4952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L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71800" y="5850000"/>
            <a:ext cx="3809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L – Device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 – Metal Interconnec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A69DC-4327-4222-BC56-1A6A5AE2A59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7T17:25:08Z</dcterms:created>
  <dc:creator>Jana Chambers</dc:creator>
  <dc:description/>
  <dc:language>en-US</dc:language>
  <cp:lastModifiedBy>Rafael Reif</cp:lastModifiedBy>
  <cp:lastPrinted>2002-01-02T18:41:15Z</cp:lastPrinted>
  <dcterms:modified xsi:type="dcterms:W3CDTF">2003-11-13T04:39:29Z</dcterms:modified>
  <cp:revision>858</cp:revision>
  <dc:subject/>
  <dc:title>No Slide Title</dc:title>
</cp:coreProperties>
</file>