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777096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5476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5476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5476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7760" y="415476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777096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777096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7760" y="415476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440" y="415476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0720" y="4154760"/>
            <a:ext cx="250200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5476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7770960" cy="19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0760" y="1371600"/>
            <a:ext cx="8026560" cy="144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068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ing with synap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440" y="4281480"/>
            <a:ext cx="777240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31640" indent="-215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ebastian Se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oward Hughes Medical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nd Brain &amp; Cog. Sci. Dept., 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chastic gradi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-level models of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ulomoto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aptic plastic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vi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island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neural circu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vi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icon st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ic imaging by interfer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ward-driven plasticit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 vi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666880" y="20192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257800" y="520380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n W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een Agniho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terned culture by inkjet pr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48320" cy="4160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20840" y="619452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wyer Fuller and Neville Sanj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1440" y="-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 vit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els of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study how synaptic plasticity affects the dynamics of neural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challenge: electrical and chemical control of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ual challenge: training neural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526680"/>
            <a:ext cx="7809120" cy="12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 makes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song learned from male tu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d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finch: up to 100,000 it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n anatomy and phys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41400" y="2462040"/>
            <a:ext cx="3292560" cy="30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3680" y="0"/>
            <a:ext cx="80308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85320" y="9036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hnloser, Kozhevnikov, Fee 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ory signals in the b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broadcast of reward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dopaminergic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figure1" descr=""/>
          <p:cNvPicPr/>
          <p:nvPr/>
        </p:nvPicPr>
        <p:blipFill>
          <a:blip r:embed="rId1"/>
          <a:stretch/>
        </p:blipFill>
        <p:spPr>
          <a:xfrm>
            <a:off x="2514600" y="3319560"/>
            <a:ext cx="419112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al basis of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057400"/>
            <a:ext cx="3581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ward, motor error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057400"/>
            <a:ext cx="3048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sig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oltage, calciu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048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34120" y="3048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7760" y="406872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tic plas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5197320"/>
            <a:ext cx="516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action between global and local signals is largely uncharacter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jection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024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VC vs. 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a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8200" y="3519360"/>
            <a:ext cx="685800" cy="457200"/>
          </a:xfrm>
          <a:prstGeom prst="roundRect">
            <a:avLst>
              <a:gd name="adj" fmla="val 34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35800" y="3503520"/>
            <a:ext cx="6451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7560" y="1995480"/>
            <a:ext cx="719280" cy="457200"/>
          </a:xfrm>
          <a:prstGeom prst="roundRect">
            <a:avLst>
              <a:gd name="adj" fmla="val 34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49400" y="1981440"/>
            <a:ext cx="884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V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92640" y="3519360"/>
            <a:ext cx="1039680" cy="457200"/>
          </a:xfrm>
          <a:prstGeom prst="roundRect">
            <a:avLst>
              <a:gd name="adj" fmla="val 34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320" y="3503520"/>
            <a:ext cx="11602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28840" y="2463840"/>
            <a:ext cx="1440" cy="1000080"/>
          </a:xfrm>
          <a:prstGeom prst="line">
            <a:avLst/>
          </a:prstGeom>
          <a:ln w="475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9720" y="3733920"/>
            <a:ext cx="689040" cy="1440"/>
          </a:xfrm>
          <a:prstGeom prst="line">
            <a:avLst/>
          </a:prstGeom>
          <a:ln w="475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28840" y="3987720"/>
            <a:ext cx="1440" cy="1000080"/>
          </a:xfrm>
          <a:prstGeom prst="line">
            <a:avLst/>
          </a:prstGeom>
          <a:ln w="475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5054760"/>
            <a:ext cx="133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28760" y="601992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ya and Sejnow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 and erro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of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forcement of favorable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aptic learn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5760" y="2716200"/>
            <a:ext cx="2900520" cy="3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0000">
                  <a:alpha val="90196"/>
                </a:srgbClr>
              </a:gs>
              <a:gs pos="100000">
                <a:srgbClr val="cc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8680" y="2847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0560" y="2847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25880" y="3278160"/>
            <a:ext cx="228600" cy="2286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51320" y="2482920"/>
            <a:ext cx="198360" cy="3207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596760" y="2776680"/>
            <a:ext cx="109800" cy="66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8920" y="2457360"/>
            <a:ext cx="185760" cy="314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629240" y="2752560"/>
            <a:ext cx="115920" cy="60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4120" y="2878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8600" y="286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4600" y="2562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re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64240" y="2403360"/>
            <a:ext cx="77760" cy="357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8200" y="2752560"/>
            <a:ext cx="111240" cy="65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20960" y="2424240"/>
            <a:ext cx="92160" cy="35388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54440" y="2781360"/>
            <a:ext cx="109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83040" y="3232080"/>
            <a:ext cx="76320" cy="763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48280" y="3251160"/>
            <a:ext cx="228600" cy="2286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995360" y="3195720"/>
            <a:ext cx="86040" cy="10008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7240" y="28479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45240" y="2449440"/>
            <a:ext cx="85680" cy="3366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767200" y="2776680"/>
            <a:ext cx="129960" cy="36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5280" y="286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019560" y="2506680"/>
            <a:ext cx="199800" cy="3096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65920" y="2787480"/>
            <a:ext cx="110880" cy="65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05600" y="3251160"/>
            <a:ext cx="228600" cy="2286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52680" y="3186000"/>
            <a:ext cx="87480" cy="11916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1120" y="2766960"/>
            <a:ext cx="366480" cy="228600"/>
          </a:xfrm>
          <a:prstGeom prst="rightArrow">
            <a:avLst>
              <a:gd name="adj1" fmla="val 50000"/>
              <a:gd name="adj2" fmla="val 40079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06720" y="2760840"/>
            <a:ext cx="100080" cy="71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49560" y="2709720"/>
            <a:ext cx="685800" cy="206640"/>
          </a:xfrm>
          <a:custGeom>
            <a:avLst/>
            <a:gdLst/>
            <a:ahLst/>
            <a:rect l="l" t="t" r="r" b="b"/>
            <a:pathLst>
              <a:path w="432" h="152">
                <a:moveTo>
                  <a:pt x="432" y="152"/>
                </a:moveTo>
                <a:cubicBezTo>
                  <a:pt x="400" y="116"/>
                  <a:pt x="368" y="80"/>
                  <a:pt x="336" y="56"/>
                </a:cubicBezTo>
                <a:cubicBezTo>
                  <a:pt x="304" y="32"/>
                  <a:pt x="280" y="16"/>
                  <a:pt x="240" y="8"/>
                </a:cubicBezTo>
                <a:cubicBezTo>
                  <a:pt x="200" y="0"/>
                  <a:pt x="136" y="0"/>
                  <a:pt x="96" y="8"/>
                </a:cubicBezTo>
                <a:cubicBezTo>
                  <a:pt x="56" y="16"/>
                  <a:pt x="28" y="36"/>
                  <a:pt x="0" y="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16600" y="2666880"/>
            <a:ext cx="693720" cy="257400"/>
          </a:xfrm>
          <a:custGeom>
            <a:avLst/>
            <a:gdLst/>
            <a:ahLst/>
            <a:rect l="l" t="t" r="r" b="b"/>
            <a:pathLst>
              <a:path w="432" h="168">
                <a:moveTo>
                  <a:pt x="432" y="168"/>
                </a:moveTo>
                <a:cubicBezTo>
                  <a:pt x="384" y="108"/>
                  <a:pt x="336" y="48"/>
                  <a:pt x="288" y="24"/>
                </a:cubicBezTo>
                <a:cubicBezTo>
                  <a:pt x="240" y="0"/>
                  <a:pt x="192" y="16"/>
                  <a:pt x="144" y="24"/>
                </a:cubicBezTo>
                <a:cubicBezTo>
                  <a:pt x="96" y="32"/>
                  <a:pt x="48" y="52"/>
                  <a:pt x="0" y="72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82960" y="2766960"/>
            <a:ext cx="120960" cy="4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64040" y="2808360"/>
            <a:ext cx="620640" cy="120600"/>
          </a:xfrm>
          <a:custGeom>
            <a:avLst/>
            <a:gdLst/>
            <a:ahLst/>
            <a:rect l="l" t="t" r="r" b="b"/>
            <a:pathLst>
              <a:path w="387" h="100">
                <a:moveTo>
                  <a:pt x="0" y="94"/>
                </a:moveTo>
                <a:cubicBezTo>
                  <a:pt x="37" y="66"/>
                  <a:pt x="74" y="38"/>
                  <a:pt x="117" y="25"/>
                </a:cubicBezTo>
                <a:cubicBezTo>
                  <a:pt x="160" y="12"/>
                  <a:pt x="210" y="0"/>
                  <a:pt x="255" y="13"/>
                </a:cubicBezTo>
                <a:cubicBezTo>
                  <a:pt x="300" y="26"/>
                  <a:pt x="343" y="63"/>
                  <a:pt x="387" y="10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559120" y="2887560"/>
            <a:ext cx="52200" cy="109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1905120"/>
            <a:ext cx="25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gular syna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8520" y="338148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noise syna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05320" y="4253040"/>
            <a:ext cx="2666880" cy="1447560"/>
            <a:chOff x="3505320" y="4253040"/>
            <a:chExt cx="2666880" cy="1447560"/>
          </a:xfrm>
        </p:grpSpPr>
        <p:sp>
          <p:nvSpPr>
            <p:cNvPr id="146" name=""/>
            <p:cNvSpPr/>
            <p:nvPr/>
          </p:nvSpPr>
          <p:spPr>
            <a:xfrm>
              <a:off x="3505320" y="46339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5320" y="51670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700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4800" y="425304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4786200"/>
              <a:ext cx="0" cy="3805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9720" y="53197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34120" y="425304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9040" y="53197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982520" y="419112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15360" y="471024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3600" y="52578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re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683160" y="5929200"/>
          <a:ext cx="104112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3160" y="5929200"/>
                    <a:ext cx="10411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194440" y="5929200"/>
          <a:ext cx="101592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4440" y="5929200"/>
                    <a:ext cx="10159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616800" y="60199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te and Se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in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rch in genotyp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ndom genetic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rch in synapse spa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reliable syna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ise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bastian Seung</cp:lastModifiedBy>
  <dcterms:modified xsi:type="dcterms:W3CDTF">2003-11-21T04:04:56Z</dcterms:modified>
  <cp:revision>73</cp:revision>
  <dc:subject/>
  <dc:title>Optimizing with synapses</dc:title>
</cp:coreProperties>
</file>