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01ED-F797-4C4D-B2C9-F5E49033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15D-7FFD-4703-87ED-4B9A278A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E4D-6EF7-48A4-9177-B6292802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73C3-5E8C-4816-90DB-2277F708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5F1D-7899-45A3-9EF0-64F03C30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55ED-D30A-47F1-BD2E-2E074E29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11A-49C8-46B2-B9A2-206604CA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5FCC-B76E-4E82-B993-76A9EC2D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901A-A225-4406-B7FF-C4F2518D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EB4-0715-4182-AE25-3621499A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EE7F-80C3-400C-9521-DDE5BC37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9DD3-3BDF-4D9A-BD30-2F964B50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C3C4-3219-4A4A-94A8-34AEA5206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3221" t="0" r="5555" b="0"/>
          <a:stretch/>
        </p:blipFill>
        <p:spPr>
          <a:xfrm>
            <a:off x="0" y="3102120"/>
            <a:ext cx="3276720" cy="37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105520" y="0"/>
          <a:ext cx="4038480" cy="275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0"/>
                    <a:ext cx="403848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306440" y="0"/>
            <a:ext cx="3905280" cy="4952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162400" y="1676520"/>
            <a:ext cx="3981600" cy="51814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3733920" cy="609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iesel Timing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4560" y="228600"/>
            <a:ext cx="52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03e"/>
                </a:solidFill>
                <a:latin typeface="Arial"/>
              </a:rPr>
              <a:t>(Kalbag, Ike Chuang, Amy Sun, Anil Bahum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0" t="1941" r="0" b="22517"/>
          <a:stretch/>
        </p:blipFill>
        <p:spPr>
          <a:xfrm>
            <a:off x="4800600" y="838080"/>
            <a:ext cx="38098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57200" y="3933720"/>
            <a:ext cx="3809880" cy="292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4876920" y="38862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9T17:51:02Z</dcterms:created>
  <dc:creator>Physics and Media</dc:creator>
  <dc:description/>
  <dc:language>en-US</dc:language>
  <cp:lastModifiedBy>PHM</cp:lastModifiedBy>
  <cp:lastPrinted>1997-02-02T14:23:30Z</cp:lastPrinted>
  <dcterms:modified xsi:type="dcterms:W3CDTF">2003-11-18T04:18:07Z</dcterms:modified>
  <cp:revision>1434</cp:revision>
  <dc:subject/>
  <dc:title>Thin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mp\tmp1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