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F33A-237E-4904-A78F-27192B06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softxor is equivalent to multip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mixer is actually equivalent to linearization of soft-x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 if mixer is non-linear it is actually more exactly right.  Turns out I was working in log-likelihoo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Hagenauer had been like me and stumbled on the log-likelihood circu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oftequals is equivalent to my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Wanted continuous-time analog delay lines to work.  Still at the point of a hack with this.  Don't really know which filters will work and which don'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do filters properly preserve the definition of a probability or log-likelihoo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an also relax this constraint on filters - have bad phase dispersion for example and then get a chaotic system which its more difficult to know what it will do because it essentially diffuses the information from a single bit across many 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a. LFSR - length, tap placement, maximal leng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a. LFSR - length, tap placement, maximal leng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3254-CFAB-4E79-A2AF-9712E9BE7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6F0E-260B-43B3-BA93-513C39AEA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52BD-890B-4897-BD77-34A1DE2B9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9757-4255-477F-A0DB-965483EAE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065E-9519-4B79-A46B-DEAAF0E83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F633-4076-4ECF-BD0B-632546370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F391-91D8-4808-91A1-A570E6148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BB70-9EEF-4624-B93E-94115C438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9C94-88C3-4EA4-B3D2-DD4DA76FA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B98C-7882-4405-968B-7E6EF1020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18F5-A88A-418E-8499-56E2F2933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D237-2BE4-46ED-A9D0-B72AE1C83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E31-C7CA-473F-9EB2-B5F3F293ECCA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ba.mit.edu/media/logos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nalog Logic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nd</a:t>
            </a:r>
            <a:br>
              <a:rPr sz="2800"/>
            </a:b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fferential Belief Propagation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19520" y="236232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jamin Vigoda, Ph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378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SF CCR-01224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02.10.CBAlogo.MIT.40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4768920"/>
            <a:ext cx="228600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animlogo" descr=""/>
          <p:cNvPicPr/>
          <p:nvPr/>
        </p:nvPicPr>
        <p:blipFill>
          <a:blip r:embed="rId3"/>
          <a:stretch/>
        </p:blipFill>
        <p:spPr>
          <a:xfrm>
            <a:off x="4876920" y="4724280"/>
            <a:ext cx="1371600" cy="55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ysics and Media Gro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colbar" descr=""/>
          <p:cNvPicPr/>
          <p:nvPr/>
        </p:nvPicPr>
        <p:blipFill>
          <a:blip r:embed="rId4"/>
          <a:stretch/>
        </p:blipFill>
        <p:spPr>
          <a:xfrm>
            <a:off x="3429000" y="3809880"/>
            <a:ext cx="2286000" cy="22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4114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T Media Labora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152280"/>
            <a:ext cx="5943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soft-xor-circuit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5410440" cy="38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581280"/>
            <a:ext cx="449568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657600"/>
            <a:ext cx="43434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219320"/>
            <a:ext cx="22860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28600" y="15192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Soft-XOR gate”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ircui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5867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linear circuits: A proposed classification. Barrie Gilbert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lectronics Let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97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softxor-node-symbol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133720" cy="173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8600" y="3751200"/>
            <a:ext cx="4114800" cy="18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C708-1815-447D-9A9C-A112DC2DD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219320"/>
            <a:ext cx="251460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523880"/>
            <a:ext cx="49532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soft-EQUALS Gate”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ircui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08" name="soft-equals-eq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2133720" cy="824040"/>
          </a:xfrm>
          <a:prstGeom prst="rect">
            <a:avLst/>
          </a:prstGeom>
          <a:ln w="0">
            <a:noFill/>
          </a:ln>
        </p:spPr>
      </p:pic>
      <p:pic>
        <p:nvPicPr>
          <p:cNvPr id="109" name="softequals-circuit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4419720" cy="3767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PhD, August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variable-node-symbol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2209680" cy="17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06EA-FF8B-4BF4-B3E7-A92388475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Soft-DELAY”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ontinuous-Time Analog Memory Elemen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13" name="chebyshev-delays-schematic" descr=""/>
          <p:cNvPicPr/>
          <p:nvPr/>
        </p:nvPicPr>
        <p:blipFill>
          <a:blip r:embed="rId1"/>
          <a:stretch/>
        </p:blipFill>
        <p:spPr>
          <a:xfrm>
            <a:off x="304920" y="3186000"/>
            <a:ext cx="3962160" cy="3062520"/>
          </a:xfrm>
          <a:prstGeom prst="rect">
            <a:avLst/>
          </a:prstGeom>
          <a:ln w="0">
            <a:noFill/>
          </a:ln>
        </p:spPr>
      </p:pic>
      <p:pic>
        <p:nvPicPr>
          <p:cNvPr id="114" name="cheby-delays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scope5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038480" cy="1704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chebyshev-delay-schematic" descr=""/>
          <p:cNvPicPr/>
          <p:nvPr/>
        </p:nvPicPr>
        <p:blipFill>
          <a:blip r:embed="rId4"/>
          <a:stretch/>
        </p:blipFill>
        <p:spPr>
          <a:xfrm>
            <a:off x="304920" y="1389240"/>
            <a:ext cx="4038480" cy="16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2675-F4BA-44C2-856A-B51A1221F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nll-pcbs" descr=""/>
          <p:cNvPicPr/>
          <p:nvPr/>
        </p:nvPicPr>
        <p:blipFill>
          <a:blip r:embed="rId1"/>
          <a:stretch/>
        </p:blipFill>
        <p:spPr>
          <a:xfrm>
            <a:off x="228600" y="1008000"/>
            <a:ext cx="3390840" cy="2954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oise Lock Loop Circui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20" name="nll-circuit--zurich-data" descr=""/>
          <p:cNvPicPr/>
          <p:nvPr/>
        </p:nvPicPr>
        <p:blipFill>
          <a:blip r:embed="rId2"/>
          <a:stretch/>
        </p:blipFill>
        <p:spPr>
          <a:xfrm>
            <a:off x="3505320" y="1562040"/>
            <a:ext cx="5410080" cy="405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04920" y="57895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chronization of a Chaotic Dynamical System Using a Soft-Decision Receiver.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ustin Dauwels, Matthias Frey, Tobias Koch, Hans-Andrea Loeliger, Patrick Merkli, Benjamin Vigo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EB44-88D5-4F23-8407-3F17271617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652760"/>
            <a:ext cx="3124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esign Flow: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Compile MATLAB to Spice to Circuit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328920"/>
            <a:ext cx="457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encoder-example1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995560" cy="3200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1120" y="990720"/>
            <a:ext cx="4572000" cy="459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* Waveform probing comman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prob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options probefilename="D:+ probesdbfile="D:+ probetopmodule="3 softxors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SUBCKT softxor p_x0 p_x1 p_y0 p_y1 p_z0 p_z1 GND Vd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4 N5 p_y1 N7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8 N1 p_y0 N7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7 N8 p_y1 N1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3 N8 p_y0 N5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9 GND p_x1 N1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6 N5 p_x0 GND GND NMOS_49 W='48*l' L='4*l' AS='40*l*l' AD='40*l*l' PS='24*l' PD='24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12 p_z1 N7 Vdd N6 PMOS_49 W='48*l' L='10*l' AS='66*l*l' AD='66*l*l' PS='60*l' PD='60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M11 Vdd N7 N7 N2 PMOS_49 W='48*l' L='10*l' AS='66*l*l' AD='66*l*l' PS='60*l' PD='60*l' M=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EN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* Main circuit: 3 softxo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tran 1n 1600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include Mami_15.m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options abstol=1e-1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.param l=0.8u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1 N1 GND 50 TC=0.0, 0.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2 N7 GND 50 TC=0.0, 0.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800600"/>
            <a:ext cx="4419720" cy="7333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Xsoftxor_1 N5 N3 N4 N19 N11 N10 GND Vdd softx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Xsoftxor_2 N11 N10 N9 N8 N7 N1 GND Vdd softx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Xsoftxor_3 N2 N16 N15 N14 N9 N8 GND Vdd softx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085760"/>
            <a:ext cx="4419720" cy="7333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SPICE netlist written by Bayes2Gates (c) 2002 Ben Vigoda, MIT Media Lab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Written on 28-Jun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200" y="5081760"/>
            <a:ext cx="27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yes Net Tool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42280" y="5638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ce Ne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B095-D02B-45BB-81CB-B717C1C2B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95480" y="2895480"/>
            <a:ext cx="5867640" cy="2667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adder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3616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Fault Tolerant Soft-Logic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4956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u Sun, Mehdi Gazor, Bernard Yen, Ben Vig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133D-E65D-4A44-BB00-CC160FCD42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Differential Belief Propagation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(advertisement)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algorithmic dynamics of belief propagation relate to the physical dynamics of the computing substra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Propagation + high-frequency electronics 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sitic capacitances in transi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fect delay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Propagation + molecular dynamics 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belief propagation to estimate solutions of partial differential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AA0E-1D2C-4E02-AB4C-45E41A64DC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de" descr=""/>
          <p:cNvPicPr/>
          <p:nvPr/>
        </p:nvPicPr>
        <p:blipFill>
          <a:blip r:embed="rId1"/>
          <a:stretch/>
        </p:blipFill>
        <p:spPr>
          <a:xfrm>
            <a:off x="228600" y="1146240"/>
            <a:ext cx="3124080" cy="2282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Optimization/Inference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lief Propagation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44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Using Physical Syst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alog Circuits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spin-glass" descr=""/>
          <p:cNvPicPr/>
          <p:nvPr/>
        </p:nvPicPr>
        <p:blipFill>
          <a:blip r:embed="rId2"/>
          <a:stretch/>
        </p:blipFill>
        <p:spPr>
          <a:xfrm>
            <a:off x="2324160" y="1650960"/>
            <a:ext cx="2781360" cy="2616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softxor-circuit" descr=""/>
          <p:cNvPicPr/>
          <p:nvPr/>
        </p:nvPicPr>
        <p:blipFill>
          <a:blip r:embed="rId3"/>
          <a:stretch/>
        </p:blipFill>
        <p:spPr>
          <a:xfrm>
            <a:off x="6140520" y="2724120"/>
            <a:ext cx="2774880" cy="2533680"/>
          </a:xfrm>
          <a:prstGeom prst="rect">
            <a:avLst/>
          </a:prstGeom>
          <a:ln w="0">
            <a:noFill/>
          </a:ln>
        </p:spPr>
      </p:pic>
      <p:pic>
        <p:nvPicPr>
          <p:cNvPr id="61" name="chebyshev-delay-schematic" descr=""/>
          <p:cNvPicPr/>
          <p:nvPr/>
        </p:nvPicPr>
        <p:blipFill>
          <a:blip r:embed="rId4"/>
          <a:stretch/>
        </p:blipFill>
        <p:spPr>
          <a:xfrm>
            <a:off x="5562720" y="1262160"/>
            <a:ext cx="335268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bayes-net" descr=""/>
          <p:cNvPicPr/>
          <p:nvPr/>
        </p:nvPicPr>
        <p:blipFill>
          <a:blip r:embed="rId5"/>
          <a:stretch/>
        </p:blipFill>
        <p:spPr>
          <a:xfrm>
            <a:off x="152280" y="2895480"/>
            <a:ext cx="2743200" cy="2559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3" name="mrf" descr=""/>
          <p:cNvPicPr/>
          <p:nvPr/>
        </p:nvPicPr>
        <p:blipFill>
          <a:blip r:embed="rId6"/>
          <a:stretch/>
        </p:blipFill>
        <p:spPr>
          <a:xfrm>
            <a:off x="2374920" y="3657600"/>
            <a:ext cx="29592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" name="control" descr=""/>
          <p:cNvPicPr/>
          <p:nvPr/>
        </p:nvPicPr>
        <p:blipFill>
          <a:blip r:embed="rId7"/>
          <a:stretch/>
        </p:blipFill>
        <p:spPr>
          <a:xfrm>
            <a:off x="216000" y="5397480"/>
            <a:ext cx="2298600" cy="123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185F-C011-4F31-9970-DBE13C5D5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95280"/>
            <a:ext cx="8534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ecture 1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 is probably not how we want to perform all compu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vogadro-Scale Computing as Optimiz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8A81-690F-4C60-9443-F18742B11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295280"/>
            <a:ext cx="8610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ecture 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as  the number of gates becomes large, the majority of gates will be used to solve inference/optimization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at’s how we use super-computers now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Avogadro-Scale Computing as Optimiz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E3DD-B18F-406E-B608-FADA1E47A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Implementing Optimization/Inference Natively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with Physical Dynamics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lock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programming of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nsistors by saying, “optimize thi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 to noise and fault tolerance arise natur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s smoother design trade-offs betwee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, Power, Accuracy, and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natively with physical dynamics, “dL{x}/dt=0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8D6C-4BF4-40FE-AC4A-8CAD7E1255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2743200"/>
            <a:ext cx="4190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Linear Feedback Shift Register (LFSR)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6019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000111101011001)*  or 0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lfsr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190760" cy="210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397188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lfsr-cycle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431172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84FD-F562-41DB-9D13-035D85371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Transmitter: LFSR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82" name="4-bin-lfsr-factor-graph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022880" cy="180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4572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tter LFS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646F-053F-4131-93A1-FAB067123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Receiver: Noise Lock Loop</a:t>
            </a: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86" name="4-bin-lfsr-factor-graph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02288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afsr-factor-graph" descr=""/>
          <p:cNvPicPr/>
          <p:nvPr/>
        </p:nvPicPr>
        <p:blipFill>
          <a:blip r:embed="rId2"/>
          <a:stretch/>
        </p:blipFill>
        <p:spPr>
          <a:xfrm>
            <a:off x="800280" y="3124080"/>
            <a:ext cx="7200720" cy="236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27432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r: Noise Lock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tter: LF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560920"/>
            <a:ext cx="79246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-Complexity LFSR Synchronization by Forward-Only Message Passing, Vigoda, Dauwels, Gershenfeld and Loeliger, submitted IEEE Transactions on Information Theory,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November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1B14-4BCF-4EDA-8717-2744C9CD5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Noise Lock Loop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Performs LFSR Synchronization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3" name="afsr%20entrain" descr=""/>
          <p:cNvPicPr/>
          <p:nvPr/>
        </p:nvPicPr>
        <p:blipFill>
          <a:blip r:embed="rId1"/>
          <a:stretch/>
        </p:blipFill>
        <p:spPr>
          <a:xfrm>
            <a:off x="1600200" y="1120680"/>
            <a:ext cx="6019920" cy="535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8120" y="655308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Benjamin Vigoda, PhD, August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A8A8-0A1A-45E6-94C0-C1C5FCC3D0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4:29:29Z</dcterms:created>
  <dc:creator>Benjamin Vigoda</dc:creator>
  <dc:description/>
  <dc:language>en-US</dc:language>
  <cp:lastModifiedBy>vigoda</cp:lastModifiedBy>
  <dcterms:modified xsi:type="dcterms:W3CDTF">2003-11-21T20:32:06Z</dcterms:modified>
  <cp:revision>1257</cp:revision>
  <dc:subject/>
  <dc:title>Template</dc:title>
</cp:coreProperties>
</file>