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F73-C56C-4BAD-BA39-BE9EC103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5ED-8BE4-49B7-B304-D8FEDDF6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9E1A-739C-40F9-87B6-53C59AB3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17B-4896-4A2E-8080-EC5B6766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F1D-365A-409C-9151-55AD440A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9DF-CE7E-43EC-BDF2-AECC0548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2B3-C3AF-4821-A16E-14BF84C0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1145-8C67-4A4E-835E-1EBEABCE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162-F4C5-4C80-9CE3-8EC8CD05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52F-BCCC-40A8-B8B2-BE984586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FC8-BA71-478E-B882-031EA327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931-4316-4C13-9C7C-98FD2A49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95CA-C5CF-498D-9641-6C0BED886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zed 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Yedi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subishi Electric Research 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done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 Freeman (MIT) &amp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ir Weiss (Jerusal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” Approxi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05040" y="1763640"/>
            <a:ext cx="77706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a set of regio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nting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reg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largest regions, and for every factor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ariable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797120" y="3405240"/>
                <a:ext cx="49482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1773360" y="4503600"/>
            <a:ext cx="57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unt every node onc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378160" y="5398920"/>
                <a:ext cx="362592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2951280" y="3971880"/>
            <a:ext cx="22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dicato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2970360" y="3847680"/>
            <a:ext cx="255600" cy="18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676760" y="3871800"/>
            <a:ext cx="54144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142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Example of a Region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200" y="1512720"/>
            <a:ext cx="1376280" cy="74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66880" y="1512720"/>
            <a:ext cx="1376640" cy="74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9920" y="1512720"/>
            <a:ext cx="1378080" cy="74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94400" y="1512720"/>
            <a:ext cx="1376280" cy="74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4360" y="165564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,C,1,2,4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74800" y="165744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,D,2,3,5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38600" y="1687680"/>
            <a:ext cx="14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E,4,5,7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1640" y="170964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,F,5,6,8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76320" y="3971880"/>
            <a:ext cx="960480" cy="74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94040" y="3971880"/>
            <a:ext cx="963720" cy="74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13200" y="3971880"/>
            <a:ext cx="963720" cy="74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32720" y="3971880"/>
            <a:ext cx="963360" cy="74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20760" y="4151160"/>
            <a:ext cx="7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81160" y="4181400"/>
            <a:ext cx="7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4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978440" y="416232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,5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05600" y="4143240"/>
            <a:ext cx="7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3511080" y="2266920"/>
            <a:ext cx="1452600" cy="1685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66440" y="2266920"/>
            <a:ext cx="1452600" cy="166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85920" y="2279520"/>
            <a:ext cx="0" cy="1640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704960" y="2266920"/>
            <a:ext cx="1405080" cy="1677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608280" y="2268360"/>
            <a:ext cx="1405080" cy="1678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67400" y="2268360"/>
            <a:ext cx="1405080" cy="1678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5481360" y="2266920"/>
            <a:ext cx="1454040" cy="1685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27800" y="2279520"/>
            <a:ext cx="0" cy="1640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48040" y="5686560"/>
            <a:ext cx="963720" cy="749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73200" y="4729320"/>
            <a:ext cx="2371680" cy="9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46560" y="4721400"/>
            <a:ext cx="865080" cy="91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404960" y="4714920"/>
            <a:ext cx="857160" cy="9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654080" y="4737240"/>
            <a:ext cx="2514600" cy="85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3800" y="5904000"/>
            <a:ext cx="7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7120" y="5786280"/>
            <a:ext cx="29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5]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[2,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he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6120" y="1281240"/>
            <a:ext cx="46688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ets of reg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r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s containing a single factor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ll attached variable no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s containing a single variable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591400" y="132228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591400" y="27176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582040" y="400068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411880" y="1179360"/>
            <a:ext cx="3223800" cy="3053520"/>
            <a:chOff x="5411880" y="1179360"/>
            <a:chExt cx="3223800" cy="3053520"/>
          </a:xfrm>
        </p:grpSpPr>
        <p:grpSp>
          <p:nvGrpSpPr>
            <p:cNvPr id="463" name=""/>
            <p:cNvGrpSpPr/>
            <p:nvPr/>
          </p:nvGrpSpPr>
          <p:grpSpPr>
            <a:xfrm>
              <a:off x="5411880" y="1179360"/>
              <a:ext cx="3223800" cy="2999880"/>
              <a:chOff x="5411880" y="1179360"/>
              <a:chExt cx="3223800" cy="2999880"/>
            </a:xfrm>
          </p:grpSpPr>
          <p:sp>
            <p:nvSpPr>
              <p:cNvPr id="464" name=""/>
              <p:cNvSpPr/>
              <p:nvPr/>
            </p:nvSpPr>
            <p:spPr>
              <a:xfrm>
                <a:off x="5411880" y="1179360"/>
                <a:ext cx="324000" cy="388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860880" y="1179360"/>
                <a:ext cx="324360" cy="388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309880" y="1179360"/>
                <a:ext cx="324360" cy="388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5411880" y="2485080"/>
                <a:ext cx="3223440" cy="388440"/>
                <a:chOff x="5411880" y="2485080"/>
                <a:chExt cx="3223440" cy="3884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411880" y="2485080"/>
                  <a:ext cx="324720" cy="3884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860880" y="2485080"/>
                  <a:ext cx="324720" cy="3884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310600" y="2485080"/>
                  <a:ext cx="324720" cy="3884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5413320" y="3789360"/>
                <a:ext cx="3222360" cy="389880"/>
                <a:chOff x="5413320" y="3789360"/>
                <a:chExt cx="3222360" cy="3898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413320" y="3789360"/>
                  <a:ext cx="324720" cy="3898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861600" y="3789360"/>
                  <a:ext cx="324720" cy="3898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8310960" y="3789360"/>
                  <a:ext cx="324720" cy="3898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6156720" y="1843560"/>
                <a:ext cx="255600" cy="307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156720" y="2524320"/>
                <a:ext cx="255600" cy="307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156720" y="3205800"/>
                <a:ext cx="255600" cy="307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7662960" y="1854360"/>
                <a:ext cx="257040" cy="1671840"/>
                <a:chOff x="7662960" y="1854360"/>
                <a:chExt cx="257040" cy="16718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7662960" y="1854360"/>
                  <a:ext cx="257040" cy="3085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662960" y="2535840"/>
                  <a:ext cx="257040" cy="3085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662960" y="3217680"/>
                  <a:ext cx="257040" cy="3085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5714640" y="1481400"/>
                <a:ext cx="438120" cy="36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410880" y="2139480"/>
                <a:ext cx="480600" cy="44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706720" y="2152440"/>
                <a:ext cx="443160" cy="420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6415560" y="1486440"/>
                <a:ext cx="475920" cy="36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165800" y="1472040"/>
                <a:ext cx="493560" cy="38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930080" y="2168280"/>
                <a:ext cx="438120" cy="36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702040" y="2800440"/>
                <a:ext cx="456120" cy="419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157520" y="2800440"/>
                <a:ext cx="511560" cy="4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7922160" y="1509120"/>
                <a:ext cx="434880" cy="33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7162560" y="2141280"/>
                <a:ext cx="506520" cy="4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747400" y="2682360"/>
                <a:ext cx="40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410880" y="2687760"/>
                <a:ext cx="45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99640" y="2687760"/>
                <a:ext cx="45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22160" y="2676600"/>
                <a:ext cx="39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903800" y="3526560"/>
                <a:ext cx="420480" cy="38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402600" y="2784960"/>
                <a:ext cx="485640" cy="4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7917120" y="2801880"/>
                <a:ext cx="430200" cy="40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7170480" y="3531960"/>
                <a:ext cx="49860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425640" y="3515400"/>
                <a:ext cx="43956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698440" y="3509280"/>
                <a:ext cx="465840" cy="34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5704200" y="1197000"/>
              <a:ext cx="38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75520" y="1227240"/>
              <a:ext cx="38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15360" y="2631960"/>
              <a:ext cx="38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67600" y="2631960"/>
              <a:ext cx="38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77200" y="3857760"/>
              <a:ext cx="38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67600" y="3895560"/>
              <a:ext cx="38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394680" y="1859040"/>
              <a:ext cx="38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874280" y="1859040"/>
              <a:ext cx="38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66240" y="2679840"/>
              <a:ext cx="38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02720" y="2697120"/>
              <a:ext cx="38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4960" y="3235320"/>
              <a:ext cx="38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1800" y="3254400"/>
              <a:ext cx="38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6213600" y="4716360"/>
            <a:ext cx="1119240" cy="43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16880" y="4718160"/>
            <a:ext cx="1119240" cy="43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09960" y="4716360"/>
            <a:ext cx="1119240" cy="43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06680" y="4718160"/>
            <a:ext cx="1119240" cy="43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03400" y="4718160"/>
            <a:ext cx="1119240" cy="43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1560" y="4716360"/>
            <a:ext cx="1119240" cy="43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3240" y="4764240"/>
            <a:ext cx="11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;1,2,4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92240" y="4782960"/>
            <a:ext cx="11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;2,3,5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624120" y="4784760"/>
            <a:ext cx="11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;4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62600" y="4765680"/>
            <a:ext cx="11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;5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37360" y="4784760"/>
            <a:ext cx="11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;4,5,7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623000" y="4765680"/>
            <a:ext cx="11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;5,6,8,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6480" y="586908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09560" y="5861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52760" y="5870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14680" y="5870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13320" y="5889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46800" y="58611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08720" y="5851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51560" y="5861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323200" y="5870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820440" y="5235480"/>
            <a:ext cx="12204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12760" y="5245200"/>
            <a:ext cx="593640" cy="51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82680" y="5253120"/>
            <a:ext cx="230040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93720" y="5245200"/>
            <a:ext cx="298944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810800" y="5207040"/>
            <a:ext cx="48924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70320" y="5226120"/>
            <a:ext cx="18864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630520" y="5216400"/>
            <a:ext cx="203688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67040" y="5216400"/>
            <a:ext cx="270684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677760" y="5226120"/>
            <a:ext cx="18756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79800" y="5235480"/>
            <a:ext cx="70668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657320" y="5216400"/>
            <a:ext cx="547560" cy="5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23040" y="5245200"/>
            <a:ext cx="2156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743280" y="5253120"/>
            <a:ext cx="281952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4695480" y="5245200"/>
            <a:ext cx="2055960" cy="51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562800" y="5253120"/>
            <a:ext cx="349200" cy="49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24680" y="5235480"/>
            <a:ext cx="39672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4817880" y="5226120"/>
            <a:ext cx="303660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676840" y="5226120"/>
            <a:ext cx="239544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7581600" y="5226120"/>
            <a:ext cx="64116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421840" y="5226120"/>
            <a:ext cx="7452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4048200" y="2585880"/>
                <a:ext cx="7081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770280" y="3525840"/>
                <a:ext cx="1192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404640" y="4518000"/>
            <a:ext cx="848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4560" y="5818320"/>
            <a:ext cx="425520" cy="444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557360" y="5819760"/>
            <a:ext cx="425520" cy="444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521080" y="5821200"/>
            <a:ext cx="425160" cy="444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65360" y="5823000"/>
            <a:ext cx="425520" cy="444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37000" y="5815080"/>
            <a:ext cx="425520" cy="444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89560" y="5816520"/>
            <a:ext cx="425520" cy="444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53280" y="5818320"/>
            <a:ext cx="425520" cy="444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15200" y="5810400"/>
            <a:ext cx="425520" cy="444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278920" y="5811840"/>
            <a:ext cx="425520" cy="444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80000" y="577800"/>
            <a:ext cx="23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fter Bethe, 193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45216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Bethe Approximation to Gibbs Free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71440" y="2087640"/>
                <a:ext cx="85154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th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d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0" name=""/>
          <p:cNvSpPr/>
          <p:nvPr/>
        </p:nvSpPr>
        <p:spPr>
          <a:xfrm>
            <a:off x="299880" y="3629160"/>
            <a:ext cx="855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to the exact Gibbs free energy when the factor graph is a tree because in that ca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886040" y="4916520"/>
                <a:ext cx="45957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Minimizing the Bethe Free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977760" y="1814400"/>
                <a:ext cx="7202520" cy="24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the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 </m:t>
                                    </m:r>
                                  </m:e>
                                </m:nary>
                              </m:e>
                            </m:nary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a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nary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360360" y="4316400"/>
                <a:ext cx="14050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2122560" y="4578480"/>
            <a:ext cx="766800" cy="255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699000" y="4235400"/>
                <a:ext cx="3773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97000" y="5540400"/>
                <a:ext cx="15811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"/>
          <p:cNvSpPr/>
          <p:nvPr/>
        </p:nvSpPr>
        <p:spPr>
          <a:xfrm>
            <a:off x="2117880" y="5759280"/>
            <a:ext cx="766440" cy="255600"/>
          </a:xfrm>
          <a:prstGeom prst="rightArrow">
            <a:avLst>
              <a:gd name="adj1" fmla="val 50000"/>
              <a:gd name="adj2" fmla="val 74965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382920" y="5302080"/>
                <a:ext cx="465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4296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Unicode MS"/>
              </a:rPr>
              <a:t>Bethe = B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84560" y="1781280"/>
            <a:ext cx="4294080" cy="139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387600" y="1957320"/>
                <a:ext cx="39942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b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→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1328760" y="1971720"/>
            <a:ext cx="21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340160" y="4532400"/>
                <a:ext cx="32846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→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95280" y="3166920"/>
            <a:ext cx="49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obtain BP equa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668760" y="5651640"/>
                <a:ext cx="50673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b>
                      <m:sup/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b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87" name=""/>
          <p:cNvGrpSpPr/>
          <p:nvPr/>
        </p:nvGrpSpPr>
        <p:grpSpPr>
          <a:xfrm>
            <a:off x="2741760" y="4022640"/>
            <a:ext cx="1252080" cy="1278000"/>
            <a:chOff x="2741760" y="4022640"/>
            <a:chExt cx="1252080" cy="1278000"/>
          </a:xfrm>
        </p:grpSpPr>
        <p:sp>
          <p:nvSpPr>
            <p:cNvPr id="588" name=""/>
            <p:cNvSpPr/>
            <p:nvPr/>
          </p:nvSpPr>
          <p:spPr>
            <a:xfrm>
              <a:off x="3824280" y="4562640"/>
              <a:ext cx="169560" cy="19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50440" y="4532040"/>
              <a:ext cx="223560" cy="251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88960" y="5108760"/>
              <a:ext cx="169560" cy="19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2908800" y="4657680"/>
              <a:ext cx="334800" cy="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78320" y="4658400"/>
              <a:ext cx="344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367440" y="4791240"/>
              <a:ext cx="720" cy="32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41760" y="4551480"/>
              <a:ext cx="169560" cy="19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88960" y="4022640"/>
              <a:ext cx="169560" cy="19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63120" y="4215600"/>
              <a:ext cx="720" cy="31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67840" y="4711320"/>
              <a:ext cx="2286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3313440" y="4832640"/>
              <a:ext cx="10440" cy="2160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319920" y="4256280"/>
              <a:ext cx="10440" cy="2286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526560" y="4712040"/>
              <a:ext cx="2116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35480" y="4364280"/>
              <a:ext cx="18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716040" y="5272200"/>
            <a:ext cx="2358720" cy="1162080"/>
            <a:chOff x="716040" y="5272200"/>
            <a:chExt cx="2358720" cy="1162080"/>
          </a:xfrm>
        </p:grpSpPr>
        <p:sp>
          <p:nvSpPr>
            <p:cNvPr id="603" name=""/>
            <p:cNvSpPr/>
            <p:nvPr/>
          </p:nvSpPr>
          <p:spPr>
            <a:xfrm>
              <a:off x="1813320" y="5759640"/>
              <a:ext cx="17316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31200" y="5732640"/>
              <a:ext cx="226800" cy="226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70440" y="6253200"/>
              <a:ext cx="173160" cy="1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884880" y="5845320"/>
              <a:ext cx="340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62320" y="5846760"/>
              <a:ext cx="350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346040" y="5965920"/>
              <a:ext cx="39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16040" y="5749920"/>
              <a:ext cx="171720" cy="1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270440" y="5272200"/>
              <a:ext cx="173160" cy="1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46400" y="5451480"/>
              <a:ext cx="1080" cy="28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45720" y="5894640"/>
              <a:ext cx="2311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296720" y="6004080"/>
              <a:ext cx="10080" cy="1951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302480" y="5483160"/>
              <a:ext cx="11880" cy="2066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92600" y="5842080"/>
              <a:ext cx="348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31360" y="5745240"/>
              <a:ext cx="226800" cy="2271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61400" y="5862600"/>
              <a:ext cx="338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2440440" y="5454720"/>
              <a:ext cx="3960" cy="29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38560" y="5276880"/>
              <a:ext cx="199080" cy="1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03400" y="5783400"/>
              <a:ext cx="171360" cy="1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59080" y="6261120"/>
              <a:ext cx="171360" cy="1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40800" y="5981760"/>
              <a:ext cx="10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2406960" y="5994000"/>
              <a:ext cx="10080" cy="1954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02640" y="5484960"/>
              <a:ext cx="10080" cy="2062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2620800" y="5911920"/>
              <a:ext cx="2149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77720" y="62676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zed Belief Propagatio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f in a region is the product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information (factors in reg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s from parent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s into descendant regions from parents who are not descend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-update rules obtained by enforcing marginalization constra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7610400" y="2198520"/>
            <a:ext cx="1068480" cy="739800"/>
            <a:chOff x="7610400" y="2198520"/>
            <a:chExt cx="1068480" cy="739800"/>
          </a:xfrm>
        </p:grpSpPr>
        <p:sp>
          <p:nvSpPr>
            <p:cNvPr id="629" name=""/>
            <p:cNvSpPr/>
            <p:nvPr/>
          </p:nvSpPr>
          <p:spPr>
            <a:xfrm>
              <a:off x="7610400" y="2198520"/>
              <a:ext cx="10684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846560" y="2361240"/>
              <a:ext cx="8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4857840" y="892080"/>
            <a:ext cx="1068120" cy="739800"/>
            <a:chOff x="4857840" y="892080"/>
            <a:chExt cx="1068120" cy="739800"/>
          </a:xfrm>
        </p:grpSpPr>
        <p:sp>
          <p:nvSpPr>
            <p:cNvPr id="632" name=""/>
            <p:cNvSpPr/>
            <p:nvPr/>
          </p:nvSpPr>
          <p:spPr>
            <a:xfrm>
              <a:off x="4857840" y="892080"/>
              <a:ext cx="106812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94000" y="1057680"/>
              <a:ext cx="81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5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218280" y="892080"/>
            <a:ext cx="1068480" cy="739800"/>
            <a:chOff x="6218280" y="892080"/>
            <a:chExt cx="1068480" cy="739800"/>
          </a:xfrm>
        </p:grpSpPr>
        <p:sp>
          <p:nvSpPr>
            <p:cNvPr id="635" name=""/>
            <p:cNvSpPr/>
            <p:nvPr/>
          </p:nvSpPr>
          <p:spPr>
            <a:xfrm>
              <a:off x="6218280" y="892080"/>
              <a:ext cx="10684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53360" y="1057680"/>
              <a:ext cx="81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7578720" y="892080"/>
            <a:ext cx="1066680" cy="739800"/>
            <a:chOff x="7578720" y="892080"/>
            <a:chExt cx="1066680" cy="739800"/>
          </a:xfrm>
        </p:grpSpPr>
        <p:sp>
          <p:nvSpPr>
            <p:cNvPr id="638" name=""/>
            <p:cNvSpPr/>
            <p:nvPr/>
          </p:nvSpPr>
          <p:spPr>
            <a:xfrm>
              <a:off x="7578720" y="892080"/>
              <a:ext cx="10666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814520" y="105768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68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486240" y="2200320"/>
            <a:ext cx="1068120" cy="739800"/>
            <a:chOff x="3486240" y="2200320"/>
            <a:chExt cx="1068120" cy="739800"/>
          </a:xfrm>
        </p:grpSpPr>
        <p:sp>
          <p:nvSpPr>
            <p:cNvPr id="641" name=""/>
            <p:cNvSpPr/>
            <p:nvPr/>
          </p:nvSpPr>
          <p:spPr>
            <a:xfrm>
              <a:off x="3486240" y="2200320"/>
              <a:ext cx="106812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22400" y="2363040"/>
              <a:ext cx="81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4861080" y="2200320"/>
            <a:ext cx="1066680" cy="739800"/>
            <a:chOff x="4861080" y="2200320"/>
            <a:chExt cx="1066680" cy="739800"/>
          </a:xfrm>
        </p:grpSpPr>
        <p:sp>
          <p:nvSpPr>
            <p:cNvPr id="644" name=""/>
            <p:cNvSpPr/>
            <p:nvPr/>
          </p:nvSpPr>
          <p:spPr>
            <a:xfrm>
              <a:off x="4861080" y="2200320"/>
              <a:ext cx="10666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95800" y="2363040"/>
              <a:ext cx="8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235560" y="2219400"/>
            <a:ext cx="1065240" cy="739800"/>
            <a:chOff x="6235560" y="2219400"/>
            <a:chExt cx="1065240" cy="739800"/>
          </a:xfrm>
        </p:grpSpPr>
        <p:sp>
          <p:nvSpPr>
            <p:cNvPr id="647" name=""/>
            <p:cNvSpPr/>
            <p:nvPr/>
          </p:nvSpPr>
          <p:spPr>
            <a:xfrm>
              <a:off x="6235560" y="2219400"/>
              <a:ext cx="106524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472440" y="2382120"/>
              <a:ext cx="81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490920" y="893880"/>
            <a:ext cx="1068480" cy="739800"/>
            <a:chOff x="3490920" y="893880"/>
            <a:chExt cx="1068480" cy="739800"/>
          </a:xfrm>
        </p:grpSpPr>
        <p:sp>
          <p:nvSpPr>
            <p:cNvPr id="650" name=""/>
            <p:cNvSpPr/>
            <p:nvPr/>
          </p:nvSpPr>
          <p:spPr>
            <a:xfrm>
              <a:off x="3490920" y="893880"/>
              <a:ext cx="10684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26000" y="1059480"/>
              <a:ext cx="81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5560920" y="3740040"/>
            <a:ext cx="1067040" cy="739800"/>
            <a:chOff x="5560920" y="3740040"/>
            <a:chExt cx="1067040" cy="739800"/>
          </a:xfrm>
        </p:grpSpPr>
        <p:sp>
          <p:nvSpPr>
            <p:cNvPr id="653" name=""/>
            <p:cNvSpPr/>
            <p:nvPr/>
          </p:nvSpPr>
          <p:spPr>
            <a:xfrm>
              <a:off x="5560920" y="3740040"/>
              <a:ext cx="106704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96720" y="3905640"/>
              <a:ext cx="8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052880" y="17049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248000" y="1711440"/>
            <a:ext cx="9543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194000" y="1690560"/>
            <a:ext cx="973440" cy="40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526000" y="1697040"/>
            <a:ext cx="1022400" cy="4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5532480" y="1697040"/>
            <a:ext cx="100152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00840" y="1720800"/>
            <a:ext cx="101268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858000" y="1682640"/>
            <a:ext cx="1008000" cy="4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205840" y="171144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078440" y="3024360"/>
            <a:ext cx="1636560" cy="66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38880" y="3002040"/>
            <a:ext cx="506160" cy="67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197760" y="3009960"/>
            <a:ext cx="51912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6459480" y="3009960"/>
            <a:ext cx="1663920" cy="65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79440" y="704880"/>
            <a:ext cx="298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eralized Belief Propa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79360" y="3701880"/>
            <a:ext cx="298440" cy="279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79360" y="4657680"/>
            <a:ext cx="298440" cy="281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33440" y="3994200"/>
            <a:ext cx="1800" cy="66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20840" y="3701880"/>
            <a:ext cx="298440" cy="279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22640" y="4657680"/>
            <a:ext cx="298440" cy="281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84280" y="3987720"/>
            <a:ext cx="0" cy="66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65560" y="3703680"/>
            <a:ext cx="298440" cy="27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67000" y="4659480"/>
            <a:ext cx="298440" cy="27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421080" y="3981600"/>
            <a:ext cx="1440" cy="67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74920" y="3844800"/>
            <a:ext cx="733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77800" y="4792680"/>
            <a:ext cx="75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79360" y="4657680"/>
            <a:ext cx="298440" cy="281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79360" y="5614920"/>
            <a:ext cx="298440" cy="27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27320" y="4929120"/>
            <a:ext cx="0" cy="67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20840" y="4657680"/>
            <a:ext cx="298440" cy="281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222640" y="5614920"/>
            <a:ext cx="298440" cy="27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384280" y="4943520"/>
            <a:ext cx="0" cy="68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65560" y="4659480"/>
            <a:ext cx="298440" cy="27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267000" y="5616720"/>
            <a:ext cx="298440" cy="27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421080" y="4944960"/>
            <a:ext cx="1440" cy="68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461960" y="5748480"/>
            <a:ext cx="7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19000" y="3373560"/>
            <a:ext cx="1967040" cy="18111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47960" y="3430440"/>
            <a:ext cx="1966680" cy="18115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88840" y="4387680"/>
            <a:ext cx="1967040" cy="18115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17720" y="4381560"/>
            <a:ext cx="1967040" cy="18097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84200" y="386712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16320" y="385452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38480" y="387684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84200" y="477504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96960" y="4803840"/>
            <a:ext cx="3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17960" y="481824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393920" y="533880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435400" y="535788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62160" y="536724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535120" y="3838680"/>
            <a:ext cx="735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523960" y="4786200"/>
            <a:ext cx="75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6040" y="5757840"/>
            <a:ext cx="75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610400" y="2198520"/>
            <a:ext cx="1068480" cy="739800"/>
            <a:chOff x="7610400" y="2198520"/>
            <a:chExt cx="1068480" cy="739800"/>
          </a:xfrm>
        </p:grpSpPr>
        <p:sp>
          <p:nvSpPr>
            <p:cNvPr id="706" name=""/>
            <p:cNvSpPr/>
            <p:nvPr/>
          </p:nvSpPr>
          <p:spPr>
            <a:xfrm>
              <a:off x="7610400" y="2198520"/>
              <a:ext cx="10684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846560" y="2361240"/>
              <a:ext cx="8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857840" y="892080"/>
            <a:ext cx="1068120" cy="739800"/>
            <a:chOff x="4857840" y="892080"/>
            <a:chExt cx="1068120" cy="739800"/>
          </a:xfrm>
        </p:grpSpPr>
        <p:sp>
          <p:nvSpPr>
            <p:cNvPr id="709" name=""/>
            <p:cNvSpPr/>
            <p:nvPr/>
          </p:nvSpPr>
          <p:spPr>
            <a:xfrm>
              <a:off x="4857840" y="892080"/>
              <a:ext cx="106812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94000" y="1057680"/>
              <a:ext cx="81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5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6218280" y="892080"/>
            <a:ext cx="1068480" cy="739800"/>
            <a:chOff x="6218280" y="892080"/>
            <a:chExt cx="1068480" cy="739800"/>
          </a:xfrm>
        </p:grpSpPr>
        <p:sp>
          <p:nvSpPr>
            <p:cNvPr id="712" name=""/>
            <p:cNvSpPr/>
            <p:nvPr/>
          </p:nvSpPr>
          <p:spPr>
            <a:xfrm>
              <a:off x="6218280" y="892080"/>
              <a:ext cx="10684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53360" y="1057680"/>
              <a:ext cx="81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578720" y="892080"/>
            <a:ext cx="1066680" cy="739800"/>
            <a:chOff x="7578720" y="892080"/>
            <a:chExt cx="1066680" cy="739800"/>
          </a:xfrm>
        </p:grpSpPr>
        <p:sp>
          <p:nvSpPr>
            <p:cNvPr id="715" name=""/>
            <p:cNvSpPr/>
            <p:nvPr/>
          </p:nvSpPr>
          <p:spPr>
            <a:xfrm>
              <a:off x="7578720" y="892080"/>
              <a:ext cx="10666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814520" y="105768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68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486240" y="2200320"/>
            <a:ext cx="1068120" cy="739800"/>
            <a:chOff x="3486240" y="2200320"/>
            <a:chExt cx="1068120" cy="739800"/>
          </a:xfrm>
        </p:grpSpPr>
        <p:sp>
          <p:nvSpPr>
            <p:cNvPr id="718" name=""/>
            <p:cNvSpPr/>
            <p:nvPr/>
          </p:nvSpPr>
          <p:spPr>
            <a:xfrm>
              <a:off x="3486240" y="2200320"/>
              <a:ext cx="106812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22400" y="2363040"/>
              <a:ext cx="81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861080" y="2200320"/>
            <a:ext cx="1066680" cy="739800"/>
            <a:chOff x="4861080" y="2200320"/>
            <a:chExt cx="1066680" cy="739800"/>
          </a:xfrm>
        </p:grpSpPr>
        <p:sp>
          <p:nvSpPr>
            <p:cNvPr id="721" name=""/>
            <p:cNvSpPr/>
            <p:nvPr/>
          </p:nvSpPr>
          <p:spPr>
            <a:xfrm>
              <a:off x="4861080" y="2200320"/>
              <a:ext cx="10666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95800" y="2363040"/>
              <a:ext cx="8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6235560" y="2219400"/>
            <a:ext cx="1065240" cy="739800"/>
            <a:chOff x="6235560" y="2219400"/>
            <a:chExt cx="1065240" cy="739800"/>
          </a:xfrm>
        </p:grpSpPr>
        <p:sp>
          <p:nvSpPr>
            <p:cNvPr id="724" name=""/>
            <p:cNvSpPr/>
            <p:nvPr/>
          </p:nvSpPr>
          <p:spPr>
            <a:xfrm>
              <a:off x="6235560" y="2219400"/>
              <a:ext cx="106524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72440" y="2382120"/>
              <a:ext cx="81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3490920" y="893880"/>
            <a:ext cx="1068480" cy="739800"/>
            <a:chOff x="3490920" y="893880"/>
            <a:chExt cx="1068480" cy="739800"/>
          </a:xfrm>
        </p:grpSpPr>
        <p:sp>
          <p:nvSpPr>
            <p:cNvPr id="727" name=""/>
            <p:cNvSpPr/>
            <p:nvPr/>
          </p:nvSpPr>
          <p:spPr>
            <a:xfrm>
              <a:off x="3490920" y="893880"/>
              <a:ext cx="10684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726000" y="1059480"/>
              <a:ext cx="81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560920" y="3740040"/>
            <a:ext cx="1067040" cy="739800"/>
            <a:chOff x="5560920" y="3740040"/>
            <a:chExt cx="1067040" cy="739800"/>
          </a:xfrm>
        </p:grpSpPr>
        <p:sp>
          <p:nvSpPr>
            <p:cNvPr id="730" name=""/>
            <p:cNvSpPr/>
            <p:nvPr/>
          </p:nvSpPr>
          <p:spPr>
            <a:xfrm>
              <a:off x="5560920" y="3740040"/>
              <a:ext cx="106704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96720" y="3905640"/>
              <a:ext cx="8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4052880" y="17049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48000" y="1711440"/>
            <a:ext cx="9543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4194000" y="1690560"/>
            <a:ext cx="973440" cy="40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26000" y="1697040"/>
            <a:ext cx="1022400" cy="4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5532480" y="1697040"/>
            <a:ext cx="100152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00840" y="1720800"/>
            <a:ext cx="101268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858000" y="1682640"/>
            <a:ext cx="1008000" cy="4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205840" y="171144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78440" y="3024360"/>
            <a:ext cx="1636560" cy="663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38880" y="3002040"/>
            <a:ext cx="506160" cy="671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6197760" y="3009960"/>
            <a:ext cx="519120" cy="669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6459480" y="3009960"/>
            <a:ext cx="1663920" cy="655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335560" y="3517920"/>
            <a:ext cx="1542960" cy="1217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79440" y="704880"/>
            <a:ext cx="298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eralized Belief Propa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788000" y="5218200"/>
                <a:ext cx="30859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∝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→</m:t>
                        </m:r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→</m:t>
                        </m:r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→</m:t>
                        </m:r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47" name=""/>
          <p:cNvGrpSpPr/>
          <p:nvPr/>
        </p:nvGrpSpPr>
        <p:grpSpPr>
          <a:xfrm>
            <a:off x="1179360" y="3701880"/>
            <a:ext cx="2386080" cy="2194200"/>
            <a:chOff x="1179360" y="3701880"/>
            <a:chExt cx="2386080" cy="2194200"/>
          </a:xfrm>
        </p:grpSpPr>
        <p:sp>
          <p:nvSpPr>
            <p:cNvPr id="748" name=""/>
            <p:cNvSpPr/>
            <p:nvPr/>
          </p:nvSpPr>
          <p:spPr>
            <a:xfrm>
              <a:off x="1179360" y="3701880"/>
              <a:ext cx="298440" cy="279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79360" y="4657680"/>
              <a:ext cx="298440" cy="281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333440" y="3994200"/>
              <a:ext cx="1800" cy="66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220840" y="3701880"/>
              <a:ext cx="298440" cy="279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222640" y="4657680"/>
              <a:ext cx="298440" cy="281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84280" y="3987720"/>
              <a:ext cx="0" cy="66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265560" y="3703680"/>
              <a:ext cx="29844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67000" y="4659480"/>
              <a:ext cx="29844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3421080" y="3981600"/>
              <a:ext cx="1440" cy="6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74920" y="3844800"/>
              <a:ext cx="733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477800" y="4792680"/>
              <a:ext cx="75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79360" y="4657680"/>
              <a:ext cx="298440" cy="281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79360" y="5614920"/>
              <a:ext cx="29844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327320" y="4929120"/>
              <a:ext cx="0" cy="67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20840" y="4657680"/>
              <a:ext cx="298440" cy="281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222640" y="5614920"/>
              <a:ext cx="29844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384280" y="4943520"/>
              <a:ext cx="0" cy="68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65560" y="4659480"/>
              <a:ext cx="29844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67000" y="5616720"/>
              <a:ext cx="29844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21080" y="4944960"/>
              <a:ext cx="1440" cy="68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61960" y="5748480"/>
              <a:ext cx="7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84200" y="386712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416320" y="385452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38480" y="387684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384200" y="477504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96960" y="4803840"/>
              <a:ext cx="34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17960" y="481824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393920" y="533880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435400" y="535788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62160" y="536724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535120" y="3838680"/>
              <a:ext cx="735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523960" y="4786200"/>
              <a:ext cx="75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16040" y="5757840"/>
              <a:ext cx="75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311560" y="4048200"/>
              <a:ext cx="0" cy="520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622520" y="4710240"/>
              <a:ext cx="5475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2323800" y="5011200"/>
              <a:ext cx="6120" cy="546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2595600" y="4721400"/>
              <a:ext cx="598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176560" y="4594320"/>
              <a:ext cx="396720" cy="404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"/>
          <p:cNvGrpSpPr/>
          <p:nvPr/>
        </p:nvGrpSpPr>
        <p:grpSpPr>
          <a:xfrm>
            <a:off x="7610400" y="2198520"/>
            <a:ext cx="1068480" cy="739800"/>
            <a:chOff x="7610400" y="2198520"/>
            <a:chExt cx="1068480" cy="739800"/>
          </a:xfrm>
        </p:grpSpPr>
        <p:sp>
          <p:nvSpPr>
            <p:cNvPr id="787" name=""/>
            <p:cNvSpPr/>
            <p:nvPr/>
          </p:nvSpPr>
          <p:spPr>
            <a:xfrm>
              <a:off x="7610400" y="2198520"/>
              <a:ext cx="10684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46560" y="2361240"/>
              <a:ext cx="8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4857840" y="892080"/>
            <a:ext cx="1068120" cy="739800"/>
            <a:chOff x="4857840" y="892080"/>
            <a:chExt cx="1068120" cy="739800"/>
          </a:xfrm>
        </p:grpSpPr>
        <p:sp>
          <p:nvSpPr>
            <p:cNvPr id="790" name=""/>
            <p:cNvSpPr/>
            <p:nvPr/>
          </p:nvSpPr>
          <p:spPr>
            <a:xfrm>
              <a:off x="4857840" y="892080"/>
              <a:ext cx="106812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94000" y="1057680"/>
              <a:ext cx="81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5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6218280" y="892080"/>
            <a:ext cx="1068480" cy="739800"/>
            <a:chOff x="6218280" y="892080"/>
            <a:chExt cx="1068480" cy="739800"/>
          </a:xfrm>
        </p:grpSpPr>
        <p:sp>
          <p:nvSpPr>
            <p:cNvPr id="793" name=""/>
            <p:cNvSpPr/>
            <p:nvPr/>
          </p:nvSpPr>
          <p:spPr>
            <a:xfrm>
              <a:off x="6218280" y="892080"/>
              <a:ext cx="10684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453360" y="1057680"/>
              <a:ext cx="81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7578720" y="892080"/>
            <a:ext cx="1066680" cy="739800"/>
            <a:chOff x="7578720" y="892080"/>
            <a:chExt cx="1066680" cy="739800"/>
          </a:xfrm>
        </p:grpSpPr>
        <p:sp>
          <p:nvSpPr>
            <p:cNvPr id="796" name=""/>
            <p:cNvSpPr/>
            <p:nvPr/>
          </p:nvSpPr>
          <p:spPr>
            <a:xfrm>
              <a:off x="7578720" y="892080"/>
              <a:ext cx="10666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814520" y="105768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68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3486240" y="2200320"/>
            <a:ext cx="1068120" cy="739800"/>
            <a:chOff x="3486240" y="2200320"/>
            <a:chExt cx="1068120" cy="739800"/>
          </a:xfrm>
        </p:grpSpPr>
        <p:sp>
          <p:nvSpPr>
            <p:cNvPr id="799" name=""/>
            <p:cNvSpPr/>
            <p:nvPr/>
          </p:nvSpPr>
          <p:spPr>
            <a:xfrm>
              <a:off x="3486240" y="2200320"/>
              <a:ext cx="106812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722400" y="2363040"/>
              <a:ext cx="81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4861080" y="2200320"/>
            <a:ext cx="1066680" cy="739800"/>
            <a:chOff x="4861080" y="2200320"/>
            <a:chExt cx="1066680" cy="739800"/>
          </a:xfrm>
        </p:grpSpPr>
        <p:sp>
          <p:nvSpPr>
            <p:cNvPr id="802" name=""/>
            <p:cNvSpPr/>
            <p:nvPr/>
          </p:nvSpPr>
          <p:spPr>
            <a:xfrm>
              <a:off x="4861080" y="2200320"/>
              <a:ext cx="10666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95800" y="2363040"/>
              <a:ext cx="8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6280200" y="2209680"/>
            <a:ext cx="1065240" cy="739800"/>
            <a:chOff x="6280200" y="2209680"/>
            <a:chExt cx="1065240" cy="739800"/>
          </a:xfrm>
        </p:grpSpPr>
        <p:sp>
          <p:nvSpPr>
            <p:cNvPr id="805" name=""/>
            <p:cNvSpPr/>
            <p:nvPr/>
          </p:nvSpPr>
          <p:spPr>
            <a:xfrm>
              <a:off x="6280200" y="2209680"/>
              <a:ext cx="106524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517080" y="2372400"/>
              <a:ext cx="81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3490920" y="893880"/>
            <a:ext cx="1068480" cy="739800"/>
            <a:chOff x="3490920" y="893880"/>
            <a:chExt cx="1068480" cy="739800"/>
          </a:xfrm>
        </p:grpSpPr>
        <p:sp>
          <p:nvSpPr>
            <p:cNvPr id="808" name=""/>
            <p:cNvSpPr/>
            <p:nvPr/>
          </p:nvSpPr>
          <p:spPr>
            <a:xfrm>
              <a:off x="3490920" y="893880"/>
              <a:ext cx="10684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726000" y="1059480"/>
              <a:ext cx="81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5560920" y="3740040"/>
            <a:ext cx="1067040" cy="739800"/>
            <a:chOff x="5560920" y="3740040"/>
            <a:chExt cx="1067040" cy="739800"/>
          </a:xfrm>
        </p:grpSpPr>
        <p:sp>
          <p:nvSpPr>
            <p:cNvPr id="811" name=""/>
            <p:cNvSpPr/>
            <p:nvPr/>
          </p:nvSpPr>
          <p:spPr>
            <a:xfrm>
              <a:off x="5560920" y="3740040"/>
              <a:ext cx="106704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96720" y="3905640"/>
              <a:ext cx="8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4052880" y="17049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248000" y="1711440"/>
            <a:ext cx="954360" cy="4222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4194000" y="1690560"/>
            <a:ext cx="973440" cy="40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526000" y="1697040"/>
            <a:ext cx="1022400" cy="4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5532480" y="1697040"/>
            <a:ext cx="1001520" cy="436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900840" y="1720800"/>
            <a:ext cx="101268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858000" y="1682640"/>
            <a:ext cx="1008000" cy="4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8205840" y="171144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078440" y="3024360"/>
            <a:ext cx="1636560" cy="663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438880" y="3002040"/>
            <a:ext cx="506160" cy="67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6303960" y="2965320"/>
            <a:ext cx="519120" cy="669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6459480" y="3009960"/>
            <a:ext cx="1663920" cy="655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9440" y="704880"/>
            <a:ext cx="298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eralized Belief Propa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3994200" y="5218200"/>
                <a:ext cx="4579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sub>
                    </m:sSub>
                    <m:r>
                      <m:t xml:space="preserve">∝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→</m:t>
                        </m:r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"/>
          <p:cNvSpPr/>
          <p:nvPr/>
        </p:nvSpPr>
        <p:spPr>
          <a:xfrm rot="20008200">
            <a:off x="4928760" y="1638360"/>
            <a:ext cx="1563840" cy="33940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095480" y="3701880"/>
            <a:ext cx="2469960" cy="2194200"/>
            <a:chOff x="1095480" y="3701880"/>
            <a:chExt cx="2469960" cy="2194200"/>
          </a:xfrm>
        </p:grpSpPr>
        <p:sp>
          <p:nvSpPr>
            <p:cNvPr id="829" name=""/>
            <p:cNvSpPr/>
            <p:nvPr/>
          </p:nvSpPr>
          <p:spPr>
            <a:xfrm>
              <a:off x="1179360" y="3701880"/>
              <a:ext cx="298440" cy="279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79360" y="4657680"/>
              <a:ext cx="298440" cy="281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33440" y="3994200"/>
              <a:ext cx="1800" cy="66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20840" y="3701880"/>
              <a:ext cx="298440" cy="279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222640" y="4657680"/>
              <a:ext cx="298440" cy="281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384280" y="3987720"/>
              <a:ext cx="0" cy="66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265560" y="3703680"/>
              <a:ext cx="29844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267000" y="4659480"/>
              <a:ext cx="29844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421080" y="3981600"/>
              <a:ext cx="1440" cy="6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474920" y="3844800"/>
              <a:ext cx="733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77800" y="4792680"/>
              <a:ext cx="75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179360" y="4657680"/>
              <a:ext cx="298440" cy="281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79360" y="5614920"/>
              <a:ext cx="29844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27320" y="4929120"/>
              <a:ext cx="0" cy="67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20840" y="4657680"/>
              <a:ext cx="298440" cy="281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222640" y="5614920"/>
              <a:ext cx="29844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384280" y="4943520"/>
              <a:ext cx="0" cy="68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265560" y="4659480"/>
              <a:ext cx="29844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67000" y="5616720"/>
              <a:ext cx="29844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21080" y="4944960"/>
              <a:ext cx="1440" cy="68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461960" y="5748480"/>
              <a:ext cx="7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384200" y="386712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416320" y="385452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38480" y="387684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84200" y="477504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96960" y="4803840"/>
              <a:ext cx="34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17960" y="481824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393920" y="533880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35400" y="535788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62160" y="536724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535120" y="3838680"/>
              <a:ext cx="735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523960" y="4786200"/>
              <a:ext cx="75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516040" y="5757840"/>
              <a:ext cx="75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11560" y="4048200"/>
              <a:ext cx="0" cy="520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2323800" y="4986000"/>
              <a:ext cx="6120" cy="546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2595600" y="4721400"/>
              <a:ext cx="598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527120" y="5591160"/>
              <a:ext cx="69552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1870200" y="4938840"/>
              <a:ext cx="0" cy="6602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521000" y="3989520"/>
              <a:ext cx="69516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881360" y="3997440"/>
              <a:ext cx="1440" cy="65376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95480" y="4514760"/>
              <a:ext cx="1525320" cy="555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graphs and Belief Propa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-based free ener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he free energy and B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B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"/>
          <p:cNvGrpSpPr/>
          <p:nvPr/>
        </p:nvGrpSpPr>
        <p:grpSpPr>
          <a:xfrm>
            <a:off x="7610400" y="2198520"/>
            <a:ext cx="1068480" cy="739800"/>
            <a:chOff x="7610400" y="2198520"/>
            <a:chExt cx="1068480" cy="739800"/>
          </a:xfrm>
        </p:grpSpPr>
        <p:sp>
          <p:nvSpPr>
            <p:cNvPr id="871" name=""/>
            <p:cNvSpPr/>
            <p:nvPr/>
          </p:nvSpPr>
          <p:spPr>
            <a:xfrm>
              <a:off x="7610400" y="2198520"/>
              <a:ext cx="10684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846560" y="2361240"/>
              <a:ext cx="8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857840" y="892080"/>
            <a:ext cx="1068120" cy="739800"/>
            <a:chOff x="4857840" y="892080"/>
            <a:chExt cx="1068120" cy="739800"/>
          </a:xfrm>
        </p:grpSpPr>
        <p:sp>
          <p:nvSpPr>
            <p:cNvPr id="874" name=""/>
            <p:cNvSpPr/>
            <p:nvPr/>
          </p:nvSpPr>
          <p:spPr>
            <a:xfrm>
              <a:off x="4857840" y="892080"/>
              <a:ext cx="106812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94000" y="1057680"/>
              <a:ext cx="81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5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6218280" y="892080"/>
            <a:ext cx="1068480" cy="739800"/>
            <a:chOff x="6218280" y="892080"/>
            <a:chExt cx="1068480" cy="739800"/>
          </a:xfrm>
        </p:grpSpPr>
        <p:sp>
          <p:nvSpPr>
            <p:cNvPr id="877" name=""/>
            <p:cNvSpPr/>
            <p:nvPr/>
          </p:nvSpPr>
          <p:spPr>
            <a:xfrm>
              <a:off x="6218280" y="892080"/>
              <a:ext cx="10684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453360" y="1057680"/>
              <a:ext cx="81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7578720" y="892080"/>
            <a:ext cx="1066680" cy="739800"/>
            <a:chOff x="7578720" y="892080"/>
            <a:chExt cx="1066680" cy="739800"/>
          </a:xfrm>
        </p:grpSpPr>
        <p:sp>
          <p:nvSpPr>
            <p:cNvPr id="880" name=""/>
            <p:cNvSpPr/>
            <p:nvPr/>
          </p:nvSpPr>
          <p:spPr>
            <a:xfrm>
              <a:off x="7578720" y="892080"/>
              <a:ext cx="10666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814520" y="105768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68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486240" y="2200320"/>
            <a:ext cx="1068120" cy="739800"/>
            <a:chOff x="3486240" y="2200320"/>
            <a:chExt cx="1068120" cy="739800"/>
          </a:xfrm>
        </p:grpSpPr>
        <p:sp>
          <p:nvSpPr>
            <p:cNvPr id="883" name=""/>
            <p:cNvSpPr/>
            <p:nvPr/>
          </p:nvSpPr>
          <p:spPr>
            <a:xfrm>
              <a:off x="3486240" y="2200320"/>
              <a:ext cx="106812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22400" y="2363040"/>
              <a:ext cx="81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4861080" y="2200320"/>
            <a:ext cx="1066680" cy="739800"/>
            <a:chOff x="4861080" y="2200320"/>
            <a:chExt cx="1066680" cy="739800"/>
          </a:xfrm>
        </p:grpSpPr>
        <p:sp>
          <p:nvSpPr>
            <p:cNvPr id="886" name=""/>
            <p:cNvSpPr/>
            <p:nvPr/>
          </p:nvSpPr>
          <p:spPr>
            <a:xfrm>
              <a:off x="4861080" y="2200320"/>
              <a:ext cx="10666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095800" y="2363040"/>
              <a:ext cx="8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280200" y="2209680"/>
            <a:ext cx="1065240" cy="739800"/>
            <a:chOff x="6280200" y="2209680"/>
            <a:chExt cx="1065240" cy="739800"/>
          </a:xfrm>
        </p:grpSpPr>
        <p:sp>
          <p:nvSpPr>
            <p:cNvPr id="889" name=""/>
            <p:cNvSpPr/>
            <p:nvPr/>
          </p:nvSpPr>
          <p:spPr>
            <a:xfrm>
              <a:off x="6280200" y="2209680"/>
              <a:ext cx="106524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17080" y="2372400"/>
              <a:ext cx="81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490920" y="893880"/>
            <a:ext cx="1068480" cy="739800"/>
            <a:chOff x="3490920" y="893880"/>
            <a:chExt cx="1068480" cy="739800"/>
          </a:xfrm>
        </p:grpSpPr>
        <p:sp>
          <p:nvSpPr>
            <p:cNvPr id="892" name=""/>
            <p:cNvSpPr/>
            <p:nvPr/>
          </p:nvSpPr>
          <p:spPr>
            <a:xfrm>
              <a:off x="3490920" y="893880"/>
              <a:ext cx="106848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26000" y="1059480"/>
              <a:ext cx="81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5560920" y="3740040"/>
            <a:ext cx="1067040" cy="739800"/>
            <a:chOff x="5560920" y="3740040"/>
            <a:chExt cx="1067040" cy="739800"/>
          </a:xfrm>
        </p:grpSpPr>
        <p:sp>
          <p:nvSpPr>
            <p:cNvPr id="895" name=""/>
            <p:cNvSpPr/>
            <p:nvPr/>
          </p:nvSpPr>
          <p:spPr>
            <a:xfrm>
              <a:off x="5560920" y="3740040"/>
              <a:ext cx="106704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796720" y="3905640"/>
              <a:ext cx="8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4052880" y="17049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248000" y="1711440"/>
            <a:ext cx="9543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4292280" y="1725480"/>
            <a:ext cx="973080" cy="40500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526000" y="1697040"/>
            <a:ext cx="1022400" cy="4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532480" y="1697040"/>
            <a:ext cx="1001520" cy="436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900840" y="1720800"/>
            <a:ext cx="101268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6858000" y="1682640"/>
            <a:ext cx="1008000" cy="4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205840" y="171144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078440" y="3024360"/>
            <a:ext cx="1636560" cy="66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438880" y="3002040"/>
            <a:ext cx="506160" cy="67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6303960" y="2965320"/>
            <a:ext cx="519120" cy="669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6459480" y="3009960"/>
            <a:ext cx="1663920" cy="655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79440" y="704880"/>
            <a:ext cx="298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eralized Belief Propa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179360" y="3701880"/>
            <a:ext cx="298440" cy="279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179360" y="4657680"/>
            <a:ext cx="298440" cy="281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333440" y="3994200"/>
            <a:ext cx="1800" cy="66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20840" y="3701880"/>
            <a:ext cx="298440" cy="279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222640" y="4657680"/>
            <a:ext cx="298440" cy="281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384280" y="3987720"/>
            <a:ext cx="0" cy="66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265560" y="3703680"/>
            <a:ext cx="298440" cy="27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267000" y="4659480"/>
            <a:ext cx="298440" cy="27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3421080" y="3981600"/>
            <a:ext cx="1440" cy="67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74920" y="3844800"/>
            <a:ext cx="733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77800" y="4792680"/>
            <a:ext cx="75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179360" y="4657680"/>
            <a:ext cx="298440" cy="281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79360" y="5614920"/>
            <a:ext cx="298440" cy="27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27320" y="4929120"/>
            <a:ext cx="0" cy="67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220840" y="4657680"/>
            <a:ext cx="298440" cy="281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222640" y="5614920"/>
            <a:ext cx="298440" cy="27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384280" y="4943520"/>
            <a:ext cx="0" cy="68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265560" y="4659480"/>
            <a:ext cx="298440" cy="27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67000" y="5616720"/>
            <a:ext cx="298440" cy="27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421080" y="4944960"/>
            <a:ext cx="1440" cy="68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461960" y="5748480"/>
            <a:ext cx="7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84200" y="386712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416320" y="385452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38480" y="387684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384200" y="477504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496960" y="4803840"/>
            <a:ext cx="3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17960" y="481824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393920" y="533880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435400" y="535788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062160" y="536724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535120" y="3838680"/>
            <a:ext cx="735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523960" y="4786200"/>
            <a:ext cx="75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516040" y="5757840"/>
            <a:ext cx="75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 flipV="1">
            <a:off x="2323800" y="4986000"/>
            <a:ext cx="6120" cy="546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595600" y="4721400"/>
            <a:ext cx="59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841920" y="5227560"/>
                <a:ext cx="23745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45</m:t>
                        </m:r>
                      </m:sub>
                    </m:sSub>
                    <m:r>
                      <m:t xml:space="preserve">∝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6" name=""/>
          <p:cNvSpPr/>
          <p:nvPr/>
        </p:nvSpPr>
        <p:spPr>
          <a:xfrm>
            <a:off x="1527120" y="5591160"/>
            <a:ext cx="69552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870200" y="4938840"/>
            <a:ext cx="0" cy="66024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095640" y="488880"/>
            <a:ext cx="3867120" cy="4383000"/>
          </a:xfrm>
          <a:custGeom>
            <a:avLst/>
            <a:gdLst/>
            <a:ahLst/>
            <a:rect l="l" t="t" r="r" b="b"/>
            <a:pathLst>
              <a:path w="2436" h="2761">
                <a:moveTo>
                  <a:pt x="589" y="64"/>
                </a:moveTo>
                <a:cubicBezTo>
                  <a:pt x="735" y="58"/>
                  <a:pt x="941" y="85"/>
                  <a:pt x="1022" y="220"/>
                </a:cubicBezTo>
                <a:cubicBezTo>
                  <a:pt x="1103" y="355"/>
                  <a:pt x="935" y="743"/>
                  <a:pt x="1078" y="875"/>
                </a:cubicBezTo>
                <a:cubicBezTo>
                  <a:pt x="1221" y="1007"/>
                  <a:pt x="1741" y="850"/>
                  <a:pt x="1883" y="1014"/>
                </a:cubicBezTo>
                <a:cubicBezTo>
                  <a:pt x="2025" y="1178"/>
                  <a:pt x="1847" y="1692"/>
                  <a:pt x="1928" y="1858"/>
                </a:cubicBezTo>
                <a:cubicBezTo>
                  <a:pt x="2009" y="2024"/>
                  <a:pt x="2308" y="1884"/>
                  <a:pt x="2367" y="2008"/>
                </a:cubicBezTo>
                <a:cubicBezTo>
                  <a:pt x="2426" y="2132"/>
                  <a:pt x="2436" y="2505"/>
                  <a:pt x="2283" y="2603"/>
                </a:cubicBezTo>
                <a:cubicBezTo>
                  <a:pt x="2130" y="2701"/>
                  <a:pt x="1794" y="2761"/>
                  <a:pt x="1450" y="2597"/>
                </a:cubicBezTo>
                <a:cubicBezTo>
                  <a:pt x="1106" y="2433"/>
                  <a:pt x="436" y="2007"/>
                  <a:pt x="218" y="1617"/>
                </a:cubicBezTo>
                <a:cubicBezTo>
                  <a:pt x="0" y="1227"/>
                  <a:pt x="82" y="518"/>
                  <a:pt x="144" y="259"/>
                </a:cubicBezTo>
                <a:cubicBezTo>
                  <a:pt x="206" y="0"/>
                  <a:pt x="443" y="70"/>
                  <a:pt x="589" y="64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90640" y="3413160"/>
            <a:ext cx="1931760" cy="17733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138720" y="5229360"/>
                <a:ext cx="28306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→</m:t>
                        </m:r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1" name=""/>
          <p:cNvSpPr/>
          <p:nvPr/>
        </p:nvSpPr>
        <p:spPr>
          <a:xfrm flipV="1">
            <a:off x="3205080" y="4043160"/>
            <a:ext cx="0" cy="63468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2467080" y="4330800"/>
            <a:ext cx="714240" cy="144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"/>
          <p:cNvGrpSpPr/>
          <p:nvPr/>
        </p:nvGrpSpPr>
        <p:grpSpPr>
          <a:xfrm>
            <a:off x="1663560" y="2855880"/>
            <a:ext cx="2465280" cy="2280960"/>
            <a:chOff x="1663560" y="2855880"/>
            <a:chExt cx="2465280" cy="2280960"/>
          </a:xfrm>
        </p:grpSpPr>
        <p:sp>
          <p:nvSpPr>
            <p:cNvPr id="954" name=""/>
            <p:cNvSpPr/>
            <p:nvPr/>
          </p:nvSpPr>
          <p:spPr>
            <a:xfrm>
              <a:off x="1663560" y="2855880"/>
              <a:ext cx="307800" cy="290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663560" y="3849480"/>
              <a:ext cx="307800" cy="291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822320" y="3159000"/>
              <a:ext cx="1440" cy="6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739960" y="2855880"/>
              <a:ext cx="307800" cy="290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41400" y="3849480"/>
              <a:ext cx="307800" cy="291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908080" y="3152520"/>
              <a:ext cx="0" cy="69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819240" y="2857320"/>
              <a:ext cx="308160" cy="290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821040" y="3850920"/>
              <a:ext cx="307800" cy="290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3979800" y="3146400"/>
              <a:ext cx="1440" cy="70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968120" y="30049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971360" y="3989160"/>
              <a:ext cx="77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663560" y="3849480"/>
              <a:ext cx="307800" cy="291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663560" y="4844880"/>
              <a:ext cx="307800" cy="290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815840" y="413208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739960" y="3849480"/>
              <a:ext cx="307800" cy="291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741400" y="4844880"/>
              <a:ext cx="307800" cy="290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908080" y="4146480"/>
              <a:ext cx="0" cy="71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19240" y="3850920"/>
              <a:ext cx="308160" cy="290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21040" y="4846320"/>
              <a:ext cx="307800" cy="290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979800" y="4147920"/>
              <a:ext cx="1440" cy="71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955520" y="4983120"/>
              <a:ext cx="7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874520" y="302724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941560" y="301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87480" y="30366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74520" y="397188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025440" y="40017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66960" y="4016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884240" y="455760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960640" y="457812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08280" y="458784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063600" y="2997000"/>
              <a:ext cx="760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52440" y="3982680"/>
              <a:ext cx="77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044520" y="4993920"/>
              <a:ext cx="77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833560" y="3216240"/>
              <a:ext cx="0" cy="541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20760" y="3903480"/>
              <a:ext cx="566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2854080" y="4217400"/>
              <a:ext cx="6480" cy="568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3126960" y="3916080"/>
              <a:ext cx="617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693880" y="3782880"/>
              <a:ext cx="409320" cy="422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379440" y="704880"/>
            <a:ext cx="298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eralized Belief Propa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425920" y="2881440"/>
            <a:ext cx="306720" cy="28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425920" y="3868560"/>
            <a:ext cx="30672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583240" y="3182760"/>
            <a:ext cx="1440" cy="69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497640" y="2881440"/>
            <a:ext cx="306360" cy="28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499080" y="3868560"/>
            <a:ext cx="30636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64320" y="3176640"/>
            <a:ext cx="0" cy="69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572240" y="2882880"/>
            <a:ext cx="30636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574040" y="3870360"/>
            <a:ext cx="306360" cy="287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7730640" y="3170160"/>
            <a:ext cx="1800" cy="69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29400" y="3029040"/>
            <a:ext cx="75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732640" y="4006800"/>
            <a:ext cx="7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425920" y="3868560"/>
            <a:ext cx="30672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425920" y="4856040"/>
            <a:ext cx="30672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576760" y="4148280"/>
            <a:ext cx="0" cy="69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497640" y="3868560"/>
            <a:ext cx="30636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499080" y="4856040"/>
            <a:ext cx="30636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664320" y="4162320"/>
            <a:ext cx="0" cy="70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572240" y="3870360"/>
            <a:ext cx="306360" cy="287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574040" y="4857840"/>
            <a:ext cx="306360" cy="28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731000" y="4164120"/>
            <a:ext cx="180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716440" y="4994280"/>
            <a:ext cx="7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635800" y="305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697800" y="30384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440480" y="30621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635800" y="3989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81680" y="40194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419960" y="4033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645160" y="4572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716880" y="4591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362720" y="4600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819840" y="3022560"/>
            <a:ext cx="757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808680" y="4000680"/>
            <a:ext cx="7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800760" y="5003640"/>
            <a:ext cx="7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589800" y="3238560"/>
            <a:ext cx="0" cy="538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6602400" y="4206600"/>
            <a:ext cx="0" cy="585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6881400" y="3933720"/>
            <a:ext cx="6159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783400" y="4832280"/>
            <a:ext cx="7156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6135840" y="4157640"/>
            <a:ext cx="0" cy="68256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776920" y="3178080"/>
            <a:ext cx="71424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146640" y="3186000"/>
            <a:ext cx="1800" cy="67464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338800" y="3720960"/>
            <a:ext cx="1569960" cy="573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5138640" y="3503520"/>
                <a:ext cx="405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3606840" y="5397480"/>
                <a:ext cx="26622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483080" y="3709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413160" y="1020960"/>
            <a:ext cx="52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rginalization Constraints to Derive Message-Updat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1663560" y="2855880"/>
            <a:ext cx="308160" cy="290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663560" y="3849840"/>
            <a:ext cx="308160" cy="29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822320" y="3159000"/>
            <a:ext cx="1800" cy="69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739960" y="2855880"/>
            <a:ext cx="308160" cy="290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741760" y="3849840"/>
            <a:ext cx="307800" cy="29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908440" y="3152880"/>
            <a:ext cx="0" cy="69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819600" y="2857680"/>
            <a:ext cx="307800" cy="290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821040" y="3851280"/>
            <a:ext cx="308160" cy="290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3979440" y="3146400"/>
            <a:ext cx="1800" cy="70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968480" y="3005280"/>
            <a:ext cx="75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971720" y="3989520"/>
            <a:ext cx="77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663560" y="3849840"/>
            <a:ext cx="308160" cy="29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663560" y="4844880"/>
            <a:ext cx="308160" cy="290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816200" y="4132440"/>
            <a:ext cx="0" cy="70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39960" y="3849840"/>
            <a:ext cx="308160" cy="29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741760" y="4844880"/>
            <a:ext cx="307800" cy="290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908440" y="4146480"/>
            <a:ext cx="0" cy="71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819600" y="3851280"/>
            <a:ext cx="307800" cy="290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821040" y="4846680"/>
            <a:ext cx="308160" cy="290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979800" y="4148280"/>
            <a:ext cx="1800" cy="71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955880" y="4983120"/>
            <a:ext cx="78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874880" y="30272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41560" y="301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687840" y="30369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874880" y="397188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025800" y="4002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666960" y="4016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884240" y="45576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960640" y="457848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608280" y="458784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063960" y="2997360"/>
            <a:ext cx="760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052800" y="3983040"/>
            <a:ext cx="77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044880" y="4994280"/>
            <a:ext cx="77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20760" y="3903840"/>
            <a:ext cx="567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2854080" y="4218120"/>
            <a:ext cx="6120" cy="568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3127320" y="3916440"/>
            <a:ext cx="617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693880" y="3782880"/>
            <a:ext cx="409680" cy="4222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79440" y="704880"/>
            <a:ext cx="298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eralized Belief Propa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425920" y="2881440"/>
            <a:ext cx="306720" cy="28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425920" y="3868560"/>
            <a:ext cx="30672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83240" y="3182760"/>
            <a:ext cx="1440" cy="69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497640" y="2881440"/>
            <a:ext cx="306360" cy="28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499080" y="3868560"/>
            <a:ext cx="30636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664320" y="3176640"/>
            <a:ext cx="0" cy="69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572240" y="2882880"/>
            <a:ext cx="30636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574040" y="3870360"/>
            <a:ext cx="306360" cy="287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7730640" y="3170160"/>
            <a:ext cx="1800" cy="69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729400" y="3029040"/>
            <a:ext cx="75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32640" y="4006800"/>
            <a:ext cx="7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425920" y="3868560"/>
            <a:ext cx="30672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425920" y="4856040"/>
            <a:ext cx="30672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576760" y="4148280"/>
            <a:ext cx="0" cy="69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497640" y="3868560"/>
            <a:ext cx="30636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499080" y="4856040"/>
            <a:ext cx="30636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664320" y="4162320"/>
            <a:ext cx="0" cy="70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572240" y="3870360"/>
            <a:ext cx="306360" cy="287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74040" y="4857840"/>
            <a:ext cx="306360" cy="28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731000" y="4164120"/>
            <a:ext cx="180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716440" y="4994280"/>
            <a:ext cx="7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635800" y="305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697800" y="30384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440480" y="30621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635800" y="3989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781680" y="40194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419960" y="4033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645160" y="4572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716880" y="4591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362720" y="4600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19840" y="3022560"/>
            <a:ext cx="757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08680" y="4000680"/>
            <a:ext cx="7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800760" y="5003640"/>
            <a:ext cx="7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6602400" y="4206600"/>
            <a:ext cx="0" cy="585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881400" y="3933720"/>
            <a:ext cx="6159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783400" y="4832280"/>
            <a:ext cx="7156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6135840" y="4157640"/>
            <a:ext cx="0" cy="68256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76920" y="3178080"/>
            <a:ext cx="71424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146640" y="3186000"/>
            <a:ext cx="1800" cy="67464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38800" y="3720960"/>
            <a:ext cx="1569960" cy="573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5138640" y="3503520"/>
                <a:ext cx="405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3606840" y="5397480"/>
                <a:ext cx="26622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8" name=""/>
          <p:cNvSpPr/>
          <p:nvPr/>
        </p:nvSpPr>
        <p:spPr>
          <a:xfrm>
            <a:off x="4483080" y="3709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413160" y="1020960"/>
            <a:ext cx="52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rginalization Constraints to Derive Message-Updat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1663560" y="2855880"/>
            <a:ext cx="308160" cy="290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663560" y="3849840"/>
            <a:ext cx="308160" cy="29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822320" y="3159000"/>
            <a:ext cx="1800" cy="69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39960" y="2855880"/>
            <a:ext cx="308160" cy="290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741760" y="3849840"/>
            <a:ext cx="307800" cy="29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908440" y="3152880"/>
            <a:ext cx="0" cy="69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819600" y="2857680"/>
            <a:ext cx="307800" cy="290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821040" y="3851280"/>
            <a:ext cx="308160" cy="290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3979440" y="3146400"/>
            <a:ext cx="1800" cy="70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968480" y="3005280"/>
            <a:ext cx="75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971720" y="3989520"/>
            <a:ext cx="77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663560" y="3849840"/>
            <a:ext cx="308160" cy="29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63560" y="4844880"/>
            <a:ext cx="308160" cy="290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816200" y="4132440"/>
            <a:ext cx="0" cy="70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739960" y="3849840"/>
            <a:ext cx="308160" cy="29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741760" y="4844880"/>
            <a:ext cx="307800" cy="290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08440" y="4146480"/>
            <a:ext cx="0" cy="71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819600" y="3851280"/>
            <a:ext cx="307800" cy="290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821040" y="4846680"/>
            <a:ext cx="308160" cy="290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979800" y="4148280"/>
            <a:ext cx="1800" cy="71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955880" y="4983120"/>
            <a:ext cx="78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874880" y="30272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941560" y="301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687840" y="30369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74880" y="397188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025800" y="4002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666960" y="4016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884240" y="45576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960640" y="457848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608280" y="458784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063960" y="2997360"/>
            <a:ext cx="760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052800" y="3983040"/>
            <a:ext cx="77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044880" y="4994280"/>
            <a:ext cx="77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120760" y="3903840"/>
            <a:ext cx="567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2854080" y="4218120"/>
            <a:ext cx="6120" cy="568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693880" y="3782880"/>
            <a:ext cx="409680" cy="4222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79440" y="704880"/>
            <a:ext cx="298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eralized Belief Propa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25920" y="2881440"/>
            <a:ext cx="306720" cy="28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25920" y="3868560"/>
            <a:ext cx="30672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583240" y="3182760"/>
            <a:ext cx="1440" cy="69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497640" y="2881440"/>
            <a:ext cx="306360" cy="28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499080" y="3868560"/>
            <a:ext cx="30636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664320" y="3176640"/>
            <a:ext cx="0" cy="69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572240" y="2882880"/>
            <a:ext cx="30636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574040" y="3870360"/>
            <a:ext cx="306360" cy="287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7730640" y="3170160"/>
            <a:ext cx="1800" cy="69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729400" y="3029040"/>
            <a:ext cx="75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732640" y="4006800"/>
            <a:ext cx="7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425920" y="3868560"/>
            <a:ext cx="30672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425920" y="4856040"/>
            <a:ext cx="30672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576760" y="4148280"/>
            <a:ext cx="0" cy="69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497640" y="3868560"/>
            <a:ext cx="30636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499080" y="4856040"/>
            <a:ext cx="30636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664320" y="4162320"/>
            <a:ext cx="0" cy="70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572240" y="3870360"/>
            <a:ext cx="306360" cy="287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574040" y="4857840"/>
            <a:ext cx="306360" cy="28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731000" y="4164120"/>
            <a:ext cx="180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716440" y="4994280"/>
            <a:ext cx="7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635800" y="305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697800" y="30384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440480" y="30621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635800" y="3989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781680" y="40194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419960" y="4033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645160" y="4572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716880" y="4591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362720" y="4600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819840" y="3022560"/>
            <a:ext cx="757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808680" y="4000680"/>
            <a:ext cx="7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800760" y="5003640"/>
            <a:ext cx="7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602400" y="4206600"/>
            <a:ext cx="0" cy="585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783400" y="4832280"/>
            <a:ext cx="7156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6135840" y="4157640"/>
            <a:ext cx="0" cy="68256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776920" y="3178080"/>
            <a:ext cx="71424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146640" y="3186000"/>
            <a:ext cx="1800" cy="67464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338800" y="3720960"/>
            <a:ext cx="1569960" cy="573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5138640" y="3503520"/>
                <a:ext cx="405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606840" y="5397480"/>
                <a:ext cx="26622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8" name=""/>
          <p:cNvSpPr/>
          <p:nvPr/>
        </p:nvSpPr>
        <p:spPr>
          <a:xfrm>
            <a:off x="4483080" y="3709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413160" y="1020960"/>
            <a:ext cx="52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rginalization Constraints to Derive Message-Updat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663560" y="2855880"/>
            <a:ext cx="308160" cy="2905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663560" y="3849840"/>
            <a:ext cx="308160" cy="29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822320" y="3159000"/>
            <a:ext cx="1800" cy="69552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739960" y="2855880"/>
            <a:ext cx="308160" cy="2905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741760" y="3849840"/>
            <a:ext cx="307800" cy="29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908440" y="3152880"/>
            <a:ext cx="0" cy="6951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819600" y="2857680"/>
            <a:ext cx="307800" cy="29016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821040" y="3851280"/>
            <a:ext cx="308160" cy="290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3979440" y="3146400"/>
            <a:ext cx="1800" cy="703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68480" y="3005280"/>
            <a:ext cx="75888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1720" y="3989520"/>
            <a:ext cx="77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663560" y="3849840"/>
            <a:ext cx="308160" cy="29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663560" y="4844880"/>
            <a:ext cx="308160" cy="2905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816200" y="4132440"/>
            <a:ext cx="0" cy="70308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739960" y="3849840"/>
            <a:ext cx="308160" cy="29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741760" y="4844880"/>
            <a:ext cx="307800" cy="2905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908440" y="4146480"/>
            <a:ext cx="0" cy="7113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819600" y="3851280"/>
            <a:ext cx="307800" cy="2905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21040" y="4846680"/>
            <a:ext cx="308160" cy="2905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979800" y="4148280"/>
            <a:ext cx="1800" cy="71568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955880" y="4983120"/>
            <a:ext cx="78084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874880" y="30272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941560" y="301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687840" y="30369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874880" y="397188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025800" y="4002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666960" y="4016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84240" y="45576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960640" y="457848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08280" y="458784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063960" y="2997360"/>
            <a:ext cx="76032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052800" y="3983040"/>
            <a:ext cx="77940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044880" y="4994280"/>
            <a:ext cx="77940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120760" y="3903840"/>
            <a:ext cx="567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693880" y="3782880"/>
            <a:ext cx="409680" cy="4222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79440" y="704880"/>
            <a:ext cx="298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eralized Belief Propa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425920" y="2881440"/>
            <a:ext cx="306720" cy="2887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425920" y="3868560"/>
            <a:ext cx="30672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583240" y="3182760"/>
            <a:ext cx="1440" cy="6908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497640" y="2881440"/>
            <a:ext cx="306360" cy="2887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499080" y="3868560"/>
            <a:ext cx="30636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664320" y="3176640"/>
            <a:ext cx="0" cy="69048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572240" y="2882880"/>
            <a:ext cx="306360" cy="28908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574040" y="3870360"/>
            <a:ext cx="306360" cy="287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7730640" y="3170160"/>
            <a:ext cx="1800" cy="6984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29400" y="3029040"/>
            <a:ext cx="75384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732640" y="4006800"/>
            <a:ext cx="7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425920" y="3868560"/>
            <a:ext cx="30672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576760" y="4148280"/>
            <a:ext cx="0" cy="6984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497640" y="3868560"/>
            <a:ext cx="306360" cy="2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664320" y="4162320"/>
            <a:ext cx="0" cy="70668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572240" y="3870360"/>
            <a:ext cx="306360" cy="28728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731000" y="4164120"/>
            <a:ext cx="1800" cy="712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635800" y="305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697800" y="30384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440480" y="30621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635800" y="3989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81680" y="40194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419960" y="4033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819840" y="3022560"/>
            <a:ext cx="75744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808680" y="4000680"/>
            <a:ext cx="77652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425920" y="4856040"/>
            <a:ext cx="306720" cy="28908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499080" y="4856040"/>
            <a:ext cx="306360" cy="28908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74040" y="4857840"/>
            <a:ext cx="306360" cy="2887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716440" y="4994280"/>
            <a:ext cx="77652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645160" y="4572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716880" y="4591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362720" y="4600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800760" y="5003640"/>
            <a:ext cx="77652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783400" y="4832280"/>
            <a:ext cx="7156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6135840" y="4157640"/>
            <a:ext cx="0" cy="68256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776920" y="3178080"/>
            <a:ext cx="71424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146640" y="3186000"/>
            <a:ext cx="1800" cy="67464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338800" y="3720960"/>
            <a:ext cx="1569960" cy="573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5138640" y="3503520"/>
                <a:ext cx="405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1760400" y="5397480"/>
                <a:ext cx="6355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8</m:t>
                            </m:r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4483080" y="3709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413160" y="1020960"/>
            <a:ext cx="52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rginalization Constraints to Derive Message-Updat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33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x10 Ising Spin 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2249640" y="1938240"/>
            <a:ext cx="4360680" cy="4313160"/>
            <a:chOff x="2249640" y="1938240"/>
            <a:chExt cx="4360680" cy="4313160"/>
          </a:xfrm>
        </p:grpSpPr>
        <p:sp>
          <p:nvSpPr>
            <p:cNvPr id="1280" name=""/>
            <p:cNvSpPr/>
            <p:nvPr/>
          </p:nvSpPr>
          <p:spPr>
            <a:xfrm>
              <a:off x="2249640" y="2381040"/>
              <a:ext cx="406080" cy="40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2589120" y="2193480"/>
              <a:ext cx="16848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760480" y="1938240"/>
              <a:ext cx="282600" cy="2635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429000" y="2390760"/>
              <a:ext cx="406440" cy="40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882880" y="2425680"/>
              <a:ext cx="320760" cy="33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4920" y="2587680"/>
              <a:ext cx="226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201840" y="259884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3778200" y="2221920"/>
              <a:ext cx="16848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949560" y="1966680"/>
              <a:ext cx="282600" cy="26352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249640" y="3522600"/>
              <a:ext cx="406080" cy="40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2589120" y="3335400"/>
              <a:ext cx="168480" cy="23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760480" y="3079800"/>
              <a:ext cx="282600" cy="2635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29000" y="3531960"/>
              <a:ext cx="406440" cy="40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882880" y="3566880"/>
              <a:ext cx="320760" cy="330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644920" y="3728880"/>
              <a:ext cx="226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201840" y="374004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3778200" y="3363480"/>
              <a:ext cx="16848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949560" y="3108240"/>
              <a:ext cx="282600" cy="2635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249640" y="4664160"/>
              <a:ext cx="406080" cy="406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2589120" y="4476240"/>
              <a:ext cx="16848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760480" y="4221000"/>
              <a:ext cx="282600" cy="26352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429000" y="4673520"/>
              <a:ext cx="406440" cy="40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882880" y="4708440"/>
              <a:ext cx="320760" cy="33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644920" y="4870440"/>
              <a:ext cx="226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201840" y="488160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3778200" y="4505400"/>
              <a:ext cx="168480" cy="23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949560" y="4249800"/>
              <a:ext cx="282600" cy="26352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249640" y="5805360"/>
              <a:ext cx="406080" cy="40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2589120" y="5618160"/>
              <a:ext cx="168480" cy="23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760480" y="5362560"/>
              <a:ext cx="282600" cy="2635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429000" y="5815080"/>
              <a:ext cx="406440" cy="406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1" name=""/>
            <p:cNvGrpSpPr/>
            <p:nvPr/>
          </p:nvGrpSpPr>
          <p:grpSpPr>
            <a:xfrm>
              <a:off x="2644920" y="5850000"/>
              <a:ext cx="784080" cy="330120"/>
              <a:chOff x="2644920" y="5850000"/>
              <a:chExt cx="784080" cy="330120"/>
            </a:xfrm>
          </p:grpSpPr>
          <p:sp>
            <p:nvSpPr>
              <p:cNvPr id="1312" name=""/>
              <p:cNvSpPr/>
              <p:nvPr/>
            </p:nvSpPr>
            <p:spPr>
              <a:xfrm>
                <a:off x="2882880" y="5850000"/>
                <a:ext cx="32076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644920" y="6011640"/>
                <a:ext cx="22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201840" y="6022800"/>
                <a:ext cx="22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5" name=""/>
            <p:cNvSpPr/>
            <p:nvPr/>
          </p:nvSpPr>
          <p:spPr>
            <a:xfrm flipV="1">
              <a:off x="3778200" y="5646240"/>
              <a:ext cx="16848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949560" y="5391000"/>
              <a:ext cx="282600" cy="2635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7" name=""/>
            <p:cNvGrpSpPr/>
            <p:nvPr/>
          </p:nvGrpSpPr>
          <p:grpSpPr>
            <a:xfrm>
              <a:off x="2300400" y="2786040"/>
              <a:ext cx="320400" cy="766800"/>
              <a:chOff x="2300400" y="2786040"/>
              <a:chExt cx="320400" cy="766800"/>
            </a:xfrm>
          </p:grpSpPr>
          <p:sp>
            <p:nvSpPr>
              <p:cNvPr id="1318" name=""/>
              <p:cNvSpPr/>
              <p:nvPr/>
            </p:nvSpPr>
            <p:spPr>
              <a:xfrm>
                <a:off x="2300400" y="2994120"/>
                <a:ext cx="32040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458800" y="278604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462040" y="333684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2292480" y="3917880"/>
              <a:ext cx="320400" cy="766800"/>
              <a:chOff x="2292480" y="3917880"/>
              <a:chExt cx="320400" cy="766800"/>
            </a:xfrm>
          </p:grpSpPr>
          <p:sp>
            <p:nvSpPr>
              <p:cNvPr id="1322" name=""/>
              <p:cNvSpPr/>
              <p:nvPr/>
            </p:nvSpPr>
            <p:spPr>
              <a:xfrm>
                <a:off x="2292480" y="4125960"/>
                <a:ext cx="32040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450880" y="391788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454120" y="446868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2292480" y="5068800"/>
              <a:ext cx="320400" cy="766800"/>
              <a:chOff x="2292480" y="5068800"/>
              <a:chExt cx="320400" cy="766800"/>
            </a:xfrm>
          </p:grpSpPr>
          <p:sp>
            <p:nvSpPr>
              <p:cNvPr id="1326" name=""/>
              <p:cNvSpPr/>
              <p:nvPr/>
            </p:nvSpPr>
            <p:spPr>
              <a:xfrm>
                <a:off x="2292480" y="5276880"/>
                <a:ext cx="32040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450880" y="506880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454120" y="561960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3479760" y="2776320"/>
              <a:ext cx="320760" cy="766800"/>
              <a:chOff x="3479760" y="2776320"/>
              <a:chExt cx="320760" cy="766800"/>
            </a:xfrm>
          </p:grpSpPr>
          <p:sp>
            <p:nvSpPr>
              <p:cNvPr id="1330" name=""/>
              <p:cNvSpPr/>
              <p:nvPr/>
            </p:nvSpPr>
            <p:spPr>
              <a:xfrm>
                <a:off x="3479760" y="2984400"/>
                <a:ext cx="32076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638520" y="277632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641760" y="332712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3479760" y="3929040"/>
              <a:ext cx="320760" cy="766800"/>
              <a:chOff x="3479760" y="3929040"/>
              <a:chExt cx="320760" cy="766800"/>
            </a:xfrm>
          </p:grpSpPr>
          <p:sp>
            <p:nvSpPr>
              <p:cNvPr id="1334" name=""/>
              <p:cNvSpPr/>
              <p:nvPr/>
            </p:nvSpPr>
            <p:spPr>
              <a:xfrm>
                <a:off x="3479760" y="4137120"/>
                <a:ext cx="32076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638520" y="392904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641760" y="447984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3479760" y="5078160"/>
              <a:ext cx="320760" cy="766800"/>
              <a:chOff x="3479760" y="5078160"/>
              <a:chExt cx="320760" cy="766800"/>
            </a:xfrm>
          </p:grpSpPr>
          <p:sp>
            <p:nvSpPr>
              <p:cNvPr id="1338" name=""/>
              <p:cNvSpPr/>
              <p:nvPr/>
            </p:nvSpPr>
            <p:spPr>
              <a:xfrm>
                <a:off x="3479760" y="5286240"/>
                <a:ext cx="32076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638520" y="507816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641760" y="562896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4627440" y="2411280"/>
              <a:ext cx="406440" cy="40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4967280" y="2224080"/>
              <a:ext cx="168120" cy="23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138640" y="1968480"/>
              <a:ext cx="282600" cy="263520"/>
            </a:xfrm>
            <a:prstGeom prst="rect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807160" y="2421000"/>
              <a:ext cx="406440" cy="40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261040" y="2455920"/>
              <a:ext cx="320760" cy="33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022720" y="261756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580000" y="262872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6156360" y="2252160"/>
              <a:ext cx="16812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27720" y="1996920"/>
              <a:ext cx="282600" cy="263520"/>
            </a:xfrm>
            <a:prstGeom prst="rect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627440" y="3552840"/>
              <a:ext cx="406440" cy="40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4967280" y="3364920"/>
              <a:ext cx="16812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138640" y="3109680"/>
              <a:ext cx="282600" cy="26352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807160" y="3562200"/>
              <a:ext cx="406440" cy="40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261040" y="3597120"/>
              <a:ext cx="320760" cy="33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022720" y="375912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580000" y="377028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6156360" y="3394080"/>
              <a:ext cx="168120" cy="23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27720" y="3138480"/>
              <a:ext cx="282600" cy="263520"/>
            </a:xfrm>
            <a:prstGeom prst="rect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627440" y="4694040"/>
              <a:ext cx="406440" cy="40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4967280" y="4506480"/>
              <a:ext cx="16812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138640" y="4251240"/>
              <a:ext cx="282600" cy="2635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807160" y="4703760"/>
              <a:ext cx="406440" cy="40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261040" y="4738680"/>
              <a:ext cx="320760" cy="33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022720" y="490068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580000" y="491148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6156360" y="4534920"/>
              <a:ext cx="16812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27720" y="4279680"/>
              <a:ext cx="282600" cy="26352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627440" y="5835600"/>
              <a:ext cx="406440" cy="40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4967280" y="5648400"/>
              <a:ext cx="168120" cy="23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138640" y="5392800"/>
              <a:ext cx="282600" cy="26352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807160" y="5844960"/>
              <a:ext cx="406440" cy="40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61040" y="5879880"/>
              <a:ext cx="320760" cy="330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022720" y="604188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580000" y="605304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6156360" y="5676480"/>
              <a:ext cx="16812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27720" y="5421240"/>
              <a:ext cx="282600" cy="26352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7" name=""/>
            <p:cNvGrpSpPr/>
            <p:nvPr/>
          </p:nvGrpSpPr>
          <p:grpSpPr>
            <a:xfrm>
              <a:off x="4678200" y="2816280"/>
              <a:ext cx="320760" cy="766800"/>
              <a:chOff x="4678200" y="2816280"/>
              <a:chExt cx="320760" cy="766800"/>
            </a:xfrm>
          </p:grpSpPr>
          <p:sp>
            <p:nvSpPr>
              <p:cNvPr id="1378" name=""/>
              <p:cNvSpPr/>
              <p:nvPr/>
            </p:nvSpPr>
            <p:spPr>
              <a:xfrm>
                <a:off x="4678200" y="3024360"/>
                <a:ext cx="32076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836960" y="281628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840200" y="336708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4670280" y="3948120"/>
              <a:ext cx="320760" cy="766800"/>
              <a:chOff x="4670280" y="3948120"/>
              <a:chExt cx="320760" cy="766800"/>
            </a:xfrm>
          </p:grpSpPr>
          <p:sp>
            <p:nvSpPr>
              <p:cNvPr id="1382" name=""/>
              <p:cNvSpPr/>
              <p:nvPr/>
            </p:nvSpPr>
            <p:spPr>
              <a:xfrm>
                <a:off x="4670280" y="4156200"/>
                <a:ext cx="32076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829040" y="394812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832280" y="449892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4670280" y="5099040"/>
              <a:ext cx="320760" cy="766800"/>
              <a:chOff x="4670280" y="5099040"/>
              <a:chExt cx="320760" cy="766800"/>
            </a:xfrm>
          </p:grpSpPr>
          <p:sp>
            <p:nvSpPr>
              <p:cNvPr id="1386" name=""/>
              <p:cNvSpPr/>
              <p:nvPr/>
            </p:nvSpPr>
            <p:spPr>
              <a:xfrm>
                <a:off x="4670280" y="5307120"/>
                <a:ext cx="32076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829040" y="509904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832280" y="564984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5857920" y="2806560"/>
              <a:ext cx="320760" cy="766800"/>
              <a:chOff x="5857920" y="2806560"/>
              <a:chExt cx="320760" cy="766800"/>
            </a:xfrm>
          </p:grpSpPr>
          <p:sp>
            <p:nvSpPr>
              <p:cNvPr id="1390" name=""/>
              <p:cNvSpPr/>
              <p:nvPr/>
            </p:nvSpPr>
            <p:spPr>
              <a:xfrm>
                <a:off x="5857920" y="3014640"/>
                <a:ext cx="32076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016680" y="280656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019920" y="335736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5857920" y="3959280"/>
              <a:ext cx="320760" cy="766800"/>
              <a:chOff x="5857920" y="3959280"/>
              <a:chExt cx="320760" cy="766800"/>
            </a:xfrm>
          </p:grpSpPr>
          <p:sp>
            <p:nvSpPr>
              <p:cNvPr id="1394" name=""/>
              <p:cNvSpPr/>
              <p:nvPr/>
            </p:nvSpPr>
            <p:spPr>
              <a:xfrm>
                <a:off x="5857920" y="4167360"/>
                <a:ext cx="32076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016680" y="395928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019920" y="451008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7" name=""/>
            <p:cNvGrpSpPr/>
            <p:nvPr/>
          </p:nvGrpSpPr>
          <p:grpSpPr>
            <a:xfrm>
              <a:off x="5857920" y="5108400"/>
              <a:ext cx="320760" cy="766800"/>
              <a:chOff x="5857920" y="5108400"/>
              <a:chExt cx="320760" cy="766800"/>
            </a:xfrm>
          </p:grpSpPr>
          <p:sp>
            <p:nvSpPr>
              <p:cNvPr id="1398" name=""/>
              <p:cNvSpPr/>
              <p:nvPr/>
            </p:nvSpPr>
            <p:spPr>
              <a:xfrm>
                <a:off x="5857920" y="5316480"/>
                <a:ext cx="32076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016680" y="510840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019920" y="5659200"/>
                <a:ext cx="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1" name=""/>
            <p:cNvGrpSpPr/>
            <p:nvPr/>
          </p:nvGrpSpPr>
          <p:grpSpPr>
            <a:xfrm>
              <a:off x="3833640" y="5860800"/>
              <a:ext cx="784080" cy="330120"/>
              <a:chOff x="3833640" y="5860800"/>
              <a:chExt cx="784080" cy="330120"/>
            </a:xfrm>
          </p:grpSpPr>
          <p:sp>
            <p:nvSpPr>
              <p:cNvPr id="1402" name=""/>
              <p:cNvSpPr/>
              <p:nvPr/>
            </p:nvSpPr>
            <p:spPr>
              <a:xfrm>
                <a:off x="4071600" y="5860800"/>
                <a:ext cx="32076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833640" y="6022440"/>
                <a:ext cx="22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390560" y="6033600"/>
                <a:ext cx="22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3843360" y="4728960"/>
              <a:ext cx="784080" cy="330120"/>
              <a:chOff x="3843360" y="4728960"/>
              <a:chExt cx="784080" cy="330120"/>
            </a:xfrm>
          </p:grpSpPr>
          <p:sp>
            <p:nvSpPr>
              <p:cNvPr id="1406" name=""/>
              <p:cNvSpPr/>
              <p:nvPr/>
            </p:nvSpPr>
            <p:spPr>
              <a:xfrm>
                <a:off x="4081320" y="4728960"/>
                <a:ext cx="32076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843360" y="4890600"/>
                <a:ext cx="22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400280" y="4901760"/>
                <a:ext cx="22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3843360" y="3578040"/>
              <a:ext cx="784080" cy="330120"/>
              <a:chOff x="3843360" y="3578040"/>
              <a:chExt cx="784080" cy="330120"/>
            </a:xfrm>
          </p:grpSpPr>
          <p:sp>
            <p:nvSpPr>
              <p:cNvPr id="1410" name=""/>
              <p:cNvSpPr/>
              <p:nvPr/>
            </p:nvSpPr>
            <p:spPr>
              <a:xfrm>
                <a:off x="4081320" y="3578040"/>
                <a:ext cx="32076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843360" y="3739680"/>
                <a:ext cx="22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400280" y="3750840"/>
                <a:ext cx="22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3843360" y="2457360"/>
              <a:ext cx="784080" cy="330120"/>
              <a:chOff x="3843360" y="2457360"/>
              <a:chExt cx="784080" cy="330120"/>
            </a:xfrm>
          </p:grpSpPr>
          <p:sp>
            <p:nvSpPr>
              <p:cNvPr id="1414" name=""/>
              <p:cNvSpPr/>
              <p:nvPr/>
            </p:nvSpPr>
            <p:spPr>
              <a:xfrm>
                <a:off x="4081320" y="2457360"/>
                <a:ext cx="320760" cy="330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843360" y="2619000"/>
                <a:ext cx="22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400280" y="2630160"/>
                <a:ext cx="22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7" name=""/>
          <p:cNvSpPr/>
          <p:nvPr/>
        </p:nvSpPr>
        <p:spPr>
          <a:xfrm>
            <a:off x="461880" y="397044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803240" y="4262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149480" y="1519200"/>
            <a:ext cx="151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122560" y="205596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 / Current /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BP to develop new decoding methods for error-correcting cod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6440" y="22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95560" y="2998800"/>
            <a:ext cx="4825800" cy="2700000"/>
            <a:chOff x="2095560" y="2998800"/>
            <a:chExt cx="4825800" cy="2700000"/>
          </a:xfrm>
        </p:grpSpPr>
        <p:sp>
          <p:nvSpPr>
            <p:cNvPr id="47" name=""/>
            <p:cNvSpPr/>
            <p:nvPr/>
          </p:nvSpPr>
          <p:spPr>
            <a:xfrm>
              <a:off x="2849400" y="4876560"/>
              <a:ext cx="33048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65640" y="4876560"/>
              <a:ext cx="3301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680080" y="4876560"/>
              <a:ext cx="3301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25880" y="2998800"/>
              <a:ext cx="424080" cy="403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95560" y="2998800"/>
              <a:ext cx="423720" cy="403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40320" y="2998800"/>
              <a:ext cx="425520" cy="403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10000" y="2998800"/>
              <a:ext cx="425520" cy="403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78160" y="3402000"/>
              <a:ext cx="566640" cy="14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057480" y="3382920"/>
              <a:ext cx="595440" cy="148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94040" y="3402000"/>
              <a:ext cx="565200" cy="14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454640" y="3402000"/>
              <a:ext cx="612720" cy="14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547880" y="3355920"/>
              <a:ext cx="1887480" cy="152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916600" y="3402000"/>
              <a:ext cx="565200" cy="14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09960" y="5056200"/>
              <a:ext cx="33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33840" y="50562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81760" y="49798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76440" y="3074760"/>
              <a:ext cx="33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48040" y="3074760"/>
              <a:ext cx="33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19640" y="3151080"/>
              <a:ext cx="33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91240" y="3151080"/>
              <a:ext cx="33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162240" y="3332160"/>
              <a:ext cx="1838160" cy="152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554200" y="1393920"/>
                <a:ext cx="398304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22440" y="5769000"/>
                <a:ext cx="64324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516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ing Marginal Probabi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9000" y="299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ing error-correcting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in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physics of magn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192480" y="1386000"/>
                <a:ext cx="27511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sSub>
                          <m:e/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884160" y="2392200"/>
            <a:ext cx="733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damen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160" y="5468760"/>
            <a:ext cx="733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n-triv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of the huge number of terms in the s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341360" y="1908000"/>
            <a:ext cx="2224080" cy="2006640"/>
            <a:chOff x="1341360" y="1908000"/>
            <a:chExt cx="2224080" cy="2006640"/>
          </a:xfrm>
        </p:grpSpPr>
        <p:sp>
          <p:nvSpPr>
            <p:cNvPr id="77" name=""/>
            <p:cNvSpPr/>
            <p:nvPr/>
          </p:nvSpPr>
          <p:spPr>
            <a:xfrm>
              <a:off x="3263760" y="2755800"/>
              <a:ext cx="301680" cy="30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44600" y="2708280"/>
              <a:ext cx="397080" cy="395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13000" y="3613320"/>
              <a:ext cx="301680" cy="30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638360" y="2905200"/>
              <a:ext cx="595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49600" y="2906640"/>
              <a:ext cx="61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52680" y="3114720"/>
              <a:ext cx="1440" cy="51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41360" y="2738520"/>
              <a:ext cx="301680" cy="30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13000" y="1908000"/>
              <a:ext cx="301680" cy="30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44760" y="2211480"/>
              <a:ext cx="1440" cy="49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43120" y="2989440"/>
              <a:ext cx="4064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2356920" y="3179520"/>
              <a:ext cx="19080" cy="3394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68440" y="2274840"/>
              <a:ext cx="19080" cy="3589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734920" y="2990880"/>
              <a:ext cx="376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75080" y="2443320"/>
              <a:ext cx="3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68920" y="2603520"/>
                <a:ext cx="32846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→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506840" y="3487680"/>
            <a:ext cx="41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fs”         “messag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148360" y="3168360"/>
            <a:ext cx="0" cy="33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053120" y="321768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2440" y="4073400"/>
            <a:ext cx="794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16080" y="4343400"/>
            <a:ext cx="4130640" cy="2019240"/>
            <a:chOff x="316080" y="4343400"/>
            <a:chExt cx="4130640" cy="2019240"/>
          </a:xfrm>
        </p:grpSpPr>
        <p:sp>
          <p:nvSpPr>
            <p:cNvPr id="97" name=""/>
            <p:cNvSpPr/>
            <p:nvPr/>
          </p:nvSpPr>
          <p:spPr>
            <a:xfrm>
              <a:off x="2238840" y="5190840"/>
              <a:ext cx="301320" cy="301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19320" y="5143320"/>
              <a:ext cx="397080" cy="395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87720" y="6048360"/>
              <a:ext cx="301680" cy="30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13080" y="5340240"/>
              <a:ext cx="595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24320" y="5341680"/>
              <a:ext cx="612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419480" y="5549760"/>
              <a:ext cx="792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6080" y="5173560"/>
              <a:ext cx="301680" cy="30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87720" y="4343400"/>
              <a:ext cx="301680" cy="30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19480" y="4655880"/>
              <a:ext cx="1800" cy="48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840" y="5424480"/>
              <a:ext cx="4064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1332360" y="5614560"/>
              <a:ext cx="18720" cy="3394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43160" y="4709880"/>
              <a:ext cx="19080" cy="3589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49880" y="5333760"/>
              <a:ext cx="612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4960" y="5163840"/>
              <a:ext cx="397080" cy="395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546720" y="5368320"/>
              <a:ext cx="595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335760" y="4659120"/>
              <a:ext cx="792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57920" y="4351320"/>
              <a:ext cx="347400" cy="30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45400" y="5230800"/>
              <a:ext cx="301320" cy="30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92840" y="6060960"/>
              <a:ext cx="301680" cy="30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35760" y="5574960"/>
              <a:ext cx="1440" cy="49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3276360" y="5597280"/>
              <a:ext cx="19080" cy="3398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68800" y="4711680"/>
              <a:ext cx="19080" cy="358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651120" y="5456160"/>
              <a:ext cx="376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29000" y="4813200"/>
              <a:ext cx="32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840120" y="4422600"/>
                <a:ext cx="506736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b>
                      <m:sup/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b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867120" y="5753160"/>
            <a:ext cx="50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belief” is the BP approximation of the marginal 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4240" y="40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P Message-updat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960" y="1735200"/>
            <a:ext cx="51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14600" y="1670040"/>
                <a:ext cx="27194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/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4470480" y="1733400"/>
            <a:ext cx="18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38520" y="5189400"/>
            <a:ext cx="1320840" cy="395280"/>
            <a:chOff x="4538520" y="5189400"/>
            <a:chExt cx="1320840" cy="395280"/>
          </a:xfrm>
        </p:grpSpPr>
        <p:sp>
          <p:nvSpPr>
            <p:cNvPr id="128" name=""/>
            <p:cNvSpPr/>
            <p:nvPr/>
          </p:nvSpPr>
          <p:spPr>
            <a:xfrm>
              <a:off x="5557680" y="5237280"/>
              <a:ext cx="301680" cy="301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38520" y="5189400"/>
              <a:ext cx="397080" cy="39528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3520" y="5388120"/>
              <a:ext cx="612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869080" y="5380200"/>
            <a:ext cx="612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64160" y="5210280"/>
            <a:ext cx="397080" cy="395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865920" y="5415120"/>
            <a:ext cx="59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53160" y="4714920"/>
            <a:ext cx="1800" cy="49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4397400"/>
            <a:ext cx="347400" cy="30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4600" y="5276880"/>
            <a:ext cx="301320" cy="30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12040" y="6107040"/>
            <a:ext cx="301680" cy="30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4960" y="5621400"/>
            <a:ext cx="1440" cy="49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586560" y="5643720"/>
            <a:ext cx="9360" cy="358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4757760"/>
            <a:ext cx="19080" cy="358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970320" y="5502240"/>
            <a:ext cx="376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48200" y="485928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88080" y="4897440"/>
            <a:ext cx="3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27880" y="5256360"/>
                <a:ext cx="2905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217520" y="2820960"/>
                <a:ext cx="69645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/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 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b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r>
                                      <m:t xml:space="preserve">→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1003320" y="5210280"/>
            <a:ext cx="1320840" cy="395280"/>
            <a:chOff x="1003320" y="5210280"/>
            <a:chExt cx="1320840" cy="395280"/>
          </a:xfrm>
        </p:grpSpPr>
        <p:sp>
          <p:nvSpPr>
            <p:cNvPr id="147" name=""/>
            <p:cNvSpPr/>
            <p:nvPr/>
          </p:nvSpPr>
          <p:spPr>
            <a:xfrm>
              <a:off x="2022480" y="5258160"/>
              <a:ext cx="301680" cy="30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03320" y="5210280"/>
              <a:ext cx="397080" cy="39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08320" y="5409000"/>
              <a:ext cx="61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220760" y="4879800"/>
            <a:ext cx="3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8480" y="4879800"/>
            <a:ext cx="3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522080" y="5276880"/>
            <a:ext cx="376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38480" y="5187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77360" y="194760"/>
            <a:ext cx="809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al (Gibbs) Free Energ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0160" y="1330200"/>
            <a:ext cx="40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lback-Leibler Di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470320" y="1684440"/>
                <a:ext cx="41306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793800" y="2681280"/>
            <a:ext cx="77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zmann’s Law” (definition of “energy”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179880" y="3081240"/>
                <a:ext cx="31334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442880" y="4992840"/>
                <a:ext cx="61200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316320" y="5824440"/>
            <a:ext cx="417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bbs Free Energy        ; minimized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4656960" y="3731040"/>
            <a:ext cx="282600" cy="3922920"/>
          </a:xfrm>
          <a:custGeom>
            <a:avLst/>
            <a:gdLst>
              <a:gd name="textAreaLeft" fmla="*/ 180720 w 282600"/>
              <a:gd name="textAreaRight" fmla="*/ 282960 w 28260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486240" y="4270320"/>
                <a:ext cx="820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800520" y="4724280"/>
            <a:ext cx="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267160" y="4262400"/>
                <a:ext cx="1128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886360" y="4697280"/>
            <a:ext cx="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665680" y="6251400"/>
                <a:ext cx="16020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006960" y="5813280"/>
                <a:ext cx="690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560" y="51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-based Approximations to the Gibbs Free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884760" y="2198520"/>
                <a:ext cx="14904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[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13200" y="2854440"/>
                <a:ext cx="2054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[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" name=""/>
          <p:cNvGrpSpPr/>
          <p:nvPr/>
        </p:nvGrpSpPr>
        <p:grpSpPr>
          <a:xfrm>
            <a:off x="1890720" y="4005360"/>
            <a:ext cx="5388120" cy="2346120"/>
            <a:chOff x="1890720" y="4005360"/>
            <a:chExt cx="5388120" cy="2346120"/>
          </a:xfrm>
        </p:grpSpPr>
        <p:sp>
          <p:nvSpPr>
            <p:cNvPr id="172" name=""/>
            <p:cNvSpPr/>
            <p:nvPr/>
          </p:nvSpPr>
          <p:spPr>
            <a:xfrm>
              <a:off x="4832280" y="4014720"/>
              <a:ext cx="250920" cy="244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59480" y="4019400"/>
              <a:ext cx="252360" cy="24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22880" y="4040280"/>
              <a:ext cx="198360" cy="199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6720" y="4140000"/>
              <a:ext cx="1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21240" y="4145040"/>
              <a:ext cx="1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32280" y="4702320"/>
              <a:ext cx="250920" cy="245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59480" y="4708440"/>
              <a:ext cx="252360" cy="247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22880" y="4730760"/>
              <a:ext cx="198360" cy="198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76720" y="4827600"/>
              <a:ext cx="1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1240" y="4834080"/>
              <a:ext cx="1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32280" y="5392800"/>
              <a:ext cx="250920" cy="245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59480" y="5398920"/>
              <a:ext cx="252360" cy="244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22880" y="5419800"/>
              <a:ext cx="198360" cy="199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76720" y="5516640"/>
              <a:ext cx="1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21240" y="5524560"/>
              <a:ext cx="1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32280" y="6081840"/>
              <a:ext cx="250920" cy="245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59480" y="6087960"/>
              <a:ext cx="252360" cy="244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076720" y="6108840"/>
              <a:ext cx="482400" cy="199800"/>
              <a:chOff x="5076720" y="6108840"/>
              <a:chExt cx="482400" cy="199800"/>
            </a:xfrm>
          </p:grpSpPr>
          <p:sp>
            <p:nvSpPr>
              <p:cNvPr id="190" name=""/>
              <p:cNvSpPr/>
              <p:nvPr/>
            </p:nvSpPr>
            <p:spPr>
              <a:xfrm>
                <a:off x="5223240" y="6108840"/>
                <a:ext cx="197280" cy="199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076720" y="620640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19440" y="621324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863960" y="4259160"/>
              <a:ext cx="198720" cy="461520"/>
              <a:chOff x="4863960" y="4259160"/>
              <a:chExt cx="198720" cy="461520"/>
            </a:xfrm>
          </p:grpSpPr>
          <p:sp>
            <p:nvSpPr>
              <p:cNvPr id="194" name=""/>
              <p:cNvSpPr/>
              <p:nvPr/>
            </p:nvSpPr>
            <p:spPr>
              <a:xfrm>
                <a:off x="4863960" y="4384440"/>
                <a:ext cx="198720" cy="198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62240" y="4259160"/>
                <a:ext cx="0" cy="1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964040" y="4590720"/>
                <a:ext cx="0" cy="1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4857840" y="4941720"/>
              <a:ext cx="198360" cy="461880"/>
              <a:chOff x="4857840" y="4941720"/>
              <a:chExt cx="198360" cy="461880"/>
            </a:xfrm>
          </p:grpSpPr>
          <p:sp>
            <p:nvSpPr>
              <p:cNvPr id="198" name=""/>
              <p:cNvSpPr/>
              <p:nvPr/>
            </p:nvSpPr>
            <p:spPr>
              <a:xfrm>
                <a:off x="4857840" y="5067000"/>
                <a:ext cx="198360" cy="198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955760" y="4941720"/>
                <a:ext cx="0" cy="1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57920" y="5273640"/>
                <a:ext cx="0" cy="1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857840" y="5637240"/>
              <a:ext cx="198360" cy="462960"/>
              <a:chOff x="4857840" y="5637240"/>
              <a:chExt cx="198360" cy="462960"/>
            </a:xfrm>
          </p:grpSpPr>
          <p:sp>
            <p:nvSpPr>
              <p:cNvPr id="202" name=""/>
              <p:cNvSpPr/>
              <p:nvPr/>
            </p:nvSpPr>
            <p:spPr>
              <a:xfrm>
                <a:off x="4857840" y="5762880"/>
                <a:ext cx="198360" cy="19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55760" y="563724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57920" y="596988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5591160" y="4253040"/>
              <a:ext cx="198360" cy="462960"/>
              <a:chOff x="5591160" y="4253040"/>
              <a:chExt cx="198360" cy="462960"/>
            </a:xfrm>
          </p:grpSpPr>
          <p:sp>
            <p:nvSpPr>
              <p:cNvPr id="206" name=""/>
              <p:cNvSpPr/>
              <p:nvPr/>
            </p:nvSpPr>
            <p:spPr>
              <a:xfrm>
                <a:off x="5591160" y="4378680"/>
                <a:ext cx="198360" cy="19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689080" y="425304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91240" y="458568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591160" y="4948200"/>
              <a:ext cx="198360" cy="463320"/>
              <a:chOff x="5591160" y="4948200"/>
              <a:chExt cx="198360" cy="463320"/>
            </a:xfrm>
          </p:grpSpPr>
          <p:sp>
            <p:nvSpPr>
              <p:cNvPr id="210" name=""/>
              <p:cNvSpPr/>
              <p:nvPr/>
            </p:nvSpPr>
            <p:spPr>
              <a:xfrm>
                <a:off x="5591160" y="5073840"/>
                <a:ext cx="198360" cy="19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89080" y="494820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91240" y="528120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5591160" y="5641920"/>
              <a:ext cx="198360" cy="465120"/>
              <a:chOff x="5591160" y="5641920"/>
              <a:chExt cx="198360" cy="465120"/>
            </a:xfrm>
          </p:grpSpPr>
          <p:sp>
            <p:nvSpPr>
              <p:cNvPr id="214" name=""/>
              <p:cNvSpPr/>
              <p:nvPr/>
            </p:nvSpPr>
            <p:spPr>
              <a:xfrm>
                <a:off x="5591160" y="5767920"/>
                <a:ext cx="198360" cy="200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689080" y="5641920"/>
                <a:ext cx="0" cy="13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691240" y="5976000"/>
                <a:ext cx="0" cy="13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6299280" y="4032360"/>
              <a:ext cx="250920" cy="245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27920" y="4038480"/>
              <a:ext cx="250920" cy="244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89880" y="4059360"/>
              <a:ext cx="198360" cy="199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43720" y="4156200"/>
              <a:ext cx="1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88240" y="4164120"/>
              <a:ext cx="1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99280" y="4721040"/>
              <a:ext cx="250920" cy="24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27920" y="4727520"/>
              <a:ext cx="250920" cy="244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89880" y="4748040"/>
              <a:ext cx="198360" cy="20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43720" y="4846680"/>
              <a:ext cx="1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88240" y="4852800"/>
              <a:ext cx="1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99280" y="5410080"/>
              <a:ext cx="250920" cy="247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27920" y="5416560"/>
              <a:ext cx="250920" cy="245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9880" y="5438880"/>
              <a:ext cx="198360" cy="198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43720" y="5535720"/>
              <a:ext cx="1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88240" y="5543640"/>
              <a:ext cx="1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99280" y="6100560"/>
              <a:ext cx="250920" cy="244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27920" y="6107040"/>
              <a:ext cx="250920" cy="244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9880" y="6127560"/>
              <a:ext cx="198360" cy="20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3720" y="6224400"/>
              <a:ext cx="1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88240" y="6232320"/>
              <a:ext cx="1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330960" y="4276800"/>
              <a:ext cx="198360" cy="462960"/>
              <a:chOff x="6330960" y="4276800"/>
              <a:chExt cx="198360" cy="462960"/>
            </a:xfrm>
          </p:grpSpPr>
          <p:sp>
            <p:nvSpPr>
              <p:cNvPr id="238" name=""/>
              <p:cNvSpPr/>
              <p:nvPr/>
            </p:nvSpPr>
            <p:spPr>
              <a:xfrm>
                <a:off x="6330960" y="4402440"/>
                <a:ext cx="198360" cy="19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28880" y="427680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31040" y="460944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6324480" y="4960800"/>
              <a:ext cx="198720" cy="461880"/>
              <a:chOff x="6324480" y="4960800"/>
              <a:chExt cx="198720" cy="461880"/>
            </a:xfrm>
          </p:grpSpPr>
          <p:sp>
            <p:nvSpPr>
              <p:cNvPr id="242" name=""/>
              <p:cNvSpPr/>
              <p:nvPr/>
            </p:nvSpPr>
            <p:spPr>
              <a:xfrm>
                <a:off x="6324480" y="5086080"/>
                <a:ext cx="198720" cy="198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22760" y="4960800"/>
                <a:ext cx="0" cy="1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24560" y="5292720"/>
                <a:ext cx="0" cy="1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6324480" y="5654520"/>
              <a:ext cx="198720" cy="465120"/>
              <a:chOff x="6324480" y="5654520"/>
              <a:chExt cx="198720" cy="465120"/>
            </a:xfrm>
          </p:grpSpPr>
          <p:sp>
            <p:nvSpPr>
              <p:cNvPr id="246" name=""/>
              <p:cNvSpPr/>
              <p:nvPr/>
            </p:nvSpPr>
            <p:spPr>
              <a:xfrm>
                <a:off x="6324480" y="5780520"/>
                <a:ext cx="198720" cy="200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422760" y="5654520"/>
                <a:ext cx="0" cy="13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424560" y="5988600"/>
                <a:ext cx="0" cy="13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7059600" y="4270320"/>
              <a:ext cx="196920" cy="463320"/>
              <a:chOff x="7059600" y="4270320"/>
              <a:chExt cx="196920" cy="463320"/>
            </a:xfrm>
          </p:grpSpPr>
          <p:sp>
            <p:nvSpPr>
              <p:cNvPr id="250" name=""/>
              <p:cNvSpPr/>
              <p:nvPr/>
            </p:nvSpPr>
            <p:spPr>
              <a:xfrm>
                <a:off x="7059600" y="4395960"/>
                <a:ext cx="196920" cy="19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156800" y="427032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158960" y="460332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7059600" y="4967280"/>
              <a:ext cx="196920" cy="463320"/>
              <a:chOff x="7059600" y="4967280"/>
              <a:chExt cx="196920" cy="463320"/>
            </a:xfrm>
          </p:grpSpPr>
          <p:sp>
            <p:nvSpPr>
              <p:cNvPr id="254" name=""/>
              <p:cNvSpPr/>
              <p:nvPr/>
            </p:nvSpPr>
            <p:spPr>
              <a:xfrm>
                <a:off x="7059600" y="5092920"/>
                <a:ext cx="196920" cy="19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156800" y="496728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58960" y="530028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059600" y="5661000"/>
              <a:ext cx="196920" cy="463320"/>
              <a:chOff x="7059600" y="5661000"/>
              <a:chExt cx="196920" cy="463320"/>
            </a:xfrm>
          </p:grpSpPr>
          <p:sp>
            <p:nvSpPr>
              <p:cNvPr id="258" name=""/>
              <p:cNvSpPr/>
              <p:nvPr/>
            </p:nvSpPr>
            <p:spPr>
              <a:xfrm>
                <a:off x="7059600" y="5786640"/>
                <a:ext cx="196920" cy="19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156800" y="566100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158960" y="599400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810400" y="6114960"/>
              <a:ext cx="482400" cy="201600"/>
              <a:chOff x="5810400" y="6114960"/>
              <a:chExt cx="482400" cy="201600"/>
            </a:xfrm>
          </p:grpSpPr>
          <p:sp>
            <p:nvSpPr>
              <p:cNvPr id="262" name=""/>
              <p:cNvSpPr/>
              <p:nvPr/>
            </p:nvSpPr>
            <p:spPr>
              <a:xfrm>
                <a:off x="5956560" y="6114960"/>
                <a:ext cx="197280" cy="201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10400" y="6213600"/>
                <a:ext cx="139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53120" y="622044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815080" y="5432400"/>
              <a:ext cx="483840" cy="198360"/>
              <a:chOff x="5815080" y="5432400"/>
              <a:chExt cx="483840" cy="198360"/>
            </a:xfrm>
          </p:grpSpPr>
          <p:sp>
            <p:nvSpPr>
              <p:cNvPr id="266" name=""/>
              <p:cNvSpPr/>
              <p:nvPr/>
            </p:nvSpPr>
            <p:spPr>
              <a:xfrm>
                <a:off x="5961960" y="5432400"/>
                <a:ext cx="198000" cy="198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815080" y="552924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58880" y="553608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837400" y="4726080"/>
              <a:ext cx="483840" cy="199800"/>
              <a:chOff x="5837400" y="4726080"/>
              <a:chExt cx="483840" cy="199800"/>
            </a:xfrm>
          </p:grpSpPr>
          <p:sp>
            <p:nvSpPr>
              <p:cNvPr id="270" name=""/>
              <p:cNvSpPr/>
              <p:nvPr/>
            </p:nvSpPr>
            <p:spPr>
              <a:xfrm>
                <a:off x="5984280" y="4726080"/>
                <a:ext cx="198000" cy="199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37400" y="482364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81200" y="483048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5815080" y="4060800"/>
              <a:ext cx="483840" cy="198360"/>
              <a:chOff x="5815080" y="4060800"/>
              <a:chExt cx="483840" cy="198360"/>
            </a:xfrm>
          </p:grpSpPr>
          <p:sp>
            <p:nvSpPr>
              <p:cNvPr id="274" name=""/>
              <p:cNvSpPr/>
              <p:nvPr/>
            </p:nvSpPr>
            <p:spPr>
              <a:xfrm>
                <a:off x="5961960" y="4060800"/>
                <a:ext cx="198000" cy="198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15080" y="415764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158880" y="416448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1890720" y="4005360"/>
              <a:ext cx="250920" cy="244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17920" y="4010040"/>
              <a:ext cx="252360" cy="245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81320" y="4030560"/>
              <a:ext cx="198360" cy="20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35160" y="4130640"/>
              <a:ext cx="1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79680" y="4135320"/>
              <a:ext cx="1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90720" y="4692600"/>
              <a:ext cx="250920" cy="24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17920" y="4699080"/>
              <a:ext cx="252360" cy="247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1320" y="4721040"/>
              <a:ext cx="198360" cy="19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35160" y="4817880"/>
              <a:ext cx="1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79680" y="4824360"/>
              <a:ext cx="1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90720" y="5383080"/>
              <a:ext cx="250920" cy="24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17920" y="5389560"/>
              <a:ext cx="252360" cy="244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1320" y="5410080"/>
              <a:ext cx="198360" cy="20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35160" y="5506920"/>
              <a:ext cx="1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79680" y="5514840"/>
              <a:ext cx="1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90720" y="6072120"/>
              <a:ext cx="250920" cy="24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17920" y="6078600"/>
              <a:ext cx="252360" cy="244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2135160" y="6099120"/>
              <a:ext cx="482400" cy="200160"/>
              <a:chOff x="2135160" y="6099120"/>
              <a:chExt cx="482400" cy="200160"/>
            </a:xfrm>
          </p:grpSpPr>
          <p:sp>
            <p:nvSpPr>
              <p:cNvPr id="295" name=""/>
              <p:cNvSpPr/>
              <p:nvPr/>
            </p:nvSpPr>
            <p:spPr>
              <a:xfrm>
                <a:off x="2281680" y="6099120"/>
                <a:ext cx="197280" cy="200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5160" y="619704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477880" y="620388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1922400" y="4249800"/>
              <a:ext cx="198360" cy="461520"/>
              <a:chOff x="1922400" y="4249800"/>
              <a:chExt cx="198360" cy="461520"/>
            </a:xfrm>
          </p:grpSpPr>
          <p:sp>
            <p:nvSpPr>
              <p:cNvPr id="299" name=""/>
              <p:cNvSpPr/>
              <p:nvPr/>
            </p:nvSpPr>
            <p:spPr>
              <a:xfrm>
                <a:off x="1922400" y="4375080"/>
                <a:ext cx="198360" cy="198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20320" y="4249800"/>
                <a:ext cx="0" cy="1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22480" y="4581360"/>
                <a:ext cx="0" cy="1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916280" y="4932360"/>
              <a:ext cx="198360" cy="461520"/>
              <a:chOff x="1916280" y="4932360"/>
              <a:chExt cx="198360" cy="461520"/>
            </a:xfrm>
          </p:grpSpPr>
          <p:sp>
            <p:nvSpPr>
              <p:cNvPr id="303" name=""/>
              <p:cNvSpPr/>
              <p:nvPr/>
            </p:nvSpPr>
            <p:spPr>
              <a:xfrm>
                <a:off x="1916280" y="5057640"/>
                <a:ext cx="198360" cy="198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14200" y="4932360"/>
                <a:ext cx="0" cy="1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016360" y="5263920"/>
                <a:ext cx="0" cy="1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916280" y="5627520"/>
              <a:ext cx="198360" cy="463320"/>
              <a:chOff x="1916280" y="5627520"/>
              <a:chExt cx="198360" cy="463320"/>
            </a:xfrm>
          </p:grpSpPr>
          <p:sp>
            <p:nvSpPr>
              <p:cNvPr id="307" name=""/>
              <p:cNvSpPr/>
              <p:nvPr/>
            </p:nvSpPr>
            <p:spPr>
              <a:xfrm>
                <a:off x="1916280" y="5753160"/>
                <a:ext cx="198360" cy="19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4200" y="562752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016360" y="596052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649600" y="4243320"/>
              <a:ext cx="198360" cy="463320"/>
              <a:chOff x="2649600" y="4243320"/>
              <a:chExt cx="198360" cy="463320"/>
            </a:xfrm>
          </p:grpSpPr>
          <p:sp>
            <p:nvSpPr>
              <p:cNvPr id="311" name=""/>
              <p:cNvSpPr/>
              <p:nvPr/>
            </p:nvSpPr>
            <p:spPr>
              <a:xfrm>
                <a:off x="2649600" y="4368960"/>
                <a:ext cx="198360" cy="19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747520" y="424332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749680" y="457632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649600" y="4938840"/>
              <a:ext cx="198360" cy="462960"/>
              <a:chOff x="2649600" y="4938840"/>
              <a:chExt cx="198360" cy="462960"/>
            </a:xfrm>
          </p:grpSpPr>
          <p:sp>
            <p:nvSpPr>
              <p:cNvPr id="315" name=""/>
              <p:cNvSpPr/>
              <p:nvPr/>
            </p:nvSpPr>
            <p:spPr>
              <a:xfrm>
                <a:off x="2649600" y="5064480"/>
                <a:ext cx="198360" cy="19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747520" y="493884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749680" y="527148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2649600" y="5632560"/>
              <a:ext cx="198360" cy="465120"/>
              <a:chOff x="2649600" y="5632560"/>
              <a:chExt cx="198360" cy="465120"/>
            </a:xfrm>
          </p:grpSpPr>
          <p:sp>
            <p:nvSpPr>
              <p:cNvPr id="319" name=""/>
              <p:cNvSpPr/>
              <p:nvPr/>
            </p:nvSpPr>
            <p:spPr>
              <a:xfrm>
                <a:off x="2649600" y="5758560"/>
                <a:ext cx="198360" cy="200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747520" y="5632560"/>
                <a:ext cx="0" cy="13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749680" y="5966640"/>
                <a:ext cx="0" cy="13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357720" y="4022640"/>
              <a:ext cx="250560" cy="24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86360" y="4029120"/>
              <a:ext cx="250560" cy="244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47960" y="4049640"/>
              <a:ext cx="198720" cy="20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02160" y="4146480"/>
              <a:ext cx="1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46680" y="4154400"/>
              <a:ext cx="1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57720" y="4711680"/>
              <a:ext cx="250560" cy="245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6360" y="4718160"/>
              <a:ext cx="250560" cy="244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47960" y="4738680"/>
              <a:ext cx="198720" cy="20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02160" y="4836960"/>
              <a:ext cx="1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46680" y="4843440"/>
              <a:ext cx="1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7720" y="5400720"/>
              <a:ext cx="250560" cy="247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86360" y="5406840"/>
              <a:ext cx="250560" cy="24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47960" y="5429160"/>
              <a:ext cx="198720" cy="198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02160" y="5526000"/>
              <a:ext cx="1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46680" y="5533920"/>
              <a:ext cx="1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57720" y="6091200"/>
              <a:ext cx="250560" cy="244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86360" y="6097680"/>
              <a:ext cx="250560" cy="244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47960" y="6118200"/>
              <a:ext cx="198720" cy="20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02160" y="6215040"/>
              <a:ext cx="1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46680" y="6222960"/>
              <a:ext cx="1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89400" y="4267080"/>
              <a:ext cx="198360" cy="463320"/>
              <a:chOff x="3389400" y="4267080"/>
              <a:chExt cx="198360" cy="463320"/>
            </a:xfrm>
          </p:grpSpPr>
          <p:sp>
            <p:nvSpPr>
              <p:cNvPr id="343" name=""/>
              <p:cNvSpPr/>
              <p:nvPr/>
            </p:nvSpPr>
            <p:spPr>
              <a:xfrm>
                <a:off x="3389400" y="4392720"/>
                <a:ext cx="198360" cy="19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487320" y="426708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89480" y="460008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382920" y="4951440"/>
              <a:ext cx="198360" cy="461520"/>
              <a:chOff x="3382920" y="4951440"/>
              <a:chExt cx="198360" cy="461520"/>
            </a:xfrm>
          </p:grpSpPr>
          <p:sp>
            <p:nvSpPr>
              <p:cNvPr id="347" name=""/>
              <p:cNvSpPr/>
              <p:nvPr/>
            </p:nvSpPr>
            <p:spPr>
              <a:xfrm>
                <a:off x="3382920" y="5076720"/>
                <a:ext cx="198360" cy="198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80840" y="4951440"/>
                <a:ext cx="0" cy="1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83000" y="5283000"/>
                <a:ext cx="0" cy="12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382920" y="5645160"/>
              <a:ext cx="198360" cy="465120"/>
              <a:chOff x="3382920" y="5645160"/>
              <a:chExt cx="198360" cy="465120"/>
            </a:xfrm>
          </p:grpSpPr>
          <p:sp>
            <p:nvSpPr>
              <p:cNvPr id="351" name=""/>
              <p:cNvSpPr/>
              <p:nvPr/>
            </p:nvSpPr>
            <p:spPr>
              <a:xfrm>
                <a:off x="3382920" y="5771160"/>
                <a:ext cx="198360" cy="200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80840" y="5645160"/>
                <a:ext cx="0" cy="13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83000" y="5979240"/>
                <a:ext cx="0" cy="13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4118040" y="4260960"/>
              <a:ext cx="196920" cy="462960"/>
              <a:chOff x="4118040" y="4260960"/>
              <a:chExt cx="196920" cy="462960"/>
            </a:xfrm>
          </p:grpSpPr>
          <p:sp>
            <p:nvSpPr>
              <p:cNvPr id="355" name=""/>
              <p:cNvSpPr/>
              <p:nvPr/>
            </p:nvSpPr>
            <p:spPr>
              <a:xfrm>
                <a:off x="4118040" y="4386600"/>
                <a:ext cx="196920" cy="19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215240" y="426096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217400" y="459360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4118040" y="4957560"/>
              <a:ext cx="196920" cy="463320"/>
              <a:chOff x="4118040" y="4957560"/>
              <a:chExt cx="196920" cy="463320"/>
            </a:xfrm>
          </p:grpSpPr>
          <p:sp>
            <p:nvSpPr>
              <p:cNvPr id="359" name=""/>
              <p:cNvSpPr/>
              <p:nvPr/>
            </p:nvSpPr>
            <p:spPr>
              <a:xfrm>
                <a:off x="4118040" y="5083200"/>
                <a:ext cx="196920" cy="19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215240" y="495756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217400" y="529056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118040" y="5651640"/>
              <a:ext cx="196920" cy="462960"/>
              <a:chOff x="4118040" y="5651640"/>
              <a:chExt cx="196920" cy="462960"/>
            </a:xfrm>
          </p:grpSpPr>
          <p:sp>
            <p:nvSpPr>
              <p:cNvPr id="363" name=""/>
              <p:cNvSpPr/>
              <p:nvPr/>
            </p:nvSpPr>
            <p:spPr>
              <a:xfrm>
                <a:off x="4118040" y="5777280"/>
                <a:ext cx="196920" cy="19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15240" y="565164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217400" y="5984280"/>
                <a:ext cx="0" cy="13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868480" y="6105600"/>
              <a:ext cx="482400" cy="201600"/>
              <a:chOff x="2868480" y="6105600"/>
              <a:chExt cx="482400" cy="201600"/>
            </a:xfrm>
          </p:grpSpPr>
          <p:sp>
            <p:nvSpPr>
              <p:cNvPr id="367" name=""/>
              <p:cNvSpPr/>
              <p:nvPr/>
            </p:nvSpPr>
            <p:spPr>
              <a:xfrm>
                <a:off x="3015000" y="6105600"/>
                <a:ext cx="197280" cy="201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68480" y="620424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211200" y="621108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2873520" y="5423040"/>
              <a:ext cx="483840" cy="198360"/>
              <a:chOff x="2873520" y="5423040"/>
              <a:chExt cx="483840" cy="198360"/>
            </a:xfrm>
          </p:grpSpPr>
          <p:sp>
            <p:nvSpPr>
              <p:cNvPr id="371" name=""/>
              <p:cNvSpPr/>
              <p:nvPr/>
            </p:nvSpPr>
            <p:spPr>
              <a:xfrm>
                <a:off x="3020400" y="5423040"/>
                <a:ext cx="198000" cy="198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873520" y="551988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17320" y="552672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895480" y="4716360"/>
              <a:ext cx="483840" cy="200160"/>
              <a:chOff x="2895480" y="4716360"/>
              <a:chExt cx="483840" cy="200160"/>
            </a:xfrm>
          </p:grpSpPr>
          <p:sp>
            <p:nvSpPr>
              <p:cNvPr id="375" name=""/>
              <p:cNvSpPr/>
              <p:nvPr/>
            </p:nvSpPr>
            <p:spPr>
              <a:xfrm>
                <a:off x="3042360" y="4716360"/>
                <a:ext cx="198000" cy="200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895480" y="481428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39280" y="482112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873520" y="4051440"/>
              <a:ext cx="483840" cy="198360"/>
              <a:chOff x="2873520" y="4051440"/>
              <a:chExt cx="483840" cy="198360"/>
            </a:xfrm>
          </p:grpSpPr>
          <p:sp>
            <p:nvSpPr>
              <p:cNvPr id="379" name=""/>
              <p:cNvSpPr/>
              <p:nvPr/>
            </p:nvSpPr>
            <p:spPr>
              <a:xfrm>
                <a:off x="3020400" y="4051440"/>
                <a:ext cx="198000" cy="198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873520" y="414828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17320" y="415512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4346640" y="4067280"/>
              <a:ext cx="483840" cy="198360"/>
              <a:chOff x="4346640" y="4067280"/>
              <a:chExt cx="483840" cy="198360"/>
            </a:xfrm>
          </p:grpSpPr>
          <p:sp>
            <p:nvSpPr>
              <p:cNvPr id="383" name=""/>
              <p:cNvSpPr/>
              <p:nvPr/>
            </p:nvSpPr>
            <p:spPr>
              <a:xfrm>
                <a:off x="4493520" y="4067280"/>
                <a:ext cx="198000" cy="198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346640" y="416412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690440" y="417096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4356000" y="4727520"/>
              <a:ext cx="483840" cy="198360"/>
              <a:chOff x="4356000" y="4727520"/>
              <a:chExt cx="483840" cy="198360"/>
            </a:xfrm>
          </p:grpSpPr>
          <p:sp>
            <p:nvSpPr>
              <p:cNvPr id="387" name=""/>
              <p:cNvSpPr/>
              <p:nvPr/>
            </p:nvSpPr>
            <p:spPr>
              <a:xfrm>
                <a:off x="4502880" y="4727520"/>
                <a:ext cx="198000" cy="198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356000" y="482436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99800" y="483120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4346640" y="5433840"/>
              <a:ext cx="483840" cy="198720"/>
              <a:chOff x="4346640" y="5433840"/>
              <a:chExt cx="483840" cy="198720"/>
            </a:xfrm>
          </p:grpSpPr>
          <p:sp>
            <p:nvSpPr>
              <p:cNvPr id="391" name=""/>
              <p:cNvSpPr/>
              <p:nvPr/>
            </p:nvSpPr>
            <p:spPr>
              <a:xfrm>
                <a:off x="4493520" y="5433840"/>
                <a:ext cx="198000" cy="198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346640" y="553104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690440" y="553788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4356000" y="6122880"/>
              <a:ext cx="483840" cy="198360"/>
              <a:chOff x="4356000" y="6122880"/>
              <a:chExt cx="483840" cy="198360"/>
            </a:xfrm>
          </p:grpSpPr>
          <p:sp>
            <p:nvSpPr>
              <p:cNvPr id="395" name=""/>
              <p:cNvSpPr/>
              <p:nvPr/>
            </p:nvSpPr>
            <p:spPr>
              <a:xfrm>
                <a:off x="4502880" y="6122880"/>
                <a:ext cx="198000" cy="198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56000" y="621972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99800" y="6226560"/>
                <a:ext cx="14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1622520" y="3817800"/>
            <a:ext cx="3535200" cy="18972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35600" y="3960720"/>
            <a:ext cx="3348000" cy="258444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01800" y="5356080"/>
            <a:ext cx="2620800" cy="1038240"/>
          </a:xfrm>
          <a:prstGeom prst="rect">
            <a:avLst/>
          </a:prstGeom>
          <a:solidFill>
            <a:srgbClr val="00ff00">
              <a:alpha val="50000"/>
            </a:srgbClr>
          </a:solidFill>
          <a:ln w="255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78000" y="2106720"/>
            <a:ext cx="3498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14880" y="220032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intrac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83240" y="1268280"/>
            <a:ext cx="20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ikuchi, 195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911760" y="1765440"/>
                <a:ext cx="558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963960" y="2951280"/>
                <a:ext cx="38797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984480" y="2371680"/>
                <a:ext cx="11559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240080" y="4000680"/>
                <a:ext cx="41767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040280" y="4935600"/>
                <a:ext cx="47718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933480" y="1801800"/>
            <a:ext cx="31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65160" y="2425680"/>
            <a:ext cx="31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lie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63720" y="3057480"/>
            <a:ext cx="31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1880" y="406728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ener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78040" y="5010120"/>
            <a:ext cx="31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op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8480" y="5943600"/>
            <a:ext cx="31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ee ener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4292640" y="5978520"/>
                <a:ext cx="3911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16:46:51Z</dcterms:created>
  <dc:creator>yedidia</dc:creator>
  <dc:description/>
  <dc:language>en-US</dc:language>
  <cp:lastModifiedBy>yedidia</cp:lastModifiedBy>
  <dcterms:modified xsi:type="dcterms:W3CDTF">2003-11-17T18:39:22Z</dcterms:modified>
  <cp:revision>4</cp:revision>
  <dc:subject/>
  <dc:title>Generalized Belief Propagation</dc:title>
</cp:coreProperties>
</file>