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33360" y="533160"/>
            <a:ext cx="2361960" cy="177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2514600"/>
            <a:ext cx="60199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7DED-D911-43C5-8665-2BE036A30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133720" y="533520"/>
            <a:ext cx="2361960" cy="17715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2514600"/>
            <a:ext cx="6019920" cy="601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 self-assembly is predicated on -- and motivated by -- the notion of a “Turing substrate” . We use this name to describe a 3D volume populated my a dense irregular rmesh of  logic-enabled nodes that are computationally uni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bstraction is a straightforward extension of work that models nature as an irregular mash of fine grain computing elements, each with task-specific physical hardware running a limited internalized proced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rrant chip designers like myself, the notion of a Turing Substrate is simply an admission that today, you can fit a 32-bit Palm-class computer and a quarter meg of SRAM into 2 square mm of d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2133720" y="533520"/>
            <a:ext cx="2361960" cy="17715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2514600"/>
            <a:ext cx="6019920" cy="601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 self-assembly is predicated on -- and motivated by -- the notion of a “Turing substrate” . We use this name to describe a 3D volume populated my a dense irregular rmesh of  logic-enabled nodes that are computationally uni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bstraction is a straightforward extension of work that models nature as an irregular mash of fine grain computing elements, each with task-specific physical hardware running a limited internalized proced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rrant chip designers like myself, the notion of a Turing Substrate is simply an admission that today, you can fit a 32-bit Palm-class computer and a quarter meg of SRAM into 2 square mm of d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2133720" y="533520"/>
            <a:ext cx="2361960" cy="17715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2514600"/>
            <a:ext cx="6019920" cy="601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 self-assembly is predicated on -- and motivated by -- the notion of a “Turing substrate” . We use this name to describe a 3D volume populated my a dense irregular rmesh of  logic-enabled nodes that are computationally uni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bstraction is a straightforward extension of work that models nature as an irregular mash of fine grain computing elements, each with task-specific physical hardware running a limited internalized proced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rrant chip designers like myself, the notion of a Turing Substrate is simply an admission that today, you can fit a 32-bit Palm-class computer and a quarter meg of SRAM into 2 square mm of d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2133720" y="533520"/>
            <a:ext cx="2361960" cy="17715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2514600"/>
            <a:ext cx="6019920" cy="601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 self-assembly is predicated on -- and motivated by -- the notion of a “Turing substrate” . We use this name to describe a 3D volume populated my a dense irregular rmesh of  logic-enabled nodes that are computationally uni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bstraction is a straightforward extension of work that models nature as an irregular mash of fine grain computing elements, each with task-specific physical hardware running a limited internalized proced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rrant chip designers like myself, the notion of a Turing Substrate is simply an admission that today, you can fit a 32-bit Palm-class computer and a quarter meg of SRAM into 2 square mm of d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721A-0C9C-4813-937C-A7B45D3D9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7D96-B1E2-4733-85C0-A6559D5F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3A35-5023-4AC6-9865-56577C7A2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58AE-F029-4900-9355-D1B1F3144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C84C-2BFF-40F3-B505-50A36FAC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2891-96E0-4E46-914A-C1FD4CF9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EC57-8FE1-4ED5-A883-81B08968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806F-D926-4F76-A6C0-EDFEC961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AC65-2FBC-48D3-8F4E-DE418FC4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4B3D-1C42-4567-8630-83027D60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36E0-656C-4EDD-B6E2-9A4EA6CF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BBC1-DD42-4A60-9834-D5F20586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C746-3966-4898-BD77-69B2935F6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ba.mit.edu/media/logos/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ba.mit.edu/media/logos/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ba.mit.edu/media/logos/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ba.mit.edu/media/logos/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df3"/>
            </a:gs>
            <a:gs pos="100000">
              <a:srgbClr val="fff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71600" y="925560"/>
            <a:ext cx="808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91440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4911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intable Computing Project   Summer 2004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" name="mit-logo" descr=""/>
            <p:cNvPicPr/>
            <p:nvPr/>
          </p:nvPicPr>
          <p:blipFill>
            <a:blip r:embed="rId1"/>
            <a:stretch/>
          </p:blipFill>
          <p:spPr>
            <a:xfrm>
              <a:off x="914400" y="79200"/>
              <a:ext cx="685800" cy="6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02.10.CBAlogo.MIT.400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7238880" y="127080"/>
              <a:ext cx="1752840" cy="48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"/>
          <p:cNvSpPr/>
          <p:nvPr/>
        </p:nvSpPr>
        <p:spPr>
          <a:xfrm>
            <a:off x="2918880" y="436680"/>
            <a:ext cx="32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aintable 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5372280" y="1434960"/>
            <a:ext cx="3267000" cy="4356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360" y="1835280"/>
            <a:ext cx="3809880" cy="3511440"/>
          </a:xfrm>
          <a:prstGeom prst="rect">
            <a:avLst/>
          </a:prstGeom>
          <a:gradFill rotWithShape="0">
            <a:gsLst>
              <a:gs pos="0">
                <a:srgbClr val="cdcda4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730080" y="4060800"/>
            <a:ext cx="3586320" cy="1108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812880" y="1920960"/>
            <a:ext cx="327636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df3"/>
            </a:gs>
            <a:gs pos="100000">
              <a:srgbClr val="fff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71600" y="925560"/>
            <a:ext cx="808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61" name=""/>
            <p:cNvSpPr/>
            <p:nvPr/>
          </p:nvSpPr>
          <p:spPr>
            <a:xfrm>
              <a:off x="0" y="0"/>
              <a:ext cx="91440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4911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intable Computing Project   Summer 2004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mit-logo" descr=""/>
            <p:cNvPicPr/>
            <p:nvPr/>
          </p:nvPicPr>
          <p:blipFill>
            <a:blip r:embed="rId1"/>
            <a:stretch/>
          </p:blipFill>
          <p:spPr>
            <a:xfrm>
              <a:off x="914400" y="79200"/>
              <a:ext cx="685800" cy="6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02.10.CBAlogo.MIT.400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7238880" y="127080"/>
              <a:ext cx="1752840" cy="48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2844000" y="436680"/>
            <a:ext cx="42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Informational Self-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07880" y="1160640"/>
            <a:ext cx="4926240" cy="1804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00160" y="3246480"/>
            <a:ext cx="499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Self-assembling structures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:  Ned Bowden &amp; George Whitesides 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hemistry Dept.  Harvard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4981680" y="2978280"/>
            <a:ext cx="374328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df3"/>
            </a:gs>
            <a:gs pos="100000">
              <a:srgbClr val="fff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71600" y="925560"/>
            <a:ext cx="808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71" name=""/>
            <p:cNvSpPr/>
            <p:nvPr/>
          </p:nvSpPr>
          <p:spPr>
            <a:xfrm>
              <a:off x="0" y="0"/>
              <a:ext cx="91440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911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intable Computing Project   Summer 2004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" name="mit-logo" descr=""/>
            <p:cNvPicPr/>
            <p:nvPr/>
          </p:nvPicPr>
          <p:blipFill>
            <a:blip r:embed="rId1"/>
            <a:stretch/>
          </p:blipFill>
          <p:spPr>
            <a:xfrm>
              <a:off x="914400" y="79200"/>
              <a:ext cx="685800" cy="6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02.10.CBAlogo.MIT.400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7238880" y="127080"/>
              <a:ext cx="1752840" cy="48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"/>
          <p:cNvSpPr/>
          <p:nvPr/>
        </p:nvSpPr>
        <p:spPr>
          <a:xfrm>
            <a:off x="3907440" y="411120"/>
            <a:ext cx="199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4572000" y="1231920"/>
            <a:ext cx="374328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df3"/>
            </a:gs>
            <a:gs pos="100000">
              <a:srgbClr val="fff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71600" y="925560"/>
            <a:ext cx="808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79" name=""/>
            <p:cNvSpPr/>
            <p:nvPr/>
          </p:nvSpPr>
          <p:spPr>
            <a:xfrm>
              <a:off x="0" y="0"/>
              <a:ext cx="91440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64911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intable Computing Project   Summer 2004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1" name="mit-logo" descr=""/>
            <p:cNvPicPr/>
            <p:nvPr/>
          </p:nvPicPr>
          <p:blipFill>
            <a:blip r:embed="rId1"/>
            <a:stretch/>
          </p:blipFill>
          <p:spPr>
            <a:xfrm>
              <a:off x="914400" y="79200"/>
              <a:ext cx="685800" cy="6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02.10.CBAlogo.MIT.400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7238880" y="127080"/>
              <a:ext cx="1752840" cy="48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" name=""/>
          <p:cNvSpPr/>
          <p:nvPr/>
        </p:nvSpPr>
        <p:spPr>
          <a:xfrm>
            <a:off x="3913920" y="411120"/>
            <a:ext cx="15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ushp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914400" y="1447920"/>
            <a:ext cx="1905120" cy="2539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3259080" y="1714680"/>
            <a:ext cx="5351400" cy="40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5T13:54:40Z</dcterms:created>
  <dc:creator>The Garden</dc:creator>
  <dc:description/>
  <dc:language>en-US</dc:language>
  <cp:lastModifiedBy>William Butera</cp:lastModifiedBy>
  <dcterms:modified xsi:type="dcterms:W3CDTF">2004-06-10T12:02:49Z</dcterms:modified>
  <cp:revision>263</cp:revision>
  <dc:subject/>
  <dc:title>No Slide Title</dc:title>
</cp:coreProperties>
</file>