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4D9-C60E-4D42-B6A0-218AF620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DAD-4616-4633-A05F-6ADFD566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757-63DD-4008-9585-4FAACC16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B16-032C-4CE6-A9AC-BF2D51BA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DD8-D5F8-41A7-8BCD-BD006A6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099-D191-4F61-8F52-35360D88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29A-6C25-4CCB-B99A-7C46174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ACA-7852-4B09-827A-377DA2D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E75-F989-4466-8F86-F948821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8E7-C2A3-4E6F-A1C8-0701FEC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833-A228-41EA-A98D-D27DCF6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A02-F316-4B62-832E-B7328A75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B0C-AE95-4F9A-82E0-E2CB3985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8280" y="2362320"/>
            <a:ext cx="7848360" cy="2971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6120"/>
            <a:ext cx="84441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rror-Corrected DNA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aking Genes and Gen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5772240"/>
            <a:ext cx="44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eter C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2.09.18.CBAlogo" descr=""/>
          <p:cNvPicPr/>
          <p:nvPr/>
        </p:nvPicPr>
        <p:blipFill>
          <a:blip r:embed="rId1"/>
          <a:stretch/>
        </p:blipFill>
        <p:spPr>
          <a:xfrm>
            <a:off x="5029200" y="5819760"/>
            <a:ext cx="3543480" cy="76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59400" y="38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8080" y="38480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coldiv" descr=""/>
          <p:cNvPicPr/>
          <p:nvPr/>
        </p:nvPicPr>
        <p:blipFill>
          <a:blip r:embed="rId2"/>
          <a:stretch/>
        </p:blipFill>
        <p:spPr>
          <a:xfrm>
            <a:off x="6200640" y="3106800"/>
            <a:ext cx="1892520" cy="148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63720" y="3152880"/>
            <a:ext cx="1855800" cy="1390680"/>
          </a:xfrm>
          <a:prstGeom prst="rect">
            <a:avLst/>
          </a:prstGeom>
          <a:ln w="0">
            <a:noFill/>
          </a:ln>
        </p:spPr>
      </p:pic>
      <p:pic>
        <p:nvPicPr>
          <p:cNvPr id="49" name="DNA4" descr=""/>
          <p:cNvPicPr/>
          <p:nvPr/>
        </p:nvPicPr>
        <p:blipFill>
          <a:blip r:embed="rId4"/>
          <a:stretch/>
        </p:blipFill>
        <p:spPr>
          <a:xfrm>
            <a:off x="3919680" y="2852640"/>
            <a:ext cx="1179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s for DNA On-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71120" y="3352680"/>
            <a:ext cx="7476120" cy="945720"/>
            <a:chOff x="771120" y="3352680"/>
            <a:chExt cx="7476120" cy="945720"/>
          </a:xfrm>
        </p:grpSpPr>
        <p:sp>
          <p:nvSpPr>
            <p:cNvPr id="52" name=""/>
            <p:cNvSpPr/>
            <p:nvPr/>
          </p:nvSpPr>
          <p:spPr>
            <a:xfrm>
              <a:off x="77112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912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066680" y="3352680"/>
              <a:ext cx="6858000" cy="457200"/>
              <a:chOff x="1066680" y="3352680"/>
              <a:chExt cx="6858000" cy="457200"/>
            </a:xfrm>
          </p:grpSpPr>
          <p:sp>
            <p:nvSpPr>
              <p:cNvPr id="55" name=""/>
              <p:cNvSpPr/>
              <p:nvPr/>
            </p:nvSpPr>
            <p:spPr>
              <a:xfrm>
                <a:off x="106668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0000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5268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0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38680" y="3352680"/>
                <a:ext cx="2286000" cy="4572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37156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66480" y="383868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ecoldiv" descr=""/>
          <p:cNvPicPr/>
          <p:nvPr/>
        </p:nvPicPr>
        <p:blipFill>
          <a:blip r:embed="rId1"/>
          <a:stretch/>
        </p:blipFill>
        <p:spPr>
          <a:xfrm>
            <a:off x="7086600" y="4505400"/>
            <a:ext cx="1892160" cy="148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296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018" descr=""/>
          <p:cNvPicPr/>
          <p:nvPr/>
        </p:nvPicPr>
        <p:blipFill>
          <a:blip r:embed="rId2"/>
          <a:stretch/>
        </p:blipFill>
        <p:spPr>
          <a:xfrm>
            <a:off x="4915080" y="1762200"/>
            <a:ext cx="1434960" cy="1498680"/>
          </a:xfrm>
          <a:prstGeom prst="rect">
            <a:avLst/>
          </a:prstGeom>
          <a:ln w="0">
            <a:noFill/>
          </a:ln>
        </p:spPr>
      </p:pic>
      <p:pic>
        <p:nvPicPr>
          <p:cNvPr id="63" name="403335aa.2" descr=""/>
          <p:cNvPicPr/>
          <p:nvPr/>
        </p:nvPicPr>
        <p:blipFill>
          <a:blip r:embed="rId3"/>
          <a:srcRect l="0" t="2645" r="48869" b="65632"/>
          <a:stretch/>
        </p:blipFill>
        <p:spPr>
          <a:xfrm>
            <a:off x="2438280" y="446724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gfp-protein" descr=""/>
          <p:cNvPicPr/>
          <p:nvPr/>
        </p:nvPicPr>
        <p:blipFill>
          <a:blip r:embed="rId4"/>
          <a:stretch/>
        </p:blipFill>
        <p:spPr>
          <a:xfrm>
            <a:off x="390600" y="1419120"/>
            <a:ext cx="1396800" cy="1790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09200" y="2016000"/>
            <a:ext cx="1828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inim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ome re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924680" y="266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18320" y="2197080"/>
            <a:ext cx="2259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etic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tabolic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46680" y="4768920"/>
            <a:ext cx="158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ene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640" y="4950000"/>
            <a:ext cx="181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52680" y="284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666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38680" y="4267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verall-assembly6" descr=""/>
          <p:cNvPicPr/>
          <p:nvPr/>
        </p:nvPicPr>
        <p:blipFill>
          <a:blip r:embed="rId1"/>
          <a:stretch/>
        </p:blipFill>
        <p:spPr>
          <a:xfrm>
            <a:off x="1542960" y="76320"/>
            <a:ext cx="60562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57800" y="1447920"/>
            <a:ext cx="34290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86400" y="145728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match Err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on in V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ismatch%20repair2" descr=""/>
          <p:cNvPicPr/>
          <p:nvPr/>
        </p:nvPicPr>
        <p:blipFill>
          <a:blip r:embed="rId1"/>
          <a:stretch/>
        </p:blipFill>
        <p:spPr>
          <a:xfrm>
            <a:off x="1662120" y="279360"/>
            <a:ext cx="283356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ult-Tolerant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MAGE-winograd-cowan-title" descr=""/>
          <p:cNvPicPr/>
          <p:nvPr/>
        </p:nvPicPr>
        <p:blipFill>
          <a:blip r:embed="rId1"/>
          <a:stretch/>
        </p:blipFill>
        <p:spPr>
          <a:xfrm>
            <a:off x="485640" y="1536840"/>
            <a:ext cx="3705480" cy="4822560"/>
          </a:xfrm>
          <a:prstGeom prst="rect">
            <a:avLst/>
          </a:prstGeom>
          <a:ln w="0">
            <a:noFill/>
          </a:ln>
        </p:spPr>
      </p:pic>
      <p:pic>
        <p:nvPicPr>
          <p:cNvPr id="79" name="IMAGE-winograd-cowan-synaptic-logic" descr=""/>
          <p:cNvPicPr/>
          <p:nvPr/>
        </p:nvPicPr>
        <p:blipFill>
          <a:blip r:embed="rId2"/>
          <a:stretch/>
        </p:blipFill>
        <p:spPr>
          <a:xfrm>
            <a:off x="5199120" y="1611360"/>
            <a:ext cx="2547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191200" y="4113000"/>
            <a:ext cx="3448080" cy="37800"/>
            <a:chOff x="5191200" y="4113000"/>
            <a:chExt cx="3448080" cy="37800"/>
          </a:xfrm>
        </p:grpSpPr>
        <p:sp>
          <p:nvSpPr>
            <p:cNvPr id="81" name=""/>
            <p:cNvSpPr/>
            <p:nvPr/>
          </p:nvSpPr>
          <p:spPr>
            <a:xfrm flipV="1">
              <a:off x="5191200" y="4113000"/>
              <a:ext cx="1440" cy="3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053040" y="4113000"/>
              <a:ext cx="1800" cy="3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913440" y="4113000"/>
              <a:ext cx="1800" cy="3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775640" y="4113000"/>
              <a:ext cx="1440" cy="3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37480" y="4113000"/>
              <a:ext cx="1800" cy="3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580000" y="454968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FP gene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rror rate per base: ~1 in 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before error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720" y="4356000"/>
            <a:ext cx="2565360" cy="180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20720" y="4808160"/>
            <a:ext cx="2279880" cy="1206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20720" y="4356000"/>
            <a:ext cx="25560" cy="1811160"/>
            <a:chOff x="1620720" y="4356000"/>
            <a:chExt cx="25560" cy="1811160"/>
          </a:xfrm>
        </p:grpSpPr>
        <p:sp>
          <p:nvSpPr>
            <p:cNvPr id="90" name=""/>
            <p:cNvSpPr/>
            <p:nvPr/>
          </p:nvSpPr>
          <p:spPr>
            <a:xfrm>
              <a:off x="1620720" y="616572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720" y="586404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0720" y="5562360"/>
              <a:ext cx="2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0720" y="5260680"/>
              <a:ext cx="2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0720" y="495936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0720" y="465768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0720" y="43560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60880" y="4356000"/>
            <a:ext cx="25200" cy="1811160"/>
            <a:chOff x="4160880" y="4356000"/>
            <a:chExt cx="25200" cy="1811160"/>
          </a:xfrm>
        </p:grpSpPr>
        <p:sp>
          <p:nvSpPr>
            <p:cNvPr id="98" name=""/>
            <p:cNvSpPr/>
            <p:nvPr/>
          </p:nvSpPr>
          <p:spPr>
            <a:xfrm flipH="1">
              <a:off x="4160880" y="616572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160880" y="586404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160880" y="5562360"/>
              <a:ext cx="25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160880" y="5260680"/>
              <a:ext cx="25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160880" y="495936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160880" y="465768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60880" y="43560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20720" y="6140520"/>
            <a:ext cx="2281320" cy="25200"/>
            <a:chOff x="1620720" y="6140520"/>
            <a:chExt cx="2281320" cy="25200"/>
          </a:xfrm>
        </p:grpSpPr>
        <p:sp>
          <p:nvSpPr>
            <p:cNvPr id="106" name=""/>
            <p:cNvSpPr/>
            <p:nvPr/>
          </p:nvSpPr>
          <p:spPr>
            <a:xfrm flipV="1">
              <a:off x="1620720" y="6140520"/>
              <a:ext cx="18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90600" y="6140520"/>
              <a:ext cx="18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760480" y="6140520"/>
              <a:ext cx="18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330720" y="6140520"/>
              <a:ext cx="144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900600" y="6140520"/>
              <a:ext cx="144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620720" y="4356000"/>
            <a:ext cx="2281320" cy="23760"/>
            <a:chOff x="1620720" y="4356000"/>
            <a:chExt cx="2281320" cy="23760"/>
          </a:xfrm>
        </p:grpSpPr>
        <p:sp>
          <p:nvSpPr>
            <p:cNvPr id="112" name=""/>
            <p:cNvSpPr/>
            <p:nvPr/>
          </p:nvSpPr>
          <p:spPr>
            <a:xfrm>
              <a:off x="1620720" y="4356000"/>
              <a:ext cx="180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0600" y="4356000"/>
              <a:ext cx="180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0480" y="4356000"/>
              <a:ext cx="180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0720" y="4356000"/>
              <a:ext cx="144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0600" y="4356000"/>
              <a:ext cx="144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1620720" y="4355640"/>
            <a:ext cx="1800" cy="180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86080" y="4355640"/>
            <a:ext cx="1800" cy="180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0720" y="6165720"/>
            <a:ext cx="2565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0720" y="4356000"/>
            <a:ext cx="2565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3720" y="5986440"/>
            <a:ext cx="59040" cy="60480"/>
          </a:xfrm>
          <a:prstGeom prst="ellipse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63600" y="5684760"/>
            <a:ext cx="59040" cy="60480"/>
          </a:xfrm>
          <a:prstGeom prst="ellipse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3840" y="5232240"/>
            <a:ext cx="58680" cy="60480"/>
          </a:xfrm>
          <a:prstGeom prst="ellipse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3720" y="5383080"/>
            <a:ext cx="58680" cy="60480"/>
          </a:xfrm>
          <a:prstGeom prst="ellipse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4629240"/>
            <a:ext cx="58680" cy="60120"/>
          </a:xfrm>
          <a:prstGeom prst="ellipse">
            <a:avLst/>
          </a:prstGeom>
          <a:solidFill>
            <a:srgbClr val="00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33000" y="4267080"/>
            <a:ext cx="299520" cy="1992600"/>
            <a:chOff x="1233000" y="4267080"/>
            <a:chExt cx="299520" cy="1992600"/>
          </a:xfrm>
        </p:grpSpPr>
        <p:sp>
          <p:nvSpPr>
            <p:cNvPr id="127" name=""/>
            <p:cNvSpPr/>
            <p:nvPr/>
          </p:nvSpPr>
          <p:spPr>
            <a:xfrm>
              <a:off x="1233000" y="60768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33000" y="5775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3000" y="54734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3000" y="5171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3000" y="48704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3000" y="4568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33000" y="4267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78600" y="6235560"/>
            <a:ext cx="2365920" cy="182880"/>
            <a:chOff x="1578600" y="6235560"/>
            <a:chExt cx="2365920" cy="182880"/>
          </a:xfrm>
        </p:grpSpPr>
        <p:sp>
          <p:nvSpPr>
            <p:cNvPr id="135" name=""/>
            <p:cNvSpPr/>
            <p:nvPr/>
          </p:nvSpPr>
          <p:spPr>
            <a:xfrm>
              <a:off x="1578600" y="623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48480" y="623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8360" y="623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8600" y="623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8480" y="623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767600" y="639288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cubation length/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134280" y="498672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% blue colon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error f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4360" y="3505320"/>
            <a:ext cx="34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rror reduction in LacZ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utS/L/H filter (single cy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" y="1219320"/>
            <a:ext cx="175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impl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moves 1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le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(25% -&gt; ~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38360" y="153000"/>
            <a:ext cx="2109240" cy="2728080"/>
            <a:chOff x="2538360" y="153000"/>
            <a:chExt cx="2109240" cy="2728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21488" t="18042" r="56109" b="37915"/>
            <a:stretch/>
          </p:blipFill>
          <p:spPr>
            <a:xfrm>
              <a:off x="2538360" y="975960"/>
              <a:ext cx="1219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H="1">
              <a:off x="3769920" y="2616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83760" y="2371320"/>
              <a:ext cx="66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-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2866320" y="51948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al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3128400" y="4312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sma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81080" y="132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3760" y="1028520"/>
              <a:ext cx="663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-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un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5100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4-06-10T13:36:57Z</dcterms:modified>
  <cp:revision>239</cp:revision>
  <dc:subject/>
  <dc:title>Predicated assembly and biomimetics in micro/nano-manufacture</dc:title>
</cp:coreProperties>
</file>