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A02-BBB5-4A64-AB30-1F6F3670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216468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94F-9DE6-4223-8E64-6193B793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368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8A0-6AA8-4C86-B374-66205FCB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4800" y="144792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4800" y="2164680"/>
            <a:ext cx="24001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B47-4BCA-4EB0-969B-CE75DD0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036-8A7E-451F-81D7-500B2D0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CB1-5697-41F6-B91C-3D7CEE3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E4A-5604-4C3E-B508-DEF14C3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D45-4D47-45B9-9CD1-0277F6F8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685800"/>
            <a:ext cx="7243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11B-9497-4F63-B7E6-1B567BAA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2C5-1477-401B-9C15-608D641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3680" y="216468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FFB-9DB6-4521-8BDD-5B082DF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3680" y="1447920"/>
            <a:ext cx="36378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2164680"/>
            <a:ext cx="745488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62F-EB40-4190-86A3-F046927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B92-8B4A-418E-B62C-FBC9EE7AD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93720" y="685800"/>
            <a:ext cx="7243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3720" y="1447920"/>
            <a:ext cx="7454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indent="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390600" indent="-129960" algn="just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65124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91188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5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6" marL="1172520" indent="-12996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90480"/>
            <a:ext cx="8013960" cy="10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QC @ MIT: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ducation &amp; Outreach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0960" y="4269960"/>
            <a:ext cx="4150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28600" indent="0">
              <a:lnSpc>
                <a:spcPct val="70000"/>
              </a:lnSpc>
              <a:spcBef>
                <a:spcPts val="18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33"/>
                </a:solidFill>
                <a:latin typeface="Times New Roman"/>
              </a:rPr>
              <a:t>Isaac Chuang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533520"/>
            <a:ext cx="8850240" cy="5784840"/>
          </a:xfrm>
          <a:prstGeom prst="roundRect">
            <a:avLst>
              <a:gd name="adj" fmla="val 1234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538960" y="4586400"/>
            <a:ext cx="372960" cy="956880"/>
            <a:chOff x="5538960" y="4586400"/>
            <a:chExt cx="372960" cy="956880"/>
          </a:xfrm>
        </p:grpSpPr>
        <p:sp>
          <p:nvSpPr>
            <p:cNvPr id="47" name=""/>
            <p:cNvSpPr/>
            <p:nvPr/>
          </p:nvSpPr>
          <p:spPr>
            <a:xfrm>
              <a:off x="5679720" y="4933440"/>
              <a:ext cx="105120" cy="6098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9240" y="4586400"/>
              <a:ext cx="226080" cy="703800"/>
            </a:xfrm>
            <a:prstGeom prst="upArrow">
              <a:avLst>
                <a:gd name="adj1" fmla="val 50000"/>
                <a:gd name="adj2" fmla="val 155638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38960" y="5050800"/>
              <a:ext cx="37296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291440" y="4956120"/>
            <a:ext cx="371520" cy="955440"/>
            <a:chOff x="7291440" y="4956120"/>
            <a:chExt cx="371520" cy="955440"/>
          </a:xfrm>
        </p:grpSpPr>
        <p:sp>
          <p:nvSpPr>
            <p:cNvPr id="51" name=""/>
            <p:cNvSpPr/>
            <p:nvPr/>
          </p:nvSpPr>
          <p:spPr>
            <a:xfrm>
              <a:off x="7431120" y="4956120"/>
              <a:ext cx="105840" cy="606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71720" y="5210640"/>
              <a:ext cx="225360" cy="700920"/>
            </a:xfrm>
            <a:prstGeom prst="downArrow">
              <a:avLst>
                <a:gd name="adj1" fmla="val 50000"/>
                <a:gd name="adj2" fmla="val 155525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1440" y="5050080"/>
              <a:ext cx="37152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15800" y="5075280"/>
            <a:ext cx="5253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MIT, Center for Bits and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&amp; Department of Phys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1080" y="347976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SF CBA Review Meeting, 10-Jun-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403960" y="4406760"/>
            <a:ext cx="2555280" cy="1260360"/>
            <a:chOff x="5403960" y="4406760"/>
            <a:chExt cx="2555280" cy="1260360"/>
          </a:xfrm>
        </p:grpSpPr>
        <p:grpSp>
          <p:nvGrpSpPr>
            <p:cNvPr id="57" name=""/>
            <p:cNvGrpSpPr/>
            <p:nvPr/>
          </p:nvGrpSpPr>
          <p:grpSpPr>
            <a:xfrm>
              <a:off x="5403960" y="4406760"/>
              <a:ext cx="2555280" cy="1260360"/>
              <a:chOff x="5403960" y="4406760"/>
              <a:chExt cx="2555280" cy="1260360"/>
            </a:xfrm>
          </p:grpSpPr>
          <p:sp>
            <p:nvSpPr>
              <p:cNvPr id="58" name=""/>
              <p:cNvSpPr/>
              <p:nvPr/>
            </p:nvSpPr>
            <p:spPr>
              <a:xfrm>
                <a:off x="5403960" y="4406760"/>
                <a:ext cx="1080" cy="126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27840" y="4406760"/>
                <a:ext cx="206640" cy="63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6027840" y="5037120"/>
                <a:ext cx="206640" cy="63000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28720" y="4406760"/>
                <a:ext cx="1080" cy="126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51520" y="4406760"/>
                <a:ext cx="207720" cy="63036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751160" y="5037120"/>
                <a:ext cx="207720" cy="630000"/>
              </a:xfrm>
              <a:prstGeom prst="line">
                <a:avLst/>
              </a:prstGeom>
              <a:ln cap="rnd" w="39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6425640" y="4422600"/>
              <a:ext cx="5418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</a:t>
              </a:r>
              <a:endParaRPr b="0" lang="en-US" sz="7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ilbert-dt970322_295" descr=""/>
          <p:cNvPicPr/>
          <p:nvPr/>
        </p:nvPicPr>
        <p:blipFill>
          <a:blip r:embed="rId1"/>
          <a:srcRect l="0" t="0" r="0" b="10190"/>
          <a:stretch/>
        </p:blipFill>
        <p:spPr>
          <a:xfrm>
            <a:off x="152280" y="1828800"/>
            <a:ext cx="8915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440" y="522360"/>
            <a:ext cx="879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 u="sng">
                <a:solidFill>
                  <a:srgbClr val="ffff00"/>
                </a:solidFill>
                <a:uFillTx/>
                <a:latin typeface="Arial"/>
              </a:rPr>
              <a:t>Education &amp; Outreach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9440" y="2684520"/>
            <a:ext cx="87566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aching materi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P/MIT QC cou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S.961 / 8.371J cou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 8.14 Junior Experimental Physics Labora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880" y="1627200"/>
            <a:ext cx="796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w do we train a new generation of quantum information scientis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8840" y="2652840"/>
            <a:ext cx="862488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75280" y="533520"/>
            <a:ext cx="3054600" cy="6076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480" y="74520"/>
            <a:ext cx="6620040" cy="189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ulk Spin-Resonance Quantum Computa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2743200"/>
            <a:ext cx="6189480" cy="13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formation (qubits) =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uclear sp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actions =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hemical bon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rcuits =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ectromagnetic field pul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3686760" y="4316400"/>
            <a:ext cx="105156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0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86760" y="5764320"/>
            <a:ext cx="105156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1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2120" y="4267080"/>
            <a:ext cx="2948040" cy="2215800"/>
            <a:chOff x="492120" y="4267080"/>
            <a:chExt cx="2948040" cy="2215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492120" y="4272480"/>
              <a:ext cx="2948040" cy="22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887120" y="4267080"/>
              <a:ext cx="169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1967040"/>
            <a:ext cx="5908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 Gershenfeld and Chuang, Science 275, p.350,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Cory, Fahmy, and Havel, PNAS 94, p.1634, 1997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781520" y="4241880"/>
            <a:ext cx="371520" cy="955080"/>
            <a:chOff x="4781520" y="4241880"/>
            <a:chExt cx="371520" cy="955080"/>
          </a:xfrm>
        </p:grpSpPr>
        <p:sp>
          <p:nvSpPr>
            <p:cNvPr id="82" name=""/>
            <p:cNvSpPr/>
            <p:nvPr/>
          </p:nvSpPr>
          <p:spPr>
            <a:xfrm>
              <a:off x="4921200" y="4241880"/>
              <a:ext cx="105840" cy="606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1800" y="4496400"/>
              <a:ext cx="225360" cy="700560"/>
            </a:xfrm>
            <a:prstGeom prst="downArrow">
              <a:avLst>
                <a:gd name="adj1" fmla="val 50000"/>
                <a:gd name="adj2" fmla="val 155445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81520" y="4335840"/>
              <a:ext cx="37152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81520" y="5613480"/>
            <a:ext cx="371520" cy="956880"/>
            <a:chOff x="4781520" y="5613480"/>
            <a:chExt cx="371520" cy="956880"/>
          </a:xfrm>
        </p:grpSpPr>
        <p:sp>
          <p:nvSpPr>
            <p:cNvPr id="86" name=""/>
            <p:cNvSpPr/>
            <p:nvPr/>
          </p:nvSpPr>
          <p:spPr>
            <a:xfrm>
              <a:off x="4921560" y="5960520"/>
              <a:ext cx="104760" cy="6098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1440" y="5613480"/>
              <a:ext cx="225360" cy="703800"/>
            </a:xfrm>
            <a:prstGeom prst="upArrow">
              <a:avLst>
                <a:gd name="adj1" fmla="val 50000"/>
                <a:gd name="adj2" fmla="val 156136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1520" y="6077880"/>
              <a:ext cx="371520" cy="397080"/>
            </a:xfrm>
            <a:prstGeom prst="ellipse">
              <a:avLst/>
            </a:prstGeom>
            <a:gradFill rotWithShape="0">
              <a:gsLst>
                <a:gs pos="0">
                  <a:srgbClr val="00b1b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1432080"/>
            <a:ext cx="233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#42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0960" y="328680"/>
            <a:ext cx="8628120" cy="96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Comic Sans MS"/>
              </a:rPr>
              <a:t>Quantum Information Proces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mit-seal_400x400" descr=""/>
          <p:cNvPicPr/>
          <p:nvPr/>
        </p:nvPicPr>
        <p:blipFill>
          <a:blip r:embed="rId2"/>
          <a:stretch/>
        </p:blipFill>
        <p:spPr>
          <a:xfrm>
            <a:off x="3859200" y="1374840"/>
            <a:ext cx="1312920" cy="142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080" y="1432080"/>
            <a:ext cx="26683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 Junior Physics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MIT-junior-lab-nmrqc-expt-installation-jun02-img_1743a" descr=""/>
          <p:cNvPicPr/>
          <p:nvPr/>
        </p:nvPicPr>
        <p:blipFill>
          <a:blip r:embed="rId3"/>
          <a:srcRect l="11523" t="10306" r="16601" b="21550"/>
          <a:stretch/>
        </p:blipFill>
        <p:spPr>
          <a:xfrm>
            <a:off x="4754520" y="3446640"/>
            <a:ext cx="385920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MIT-junior-lab-nmrqc-expt-installation-jun02-img_1746a" descr=""/>
          <p:cNvPicPr/>
          <p:nvPr/>
        </p:nvPicPr>
        <p:blipFill>
          <a:blip r:embed="rId4"/>
          <a:srcRect l="12290" t="5066" r="8889" b="8310"/>
          <a:stretch/>
        </p:blipFill>
        <p:spPr>
          <a:xfrm>
            <a:off x="6962760" y="3394080"/>
            <a:ext cx="1986120" cy="315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0960" y="5130720"/>
            <a:ext cx="4741920" cy="1581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2520" y="5203800"/>
            <a:ext cx="246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story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360" y="5651640"/>
            <a:ext cx="43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nded by Prof. David C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n at MIT Media Laboratory 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manent Phys. Dept. 2003-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2873520"/>
            <a:ext cx="4741920" cy="2165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2520" y="298440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pose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280" y="3408480"/>
            <a:ext cx="452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xperiment will let you perform a series of simple quantum computations on a two spin system, demonstrating one and two quantum-bit quantum logic gates, and a circuit implementing the Deutsch-Jozsa quantum algorith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83240" y="1432080"/>
            <a:ext cx="233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#42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0960" y="328680"/>
            <a:ext cx="8628120" cy="96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Comic Sans MS"/>
              </a:rPr>
              <a:t>Quantum Information Proces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mit-seal_400x400" descr=""/>
          <p:cNvPicPr/>
          <p:nvPr/>
        </p:nvPicPr>
        <p:blipFill>
          <a:blip r:embed="rId2"/>
          <a:stretch/>
        </p:blipFill>
        <p:spPr>
          <a:xfrm>
            <a:off x="3859200" y="1374840"/>
            <a:ext cx="1312920" cy="142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080" y="1432080"/>
            <a:ext cx="26683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 Junior Physics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MIT-junior-lab-nmrqc-first-signal-08feb02-img_1774" descr=""/>
          <p:cNvPicPr/>
          <p:nvPr/>
        </p:nvPicPr>
        <p:blipFill>
          <a:blip r:embed="rId3"/>
          <a:srcRect l="10362" t="19139" r="38252" b="0"/>
          <a:stretch/>
        </p:blipFill>
        <p:spPr>
          <a:xfrm>
            <a:off x="5781600" y="2521080"/>
            <a:ext cx="3179880" cy="4065480"/>
          </a:xfrm>
          <a:prstGeom prst="rect">
            <a:avLst/>
          </a:prstGeom>
          <a:ln w="0">
            <a:noFill/>
          </a:ln>
        </p:spPr>
      </p:pic>
      <p:pic>
        <p:nvPicPr>
          <p:cNvPr id="108" name="MIT-junior-lab-nmrqc-first-signal-08feb02-img_1775" descr=""/>
          <p:cNvPicPr/>
          <p:nvPr/>
        </p:nvPicPr>
        <p:blipFill>
          <a:blip r:embed="rId4"/>
          <a:srcRect l="19937" t="14551" r="30354" b="29900"/>
          <a:stretch/>
        </p:blipFill>
        <p:spPr>
          <a:xfrm>
            <a:off x="5226120" y="4986360"/>
            <a:ext cx="1855800" cy="1685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0960" y="2873520"/>
            <a:ext cx="4818240" cy="2165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2520" y="298440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pose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280" y="3408480"/>
            <a:ext cx="44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xperiment will let you perform a series of simple quantum computations on a two spin system, demonstrating one and two quantum-bit quantum logic gates, and a circuit implementing the Deutsch-Jozsa quantum algorith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0960" y="5130720"/>
            <a:ext cx="4817880" cy="1581120"/>
            <a:chOff x="210960" y="5130720"/>
            <a:chExt cx="4817880" cy="1581120"/>
          </a:xfrm>
        </p:grpSpPr>
        <p:sp>
          <p:nvSpPr>
            <p:cNvPr id="113" name=""/>
            <p:cNvSpPr/>
            <p:nvPr/>
          </p:nvSpPr>
          <p:spPr>
            <a:xfrm>
              <a:off x="210960" y="5130720"/>
              <a:ext cx="4817880" cy="1581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640" y="5203800"/>
              <a:ext cx="2795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complishments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8840" y="5600880"/>
              <a:ext cx="4599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~112 undergraduates ran experi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ost popular unit in cla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irst new experiment in &gt;6 yea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ordinated with undergrad QM cla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7:40:38Z</dcterms:created>
  <dc:creator>.</dc:creator>
  <dc:description/>
  <dc:language>en-US</dc:language>
  <cp:lastModifiedBy>Ike</cp:lastModifiedBy>
  <cp:lastPrinted>1999-05-11T00:56:13Z</cp:lastPrinted>
  <dcterms:modified xsi:type="dcterms:W3CDTF">2004-06-10T04:59:46Z</dcterms:modified>
  <cp:revision>249</cp:revision>
  <dc:subject/>
  <dc:title>Quantum Computation Theory, Practice, and Future Prospects</dc:title>
</cp:coreProperties>
</file>