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51663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2419-4196-4B6D-95B9-5D7CEA95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3720" y="685800"/>
            <a:ext cx="7243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3720" y="1447920"/>
            <a:ext cx="745488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3720" y="2164680"/>
            <a:ext cx="745488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D48F-0A70-4079-9E60-798E5954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3720" y="685800"/>
            <a:ext cx="7243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3720" y="1447920"/>
            <a:ext cx="36378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3680" y="1447920"/>
            <a:ext cx="36378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3720" y="2164680"/>
            <a:ext cx="36378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3680" y="2164680"/>
            <a:ext cx="36378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9A58-8B39-45C2-9259-95ADCFD1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3720" y="685800"/>
            <a:ext cx="7243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3720" y="1447920"/>
            <a:ext cx="240012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1447920"/>
            <a:ext cx="240012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4800" y="1447920"/>
            <a:ext cx="240012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3720" y="2164680"/>
            <a:ext cx="240012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2164680"/>
            <a:ext cx="240012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4800" y="2164680"/>
            <a:ext cx="240012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6DD1-25DD-4349-9352-F17074A9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685800"/>
            <a:ext cx="7243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3720" y="1447920"/>
            <a:ext cx="74548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8784-7A38-4466-87EB-C6FB84B6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685800"/>
            <a:ext cx="7243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447920"/>
            <a:ext cx="7454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F9B6-51A4-4556-A94D-AC05B7D7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3720" y="685800"/>
            <a:ext cx="7243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720" y="1447920"/>
            <a:ext cx="3637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3680" y="1447920"/>
            <a:ext cx="3637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819C-3EE5-43D7-84B6-BF7F24BF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685800"/>
            <a:ext cx="7243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380-D5A7-49D3-9C2D-09DC9902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3720" y="685800"/>
            <a:ext cx="7243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39D8-80D3-43C7-847E-31248785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3720" y="685800"/>
            <a:ext cx="7243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3720" y="1447920"/>
            <a:ext cx="36378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3680" y="1447920"/>
            <a:ext cx="3637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3720" y="2164680"/>
            <a:ext cx="36378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6B0A-E6FA-4785-9E62-7315ED43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3720" y="685800"/>
            <a:ext cx="7243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3720" y="1447920"/>
            <a:ext cx="3637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3680" y="1447920"/>
            <a:ext cx="36378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3680" y="2164680"/>
            <a:ext cx="36378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650-E58B-49CF-BE87-940844BA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3720" y="685800"/>
            <a:ext cx="7243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3720" y="1447920"/>
            <a:ext cx="36378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3680" y="1447920"/>
            <a:ext cx="36378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3720" y="2164680"/>
            <a:ext cx="745488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9299-C911-4C99-8674-4E786FAA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92FB-1A78-45A8-B8D4-0F83D20194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93720" y="685800"/>
            <a:ext cx="7243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Click to edit the title text format</a:t>
            </a: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3720" y="1447920"/>
            <a:ext cx="7454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indent="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390600" indent="-129960" algn="just">
              <a:lnSpc>
                <a:spcPct val="90000"/>
              </a:lnSpc>
              <a:spcBef>
                <a:spcPts val="675"/>
              </a:spcBef>
              <a:buClr>
                <a:srgbClr val="ff003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651240" indent="-12996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3" marL="911880" indent="-12996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4" marL="1172520" indent="-12996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5" marL="1172520" indent="-12996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6" marL="1172520" indent="-12996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1590480"/>
            <a:ext cx="8013960" cy="10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From Classical to Quantum Circuits</a:t>
            </a:r>
            <a:endParaRPr b="0" lang="en-US" sz="5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0960" y="4269960"/>
            <a:ext cx="4150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228600" indent="0">
              <a:lnSpc>
                <a:spcPct val="70000"/>
              </a:lnSpc>
              <a:spcBef>
                <a:spcPts val="1800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33"/>
                </a:solidFill>
                <a:latin typeface="Times New Roman"/>
              </a:rPr>
              <a:t>Isaac Chuang</a:t>
            </a: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533520"/>
            <a:ext cx="8850240" cy="5784840"/>
          </a:xfrm>
          <a:prstGeom prst="roundRect">
            <a:avLst>
              <a:gd name="adj" fmla="val 1234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538960" y="4586400"/>
            <a:ext cx="372960" cy="956880"/>
            <a:chOff x="5538960" y="4586400"/>
            <a:chExt cx="372960" cy="956880"/>
          </a:xfrm>
        </p:grpSpPr>
        <p:sp>
          <p:nvSpPr>
            <p:cNvPr id="47" name=""/>
            <p:cNvSpPr/>
            <p:nvPr/>
          </p:nvSpPr>
          <p:spPr>
            <a:xfrm>
              <a:off x="5679720" y="4933440"/>
              <a:ext cx="105120" cy="60984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19240" y="4586400"/>
              <a:ext cx="226080" cy="703800"/>
            </a:xfrm>
            <a:prstGeom prst="upArrow">
              <a:avLst>
                <a:gd name="adj1" fmla="val 50000"/>
                <a:gd name="adj2" fmla="val 155638"/>
              </a:avLst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538960" y="5050800"/>
              <a:ext cx="372960" cy="397080"/>
            </a:xfrm>
            <a:prstGeom prst="ellipse">
              <a:avLst/>
            </a:prstGeom>
            <a:gradFill rotWithShape="0">
              <a:gsLst>
                <a:gs pos="0">
                  <a:srgbClr val="00b1b1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7291440" y="4956120"/>
            <a:ext cx="371520" cy="955440"/>
            <a:chOff x="7291440" y="4956120"/>
            <a:chExt cx="371520" cy="955440"/>
          </a:xfrm>
        </p:grpSpPr>
        <p:sp>
          <p:nvSpPr>
            <p:cNvPr id="51" name=""/>
            <p:cNvSpPr/>
            <p:nvPr/>
          </p:nvSpPr>
          <p:spPr>
            <a:xfrm>
              <a:off x="7431120" y="4956120"/>
              <a:ext cx="105840" cy="606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371720" y="5210640"/>
              <a:ext cx="225360" cy="700920"/>
            </a:xfrm>
            <a:prstGeom prst="downArrow">
              <a:avLst>
                <a:gd name="adj1" fmla="val 50000"/>
                <a:gd name="adj2" fmla="val 155525"/>
              </a:avLst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91440" y="5050080"/>
              <a:ext cx="371520" cy="397080"/>
            </a:xfrm>
            <a:prstGeom prst="ellipse">
              <a:avLst/>
            </a:prstGeom>
            <a:gradFill rotWithShape="0">
              <a:gsLst>
                <a:gs pos="0">
                  <a:srgbClr val="00b1b1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15800" y="5075280"/>
            <a:ext cx="52531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</a:rPr>
              <a:t>MIT, Center for Bits and A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</a:rPr>
              <a:t>&amp; Department of Phys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1080" y="3479760"/>
            <a:ext cx="44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SF CBA Review Meeting, 10-Jun-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403960" y="4406760"/>
            <a:ext cx="2555280" cy="1260360"/>
            <a:chOff x="5403960" y="4406760"/>
            <a:chExt cx="2555280" cy="1260360"/>
          </a:xfrm>
        </p:grpSpPr>
        <p:grpSp>
          <p:nvGrpSpPr>
            <p:cNvPr id="57" name=""/>
            <p:cNvGrpSpPr/>
            <p:nvPr/>
          </p:nvGrpSpPr>
          <p:grpSpPr>
            <a:xfrm>
              <a:off x="5403960" y="4406760"/>
              <a:ext cx="2555280" cy="1260360"/>
              <a:chOff x="5403960" y="4406760"/>
              <a:chExt cx="2555280" cy="1260360"/>
            </a:xfrm>
          </p:grpSpPr>
          <p:sp>
            <p:nvSpPr>
              <p:cNvPr id="58" name=""/>
              <p:cNvSpPr/>
              <p:nvPr/>
            </p:nvSpPr>
            <p:spPr>
              <a:xfrm>
                <a:off x="5403960" y="4406760"/>
                <a:ext cx="1080" cy="1260360"/>
              </a:xfrm>
              <a:prstGeom prst="line">
                <a:avLst/>
              </a:prstGeom>
              <a:ln cap="rnd" w="3960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27840" y="4406760"/>
                <a:ext cx="206640" cy="630360"/>
              </a:xfrm>
              <a:prstGeom prst="line">
                <a:avLst/>
              </a:prstGeom>
              <a:ln cap="rnd" w="3960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6027840" y="5037120"/>
                <a:ext cx="206640" cy="630000"/>
              </a:xfrm>
              <a:prstGeom prst="line">
                <a:avLst/>
              </a:prstGeom>
              <a:ln cap="rnd" w="3960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28720" y="4406760"/>
                <a:ext cx="1080" cy="1260360"/>
              </a:xfrm>
              <a:prstGeom prst="line">
                <a:avLst/>
              </a:prstGeom>
              <a:ln cap="rnd" w="3960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751520" y="4406760"/>
                <a:ext cx="207720" cy="630360"/>
              </a:xfrm>
              <a:prstGeom prst="line">
                <a:avLst/>
              </a:prstGeom>
              <a:ln cap="rnd" w="3960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7751160" y="5037120"/>
                <a:ext cx="207720" cy="630000"/>
              </a:xfrm>
              <a:prstGeom prst="line">
                <a:avLst/>
              </a:prstGeom>
              <a:ln cap="rnd" w="3960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6425640" y="4422600"/>
              <a:ext cx="5418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3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</a:t>
              </a:r>
              <a:endParaRPr b="0" lang="en-US" sz="7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73120" y="4876920"/>
            <a:ext cx="1973160" cy="190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068560" y="996840"/>
            <a:ext cx="4610160" cy="4643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0680" y="250920"/>
            <a:ext cx="7742160" cy="81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The Quantum Limit</a:t>
            </a:r>
            <a:endParaRPr b="0" lang="en-US" sz="60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6280" y="4433760"/>
            <a:ext cx="97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187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82560" y="6033960"/>
            <a:ext cx="121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 in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905520" y="4290840"/>
            <a:ext cx="1757520" cy="1881360"/>
            <a:chOff x="6905520" y="4290840"/>
            <a:chExt cx="1757520" cy="1881360"/>
          </a:xfrm>
        </p:grpSpPr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6905520" y="4290840"/>
              <a:ext cx="1757520" cy="18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259040" y="4971960"/>
              <a:ext cx="85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i38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7244280" y="3855960"/>
            <a:ext cx="97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198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07440" y="6186600"/>
            <a:ext cx="241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 microm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06200" y="2292480"/>
            <a:ext cx="4730760" cy="672840"/>
            <a:chOff x="106200" y="2292480"/>
            <a:chExt cx="4730760" cy="672840"/>
          </a:xfrm>
        </p:grpSpPr>
        <p:sp>
          <p:nvSpPr>
            <p:cNvPr id="76" name=""/>
            <p:cNvSpPr/>
            <p:nvPr/>
          </p:nvSpPr>
          <p:spPr>
            <a:xfrm>
              <a:off x="106200" y="2292480"/>
              <a:ext cx="4730760" cy="672840"/>
            </a:xfrm>
            <a:prstGeom prst="roundRect">
              <a:avLst>
                <a:gd name="adj" fmla="val 12495"/>
              </a:avLst>
            </a:prstGeom>
            <a:solidFill>
              <a:srgbClr val="ffff9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1200" y="2376360"/>
              <a:ext cx="4476600" cy="458280"/>
            </a:xfrm>
            <a:prstGeom prst="rect">
              <a:avLst/>
            </a:prstGeom>
            <a:solidFill>
              <a:srgbClr val="fff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What happens when 1 bit = atom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351480" y="716040"/>
            <a:ext cx="2737440" cy="2941560"/>
            <a:chOff x="6351480" y="716040"/>
            <a:chExt cx="2737440" cy="2941560"/>
          </a:xfrm>
        </p:grpSpPr>
        <p:grpSp>
          <p:nvGrpSpPr>
            <p:cNvPr id="79" name=""/>
            <p:cNvGrpSpPr/>
            <p:nvPr/>
          </p:nvGrpSpPr>
          <p:grpSpPr>
            <a:xfrm>
              <a:off x="6789960" y="1276200"/>
              <a:ext cx="2298960" cy="2381400"/>
              <a:chOff x="6789960" y="1276200"/>
              <a:chExt cx="2298960" cy="2381400"/>
            </a:xfrm>
          </p:grpSpPr>
          <p:pic>
            <p:nvPicPr>
              <p:cNvPr id="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932520" y="1701720"/>
                <a:ext cx="2133000" cy="142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7718400" y="1276200"/>
                <a:ext cx="9774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ff"/>
                    </a:solidFill>
                    <a:latin typeface="Arial"/>
                  </a:rPr>
                  <a:t>2020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789960" y="3138480"/>
                <a:ext cx="2298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Arial"/>
                  </a:rPr>
                  <a:t>1 nanometer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6351480" y="716040"/>
              <a:ext cx="1479240" cy="1215720"/>
              <a:chOff x="6351480" y="716040"/>
              <a:chExt cx="1479240" cy="1215720"/>
            </a:xfrm>
          </p:grpSpPr>
          <p:sp>
            <p:nvSpPr>
              <p:cNvPr id="84" name=""/>
              <p:cNvSpPr/>
              <p:nvPr/>
            </p:nvSpPr>
            <p:spPr>
              <a:xfrm flipV="1">
                <a:off x="6351480" y="772920"/>
                <a:ext cx="1423800" cy="1158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6720480" y="782280"/>
                <a:ext cx="1033920" cy="8413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713720" y="716040"/>
                <a:ext cx="117000" cy="10296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93720" y="685800"/>
            <a:ext cx="7243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19240"/>
            <a:ext cx="8686800" cy="99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00"/>
                </a:solidFill>
                <a:uFillTx/>
                <a:latin typeface="Arial"/>
              </a:rPr>
              <a:t>Quantum Archtecture</a:t>
            </a:r>
            <a:endParaRPr b="0" lang="en-US" sz="5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7880" y="1376280"/>
            <a:ext cx="6004080" cy="4057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14200" y="5638680"/>
            <a:ext cx="6491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EEE Computer: Jan 2002, p 7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SCA’03; JQE v9, Dec 2003, p155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39080" y="5638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myatt3r" descr=""/>
          <p:cNvPicPr/>
          <p:nvPr/>
        </p:nvPicPr>
        <p:blipFill>
          <a:blip r:embed="rId2"/>
          <a:stretch/>
        </p:blipFill>
        <p:spPr>
          <a:xfrm>
            <a:off x="6477120" y="1371600"/>
            <a:ext cx="2519280" cy="1841400"/>
          </a:xfrm>
          <a:prstGeom prst="rect">
            <a:avLst/>
          </a:prstGeom>
          <a:ln w="0">
            <a:noFill/>
          </a:ln>
        </p:spPr>
      </p:pic>
      <p:pic>
        <p:nvPicPr>
          <p:cNvPr id="95" name="5ionscrop2" descr=""/>
          <p:cNvPicPr/>
          <p:nvPr/>
        </p:nvPicPr>
        <p:blipFill>
          <a:blip r:embed="rId3"/>
          <a:srcRect l="14368" t="0" r="16067" b="0"/>
          <a:stretch/>
        </p:blipFill>
        <p:spPr>
          <a:xfrm>
            <a:off x="6477120" y="3200400"/>
            <a:ext cx="2514600" cy="2535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501600" y="502920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0"/>
                </a:solidFill>
                <a:latin typeface="Arial"/>
              </a:rPr>
              <a:t>( NIST – Wineland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7T07:40:38Z</dcterms:created>
  <dc:creator>.</dc:creator>
  <dc:description/>
  <dc:language>en-US</dc:language>
  <cp:lastModifiedBy>Ike</cp:lastModifiedBy>
  <cp:lastPrinted>1999-05-11T00:56:13Z</cp:lastPrinted>
  <dcterms:modified xsi:type="dcterms:W3CDTF">2004-06-10T05:08:02Z</dcterms:modified>
  <cp:revision>249</cp:revision>
  <dc:subject/>
  <dc:title>Quantum Computation Theory, Practice, and Future Prospects</dc:title>
</cp:coreProperties>
</file>