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94A-7B3C-44A8-B769-8148FE63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9E0-73F5-4980-A7C3-1693C20B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0EC-F665-45EB-8872-858442F1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A08-B60C-41B2-89C8-276B3B8A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5B0-5F27-4B1A-A8DF-4F2176E8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3E2-92FE-4863-B8A7-D66983E6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AEC-5523-41A9-B184-F9FAAA24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EBC-B767-4E39-BAEE-5534F81D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1EB-3B4F-422A-862C-6E175A50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F31-5F43-40BA-88A0-E96BF895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41D-96BA-4591-A40E-6F2AF28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2A8-582C-4622-9E8E-6B93BBEB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72FD-0AD1-4AA1-B0BD-A44110EDD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100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52560"/>
            <a:ext cx="7315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24240" y="685800"/>
            <a:ext cx="2495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4348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247680"/>
            <a:ext cx="685800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2320" y="457200"/>
            <a:ext cx="78058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427040"/>
            <a:ext cx="85723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85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24240" y="685800"/>
            <a:ext cx="2495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76400" y="1133640"/>
            <a:ext cx="699120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6023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46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292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01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90640" y="685800"/>
            <a:ext cx="3762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440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254160"/>
            <a:ext cx="65293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56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087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441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2:17:59Z</dcterms:created>
  <dc:creator>Florence Friedman</dc:creator>
  <dc:description/>
  <dc:language>en-US</dc:language>
  <cp:lastModifiedBy>Florence Friedman</cp:lastModifiedBy>
  <dcterms:modified xsi:type="dcterms:W3CDTF">2004-06-08T22:37:13Z</dcterms:modified>
  <cp:revision>3</cp:revision>
  <dc:subject/>
  <dc:title>Slide 1</dc:title>
</cp:coreProperties>
</file>