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7EB-0EE5-44B2-923A-4619F691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8B4-12F7-4348-BC63-4353D3B3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D8C-A31A-4A0C-8217-342BC129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025-C00F-4F01-9D8F-EDFEF9A8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C59-F620-4248-AE07-EED0FDD4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A7F-23A3-4C1A-914F-3F684C9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E6B-0A7D-4DD1-93D4-4701E06A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BDD-16A3-4AEB-94F7-A2E1CB6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48D-5E2E-48E9-A990-D1300155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314-F095-4DCE-B3DE-06816C5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4A0-CB70-464B-9577-E89F181A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54B-4C23-4B59-B668-A0BFFA5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942-7522-4C7E-9F20-DE5B040F4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file:///tmp/home/.config/libreoffice/4/user/gallery/whoosh.wav" TargetMode="External"/><Relationship Id="rId6" Type="http://schemas.microsoft.com/office/2007/relationships/media" Target="file:///tmp/home/.config/libreoffice/4/user/gallery/whoosh.wav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89520" y="151920"/>
            <a:ext cx="41637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ow To Make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(almost) Anyth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600" y="304920"/>
            <a:ext cx="3057480" cy="636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28414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68960" y="1523880"/>
            <a:ext cx="2898720" cy="294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200400" y="45910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6095880" y="4584600"/>
            <a:ext cx="3048120" cy="2097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703680"/>
            <a:ext cx="3886200" cy="315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29200" y="243828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0"/>
                </a:solidFill>
                <a:latin typeface="Arial"/>
              </a:rPr>
              <a:t>fabrication, instrumentation div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55920" y="580536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PC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electromag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86440" y="3976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3D scan/m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4320" y="60642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analy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79160" y="3824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602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705720" y="5486400"/>
            <a:ext cx="914400" cy="4572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19920" y="4038480"/>
            <a:ext cx="1676160" cy="4572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343400"/>
            <a:ext cx="685800" cy="5335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308560" y="5486040"/>
            <a:ext cx="380880" cy="6094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45960" y="306216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080"/>
                </a:solidFill>
                <a:latin typeface="Arial"/>
              </a:rPr>
              <a:t>I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720" y="366228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6720" y="1879560"/>
            <a:ext cx="250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080"/>
                </a:solidFill>
                <a:latin typeface="Arial"/>
              </a:rPr>
              <a:t>space (</a:t>
            </a:r>
            <a:r>
              <a:rPr b="1" lang="en-US" sz="2200" spc="-1" strike="noStrike">
                <a:solidFill>
                  <a:srgbClr val="a8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80080"/>
                </a:solidFill>
                <a:latin typeface="Arial"/>
              </a:rPr>
              <a:t>), time (</a:t>
            </a:r>
            <a:r>
              <a:rPr b="1" lang="en-US" sz="2200" spc="-1" strike="noStrike">
                <a:solidFill>
                  <a:srgbClr val="a8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80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1040" y="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81480" y="152280"/>
            <a:ext cx="3733920" cy="102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1880" y="3078000"/>
            <a:ext cx="303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f"/>
                </a:solidFill>
                <a:latin typeface="Arial"/>
              </a:rPr>
              <a:t>Ghana, Costa Rica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160" y="1333440"/>
            <a:ext cx="163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70602"/>
                </a:solidFill>
                <a:latin typeface="Arial"/>
              </a:rPr>
              <a:t>Fab La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21" t="0" r="5555" b="0"/>
          <a:stretch/>
        </p:blipFill>
        <p:spPr>
          <a:xfrm>
            <a:off x="0" y="609480"/>
            <a:ext cx="4719600" cy="5410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3724200" cy="472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181480" y="609480"/>
            <a:ext cx="3511800" cy="4724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0920" y="76320"/>
            <a:ext cx="2133720" cy="4572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am.py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6320" y="5972040"/>
            <a:ext cx="93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60000"/>
                </a:solidFill>
                <a:latin typeface="Arial"/>
              </a:rPr>
              <a:t>input:</a:t>
            </a:r>
            <a:r>
              <a:rPr b="1" lang="en-US" sz="1800" spc="-1" strike="noStrike">
                <a:solidFill>
                  <a:srgbClr val="00007f"/>
                </a:solidFill>
                <a:latin typeface="Arial"/>
              </a:rPr>
              <a:t> SVG, DXF (2D,3D), Gerber PCB, Excellon drill, JPG, T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60000"/>
                </a:solidFill>
                <a:latin typeface="Arial"/>
              </a:rPr>
              <a:t>output:</a:t>
            </a:r>
            <a:r>
              <a:rPr b="1" lang="en-US" sz="1800" spc="-1" strike="noStrike">
                <a:solidFill>
                  <a:srgbClr val="00007f"/>
                </a:solidFill>
                <a:latin typeface="Arial"/>
              </a:rPr>
              <a:t> G code, Roland mill &amp; cutter, Omax waterjet, Epilog &amp; Universal lasercut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f"/>
                </a:solidFill>
                <a:latin typeface="Arial"/>
              </a:rPr>
              <a:t>FEI focused ion beam, Haas machining center, Resonetics excimer micromach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25905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ite.p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dc:language>en-US</dc:language>
  <cp:lastModifiedBy> </cp:lastModifiedBy>
  <cp:lastPrinted>1997-02-02T14:23:30Z</cp:lastPrinted>
  <dcterms:modified xsi:type="dcterms:W3CDTF">2004-06-10T10:48:03Z</dcterms:modified>
  <cp:revision>1606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