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7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2D5-9D97-44E3-B174-0CA31FC4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C0C-CDED-4D0D-A19A-AA116588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9ACF-9030-4037-A001-B490E2D9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AEB7-C711-44BF-8730-6A8FC240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B069-46AD-4B7F-9524-FBD4BA5A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B39-80E8-4037-828A-34839813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851-C69C-4909-BD7E-FBAD3A83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EAC-9597-416F-9146-42320B94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9FE-AF45-4A8B-9E3D-C2030828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E35D-91B7-4614-B90C-CBEDACC7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55B2-725D-4E66-AE50-EC14602E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315-775E-41E4-A322-665E0C4C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BF49-3B50-476A-B16E-ADD563667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ba.mit.edu/media/logos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hyperlink" Target="http://cba.mit.edu/media/logos/" TargetMode="Externa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6.jpeg"/><Relationship Id="rId4" Type="http://schemas.openxmlformats.org/officeDocument/2006/relationships/hyperlink" Target="http://cba.mit.edu/media/logos/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cba.mit.edu/media/logos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578560"/>
            <a:ext cx="9144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lecular Machine (Jacobson)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T – Jun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80960"/>
            <a:ext cx="91440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vogadro Scale Engin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itmedia" descr=""/>
          <p:cNvPicPr/>
          <p:nvPr/>
        </p:nvPicPr>
        <p:blipFill>
          <a:blip r:embed="rId1"/>
          <a:stretch/>
        </p:blipFill>
        <p:spPr>
          <a:xfrm>
            <a:off x="0" y="0"/>
            <a:ext cx="2747880" cy="1260360"/>
          </a:xfrm>
          <a:prstGeom prst="rect">
            <a:avLst/>
          </a:prstGeom>
          <a:ln w="0">
            <a:noFill/>
          </a:ln>
        </p:spPr>
      </p:pic>
      <p:pic>
        <p:nvPicPr>
          <p:cNvPr id="44" name="02.10.CBAlogo.MIT.400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0"/>
            <a:ext cx="2819520" cy="776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362320" y="2189160"/>
            <a:ext cx="441936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17600" y="1635120"/>
            <a:ext cx="591840" cy="563040"/>
            <a:chOff x="417600" y="1635120"/>
            <a:chExt cx="591840" cy="563040"/>
          </a:xfrm>
        </p:grpSpPr>
        <p:sp>
          <p:nvSpPr>
            <p:cNvPr id="47" name=""/>
            <p:cNvSpPr/>
            <p:nvPr/>
          </p:nvSpPr>
          <p:spPr>
            <a:xfrm>
              <a:off x="417600" y="1918800"/>
              <a:ext cx="124920" cy="122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501840" y="1948680"/>
              <a:ext cx="162360" cy="25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91480" y="1834920"/>
              <a:ext cx="248760" cy="244080"/>
            </a:xfrm>
            <a:prstGeom prst="ellipse">
              <a:avLst/>
            </a:prstGeom>
            <a:gradFill rotWithShape="0">
              <a:gsLst>
                <a:gs pos="0">
                  <a:srgbClr val="b9b9ec"/>
                </a:gs>
                <a:gs pos="100000">
                  <a:srgbClr val="3333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400" y="1721160"/>
              <a:ext cx="0" cy="14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801720" y="1987200"/>
              <a:ext cx="141480" cy="777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555840" y="2010960"/>
              <a:ext cx="98640" cy="1209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7360" y="2075760"/>
              <a:ext cx="124560" cy="1224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84880" y="2010240"/>
              <a:ext cx="124560" cy="1216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3040" y="1635120"/>
              <a:ext cx="124920" cy="122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03120" y="825480"/>
            <a:ext cx="12016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 molec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1n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96040" y="5721480"/>
            <a:ext cx="19224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M PowerPC 75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icro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56mm×8.799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35×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ransis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4320" y="5256360"/>
            <a:ext cx="14119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miconduc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no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1 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85760" y="2900520"/>
            <a:ext cx="8628120" cy="672120"/>
            <a:chOff x="185760" y="2900520"/>
            <a:chExt cx="8628120" cy="672120"/>
          </a:xfrm>
        </p:grpSpPr>
        <p:grpSp>
          <p:nvGrpSpPr>
            <p:cNvPr id="60" name=""/>
            <p:cNvGrpSpPr/>
            <p:nvPr/>
          </p:nvGrpSpPr>
          <p:grpSpPr>
            <a:xfrm>
              <a:off x="363600" y="2900520"/>
              <a:ext cx="8450280" cy="245880"/>
              <a:chOff x="363600" y="2900520"/>
              <a:chExt cx="8450280" cy="245880"/>
            </a:xfrm>
          </p:grpSpPr>
          <p:sp>
            <p:nvSpPr>
              <p:cNvPr id="61" name=""/>
              <p:cNvSpPr/>
              <p:nvPr/>
            </p:nvSpPr>
            <p:spPr>
              <a:xfrm>
                <a:off x="363600" y="3023280"/>
                <a:ext cx="8450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2120" rIns="132120" tIns="-65880" bIns="-65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363600" y="2900520"/>
                <a:ext cx="7801920" cy="245880"/>
                <a:chOff x="363600" y="2900520"/>
                <a:chExt cx="7801920" cy="2458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36360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33812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28788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26456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23908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21396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18884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16552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1300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" name=""/>
            <p:cNvGrpSpPr/>
            <p:nvPr/>
          </p:nvGrpSpPr>
          <p:grpSpPr>
            <a:xfrm>
              <a:off x="185760" y="3164040"/>
              <a:ext cx="8272440" cy="408600"/>
              <a:chOff x="185760" y="3164040"/>
              <a:chExt cx="8272440" cy="408600"/>
            </a:xfrm>
          </p:grpSpPr>
          <p:sp>
            <p:nvSpPr>
              <p:cNvPr id="73" name=""/>
              <p:cNvSpPr/>
              <p:nvPr/>
            </p:nvSpPr>
            <p:spPr>
              <a:xfrm>
                <a:off x="185760" y="3164040"/>
                <a:ext cx="70920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98816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0204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9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09636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7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04424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14704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93388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87888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82676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"/>
          <p:cNvSpPr/>
          <p:nvPr/>
        </p:nvSpPr>
        <p:spPr>
          <a:xfrm>
            <a:off x="8253360" y="2602080"/>
            <a:ext cx="43956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0" rIns="118800" tIns="59400" bIns="59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01680" y="5256360"/>
            <a:ext cx="1270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uit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per wi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dth 0.1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36440" y="527040"/>
            <a:ext cx="123372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5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(SE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04960" y="816120"/>
            <a:ext cx="8571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53480" y="2257560"/>
            <a:ext cx="806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2160" y="2293920"/>
            <a:ext cx="0" cy="687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030400"/>
            <a:ext cx="0" cy="950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454880" y="3057480"/>
            <a:ext cx="676440" cy="979200"/>
            <a:chOff x="7454880" y="3057480"/>
            <a:chExt cx="676440" cy="979200"/>
          </a:xfrm>
        </p:grpSpPr>
        <p:sp>
          <p:nvSpPr>
            <p:cNvPr id="90" name=""/>
            <p:cNvSpPr/>
            <p:nvPr/>
          </p:nvSpPr>
          <p:spPr>
            <a:xfrm flipV="1">
              <a:off x="7460640" y="3057480"/>
              <a:ext cx="0" cy="979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54880" y="4036680"/>
              <a:ext cx="676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" name="ecoli" descr=""/>
          <p:cNvPicPr/>
          <p:nvPr/>
        </p:nvPicPr>
        <p:blipFill>
          <a:blip r:embed="rId1"/>
          <a:srcRect l="0" t="0" r="5082" b="0"/>
          <a:stretch/>
        </p:blipFill>
        <p:spPr>
          <a:xfrm>
            <a:off x="3516480" y="649440"/>
            <a:ext cx="1698480" cy="143352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4751280" y="2346480"/>
            <a:ext cx="1101600" cy="634680"/>
            <a:chOff x="4751280" y="2346480"/>
            <a:chExt cx="1101600" cy="634680"/>
          </a:xfrm>
        </p:grpSpPr>
        <p:sp>
          <p:nvSpPr>
            <p:cNvPr id="94" name=""/>
            <p:cNvSpPr/>
            <p:nvPr/>
          </p:nvSpPr>
          <p:spPr>
            <a:xfrm>
              <a:off x="4766040" y="2346480"/>
              <a:ext cx="0" cy="63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4751280" y="2356560"/>
              <a:ext cx="11016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634400" y="5637240"/>
            <a:ext cx="204408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notube Transis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kk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its/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Tbit/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795320" y="2295360"/>
            <a:ext cx="952200" cy="685800"/>
            <a:chOff x="1795320" y="2295360"/>
            <a:chExt cx="952200" cy="685800"/>
          </a:xfrm>
        </p:grpSpPr>
        <p:sp>
          <p:nvSpPr>
            <p:cNvPr id="98" name=""/>
            <p:cNvSpPr/>
            <p:nvPr/>
          </p:nvSpPr>
          <p:spPr>
            <a:xfrm>
              <a:off x="1803600" y="2295360"/>
              <a:ext cx="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95320" y="2295360"/>
              <a:ext cx="952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dna.5" descr=""/>
          <p:cNvPicPr/>
          <p:nvPr/>
        </p:nvPicPr>
        <p:blipFill>
          <a:blip r:embed="rId2"/>
          <a:stretch/>
        </p:blipFill>
        <p:spPr>
          <a:xfrm>
            <a:off x="2658960" y="898560"/>
            <a:ext cx="704880" cy="188280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1208160" y="3102480"/>
            <a:ext cx="674640" cy="978840"/>
            <a:chOff x="1208160" y="3102480"/>
            <a:chExt cx="674640" cy="978840"/>
          </a:xfrm>
        </p:grpSpPr>
        <p:sp>
          <p:nvSpPr>
            <p:cNvPr id="102" name=""/>
            <p:cNvSpPr/>
            <p:nvPr/>
          </p:nvSpPr>
          <p:spPr>
            <a:xfrm flipV="1">
              <a:off x="1877040" y="3102480"/>
              <a:ext cx="0" cy="978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208160" y="4081320"/>
              <a:ext cx="674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17360" y="3716280"/>
            <a:ext cx="1389240" cy="1443240"/>
            <a:chOff x="117360" y="3716280"/>
            <a:chExt cx="1389240" cy="1443240"/>
          </a:xfrm>
        </p:grpSpPr>
        <p:pic>
          <p:nvPicPr>
            <p:cNvPr id="105" name="001%20nc" descr=""/>
            <p:cNvPicPr/>
            <p:nvPr/>
          </p:nvPicPr>
          <p:blipFill>
            <a:blip r:embed="rId3"/>
            <a:srcRect l="9399" t="8175" r="9399" b="11321"/>
            <a:stretch/>
          </p:blipFill>
          <p:spPr>
            <a:xfrm>
              <a:off x="117360" y="3716280"/>
              <a:ext cx="1389240" cy="14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34520" y="3816000"/>
              <a:ext cx="780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2757600" y="3076200"/>
            <a:ext cx="0" cy="1436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owerpc750" descr=""/>
          <p:cNvPicPr/>
          <p:nvPr/>
        </p:nvPicPr>
        <p:blipFill>
          <a:blip r:embed="rId4"/>
          <a:srcRect l="31563" t="0" r="30481" b="0"/>
          <a:stretch/>
        </p:blipFill>
        <p:spPr>
          <a:xfrm>
            <a:off x="7499520" y="3649680"/>
            <a:ext cx="1617480" cy="2092320"/>
          </a:xfrm>
          <a:prstGeom prst="rect">
            <a:avLst/>
          </a:prstGeom>
          <a:ln w="0">
            <a:noFill/>
          </a:ln>
        </p:spPr>
      </p:pic>
      <p:pic>
        <p:nvPicPr>
          <p:cNvPr id="109" name="cell%20landscape" descr=""/>
          <p:cNvPicPr/>
          <p:nvPr/>
        </p:nvPicPr>
        <p:blipFill>
          <a:blip r:embed="rId5"/>
          <a:srcRect l="0" t="0" r="16303" b="7605"/>
          <a:stretch/>
        </p:blipFill>
        <p:spPr>
          <a:xfrm>
            <a:off x="5438880" y="1030320"/>
            <a:ext cx="1677960" cy="1420920"/>
          </a:xfrm>
          <a:prstGeom prst="rect">
            <a:avLst/>
          </a:prstGeom>
          <a:ln w="0">
            <a:noFill/>
          </a:ln>
        </p:spPr>
      </p:pic>
      <p:pic>
        <p:nvPicPr>
          <p:cNvPr id="110" name="GFP" descr=""/>
          <p:cNvPicPr/>
          <p:nvPr/>
        </p:nvPicPr>
        <p:blipFill>
          <a:blip r:embed="rId6"/>
          <a:stretch/>
        </p:blipFill>
        <p:spPr>
          <a:xfrm>
            <a:off x="1657440" y="1636560"/>
            <a:ext cx="912600" cy="885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4400"/>
            <a:ext cx="91440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Molecular Machines (Jacobson)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soi_z" descr=""/>
          <p:cNvPicPr/>
          <p:nvPr/>
        </p:nvPicPr>
        <p:blipFill>
          <a:blip r:embed="rId7"/>
          <a:srcRect l="11949" t="0" r="22303" b="0"/>
          <a:stretch/>
        </p:blipFill>
        <p:spPr>
          <a:xfrm>
            <a:off x="4157640" y="3490920"/>
            <a:ext cx="1749600" cy="1290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840280" y="3797280"/>
            <a:ext cx="1265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I transis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dth 0.1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646440" y="3066120"/>
            <a:ext cx="956880" cy="2499120"/>
            <a:chOff x="3646440" y="3066120"/>
            <a:chExt cx="956880" cy="2499120"/>
          </a:xfrm>
        </p:grpSpPr>
        <p:grpSp>
          <p:nvGrpSpPr>
            <p:cNvPr id="115" name=""/>
            <p:cNvGrpSpPr/>
            <p:nvPr/>
          </p:nvGrpSpPr>
          <p:grpSpPr>
            <a:xfrm>
              <a:off x="3646440" y="3066120"/>
              <a:ext cx="956880" cy="2499120"/>
              <a:chOff x="3646440" y="3066120"/>
              <a:chExt cx="956880" cy="2499120"/>
            </a:xfrm>
          </p:grpSpPr>
          <p:sp>
            <p:nvSpPr>
              <p:cNvPr id="116" name=""/>
              <p:cNvSpPr/>
              <p:nvPr/>
            </p:nvSpPr>
            <p:spPr>
              <a:xfrm flipV="1">
                <a:off x="3654720" y="3066120"/>
                <a:ext cx="0" cy="2499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646440" y="5565240"/>
                <a:ext cx="956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3668040" y="4267080"/>
              <a:ext cx="436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7610760" y="566640"/>
            <a:ext cx="70632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t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486400" y="2637000"/>
            <a:ext cx="2013120" cy="344160"/>
            <a:chOff x="5486400" y="2637000"/>
            <a:chExt cx="2013120" cy="344160"/>
          </a:xfrm>
        </p:grpSpPr>
        <p:sp>
          <p:nvSpPr>
            <p:cNvPr id="121" name=""/>
            <p:cNvSpPr/>
            <p:nvPr/>
          </p:nvSpPr>
          <p:spPr>
            <a:xfrm>
              <a:off x="5490360" y="2637000"/>
              <a:ext cx="0" cy="344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486400" y="2642040"/>
              <a:ext cx="2013120" cy="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cystelli" descr=""/>
          <p:cNvPicPr/>
          <p:nvPr/>
        </p:nvPicPr>
        <p:blipFill>
          <a:blip r:embed="rId8"/>
          <a:stretch/>
        </p:blipFill>
        <p:spPr>
          <a:xfrm>
            <a:off x="7372440" y="1089000"/>
            <a:ext cx="1122120" cy="1611360"/>
          </a:xfrm>
          <a:prstGeom prst="rect">
            <a:avLst/>
          </a:prstGeom>
          <a:ln w="0">
            <a:noFill/>
          </a:ln>
        </p:spPr>
      </p:pic>
      <p:pic>
        <p:nvPicPr>
          <p:cNvPr id="124" name="cmos7s-new" descr=""/>
          <p:cNvPicPr/>
          <p:nvPr/>
        </p:nvPicPr>
        <p:blipFill>
          <a:blip r:embed="rId9"/>
          <a:srcRect l="0" t="0" r="5019" b="4910"/>
          <a:stretch/>
        </p:blipFill>
        <p:spPr>
          <a:xfrm>
            <a:off x="4245120" y="4819680"/>
            <a:ext cx="1476360" cy="1789200"/>
          </a:xfrm>
          <a:prstGeom prst="rect">
            <a:avLst/>
          </a:prstGeom>
          <a:ln w="0">
            <a:noFill/>
          </a:ln>
        </p:spPr>
      </p:pic>
      <p:pic>
        <p:nvPicPr>
          <p:cNvPr id="125" name="swnt_1b" descr=""/>
          <p:cNvPicPr/>
          <p:nvPr/>
        </p:nvPicPr>
        <p:blipFill>
          <a:blip r:embed="rId10"/>
          <a:stretch/>
        </p:blipFill>
        <p:spPr>
          <a:xfrm>
            <a:off x="1676520" y="4419720"/>
            <a:ext cx="1828800" cy="104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434880"/>
            <a:ext cx="914400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abricational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11320" y="2666880"/>
            <a:ext cx="730728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43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Times New Roman"/>
              </a:rPr>
              <a:t> =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n (W)  /  [ a</a:t>
            </a:r>
            <a:r>
              <a:rPr b="0" lang="en-US" sz="4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3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43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en-US" sz="43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]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43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Times New Roman"/>
              </a:rPr>
              <a:t> =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n (M)</a:t>
            </a:r>
            <a:r>
              <a:rPr b="0" lang="en-US" sz="43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/  [ a</a:t>
            </a:r>
            <a:r>
              <a:rPr b="0" lang="en-US" sz="4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3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43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en-US" sz="43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]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33720" y="1219320"/>
          <a:ext cx="1095120" cy="12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19320"/>
                    <a:ext cx="1095120" cy="12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914400" y="4343400"/>
          <a:ext cx="7572240" cy="23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343400"/>
                    <a:ext cx="757224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588480" y="1143000"/>
            <a:ext cx="442260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Complex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ity Per Unit Vol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ity Per Unit Time*Ener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ity Per unit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mit-logo" descr=""/>
          <p:cNvPicPr/>
          <p:nvPr/>
        </p:nvPicPr>
        <p:blipFill>
          <a:blip r:embed="rId5"/>
          <a:stretch/>
        </p:blipFill>
        <p:spPr>
          <a:xfrm>
            <a:off x="380880" y="0"/>
            <a:ext cx="685800" cy="682560"/>
          </a:xfrm>
          <a:prstGeom prst="rect">
            <a:avLst/>
          </a:prstGeom>
          <a:ln w="0">
            <a:noFill/>
          </a:ln>
        </p:spPr>
      </p:pic>
      <p:pic>
        <p:nvPicPr>
          <p:cNvPr id="134" name="02.10.CBAlogo.MIT.400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391520" y="0"/>
            <a:ext cx="1752480" cy="4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7520" y="5715000"/>
            <a:ext cx="909648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we use this map as a guide towards future directions in fabricatio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1143000"/>
          <a:ext cx="9144000" cy="43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mit-logo" descr=""/>
          <p:cNvPicPr/>
          <p:nvPr/>
        </p:nvPicPr>
        <p:blipFill>
          <a:blip r:embed="rId3"/>
          <a:stretch/>
        </p:blipFill>
        <p:spPr>
          <a:xfrm>
            <a:off x="380880" y="0"/>
            <a:ext cx="685800" cy="682560"/>
          </a:xfrm>
          <a:prstGeom prst="rect">
            <a:avLst/>
          </a:prstGeom>
          <a:ln w="0">
            <a:noFill/>
          </a:ln>
        </p:spPr>
      </p:pic>
      <p:pic>
        <p:nvPicPr>
          <p:cNvPr id="139" name="02.10.CBAlogo.MIT.400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91520" y="0"/>
            <a:ext cx="1752480" cy="482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434880"/>
            <a:ext cx="914400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abricational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oleography – M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cobson Group –20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mit-logo" descr=""/>
          <p:cNvPicPr/>
          <p:nvPr/>
        </p:nvPicPr>
        <p:blipFill>
          <a:blip r:embed="rId1"/>
          <a:stretch/>
        </p:blipFill>
        <p:spPr>
          <a:xfrm>
            <a:off x="914400" y="79200"/>
            <a:ext cx="685800" cy="682920"/>
          </a:xfrm>
          <a:prstGeom prst="rect">
            <a:avLst/>
          </a:prstGeom>
          <a:ln w="0">
            <a:noFill/>
          </a:ln>
        </p:spPr>
      </p:pic>
      <p:pic>
        <p:nvPicPr>
          <p:cNvPr id="144" name="02.10.CBAlogo.MIT.400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127080"/>
            <a:ext cx="1752840" cy="48240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1828800" y="762120"/>
            <a:ext cx="5790960" cy="4114080"/>
            <a:chOff x="1828800" y="762120"/>
            <a:chExt cx="5790960" cy="4114080"/>
          </a:xfrm>
        </p:grpSpPr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1828800" y="762120"/>
              <a:ext cx="5790960" cy="41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028200" y="3957120"/>
              <a:ext cx="63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4040" y="388008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838080" y="51814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Beam Fabricated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56272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dley, B.A., B. Nivi, and J.M. Jacobson,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cience, 1999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440): p. 746-7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First Demonstration of All Inorganic Active Devices (Transistors) Solely from Nanoparticle Building Block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thaup, C.A.,Jacobson  et al.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lied Physics Letters, 2001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): p. 1525-152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dley, B.A., et al.,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terials Research Society Symposium Proceedings, 2000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1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ffith, S., et al.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urnal of Vacuum Science &amp; Technology B, 2002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: p. 2768-277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9:33:44Z</dcterms:created>
  <dc:creator>saul griffith</dc:creator>
  <dc:description/>
  <dc:language>en-US</dc:language>
  <cp:lastModifiedBy>MIT</cp:lastModifiedBy>
  <dcterms:modified xsi:type="dcterms:W3CDTF">2004-06-16T02:43:35Z</dcterms:modified>
  <cp:revision>213</cp:revision>
  <dc:subject/>
  <dc:title>Predicated assembly and biomimetics in micro/nano-manufacture</dc:title>
</cp:coreProperties>
</file>