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media/image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b">
            <a:noAutofit/>
          </a:bodyPr>
          <a:p>
            <a:pPr marL="25560" algn="ct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(S/N)_{puv}=\frac{\omega_0^2[n/d\sqrt{1+(h/d_c)^2}]}{\sqrt{n^2d_c\omega_0^{1/2}/h}} \propto \frac{\omega_0^{7/4}}{d_c}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info looks nice - no analytical capability except mass/C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patches - planar antennas for RF microwave (802.11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3mm high dielectric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1.5 mm wide, 300 um, 1mm long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high aspect rati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coppe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imple mask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100 day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higher resolution than 1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missing peak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 2 pt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aph of geometry with parameter 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\langle |\vec{B}|/i\rangl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\frac{1}{d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8D994-2BC0-4F52-A72A-50540F834AB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AB9F5-C695-4472-AE08-CBEDCD4ECC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85A80-F76C-4082-AA3C-C4A1F122AF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2C35F-B130-4E98-985C-07854E3100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5E0B3-E3F8-4510-8AFB-C934481907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7005-0948-4BAC-BEF4-C850B45383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10352-91DB-44DC-8EC3-D92DFAA016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D109-802E-49CD-B3B1-D8A5E31768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9F9F1-F62C-40D6-8DE1-8B5D89EE34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479E6-B4FB-4938-8CCA-DDC6059491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B57CE-0511-4798-98E1-CD168F5620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F4A2D-4909-441A-B439-F1DF4F940F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F5788-E076-40FE-BDE3-0AE87568BE5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D9168-29B2-496D-98B8-AD168CFB9EE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D9DD4-4F47-48A0-A33D-07362E470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4C3E0-8A69-42DD-82E2-A5FDC51C913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4B811-423F-4665-BA0E-E8876BE7FAC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CE3E2-317B-4772-916F-292E6A4F78D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09E9A-E43B-4AAA-A5A7-932FAA404FC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27261-35CC-48DB-B3AA-B0A8DBA5D07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6F719-89A3-447B-A0C4-4C8006F1E74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460D1-F893-476D-831C-0663541A30F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0C21A-7619-4B83-992B-A01EDCBA709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934FA-7FF5-4319-8103-0164BD591EF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1C15-BC22-474B-A2DA-C0FD23D46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C4A0-3E37-43FE-814B-1B6B61BCE46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7C0E-54AF-455B-BCB2-F427B9CBC53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F295-80BF-4811-BBCB-C820504D5E6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A3BA-A4DA-4041-A1A9-B0037C36D15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F282-ED18-4C1F-A5EC-D794DED0497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D7EE-DF3F-4ABD-8359-7D2F36E6A02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B999-ED17-4016-8396-C6A2A16A857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7C6C-843C-40E6-872D-176632D8A75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9F8C-2EAD-4248-BDC8-8E81DD9DBBF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EB39-6FEC-4702-B74B-4DD9A778A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ADF5-8580-4A4B-AD89-9D39B72B3B6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6480" indent="0" algn="ct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6480" algn="ctr">
              <a:spcAft>
                <a:spcPts val="201"/>
              </a:spcAft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6480" algn="ctr">
              <a:spcAft>
                <a:spcPts val="201"/>
              </a:spcAft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6480" algn="ctr">
              <a:spcAft>
                <a:spcPts val="201"/>
              </a:spcAft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6480" algn="ctr">
              <a:spcAft>
                <a:spcPts val="201"/>
              </a:spcAft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6480" algn="ctr">
              <a:spcAft>
                <a:spcPts val="201"/>
              </a:spcAft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6480" algn="ctr">
              <a:spcAft>
                <a:spcPts val="201"/>
              </a:spcAft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5000"/>
          </a:bodyPr>
          <a:p>
            <a:pPr marL="561600" indent="-32364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04680" indent="-32364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47400" indent="-32364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90480" indent="-32364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33200" indent="-32364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33200" indent="-32364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33200" indent="-32364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63000"/>
          </a:bodyPr>
          <a:p>
            <a:pPr marL="471960" indent="-27180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59960" indent="-27180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47960" indent="-27180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5960" indent="-27180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3960" indent="-27180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3960" indent="-27180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3960" indent="-27180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651600" indent="-375480">
              <a:spcAft>
                <a:spcPts val="2599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49400" indent="-375480">
              <a:spcAft>
                <a:spcPts val="2599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47200" indent="-375480">
              <a:spcAft>
                <a:spcPts val="2599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45000" indent="-375480">
              <a:spcAft>
                <a:spcPts val="2599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42800" indent="-375480">
              <a:spcAft>
                <a:spcPts val="2599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42800" indent="-375480">
              <a:spcAft>
                <a:spcPts val="2599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42800" indent="-375480">
              <a:spcAft>
                <a:spcPts val="2599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12255480" y="9258120"/>
            <a:ext cx="635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1A31-A40B-4B95-97DA-95BFC0ED9884}" type="slidenum">
              <a:rPr b="0" lang="en-US" sz="36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5000"/>
          </a:bodyPr>
          <a:p>
            <a:pPr marL="636480" indent="-366840">
              <a:spcAft>
                <a:spcPts val="5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25280" indent="-366840">
              <a:spcAft>
                <a:spcPts val="5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13720" indent="-366840">
              <a:spcAft>
                <a:spcPts val="5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02520" indent="-366840">
              <a:spcAft>
                <a:spcPts val="5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190960" indent="-366840">
              <a:spcAft>
                <a:spcPts val="5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190960" indent="-366840">
              <a:spcAft>
                <a:spcPts val="5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190960" indent="-366840">
              <a:spcAft>
                <a:spcPts val="5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Num" idx="2"/>
          </p:nvPr>
        </p:nvSpPr>
        <p:spPr>
          <a:xfrm>
            <a:off x="12204720" y="9258120"/>
            <a:ext cx="635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5B93-2301-4F4D-B07A-A82B9F1B02EE}" type="slidenum">
              <a:rPr b="0" lang="en-US" sz="36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659160" indent="-379800">
              <a:spcAft>
                <a:spcPts val="2599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61280" indent="-379800">
              <a:spcAft>
                <a:spcPts val="2599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63760" indent="-379800">
              <a:spcAft>
                <a:spcPts val="2599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66240" indent="-379800">
              <a:spcAft>
                <a:spcPts val="2599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68360" indent="-379800">
              <a:spcAft>
                <a:spcPts val="2599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68360" indent="-37980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68360" indent="-37980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3"/>
          </p:nvPr>
        </p:nvSpPr>
        <p:spPr>
          <a:xfrm>
            <a:off x="12229920" y="9258120"/>
            <a:ext cx="634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0A9D-BA97-43E1-AA78-F4A3AAFB1A43}" type="slidenum">
              <a:rPr b="0" lang="en-US" sz="36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659160" indent="-379800">
              <a:spcAft>
                <a:spcPts val="2599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61280" indent="-379800">
              <a:spcAft>
                <a:spcPts val="2599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63760" indent="-379800">
              <a:spcAft>
                <a:spcPts val="2599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66240" indent="-379800">
              <a:spcAft>
                <a:spcPts val="2599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68360" indent="-379800">
              <a:spcAft>
                <a:spcPts val="2599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68360" indent="-37980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68360" indent="-37980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0160" indent="0" algn="ct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0160" algn="ctr">
              <a:spcAft>
                <a:spcPts val="201"/>
              </a:spcAft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0160" algn="ctr">
              <a:spcAft>
                <a:spcPts val="201"/>
              </a:spcAft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0160" algn="ctr">
              <a:spcAft>
                <a:spcPts val="201"/>
              </a:spcAft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0160" algn="ctr">
              <a:spcAft>
                <a:spcPts val="201"/>
              </a:spcAft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0160" algn="ctr">
              <a:spcAft>
                <a:spcPts val="201"/>
              </a:spcAft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0160" algn="ctr">
              <a:spcAft>
                <a:spcPts val="201"/>
              </a:spcAft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5000"/>
          </a:bodyPr>
          <a:p>
            <a:pPr marL="561600" indent="-32364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04680" indent="-32364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47400" indent="-32364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90480" indent="-32364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33200" indent="-32364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33200" indent="-32364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33200" indent="-323640">
              <a:spcAft>
                <a:spcPts val="4000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9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9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5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5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51.xml"/><Relationship Id="rId9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Microslots: Scalable Electromagnetic Instrumentation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7022880"/>
            <a:ext cx="1046484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340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Yael Maguir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2340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June 10, 2004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Motivation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69720" y="5918040"/>
            <a:ext cx="104648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49160" indent="-431640">
              <a:spcAft>
                <a:spcPts val="2599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create a technology that can get structural information from 10</a:t>
            </a:r>
            <a:r>
              <a:rPr b="0" lang="en-US" sz="4500" spc="-1" strike="noStrike" baseline="33000">
                <a:solidFill>
                  <a:srgbClr val="ffffff"/>
                </a:solidFill>
                <a:latin typeface="Gill Sans"/>
              </a:rPr>
              <a:t>13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-10</a:t>
            </a:r>
            <a:r>
              <a:rPr b="0" lang="en-US" sz="4500" spc="-1" strike="noStrike" baseline="33000">
                <a:solidFill>
                  <a:srgbClr val="ffffff"/>
                </a:solidFill>
                <a:latin typeface="Gill Sans"/>
              </a:rPr>
              <a:t>14</a:t>
            </a:r>
            <a:r>
              <a:rPr b="0" lang="en-US" sz="4200" spc="-1" strike="noStrike" baseline="33000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(100pmols -1nmol) biomolecules and avoid slow DNA/bacteria amplification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4381560" y="2301840"/>
            <a:ext cx="4241880" cy="430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5111F-1C0E-458F-A1DA-0CB66B06DA8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1585800" y="2882880"/>
            <a:ext cx="3473640" cy="39751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01520" y="7207200"/>
            <a:ext cx="5943600" cy="21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Lucida Grande"/>
              </a:rPr>
              <a:t>fixed λ, </a:t>
            </a:r>
            <a:r>
              <a:rPr b="0" lang="en-US" sz="4800" spc="-1" strike="noStrike">
                <a:solidFill>
                  <a:srgbClr val="ff7f00"/>
                </a:solidFill>
                <a:latin typeface="Lucida Grande"/>
              </a:rPr>
              <a:t>simple manufacturability</a:t>
            </a:r>
            <a:r>
              <a:rPr b="0" lang="en-US" sz="4800" spc="-1" strike="noStrike">
                <a:solidFill>
                  <a:srgbClr val="ffffff"/>
                </a:solidFill>
                <a:latin typeface="Lucida Grande"/>
              </a:rPr>
              <a:t>, </a:t>
            </a:r>
            <a:r>
              <a:rPr b="0" lang="en-US" sz="4800" spc="-1" strike="noStrike">
                <a:solidFill>
                  <a:srgbClr val="ff7f00"/>
                </a:solidFill>
                <a:latin typeface="Lucida Grande"/>
              </a:rPr>
              <a:t>no parasitics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" name=""/>
          <p:cNvSpPr/>
          <p:nvPr/>
        </p:nvSpPr>
        <p:spPr>
          <a:xfrm>
            <a:off x="6238080" y="4565520"/>
            <a:ext cx="528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v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7416720" y="3301920"/>
            <a:ext cx="4756320" cy="31496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6197760" y="7232760"/>
            <a:ext cx="6680160" cy="21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f00"/>
                </a:solidFill>
                <a:latin typeface="Gill Sans"/>
              </a:rPr>
              <a:t>1/d</a:t>
            </a: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, difficult manufacturability, parasitics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100080" y="77760"/>
            <a:ext cx="12774600" cy="9563040"/>
            <a:chOff x="100080" y="77760"/>
            <a:chExt cx="12774600" cy="9563040"/>
          </a:xfrm>
        </p:grpSpPr>
        <p:pic>
          <p:nvPicPr>
            <p:cNvPr id="434" name="" descr=""/>
            <p:cNvPicPr/>
            <p:nvPr/>
          </p:nvPicPr>
          <p:blipFill>
            <a:blip r:embed="rId4"/>
            <a:stretch/>
          </p:blipFill>
          <p:spPr>
            <a:xfrm>
              <a:off x="100080" y="77760"/>
              <a:ext cx="12774600" cy="956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4240080" y="4960800"/>
              <a:ext cx="448308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7f00"/>
                  </a:solidFill>
                  <a:latin typeface="Gill Sans"/>
                </a:rPr>
                <a:t>microslots</a:t>
              </a:r>
              <a:endParaRPr b="0" lang="en-US" sz="7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E2560-E007-4DAD-AEF2-0A01AE70353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177840" y="111240"/>
            <a:ext cx="6234120" cy="46749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6375240" y="101520"/>
            <a:ext cx="6502680" cy="487692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177840" y="4686480"/>
            <a:ext cx="6502320" cy="48765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6905520" y="196920"/>
            <a:ext cx="6285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Bx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"/>
          <p:cNvSpPr/>
          <p:nvPr/>
        </p:nvSpPr>
        <p:spPr>
          <a:xfrm>
            <a:off x="738000" y="4959360"/>
            <a:ext cx="6195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B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5"/>
          <a:stretch/>
        </p:blipFill>
        <p:spPr>
          <a:xfrm>
            <a:off x="6362640" y="4686480"/>
            <a:ext cx="6502320" cy="487656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6908040" y="4946760"/>
            <a:ext cx="5979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Bz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"/>
          <p:cNvSpPr/>
          <p:nvPr/>
        </p:nvSpPr>
        <p:spPr>
          <a:xfrm>
            <a:off x="5867280" y="771480"/>
            <a:ext cx="0" cy="1590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867280" y="1892160"/>
            <a:ext cx="1193760" cy="470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"/>
          <p:cNvSpPr/>
          <p:nvPr/>
        </p:nvSpPr>
        <p:spPr>
          <a:xfrm>
            <a:off x="4775040" y="1536840"/>
            <a:ext cx="1092240" cy="82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"/>
          <p:cNvSpPr/>
          <p:nvPr/>
        </p:nvSpPr>
        <p:spPr>
          <a:xfrm>
            <a:off x="5755680" y="120600"/>
            <a:ext cx="27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"/>
          <p:cNvSpPr/>
          <p:nvPr/>
        </p:nvSpPr>
        <p:spPr>
          <a:xfrm>
            <a:off x="7099920" y="1504800"/>
            <a:ext cx="252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z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"/>
          <p:cNvSpPr/>
          <p:nvPr/>
        </p:nvSpPr>
        <p:spPr>
          <a:xfrm>
            <a:off x="4545000" y="971640"/>
            <a:ext cx="282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x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E8D44-70DD-4010-A42E-F7F4289A063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lot Process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6527880" y="1486080"/>
            <a:ext cx="6502320" cy="487656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-25560" y="1498680"/>
            <a:ext cx="6502680" cy="48765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4"/>
          <a:stretch/>
        </p:blipFill>
        <p:spPr>
          <a:xfrm>
            <a:off x="4241880" y="6451560"/>
            <a:ext cx="5025960" cy="334008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677600" y="6572160"/>
            <a:ext cx="1674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efor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"/>
          <p:cNvSpPr/>
          <p:nvPr/>
        </p:nvSpPr>
        <p:spPr>
          <a:xfrm>
            <a:off x="10328400" y="6559560"/>
            <a:ext cx="1238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ft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"/>
          <p:cNvSpPr/>
          <p:nvPr/>
        </p:nvSpPr>
        <p:spPr>
          <a:xfrm>
            <a:off x="9280800" y="9061560"/>
            <a:ext cx="3003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(Resonetic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"/>
          <p:cNvSpPr/>
          <p:nvPr/>
        </p:nvSpPr>
        <p:spPr>
          <a:xfrm>
            <a:off x="6959520" y="1879560"/>
            <a:ext cx="57895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"/>
          <p:cNvSpPr/>
          <p:nvPr/>
        </p:nvSpPr>
        <p:spPr>
          <a:xfrm>
            <a:off x="8800200" y="1847880"/>
            <a:ext cx="2186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~300 u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D021-B2F1-4927-8CE0-A018FD91318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6629400" y="23760"/>
            <a:ext cx="6375240" cy="64533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20000" y="10000"/>
                </a:lnTo>
                <a:lnTo>
                  <a:pt x="20000" y="20000"/>
                </a:lnTo>
                <a:lnTo>
                  <a:pt x="10000" y="2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95400" y="-88920"/>
            <a:ext cx="6659280" cy="64882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6845400" y="258840"/>
            <a:ext cx="6197400" cy="625140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293760" y="196920"/>
            <a:ext cx="1698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2.5 hr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"/>
          <p:cNvSpPr/>
          <p:nvPr/>
        </p:nvSpPr>
        <p:spPr>
          <a:xfrm>
            <a:off x="6868080" y="184320"/>
            <a:ext cx="1250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6 hr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4"/>
          <a:stretch/>
        </p:blipFill>
        <p:spPr>
          <a:xfrm>
            <a:off x="6311880" y="1117440"/>
            <a:ext cx="3479760" cy="326412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5"/>
          <a:stretch/>
        </p:blipFill>
        <p:spPr>
          <a:xfrm>
            <a:off x="2408400" y="6400800"/>
            <a:ext cx="8156520" cy="332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1EC1-2860-4C59-B5CF-9292C767295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1434960" y="2349360"/>
            <a:ext cx="9614160" cy="652788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53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caling (FEM)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" name=""/>
          <p:cNvSpPr/>
          <p:nvPr/>
        </p:nvSpPr>
        <p:spPr>
          <a:xfrm>
            <a:off x="10051560" y="4971960"/>
            <a:ext cx="2731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unction fi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11087280" y="3060720"/>
            <a:ext cx="660240" cy="183528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1708560" y="8832960"/>
            <a:ext cx="9054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Johnson noise model good to 50 n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4"/>
          <a:stretch/>
        </p:blipFill>
        <p:spPr>
          <a:xfrm>
            <a:off x="635040" y="2146320"/>
            <a:ext cx="11721960" cy="171432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5"/>
          <a:stretch/>
        </p:blipFill>
        <p:spPr>
          <a:xfrm>
            <a:off x="836640" y="4863960"/>
            <a:ext cx="1284120" cy="5698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5587200" y="8159760"/>
            <a:ext cx="183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width(</a:t>
            </a: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μ</a:t>
            </a: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m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"/>
          <p:cNvSpPr/>
          <p:nvPr/>
        </p:nvSpPr>
        <p:spPr>
          <a:xfrm>
            <a:off x="1085040" y="5454720"/>
            <a:ext cx="82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(T/A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"/>
          <p:cNvSpPr/>
          <p:nvPr/>
        </p:nvSpPr>
        <p:spPr>
          <a:xfrm>
            <a:off x="2427840" y="2457360"/>
            <a:ext cx="9352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x10</a:t>
            </a:r>
            <a:r>
              <a:rPr b="0" lang="en-US" sz="4500" spc="-1" strike="noStrike" baseline="33000">
                <a:solidFill>
                  <a:srgbClr val="ffffff"/>
                </a:solidFill>
                <a:latin typeface="Gill Sans"/>
              </a:rPr>
              <a:t>-3</a:t>
            </a:r>
            <a:endParaRPr b="0" lang="en-US" sz="4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343040" y="5334120"/>
            <a:ext cx="431640" cy="12189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6"/>
          <a:stretch/>
        </p:blipFill>
        <p:spPr>
          <a:xfrm>
            <a:off x="4470480" y="3835440"/>
            <a:ext cx="1824120" cy="137160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7"/>
          <a:stretch/>
        </p:blipFill>
        <p:spPr>
          <a:xfrm>
            <a:off x="8915400" y="3975120"/>
            <a:ext cx="812880" cy="25401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1011320" y="7664400"/>
            <a:ext cx="430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"/>
          <p:cNvSpPr/>
          <p:nvPr/>
        </p:nvSpPr>
        <p:spPr>
          <a:xfrm>
            <a:off x="11908080" y="7778880"/>
            <a:ext cx="87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6800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"/>
          <p:cNvSpPr/>
          <p:nvPr/>
        </p:nvSpPr>
        <p:spPr>
          <a:xfrm>
            <a:off x="12204720" y="7353360"/>
            <a:ext cx="177840" cy="17784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18221" y="11778"/>
                </a:moveTo>
                <a:cubicBezTo>
                  <a:pt x="20000" y="13557"/>
                  <a:pt x="20000" y="16442"/>
                  <a:pt x="18221" y="18221"/>
                </a:cubicBezTo>
                <a:cubicBezTo>
                  <a:pt x="16442" y="20000"/>
                  <a:pt x="13557" y="20000"/>
                  <a:pt x="11778" y="18221"/>
                </a:cubicBezTo>
                <a:cubicBezTo>
                  <a:pt x="9999" y="16442"/>
                  <a:pt x="9999" y="13557"/>
                  <a:pt x="11778" y="11778"/>
                </a:cubicBezTo>
                <a:cubicBezTo>
                  <a:pt x="13557" y="9999"/>
                  <a:pt x="16442" y="9999"/>
                  <a:pt x="18221" y="11778"/>
                </a:cubicBezTo>
                <a:close/>
                <a:moveTo>
                  <a:pt x="18221" y="11778"/>
                </a:moveTo>
              </a:path>
            </a:pathLst>
          </a:custGeom>
          <a:noFill/>
          <a:ln w="76320">
            <a:solidFill>
              <a:srgbClr val="f8d66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"/>
          <p:cNvSpPr/>
          <p:nvPr/>
        </p:nvSpPr>
        <p:spPr>
          <a:xfrm>
            <a:off x="9880560" y="6121440"/>
            <a:ext cx="2286000" cy="12193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F19A-720B-4835-9AFB-FA396A2ED85F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