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B06-6ACB-40B4-BB60-3DE1DE70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7C5-DA4E-4402-BBD9-C4A616C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AE1-2485-4395-84E9-736155FE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D9B-995D-4465-A587-26FBA9F4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F3F-1513-43E7-8E8F-90452FF5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CFA-6B88-4B6A-B183-A7C0D78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144-CC46-48FD-BA08-74D87AFE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A7C-001E-40B9-8FF4-FC7D493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006-5833-41FF-A8C2-1D0E2F88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B10-5540-4B7D-87EA-155FC9CB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3C9-AD79-42B8-8D77-9778F12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042-8651-4D47-A15D-E86EC3F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0E9C-62CE-4C11-BB61-3750E6C8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840" y="479520"/>
            <a:ext cx="820872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4300" spc="-1" strike="noStrike" u="sng">
                <a:solidFill>
                  <a:srgbClr val="ff0000"/>
                </a:solidFill>
                <a:uFillTx/>
                <a:latin typeface="Times New Roman"/>
              </a:rPr>
              <a:t>Self-assembly of Peptide Nanotub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300" spc="-1" strike="noStrike">
                <a:solidFill>
                  <a:srgbClr val="0c2bff"/>
                </a:solidFill>
                <a:latin typeface="Times New Roman"/>
              </a:rPr>
              <a:t>NSF Site Vis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0917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0917ff"/>
                </a:solidFill>
                <a:latin typeface="Times New Roman"/>
              </a:rPr>
              <a:t>June 10,  2004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uguang Zha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enter for Biomedical Engineering,  Center for Bits &amp; At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Massachusetts Institute of Technolog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ambridge, MA 02139, U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135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040" y="120600"/>
            <a:ext cx="8788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 u="sng">
                <a:solidFill>
                  <a:srgbClr val="0c2bff"/>
                </a:solidFill>
                <a:uFillTx/>
                <a:latin typeface="Times New Roman"/>
              </a:rPr>
              <a:t>Peptide surfactant-detergent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057400" y="3157560"/>
            <a:ext cx="4724280" cy="3090960"/>
            <a:chOff x="2057400" y="3157560"/>
            <a:chExt cx="4724280" cy="3090960"/>
          </a:xfrm>
        </p:grpSpPr>
        <p:graphicFrame>
          <p:nvGraphicFramePr>
            <p:cNvPr id="45" name=""/>
            <p:cNvGraphicFramePr/>
            <p:nvPr/>
          </p:nvGraphicFramePr>
          <p:xfrm>
            <a:off x="2133720" y="3157560"/>
            <a:ext cx="4572000" cy="1236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3157560"/>
                      <a:ext cx="4572000" cy="12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2057400" y="4681440"/>
            <a:ext cx="4724280" cy="156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57400" y="4681440"/>
                      <a:ext cx="472428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00440" y="0"/>
            <a:ext cx="5276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3352680"/>
            <a:ext cx="251460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7ff"/>
                </a:solidFill>
                <a:latin typeface="Times New Roman"/>
              </a:rPr>
              <a:t>Sylvain Vauthey, </a:t>
            </a:r>
            <a:r>
              <a:rPr b="1" i="1" lang="en-US" sz="2400" spc="-1" strike="noStrike">
                <a:solidFill>
                  <a:srgbClr val="0917ff"/>
                </a:solidFill>
                <a:latin typeface="Times New Roman"/>
              </a:rPr>
              <a:t>PNAS</a:t>
            </a:r>
            <a:r>
              <a:rPr b="1" lang="en-US" sz="2400" spc="-1" strike="noStrike">
                <a:solidFill>
                  <a:srgbClr val="0917ff"/>
                </a:solidFill>
                <a:latin typeface="Times New Roman"/>
              </a:rPr>
              <a:t>,  4/200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7ff"/>
                </a:solidFill>
                <a:latin typeface="Times New Roman"/>
              </a:rPr>
              <a:t>Steve Santoso, </a:t>
            </a:r>
            <a:r>
              <a:rPr b="1" i="1" lang="en-US" sz="2400" spc="-1" strike="noStrike">
                <a:solidFill>
                  <a:srgbClr val="0917ff"/>
                </a:solidFill>
                <a:latin typeface="Times New Roman"/>
              </a:rPr>
              <a:t>NanoLetters,</a:t>
            </a:r>
            <a:r>
              <a:rPr b="1" lang="en-US" sz="2400" spc="-1" strike="noStrike">
                <a:solidFill>
                  <a:srgbClr val="0917ff"/>
                </a:solidFill>
                <a:latin typeface="Times New Roman"/>
              </a:rPr>
              <a:t> 7/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7ff"/>
                </a:solidFill>
                <a:latin typeface="Times New Roman"/>
              </a:rPr>
              <a:t>Geoffrey von Maltzahn, Langmuir, 5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1440" y="0"/>
            <a:ext cx="216684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4000" y="3141720"/>
            <a:ext cx="682920" cy="336600"/>
          </a:xfrm>
          <a:custGeom>
            <a:avLst/>
            <a:gdLst/>
            <a:ahLst/>
            <a:rect l="l" t="t" r="r" b="b"/>
            <a:pathLst>
              <a:path w="430" h="212">
                <a:moveTo>
                  <a:pt x="430" y="0"/>
                </a:moveTo>
                <a:cubicBezTo>
                  <a:pt x="395" y="1"/>
                  <a:pt x="277" y="0"/>
                  <a:pt x="220" y="4"/>
                </a:cubicBezTo>
                <a:cubicBezTo>
                  <a:pt x="163" y="8"/>
                  <a:pt x="121" y="16"/>
                  <a:pt x="90" y="24"/>
                </a:cubicBezTo>
                <a:cubicBezTo>
                  <a:pt x="59" y="32"/>
                  <a:pt x="50" y="38"/>
                  <a:pt x="36" y="54"/>
                </a:cubicBezTo>
                <a:cubicBezTo>
                  <a:pt x="22" y="70"/>
                  <a:pt x="12" y="94"/>
                  <a:pt x="6" y="120"/>
                </a:cubicBezTo>
                <a:cubicBezTo>
                  <a:pt x="0" y="146"/>
                  <a:pt x="1" y="193"/>
                  <a:pt x="0" y="2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232040" y="4668120"/>
            <a:ext cx="1719360" cy="1433880"/>
            <a:chOff x="7232040" y="4668120"/>
            <a:chExt cx="1719360" cy="1433880"/>
          </a:xfrm>
        </p:grpSpPr>
        <p:grpSp>
          <p:nvGrpSpPr>
            <p:cNvPr id="54" name=""/>
            <p:cNvGrpSpPr/>
            <p:nvPr/>
          </p:nvGrpSpPr>
          <p:grpSpPr>
            <a:xfrm>
              <a:off x="7638840" y="4775400"/>
              <a:ext cx="879120" cy="1189800"/>
              <a:chOff x="7638840" y="4775400"/>
              <a:chExt cx="879120" cy="1189800"/>
            </a:xfrm>
          </p:grpSpPr>
          <p:sp>
            <p:nvSpPr>
              <p:cNvPr id="55" name=""/>
              <p:cNvSpPr/>
              <p:nvPr/>
            </p:nvSpPr>
            <p:spPr>
              <a:xfrm rot="19831200">
                <a:off x="8008920" y="4865760"/>
                <a:ext cx="11268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3532400">
                <a:off x="7912080" y="479988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9831200">
                <a:off x="7895520" y="4920120"/>
                <a:ext cx="11268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3532400">
                <a:off x="7797600" y="4855320"/>
                <a:ext cx="1198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831200">
                <a:off x="7780680" y="4974840"/>
                <a:ext cx="11268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3532400">
                <a:off x="7684200" y="4909680"/>
                <a:ext cx="1198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9831200">
                <a:off x="8083080" y="4874760"/>
                <a:ext cx="11376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3532400">
                <a:off x="7986960" y="4811040"/>
                <a:ext cx="1198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9831200">
                <a:off x="7968600" y="4929840"/>
                <a:ext cx="11376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3532400">
                <a:off x="7872840" y="4864320"/>
                <a:ext cx="119880" cy="1213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9831200">
                <a:off x="7855200" y="4983840"/>
                <a:ext cx="11376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3532400">
                <a:off x="7759080" y="4919760"/>
                <a:ext cx="1198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20302800">
                <a:off x="7742880" y="503820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001600">
                <a:off x="7645320" y="4974120"/>
                <a:ext cx="1198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9831200">
                <a:off x="8054640" y="496008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3532400">
                <a:off x="7958880" y="4895640"/>
                <a:ext cx="1180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831200">
                <a:off x="7826400" y="506916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3532400">
                <a:off x="7731000" y="5005440"/>
                <a:ext cx="1180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 rot="20302800">
                <a:off x="8216640" y="530064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 rot="5001600">
                <a:off x="8306640" y="562572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 rot="20302800">
                <a:off x="8103240" y="535500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 rot="5001600">
                <a:off x="8192520" y="5680800"/>
                <a:ext cx="1198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 rot="20302800">
                <a:off x="7988400" y="540972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 rot="5001600">
                <a:off x="8079120" y="5735160"/>
                <a:ext cx="1198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 rot="20302800">
                <a:off x="8300520" y="5330160"/>
                <a:ext cx="113760" cy="38160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 rot="5001600">
                <a:off x="8391240" y="5656680"/>
                <a:ext cx="1198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20302800">
                <a:off x="8186040" y="5384880"/>
                <a:ext cx="113760" cy="38160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 rot="5001600">
                <a:off x="8277480" y="5710680"/>
                <a:ext cx="119880" cy="1213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 rot="20302800">
                <a:off x="8072640" y="5439240"/>
                <a:ext cx="113760" cy="38160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 rot="5001600">
                <a:off x="8163360" y="5765760"/>
                <a:ext cx="1198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 rot="19831200">
                <a:off x="7960320" y="549360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 rot="13532400">
                <a:off x="8049240" y="5820120"/>
                <a:ext cx="1198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20302800">
                <a:off x="8258760" y="538848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5001600">
                <a:off x="8349840" y="57150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20302800">
                <a:off x="8145000" y="544284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5001600">
                <a:off x="8235720" y="577008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20302800">
                <a:off x="8030520" y="5497560"/>
                <a:ext cx="112680" cy="38124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5001600">
                <a:off x="8122320" y="582408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9831200">
                <a:off x="7940880" y="50144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3532400">
                <a:off x="7844400" y="4951080"/>
                <a:ext cx="1180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7232040" y="5039640"/>
              <a:ext cx="792720" cy="1062360"/>
              <a:chOff x="7232040" y="5039640"/>
              <a:chExt cx="792720" cy="1062360"/>
            </a:xfrm>
          </p:grpSpPr>
          <p:sp>
            <p:nvSpPr>
              <p:cNvPr id="96" name=""/>
              <p:cNvSpPr/>
              <p:nvPr/>
            </p:nvSpPr>
            <p:spPr>
              <a:xfrm rot="13117800">
                <a:off x="7544160" y="594684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3117800">
                <a:off x="7495200" y="587304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3117800">
                <a:off x="7444080" y="57992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3117800">
                <a:off x="7393320" y="5723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3117800">
                <a:off x="7343640" y="5649840"/>
                <a:ext cx="11988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3117800">
                <a:off x="7606440" y="595800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3117800">
                <a:off x="7556760" y="588420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3117800">
                <a:off x="7505640" y="5809680"/>
                <a:ext cx="11988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3117800">
                <a:off x="7457040" y="573480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3117800">
                <a:off x="7405920" y="5660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3117800">
                <a:off x="7298640" y="555336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3117800">
                <a:off x="7256160" y="543888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3117800">
                <a:off x="7260840" y="537768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3117800">
                <a:off x="7286760" y="528480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3117800">
                <a:off x="7305120" y="519156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3117800">
                <a:off x="7364520" y="559008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3117800">
                <a:off x="7370280" y="552420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3117800">
                <a:off x="7320960" y="544176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3117800">
                <a:off x="7671600" y="595152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3781400">
                <a:off x="7854120" y="5612400"/>
                <a:ext cx="52560" cy="33372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3781400">
                <a:off x="7647840" y="5866200"/>
                <a:ext cx="11988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12200">
                <a:off x="7806240" y="5540760"/>
                <a:ext cx="5256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3912200">
                <a:off x="7593840" y="5787000"/>
                <a:ext cx="11988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5363600">
                <a:off x="7643880" y="524844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5363600">
                <a:off x="7390440" y="54104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5754200">
                <a:off x="7593480" y="517968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5754200">
                <a:off x="7337160" y="531648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484400">
                <a:off x="7604640" y="5132160"/>
                <a:ext cx="5220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484400">
                <a:off x="7347600" y="522072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420400">
                <a:off x="7614720" y="508680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420400">
                <a:off x="7368840" y="511344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4302200">
                <a:off x="7697880" y="540360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4302200">
                <a:off x="7470360" y="56304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4007600">
                <a:off x="7758000" y="546768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4007600">
                <a:off x="7540200" y="570960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4748600">
                <a:off x="7671960" y="5320080"/>
                <a:ext cx="52200" cy="33300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4748600">
                <a:off x="7432560" y="551988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3494000">
                <a:off x="7819560" y="567432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494000">
                <a:off x="7625520" y="5940360"/>
                <a:ext cx="1198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494000">
                <a:off x="7652520" y="5937480"/>
                <a:ext cx="96120" cy="96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158200">
                <a:off x="7785720" y="5604840"/>
                <a:ext cx="5256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4158200">
                <a:off x="7563240" y="5835600"/>
                <a:ext cx="11988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4158200">
                <a:off x="7593480" y="5836680"/>
                <a:ext cx="96120" cy="94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4288400">
                <a:off x="7744680" y="552780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4288400">
                <a:off x="7518960" y="5753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4288400">
                <a:off x="7547400" y="5752800"/>
                <a:ext cx="96120" cy="96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740400">
                <a:off x="7615440" y="521928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740400">
                <a:off x="7356600" y="5354280"/>
                <a:ext cx="119160" cy="1198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740400">
                <a:off x="7390440" y="5364000"/>
                <a:ext cx="9468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131000">
                <a:off x="7572960" y="514728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131000">
                <a:off x="7313760" y="525744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131000">
                <a:off x="7345440" y="5268240"/>
                <a:ext cx="96120" cy="950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860000">
                <a:off x="7591320" y="509868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860000">
                <a:off x="7336800" y="516348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6860000">
                <a:off x="7367040" y="5177160"/>
                <a:ext cx="961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7796600">
                <a:off x="7605000" y="505404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7796600">
                <a:off x="7369560" y="505980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796600">
                <a:off x="7399440" y="5080320"/>
                <a:ext cx="943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4677800">
                <a:off x="7652880" y="5380560"/>
                <a:ext cx="5364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4677800">
                <a:off x="7414200" y="55818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4677800">
                <a:off x="7444800" y="5585760"/>
                <a:ext cx="96120" cy="94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4384400">
                <a:off x="7704000" y="5448960"/>
                <a:ext cx="5220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4384400">
                <a:off x="7474320" y="566964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4384400">
                <a:off x="7504920" y="5670000"/>
                <a:ext cx="9468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5125400">
                <a:off x="7638120" y="5294880"/>
                <a:ext cx="5220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5125400">
                <a:off x="7387920" y="546948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5125400">
                <a:off x="7419600" y="5474880"/>
                <a:ext cx="961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8084160" y="4668120"/>
              <a:ext cx="867240" cy="1029960"/>
              <a:chOff x="8084160" y="4668120"/>
              <a:chExt cx="867240" cy="1029960"/>
            </a:xfrm>
          </p:grpSpPr>
          <p:sp>
            <p:nvSpPr>
              <p:cNvPr id="164" name=""/>
              <p:cNvSpPr/>
              <p:nvPr/>
            </p:nvSpPr>
            <p:spPr>
              <a:xfrm rot="2395800">
                <a:off x="8531280" y="472464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395800">
                <a:off x="8580600" y="479916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95800">
                <a:off x="8628480" y="487404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395800">
                <a:off x="8676360" y="495000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395800">
                <a:off x="8723520" y="50248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395800">
                <a:off x="8469720" y="471132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395800">
                <a:off x="8517960" y="478548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395800">
                <a:off x="8567280" y="48607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395800">
                <a:off x="8614800" y="49366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395800">
                <a:off x="8662680" y="501156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395800">
                <a:off x="8766720" y="512244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395800">
                <a:off x="8807400" y="52372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395800">
                <a:off x="8799840" y="529992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395800">
                <a:off x="8773560" y="53928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395800">
                <a:off x="8753400" y="54838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95800">
                <a:off x="8708040" y="5085720"/>
                <a:ext cx="11808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395800">
                <a:off x="8722800" y="515304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395800">
                <a:off x="8742600" y="52336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395800">
                <a:off x="8404560" y="471636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059400">
                <a:off x="8425800" y="48031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190800">
                <a:off x="8478360" y="488340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4641600">
                <a:off x="8673480" y="52639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5031600">
                <a:off x="8724240" y="535824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761800">
                <a:off x="8521560" y="532512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761800">
                <a:off x="8710920" y="545364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6697800">
                <a:off x="8686440" y="556056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3580200">
                <a:off x="8597520" y="50410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3285000">
                <a:off x="8529840" y="49618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4026600">
                <a:off x="8633160" y="51534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395800">
                <a:off x="8245800" y="4772160"/>
                <a:ext cx="5220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059400">
                <a:off x="8284680" y="483912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190800">
                <a:off x="8331840" y="4913640"/>
                <a:ext cx="5220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4641600">
                <a:off x="8487720" y="5207760"/>
                <a:ext cx="52560" cy="3322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031600">
                <a:off x="8534880" y="527724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6697800">
                <a:off x="8512200" y="537048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580200">
                <a:off x="8436240" y="505080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285000">
                <a:off x="8379360" y="498672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4026600">
                <a:off x="8459640" y="513540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395800">
                <a:off x="8184600" y="4759200"/>
                <a:ext cx="5256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3059400">
                <a:off x="8223840" y="482580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190800">
                <a:off x="8270280" y="4900680"/>
                <a:ext cx="5256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4641600">
                <a:off x="8426880" y="5194440"/>
                <a:ext cx="52560" cy="3326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5031600">
                <a:off x="8473320" y="526356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761800">
                <a:off x="8460000" y="531180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697800">
                <a:off x="8450640" y="535716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3580200">
                <a:off x="8375400" y="5037840"/>
                <a:ext cx="52200" cy="33372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5000">
                <a:off x="8318160" y="4973760"/>
                <a:ext cx="5220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4026600">
                <a:off x="8397720" y="5122800"/>
                <a:ext cx="52560" cy="3322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395800">
                <a:off x="8294760" y="469224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395800">
                <a:off x="8292600" y="4718880"/>
                <a:ext cx="94680" cy="96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3059400">
                <a:off x="8364960" y="478980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3059400">
                <a:off x="8359560" y="4814640"/>
                <a:ext cx="961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3190800">
                <a:off x="8417520" y="4870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190800">
                <a:off x="8412840" y="4893480"/>
                <a:ext cx="943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641600">
                <a:off x="8612280" y="524988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641600">
                <a:off x="8602920" y="5266080"/>
                <a:ext cx="96120" cy="96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31600">
                <a:off x="8662680" y="53449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031600">
                <a:off x="8652960" y="5358240"/>
                <a:ext cx="961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761800">
                <a:off x="8650080" y="544068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761800">
                <a:off x="8641080" y="5451480"/>
                <a:ext cx="96120" cy="94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6697800">
                <a:off x="8624880" y="554760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6697800">
                <a:off x="8618040" y="5551200"/>
                <a:ext cx="96120" cy="946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580200">
                <a:off x="8536680" y="50274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580200">
                <a:off x="8529480" y="5050080"/>
                <a:ext cx="961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285000">
                <a:off x="8468640" y="4948200"/>
                <a:ext cx="11808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285000">
                <a:off x="8463240" y="4972320"/>
                <a:ext cx="94680" cy="94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4026600">
                <a:off x="8571960" y="513972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4026600">
                <a:off x="8563680" y="5159520"/>
                <a:ext cx="96120" cy="96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920880" y="756720"/>
            <a:ext cx="6333480" cy="938880"/>
            <a:chOff x="920880" y="756720"/>
            <a:chExt cx="6333480" cy="938880"/>
          </a:xfrm>
        </p:grpSpPr>
        <p:grpSp>
          <p:nvGrpSpPr>
            <p:cNvPr id="233" name=""/>
            <p:cNvGrpSpPr/>
            <p:nvPr/>
          </p:nvGrpSpPr>
          <p:grpSpPr>
            <a:xfrm>
              <a:off x="943560" y="756720"/>
              <a:ext cx="6310800" cy="489600"/>
              <a:chOff x="943560" y="756720"/>
              <a:chExt cx="6310800" cy="489600"/>
            </a:xfrm>
          </p:grpSpPr>
          <p:sp>
            <p:nvSpPr>
              <p:cNvPr id="234" name=""/>
              <p:cNvSpPr/>
              <p:nvPr/>
            </p:nvSpPr>
            <p:spPr>
              <a:xfrm rot="21364200">
                <a:off x="221004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65400">
                <a:off x="2207160" y="77616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235800">
                <a:off x="233892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6534600">
                <a:off x="233424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1364200">
                <a:off x="208440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5065400">
                <a:off x="208188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1364200">
                <a:off x="195912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5065400">
                <a:off x="195660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364200">
                <a:off x="271512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5065400">
                <a:off x="271332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rot="235800">
                <a:off x="284400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6534600">
                <a:off x="2837880" y="77652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364200">
                <a:off x="258948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5065400">
                <a:off x="258696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4200">
                <a:off x="246240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5065400">
                <a:off x="246060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4200">
                <a:off x="296748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5065400">
                <a:off x="296496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64200">
                <a:off x="347256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5065400">
                <a:off x="347004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35800">
                <a:off x="360000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6534600">
                <a:off x="359496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364200">
                <a:off x="334728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5065400">
                <a:off x="334368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364200">
                <a:off x="3218760" y="861840"/>
                <a:ext cx="11340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5065400">
                <a:off x="321732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364200">
                <a:off x="397584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5065400">
                <a:off x="397404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35800">
                <a:off x="410508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6534600">
                <a:off x="410004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364200">
                <a:off x="385056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5065400">
                <a:off x="384876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1364200">
                <a:off x="372348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5065400">
                <a:off x="372168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1364200">
                <a:off x="423000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5065400">
                <a:off x="422676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235800">
                <a:off x="3094200" y="86184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6534600">
                <a:off x="309060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1364200">
                <a:off x="473364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5065400">
                <a:off x="473112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235800">
                <a:off x="486216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6534600">
                <a:off x="485712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1364200">
                <a:off x="460656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065400">
                <a:off x="460476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364200">
                <a:off x="448092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5065400">
                <a:off x="447840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364200">
                <a:off x="523872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5065400">
                <a:off x="523512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235800">
                <a:off x="5365080" y="86184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6534600">
                <a:off x="536184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364200">
                <a:off x="511164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5065400">
                <a:off x="510984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364200">
                <a:off x="498600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5065400">
                <a:off x="4983120" y="77616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64200">
                <a:off x="548964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5065400">
                <a:off x="548748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235800">
                <a:off x="435780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6534600">
                <a:off x="435204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364200">
                <a:off x="121356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065400">
                <a:off x="1210320" y="77616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235800">
                <a:off x="134100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6534600">
                <a:off x="133596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364200">
                <a:off x="1087560" y="8622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065400">
                <a:off x="108468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364200">
                <a:off x="960840" y="8622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5065400">
                <a:off x="95904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1364200">
                <a:off x="171684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5065400">
                <a:off x="1715040" y="7750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235800">
                <a:off x="1843560" y="86184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6534600">
                <a:off x="1840320" y="7761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364200">
                <a:off x="159120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5065400">
                <a:off x="1588320" y="77616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1364200">
                <a:off x="1464120" y="8618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5065400">
                <a:off x="1462680" y="77652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1364200">
                <a:off x="5606280" y="85860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5065400">
                <a:off x="5604480" y="7722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235800">
                <a:off x="5734800" y="85896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6534600">
                <a:off x="5729760" y="7732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1364200">
                <a:off x="5860080" y="85896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065400">
                <a:off x="5856840" y="77364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1364200">
                <a:off x="6363720" y="85860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065400">
                <a:off x="6360840" y="7732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235800">
                <a:off x="6492240" y="85896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6534600">
                <a:off x="6487560" y="7732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1364200">
                <a:off x="6237000" y="85860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5065400">
                <a:off x="6234840" y="7722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1364200">
                <a:off x="6111360" y="85860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065400">
                <a:off x="6108480" y="7732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1364200">
                <a:off x="6868800" y="85860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5065400">
                <a:off x="6865200" y="7736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235800">
                <a:off x="6995520" y="85860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6534600">
                <a:off x="6992280" y="7722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364200">
                <a:off x="6741720" y="85896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65400">
                <a:off x="6739920" y="77364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364200">
                <a:off x="6616080" y="85896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5065400">
                <a:off x="6613560" y="77328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364200">
                <a:off x="7119720" y="85860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5065400">
                <a:off x="7117920" y="7722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235800">
                <a:off x="5987160" y="85896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6534600">
                <a:off x="5982120" y="7732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920880" y="1206000"/>
              <a:ext cx="6310440" cy="489600"/>
              <a:chOff x="920880" y="1206000"/>
              <a:chExt cx="6310440" cy="489600"/>
            </a:xfrm>
          </p:grpSpPr>
          <p:sp>
            <p:nvSpPr>
              <p:cNvPr id="335" name=""/>
              <p:cNvSpPr/>
              <p:nvPr/>
            </p:nvSpPr>
            <p:spPr>
              <a:xfrm flipH="1" flipV="1" rot="21364200">
                <a:off x="585000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 rot="15065400">
                <a:off x="584748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 rot="235800">
                <a:off x="572364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 rot="6534600">
                <a:off x="572076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 rot="21364200">
                <a:off x="597816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15065400">
                <a:off x="597312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 rot="21364200">
                <a:off x="610344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 rot="15065400">
                <a:off x="609876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 rot="21364200">
                <a:off x="534780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 rot="15065400">
                <a:off x="534132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 rot="235800">
                <a:off x="521856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 rot="6534600">
                <a:off x="521676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 rot="21364200">
                <a:off x="547308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15065400">
                <a:off x="546804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 rot="21364200">
                <a:off x="559764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 rot="15065400">
                <a:off x="559440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 rot="21364200">
                <a:off x="509256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 rot="15065400">
                <a:off x="509004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21364200">
                <a:off x="459000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15065400">
                <a:off x="458532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 rot="235800">
                <a:off x="446256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 rot="6534600">
                <a:off x="445968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21364200">
                <a:off x="471564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15065400">
                <a:off x="471096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 rot="21364200">
                <a:off x="4842000" y="1208880"/>
                <a:ext cx="11340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 rot="15065400">
                <a:off x="483768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 rot="21364200">
                <a:off x="408420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 rot="15065400">
                <a:off x="408096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235800">
                <a:off x="395748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6534600">
                <a:off x="395460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 rot="21364200">
                <a:off x="420948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15065400">
                <a:off x="420660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 rot="21364200">
                <a:off x="433656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 rot="15065400">
                <a:off x="433296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 rot="21364200">
                <a:off x="383292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 rot="15065400">
                <a:off x="382788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 rot="235800">
                <a:off x="496620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 rot="6534600">
                <a:off x="496404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 rot="21364200">
                <a:off x="332676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 rot="15065400">
                <a:off x="332424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 rot="235800">
                <a:off x="320076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 rot="6534600">
                <a:off x="319788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 rot="21364200">
                <a:off x="345384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 rot="15065400">
                <a:off x="345060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 rot="21364200">
                <a:off x="357912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 rot="15065400">
                <a:off x="357660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 rot="21364200">
                <a:off x="282168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 rot="15065400">
                <a:off x="281952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235800">
                <a:off x="269568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6534600">
                <a:off x="269316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 rot="21364200">
                <a:off x="295128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 rot="15065400">
                <a:off x="294516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 rot="21364200">
                <a:off x="307656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 rot="15065400">
                <a:off x="307188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 rot="21364200">
                <a:off x="257076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 rot="15065400">
                <a:off x="256752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 rot="235800">
                <a:off x="370512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 rot="6534600">
                <a:off x="370296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 rot="21364200">
                <a:off x="684900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flipV="1" rot="15065400">
                <a:off x="684432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 rot="235800">
                <a:off x="672156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6534600">
                <a:off x="671868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 rot="21364200">
                <a:off x="6975000" y="12092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 rot="15065400">
                <a:off x="696996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 rot="21364200">
                <a:off x="7101720" y="12092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 rot="15065400">
                <a:off x="709560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 rot="21364200">
                <a:off x="634320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 rot="15065400">
                <a:off x="6339960" y="155556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235800">
                <a:off x="621684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6534600">
                <a:off x="621432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 rot="21364200">
                <a:off x="646884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 rot="15065400">
                <a:off x="6466320" y="15566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 rot="21364200">
                <a:off x="6595920" y="12088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 rot="15065400">
                <a:off x="6591960" y="155700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 rot="21364200">
                <a:off x="245412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 rot="15065400">
                <a:off x="2450880" y="15584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235800">
                <a:off x="2328120" y="12124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6534600">
                <a:off x="2325240" y="15595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 rot="21364200">
                <a:off x="2202480" y="12124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 rot="15065400">
                <a:off x="2198160" y="155988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 rot="21364200">
                <a:off x="169668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 rot="15065400">
                <a:off x="1694160" y="15595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235800">
                <a:off x="1570680" y="12124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 rot="6534600">
                <a:off x="1567080" y="15595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 rot="21364200">
                <a:off x="182340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 rot="15065400">
                <a:off x="1820520" y="15584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 rot="21364200">
                <a:off x="194904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 rot="15065400">
                <a:off x="1946520" y="15595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 rot="21364200">
                <a:off x="119160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 rot="15065400">
                <a:off x="1190160" y="1559520"/>
                <a:ext cx="119520" cy="1188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235800">
                <a:off x="106524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6534600">
                <a:off x="1062720" y="15584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 rot="21364200">
                <a:off x="1320840" y="12124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 rot="15065400">
                <a:off x="1315080" y="155988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 rot="21364200">
                <a:off x="1446840" y="12124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 rot="15065400">
                <a:off x="1441440" y="15595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 rot="21364200">
                <a:off x="940680" y="12121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 rot="15065400">
                <a:off x="937440" y="15584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 rot="235800">
                <a:off x="2075400" y="12124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6534600">
                <a:off x="2072520" y="15595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864720" y="812160"/>
            <a:ext cx="6334200" cy="938880"/>
            <a:chOff x="864720" y="812160"/>
            <a:chExt cx="6334200" cy="938880"/>
          </a:xfrm>
        </p:grpSpPr>
        <p:grpSp>
          <p:nvGrpSpPr>
            <p:cNvPr id="436" name=""/>
            <p:cNvGrpSpPr/>
            <p:nvPr/>
          </p:nvGrpSpPr>
          <p:grpSpPr>
            <a:xfrm>
              <a:off x="887760" y="812160"/>
              <a:ext cx="6311160" cy="489600"/>
              <a:chOff x="887760" y="812160"/>
              <a:chExt cx="6311160" cy="489600"/>
            </a:xfrm>
          </p:grpSpPr>
          <p:sp>
            <p:nvSpPr>
              <p:cNvPr id="437" name=""/>
              <p:cNvSpPr/>
              <p:nvPr/>
            </p:nvSpPr>
            <p:spPr>
              <a:xfrm rot="21364200">
                <a:off x="215424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5065400">
                <a:off x="2151720" y="83160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rot="235800">
                <a:off x="228348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6534600">
                <a:off x="227844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64200">
                <a:off x="202860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5065400">
                <a:off x="202608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1364200">
                <a:off x="190332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065400">
                <a:off x="190080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1364200">
                <a:off x="265932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5065400">
                <a:off x="265752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rot="235800">
                <a:off x="278856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rot="6534600">
                <a:off x="2782440" y="83196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1364200">
                <a:off x="253404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5065400">
                <a:off x="253116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1364200">
                <a:off x="240660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5065400">
                <a:off x="240480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1364200">
                <a:off x="291168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5065400">
                <a:off x="290916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1364200">
                <a:off x="341676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5065400">
                <a:off x="341424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235800">
                <a:off x="354456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rot="6534600">
                <a:off x="353952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1364200">
                <a:off x="329148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5065400">
                <a:off x="328824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1364200">
                <a:off x="3162960" y="917280"/>
                <a:ext cx="11340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5065400">
                <a:off x="316188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1364200">
                <a:off x="392040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5065400">
                <a:off x="391860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rot="235800">
                <a:off x="404964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rot="6534600">
                <a:off x="404460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1364200">
                <a:off x="379476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5065400">
                <a:off x="379296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1364200">
                <a:off x="366768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5065400">
                <a:off x="366624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1364200">
                <a:off x="417420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5065400">
                <a:off x="417132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rot="235800">
                <a:off x="3038760" y="9172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6534600">
                <a:off x="303516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1364200">
                <a:off x="467784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5065400">
                <a:off x="467532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rot="235800">
                <a:off x="480636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rot="6534600">
                <a:off x="480132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1364200">
                <a:off x="455076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5065400">
                <a:off x="454896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1364200">
                <a:off x="442548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5065400">
                <a:off x="442296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1364200">
                <a:off x="518292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5065400">
                <a:off x="517968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rot="235800">
                <a:off x="5309640" y="9172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6534600">
                <a:off x="530640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1364200">
                <a:off x="505584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065400">
                <a:off x="505440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1364200">
                <a:off x="493056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5065400">
                <a:off x="4927680" y="83160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1364200">
                <a:off x="543384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5065400">
                <a:off x="543204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rot="235800">
                <a:off x="430200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rot="6534600">
                <a:off x="429624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1364200">
                <a:off x="115776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5065400">
                <a:off x="1154520" y="83160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rot="235800">
                <a:off x="128520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6534600">
                <a:off x="128016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1364200">
                <a:off x="1031760" y="91764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5065400">
                <a:off x="102888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1364200">
                <a:off x="905040" y="91764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5065400">
                <a:off x="90324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1364200">
                <a:off x="166104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5065400">
                <a:off x="1659240" y="83052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235800">
                <a:off x="1787760" y="91728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rot="6534600">
                <a:off x="1784520" y="83160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1364200">
                <a:off x="153576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5065400">
                <a:off x="1532520" y="83160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1364200">
                <a:off x="1408680" y="91728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5065400">
                <a:off x="1406880" y="83196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1364200">
                <a:off x="5550840" y="9140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5065400">
                <a:off x="5549040" y="8276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rot="235800">
                <a:off x="5679360" y="9144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rot="6534600">
                <a:off x="5674320" y="8287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1364200">
                <a:off x="5804640" y="9144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5065400">
                <a:off x="5801400" y="82908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1364200">
                <a:off x="6308280" y="9140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5065400">
                <a:off x="6305400" y="82872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235800">
                <a:off x="6436800" y="9144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rot="6534600">
                <a:off x="6432120" y="8287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1364200">
                <a:off x="6181200" y="9140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5065400">
                <a:off x="6179400" y="8276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1364200">
                <a:off x="6055920" y="9140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5065400">
                <a:off x="6053040" y="82872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1364200">
                <a:off x="6813360" y="9140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5065400">
                <a:off x="6809760" y="82908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rot="235800">
                <a:off x="6940080" y="91404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rot="6534600">
                <a:off x="6936840" y="8276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1364200">
                <a:off x="6686280" y="9144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5065400">
                <a:off x="6684480" y="829080"/>
                <a:ext cx="119520" cy="1180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1364200">
                <a:off x="6560640" y="91440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5065400">
                <a:off x="6558120" y="828720"/>
                <a:ext cx="119520" cy="1191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1364200">
                <a:off x="7064280" y="914040"/>
                <a:ext cx="1137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5065400">
                <a:off x="7062480" y="82764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rot="235800">
                <a:off x="5931720" y="91440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6534600">
                <a:off x="5926680" y="82872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864720" y="1261440"/>
              <a:ext cx="6310800" cy="489600"/>
              <a:chOff x="864720" y="1261440"/>
              <a:chExt cx="6310800" cy="489600"/>
            </a:xfrm>
          </p:grpSpPr>
          <p:sp>
            <p:nvSpPr>
              <p:cNvPr id="538" name=""/>
              <p:cNvSpPr/>
              <p:nvPr/>
            </p:nvSpPr>
            <p:spPr>
              <a:xfrm flipH="1" flipV="1" rot="21364200">
                <a:off x="579420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 rot="15065400">
                <a:off x="579168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 rot="235800">
                <a:off x="566784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 rot="6534600">
                <a:off x="566460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 rot="21364200">
                <a:off x="592236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 rot="15065400">
                <a:off x="591732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 rot="21364200">
                <a:off x="604764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 rot="15065400">
                <a:off x="604260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 rot="21364200">
                <a:off x="529164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 rot="15065400">
                <a:off x="528552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 rot="235800">
                <a:off x="516276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 rot="6534600">
                <a:off x="516096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 rot="21364200">
                <a:off x="541728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 rot="15065400">
                <a:off x="541224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 rot="21364200">
                <a:off x="554184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 rot="15065400">
                <a:off x="553860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 rot="21364200">
                <a:off x="503676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 rot="15065400">
                <a:off x="503424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 rot="21364200">
                <a:off x="453420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 rot="15065400">
                <a:off x="452916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 rot="235800">
                <a:off x="440676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 rot="6534600">
                <a:off x="440388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 rot="21364200">
                <a:off x="465948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 rot="15065400">
                <a:off x="465516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 rot="21364200">
                <a:off x="4786200" y="1264320"/>
                <a:ext cx="11340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 rot="15065400">
                <a:off x="478188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 rot="21364200">
                <a:off x="402840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 rot="15065400">
                <a:off x="402516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 rot="235800">
                <a:off x="390168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 rot="6534600">
                <a:off x="389880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 rot="21364200">
                <a:off x="415368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 rot="15065400">
                <a:off x="415044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 rot="21364200">
                <a:off x="428076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flipV="1" rot="15065400">
                <a:off x="427716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 rot="21364200">
                <a:off x="377676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 rot="15065400">
                <a:off x="377208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 rot="235800">
                <a:off x="491040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 rot="6534600">
                <a:off x="490824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 rot="21364200">
                <a:off x="327060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 rot="15065400">
                <a:off x="326808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 rot="235800">
                <a:off x="314460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 rot="6534600">
                <a:off x="314172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21364200">
                <a:off x="339768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 rot="15065400">
                <a:off x="339444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 rot="21364200">
                <a:off x="352332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15065400">
                <a:off x="352080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21364200">
                <a:off x="276552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15065400">
                <a:off x="276372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 rot="235800">
                <a:off x="263952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 rot="6534600">
                <a:off x="263700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 rot="21364200">
                <a:off x="289512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 rot="15065400">
                <a:off x="288900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 rot="21364200">
                <a:off x="302076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flipV="1" rot="15065400">
                <a:off x="301572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 rot="21364200">
                <a:off x="251460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15065400">
                <a:off x="251172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 rot="235800">
                <a:off x="364896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 rot="6534600">
                <a:off x="364680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 rot="21364200">
                <a:off x="679320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 rot="15065400">
                <a:off x="678852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 rot="235800">
                <a:off x="666576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 rot="6534600">
                <a:off x="666288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21364200">
                <a:off x="6919200" y="126468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 rot="15065400">
                <a:off x="691416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 rot="21364200">
                <a:off x="7045920" y="126468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 rot="15065400">
                <a:off x="703980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 rot="21364200">
                <a:off x="628740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 rot="15065400">
                <a:off x="6284160" y="161100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 rot="235800">
                <a:off x="616104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 rot="6534600">
                <a:off x="615852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21364200">
                <a:off x="641304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15065400">
                <a:off x="6410520" y="16120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21364200">
                <a:off x="6540120" y="126432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 rot="15065400">
                <a:off x="6536160" y="161244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 rot="21364200">
                <a:off x="239796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15065400">
                <a:off x="2394720" y="16138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 rot="235800">
                <a:off x="2271960" y="126792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 rot="6534600">
                <a:off x="2269080" y="16149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 rot="21364200">
                <a:off x="2146680" y="126792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 rot="15065400">
                <a:off x="2142000" y="161532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 rot="21364200">
                <a:off x="164052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5065400">
                <a:off x="1638000" y="16149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 rot="235800">
                <a:off x="1514520" y="126792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 rot="6534600">
                <a:off x="1511280" y="16149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21364200">
                <a:off x="176724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5065400">
                <a:off x="1764360" y="16138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21364200">
                <a:off x="189288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 rot="15065400">
                <a:off x="1890360" y="16149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 rot="21364200">
                <a:off x="113544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 rot="15065400">
                <a:off x="1134000" y="1614960"/>
                <a:ext cx="119520" cy="1188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 rot="235800">
                <a:off x="100908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 rot="6534600">
                <a:off x="1006560" y="16138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21364200">
                <a:off x="1265040" y="126792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 rot="15065400">
                <a:off x="1258920" y="1615320"/>
                <a:ext cx="1195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21364200">
                <a:off x="1390680" y="1267920"/>
                <a:ext cx="11232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15065400">
                <a:off x="1385280" y="16149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21364200">
                <a:off x="884520" y="1267560"/>
                <a:ext cx="113760" cy="38088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15065400">
                <a:off x="881280" y="1613880"/>
                <a:ext cx="119520" cy="1209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 rot="235800">
                <a:off x="2019600" y="1267920"/>
                <a:ext cx="111960" cy="38052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72" y="6"/>
                    </a:moveTo>
                    <a:cubicBezTo>
                      <a:pt x="77" y="17"/>
                      <a:pt x="69" y="51"/>
                      <a:pt x="69" y="70"/>
                    </a:cubicBezTo>
                    <a:cubicBezTo>
                      <a:pt x="69" y="89"/>
                      <a:pt x="70" y="107"/>
                      <a:pt x="73" y="123"/>
                    </a:cubicBezTo>
                    <a:cubicBezTo>
                      <a:pt x="76" y="139"/>
                      <a:pt x="84" y="148"/>
                      <a:pt x="85" y="165"/>
                    </a:cubicBezTo>
                    <a:cubicBezTo>
                      <a:pt x="86" y="182"/>
                      <a:pt x="81" y="207"/>
                      <a:pt x="76" y="225"/>
                    </a:cubicBezTo>
                    <a:cubicBezTo>
                      <a:pt x="71" y="243"/>
                      <a:pt x="62" y="261"/>
                      <a:pt x="57" y="271"/>
                    </a:cubicBezTo>
                    <a:cubicBezTo>
                      <a:pt x="52" y="281"/>
                      <a:pt x="44" y="291"/>
                      <a:pt x="43" y="285"/>
                    </a:cubicBezTo>
                    <a:cubicBezTo>
                      <a:pt x="42" y="279"/>
                      <a:pt x="45" y="253"/>
                      <a:pt x="48" y="235"/>
                    </a:cubicBezTo>
                    <a:cubicBezTo>
                      <a:pt x="51" y="217"/>
                      <a:pt x="60" y="192"/>
                      <a:pt x="60" y="174"/>
                    </a:cubicBezTo>
                    <a:cubicBezTo>
                      <a:pt x="60" y="156"/>
                      <a:pt x="48" y="143"/>
                      <a:pt x="46" y="127"/>
                    </a:cubicBezTo>
                    <a:cubicBezTo>
                      <a:pt x="44" y="111"/>
                      <a:pt x="49" y="79"/>
                      <a:pt x="46" y="79"/>
                    </a:cubicBezTo>
                    <a:cubicBezTo>
                      <a:pt x="43" y="79"/>
                      <a:pt x="32" y="113"/>
                      <a:pt x="30" y="127"/>
                    </a:cubicBezTo>
                    <a:cubicBezTo>
                      <a:pt x="28" y="141"/>
                      <a:pt x="31" y="151"/>
                      <a:pt x="31" y="163"/>
                    </a:cubicBezTo>
                    <a:cubicBezTo>
                      <a:pt x="31" y="175"/>
                      <a:pt x="29" y="187"/>
                      <a:pt x="27" y="202"/>
                    </a:cubicBezTo>
                    <a:cubicBezTo>
                      <a:pt x="25" y="217"/>
                      <a:pt x="24" y="239"/>
                      <a:pt x="21" y="252"/>
                    </a:cubicBezTo>
                    <a:cubicBezTo>
                      <a:pt x="18" y="265"/>
                      <a:pt x="10" y="279"/>
                      <a:pt x="7" y="279"/>
                    </a:cubicBezTo>
                    <a:cubicBezTo>
                      <a:pt x="4" y="279"/>
                      <a:pt x="2" y="265"/>
                      <a:pt x="1" y="255"/>
                    </a:cubicBezTo>
                    <a:cubicBezTo>
                      <a:pt x="0" y="245"/>
                      <a:pt x="3" y="234"/>
                      <a:pt x="3" y="220"/>
                    </a:cubicBezTo>
                    <a:cubicBezTo>
                      <a:pt x="3" y="206"/>
                      <a:pt x="3" y="192"/>
                      <a:pt x="3" y="172"/>
                    </a:cubicBezTo>
                    <a:cubicBezTo>
                      <a:pt x="3" y="152"/>
                      <a:pt x="1" y="119"/>
                      <a:pt x="4" y="99"/>
                    </a:cubicBezTo>
                    <a:cubicBezTo>
                      <a:pt x="7" y="79"/>
                      <a:pt x="18" y="66"/>
                      <a:pt x="22" y="52"/>
                    </a:cubicBezTo>
                    <a:cubicBezTo>
                      <a:pt x="26" y="38"/>
                      <a:pt x="28" y="20"/>
                      <a:pt x="31" y="12"/>
                    </a:cubicBezTo>
                    <a:cubicBezTo>
                      <a:pt x="34" y="4"/>
                      <a:pt x="32" y="2"/>
                      <a:pt x="39" y="1"/>
                    </a:cubicBezTo>
                    <a:cubicBezTo>
                      <a:pt x="46" y="0"/>
                      <a:pt x="65" y="5"/>
                      <a:pt x="7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 rot="6534600">
                <a:off x="2016720" y="161496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 rot="21364200">
            <a:off x="221112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5065400">
            <a:off x="220716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rot="235800">
            <a:off x="233964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rot="6534600">
            <a:off x="2333160" y="881640"/>
            <a:ext cx="120960" cy="1188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21364200">
            <a:off x="195876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5065400">
            <a:off x="195624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21364200">
            <a:off x="271584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5065400">
            <a:off x="2712600" y="882720"/>
            <a:ext cx="120960" cy="1173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rot="235800">
            <a:off x="284436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rot="6534600">
            <a:off x="2837520" y="882360"/>
            <a:ext cx="12096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21364200">
            <a:off x="2590560" y="968400"/>
            <a:ext cx="1108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5065400">
            <a:off x="258660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21364200">
            <a:off x="246348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5065400">
            <a:off x="246024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21364200">
            <a:off x="3472920" y="968040"/>
            <a:ext cx="1130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5065400">
            <a:off x="3468960" y="881640"/>
            <a:ext cx="120960" cy="1188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235800">
            <a:off x="360000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rot="6534600">
            <a:off x="359496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364200">
            <a:off x="334764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5065400">
            <a:off x="334368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21364200">
            <a:off x="3976200" y="96804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15065400">
            <a:off x="3974040" y="880200"/>
            <a:ext cx="120960" cy="12204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rot="235800">
            <a:off x="410508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rot="6534600">
            <a:off x="409968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21364200">
            <a:off x="3850920" y="968040"/>
            <a:ext cx="11412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5065400">
            <a:off x="3848760" y="879840"/>
            <a:ext cx="120960" cy="122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21364200">
            <a:off x="423036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5065400">
            <a:off x="422640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rot="235800">
            <a:off x="3094920" y="968040"/>
            <a:ext cx="11412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rot="6534600">
            <a:off x="309024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21364200">
            <a:off x="4733640" y="968040"/>
            <a:ext cx="11412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15065400">
            <a:off x="473112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rot="235800">
            <a:off x="486216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rot="6534600">
            <a:off x="485820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1364200">
            <a:off x="4606560" y="96804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5065400">
            <a:off x="460512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21364200">
            <a:off x="4481280" y="968040"/>
            <a:ext cx="11412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5065400">
            <a:off x="447804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1364200">
            <a:off x="5239800" y="968040"/>
            <a:ext cx="1130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15065400">
            <a:off x="5235120" y="882720"/>
            <a:ext cx="120960" cy="1173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235800">
            <a:off x="5365080" y="968040"/>
            <a:ext cx="11412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rot="6534600">
            <a:off x="536184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21364200">
            <a:off x="5113080" y="968400"/>
            <a:ext cx="1108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5065400">
            <a:off x="5109840" y="882360"/>
            <a:ext cx="12096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21364200">
            <a:off x="498600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5065400">
            <a:off x="4983480" y="881640"/>
            <a:ext cx="120960" cy="1188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21364200">
            <a:off x="549072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5065400">
            <a:off x="5487840" y="880560"/>
            <a:ext cx="120960" cy="1209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rot="235800">
            <a:off x="435744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6534600">
            <a:off x="4352040" y="880560"/>
            <a:ext cx="120960" cy="1209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21364200">
            <a:off x="121392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15065400">
            <a:off x="1209960" y="881640"/>
            <a:ext cx="120960" cy="1188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235800">
            <a:off x="134100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6534600">
            <a:off x="133560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1364200">
            <a:off x="108864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15065400">
            <a:off x="1083960" y="882360"/>
            <a:ext cx="12096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21364200">
            <a:off x="96156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15065400">
            <a:off x="958320" y="882720"/>
            <a:ext cx="120960" cy="1173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21364200">
            <a:off x="1717200" y="96804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5065400">
            <a:off x="1714320" y="88092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rot="235800">
            <a:off x="1844640" y="968040"/>
            <a:ext cx="1144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rot="6534600">
            <a:off x="184032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21364200">
            <a:off x="146484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5065400">
            <a:off x="1461600" y="882720"/>
            <a:ext cx="120960" cy="1173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21364200">
            <a:off x="5606640" y="96480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5065400">
            <a:off x="5605200" y="877320"/>
            <a:ext cx="119160" cy="122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rot="235800">
            <a:off x="573516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rot="6534600">
            <a:off x="5731200" y="878040"/>
            <a:ext cx="1191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21364200">
            <a:off x="586080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5065400">
            <a:off x="5857560" y="879120"/>
            <a:ext cx="1191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21364200">
            <a:off x="6364080" y="964800"/>
            <a:ext cx="11412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5065400">
            <a:off x="6362280" y="879120"/>
            <a:ext cx="1191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rot="235800">
            <a:off x="649260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rot="6534600">
            <a:off x="6489360" y="879120"/>
            <a:ext cx="1191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21364200">
            <a:off x="6237000" y="964800"/>
            <a:ext cx="11412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5065400">
            <a:off x="6236280" y="878040"/>
            <a:ext cx="119160" cy="1209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21364200">
            <a:off x="6111360" y="96480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5065400">
            <a:off x="6109920" y="879120"/>
            <a:ext cx="1191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21364200">
            <a:off x="687024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5065400">
            <a:off x="6866280" y="879480"/>
            <a:ext cx="11916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rot="235800">
            <a:off x="699732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6534600">
            <a:off x="6993360" y="878040"/>
            <a:ext cx="1191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1364200">
            <a:off x="661644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5065400">
            <a:off x="6614640" y="879120"/>
            <a:ext cx="1191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21364200">
            <a:off x="7121160" y="96516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5065400">
            <a:off x="7118640" y="878040"/>
            <a:ext cx="1191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rot="235800">
            <a:off x="5987160" y="964800"/>
            <a:ext cx="11304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rot="6534600">
            <a:off x="5983560" y="878040"/>
            <a:ext cx="11916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 rot="21364200">
            <a:off x="585108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 rot="15065400">
            <a:off x="584640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 rot="235800">
            <a:off x="5724360" y="1313280"/>
            <a:ext cx="11304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 rot="6534600">
            <a:off x="5720400" y="1662120"/>
            <a:ext cx="12060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 rot="21364200">
            <a:off x="597816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 rot="15065400">
            <a:off x="597204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 rot="21364200">
            <a:off x="610344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 rot="15065400">
            <a:off x="609732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 rot="21364200">
            <a:off x="5347800" y="1314360"/>
            <a:ext cx="11124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 rot="15065400">
            <a:off x="5340960" y="166212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 rot="235800">
            <a:off x="5219280" y="1314360"/>
            <a:ext cx="11124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 rot="6534600">
            <a:off x="5216400" y="166212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 rot="21364200">
            <a:off x="5473440" y="1314360"/>
            <a:ext cx="1108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 rot="15065400">
            <a:off x="546696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 rot="21364200">
            <a:off x="559872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 rot="15065400">
            <a:off x="559404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 rot="21364200">
            <a:off x="509400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 rot="15065400">
            <a:off x="508932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 rot="21364200">
            <a:off x="458928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 rot="15065400">
            <a:off x="4584600" y="1661400"/>
            <a:ext cx="12060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 rot="235800">
            <a:off x="446220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 rot="6534600">
            <a:off x="4459680" y="166176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 rot="21364200">
            <a:off x="471456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 rot="15065400">
            <a:off x="4710960" y="1662120"/>
            <a:ext cx="120600" cy="11808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 rot="21364200">
            <a:off x="4083840" y="1313280"/>
            <a:ext cx="11448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 rot="15065400">
            <a:off x="4079520" y="1659960"/>
            <a:ext cx="120600" cy="122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 rot="235800">
            <a:off x="3957480" y="1313280"/>
            <a:ext cx="11304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 rot="6534600">
            <a:off x="395424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 rot="21364200">
            <a:off x="4209480" y="1313280"/>
            <a:ext cx="11412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 rot="15065400">
            <a:off x="420660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 rot="21364200">
            <a:off x="4336200" y="1313280"/>
            <a:ext cx="11448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 rot="15065400">
            <a:off x="4332240" y="1661400"/>
            <a:ext cx="12060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 rot="21364200">
            <a:off x="383184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 rot="15065400">
            <a:off x="382716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 rot="235800">
            <a:off x="496692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 rot="6534600">
            <a:off x="496368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 rot="21364200">
            <a:off x="3326760" y="1313280"/>
            <a:ext cx="11412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5065400">
            <a:off x="332388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 rot="235800">
            <a:off x="320004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 rot="6534600">
            <a:off x="319680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 rot="21364200">
            <a:off x="3453840" y="1313280"/>
            <a:ext cx="11412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5065400">
            <a:off x="3449160" y="1659960"/>
            <a:ext cx="120600" cy="122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 rot="21364200">
            <a:off x="3579120" y="1313280"/>
            <a:ext cx="11412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5065400">
            <a:off x="357624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 rot="21364200">
            <a:off x="2821680" y="1313280"/>
            <a:ext cx="11448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5065400">
            <a:off x="2818440" y="166212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 rot="235800">
            <a:off x="2695680" y="1313280"/>
            <a:ext cx="11412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 rot="6534600">
            <a:off x="269208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 rot="21364200">
            <a:off x="295092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5065400">
            <a:off x="2944080" y="1662120"/>
            <a:ext cx="120600" cy="11808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 rot="21364200">
            <a:off x="307620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5065400">
            <a:off x="307008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 rot="21364200">
            <a:off x="257148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 rot="15065400">
            <a:off x="2566800" y="16614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 rot="235800">
            <a:off x="370476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 rot="6534600">
            <a:off x="3701520" y="1661040"/>
            <a:ext cx="120600" cy="1209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 rot="21364200">
            <a:off x="6849720" y="1314360"/>
            <a:ext cx="11124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 rot="15065400">
            <a:off x="6843600" y="1661400"/>
            <a:ext cx="12060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 rot="21364200">
            <a:off x="697500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 rot="15065400">
            <a:off x="6969960" y="166212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 rot="21364200">
            <a:off x="710208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 rot="15065400">
            <a:off x="7095240" y="166212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 rot="21364200">
            <a:off x="634500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 rot="15065400">
            <a:off x="6339240" y="1661040"/>
            <a:ext cx="120600" cy="1209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 rot="235800">
            <a:off x="621792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 rot="6534600">
            <a:off x="6213960" y="166176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 rot="21364200">
            <a:off x="647028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 rot="15065400">
            <a:off x="646560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 rot="21364200">
            <a:off x="6597360" y="1314360"/>
            <a:ext cx="1126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 rot="15065400">
            <a:off x="6591960" y="166212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 rot="21364200">
            <a:off x="2453400" y="1317240"/>
            <a:ext cx="1144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 rot="15065400">
            <a:off x="2449080" y="1663200"/>
            <a:ext cx="120600" cy="122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 rot="235800">
            <a:off x="232704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 rot="6534600">
            <a:off x="2323800" y="166464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 rot="21364200">
            <a:off x="220140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 rot="15065400">
            <a:off x="2196720" y="166428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 rot="21364200">
            <a:off x="1696320" y="1317240"/>
            <a:ext cx="11412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 rot="15065400">
            <a:off x="1692000" y="166428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 rot="235800">
            <a:off x="156960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 rot="6534600">
            <a:off x="1566360" y="1664280"/>
            <a:ext cx="120600" cy="1209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 rot="21364200">
            <a:off x="1823400" y="1317240"/>
            <a:ext cx="11412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 flipV="1" rot="15065400">
            <a:off x="1819080" y="166464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 rot="235800">
            <a:off x="1065240" y="1317240"/>
            <a:ext cx="11412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 rot="6534600">
            <a:off x="1061640" y="166464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21364200">
            <a:off x="132048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 rot="15065400">
            <a:off x="1313640" y="1665360"/>
            <a:ext cx="120600" cy="1177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 rot="21364200">
            <a:off x="144576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15065400">
            <a:off x="1439640" y="166428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 rot="21364200">
            <a:off x="94104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 rot="15065400">
            <a:off x="936360" y="166464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 rot="235800">
            <a:off x="2074680" y="131688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 rot="6534600">
            <a:off x="2071440" y="166464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184720" y="100080"/>
            <a:ext cx="1693800" cy="2033640"/>
          </a:xfrm>
          <a:custGeom>
            <a:avLst/>
            <a:gdLst/>
            <a:ahLst/>
            <a:rect l="l" t="t" r="r" b="b"/>
            <a:pathLst>
              <a:path w="1199" h="1440">
                <a:moveTo>
                  <a:pt x="82" y="1277"/>
                </a:moveTo>
                <a:cubicBezTo>
                  <a:pt x="40" y="1330"/>
                  <a:pt x="29" y="1344"/>
                  <a:pt x="47" y="1370"/>
                </a:cubicBezTo>
                <a:cubicBezTo>
                  <a:pt x="63" y="1396"/>
                  <a:pt x="138" y="1423"/>
                  <a:pt x="185" y="1432"/>
                </a:cubicBezTo>
                <a:cubicBezTo>
                  <a:pt x="231" y="1440"/>
                  <a:pt x="275" y="1431"/>
                  <a:pt x="322" y="1418"/>
                </a:cubicBezTo>
                <a:cubicBezTo>
                  <a:pt x="369" y="1406"/>
                  <a:pt x="412" y="1371"/>
                  <a:pt x="470" y="1360"/>
                </a:cubicBezTo>
                <a:cubicBezTo>
                  <a:pt x="527" y="1349"/>
                  <a:pt x="581" y="1342"/>
                  <a:pt x="664" y="1351"/>
                </a:cubicBezTo>
                <a:cubicBezTo>
                  <a:pt x="746" y="1360"/>
                  <a:pt x="891" y="1419"/>
                  <a:pt x="970" y="1417"/>
                </a:cubicBezTo>
                <a:cubicBezTo>
                  <a:pt x="1047" y="1414"/>
                  <a:pt x="1101" y="1370"/>
                  <a:pt x="1132" y="1339"/>
                </a:cubicBezTo>
                <a:cubicBezTo>
                  <a:pt x="1163" y="1308"/>
                  <a:pt x="1157" y="1267"/>
                  <a:pt x="1156" y="1233"/>
                </a:cubicBezTo>
                <a:cubicBezTo>
                  <a:pt x="1155" y="1199"/>
                  <a:pt x="1138" y="1158"/>
                  <a:pt x="1127" y="1132"/>
                </a:cubicBezTo>
                <a:cubicBezTo>
                  <a:pt x="1116" y="1106"/>
                  <a:pt x="1102" y="1106"/>
                  <a:pt x="1090" y="1077"/>
                </a:cubicBezTo>
                <a:cubicBezTo>
                  <a:pt x="1078" y="1048"/>
                  <a:pt x="1062" y="995"/>
                  <a:pt x="1057" y="957"/>
                </a:cubicBezTo>
                <a:cubicBezTo>
                  <a:pt x="1052" y="919"/>
                  <a:pt x="1054" y="898"/>
                  <a:pt x="1060" y="849"/>
                </a:cubicBezTo>
                <a:cubicBezTo>
                  <a:pt x="1066" y="800"/>
                  <a:pt x="1081" y="716"/>
                  <a:pt x="1090" y="663"/>
                </a:cubicBezTo>
                <a:cubicBezTo>
                  <a:pt x="1099" y="610"/>
                  <a:pt x="1100" y="588"/>
                  <a:pt x="1117" y="531"/>
                </a:cubicBezTo>
                <a:cubicBezTo>
                  <a:pt x="1134" y="474"/>
                  <a:pt x="1179" y="386"/>
                  <a:pt x="1189" y="324"/>
                </a:cubicBezTo>
                <a:cubicBezTo>
                  <a:pt x="1199" y="262"/>
                  <a:pt x="1189" y="202"/>
                  <a:pt x="1177" y="161"/>
                </a:cubicBezTo>
                <a:cubicBezTo>
                  <a:pt x="1165" y="119"/>
                  <a:pt x="1137" y="97"/>
                  <a:pt x="1118" y="75"/>
                </a:cubicBezTo>
                <a:cubicBezTo>
                  <a:pt x="1098" y="53"/>
                  <a:pt x="1076" y="36"/>
                  <a:pt x="1054" y="25"/>
                </a:cubicBezTo>
                <a:cubicBezTo>
                  <a:pt x="1031" y="13"/>
                  <a:pt x="1008" y="3"/>
                  <a:pt x="978" y="1"/>
                </a:cubicBezTo>
                <a:cubicBezTo>
                  <a:pt x="947" y="0"/>
                  <a:pt x="903" y="3"/>
                  <a:pt x="866" y="13"/>
                </a:cubicBezTo>
                <a:cubicBezTo>
                  <a:pt x="829" y="23"/>
                  <a:pt x="793" y="40"/>
                  <a:pt x="754" y="63"/>
                </a:cubicBezTo>
                <a:cubicBezTo>
                  <a:pt x="716" y="87"/>
                  <a:pt x="669" y="141"/>
                  <a:pt x="635" y="157"/>
                </a:cubicBezTo>
                <a:cubicBezTo>
                  <a:pt x="600" y="172"/>
                  <a:pt x="572" y="157"/>
                  <a:pt x="543" y="153"/>
                </a:cubicBezTo>
                <a:cubicBezTo>
                  <a:pt x="514" y="149"/>
                  <a:pt x="487" y="135"/>
                  <a:pt x="455" y="133"/>
                </a:cubicBezTo>
                <a:cubicBezTo>
                  <a:pt x="423" y="132"/>
                  <a:pt x="400" y="124"/>
                  <a:pt x="351" y="145"/>
                </a:cubicBezTo>
                <a:cubicBezTo>
                  <a:pt x="302" y="166"/>
                  <a:pt x="210" y="203"/>
                  <a:pt x="156" y="258"/>
                </a:cubicBezTo>
                <a:cubicBezTo>
                  <a:pt x="101" y="312"/>
                  <a:pt x="40" y="418"/>
                  <a:pt x="20" y="475"/>
                </a:cubicBezTo>
                <a:cubicBezTo>
                  <a:pt x="0" y="532"/>
                  <a:pt x="27" y="556"/>
                  <a:pt x="32" y="603"/>
                </a:cubicBezTo>
                <a:cubicBezTo>
                  <a:pt x="37" y="651"/>
                  <a:pt x="48" y="715"/>
                  <a:pt x="56" y="767"/>
                </a:cubicBezTo>
                <a:cubicBezTo>
                  <a:pt x="64" y="818"/>
                  <a:pt x="73" y="861"/>
                  <a:pt x="80" y="914"/>
                </a:cubicBezTo>
                <a:cubicBezTo>
                  <a:pt x="86" y="967"/>
                  <a:pt x="96" y="1020"/>
                  <a:pt x="96" y="1081"/>
                </a:cubicBezTo>
                <a:cubicBezTo>
                  <a:pt x="96" y="1142"/>
                  <a:pt x="85" y="1237"/>
                  <a:pt x="82" y="127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05520" y="228600"/>
            <a:ext cx="1724040" cy="1938240"/>
          </a:xfrm>
          <a:custGeom>
            <a:avLst/>
            <a:gdLst/>
            <a:ahLst/>
            <a:rect l="l" t="t" r="r" b="b"/>
            <a:pathLst>
              <a:path w="917" h="1060">
                <a:moveTo>
                  <a:pt x="27" y="882"/>
                </a:moveTo>
                <a:cubicBezTo>
                  <a:pt x="40" y="925"/>
                  <a:pt x="58" y="963"/>
                  <a:pt x="78" y="989"/>
                </a:cubicBezTo>
                <a:cubicBezTo>
                  <a:pt x="98" y="1015"/>
                  <a:pt x="116" y="1029"/>
                  <a:pt x="145" y="1037"/>
                </a:cubicBezTo>
                <a:cubicBezTo>
                  <a:pt x="173" y="1045"/>
                  <a:pt x="211" y="1042"/>
                  <a:pt x="249" y="1031"/>
                </a:cubicBezTo>
                <a:cubicBezTo>
                  <a:pt x="287" y="1022"/>
                  <a:pt x="322" y="982"/>
                  <a:pt x="375" y="978"/>
                </a:cubicBezTo>
                <a:cubicBezTo>
                  <a:pt x="428" y="974"/>
                  <a:pt x="517" y="995"/>
                  <a:pt x="570" y="1005"/>
                </a:cubicBezTo>
                <a:cubicBezTo>
                  <a:pt x="623" y="1015"/>
                  <a:pt x="658" y="1033"/>
                  <a:pt x="696" y="1041"/>
                </a:cubicBezTo>
                <a:cubicBezTo>
                  <a:pt x="734" y="1049"/>
                  <a:pt x="769" y="1060"/>
                  <a:pt x="798" y="1053"/>
                </a:cubicBezTo>
                <a:cubicBezTo>
                  <a:pt x="827" y="1046"/>
                  <a:pt x="860" y="1025"/>
                  <a:pt x="870" y="996"/>
                </a:cubicBezTo>
                <a:cubicBezTo>
                  <a:pt x="880" y="967"/>
                  <a:pt x="861" y="907"/>
                  <a:pt x="856" y="876"/>
                </a:cubicBezTo>
                <a:cubicBezTo>
                  <a:pt x="851" y="845"/>
                  <a:pt x="845" y="842"/>
                  <a:pt x="840" y="807"/>
                </a:cubicBezTo>
                <a:cubicBezTo>
                  <a:pt x="835" y="772"/>
                  <a:pt x="828" y="708"/>
                  <a:pt x="828" y="663"/>
                </a:cubicBezTo>
                <a:cubicBezTo>
                  <a:pt x="828" y="618"/>
                  <a:pt x="835" y="574"/>
                  <a:pt x="840" y="534"/>
                </a:cubicBezTo>
                <a:cubicBezTo>
                  <a:pt x="845" y="494"/>
                  <a:pt x="850" y="458"/>
                  <a:pt x="858" y="423"/>
                </a:cubicBezTo>
                <a:cubicBezTo>
                  <a:pt x="866" y="388"/>
                  <a:pt x="882" y="357"/>
                  <a:pt x="891" y="324"/>
                </a:cubicBezTo>
                <a:cubicBezTo>
                  <a:pt x="900" y="291"/>
                  <a:pt x="917" y="260"/>
                  <a:pt x="915" y="222"/>
                </a:cubicBezTo>
                <a:cubicBezTo>
                  <a:pt x="913" y="184"/>
                  <a:pt x="896" y="127"/>
                  <a:pt x="879" y="96"/>
                </a:cubicBezTo>
                <a:cubicBezTo>
                  <a:pt x="862" y="65"/>
                  <a:pt x="838" y="52"/>
                  <a:pt x="810" y="36"/>
                </a:cubicBezTo>
                <a:cubicBezTo>
                  <a:pt x="782" y="20"/>
                  <a:pt x="743" y="6"/>
                  <a:pt x="714" y="3"/>
                </a:cubicBezTo>
                <a:cubicBezTo>
                  <a:pt x="685" y="0"/>
                  <a:pt x="660" y="6"/>
                  <a:pt x="633" y="15"/>
                </a:cubicBezTo>
                <a:cubicBezTo>
                  <a:pt x="606" y="24"/>
                  <a:pt x="578" y="40"/>
                  <a:pt x="549" y="57"/>
                </a:cubicBezTo>
                <a:cubicBezTo>
                  <a:pt x="520" y="74"/>
                  <a:pt x="498" y="112"/>
                  <a:pt x="462" y="117"/>
                </a:cubicBezTo>
                <a:cubicBezTo>
                  <a:pt x="426" y="122"/>
                  <a:pt x="370" y="88"/>
                  <a:pt x="330" y="87"/>
                </a:cubicBezTo>
                <a:cubicBezTo>
                  <a:pt x="290" y="86"/>
                  <a:pt x="258" y="91"/>
                  <a:pt x="223" y="111"/>
                </a:cubicBezTo>
                <a:cubicBezTo>
                  <a:pt x="188" y="131"/>
                  <a:pt x="145" y="174"/>
                  <a:pt x="117" y="207"/>
                </a:cubicBezTo>
                <a:cubicBezTo>
                  <a:pt x="89" y="240"/>
                  <a:pt x="72" y="271"/>
                  <a:pt x="57" y="306"/>
                </a:cubicBezTo>
                <a:cubicBezTo>
                  <a:pt x="42" y="341"/>
                  <a:pt x="32" y="377"/>
                  <a:pt x="27" y="417"/>
                </a:cubicBezTo>
                <a:cubicBezTo>
                  <a:pt x="22" y="457"/>
                  <a:pt x="28" y="497"/>
                  <a:pt x="24" y="549"/>
                </a:cubicBezTo>
                <a:cubicBezTo>
                  <a:pt x="20" y="601"/>
                  <a:pt x="0" y="674"/>
                  <a:pt x="0" y="729"/>
                </a:cubicBezTo>
                <a:cubicBezTo>
                  <a:pt x="0" y="784"/>
                  <a:pt x="14" y="839"/>
                  <a:pt x="27" y="88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25920" y="720720"/>
            <a:ext cx="959040" cy="1181160"/>
          </a:xfrm>
          <a:custGeom>
            <a:avLst/>
            <a:gdLst/>
            <a:ahLst/>
            <a:rect l="l" t="t" r="r" b="b"/>
            <a:pathLst>
              <a:path w="454" h="556">
                <a:moveTo>
                  <a:pt x="168" y="539"/>
                </a:moveTo>
                <a:cubicBezTo>
                  <a:pt x="191" y="546"/>
                  <a:pt x="238" y="554"/>
                  <a:pt x="261" y="555"/>
                </a:cubicBezTo>
                <a:cubicBezTo>
                  <a:pt x="284" y="556"/>
                  <a:pt x="292" y="552"/>
                  <a:pt x="306" y="547"/>
                </a:cubicBezTo>
                <a:cubicBezTo>
                  <a:pt x="320" y="542"/>
                  <a:pt x="331" y="535"/>
                  <a:pt x="343" y="525"/>
                </a:cubicBezTo>
                <a:cubicBezTo>
                  <a:pt x="355" y="515"/>
                  <a:pt x="366" y="505"/>
                  <a:pt x="376" y="489"/>
                </a:cubicBezTo>
                <a:cubicBezTo>
                  <a:pt x="386" y="473"/>
                  <a:pt x="391" y="459"/>
                  <a:pt x="403" y="429"/>
                </a:cubicBezTo>
                <a:cubicBezTo>
                  <a:pt x="415" y="399"/>
                  <a:pt x="442" y="341"/>
                  <a:pt x="448" y="306"/>
                </a:cubicBezTo>
                <a:cubicBezTo>
                  <a:pt x="454" y="271"/>
                  <a:pt x="448" y="245"/>
                  <a:pt x="442" y="216"/>
                </a:cubicBezTo>
                <a:cubicBezTo>
                  <a:pt x="436" y="187"/>
                  <a:pt x="428" y="159"/>
                  <a:pt x="412" y="129"/>
                </a:cubicBezTo>
                <a:cubicBezTo>
                  <a:pt x="396" y="99"/>
                  <a:pt x="376" y="58"/>
                  <a:pt x="347" y="36"/>
                </a:cubicBezTo>
                <a:cubicBezTo>
                  <a:pt x="318" y="14"/>
                  <a:pt x="275" y="0"/>
                  <a:pt x="240" y="0"/>
                </a:cubicBezTo>
                <a:cubicBezTo>
                  <a:pt x="205" y="0"/>
                  <a:pt x="172" y="6"/>
                  <a:pt x="137" y="34"/>
                </a:cubicBezTo>
                <a:cubicBezTo>
                  <a:pt x="102" y="62"/>
                  <a:pt x="50" y="124"/>
                  <a:pt x="28" y="171"/>
                </a:cubicBezTo>
                <a:cubicBezTo>
                  <a:pt x="6" y="218"/>
                  <a:pt x="0" y="271"/>
                  <a:pt x="4" y="318"/>
                </a:cubicBezTo>
                <a:cubicBezTo>
                  <a:pt x="8" y="365"/>
                  <a:pt x="29" y="420"/>
                  <a:pt x="49" y="453"/>
                </a:cubicBezTo>
                <a:cubicBezTo>
                  <a:pt x="69" y="486"/>
                  <a:pt x="104" y="500"/>
                  <a:pt x="124" y="514"/>
                </a:cubicBezTo>
                <a:cubicBezTo>
                  <a:pt x="144" y="528"/>
                  <a:pt x="145" y="532"/>
                  <a:pt x="168" y="539"/>
                </a:cubicBezTo>
                <a:close/>
              </a:path>
            </a:pathLst>
          </a:custGeom>
          <a:gradFill rotWithShape="0">
            <a:gsLst>
              <a:gs pos="0">
                <a:srgbClr val="fef1fe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942160" y="584280"/>
            <a:ext cx="544320" cy="1224000"/>
          </a:xfrm>
          <a:custGeom>
            <a:avLst/>
            <a:gdLst/>
            <a:ahLst/>
            <a:rect l="l" t="t" r="r" b="b"/>
            <a:pathLst>
              <a:path w="258" h="576">
                <a:moveTo>
                  <a:pt x="161" y="565"/>
                </a:moveTo>
                <a:cubicBezTo>
                  <a:pt x="176" y="574"/>
                  <a:pt x="189" y="576"/>
                  <a:pt x="203" y="574"/>
                </a:cubicBezTo>
                <a:cubicBezTo>
                  <a:pt x="217" y="572"/>
                  <a:pt x="242" y="573"/>
                  <a:pt x="248" y="550"/>
                </a:cubicBezTo>
                <a:cubicBezTo>
                  <a:pt x="254" y="527"/>
                  <a:pt x="244" y="475"/>
                  <a:pt x="242" y="436"/>
                </a:cubicBezTo>
                <a:cubicBezTo>
                  <a:pt x="240" y="397"/>
                  <a:pt x="233" y="360"/>
                  <a:pt x="233" y="316"/>
                </a:cubicBezTo>
                <a:cubicBezTo>
                  <a:pt x="233" y="272"/>
                  <a:pt x="239" y="211"/>
                  <a:pt x="242" y="172"/>
                </a:cubicBezTo>
                <a:cubicBezTo>
                  <a:pt x="245" y="133"/>
                  <a:pt x="258" y="107"/>
                  <a:pt x="252" y="80"/>
                </a:cubicBezTo>
                <a:cubicBezTo>
                  <a:pt x="246" y="53"/>
                  <a:pt x="224" y="20"/>
                  <a:pt x="203" y="10"/>
                </a:cubicBezTo>
                <a:cubicBezTo>
                  <a:pt x="182" y="0"/>
                  <a:pt x="151" y="14"/>
                  <a:pt x="125" y="22"/>
                </a:cubicBezTo>
                <a:cubicBezTo>
                  <a:pt x="99" y="30"/>
                  <a:pt x="64" y="39"/>
                  <a:pt x="44" y="58"/>
                </a:cubicBezTo>
                <a:cubicBezTo>
                  <a:pt x="24" y="77"/>
                  <a:pt x="0" y="100"/>
                  <a:pt x="2" y="136"/>
                </a:cubicBezTo>
                <a:cubicBezTo>
                  <a:pt x="4" y="172"/>
                  <a:pt x="48" y="233"/>
                  <a:pt x="56" y="277"/>
                </a:cubicBezTo>
                <a:cubicBezTo>
                  <a:pt x="64" y="321"/>
                  <a:pt x="48" y="364"/>
                  <a:pt x="47" y="400"/>
                </a:cubicBezTo>
                <a:cubicBezTo>
                  <a:pt x="46" y="436"/>
                  <a:pt x="35" y="471"/>
                  <a:pt x="47" y="493"/>
                </a:cubicBezTo>
                <a:cubicBezTo>
                  <a:pt x="59" y="515"/>
                  <a:pt x="100" y="523"/>
                  <a:pt x="119" y="535"/>
                </a:cubicBezTo>
                <a:cubicBezTo>
                  <a:pt x="138" y="547"/>
                  <a:pt x="152" y="559"/>
                  <a:pt x="161" y="56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02080" y="720720"/>
            <a:ext cx="552600" cy="1033560"/>
          </a:xfrm>
          <a:custGeom>
            <a:avLst/>
            <a:gdLst/>
            <a:ahLst/>
            <a:rect l="l" t="t" r="r" b="b"/>
            <a:pathLst>
              <a:path w="262" h="486">
                <a:moveTo>
                  <a:pt x="200" y="0"/>
                </a:moveTo>
                <a:cubicBezTo>
                  <a:pt x="212" y="0"/>
                  <a:pt x="226" y="4"/>
                  <a:pt x="235" y="12"/>
                </a:cubicBezTo>
                <a:cubicBezTo>
                  <a:pt x="244" y="20"/>
                  <a:pt x="252" y="35"/>
                  <a:pt x="256" y="46"/>
                </a:cubicBezTo>
                <a:cubicBezTo>
                  <a:pt x="259" y="59"/>
                  <a:pt x="262" y="60"/>
                  <a:pt x="260" y="81"/>
                </a:cubicBezTo>
                <a:cubicBezTo>
                  <a:pt x="259" y="102"/>
                  <a:pt x="251" y="144"/>
                  <a:pt x="246" y="172"/>
                </a:cubicBezTo>
                <a:cubicBezTo>
                  <a:pt x="241" y="200"/>
                  <a:pt x="235" y="225"/>
                  <a:pt x="230" y="249"/>
                </a:cubicBezTo>
                <a:cubicBezTo>
                  <a:pt x="225" y="273"/>
                  <a:pt x="223" y="290"/>
                  <a:pt x="218" y="315"/>
                </a:cubicBezTo>
                <a:cubicBezTo>
                  <a:pt x="213" y="340"/>
                  <a:pt x="208" y="376"/>
                  <a:pt x="200" y="399"/>
                </a:cubicBezTo>
                <a:cubicBezTo>
                  <a:pt x="192" y="422"/>
                  <a:pt x="188" y="437"/>
                  <a:pt x="170" y="451"/>
                </a:cubicBezTo>
                <a:cubicBezTo>
                  <a:pt x="152" y="465"/>
                  <a:pt x="116" y="481"/>
                  <a:pt x="95" y="484"/>
                </a:cubicBezTo>
                <a:cubicBezTo>
                  <a:pt x="73" y="486"/>
                  <a:pt x="59" y="481"/>
                  <a:pt x="45" y="463"/>
                </a:cubicBezTo>
                <a:cubicBezTo>
                  <a:pt x="30" y="445"/>
                  <a:pt x="15" y="406"/>
                  <a:pt x="8" y="374"/>
                </a:cubicBezTo>
                <a:cubicBezTo>
                  <a:pt x="1" y="342"/>
                  <a:pt x="0" y="300"/>
                  <a:pt x="5" y="269"/>
                </a:cubicBezTo>
                <a:cubicBezTo>
                  <a:pt x="9" y="238"/>
                  <a:pt x="22" y="219"/>
                  <a:pt x="34" y="190"/>
                </a:cubicBezTo>
                <a:cubicBezTo>
                  <a:pt x="46" y="161"/>
                  <a:pt x="62" y="124"/>
                  <a:pt x="77" y="96"/>
                </a:cubicBezTo>
                <a:cubicBezTo>
                  <a:pt x="92" y="68"/>
                  <a:pt x="111" y="40"/>
                  <a:pt x="125" y="25"/>
                </a:cubicBezTo>
                <a:cubicBezTo>
                  <a:pt x="139" y="10"/>
                  <a:pt x="149" y="13"/>
                  <a:pt x="161" y="9"/>
                </a:cubicBezTo>
                <a:cubicBezTo>
                  <a:pt x="173" y="5"/>
                  <a:pt x="188" y="0"/>
                  <a:pt x="2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14560" y="453960"/>
            <a:ext cx="612720" cy="1319400"/>
          </a:xfrm>
          <a:custGeom>
            <a:avLst/>
            <a:gdLst/>
            <a:ahLst/>
            <a:rect l="l" t="t" r="r" b="b"/>
            <a:pathLst>
              <a:path w="421" h="904">
                <a:moveTo>
                  <a:pt x="151" y="706"/>
                </a:moveTo>
                <a:cubicBezTo>
                  <a:pt x="162" y="771"/>
                  <a:pt x="175" y="864"/>
                  <a:pt x="195" y="884"/>
                </a:cubicBezTo>
                <a:cubicBezTo>
                  <a:pt x="215" y="904"/>
                  <a:pt x="257" y="856"/>
                  <a:pt x="271" y="826"/>
                </a:cubicBezTo>
                <a:cubicBezTo>
                  <a:pt x="285" y="796"/>
                  <a:pt x="279" y="756"/>
                  <a:pt x="281" y="706"/>
                </a:cubicBezTo>
                <a:cubicBezTo>
                  <a:pt x="283" y="656"/>
                  <a:pt x="283" y="572"/>
                  <a:pt x="285" y="528"/>
                </a:cubicBezTo>
                <a:cubicBezTo>
                  <a:pt x="287" y="484"/>
                  <a:pt x="290" y="473"/>
                  <a:pt x="296" y="443"/>
                </a:cubicBezTo>
                <a:cubicBezTo>
                  <a:pt x="301" y="413"/>
                  <a:pt x="309" y="368"/>
                  <a:pt x="316" y="345"/>
                </a:cubicBezTo>
                <a:cubicBezTo>
                  <a:pt x="323" y="322"/>
                  <a:pt x="327" y="318"/>
                  <a:pt x="338" y="307"/>
                </a:cubicBezTo>
                <a:cubicBezTo>
                  <a:pt x="349" y="297"/>
                  <a:pt x="372" y="296"/>
                  <a:pt x="384" y="280"/>
                </a:cubicBezTo>
                <a:cubicBezTo>
                  <a:pt x="395" y="265"/>
                  <a:pt x="406" y="240"/>
                  <a:pt x="411" y="216"/>
                </a:cubicBezTo>
                <a:cubicBezTo>
                  <a:pt x="416" y="192"/>
                  <a:pt x="421" y="163"/>
                  <a:pt x="413" y="134"/>
                </a:cubicBezTo>
                <a:cubicBezTo>
                  <a:pt x="405" y="106"/>
                  <a:pt x="395" y="70"/>
                  <a:pt x="360" y="47"/>
                </a:cubicBezTo>
                <a:cubicBezTo>
                  <a:pt x="325" y="24"/>
                  <a:pt x="255" y="0"/>
                  <a:pt x="205" y="0"/>
                </a:cubicBezTo>
                <a:cubicBezTo>
                  <a:pt x="155" y="0"/>
                  <a:pt x="92" y="22"/>
                  <a:pt x="59" y="48"/>
                </a:cubicBezTo>
                <a:cubicBezTo>
                  <a:pt x="26" y="74"/>
                  <a:pt x="0" y="114"/>
                  <a:pt x="5" y="154"/>
                </a:cubicBezTo>
                <a:cubicBezTo>
                  <a:pt x="10" y="194"/>
                  <a:pt x="70" y="251"/>
                  <a:pt x="88" y="287"/>
                </a:cubicBezTo>
                <a:cubicBezTo>
                  <a:pt x="106" y="323"/>
                  <a:pt x="104" y="338"/>
                  <a:pt x="111" y="372"/>
                </a:cubicBezTo>
                <a:cubicBezTo>
                  <a:pt x="119" y="406"/>
                  <a:pt x="123" y="437"/>
                  <a:pt x="130" y="493"/>
                </a:cubicBezTo>
                <a:cubicBezTo>
                  <a:pt x="137" y="549"/>
                  <a:pt x="134" y="643"/>
                  <a:pt x="151" y="70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06640" y="471600"/>
            <a:ext cx="549000" cy="1287360"/>
          </a:xfrm>
          <a:custGeom>
            <a:avLst/>
            <a:gdLst/>
            <a:ahLst/>
            <a:rect l="l" t="t" r="r" b="b"/>
            <a:pathLst>
              <a:path w="377" h="882">
                <a:moveTo>
                  <a:pt x="200" y="882"/>
                </a:moveTo>
                <a:cubicBezTo>
                  <a:pt x="217" y="882"/>
                  <a:pt x="241" y="870"/>
                  <a:pt x="254" y="848"/>
                </a:cubicBezTo>
                <a:cubicBezTo>
                  <a:pt x="267" y="826"/>
                  <a:pt x="272" y="814"/>
                  <a:pt x="276" y="752"/>
                </a:cubicBezTo>
                <a:cubicBezTo>
                  <a:pt x="280" y="690"/>
                  <a:pt x="277" y="548"/>
                  <a:pt x="281" y="475"/>
                </a:cubicBezTo>
                <a:cubicBezTo>
                  <a:pt x="285" y="402"/>
                  <a:pt x="287" y="351"/>
                  <a:pt x="299" y="312"/>
                </a:cubicBezTo>
                <a:cubicBezTo>
                  <a:pt x="312" y="274"/>
                  <a:pt x="343" y="272"/>
                  <a:pt x="356" y="244"/>
                </a:cubicBezTo>
                <a:cubicBezTo>
                  <a:pt x="369" y="215"/>
                  <a:pt x="377" y="172"/>
                  <a:pt x="376" y="143"/>
                </a:cubicBezTo>
                <a:cubicBezTo>
                  <a:pt x="375" y="113"/>
                  <a:pt x="373" y="88"/>
                  <a:pt x="352" y="67"/>
                </a:cubicBezTo>
                <a:cubicBezTo>
                  <a:pt x="332" y="45"/>
                  <a:pt x="288" y="23"/>
                  <a:pt x="255" y="12"/>
                </a:cubicBezTo>
                <a:cubicBezTo>
                  <a:pt x="221" y="2"/>
                  <a:pt x="182" y="0"/>
                  <a:pt x="148" y="7"/>
                </a:cubicBezTo>
                <a:cubicBezTo>
                  <a:pt x="114" y="14"/>
                  <a:pt x="72" y="34"/>
                  <a:pt x="48" y="56"/>
                </a:cubicBezTo>
                <a:cubicBezTo>
                  <a:pt x="24" y="78"/>
                  <a:pt x="8" y="111"/>
                  <a:pt x="4" y="142"/>
                </a:cubicBezTo>
                <a:cubicBezTo>
                  <a:pt x="0" y="173"/>
                  <a:pt x="12" y="214"/>
                  <a:pt x="26" y="242"/>
                </a:cubicBezTo>
                <a:cubicBezTo>
                  <a:pt x="40" y="270"/>
                  <a:pt x="73" y="274"/>
                  <a:pt x="89" y="308"/>
                </a:cubicBezTo>
                <a:cubicBezTo>
                  <a:pt x="105" y="342"/>
                  <a:pt x="115" y="374"/>
                  <a:pt x="122" y="446"/>
                </a:cubicBezTo>
                <a:cubicBezTo>
                  <a:pt x="129" y="518"/>
                  <a:pt x="123" y="673"/>
                  <a:pt x="128" y="740"/>
                </a:cubicBezTo>
                <a:cubicBezTo>
                  <a:pt x="133" y="807"/>
                  <a:pt x="140" y="824"/>
                  <a:pt x="152" y="848"/>
                </a:cubicBezTo>
                <a:cubicBezTo>
                  <a:pt x="164" y="872"/>
                  <a:pt x="183" y="882"/>
                  <a:pt x="200" y="88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8000" y="639720"/>
            <a:ext cx="554040" cy="976320"/>
          </a:xfrm>
          <a:custGeom>
            <a:avLst/>
            <a:gdLst/>
            <a:ahLst/>
            <a:rect l="l" t="t" r="r" b="b"/>
            <a:pathLst>
              <a:path w="527" h="601">
                <a:moveTo>
                  <a:pt x="137" y="579"/>
                </a:moveTo>
                <a:cubicBezTo>
                  <a:pt x="164" y="581"/>
                  <a:pt x="198" y="562"/>
                  <a:pt x="224" y="565"/>
                </a:cubicBezTo>
                <a:cubicBezTo>
                  <a:pt x="250" y="568"/>
                  <a:pt x="271" y="593"/>
                  <a:pt x="296" y="597"/>
                </a:cubicBezTo>
                <a:cubicBezTo>
                  <a:pt x="321" y="601"/>
                  <a:pt x="352" y="596"/>
                  <a:pt x="373" y="588"/>
                </a:cubicBezTo>
                <a:cubicBezTo>
                  <a:pt x="394" y="580"/>
                  <a:pt x="406" y="564"/>
                  <a:pt x="420" y="551"/>
                </a:cubicBezTo>
                <a:cubicBezTo>
                  <a:pt x="434" y="538"/>
                  <a:pt x="446" y="525"/>
                  <a:pt x="455" y="507"/>
                </a:cubicBezTo>
                <a:cubicBezTo>
                  <a:pt x="464" y="489"/>
                  <a:pt x="468" y="480"/>
                  <a:pt x="475" y="445"/>
                </a:cubicBezTo>
                <a:cubicBezTo>
                  <a:pt x="482" y="410"/>
                  <a:pt x="492" y="348"/>
                  <a:pt x="499" y="297"/>
                </a:cubicBezTo>
                <a:cubicBezTo>
                  <a:pt x="506" y="246"/>
                  <a:pt x="527" y="180"/>
                  <a:pt x="518" y="137"/>
                </a:cubicBezTo>
                <a:cubicBezTo>
                  <a:pt x="509" y="94"/>
                  <a:pt x="487" y="62"/>
                  <a:pt x="444" y="39"/>
                </a:cubicBezTo>
                <a:cubicBezTo>
                  <a:pt x="401" y="16"/>
                  <a:pt x="320" y="0"/>
                  <a:pt x="260" y="0"/>
                </a:cubicBezTo>
                <a:cubicBezTo>
                  <a:pt x="200" y="0"/>
                  <a:pt x="126" y="12"/>
                  <a:pt x="84" y="37"/>
                </a:cubicBezTo>
                <a:cubicBezTo>
                  <a:pt x="42" y="62"/>
                  <a:pt x="20" y="102"/>
                  <a:pt x="10" y="149"/>
                </a:cubicBezTo>
                <a:cubicBezTo>
                  <a:pt x="0" y="196"/>
                  <a:pt x="17" y="268"/>
                  <a:pt x="24" y="317"/>
                </a:cubicBezTo>
                <a:cubicBezTo>
                  <a:pt x="31" y="366"/>
                  <a:pt x="44" y="402"/>
                  <a:pt x="50" y="441"/>
                </a:cubicBezTo>
                <a:cubicBezTo>
                  <a:pt x="56" y="480"/>
                  <a:pt x="48" y="530"/>
                  <a:pt x="62" y="553"/>
                </a:cubicBezTo>
                <a:cubicBezTo>
                  <a:pt x="76" y="576"/>
                  <a:pt x="108" y="576"/>
                  <a:pt x="137" y="57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71880" y="663480"/>
            <a:ext cx="493560" cy="963720"/>
          </a:xfrm>
          <a:custGeom>
            <a:avLst/>
            <a:gdLst/>
            <a:ahLst/>
            <a:rect l="l" t="t" r="r" b="b"/>
            <a:pathLst>
              <a:path w="338" h="660">
                <a:moveTo>
                  <a:pt x="190" y="655"/>
                </a:moveTo>
                <a:cubicBezTo>
                  <a:pt x="206" y="657"/>
                  <a:pt x="217" y="660"/>
                  <a:pt x="231" y="655"/>
                </a:cubicBezTo>
                <a:cubicBezTo>
                  <a:pt x="245" y="650"/>
                  <a:pt x="262" y="654"/>
                  <a:pt x="276" y="625"/>
                </a:cubicBezTo>
                <a:cubicBezTo>
                  <a:pt x="290" y="596"/>
                  <a:pt x="306" y="525"/>
                  <a:pt x="314" y="482"/>
                </a:cubicBezTo>
                <a:cubicBezTo>
                  <a:pt x="323" y="438"/>
                  <a:pt x="326" y="414"/>
                  <a:pt x="329" y="361"/>
                </a:cubicBezTo>
                <a:cubicBezTo>
                  <a:pt x="333" y="309"/>
                  <a:pt x="338" y="215"/>
                  <a:pt x="336" y="167"/>
                </a:cubicBezTo>
                <a:cubicBezTo>
                  <a:pt x="334" y="119"/>
                  <a:pt x="333" y="103"/>
                  <a:pt x="315" y="77"/>
                </a:cubicBezTo>
                <a:cubicBezTo>
                  <a:pt x="297" y="51"/>
                  <a:pt x="259" y="25"/>
                  <a:pt x="229" y="12"/>
                </a:cubicBezTo>
                <a:cubicBezTo>
                  <a:pt x="200" y="0"/>
                  <a:pt x="164" y="0"/>
                  <a:pt x="135" y="6"/>
                </a:cubicBezTo>
                <a:cubicBezTo>
                  <a:pt x="107" y="11"/>
                  <a:pt x="81" y="20"/>
                  <a:pt x="59" y="44"/>
                </a:cubicBezTo>
                <a:cubicBezTo>
                  <a:pt x="37" y="67"/>
                  <a:pt x="16" y="98"/>
                  <a:pt x="8" y="144"/>
                </a:cubicBezTo>
                <a:cubicBezTo>
                  <a:pt x="0" y="190"/>
                  <a:pt x="7" y="272"/>
                  <a:pt x="9" y="322"/>
                </a:cubicBezTo>
                <a:cubicBezTo>
                  <a:pt x="12" y="373"/>
                  <a:pt x="13" y="399"/>
                  <a:pt x="20" y="447"/>
                </a:cubicBezTo>
                <a:cubicBezTo>
                  <a:pt x="27" y="495"/>
                  <a:pt x="36" y="575"/>
                  <a:pt x="55" y="608"/>
                </a:cubicBezTo>
                <a:cubicBezTo>
                  <a:pt x="74" y="641"/>
                  <a:pt x="110" y="637"/>
                  <a:pt x="132" y="645"/>
                </a:cubicBezTo>
                <a:cubicBezTo>
                  <a:pt x="154" y="653"/>
                  <a:pt x="174" y="653"/>
                  <a:pt x="190" y="65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08400" y="666720"/>
            <a:ext cx="896760" cy="1355760"/>
          </a:xfrm>
          <a:custGeom>
            <a:avLst/>
            <a:gdLst/>
            <a:ahLst/>
            <a:rect l="l" t="t" r="r" b="b"/>
            <a:pathLst>
              <a:path w="615" h="929">
                <a:moveTo>
                  <a:pt x="224" y="144"/>
                </a:moveTo>
                <a:cubicBezTo>
                  <a:pt x="237" y="61"/>
                  <a:pt x="224" y="112"/>
                  <a:pt x="231" y="90"/>
                </a:cubicBezTo>
                <a:cubicBezTo>
                  <a:pt x="238" y="68"/>
                  <a:pt x="243" y="24"/>
                  <a:pt x="262" y="12"/>
                </a:cubicBezTo>
                <a:cubicBezTo>
                  <a:pt x="281" y="0"/>
                  <a:pt x="325" y="11"/>
                  <a:pt x="346" y="20"/>
                </a:cubicBezTo>
                <a:cubicBezTo>
                  <a:pt x="367" y="29"/>
                  <a:pt x="377" y="39"/>
                  <a:pt x="387" y="68"/>
                </a:cubicBezTo>
                <a:cubicBezTo>
                  <a:pt x="397" y="97"/>
                  <a:pt x="403" y="147"/>
                  <a:pt x="407" y="196"/>
                </a:cubicBezTo>
                <a:cubicBezTo>
                  <a:pt x="412" y="245"/>
                  <a:pt x="413" y="306"/>
                  <a:pt x="416" y="360"/>
                </a:cubicBezTo>
                <a:cubicBezTo>
                  <a:pt x="420" y="414"/>
                  <a:pt x="421" y="477"/>
                  <a:pt x="430" y="522"/>
                </a:cubicBezTo>
                <a:cubicBezTo>
                  <a:pt x="439" y="567"/>
                  <a:pt x="443" y="602"/>
                  <a:pt x="468" y="632"/>
                </a:cubicBezTo>
                <a:cubicBezTo>
                  <a:pt x="492" y="662"/>
                  <a:pt x="556" y="673"/>
                  <a:pt x="579" y="700"/>
                </a:cubicBezTo>
                <a:cubicBezTo>
                  <a:pt x="603" y="727"/>
                  <a:pt x="615" y="764"/>
                  <a:pt x="606" y="796"/>
                </a:cubicBezTo>
                <a:cubicBezTo>
                  <a:pt x="597" y="828"/>
                  <a:pt x="582" y="870"/>
                  <a:pt x="528" y="892"/>
                </a:cubicBezTo>
                <a:cubicBezTo>
                  <a:pt x="474" y="914"/>
                  <a:pt x="352" y="929"/>
                  <a:pt x="282" y="928"/>
                </a:cubicBezTo>
                <a:cubicBezTo>
                  <a:pt x="213" y="927"/>
                  <a:pt x="157" y="906"/>
                  <a:pt x="115" y="888"/>
                </a:cubicBezTo>
                <a:cubicBezTo>
                  <a:pt x="73" y="870"/>
                  <a:pt x="40" y="845"/>
                  <a:pt x="23" y="820"/>
                </a:cubicBezTo>
                <a:cubicBezTo>
                  <a:pt x="7" y="795"/>
                  <a:pt x="0" y="762"/>
                  <a:pt x="12" y="740"/>
                </a:cubicBezTo>
                <a:cubicBezTo>
                  <a:pt x="25" y="718"/>
                  <a:pt x="73" y="711"/>
                  <a:pt x="96" y="685"/>
                </a:cubicBezTo>
                <a:cubicBezTo>
                  <a:pt x="119" y="659"/>
                  <a:pt x="134" y="676"/>
                  <a:pt x="155" y="586"/>
                </a:cubicBezTo>
                <a:cubicBezTo>
                  <a:pt x="176" y="496"/>
                  <a:pt x="211" y="230"/>
                  <a:pt x="224" y="144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81400" y="665280"/>
            <a:ext cx="871560" cy="1352520"/>
          </a:xfrm>
          <a:custGeom>
            <a:avLst/>
            <a:gdLst/>
            <a:ahLst/>
            <a:rect l="l" t="t" r="r" b="b"/>
            <a:pathLst>
              <a:path w="535" h="927">
                <a:moveTo>
                  <a:pt x="307" y="15"/>
                </a:moveTo>
                <a:cubicBezTo>
                  <a:pt x="325" y="24"/>
                  <a:pt x="347" y="35"/>
                  <a:pt x="357" y="69"/>
                </a:cubicBezTo>
                <a:cubicBezTo>
                  <a:pt x="367" y="103"/>
                  <a:pt x="362" y="158"/>
                  <a:pt x="365" y="221"/>
                </a:cubicBezTo>
                <a:cubicBezTo>
                  <a:pt x="368" y="284"/>
                  <a:pt x="369" y="390"/>
                  <a:pt x="373" y="449"/>
                </a:cubicBezTo>
                <a:cubicBezTo>
                  <a:pt x="377" y="508"/>
                  <a:pt x="380" y="541"/>
                  <a:pt x="387" y="573"/>
                </a:cubicBezTo>
                <a:cubicBezTo>
                  <a:pt x="394" y="605"/>
                  <a:pt x="399" y="626"/>
                  <a:pt x="413" y="643"/>
                </a:cubicBezTo>
                <a:cubicBezTo>
                  <a:pt x="427" y="660"/>
                  <a:pt x="453" y="666"/>
                  <a:pt x="471" y="679"/>
                </a:cubicBezTo>
                <a:cubicBezTo>
                  <a:pt x="489" y="692"/>
                  <a:pt x="513" y="702"/>
                  <a:pt x="523" y="723"/>
                </a:cubicBezTo>
                <a:cubicBezTo>
                  <a:pt x="533" y="744"/>
                  <a:pt x="535" y="779"/>
                  <a:pt x="529" y="803"/>
                </a:cubicBezTo>
                <a:cubicBezTo>
                  <a:pt x="523" y="827"/>
                  <a:pt x="511" y="850"/>
                  <a:pt x="487" y="869"/>
                </a:cubicBezTo>
                <a:cubicBezTo>
                  <a:pt x="463" y="888"/>
                  <a:pt x="430" y="906"/>
                  <a:pt x="387" y="915"/>
                </a:cubicBezTo>
                <a:cubicBezTo>
                  <a:pt x="344" y="924"/>
                  <a:pt x="279" y="927"/>
                  <a:pt x="231" y="921"/>
                </a:cubicBezTo>
                <a:cubicBezTo>
                  <a:pt x="183" y="915"/>
                  <a:pt x="135" y="900"/>
                  <a:pt x="99" y="881"/>
                </a:cubicBezTo>
                <a:cubicBezTo>
                  <a:pt x="63" y="862"/>
                  <a:pt x="26" y="831"/>
                  <a:pt x="13" y="805"/>
                </a:cubicBezTo>
                <a:cubicBezTo>
                  <a:pt x="0" y="779"/>
                  <a:pt x="10" y="744"/>
                  <a:pt x="19" y="723"/>
                </a:cubicBezTo>
                <a:cubicBezTo>
                  <a:pt x="28" y="702"/>
                  <a:pt x="51" y="694"/>
                  <a:pt x="67" y="681"/>
                </a:cubicBezTo>
                <a:cubicBezTo>
                  <a:pt x="83" y="668"/>
                  <a:pt x="98" y="686"/>
                  <a:pt x="115" y="647"/>
                </a:cubicBezTo>
                <a:cubicBezTo>
                  <a:pt x="132" y="608"/>
                  <a:pt x="155" y="508"/>
                  <a:pt x="167" y="445"/>
                </a:cubicBezTo>
                <a:cubicBezTo>
                  <a:pt x="179" y="382"/>
                  <a:pt x="178" y="330"/>
                  <a:pt x="185" y="271"/>
                </a:cubicBezTo>
                <a:cubicBezTo>
                  <a:pt x="192" y="212"/>
                  <a:pt x="196" y="134"/>
                  <a:pt x="207" y="91"/>
                </a:cubicBezTo>
                <a:cubicBezTo>
                  <a:pt x="218" y="48"/>
                  <a:pt x="234" y="26"/>
                  <a:pt x="251" y="13"/>
                </a:cubicBezTo>
                <a:cubicBezTo>
                  <a:pt x="268" y="0"/>
                  <a:pt x="295" y="15"/>
                  <a:pt x="307" y="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08360" y="453960"/>
            <a:ext cx="787320" cy="1585800"/>
          </a:xfrm>
          <a:custGeom>
            <a:avLst/>
            <a:gdLst/>
            <a:ahLst/>
            <a:rect l="l" t="t" r="r" b="b"/>
            <a:pathLst>
              <a:path w="551" h="1017">
                <a:moveTo>
                  <a:pt x="25" y="121"/>
                </a:moveTo>
                <a:cubicBezTo>
                  <a:pt x="5" y="81"/>
                  <a:pt x="0" y="71"/>
                  <a:pt x="8" y="52"/>
                </a:cubicBezTo>
                <a:cubicBezTo>
                  <a:pt x="16" y="33"/>
                  <a:pt x="52" y="12"/>
                  <a:pt x="74" y="6"/>
                </a:cubicBezTo>
                <a:cubicBezTo>
                  <a:pt x="96" y="0"/>
                  <a:pt x="117" y="7"/>
                  <a:pt x="139" y="16"/>
                </a:cubicBezTo>
                <a:cubicBezTo>
                  <a:pt x="161" y="25"/>
                  <a:pt x="182" y="51"/>
                  <a:pt x="209" y="59"/>
                </a:cubicBezTo>
                <a:cubicBezTo>
                  <a:pt x="236" y="67"/>
                  <a:pt x="262" y="73"/>
                  <a:pt x="301" y="66"/>
                </a:cubicBezTo>
                <a:cubicBezTo>
                  <a:pt x="340" y="59"/>
                  <a:pt x="409" y="15"/>
                  <a:pt x="446" y="17"/>
                </a:cubicBezTo>
                <a:cubicBezTo>
                  <a:pt x="483" y="19"/>
                  <a:pt x="505" y="50"/>
                  <a:pt x="523" y="75"/>
                </a:cubicBezTo>
                <a:cubicBezTo>
                  <a:pt x="541" y="100"/>
                  <a:pt x="551" y="140"/>
                  <a:pt x="551" y="165"/>
                </a:cubicBezTo>
                <a:cubicBezTo>
                  <a:pt x="551" y="190"/>
                  <a:pt x="535" y="213"/>
                  <a:pt x="521" y="228"/>
                </a:cubicBezTo>
                <a:cubicBezTo>
                  <a:pt x="507" y="243"/>
                  <a:pt x="483" y="238"/>
                  <a:pt x="464" y="255"/>
                </a:cubicBezTo>
                <a:cubicBezTo>
                  <a:pt x="445" y="272"/>
                  <a:pt x="419" y="305"/>
                  <a:pt x="406" y="330"/>
                </a:cubicBezTo>
                <a:cubicBezTo>
                  <a:pt x="393" y="355"/>
                  <a:pt x="387" y="382"/>
                  <a:pt x="389" y="407"/>
                </a:cubicBezTo>
                <a:cubicBezTo>
                  <a:pt x="391" y="432"/>
                  <a:pt x="409" y="458"/>
                  <a:pt x="421" y="483"/>
                </a:cubicBezTo>
                <a:cubicBezTo>
                  <a:pt x="433" y="508"/>
                  <a:pt x="461" y="522"/>
                  <a:pt x="463" y="555"/>
                </a:cubicBezTo>
                <a:cubicBezTo>
                  <a:pt x="465" y="588"/>
                  <a:pt x="434" y="649"/>
                  <a:pt x="434" y="680"/>
                </a:cubicBezTo>
                <a:cubicBezTo>
                  <a:pt x="434" y="711"/>
                  <a:pt x="449" y="715"/>
                  <a:pt x="464" y="741"/>
                </a:cubicBezTo>
                <a:cubicBezTo>
                  <a:pt x="479" y="767"/>
                  <a:pt x="523" y="804"/>
                  <a:pt x="526" y="837"/>
                </a:cubicBezTo>
                <a:cubicBezTo>
                  <a:pt x="529" y="870"/>
                  <a:pt x="525" y="909"/>
                  <a:pt x="482" y="938"/>
                </a:cubicBezTo>
                <a:cubicBezTo>
                  <a:pt x="439" y="967"/>
                  <a:pt x="332" y="1017"/>
                  <a:pt x="266" y="1013"/>
                </a:cubicBezTo>
                <a:cubicBezTo>
                  <a:pt x="200" y="1009"/>
                  <a:pt x="124" y="957"/>
                  <a:pt x="88" y="916"/>
                </a:cubicBezTo>
                <a:cubicBezTo>
                  <a:pt x="52" y="876"/>
                  <a:pt x="55" y="815"/>
                  <a:pt x="51" y="776"/>
                </a:cubicBezTo>
                <a:cubicBezTo>
                  <a:pt x="46" y="737"/>
                  <a:pt x="53" y="713"/>
                  <a:pt x="62" y="686"/>
                </a:cubicBezTo>
                <a:cubicBezTo>
                  <a:pt x="72" y="658"/>
                  <a:pt x="93" y="647"/>
                  <a:pt x="106" y="614"/>
                </a:cubicBezTo>
                <a:cubicBezTo>
                  <a:pt x="120" y="581"/>
                  <a:pt x="136" y="542"/>
                  <a:pt x="139" y="487"/>
                </a:cubicBezTo>
                <a:cubicBezTo>
                  <a:pt x="142" y="433"/>
                  <a:pt x="142" y="350"/>
                  <a:pt x="123" y="288"/>
                </a:cubicBezTo>
                <a:cubicBezTo>
                  <a:pt x="105" y="227"/>
                  <a:pt x="39" y="164"/>
                  <a:pt x="25" y="1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78120" y="480960"/>
            <a:ext cx="744480" cy="1538280"/>
          </a:xfrm>
          <a:custGeom>
            <a:avLst/>
            <a:gdLst/>
            <a:ahLst/>
            <a:rect l="l" t="t" r="r" b="b"/>
            <a:pathLst>
              <a:path w="522" h="987">
                <a:moveTo>
                  <a:pt x="17" y="133"/>
                </a:moveTo>
                <a:cubicBezTo>
                  <a:pt x="0" y="93"/>
                  <a:pt x="9" y="75"/>
                  <a:pt x="16" y="54"/>
                </a:cubicBezTo>
                <a:cubicBezTo>
                  <a:pt x="22" y="33"/>
                  <a:pt x="40" y="15"/>
                  <a:pt x="58" y="8"/>
                </a:cubicBezTo>
                <a:cubicBezTo>
                  <a:pt x="76" y="0"/>
                  <a:pt x="100" y="3"/>
                  <a:pt x="124" y="13"/>
                </a:cubicBezTo>
                <a:cubicBezTo>
                  <a:pt x="148" y="22"/>
                  <a:pt x="170" y="56"/>
                  <a:pt x="203" y="64"/>
                </a:cubicBezTo>
                <a:cubicBezTo>
                  <a:pt x="236" y="72"/>
                  <a:pt x="278" y="66"/>
                  <a:pt x="322" y="61"/>
                </a:cubicBezTo>
                <a:cubicBezTo>
                  <a:pt x="366" y="56"/>
                  <a:pt x="433" y="31"/>
                  <a:pt x="464" y="34"/>
                </a:cubicBezTo>
                <a:cubicBezTo>
                  <a:pt x="495" y="37"/>
                  <a:pt x="502" y="60"/>
                  <a:pt x="509" y="81"/>
                </a:cubicBezTo>
                <a:cubicBezTo>
                  <a:pt x="516" y="102"/>
                  <a:pt x="522" y="131"/>
                  <a:pt x="507" y="162"/>
                </a:cubicBezTo>
                <a:cubicBezTo>
                  <a:pt x="492" y="193"/>
                  <a:pt x="439" y="232"/>
                  <a:pt x="417" y="267"/>
                </a:cubicBezTo>
                <a:cubicBezTo>
                  <a:pt x="395" y="302"/>
                  <a:pt x="379" y="345"/>
                  <a:pt x="377" y="372"/>
                </a:cubicBezTo>
                <a:cubicBezTo>
                  <a:pt x="375" y="399"/>
                  <a:pt x="395" y="408"/>
                  <a:pt x="404" y="430"/>
                </a:cubicBezTo>
                <a:cubicBezTo>
                  <a:pt x="413" y="452"/>
                  <a:pt x="429" y="476"/>
                  <a:pt x="429" y="504"/>
                </a:cubicBezTo>
                <a:cubicBezTo>
                  <a:pt x="429" y="532"/>
                  <a:pt x="403" y="571"/>
                  <a:pt x="402" y="600"/>
                </a:cubicBezTo>
                <a:cubicBezTo>
                  <a:pt x="401" y="629"/>
                  <a:pt x="413" y="656"/>
                  <a:pt x="426" y="678"/>
                </a:cubicBezTo>
                <a:cubicBezTo>
                  <a:pt x="439" y="700"/>
                  <a:pt x="469" y="715"/>
                  <a:pt x="482" y="735"/>
                </a:cubicBezTo>
                <a:cubicBezTo>
                  <a:pt x="495" y="755"/>
                  <a:pt x="510" y="771"/>
                  <a:pt x="507" y="799"/>
                </a:cubicBezTo>
                <a:cubicBezTo>
                  <a:pt x="504" y="827"/>
                  <a:pt x="489" y="873"/>
                  <a:pt x="465" y="901"/>
                </a:cubicBezTo>
                <a:cubicBezTo>
                  <a:pt x="441" y="929"/>
                  <a:pt x="403" y="957"/>
                  <a:pt x="363" y="969"/>
                </a:cubicBezTo>
                <a:cubicBezTo>
                  <a:pt x="323" y="981"/>
                  <a:pt x="267" y="987"/>
                  <a:pt x="224" y="975"/>
                </a:cubicBezTo>
                <a:cubicBezTo>
                  <a:pt x="181" y="963"/>
                  <a:pt x="137" y="926"/>
                  <a:pt x="107" y="895"/>
                </a:cubicBezTo>
                <a:cubicBezTo>
                  <a:pt x="77" y="864"/>
                  <a:pt x="51" y="821"/>
                  <a:pt x="43" y="788"/>
                </a:cubicBezTo>
                <a:cubicBezTo>
                  <a:pt x="34" y="755"/>
                  <a:pt x="45" y="725"/>
                  <a:pt x="54" y="698"/>
                </a:cubicBezTo>
                <a:cubicBezTo>
                  <a:pt x="64" y="671"/>
                  <a:pt x="85" y="660"/>
                  <a:pt x="98" y="626"/>
                </a:cubicBezTo>
                <a:cubicBezTo>
                  <a:pt x="112" y="593"/>
                  <a:pt x="128" y="554"/>
                  <a:pt x="131" y="500"/>
                </a:cubicBezTo>
                <a:cubicBezTo>
                  <a:pt x="134" y="446"/>
                  <a:pt x="134" y="362"/>
                  <a:pt x="115" y="301"/>
                </a:cubicBezTo>
                <a:cubicBezTo>
                  <a:pt x="97" y="240"/>
                  <a:pt x="31" y="176"/>
                  <a:pt x="17" y="13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319560" y="760320"/>
            <a:ext cx="124920" cy="339840"/>
            <a:chOff x="3319560" y="760320"/>
            <a:chExt cx="124920" cy="339840"/>
          </a:xfrm>
        </p:grpSpPr>
        <p:sp>
          <p:nvSpPr>
            <p:cNvPr id="832" name=""/>
            <p:cNvSpPr/>
            <p:nvPr/>
          </p:nvSpPr>
          <p:spPr>
            <a:xfrm>
              <a:off x="3337560" y="760320"/>
              <a:ext cx="106920" cy="339840"/>
            </a:xfrm>
            <a:custGeom>
              <a:avLst/>
              <a:gdLst/>
              <a:ahLst/>
              <a:rect l="l" t="t" r="r" b="b"/>
              <a:pathLst>
                <a:path w="102" h="302">
                  <a:moveTo>
                    <a:pt x="5" y="23"/>
                  </a:moveTo>
                  <a:cubicBezTo>
                    <a:pt x="9" y="8"/>
                    <a:pt x="22" y="4"/>
                    <a:pt x="33" y="2"/>
                  </a:cubicBezTo>
                  <a:cubicBezTo>
                    <a:pt x="44" y="0"/>
                    <a:pt x="64" y="3"/>
                    <a:pt x="74" y="11"/>
                  </a:cubicBezTo>
                  <a:cubicBezTo>
                    <a:pt x="84" y="19"/>
                    <a:pt x="90" y="38"/>
                    <a:pt x="95" y="52"/>
                  </a:cubicBezTo>
                  <a:cubicBezTo>
                    <a:pt x="100" y="66"/>
                    <a:pt x="100" y="83"/>
                    <a:pt x="101" y="97"/>
                  </a:cubicBezTo>
                  <a:cubicBezTo>
                    <a:pt x="102" y="111"/>
                    <a:pt x="102" y="126"/>
                    <a:pt x="99" y="137"/>
                  </a:cubicBezTo>
                  <a:cubicBezTo>
                    <a:pt x="96" y="148"/>
                    <a:pt x="85" y="154"/>
                    <a:pt x="81" y="166"/>
                  </a:cubicBezTo>
                  <a:cubicBezTo>
                    <a:pt x="77" y="178"/>
                    <a:pt x="78" y="192"/>
                    <a:pt x="75" y="208"/>
                  </a:cubicBezTo>
                  <a:cubicBezTo>
                    <a:pt x="72" y="224"/>
                    <a:pt x="73" y="248"/>
                    <a:pt x="65" y="263"/>
                  </a:cubicBezTo>
                  <a:cubicBezTo>
                    <a:pt x="57" y="278"/>
                    <a:pt x="34" y="302"/>
                    <a:pt x="25" y="300"/>
                  </a:cubicBezTo>
                  <a:cubicBezTo>
                    <a:pt x="16" y="298"/>
                    <a:pt x="12" y="273"/>
                    <a:pt x="8" y="253"/>
                  </a:cubicBezTo>
                  <a:cubicBezTo>
                    <a:pt x="3" y="232"/>
                    <a:pt x="2" y="198"/>
                    <a:pt x="1" y="177"/>
                  </a:cubicBezTo>
                  <a:cubicBezTo>
                    <a:pt x="0" y="157"/>
                    <a:pt x="1" y="144"/>
                    <a:pt x="3" y="129"/>
                  </a:cubicBezTo>
                  <a:cubicBezTo>
                    <a:pt x="5" y="114"/>
                    <a:pt x="10" y="108"/>
                    <a:pt x="11" y="90"/>
                  </a:cubicBezTo>
                  <a:cubicBezTo>
                    <a:pt x="11" y="73"/>
                    <a:pt x="3" y="38"/>
                    <a:pt x="5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d78a3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19560" y="772560"/>
              <a:ext cx="98280" cy="325800"/>
            </a:xfrm>
            <a:custGeom>
              <a:avLst/>
              <a:gdLst/>
              <a:ahLst/>
              <a:rect l="l" t="t" r="r" b="b"/>
              <a:pathLst>
                <a:path w="94" h="291">
                  <a:moveTo>
                    <a:pt x="35" y="0"/>
                  </a:moveTo>
                  <a:cubicBezTo>
                    <a:pt x="39" y="0"/>
                    <a:pt x="42" y="1"/>
                    <a:pt x="47" y="2"/>
                  </a:cubicBezTo>
                  <a:cubicBezTo>
                    <a:pt x="52" y="3"/>
                    <a:pt x="60" y="5"/>
                    <a:pt x="66" y="9"/>
                  </a:cubicBezTo>
                  <a:cubicBezTo>
                    <a:pt x="72" y="13"/>
                    <a:pt x="79" y="16"/>
                    <a:pt x="83" y="28"/>
                  </a:cubicBezTo>
                  <a:cubicBezTo>
                    <a:pt x="87" y="40"/>
                    <a:pt x="92" y="63"/>
                    <a:pt x="93" y="79"/>
                  </a:cubicBezTo>
                  <a:cubicBezTo>
                    <a:pt x="94" y="95"/>
                    <a:pt x="93" y="112"/>
                    <a:pt x="90" y="124"/>
                  </a:cubicBezTo>
                  <a:cubicBezTo>
                    <a:pt x="87" y="136"/>
                    <a:pt x="75" y="140"/>
                    <a:pt x="73" y="154"/>
                  </a:cubicBezTo>
                  <a:cubicBezTo>
                    <a:pt x="71" y="168"/>
                    <a:pt x="78" y="192"/>
                    <a:pt x="77" y="209"/>
                  </a:cubicBezTo>
                  <a:cubicBezTo>
                    <a:pt x="76" y="226"/>
                    <a:pt x="72" y="242"/>
                    <a:pt x="67" y="255"/>
                  </a:cubicBezTo>
                  <a:cubicBezTo>
                    <a:pt x="63" y="268"/>
                    <a:pt x="54" y="281"/>
                    <a:pt x="48" y="286"/>
                  </a:cubicBezTo>
                  <a:cubicBezTo>
                    <a:pt x="42" y="291"/>
                    <a:pt x="37" y="290"/>
                    <a:pt x="31" y="283"/>
                  </a:cubicBezTo>
                  <a:cubicBezTo>
                    <a:pt x="25" y="275"/>
                    <a:pt x="17" y="257"/>
                    <a:pt x="12" y="240"/>
                  </a:cubicBezTo>
                  <a:cubicBezTo>
                    <a:pt x="7" y="223"/>
                    <a:pt x="3" y="200"/>
                    <a:pt x="1" y="183"/>
                  </a:cubicBezTo>
                  <a:cubicBezTo>
                    <a:pt x="0" y="165"/>
                    <a:pt x="2" y="149"/>
                    <a:pt x="3" y="135"/>
                  </a:cubicBezTo>
                  <a:cubicBezTo>
                    <a:pt x="5" y="120"/>
                    <a:pt x="8" y="114"/>
                    <a:pt x="10" y="96"/>
                  </a:cubicBezTo>
                  <a:cubicBezTo>
                    <a:pt x="13" y="78"/>
                    <a:pt x="13" y="43"/>
                    <a:pt x="16" y="28"/>
                  </a:cubicBezTo>
                  <a:cubicBezTo>
                    <a:pt x="18" y="13"/>
                    <a:pt x="23" y="10"/>
                    <a:pt x="26" y="5"/>
                  </a:cubicBezTo>
                  <a:cubicBezTo>
                    <a:pt x="29" y="1"/>
                    <a:pt x="31" y="1"/>
                    <a:pt x="3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721400" y="1455480"/>
            <a:ext cx="124920" cy="338040"/>
            <a:chOff x="4721400" y="1455480"/>
            <a:chExt cx="124920" cy="338040"/>
          </a:xfrm>
        </p:grpSpPr>
        <p:sp>
          <p:nvSpPr>
            <p:cNvPr id="835" name=""/>
            <p:cNvSpPr/>
            <p:nvPr/>
          </p:nvSpPr>
          <p:spPr>
            <a:xfrm flipV="1">
              <a:off x="4739760" y="1455120"/>
              <a:ext cx="106560" cy="338040"/>
            </a:xfrm>
            <a:custGeom>
              <a:avLst/>
              <a:gdLst/>
              <a:ahLst/>
              <a:rect l="l" t="t" r="r" b="b"/>
              <a:pathLst>
                <a:path w="102" h="302">
                  <a:moveTo>
                    <a:pt x="5" y="23"/>
                  </a:moveTo>
                  <a:cubicBezTo>
                    <a:pt x="9" y="8"/>
                    <a:pt x="22" y="4"/>
                    <a:pt x="33" y="2"/>
                  </a:cubicBezTo>
                  <a:cubicBezTo>
                    <a:pt x="44" y="0"/>
                    <a:pt x="64" y="3"/>
                    <a:pt x="74" y="11"/>
                  </a:cubicBezTo>
                  <a:cubicBezTo>
                    <a:pt x="84" y="19"/>
                    <a:pt x="90" y="38"/>
                    <a:pt x="95" y="52"/>
                  </a:cubicBezTo>
                  <a:cubicBezTo>
                    <a:pt x="100" y="66"/>
                    <a:pt x="100" y="83"/>
                    <a:pt x="101" y="97"/>
                  </a:cubicBezTo>
                  <a:cubicBezTo>
                    <a:pt x="102" y="111"/>
                    <a:pt x="102" y="126"/>
                    <a:pt x="99" y="137"/>
                  </a:cubicBezTo>
                  <a:cubicBezTo>
                    <a:pt x="96" y="148"/>
                    <a:pt x="85" y="154"/>
                    <a:pt x="81" y="166"/>
                  </a:cubicBezTo>
                  <a:cubicBezTo>
                    <a:pt x="77" y="178"/>
                    <a:pt x="78" y="192"/>
                    <a:pt x="75" y="208"/>
                  </a:cubicBezTo>
                  <a:cubicBezTo>
                    <a:pt x="72" y="224"/>
                    <a:pt x="73" y="248"/>
                    <a:pt x="65" y="263"/>
                  </a:cubicBezTo>
                  <a:cubicBezTo>
                    <a:pt x="57" y="278"/>
                    <a:pt x="34" y="302"/>
                    <a:pt x="25" y="300"/>
                  </a:cubicBezTo>
                  <a:cubicBezTo>
                    <a:pt x="16" y="298"/>
                    <a:pt x="12" y="273"/>
                    <a:pt x="8" y="253"/>
                  </a:cubicBezTo>
                  <a:cubicBezTo>
                    <a:pt x="3" y="232"/>
                    <a:pt x="2" y="198"/>
                    <a:pt x="1" y="177"/>
                  </a:cubicBezTo>
                  <a:cubicBezTo>
                    <a:pt x="0" y="157"/>
                    <a:pt x="1" y="144"/>
                    <a:pt x="3" y="129"/>
                  </a:cubicBezTo>
                  <a:cubicBezTo>
                    <a:pt x="5" y="114"/>
                    <a:pt x="10" y="108"/>
                    <a:pt x="11" y="90"/>
                  </a:cubicBezTo>
                  <a:cubicBezTo>
                    <a:pt x="11" y="73"/>
                    <a:pt x="3" y="38"/>
                    <a:pt x="5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d78a3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721400" y="1456920"/>
              <a:ext cx="97200" cy="325440"/>
            </a:xfrm>
            <a:custGeom>
              <a:avLst/>
              <a:gdLst/>
              <a:ahLst/>
              <a:rect l="l" t="t" r="r" b="b"/>
              <a:pathLst>
                <a:path w="94" h="291">
                  <a:moveTo>
                    <a:pt x="35" y="0"/>
                  </a:moveTo>
                  <a:cubicBezTo>
                    <a:pt x="39" y="0"/>
                    <a:pt x="42" y="1"/>
                    <a:pt x="47" y="2"/>
                  </a:cubicBezTo>
                  <a:cubicBezTo>
                    <a:pt x="52" y="3"/>
                    <a:pt x="60" y="5"/>
                    <a:pt x="66" y="9"/>
                  </a:cubicBezTo>
                  <a:cubicBezTo>
                    <a:pt x="72" y="13"/>
                    <a:pt x="79" y="16"/>
                    <a:pt x="83" y="28"/>
                  </a:cubicBezTo>
                  <a:cubicBezTo>
                    <a:pt x="87" y="40"/>
                    <a:pt x="92" y="63"/>
                    <a:pt x="93" y="79"/>
                  </a:cubicBezTo>
                  <a:cubicBezTo>
                    <a:pt x="94" y="95"/>
                    <a:pt x="93" y="112"/>
                    <a:pt x="90" y="124"/>
                  </a:cubicBezTo>
                  <a:cubicBezTo>
                    <a:pt x="87" y="136"/>
                    <a:pt x="75" y="140"/>
                    <a:pt x="73" y="154"/>
                  </a:cubicBezTo>
                  <a:cubicBezTo>
                    <a:pt x="71" y="168"/>
                    <a:pt x="78" y="192"/>
                    <a:pt x="77" y="209"/>
                  </a:cubicBezTo>
                  <a:cubicBezTo>
                    <a:pt x="76" y="226"/>
                    <a:pt x="72" y="242"/>
                    <a:pt x="67" y="255"/>
                  </a:cubicBezTo>
                  <a:cubicBezTo>
                    <a:pt x="63" y="268"/>
                    <a:pt x="54" y="281"/>
                    <a:pt x="48" y="286"/>
                  </a:cubicBezTo>
                  <a:cubicBezTo>
                    <a:pt x="42" y="291"/>
                    <a:pt x="37" y="290"/>
                    <a:pt x="31" y="283"/>
                  </a:cubicBezTo>
                  <a:cubicBezTo>
                    <a:pt x="25" y="275"/>
                    <a:pt x="17" y="257"/>
                    <a:pt x="12" y="240"/>
                  </a:cubicBezTo>
                  <a:cubicBezTo>
                    <a:pt x="7" y="223"/>
                    <a:pt x="3" y="200"/>
                    <a:pt x="1" y="183"/>
                  </a:cubicBezTo>
                  <a:cubicBezTo>
                    <a:pt x="0" y="165"/>
                    <a:pt x="2" y="149"/>
                    <a:pt x="3" y="135"/>
                  </a:cubicBezTo>
                  <a:cubicBezTo>
                    <a:pt x="5" y="120"/>
                    <a:pt x="8" y="114"/>
                    <a:pt x="10" y="96"/>
                  </a:cubicBezTo>
                  <a:cubicBezTo>
                    <a:pt x="13" y="78"/>
                    <a:pt x="13" y="43"/>
                    <a:pt x="16" y="28"/>
                  </a:cubicBezTo>
                  <a:cubicBezTo>
                    <a:pt x="18" y="13"/>
                    <a:pt x="23" y="10"/>
                    <a:pt x="26" y="5"/>
                  </a:cubicBezTo>
                  <a:cubicBezTo>
                    <a:pt x="29" y="1"/>
                    <a:pt x="31" y="1"/>
                    <a:pt x="35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820880" y="1496880"/>
            <a:ext cx="153720" cy="336240"/>
            <a:chOff x="1820880" y="1496880"/>
            <a:chExt cx="153720" cy="336240"/>
          </a:xfrm>
        </p:grpSpPr>
        <p:sp>
          <p:nvSpPr>
            <p:cNvPr id="838" name=""/>
            <p:cNvSpPr/>
            <p:nvPr/>
          </p:nvSpPr>
          <p:spPr>
            <a:xfrm flipV="1">
              <a:off x="1832400" y="1498320"/>
              <a:ext cx="142200" cy="334800"/>
            </a:xfrm>
            <a:custGeom>
              <a:avLst/>
              <a:gdLst/>
              <a:ahLst/>
              <a:rect l="l" t="t" r="r" b="b"/>
              <a:pathLst>
                <a:path w="118" h="306">
                  <a:moveTo>
                    <a:pt x="28" y="7"/>
                  </a:moveTo>
                  <a:cubicBezTo>
                    <a:pt x="38" y="2"/>
                    <a:pt x="50" y="0"/>
                    <a:pt x="62" y="1"/>
                  </a:cubicBezTo>
                  <a:cubicBezTo>
                    <a:pt x="74" y="2"/>
                    <a:pt x="89" y="5"/>
                    <a:pt x="98" y="16"/>
                  </a:cubicBezTo>
                  <a:cubicBezTo>
                    <a:pt x="107" y="27"/>
                    <a:pt x="118" y="48"/>
                    <a:pt x="118" y="65"/>
                  </a:cubicBezTo>
                  <a:cubicBezTo>
                    <a:pt x="118" y="82"/>
                    <a:pt x="104" y="102"/>
                    <a:pt x="98" y="118"/>
                  </a:cubicBezTo>
                  <a:cubicBezTo>
                    <a:pt x="92" y="134"/>
                    <a:pt x="81" y="148"/>
                    <a:pt x="83" y="163"/>
                  </a:cubicBezTo>
                  <a:cubicBezTo>
                    <a:pt x="85" y="178"/>
                    <a:pt x="103" y="191"/>
                    <a:pt x="107" y="206"/>
                  </a:cubicBezTo>
                  <a:cubicBezTo>
                    <a:pt x="111" y="221"/>
                    <a:pt x="118" y="239"/>
                    <a:pt x="109" y="256"/>
                  </a:cubicBezTo>
                  <a:cubicBezTo>
                    <a:pt x="100" y="273"/>
                    <a:pt x="66" y="306"/>
                    <a:pt x="54" y="306"/>
                  </a:cubicBezTo>
                  <a:cubicBezTo>
                    <a:pt x="42" y="306"/>
                    <a:pt x="41" y="279"/>
                    <a:pt x="37" y="259"/>
                  </a:cubicBezTo>
                  <a:cubicBezTo>
                    <a:pt x="32" y="238"/>
                    <a:pt x="31" y="204"/>
                    <a:pt x="30" y="183"/>
                  </a:cubicBezTo>
                  <a:cubicBezTo>
                    <a:pt x="29" y="163"/>
                    <a:pt x="37" y="160"/>
                    <a:pt x="32" y="135"/>
                  </a:cubicBezTo>
                  <a:cubicBezTo>
                    <a:pt x="27" y="110"/>
                    <a:pt x="2" y="53"/>
                    <a:pt x="1" y="32"/>
                  </a:cubicBezTo>
                  <a:cubicBezTo>
                    <a:pt x="0" y="11"/>
                    <a:pt x="18" y="12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d78a3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820880" y="1496880"/>
              <a:ext cx="123120" cy="318960"/>
            </a:xfrm>
            <a:custGeom>
              <a:avLst/>
              <a:gdLst/>
              <a:ahLst/>
              <a:rect l="l" t="t" r="r" b="b"/>
              <a:pathLst>
                <a:path w="102" h="292">
                  <a:moveTo>
                    <a:pt x="56" y="1"/>
                  </a:moveTo>
                  <a:cubicBezTo>
                    <a:pt x="60" y="1"/>
                    <a:pt x="62" y="0"/>
                    <a:pt x="68" y="3"/>
                  </a:cubicBezTo>
                  <a:cubicBezTo>
                    <a:pt x="74" y="6"/>
                    <a:pt x="87" y="12"/>
                    <a:pt x="92" y="20"/>
                  </a:cubicBezTo>
                  <a:cubicBezTo>
                    <a:pt x="97" y="28"/>
                    <a:pt x="102" y="39"/>
                    <a:pt x="101" y="52"/>
                  </a:cubicBezTo>
                  <a:cubicBezTo>
                    <a:pt x="100" y="65"/>
                    <a:pt x="88" y="81"/>
                    <a:pt x="84" y="97"/>
                  </a:cubicBezTo>
                  <a:cubicBezTo>
                    <a:pt x="80" y="113"/>
                    <a:pt x="77" y="136"/>
                    <a:pt x="77" y="149"/>
                  </a:cubicBezTo>
                  <a:cubicBezTo>
                    <a:pt x="77" y="162"/>
                    <a:pt x="81" y="166"/>
                    <a:pt x="84" y="176"/>
                  </a:cubicBezTo>
                  <a:cubicBezTo>
                    <a:pt x="87" y="186"/>
                    <a:pt x="97" y="197"/>
                    <a:pt x="98" y="210"/>
                  </a:cubicBezTo>
                  <a:cubicBezTo>
                    <a:pt x="99" y="223"/>
                    <a:pt x="93" y="243"/>
                    <a:pt x="88" y="256"/>
                  </a:cubicBezTo>
                  <a:cubicBezTo>
                    <a:pt x="84" y="269"/>
                    <a:pt x="75" y="282"/>
                    <a:pt x="69" y="287"/>
                  </a:cubicBezTo>
                  <a:cubicBezTo>
                    <a:pt x="63" y="292"/>
                    <a:pt x="58" y="291"/>
                    <a:pt x="52" y="284"/>
                  </a:cubicBezTo>
                  <a:cubicBezTo>
                    <a:pt x="46" y="276"/>
                    <a:pt x="38" y="258"/>
                    <a:pt x="33" y="241"/>
                  </a:cubicBezTo>
                  <a:cubicBezTo>
                    <a:pt x="28" y="224"/>
                    <a:pt x="24" y="201"/>
                    <a:pt x="22" y="184"/>
                  </a:cubicBezTo>
                  <a:cubicBezTo>
                    <a:pt x="21" y="166"/>
                    <a:pt x="27" y="153"/>
                    <a:pt x="24" y="136"/>
                  </a:cubicBezTo>
                  <a:cubicBezTo>
                    <a:pt x="21" y="119"/>
                    <a:pt x="6" y="101"/>
                    <a:pt x="3" y="82"/>
                  </a:cubicBezTo>
                  <a:cubicBezTo>
                    <a:pt x="0" y="63"/>
                    <a:pt x="4" y="32"/>
                    <a:pt x="8" y="19"/>
                  </a:cubicBezTo>
                  <a:cubicBezTo>
                    <a:pt x="12" y="6"/>
                    <a:pt x="21" y="7"/>
                    <a:pt x="29" y="4"/>
                  </a:cubicBezTo>
                  <a:cubicBezTo>
                    <a:pt x="37" y="1"/>
                    <a:pt x="51" y="2"/>
                    <a:pt x="56" y="1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rot="21364200">
            <a:off x="1591920" y="968400"/>
            <a:ext cx="1126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5065400">
            <a:off x="158796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 rot="21364200">
            <a:off x="1191600" y="1317240"/>
            <a:ext cx="11412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flipV="1" rot="15065400">
            <a:off x="1188360" y="1665360"/>
            <a:ext cx="120600" cy="11808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flipV="1" rot="21364200">
            <a:off x="1948680" y="1317240"/>
            <a:ext cx="11448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 rot="15065400">
            <a:off x="1945800" y="166464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21364200">
            <a:off x="2085480" y="968400"/>
            <a:ext cx="11124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065400">
            <a:off x="2081520" y="881640"/>
            <a:ext cx="120960" cy="1188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21364200">
            <a:off x="2968200" y="96804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5065400">
            <a:off x="296424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21364200">
            <a:off x="3219120" y="968040"/>
            <a:ext cx="11412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5065400">
            <a:off x="3216600" y="881640"/>
            <a:ext cx="120960" cy="1188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21364200">
            <a:off x="3723840" y="968040"/>
            <a:ext cx="1144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5065400">
            <a:off x="3721680" y="881280"/>
            <a:ext cx="120960" cy="1191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 rot="21364200">
            <a:off x="4841280" y="1313280"/>
            <a:ext cx="114120" cy="38160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 rot="15065400">
            <a:off x="4836960" y="166104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21364200">
            <a:off x="6743520" y="965160"/>
            <a:ext cx="110880" cy="38088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5065400">
            <a:off x="6741000" y="879840"/>
            <a:ext cx="119160" cy="1173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 rot="235800">
            <a:off x="6722640" y="1314360"/>
            <a:ext cx="111240" cy="381240"/>
          </a:xfrm>
          <a:custGeom>
            <a:avLst/>
            <a:gdLst/>
            <a:ahLst/>
            <a:rect l="l" t="t" r="r" b="b"/>
            <a:pathLst>
              <a:path w="86" h="291">
                <a:moveTo>
                  <a:pt x="72" y="6"/>
                </a:moveTo>
                <a:cubicBezTo>
                  <a:pt x="77" y="17"/>
                  <a:pt x="69" y="51"/>
                  <a:pt x="69" y="70"/>
                </a:cubicBezTo>
                <a:cubicBezTo>
                  <a:pt x="69" y="89"/>
                  <a:pt x="70" y="107"/>
                  <a:pt x="73" y="123"/>
                </a:cubicBezTo>
                <a:cubicBezTo>
                  <a:pt x="76" y="139"/>
                  <a:pt x="84" y="148"/>
                  <a:pt x="85" y="165"/>
                </a:cubicBezTo>
                <a:cubicBezTo>
                  <a:pt x="86" y="182"/>
                  <a:pt x="81" y="207"/>
                  <a:pt x="76" y="225"/>
                </a:cubicBezTo>
                <a:cubicBezTo>
                  <a:pt x="71" y="243"/>
                  <a:pt x="62" y="261"/>
                  <a:pt x="57" y="271"/>
                </a:cubicBezTo>
                <a:cubicBezTo>
                  <a:pt x="52" y="281"/>
                  <a:pt x="44" y="291"/>
                  <a:pt x="43" y="285"/>
                </a:cubicBezTo>
                <a:cubicBezTo>
                  <a:pt x="42" y="279"/>
                  <a:pt x="45" y="253"/>
                  <a:pt x="48" y="235"/>
                </a:cubicBezTo>
                <a:cubicBezTo>
                  <a:pt x="51" y="217"/>
                  <a:pt x="60" y="192"/>
                  <a:pt x="60" y="174"/>
                </a:cubicBezTo>
                <a:cubicBezTo>
                  <a:pt x="60" y="156"/>
                  <a:pt x="48" y="143"/>
                  <a:pt x="46" y="127"/>
                </a:cubicBezTo>
                <a:cubicBezTo>
                  <a:pt x="44" y="111"/>
                  <a:pt x="49" y="79"/>
                  <a:pt x="46" y="79"/>
                </a:cubicBezTo>
                <a:cubicBezTo>
                  <a:pt x="43" y="79"/>
                  <a:pt x="32" y="113"/>
                  <a:pt x="30" y="127"/>
                </a:cubicBezTo>
                <a:cubicBezTo>
                  <a:pt x="28" y="141"/>
                  <a:pt x="31" y="151"/>
                  <a:pt x="31" y="163"/>
                </a:cubicBezTo>
                <a:cubicBezTo>
                  <a:pt x="31" y="175"/>
                  <a:pt x="29" y="187"/>
                  <a:pt x="27" y="202"/>
                </a:cubicBezTo>
                <a:cubicBezTo>
                  <a:pt x="25" y="217"/>
                  <a:pt x="24" y="239"/>
                  <a:pt x="21" y="252"/>
                </a:cubicBezTo>
                <a:cubicBezTo>
                  <a:pt x="18" y="265"/>
                  <a:pt x="10" y="279"/>
                  <a:pt x="7" y="279"/>
                </a:cubicBezTo>
                <a:cubicBezTo>
                  <a:pt x="4" y="279"/>
                  <a:pt x="2" y="265"/>
                  <a:pt x="1" y="255"/>
                </a:cubicBezTo>
                <a:cubicBezTo>
                  <a:pt x="0" y="245"/>
                  <a:pt x="3" y="234"/>
                  <a:pt x="3" y="220"/>
                </a:cubicBezTo>
                <a:cubicBezTo>
                  <a:pt x="3" y="206"/>
                  <a:pt x="3" y="192"/>
                  <a:pt x="3" y="172"/>
                </a:cubicBezTo>
                <a:cubicBezTo>
                  <a:pt x="3" y="152"/>
                  <a:pt x="1" y="119"/>
                  <a:pt x="4" y="99"/>
                </a:cubicBezTo>
                <a:cubicBezTo>
                  <a:pt x="7" y="79"/>
                  <a:pt x="18" y="66"/>
                  <a:pt x="22" y="52"/>
                </a:cubicBezTo>
                <a:cubicBezTo>
                  <a:pt x="26" y="38"/>
                  <a:pt x="28" y="20"/>
                  <a:pt x="31" y="12"/>
                </a:cubicBezTo>
                <a:cubicBezTo>
                  <a:pt x="34" y="4"/>
                  <a:pt x="32" y="2"/>
                  <a:pt x="39" y="1"/>
                </a:cubicBezTo>
                <a:cubicBezTo>
                  <a:pt x="46" y="0"/>
                  <a:pt x="65" y="5"/>
                  <a:pt x="72" y="6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 rot="6534600">
            <a:off x="6718680" y="1661760"/>
            <a:ext cx="120600" cy="1195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20837400">
            <a:off x="2550600" y="3281040"/>
            <a:ext cx="789120" cy="1585800"/>
          </a:xfrm>
          <a:custGeom>
            <a:avLst/>
            <a:gdLst/>
            <a:ahLst/>
            <a:rect l="l" t="t" r="r" b="b"/>
            <a:pathLst>
              <a:path w="551" h="1017">
                <a:moveTo>
                  <a:pt x="25" y="121"/>
                </a:moveTo>
                <a:cubicBezTo>
                  <a:pt x="5" y="81"/>
                  <a:pt x="0" y="71"/>
                  <a:pt x="8" y="52"/>
                </a:cubicBezTo>
                <a:cubicBezTo>
                  <a:pt x="16" y="33"/>
                  <a:pt x="52" y="12"/>
                  <a:pt x="74" y="6"/>
                </a:cubicBezTo>
                <a:cubicBezTo>
                  <a:pt x="96" y="0"/>
                  <a:pt x="117" y="7"/>
                  <a:pt x="139" y="16"/>
                </a:cubicBezTo>
                <a:cubicBezTo>
                  <a:pt x="161" y="25"/>
                  <a:pt x="182" y="51"/>
                  <a:pt x="209" y="59"/>
                </a:cubicBezTo>
                <a:cubicBezTo>
                  <a:pt x="236" y="67"/>
                  <a:pt x="262" y="73"/>
                  <a:pt x="301" y="66"/>
                </a:cubicBezTo>
                <a:cubicBezTo>
                  <a:pt x="340" y="59"/>
                  <a:pt x="409" y="15"/>
                  <a:pt x="446" y="17"/>
                </a:cubicBezTo>
                <a:cubicBezTo>
                  <a:pt x="483" y="19"/>
                  <a:pt x="505" y="50"/>
                  <a:pt x="523" y="75"/>
                </a:cubicBezTo>
                <a:cubicBezTo>
                  <a:pt x="541" y="100"/>
                  <a:pt x="551" y="140"/>
                  <a:pt x="551" y="165"/>
                </a:cubicBezTo>
                <a:cubicBezTo>
                  <a:pt x="551" y="190"/>
                  <a:pt x="535" y="213"/>
                  <a:pt x="521" y="228"/>
                </a:cubicBezTo>
                <a:cubicBezTo>
                  <a:pt x="507" y="243"/>
                  <a:pt x="483" y="238"/>
                  <a:pt x="464" y="255"/>
                </a:cubicBezTo>
                <a:cubicBezTo>
                  <a:pt x="445" y="272"/>
                  <a:pt x="419" y="305"/>
                  <a:pt x="406" y="330"/>
                </a:cubicBezTo>
                <a:cubicBezTo>
                  <a:pt x="393" y="355"/>
                  <a:pt x="387" y="382"/>
                  <a:pt x="389" y="407"/>
                </a:cubicBezTo>
                <a:cubicBezTo>
                  <a:pt x="391" y="432"/>
                  <a:pt x="409" y="458"/>
                  <a:pt x="421" y="483"/>
                </a:cubicBezTo>
                <a:cubicBezTo>
                  <a:pt x="433" y="508"/>
                  <a:pt x="461" y="522"/>
                  <a:pt x="463" y="555"/>
                </a:cubicBezTo>
                <a:cubicBezTo>
                  <a:pt x="465" y="588"/>
                  <a:pt x="434" y="649"/>
                  <a:pt x="434" y="680"/>
                </a:cubicBezTo>
                <a:cubicBezTo>
                  <a:pt x="434" y="711"/>
                  <a:pt x="449" y="715"/>
                  <a:pt x="464" y="741"/>
                </a:cubicBezTo>
                <a:cubicBezTo>
                  <a:pt x="479" y="767"/>
                  <a:pt x="523" y="804"/>
                  <a:pt x="526" y="837"/>
                </a:cubicBezTo>
                <a:cubicBezTo>
                  <a:pt x="529" y="870"/>
                  <a:pt x="525" y="909"/>
                  <a:pt x="482" y="938"/>
                </a:cubicBezTo>
                <a:cubicBezTo>
                  <a:pt x="439" y="967"/>
                  <a:pt x="332" y="1017"/>
                  <a:pt x="266" y="1013"/>
                </a:cubicBezTo>
                <a:cubicBezTo>
                  <a:pt x="200" y="1009"/>
                  <a:pt x="124" y="957"/>
                  <a:pt x="88" y="916"/>
                </a:cubicBezTo>
                <a:cubicBezTo>
                  <a:pt x="52" y="876"/>
                  <a:pt x="55" y="815"/>
                  <a:pt x="51" y="776"/>
                </a:cubicBezTo>
                <a:cubicBezTo>
                  <a:pt x="46" y="737"/>
                  <a:pt x="53" y="713"/>
                  <a:pt x="62" y="686"/>
                </a:cubicBezTo>
                <a:cubicBezTo>
                  <a:pt x="72" y="658"/>
                  <a:pt x="93" y="647"/>
                  <a:pt x="106" y="614"/>
                </a:cubicBezTo>
                <a:cubicBezTo>
                  <a:pt x="120" y="581"/>
                  <a:pt x="136" y="542"/>
                  <a:pt x="139" y="487"/>
                </a:cubicBezTo>
                <a:cubicBezTo>
                  <a:pt x="142" y="433"/>
                  <a:pt x="142" y="350"/>
                  <a:pt x="123" y="288"/>
                </a:cubicBezTo>
                <a:cubicBezTo>
                  <a:pt x="105" y="227"/>
                  <a:pt x="39" y="164"/>
                  <a:pt x="25" y="1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20837400">
            <a:off x="2523600" y="3320640"/>
            <a:ext cx="746280" cy="1538280"/>
          </a:xfrm>
          <a:custGeom>
            <a:avLst/>
            <a:gdLst/>
            <a:ahLst/>
            <a:rect l="l" t="t" r="r" b="b"/>
            <a:pathLst>
              <a:path w="522" h="987">
                <a:moveTo>
                  <a:pt x="17" y="133"/>
                </a:moveTo>
                <a:cubicBezTo>
                  <a:pt x="0" y="93"/>
                  <a:pt x="9" y="75"/>
                  <a:pt x="16" y="54"/>
                </a:cubicBezTo>
                <a:cubicBezTo>
                  <a:pt x="22" y="33"/>
                  <a:pt x="40" y="15"/>
                  <a:pt x="58" y="8"/>
                </a:cubicBezTo>
                <a:cubicBezTo>
                  <a:pt x="76" y="0"/>
                  <a:pt x="100" y="3"/>
                  <a:pt x="124" y="13"/>
                </a:cubicBezTo>
                <a:cubicBezTo>
                  <a:pt x="148" y="22"/>
                  <a:pt x="170" y="56"/>
                  <a:pt x="203" y="64"/>
                </a:cubicBezTo>
                <a:cubicBezTo>
                  <a:pt x="236" y="72"/>
                  <a:pt x="278" y="66"/>
                  <a:pt x="322" y="61"/>
                </a:cubicBezTo>
                <a:cubicBezTo>
                  <a:pt x="366" y="56"/>
                  <a:pt x="433" y="31"/>
                  <a:pt x="464" y="34"/>
                </a:cubicBezTo>
                <a:cubicBezTo>
                  <a:pt x="495" y="37"/>
                  <a:pt x="502" y="60"/>
                  <a:pt x="509" y="81"/>
                </a:cubicBezTo>
                <a:cubicBezTo>
                  <a:pt x="516" y="102"/>
                  <a:pt x="522" y="131"/>
                  <a:pt x="507" y="162"/>
                </a:cubicBezTo>
                <a:cubicBezTo>
                  <a:pt x="492" y="193"/>
                  <a:pt x="439" y="232"/>
                  <a:pt x="417" y="267"/>
                </a:cubicBezTo>
                <a:cubicBezTo>
                  <a:pt x="395" y="302"/>
                  <a:pt x="379" y="345"/>
                  <a:pt x="377" y="372"/>
                </a:cubicBezTo>
                <a:cubicBezTo>
                  <a:pt x="375" y="399"/>
                  <a:pt x="395" y="408"/>
                  <a:pt x="404" y="430"/>
                </a:cubicBezTo>
                <a:cubicBezTo>
                  <a:pt x="413" y="452"/>
                  <a:pt x="429" y="476"/>
                  <a:pt x="429" y="504"/>
                </a:cubicBezTo>
                <a:cubicBezTo>
                  <a:pt x="429" y="532"/>
                  <a:pt x="403" y="571"/>
                  <a:pt x="402" y="600"/>
                </a:cubicBezTo>
                <a:cubicBezTo>
                  <a:pt x="401" y="629"/>
                  <a:pt x="413" y="656"/>
                  <a:pt x="426" y="678"/>
                </a:cubicBezTo>
                <a:cubicBezTo>
                  <a:pt x="439" y="700"/>
                  <a:pt x="469" y="715"/>
                  <a:pt x="482" y="735"/>
                </a:cubicBezTo>
                <a:cubicBezTo>
                  <a:pt x="495" y="755"/>
                  <a:pt x="510" y="771"/>
                  <a:pt x="507" y="799"/>
                </a:cubicBezTo>
                <a:cubicBezTo>
                  <a:pt x="504" y="827"/>
                  <a:pt x="489" y="873"/>
                  <a:pt x="465" y="901"/>
                </a:cubicBezTo>
                <a:cubicBezTo>
                  <a:pt x="441" y="929"/>
                  <a:pt x="403" y="957"/>
                  <a:pt x="363" y="969"/>
                </a:cubicBezTo>
                <a:cubicBezTo>
                  <a:pt x="323" y="981"/>
                  <a:pt x="267" y="987"/>
                  <a:pt x="224" y="975"/>
                </a:cubicBezTo>
                <a:cubicBezTo>
                  <a:pt x="181" y="963"/>
                  <a:pt x="137" y="926"/>
                  <a:pt x="107" y="895"/>
                </a:cubicBezTo>
                <a:cubicBezTo>
                  <a:pt x="77" y="864"/>
                  <a:pt x="51" y="821"/>
                  <a:pt x="43" y="788"/>
                </a:cubicBezTo>
                <a:cubicBezTo>
                  <a:pt x="34" y="755"/>
                  <a:pt x="45" y="725"/>
                  <a:pt x="54" y="698"/>
                </a:cubicBezTo>
                <a:cubicBezTo>
                  <a:pt x="64" y="671"/>
                  <a:pt x="85" y="660"/>
                  <a:pt x="98" y="626"/>
                </a:cubicBezTo>
                <a:cubicBezTo>
                  <a:pt x="112" y="593"/>
                  <a:pt x="128" y="554"/>
                  <a:pt x="131" y="500"/>
                </a:cubicBezTo>
                <a:cubicBezTo>
                  <a:pt x="134" y="446"/>
                  <a:pt x="134" y="362"/>
                  <a:pt x="115" y="301"/>
                </a:cubicBezTo>
                <a:cubicBezTo>
                  <a:pt x="97" y="240"/>
                  <a:pt x="31" y="176"/>
                  <a:pt x="17" y="13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136240" y="3648240"/>
            <a:ext cx="657720" cy="1055880"/>
            <a:chOff x="2136240" y="3648240"/>
            <a:chExt cx="657720" cy="1055880"/>
          </a:xfrm>
        </p:grpSpPr>
        <p:sp>
          <p:nvSpPr>
            <p:cNvPr id="863" name=""/>
            <p:cNvSpPr/>
            <p:nvPr/>
          </p:nvSpPr>
          <p:spPr>
            <a:xfrm rot="14532000">
              <a:off x="2224800" y="4508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4532000">
              <a:off x="2207880" y="44215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4532000">
              <a:off x="2190600" y="433188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4532000">
              <a:off x="2174760" y="424260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4532000">
              <a:off x="2159640" y="41544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14532000">
              <a:off x="2277360" y="4543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4532000">
              <a:off x="2260800" y="4455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14532000">
              <a:off x="2243160" y="436644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4532000">
              <a:off x="2229480" y="427860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4532000">
              <a:off x="2212200" y="41904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4532000">
              <a:off x="2156760" y="404892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4532000">
              <a:off x="2163600" y="39272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4532000">
              <a:off x="2193120" y="38718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4532000">
              <a:off x="2253960" y="37976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4532000">
              <a:off x="2308320" y="371952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4532000">
              <a:off x="2203200" y="410904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4532000">
              <a:off x="2233440" y="405144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4532000">
              <a:off x="2222280" y="395496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4532000">
              <a:off x="2338560" y="456372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5195600">
              <a:off x="2600280" y="430308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5195600">
              <a:off x="2351520" y="44755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5326400">
              <a:off x="2585880" y="421776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5326400">
              <a:off x="2333520" y="43808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6777800">
              <a:off x="2553840" y="38851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6777800">
              <a:off x="2296800" y="39546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7168400">
              <a:off x="2536920" y="38019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7168400">
              <a:off x="2286360" y="38480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7898000">
              <a:off x="2565360" y="376272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7898000">
              <a:off x="2334600" y="3763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8834000">
              <a:off x="2593440" y="372420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8834000">
              <a:off x="2396880" y="36727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5715800">
              <a:off x="2541600" y="404964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5715800">
              <a:off x="2282400" y="41886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15421800">
              <a:off x="2570400" y="41317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5421800">
              <a:off x="2315160" y="42886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6162800">
              <a:off x="2552400" y="396288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62800">
              <a:off x="2292480" y="4073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4908200">
              <a:off x="2544480" y="434556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4908200">
              <a:off x="2300760" y="4534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4908200">
              <a:off x="2333520" y="453852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5572400">
              <a:off x="2541960" y="426924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5572400">
              <a:off x="2285640" y="4413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5572400">
              <a:off x="2318760" y="442476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5703200">
              <a:off x="2535480" y="418140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5703200">
              <a:off x="2277720" y="43200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5703200">
              <a:off x="2311200" y="432756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7154600">
              <a:off x="2541240" y="38476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7154600">
              <a:off x="2288880" y="389088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7154600">
              <a:off x="2321640" y="3907800"/>
              <a:ext cx="9504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7544600">
              <a:off x="2530800" y="37648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7544600">
              <a:off x="2288160" y="378252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7544600">
              <a:off x="2318400" y="380268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274200">
              <a:off x="2566800" y="372564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8274200">
              <a:off x="2347560" y="37065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8274200">
              <a:off x="2376000" y="3727440"/>
              <a:ext cx="964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6092000">
              <a:off x="2509920" y="4011120"/>
              <a:ext cx="540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6092000">
              <a:off x="2250720" y="412092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6092000">
              <a:off x="2283120" y="413388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5798600">
              <a:off x="2529720" y="409500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5798600">
              <a:off x="2271240" y="422532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15798600">
              <a:off x="2304000" y="4234680"/>
              <a:ext cx="9504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539000">
              <a:off x="2530080" y="39254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6539000">
              <a:off x="2271240" y="400680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539000">
              <a:off x="2304720" y="402084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2988360" y="3442680"/>
            <a:ext cx="794160" cy="1098000"/>
            <a:chOff x="2988360" y="3442680"/>
            <a:chExt cx="794160" cy="1098000"/>
          </a:xfrm>
        </p:grpSpPr>
        <p:sp>
          <p:nvSpPr>
            <p:cNvPr id="928" name=""/>
            <p:cNvSpPr/>
            <p:nvPr/>
          </p:nvSpPr>
          <p:spPr>
            <a:xfrm rot="3129600">
              <a:off x="3477240" y="35481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3129600">
              <a:off x="3510000" y="36316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3129600">
              <a:off x="3540600" y="37152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3129600">
              <a:off x="3571200" y="37990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3129600">
              <a:off x="3602160" y="3882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129600">
              <a:off x="3420360" y="3521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3129600">
              <a:off x="3451320" y="36050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3129600">
              <a:off x="3483720" y="368892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3129600">
              <a:off x="3513960" y="37735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3129600">
              <a:off x="3544920" y="38563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3129600">
              <a:off x="3623400" y="398736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3129600">
              <a:off x="3638880" y="410796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3129600">
              <a:off x="3618360" y="41673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3129600">
              <a:off x="3573000" y="4252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3129600">
              <a:off x="3533760" y="43380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3129600">
              <a:off x="3573720" y="393840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3129600">
              <a:off x="3574080" y="400752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3129600">
              <a:off x="3576240" y="4090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3129600">
              <a:off x="3355200" y="35132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3793800">
              <a:off x="3357720" y="3602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3924600">
              <a:off x="3392280" y="36925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5375400">
              <a:off x="3502440" y="41050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5766000">
              <a:off x="3532320" y="42080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6495600">
              <a:off x="3318840" y="412308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6495600">
              <a:off x="3498480" y="429912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7431600">
              <a:off x="3452040" y="4397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4314000">
              <a:off x="3475440" y="387108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4018800">
              <a:off x="3425760" y="37800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4761000">
              <a:off x="3486240" y="3988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3129600">
              <a:off x="3166560" y="3524760"/>
              <a:ext cx="5220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3793800">
              <a:off x="3189960" y="359820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3924600">
              <a:off x="3220200" y="3681000"/>
              <a:ext cx="5220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5375400">
              <a:off x="3311280" y="400176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5766000">
              <a:off x="3342240" y="40791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7431600">
              <a:off x="3299400" y="41655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314000">
              <a:off x="3293640" y="383760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018800">
              <a:off x="3251160" y="37627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761000">
              <a:off x="3299040" y="39247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3129600">
              <a:off x="3109320" y="349920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3793800">
              <a:off x="3133440" y="35726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3924600">
              <a:off x="3162960" y="365508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375400">
              <a:off x="3254040" y="39754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5766000">
              <a:off x="3285000" y="405288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6495600">
              <a:off x="3261600" y="40971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7431600">
              <a:off x="3242160" y="413964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314000">
              <a:off x="3236760" y="381132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018800">
              <a:off x="3194280" y="37371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761000">
              <a:off x="3240720" y="389916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29600">
              <a:off x="3252960" y="34664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3129600">
              <a:off x="3247920" y="3489840"/>
              <a:ext cx="9468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3793800">
              <a:off x="3300840" y="35762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3793800">
              <a:off x="3293280" y="359676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3924600">
              <a:off x="3335400" y="3666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3924600">
              <a:off x="3328920" y="3685320"/>
              <a:ext cx="943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5375400">
              <a:off x="3445560" y="40784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5375400">
              <a:off x="3435480" y="409032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5766000">
              <a:off x="3474720" y="418212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5766000">
              <a:off x="3465000" y="41911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6495600">
              <a:off x="3441600" y="42732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6495600">
              <a:off x="3434040" y="427968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7431600">
              <a:off x="3394800" y="43718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7431600">
              <a:off x="3389760" y="4372200"/>
              <a:ext cx="96120" cy="9468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314000">
              <a:off x="3418560" y="3844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314000">
              <a:off x="3409920" y="38635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4018800">
              <a:off x="3368880" y="3753720"/>
              <a:ext cx="1180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4018800">
              <a:off x="3360960" y="3773520"/>
              <a:ext cx="9468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4761000">
              <a:off x="3429000" y="39625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4761000">
              <a:off x="3419640" y="3977280"/>
              <a:ext cx="9648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 rot="19572600">
            <a:off x="549000" y="3147840"/>
            <a:ext cx="614160" cy="1317960"/>
          </a:xfrm>
          <a:custGeom>
            <a:avLst/>
            <a:gdLst/>
            <a:ahLst/>
            <a:rect l="l" t="t" r="r" b="b"/>
            <a:pathLst>
              <a:path w="421" h="904">
                <a:moveTo>
                  <a:pt x="151" y="706"/>
                </a:moveTo>
                <a:cubicBezTo>
                  <a:pt x="162" y="771"/>
                  <a:pt x="175" y="864"/>
                  <a:pt x="195" y="884"/>
                </a:cubicBezTo>
                <a:cubicBezTo>
                  <a:pt x="215" y="904"/>
                  <a:pt x="257" y="856"/>
                  <a:pt x="271" y="826"/>
                </a:cubicBezTo>
                <a:cubicBezTo>
                  <a:pt x="285" y="796"/>
                  <a:pt x="279" y="756"/>
                  <a:pt x="281" y="706"/>
                </a:cubicBezTo>
                <a:cubicBezTo>
                  <a:pt x="283" y="656"/>
                  <a:pt x="283" y="572"/>
                  <a:pt x="285" y="528"/>
                </a:cubicBezTo>
                <a:cubicBezTo>
                  <a:pt x="287" y="484"/>
                  <a:pt x="290" y="473"/>
                  <a:pt x="296" y="443"/>
                </a:cubicBezTo>
                <a:cubicBezTo>
                  <a:pt x="301" y="413"/>
                  <a:pt x="309" y="368"/>
                  <a:pt x="316" y="345"/>
                </a:cubicBezTo>
                <a:cubicBezTo>
                  <a:pt x="323" y="322"/>
                  <a:pt x="327" y="318"/>
                  <a:pt x="338" y="307"/>
                </a:cubicBezTo>
                <a:cubicBezTo>
                  <a:pt x="349" y="297"/>
                  <a:pt x="372" y="296"/>
                  <a:pt x="384" y="280"/>
                </a:cubicBezTo>
                <a:cubicBezTo>
                  <a:pt x="395" y="265"/>
                  <a:pt x="406" y="240"/>
                  <a:pt x="411" y="216"/>
                </a:cubicBezTo>
                <a:cubicBezTo>
                  <a:pt x="416" y="192"/>
                  <a:pt x="421" y="163"/>
                  <a:pt x="413" y="134"/>
                </a:cubicBezTo>
                <a:cubicBezTo>
                  <a:pt x="405" y="106"/>
                  <a:pt x="395" y="70"/>
                  <a:pt x="360" y="47"/>
                </a:cubicBezTo>
                <a:cubicBezTo>
                  <a:pt x="325" y="24"/>
                  <a:pt x="255" y="0"/>
                  <a:pt x="205" y="0"/>
                </a:cubicBezTo>
                <a:cubicBezTo>
                  <a:pt x="155" y="0"/>
                  <a:pt x="92" y="22"/>
                  <a:pt x="59" y="48"/>
                </a:cubicBezTo>
                <a:cubicBezTo>
                  <a:pt x="26" y="74"/>
                  <a:pt x="0" y="114"/>
                  <a:pt x="5" y="154"/>
                </a:cubicBezTo>
                <a:cubicBezTo>
                  <a:pt x="10" y="194"/>
                  <a:pt x="70" y="251"/>
                  <a:pt x="88" y="287"/>
                </a:cubicBezTo>
                <a:cubicBezTo>
                  <a:pt x="106" y="323"/>
                  <a:pt x="104" y="338"/>
                  <a:pt x="111" y="372"/>
                </a:cubicBezTo>
                <a:cubicBezTo>
                  <a:pt x="119" y="406"/>
                  <a:pt x="123" y="437"/>
                  <a:pt x="130" y="493"/>
                </a:cubicBezTo>
                <a:cubicBezTo>
                  <a:pt x="137" y="549"/>
                  <a:pt x="134" y="643"/>
                  <a:pt x="151" y="70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9572600">
            <a:off x="549360" y="3187440"/>
            <a:ext cx="550800" cy="1285920"/>
          </a:xfrm>
          <a:custGeom>
            <a:avLst/>
            <a:gdLst/>
            <a:ahLst/>
            <a:rect l="l" t="t" r="r" b="b"/>
            <a:pathLst>
              <a:path w="377" h="882">
                <a:moveTo>
                  <a:pt x="200" y="882"/>
                </a:moveTo>
                <a:cubicBezTo>
                  <a:pt x="217" y="882"/>
                  <a:pt x="241" y="870"/>
                  <a:pt x="254" y="848"/>
                </a:cubicBezTo>
                <a:cubicBezTo>
                  <a:pt x="267" y="826"/>
                  <a:pt x="272" y="814"/>
                  <a:pt x="276" y="752"/>
                </a:cubicBezTo>
                <a:cubicBezTo>
                  <a:pt x="280" y="690"/>
                  <a:pt x="277" y="548"/>
                  <a:pt x="281" y="475"/>
                </a:cubicBezTo>
                <a:cubicBezTo>
                  <a:pt x="285" y="402"/>
                  <a:pt x="287" y="351"/>
                  <a:pt x="299" y="312"/>
                </a:cubicBezTo>
                <a:cubicBezTo>
                  <a:pt x="312" y="274"/>
                  <a:pt x="343" y="272"/>
                  <a:pt x="356" y="244"/>
                </a:cubicBezTo>
                <a:cubicBezTo>
                  <a:pt x="369" y="215"/>
                  <a:pt x="377" y="172"/>
                  <a:pt x="376" y="143"/>
                </a:cubicBezTo>
                <a:cubicBezTo>
                  <a:pt x="375" y="113"/>
                  <a:pt x="373" y="88"/>
                  <a:pt x="352" y="67"/>
                </a:cubicBezTo>
                <a:cubicBezTo>
                  <a:pt x="332" y="45"/>
                  <a:pt x="288" y="23"/>
                  <a:pt x="255" y="12"/>
                </a:cubicBezTo>
                <a:cubicBezTo>
                  <a:pt x="221" y="2"/>
                  <a:pt x="182" y="0"/>
                  <a:pt x="148" y="7"/>
                </a:cubicBezTo>
                <a:cubicBezTo>
                  <a:pt x="114" y="14"/>
                  <a:pt x="72" y="34"/>
                  <a:pt x="48" y="56"/>
                </a:cubicBezTo>
                <a:cubicBezTo>
                  <a:pt x="24" y="78"/>
                  <a:pt x="8" y="111"/>
                  <a:pt x="4" y="142"/>
                </a:cubicBezTo>
                <a:cubicBezTo>
                  <a:pt x="0" y="173"/>
                  <a:pt x="12" y="214"/>
                  <a:pt x="26" y="242"/>
                </a:cubicBezTo>
                <a:cubicBezTo>
                  <a:pt x="40" y="270"/>
                  <a:pt x="73" y="274"/>
                  <a:pt x="89" y="308"/>
                </a:cubicBezTo>
                <a:cubicBezTo>
                  <a:pt x="105" y="342"/>
                  <a:pt x="115" y="374"/>
                  <a:pt x="122" y="446"/>
                </a:cubicBezTo>
                <a:cubicBezTo>
                  <a:pt x="129" y="518"/>
                  <a:pt x="123" y="673"/>
                  <a:pt x="128" y="740"/>
                </a:cubicBezTo>
                <a:cubicBezTo>
                  <a:pt x="133" y="807"/>
                  <a:pt x="140" y="824"/>
                  <a:pt x="152" y="848"/>
                </a:cubicBezTo>
                <a:cubicBezTo>
                  <a:pt x="164" y="872"/>
                  <a:pt x="183" y="882"/>
                  <a:pt x="200" y="88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82520" y="3682800"/>
            <a:ext cx="989280" cy="1155960"/>
            <a:chOff x="182520" y="3682800"/>
            <a:chExt cx="989280" cy="1155960"/>
          </a:xfrm>
        </p:grpSpPr>
        <p:sp>
          <p:nvSpPr>
            <p:cNvPr id="999" name=""/>
            <p:cNvSpPr/>
            <p:nvPr/>
          </p:nvSpPr>
          <p:spPr>
            <a:xfrm rot="11236200">
              <a:off x="777600" y="47120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1236200">
              <a:off x="838080" y="468900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1236200">
              <a:off x="689760" y="465372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11236200">
              <a:off x="593640" y="457884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1236200">
              <a:off x="564840" y="45230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1236200">
              <a:off x="540360" y="443016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1236200">
              <a:off x="765000" y="46504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1236200">
              <a:off x="734400" y="459144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1236200">
              <a:off x="649800" y="4546440"/>
              <a:ext cx="11988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3482000">
              <a:off x="886320" y="421596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3482000">
              <a:off x="693360" y="44845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3872600">
              <a:off x="807840" y="418248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3872600">
              <a:off x="599400" y="44312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2420000">
              <a:off x="1012680" y="432072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2420000">
              <a:off x="876600" y="462996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12867000">
              <a:off x="947880" y="426132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2867000">
              <a:off x="786960" y="45565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3858200">
              <a:off x="847800" y="420480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3858200">
              <a:off x="635760" y="44542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3858200">
              <a:off x="665280" y="445212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4248800">
              <a:off x="547920" y="43938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4248800">
              <a:off x="577080" y="439452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2796800">
              <a:off x="963000" y="4323240"/>
              <a:ext cx="5364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2796800">
              <a:off x="803520" y="46177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2796800">
              <a:off x="826200" y="461448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2502200">
              <a:off x="1042920" y="435708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2502200">
              <a:off x="900000" y="4660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2502200">
              <a:off x="921600" y="46540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3243200">
              <a:off x="904320" y="425808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3243200">
              <a:off x="721800" y="45356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13243200">
              <a:off x="747000" y="453096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2575400">
              <a:off x="572400" y="44881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2575400">
              <a:off x="511560" y="442332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2575400">
              <a:off x="448920" y="43581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2575400">
              <a:off x="388440" y="429156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2575400">
              <a:off x="327960" y="422532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2575400">
              <a:off x="636480" y="44892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2575400">
              <a:off x="573840" y="44244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2575400">
              <a:off x="511920" y="43585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2575400">
              <a:off x="453600" y="429192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2575400">
              <a:off x="391680" y="4228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2575400">
              <a:off x="268560" y="41385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2575400">
              <a:off x="209520" y="4032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12575400">
              <a:off x="204120" y="39690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2575400">
              <a:off x="216000" y="38736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12575400">
              <a:off x="219600" y="37796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2575400">
              <a:off x="340200" y="41648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2575400">
              <a:off x="334440" y="40978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2575400">
              <a:off x="272160" y="40233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2575400">
              <a:off x="699120" y="44730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3239000">
              <a:off x="842040" y="411444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3239000">
              <a:off x="662040" y="43909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3369200">
              <a:off x="782280" y="4048920"/>
              <a:ext cx="5220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3369200">
              <a:off x="595080" y="432180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4820600">
              <a:off x="578160" y="378648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4820600">
              <a:off x="336240" y="39826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5211800">
              <a:off x="518760" y="372672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5211800">
              <a:off x="269640" y="38991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5940800">
              <a:off x="522000" y="367848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5940800">
              <a:off x="264960" y="3802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6876800">
              <a:off x="524520" y="363096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6876800">
              <a:off x="268920" y="3693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3758600">
              <a:off x="656640" y="393300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3758600">
              <a:off x="448920" y="418788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3464600">
              <a:off x="723960" y="398592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3464600">
              <a:off x="531000" y="42537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4205600">
              <a:off x="618480" y="385380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4205600">
              <a:off x="395640" y="40849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2951000">
              <a:off x="816840" y="417996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2951000">
              <a:off x="650880" y="44686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2951000">
              <a:off x="675360" y="44632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3615200">
              <a:off x="774720" y="411624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3615200">
              <a:off x="573120" y="437544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3615200">
              <a:off x="600840" y="4375080"/>
              <a:ext cx="96120" cy="9504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3746000">
              <a:off x="722160" y="404676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3746000">
              <a:off x="515880" y="430092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3746000">
              <a:off x="543600" y="429804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5196800">
              <a:off x="546840" y="376272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5196800">
              <a:off x="294840" y="39333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5196800">
              <a:off x="326520" y="393840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5587400">
              <a:off x="493920" y="369720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5587400">
              <a:off x="235800" y="384264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5587400">
              <a:off x="267120" y="3852360"/>
              <a:ext cx="96120" cy="9504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317000">
              <a:off x="502920" y="36475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317000">
              <a:off x="245520" y="3747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317000">
              <a:off x="275400" y="375840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4135400">
              <a:off x="608040" y="3916440"/>
              <a:ext cx="540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4135400">
              <a:off x="387000" y="4147200"/>
              <a:ext cx="11916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4135400">
              <a:off x="414720" y="4149720"/>
              <a:ext cx="96120" cy="9504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3840800">
              <a:off x="669960" y="397620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3840800">
              <a:off x="459720" y="42246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3840800">
              <a:off x="487440" y="422352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4581800">
              <a:off x="579600" y="383328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4581800">
              <a:off x="342360" y="40420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4581800">
              <a:off x="373680" y="40435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824760" y="3271320"/>
            <a:ext cx="1006560" cy="1210680"/>
            <a:chOff x="824760" y="3271320"/>
            <a:chExt cx="1006560" cy="1210680"/>
          </a:xfrm>
        </p:grpSpPr>
        <p:sp>
          <p:nvSpPr>
            <p:cNvPr id="1095" name=""/>
            <p:cNvSpPr/>
            <p:nvPr/>
          </p:nvSpPr>
          <p:spPr>
            <a:xfrm rot="3224400">
              <a:off x="1632960" y="38491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3224400">
              <a:off x="1661040" y="39337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3224400">
              <a:off x="1689120" y="401508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3224400">
              <a:off x="1684800" y="408456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3224400">
              <a:off x="1686960" y="41673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5470200">
              <a:off x="1611360" y="41792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5860800">
              <a:off x="1638000" y="42840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6590400">
              <a:off x="1425600" y="4191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4408200">
              <a:off x="1591560" y="394488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4855200">
              <a:off x="1599480" y="40626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5470200">
              <a:off x="1420560" y="4070160"/>
              <a:ext cx="5220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5860800">
              <a:off x="1448640" y="414936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4855200">
              <a:off x="1410480" y="399348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5470200">
              <a:off x="1363680" y="404316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5860800">
              <a:off x="1392840" y="412128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6590400">
              <a:off x="1368720" y="4164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4855200">
              <a:off x="1353240" y="396612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5470200">
              <a:off x="1554840" y="41518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5470200">
              <a:off x="1545480" y="416412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5860800">
              <a:off x="1582920" y="4256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5860800">
              <a:off x="1572840" y="42649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6590400">
              <a:off x="1545840" y="43455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6590400">
              <a:off x="1539360" y="4352400"/>
              <a:ext cx="96120" cy="943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4408200">
              <a:off x="1535040" y="39178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4408200">
              <a:off x="1526400" y="393624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4855200">
              <a:off x="1542600" y="40359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4855200">
              <a:off x="1533240" y="40492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864800">
              <a:off x="1226880" y="32972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864800">
              <a:off x="1287360" y="33634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864800">
              <a:off x="1345680" y="343008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864800">
              <a:off x="1405080" y="3497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864800">
              <a:off x="1463400" y="3563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864800">
              <a:off x="1164240" y="329328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864800">
              <a:off x="1222920" y="33591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864800">
              <a:off x="1283040" y="34264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864800">
              <a:off x="1341360" y="34948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1864800">
              <a:off x="1400760" y="3559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864800">
              <a:off x="1520280" y="3653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864800">
              <a:off x="1578600" y="37620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864800">
              <a:off x="1581480" y="3823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864800">
              <a:off x="1568520" y="39200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864800">
              <a:off x="1563840" y="40132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864800">
              <a:off x="1456560" y="3626280"/>
              <a:ext cx="1180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864800">
              <a:off x="1482120" y="369180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864800">
              <a:off x="1514520" y="37681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864800">
              <a:off x="1100520" y="33080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2528400">
              <a:off x="1134720" y="33908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2659200">
              <a:off x="1198800" y="34628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4110600">
              <a:off x="1451160" y="38073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4501200">
              <a:off x="1515600" y="3893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5230800">
              <a:off x="1326960" y="389700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5230800">
              <a:off x="1516680" y="39898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166800">
              <a:off x="1509120" y="40986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3048600">
              <a:off x="1341720" y="3599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2754600">
              <a:off x="1262880" y="3531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3495600">
              <a:off x="1393200" y="37058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864800">
              <a:off x="969480" y="339300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2528400">
              <a:off x="1016640" y="345384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2659200">
              <a:off x="1074960" y="351864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4110600">
              <a:off x="1275120" y="378468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4501200">
              <a:off x="1332720" y="384768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6166800">
              <a:off x="1324080" y="394164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3048600">
              <a:off x="1199880" y="363960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754600">
              <a:off x="1133640" y="358560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3495600">
              <a:off x="1236240" y="371952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864800">
              <a:off x="906840" y="33886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2528400">
              <a:off x="954000" y="3449880"/>
              <a:ext cx="52560" cy="33336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2659200">
              <a:off x="1012320" y="351432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4110600">
              <a:off x="1213200" y="3781080"/>
              <a:ext cx="5220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4501200">
              <a:off x="1270440" y="384336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5230800">
              <a:off x="1263960" y="389196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6166800">
              <a:off x="1260720" y="393804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048600">
              <a:off x="1137600" y="363564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754600">
              <a:off x="1070280" y="358200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495600">
              <a:off x="1172520" y="371484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1864800">
              <a:off x="988200" y="33022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864800">
              <a:off x="988560" y="3330000"/>
              <a:ext cx="9468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2528400">
              <a:off x="1071360" y="33872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2528400">
              <a:off x="1070640" y="341496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2659200">
              <a:off x="1135800" y="3457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2659200">
              <a:off x="1134720" y="3483360"/>
              <a:ext cx="943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4110600">
              <a:off x="1387440" y="38041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4110600">
              <a:off x="1379880" y="3823560"/>
              <a:ext cx="96120" cy="964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4501200">
              <a:off x="1453320" y="38898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4501200">
              <a:off x="1443240" y="390528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5230800">
              <a:off x="1454760" y="3985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5230800">
              <a:off x="1446120" y="4001040"/>
              <a:ext cx="96120" cy="943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6166800">
              <a:off x="1445400" y="40953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6166800">
              <a:off x="1438920" y="4102200"/>
              <a:ext cx="96120" cy="943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3048600">
              <a:off x="1279440" y="35953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3048600">
              <a:off x="1273320" y="36205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2754600">
              <a:off x="1199160" y="3527640"/>
              <a:ext cx="11844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2754600">
              <a:off x="1195560" y="3555720"/>
              <a:ext cx="94680" cy="943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3495600">
              <a:off x="1330920" y="37018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3495600">
              <a:off x="1324440" y="37234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 rot="1406400">
            <a:off x="1317600" y="5113440"/>
            <a:ext cx="554040" cy="976320"/>
          </a:xfrm>
          <a:custGeom>
            <a:avLst/>
            <a:gdLst/>
            <a:ahLst/>
            <a:rect l="l" t="t" r="r" b="b"/>
            <a:pathLst>
              <a:path w="527" h="601">
                <a:moveTo>
                  <a:pt x="137" y="579"/>
                </a:moveTo>
                <a:cubicBezTo>
                  <a:pt x="164" y="581"/>
                  <a:pt x="198" y="562"/>
                  <a:pt x="224" y="565"/>
                </a:cubicBezTo>
                <a:cubicBezTo>
                  <a:pt x="250" y="568"/>
                  <a:pt x="271" y="593"/>
                  <a:pt x="296" y="597"/>
                </a:cubicBezTo>
                <a:cubicBezTo>
                  <a:pt x="321" y="601"/>
                  <a:pt x="352" y="596"/>
                  <a:pt x="373" y="588"/>
                </a:cubicBezTo>
                <a:cubicBezTo>
                  <a:pt x="394" y="580"/>
                  <a:pt x="406" y="564"/>
                  <a:pt x="420" y="551"/>
                </a:cubicBezTo>
                <a:cubicBezTo>
                  <a:pt x="434" y="538"/>
                  <a:pt x="446" y="525"/>
                  <a:pt x="455" y="507"/>
                </a:cubicBezTo>
                <a:cubicBezTo>
                  <a:pt x="464" y="489"/>
                  <a:pt x="468" y="480"/>
                  <a:pt x="475" y="445"/>
                </a:cubicBezTo>
                <a:cubicBezTo>
                  <a:pt x="482" y="410"/>
                  <a:pt x="492" y="348"/>
                  <a:pt x="499" y="297"/>
                </a:cubicBezTo>
                <a:cubicBezTo>
                  <a:pt x="506" y="246"/>
                  <a:pt x="527" y="180"/>
                  <a:pt x="518" y="137"/>
                </a:cubicBezTo>
                <a:cubicBezTo>
                  <a:pt x="509" y="94"/>
                  <a:pt x="487" y="62"/>
                  <a:pt x="444" y="39"/>
                </a:cubicBezTo>
                <a:cubicBezTo>
                  <a:pt x="401" y="16"/>
                  <a:pt x="320" y="0"/>
                  <a:pt x="260" y="0"/>
                </a:cubicBezTo>
                <a:cubicBezTo>
                  <a:pt x="200" y="0"/>
                  <a:pt x="126" y="12"/>
                  <a:pt x="84" y="37"/>
                </a:cubicBezTo>
                <a:cubicBezTo>
                  <a:pt x="42" y="62"/>
                  <a:pt x="20" y="102"/>
                  <a:pt x="10" y="149"/>
                </a:cubicBezTo>
                <a:cubicBezTo>
                  <a:pt x="0" y="196"/>
                  <a:pt x="17" y="268"/>
                  <a:pt x="24" y="317"/>
                </a:cubicBezTo>
                <a:cubicBezTo>
                  <a:pt x="31" y="366"/>
                  <a:pt x="44" y="402"/>
                  <a:pt x="50" y="441"/>
                </a:cubicBezTo>
                <a:cubicBezTo>
                  <a:pt x="56" y="480"/>
                  <a:pt x="48" y="530"/>
                  <a:pt x="62" y="553"/>
                </a:cubicBezTo>
                <a:cubicBezTo>
                  <a:pt x="76" y="576"/>
                  <a:pt x="108" y="576"/>
                  <a:pt x="137" y="57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406400">
            <a:off x="1306080" y="5119560"/>
            <a:ext cx="493920" cy="963720"/>
          </a:xfrm>
          <a:custGeom>
            <a:avLst/>
            <a:gdLst/>
            <a:ahLst/>
            <a:rect l="l" t="t" r="r" b="b"/>
            <a:pathLst>
              <a:path w="338" h="660">
                <a:moveTo>
                  <a:pt x="190" y="655"/>
                </a:moveTo>
                <a:cubicBezTo>
                  <a:pt x="206" y="657"/>
                  <a:pt x="217" y="660"/>
                  <a:pt x="231" y="655"/>
                </a:cubicBezTo>
                <a:cubicBezTo>
                  <a:pt x="245" y="650"/>
                  <a:pt x="262" y="654"/>
                  <a:pt x="276" y="625"/>
                </a:cubicBezTo>
                <a:cubicBezTo>
                  <a:pt x="290" y="596"/>
                  <a:pt x="306" y="525"/>
                  <a:pt x="314" y="482"/>
                </a:cubicBezTo>
                <a:cubicBezTo>
                  <a:pt x="323" y="438"/>
                  <a:pt x="326" y="414"/>
                  <a:pt x="329" y="361"/>
                </a:cubicBezTo>
                <a:cubicBezTo>
                  <a:pt x="333" y="309"/>
                  <a:pt x="338" y="215"/>
                  <a:pt x="336" y="167"/>
                </a:cubicBezTo>
                <a:cubicBezTo>
                  <a:pt x="334" y="119"/>
                  <a:pt x="333" y="103"/>
                  <a:pt x="315" y="77"/>
                </a:cubicBezTo>
                <a:cubicBezTo>
                  <a:pt x="297" y="51"/>
                  <a:pt x="259" y="25"/>
                  <a:pt x="229" y="12"/>
                </a:cubicBezTo>
                <a:cubicBezTo>
                  <a:pt x="200" y="0"/>
                  <a:pt x="164" y="0"/>
                  <a:pt x="135" y="6"/>
                </a:cubicBezTo>
                <a:cubicBezTo>
                  <a:pt x="107" y="11"/>
                  <a:pt x="81" y="20"/>
                  <a:pt x="59" y="44"/>
                </a:cubicBezTo>
                <a:cubicBezTo>
                  <a:pt x="37" y="67"/>
                  <a:pt x="16" y="98"/>
                  <a:pt x="8" y="144"/>
                </a:cubicBezTo>
                <a:cubicBezTo>
                  <a:pt x="0" y="190"/>
                  <a:pt x="7" y="272"/>
                  <a:pt x="9" y="322"/>
                </a:cubicBezTo>
                <a:cubicBezTo>
                  <a:pt x="12" y="373"/>
                  <a:pt x="13" y="399"/>
                  <a:pt x="20" y="447"/>
                </a:cubicBezTo>
                <a:cubicBezTo>
                  <a:pt x="27" y="495"/>
                  <a:pt x="36" y="575"/>
                  <a:pt x="55" y="608"/>
                </a:cubicBezTo>
                <a:cubicBezTo>
                  <a:pt x="74" y="641"/>
                  <a:pt x="110" y="637"/>
                  <a:pt x="132" y="645"/>
                </a:cubicBezTo>
                <a:cubicBezTo>
                  <a:pt x="154" y="653"/>
                  <a:pt x="174" y="653"/>
                  <a:pt x="190" y="65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406400">
            <a:off x="1430280" y="5281560"/>
            <a:ext cx="897120" cy="1355760"/>
          </a:xfrm>
          <a:custGeom>
            <a:avLst/>
            <a:gdLst/>
            <a:ahLst/>
            <a:rect l="l" t="t" r="r" b="b"/>
            <a:pathLst>
              <a:path w="615" h="929">
                <a:moveTo>
                  <a:pt x="224" y="144"/>
                </a:moveTo>
                <a:cubicBezTo>
                  <a:pt x="237" y="61"/>
                  <a:pt x="224" y="112"/>
                  <a:pt x="231" y="90"/>
                </a:cubicBezTo>
                <a:cubicBezTo>
                  <a:pt x="238" y="68"/>
                  <a:pt x="243" y="24"/>
                  <a:pt x="262" y="12"/>
                </a:cubicBezTo>
                <a:cubicBezTo>
                  <a:pt x="281" y="0"/>
                  <a:pt x="325" y="11"/>
                  <a:pt x="346" y="20"/>
                </a:cubicBezTo>
                <a:cubicBezTo>
                  <a:pt x="367" y="29"/>
                  <a:pt x="377" y="39"/>
                  <a:pt x="387" y="68"/>
                </a:cubicBezTo>
                <a:cubicBezTo>
                  <a:pt x="397" y="97"/>
                  <a:pt x="403" y="147"/>
                  <a:pt x="407" y="196"/>
                </a:cubicBezTo>
                <a:cubicBezTo>
                  <a:pt x="412" y="245"/>
                  <a:pt x="413" y="306"/>
                  <a:pt x="416" y="360"/>
                </a:cubicBezTo>
                <a:cubicBezTo>
                  <a:pt x="420" y="414"/>
                  <a:pt x="421" y="477"/>
                  <a:pt x="430" y="522"/>
                </a:cubicBezTo>
                <a:cubicBezTo>
                  <a:pt x="439" y="567"/>
                  <a:pt x="443" y="602"/>
                  <a:pt x="468" y="632"/>
                </a:cubicBezTo>
                <a:cubicBezTo>
                  <a:pt x="492" y="662"/>
                  <a:pt x="556" y="673"/>
                  <a:pt x="579" y="700"/>
                </a:cubicBezTo>
                <a:cubicBezTo>
                  <a:pt x="603" y="727"/>
                  <a:pt x="615" y="764"/>
                  <a:pt x="606" y="796"/>
                </a:cubicBezTo>
                <a:cubicBezTo>
                  <a:pt x="597" y="828"/>
                  <a:pt x="582" y="870"/>
                  <a:pt x="528" y="892"/>
                </a:cubicBezTo>
                <a:cubicBezTo>
                  <a:pt x="474" y="914"/>
                  <a:pt x="352" y="929"/>
                  <a:pt x="282" y="928"/>
                </a:cubicBezTo>
                <a:cubicBezTo>
                  <a:pt x="213" y="927"/>
                  <a:pt x="157" y="906"/>
                  <a:pt x="115" y="888"/>
                </a:cubicBezTo>
                <a:cubicBezTo>
                  <a:pt x="73" y="870"/>
                  <a:pt x="40" y="845"/>
                  <a:pt x="23" y="820"/>
                </a:cubicBezTo>
                <a:cubicBezTo>
                  <a:pt x="7" y="795"/>
                  <a:pt x="0" y="762"/>
                  <a:pt x="12" y="740"/>
                </a:cubicBezTo>
                <a:cubicBezTo>
                  <a:pt x="25" y="718"/>
                  <a:pt x="73" y="711"/>
                  <a:pt x="96" y="685"/>
                </a:cubicBezTo>
                <a:cubicBezTo>
                  <a:pt x="119" y="659"/>
                  <a:pt x="134" y="676"/>
                  <a:pt x="155" y="586"/>
                </a:cubicBezTo>
                <a:cubicBezTo>
                  <a:pt x="176" y="496"/>
                  <a:pt x="211" y="230"/>
                  <a:pt x="224" y="144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406400">
            <a:off x="1407600" y="5264280"/>
            <a:ext cx="871560" cy="1352520"/>
          </a:xfrm>
          <a:custGeom>
            <a:avLst/>
            <a:gdLst/>
            <a:ahLst/>
            <a:rect l="l" t="t" r="r" b="b"/>
            <a:pathLst>
              <a:path w="535" h="927">
                <a:moveTo>
                  <a:pt x="307" y="15"/>
                </a:moveTo>
                <a:cubicBezTo>
                  <a:pt x="325" y="24"/>
                  <a:pt x="347" y="35"/>
                  <a:pt x="357" y="69"/>
                </a:cubicBezTo>
                <a:cubicBezTo>
                  <a:pt x="367" y="103"/>
                  <a:pt x="362" y="158"/>
                  <a:pt x="365" y="221"/>
                </a:cubicBezTo>
                <a:cubicBezTo>
                  <a:pt x="368" y="284"/>
                  <a:pt x="369" y="390"/>
                  <a:pt x="373" y="449"/>
                </a:cubicBezTo>
                <a:cubicBezTo>
                  <a:pt x="377" y="508"/>
                  <a:pt x="380" y="541"/>
                  <a:pt x="387" y="573"/>
                </a:cubicBezTo>
                <a:cubicBezTo>
                  <a:pt x="394" y="605"/>
                  <a:pt x="399" y="626"/>
                  <a:pt x="413" y="643"/>
                </a:cubicBezTo>
                <a:cubicBezTo>
                  <a:pt x="427" y="660"/>
                  <a:pt x="453" y="666"/>
                  <a:pt x="471" y="679"/>
                </a:cubicBezTo>
                <a:cubicBezTo>
                  <a:pt x="489" y="692"/>
                  <a:pt x="513" y="702"/>
                  <a:pt x="523" y="723"/>
                </a:cubicBezTo>
                <a:cubicBezTo>
                  <a:pt x="533" y="744"/>
                  <a:pt x="535" y="779"/>
                  <a:pt x="529" y="803"/>
                </a:cubicBezTo>
                <a:cubicBezTo>
                  <a:pt x="523" y="827"/>
                  <a:pt x="511" y="850"/>
                  <a:pt x="487" y="869"/>
                </a:cubicBezTo>
                <a:cubicBezTo>
                  <a:pt x="463" y="888"/>
                  <a:pt x="430" y="906"/>
                  <a:pt x="387" y="915"/>
                </a:cubicBezTo>
                <a:cubicBezTo>
                  <a:pt x="344" y="924"/>
                  <a:pt x="279" y="927"/>
                  <a:pt x="231" y="921"/>
                </a:cubicBezTo>
                <a:cubicBezTo>
                  <a:pt x="183" y="915"/>
                  <a:pt x="135" y="900"/>
                  <a:pt x="99" y="881"/>
                </a:cubicBezTo>
                <a:cubicBezTo>
                  <a:pt x="63" y="862"/>
                  <a:pt x="26" y="831"/>
                  <a:pt x="13" y="805"/>
                </a:cubicBezTo>
                <a:cubicBezTo>
                  <a:pt x="0" y="779"/>
                  <a:pt x="10" y="744"/>
                  <a:pt x="19" y="723"/>
                </a:cubicBezTo>
                <a:cubicBezTo>
                  <a:pt x="28" y="702"/>
                  <a:pt x="51" y="694"/>
                  <a:pt x="67" y="681"/>
                </a:cubicBezTo>
                <a:cubicBezTo>
                  <a:pt x="83" y="668"/>
                  <a:pt x="98" y="686"/>
                  <a:pt x="115" y="647"/>
                </a:cubicBezTo>
                <a:cubicBezTo>
                  <a:pt x="132" y="608"/>
                  <a:pt x="155" y="508"/>
                  <a:pt x="167" y="445"/>
                </a:cubicBezTo>
                <a:cubicBezTo>
                  <a:pt x="179" y="382"/>
                  <a:pt x="178" y="330"/>
                  <a:pt x="185" y="271"/>
                </a:cubicBezTo>
                <a:cubicBezTo>
                  <a:pt x="192" y="212"/>
                  <a:pt x="196" y="134"/>
                  <a:pt x="207" y="91"/>
                </a:cubicBezTo>
                <a:cubicBezTo>
                  <a:pt x="218" y="48"/>
                  <a:pt x="234" y="26"/>
                  <a:pt x="251" y="13"/>
                </a:cubicBezTo>
                <a:cubicBezTo>
                  <a:pt x="268" y="0"/>
                  <a:pt x="295" y="15"/>
                  <a:pt x="307" y="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668880" y="4789800"/>
            <a:ext cx="829440" cy="1197360"/>
            <a:chOff x="668880" y="4789800"/>
            <a:chExt cx="829440" cy="1197360"/>
          </a:xfrm>
        </p:grpSpPr>
        <p:sp>
          <p:nvSpPr>
            <p:cNvPr id="1195" name=""/>
            <p:cNvSpPr/>
            <p:nvPr/>
          </p:nvSpPr>
          <p:spPr>
            <a:xfrm rot="14670000">
              <a:off x="688320" y="57880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4670000">
              <a:off x="740520" y="58269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4670000">
              <a:off x="690120" y="56822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4670000">
              <a:off x="700920" y="55612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4670000">
              <a:off x="732600" y="55065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4670000">
              <a:off x="797040" y="54356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4670000">
              <a:off x="733320" y="57441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4670000">
              <a:off x="766080" y="568692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4670000">
              <a:off x="758160" y="55908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16916400">
              <a:off x="1089720" y="553356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916400">
              <a:off x="834120" y="55933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17306400">
              <a:off x="1075320" y="544896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17306400">
              <a:off x="828360" y="54856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5854400">
              <a:off x="1070280" y="569628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5854400">
              <a:off x="810720" y="58269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6300800">
              <a:off x="1085040" y="560988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6300800">
              <a:off x="824040" y="57121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17292000">
              <a:off x="1078560" y="549468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7292000">
              <a:off x="828720" y="55288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17292000">
              <a:off x="862200" y="554724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17682600">
              <a:off x="831960" y="54223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17682600">
              <a:off x="862920" y="544320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16230000">
              <a:off x="1041120" y="5656320"/>
              <a:ext cx="5364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16230000">
              <a:off x="781920" y="57582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6230000">
              <a:off x="812880" y="577152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15936600">
              <a:off x="1055880" y="574128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5936600">
              <a:off x="798480" y="5862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5936600">
              <a:off x="830880" y="58726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6677000">
              <a:off x="1064160" y="557064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6677000">
              <a:off x="806760" y="5645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677000">
              <a:off x="839520" y="565920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008600">
              <a:off x="766080" y="54936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6008600">
              <a:off x="787320" y="54079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6008600">
              <a:off x="807840" y="53200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008600">
              <a:off x="831600" y="52329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008600">
              <a:off x="854640" y="51454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008600">
              <a:off x="799920" y="55483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6008600">
              <a:off x="820440" y="5460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6008600">
              <a:off x="842400" y="53726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008600">
              <a:off x="866520" y="52876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008600">
              <a:off x="886680" y="5200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008600">
              <a:off x="895680" y="50486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6008600">
              <a:off x="952560" y="4941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6008600">
              <a:off x="1003320" y="49028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008600">
              <a:off x="1090080" y="48607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6008600">
              <a:off x="1170720" y="4813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6008600">
              <a:off x="912600" y="51231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6008600">
              <a:off x="965160" y="5082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6008600">
              <a:off x="993960" y="4989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6008600">
              <a:off x="847440" y="55926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6672200">
              <a:off x="1151640" y="544032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rot="16672200">
              <a:off x="896400" y="55166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16803600">
              <a:off x="1174320" y="5355000"/>
              <a:ext cx="5220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803600">
              <a:off x="917640" y="54230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8255000">
              <a:off x="1284120" y="504108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8255000">
              <a:off x="1063440" y="50209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645000">
              <a:off x="1302120" y="495864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8645000">
              <a:off x="1097640" y="4919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9374600">
              <a:off x="1344960" y="493524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9374600">
              <a:off x="1176120" y="48636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20310600">
              <a:off x="1386720" y="491112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20310600">
              <a:off x="1270440" y="4807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7192400">
              <a:off x="1203840" y="518616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7192400">
              <a:off x="951120" y="52272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898400">
              <a:off x="1195200" y="527184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898400">
              <a:off x="940680" y="53323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7640000">
              <a:off x="1249920" y="511164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7640000">
              <a:off x="1009440" y="51264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384800">
              <a:off x="1082880" y="545472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384800">
              <a:off x="824400" y="5549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384800">
              <a:off x="857880" y="556236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7049000">
              <a:off x="1113840" y="538524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7049000">
              <a:off x="860760" y="543312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7049000">
              <a:off x="892080" y="5452200"/>
              <a:ext cx="96120" cy="9504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7179800">
              <a:off x="1143360" y="530280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7179800">
              <a:off x="892440" y="53452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7179800">
              <a:off x="925560" y="536220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8630600">
              <a:off x="1287360" y="500148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8630600">
              <a:off x="1082160" y="49593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8630600">
              <a:off x="1110960" y="49834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9021200">
              <a:off x="1314000" y="492156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9021200">
              <a:off x="1126080" y="486108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9021200">
              <a:off x="1151640" y="4888440"/>
              <a:ext cx="96120" cy="9504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9751400">
              <a:off x="1360440" y="49028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9751400">
              <a:off x="1212120" y="48171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9751400">
              <a:off x="1234440" y="484380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17568600">
              <a:off x="1190880" y="5137200"/>
              <a:ext cx="540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17568600">
              <a:off x="951840" y="515304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17568600">
              <a:off x="981000" y="5173920"/>
              <a:ext cx="96120" cy="9504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7274600">
              <a:off x="1173960" y="5220720"/>
              <a:ext cx="5256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7274600">
              <a:off x="926280" y="525600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7274600">
              <a:off x="957960" y="527364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8015600">
              <a:off x="1245960" y="5067000"/>
              <a:ext cx="52200" cy="3344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8015600">
              <a:off x="1016640" y="5058360"/>
              <a:ext cx="119520" cy="11988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8015600">
              <a:off x="1047600" y="508140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1932840" y="5338440"/>
            <a:ext cx="850320" cy="1258200"/>
            <a:chOff x="1932840" y="5338440"/>
            <a:chExt cx="850320" cy="1258200"/>
          </a:xfrm>
        </p:grpSpPr>
        <p:sp>
          <p:nvSpPr>
            <p:cNvPr id="1291" name=""/>
            <p:cNvSpPr/>
            <p:nvPr/>
          </p:nvSpPr>
          <p:spPr>
            <a:xfrm rot="6391800">
              <a:off x="2464200" y="6188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6391800">
              <a:off x="2414160" y="62618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6391800">
              <a:off x="2366280" y="633240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6391800">
              <a:off x="2308320" y="63720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6391800">
              <a:off x="2243520" y="64234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8638200">
              <a:off x="2188800" y="637092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9028800">
              <a:off x="2120760" y="64555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9757800">
              <a:off x="1993680" y="61610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7575600">
              <a:off x="2363040" y="621324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8023200">
              <a:off x="2273760" y="62906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8638200">
              <a:off x="2088360" y="6084000"/>
              <a:ext cx="5220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9028800">
              <a:off x="2041560" y="615384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8023200">
              <a:off x="2142360" y="602892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8638200">
              <a:off x="2075400" y="602244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9028800">
              <a:off x="2030400" y="609264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9757800">
              <a:off x="1981080" y="6099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8023200">
              <a:off x="2129760" y="596736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8638200">
              <a:off x="2175840" y="630936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8638200">
              <a:off x="2174400" y="630432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9028800">
              <a:off x="2109240" y="6394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9028800">
              <a:off x="2110320" y="63871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9757800">
              <a:off x="2016360" y="6419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9757800">
              <a:off x="2021040" y="6413400"/>
              <a:ext cx="96120" cy="943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7575600">
              <a:off x="2350800" y="61516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7575600">
              <a:off x="2343960" y="61513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8023200">
              <a:off x="2260800" y="622872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8023200">
              <a:off x="2258280" y="622512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5032200">
              <a:off x="2657880" y="55314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5032200">
              <a:off x="2642040" y="561924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5032200">
              <a:off x="2624040" y="570636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5032200">
              <a:off x="2606400" y="5793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5032200">
              <a:off x="2588760" y="58806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5032200">
              <a:off x="2623680" y="547920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5032200">
              <a:off x="2606760" y="55656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5032200">
              <a:off x="2589480" y="565416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5032200">
              <a:off x="2570040" y="57416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5032200">
              <a:off x="2554200" y="5828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5032200">
              <a:off x="2551320" y="5980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5032200">
              <a:off x="2500560" y="6092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5032200">
              <a:off x="2453040" y="6131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5032200">
              <a:off x="2368800" y="61797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5032200">
              <a:off x="2291760" y="623232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5032200">
              <a:off x="2535120" y="5912280"/>
              <a:ext cx="11808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5032200">
              <a:off x="2498400" y="597276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5032200">
              <a:off x="2457000" y="60447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5032200">
              <a:off x="2573280" y="54370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5696400">
              <a:off x="2527920" y="551412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5826600">
              <a:off x="2509200" y="56091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7278000">
              <a:off x="2387160" y="6017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7668600">
              <a:off x="2358000" y="6121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8398800">
              <a:off x="2168640" y="590436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8398800">
              <a:off x="2282040" y="618048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9334200">
              <a:off x="2190600" y="6240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6216600">
              <a:off x="2486880" y="58053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5922600">
              <a:off x="2493360" y="5700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6663000">
              <a:off x="2433240" y="5910480"/>
              <a:ext cx="11952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5032200">
              <a:off x="2354400" y="53146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5696400">
              <a:off x="2334240" y="538884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5826600">
              <a:off x="2318040" y="547524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7278000">
              <a:off x="2227320" y="5795640"/>
              <a:ext cx="5256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7668600">
              <a:off x="2211840" y="587916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9334200">
              <a:off x="2131920" y="592920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6216600">
              <a:off x="2297160" y="564804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5922600">
              <a:off x="2300040" y="556236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6663000">
              <a:off x="2255400" y="572472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5032200">
              <a:off x="2319840" y="52624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5696400">
              <a:off x="2299680" y="5337000"/>
              <a:ext cx="52560" cy="33336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5826600">
              <a:off x="2283480" y="54226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7278000">
              <a:off x="2193120" y="5743800"/>
              <a:ext cx="52200" cy="3322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7668600">
              <a:off x="2177280" y="582696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8398800">
              <a:off x="2134440" y="5851080"/>
              <a:ext cx="5220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9334200">
              <a:off x="2095920" y="587664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6216600">
              <a:off x="2262600" y="559584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5922600">
              <a:off x="2264400" y="550980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6663000">
              <a:off x="2221200" y="567144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5032200">
              <a:off x="2509920" y="53442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5032200">
              <a:off x="2501640" y="5355720"/>
              <a:ext cx="9468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5696400">
              <a:off x="2492640" y="54615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5696400">
              <a:off x="2484360" y="547308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5826600">
              <a:off x="2475000" y="5555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5826600">
              <a:off x="2468520" y="5564520"/>
              <a:ext cx="943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7278000">
              <a:off x="2351520" y="5965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7278000">
              <a:off x="2345040" y="5966280"/>
              <a:ext cx="96120" cy="964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7668600">
              <a:off x="2323080" y="60696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7668600">
              <a:off x="2318400" y="606636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8398800">
              <a:off x="2247840" y="6128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8398800">
              <a:off x="2244960" y="6127200"/>
              <a:ext cx="96120" cy="943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9334200">
              <a:off x="2154600" y="6187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9334200">
              <a:off x="2159640" y="6181920"/>
              <a:ext cx="96120" cy="943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6216600">
              <a:off x="2452680" y="57528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6216600">
              <a:off x="2442600" y="57589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5922600">
              <a:off x="2458080" y="5648040"/>
              <a:ext cx="11844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5922600">
              <a:off x="2448360" y="5657760"/>
              <a:ext cx="94680" cy="943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6663000">
              <a:off x="2398680" y="58586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6663000">
              <a:off x="2391480" y="58618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 rot="558600">
            <a:off x="3765240" y="4583160"/>
            <a:ext cx="1693800" cy="2035080"/>
          </a:xfrm>
          <a:custGeom>
            <a:avLst/>
            <a:gdLst/>
            <a:ahLst/>
            <a:rect l="l" t="t" r="r" b="b"/>
            <a:pathLst>
              <a:path w="1199" h="1440">
                <a:moveTo>
                  <a:pt x="82" y="1277"/>
                </a:moveTo>
                <a:cubicBezTo>
                  <a:pt x="40" y="1330"/>
                  <a:pt x="29" y="1344"/>
                  <a:pt x="47" y="1370"/>
                </a:cubicBezTo>
                <a:cubicBezTo>
                  <a:pt x="63" y="1396"/>
                  <a:pt x="138" y="1423"/>
                  <a:pt x="185" y="1432"/>
                </a:cubicBezTo>
                <a:cubicBezTo>
                  <a:pt x="231" y="1440"/>
                  <a:pt x="275" y="1431"/>
                  <a:pt x="322" y="1418"/>
                </a:cubicBezTo>
                <a:cubicBezTo>
                  <a:pt x="369" y="1406"/>
                  <a:pt x="412" y="1371"/>
                  <a:pt x="470" y="1360"/>
                </a:cubicBezTo>
                <a:cubicBezTo>
                  <a:pt x="527" y="1349"/>
                  <a:pt x="581" y="1342"/>
                  <a:pt x="664" y="1351"/>
                </a:cubicBezTo>
                <a:cubicBezTo>
                  <a:pt x="746" y="1360"/>
                  <a:pt x="891" y="1419"/>
                  <a:pt x="970" y="1417"/>
                </a:cubicBezTo>
                <a:cubicBezTo>
                  <a:pt x="1047" y="1414"/>
                  <a:pt x="1101" y="1370"/>
                  <a:pt x="1132" y="1339"/>
                </a:cubicBezTo>
                <a:cubicBezTo>
                  <a:pt x="1163" y="1308"/>
                  <a:pt x="1157" y="1267"/>
                  <a:pt x="1156" y="1233"/>
                </a:cubicBezTo>
                <a:cubicBezTo>
                  <a:pt x="1155" y="1199"/>
                  <a:pt x="1138" y="1158"/>
                  <a:pt x="1127" y="1132"/>
                </a:cubicBezTo>
                <a:cubicBezTo>
                  <a:pt x="1116" y="1106"/>
                  <a:pt x="1102" y="1106"/>
                  <a:pt x="1090" y="1077"/>
                </a:cubicBezTo>
                <a:cubicBezTo>
                  <a:pt x="1078" y="1048"/>
                  <a:pt x="1062" y="995"/>
                  <a:pt x="1057" y="957"/>
                </a:cubicBezTo>
                <a:cubicBezTo>
                  <a:pt x="1052" y="919"/>
                  <a:pt x="1054" y="898"/>
                  <a:pt x="1060" y="849"/>
                </a:cubicBezTo>
                <a:cubicBezTo>
                  <a:pt x="1066" y="800"/>
                  <a:pt x="1081" y="716"/>
                  <a:pt x="1090" y="663"/>
                </a:cubicBezTo>
                <a:cubicBezTo>
                  <a:pt x="1099" y="610"/>
                  <a:pt x="1100" y="588"/>
                  <a:pt x="1117" y="531"/>
                </a:cubicBezTo>
                <a:cubicBezTo>
                  <a:pt x="1134" y="474"/>
                  <a:pt x="1179" y="386"/>
                  <a:pt x="1189" y="324"/>
                </a:cubicBezTo>
                <a:cubicBezTo>
                  <a:pt x="1199" y="262"/>
                  <a:pt x="1189" y="202"/>
                  <a:pt x="1177" y="161"/>
                </a:cubicBezTo>
                <a:cubicBezTo>
                  <a:pt x="1165" y="119"/>
                  <a:pt x="1137" y="97"/>
                  <a:pt x="1118" y="75"/>
                </a:cubicBezTo>
                <a:cubicBezTo>
                  <a:pt x="1098" y="53"/>
                  <a:pt x="1076" y="36"/>
                  <a:pt x="1054" y="25"/>
                </a:cubicBezTo>
                <a:cubicBezTo>
                  <a:pt x="1031" y="13"/>
                  <a:pt x="1008" y="3"/>
                  <a:pt x="978" y="1"/>
                </a:cubicBezTo>
                <a:cubicBezTo>
                  <a:pt x="947" y="0"/>
                  <a:pt x="903" y="3"/>
                  <a:pt x="866" y="13"/>
                </a:cubicBezTo>
                <a:cubicBezTo>
                  <a:pt x="829" y="23"/>
                  <a:pt x="793" y="40"/>
                  <a:pt x="754" y="63"/>
                </a:cubicBezTo>
                <a:cubicBezTo>
                  <a:pt x="716" y="87"/>
                  <a:pt x="669" y="141"/>
                  <a:pt x="635" y="157"/>
                </a:cubicBezTo>
                <a:cubicBezTo>
                  <a:pt x="600" y="172"/>
                  <a:pt x="572" y="157"/>
                  <a:pt x="543" y="153"/>
                </a:cubicBezTo>
                <a:cubicBezTo>
                  <a:pt x="514" y="149"/>
                  <a:pt x="487" y="135"/>
                  <a:pt x="455" y="133"/>
                </a:cubicBezTo>
                <a:cubicBezTo>
                  <a:pt x="423" y="132"/>
                  <a:pt x="400" y="124"/>
                  <a:pt x="351" y="145"/>
                </a:cubicBezTo>
                <a:cubicBezTo>
                  <a:pt x="302" y="166"/>
                  <a:pt x="210" y="203"/>
                  <a:pt x="156" y="258"/>
                </a:cubicBezTo>
                <a:cubicBezTo>
                  <a:pt x="101" y="312"/>
                  <a:pt x="40" y="418"/>
                  <a:pt x="20" y="475"/>
                </a:cubicBezTo>
                <a:cubicBezTo>
                  <a:pt x="0" y="532"/>
                  <a:pt x="27" y="556"/>
                  <a:pt x="32" y="603"/>
                </a:cubicBezTo>
                <a:cubicBezTo>
                  <a:pt x="37" y="651"/>
                  <a:pt x="48" y="715"/>
                  <a:pt x="56" y="767"/>
                </a:cubicBezTo>
                <a:cubicBezTo>
                  <a:pt x="64" y="818"/>
                  <a:pt x="73" y="861"/>
                  <a:pt x="80" y="914"/>
                </a:cubicBezTo>
                <a:cubicBezTo>
                  <a:pt x="86" y="967"/>
                  <a:pt x="96" y="1020"/>
                  <a:pt x="96" y="1081"/>
                </a:cubicBezTo>
                <a:cubicBezTo>
                  <a:pt x="96" y="1142"/>
                  <a:pt x="85" y="1237"/>
                  <a:pt x="82" y="127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rot="558600">
            <a:off x="3663720" y="4657320"/>
            <a:ext cx="1724040" cy="1940040"/>
          </a:xfrm>
          <a:custGeom>
            <a:avLst/>
            <a:gdLst/>
            <a:ahLst/>
            <a:rect l="l" t="t" r="r" b="b"/>
            <a:pathLst>
              <a:path w="917" h="1060">
                <a:moveTo>
                  <a:pt x="27" y="882"/>
                </a:moveTo>
                <a:cubicBezTo>
                  <a:pt x="40" y="925"/>
                  <a:pt x="58" y="963"/>
                  <a:pt x="78" y="989"/>
                </a:cubicBezTo>
                <a:cubicBezTo>
                  <a:pt x="98" y="1015"/>
                  <a:pt x="116" y="1029"/>
                  <a:pt x="145" y="1037"/>
                </a:cubicBezTo>
                <a:cubicBezTo>
                  <a:pt x="173" y="1045"/>
                  <a:pt x="211" y="1042"/>
                  <a:pt x="249" y="1031"/>
                </a:cubicBezTo>
                <a:cubicBezTo>
                  <a:pt x="287" y="1022"/>
                  <a:pt x="322" y="982"/>
                  <a:pt x="375" y="978"/>
                </a:cubicBezTo>
                <a:cubicBezTo>
                  <a:pt x="428" y="974"/>
                  <a:pt x="517" y="995"/>
                  <a:pt x="570" y="1005"/>
                </a:cubicBezTo>
                <a:cubicBezTo>
                  <a:pt x="623" y="1015"/>
                  <a:pt x="658" y="1033"/>
                  <a:pt x="696" y="1041"/>
                </a:cubicBezTo>
                <a:cubicBezTo>
                  <a:pt x="734" y="1049"/>
                  <a:pt x="769" y="1060"/>
                  <a:pt x="798" y="1053"/>
                </a:cubicBezTo>
                <a:cubicBezTo>
                  <a:pt x="827" y="1046"/>
                  <a:pt x="860" y="1025"/>
                  <a:pt x="870" y="996"/>
                </a:cubicBezTo>
                <a:cubicBezTo>
                  <a:pt x="880" y="967"/>
                  <a:pt x="861" y="907"/>
                  <a:pt x="856" y="876"/>
                </a:cubicBezTo>
                <a:cubicBezTo>
                  <a:pt x="851" y="845"/>
                  <a:pt x="845" y="842"/>
                  <a:pt x="840" y="807"/>
                </a:cubicBezTo>
                <a:cubicBezTo>
                  <a:pt x="835" y="772"/>
                  <a:pt x="828" y="708"/>
                  <a:pt x="828" y="663"/>
                </a:cubicBezTo>
                <a:cubicBezTo>
                  <a:pt x="828" y="618"/>
                  <a:pt x="835" y="574"/>
                  <a:pt x="840" y="534"/>
                </a:cubicBezTo>
                <a:cubicBezTo>
                  <a:pt x="845" y="494"/>
                  <a:pt x="850" y="458"/>
                  <a:pt x="858" y="423"/>
                </a:cubicBezTo>
                <a:cubicBezTo>
                  <a:pt x="866" y="388"/>
                  <a:pt x="882" y="357"/>
                  <a:pt x="891" y="324"/>
                </a:cubicBezTo>
                <a:cubicBezTo>
                  <a:pt x="900" y="291"/>
                  <a:pt x="917" y="260"/>
                  <a:pt x="915" y="222"/>
                </a:cubicBezTo>
                <a:cubicBezTo>
                  <a:pt x="913" y="184"/>
                  <a:pt x="896" y="127"/>
                  <a:pt x="879" y="96"/>
                </a:cubicBezTo>
                <a:cubicBezTo>
                  <a:pt x="862" y="65"/>
                  <a:pt x="838" y="52"/>
                  <a:pt x="810" y="36"/>
                </a:cubicBezTo>
                <a:cubicBezTo>
                  <a:pt x="782" y="20"/>
                  <a:pt x="743" y="6"/>
                  <a:pt x="714" y="3"/>
                </a:cubicBezTo>
                <a:cubicBezTo>
                  <a:pt x="685" y="0"/>
                  <a:pt x="660" y="6"/>
                  <a:pt x="633" y="15"/>
                </a:cubicBezTo>
                <a:cubicBezTo>
                  <a:pt x="606" y="24"/>
                  <a:pt x="578" y="40"/>
                  <a:pt x="549" y="57"/>
                </a:cubicBezTo>
                <a:cubicBezTo>
                  <a:pt x="520" y="74"/>
                  <a:pt x="498" y="112"/>
                  <a:pt x="462" y="117"/>
                </a:cubicBezTo>
                <a:cubicBezTo>
                  <a:pt x="426" y="122"/>
                  <a:pt x="370" y="88"/>
                  <a:pt x="330" y="87"/>
                </a:cubicBezTo>
                <a:cubicBezTo>
                  <a:pt x="290" y="86"/>
                  <a:pt x="258" y="91"/>
                  <a:pt x="223" y="111"/>
                </a:cubicBezTo>
                <a:cubicBezTo>
                  <a:pt x="188" y="131"/>
                  <a:pt x="145" y="174"/>
                  <a:pt x="117" y="207"/>
                </a:cubicBezTo>
                <a:cubicBezTo>
                  <a:pt x="89" y="240"/>
                  <a:pt x="72" y="271"/>
                  <a:pt x="57" y="306"/>
                </a:cubicBezTo>
                <a:cubicBezTo>
                  <a:pt x="42" y="341"/>
                  <a:pt x="32" y="377"/>
                  <a:pt x="27" y="417"/>
                </a:cubicBezTo>
                <a:cubicBezTo>
                  <a:pt x="22" y="457"/>
                  <a:pt x="28" y="497"/>
                  <a:pt x="24" y="549"/>
                </a:cubicBezTo>
                <a:cubicBezTo>
                  <a:pt x="20" y="601"/>
                  <a:pt x="0" y="674"/>
                  <a:pt x="0" y="729"/>
                </a:cubicBezTo>
                <a:cubicBezTo>
                  <a:pt x="0" y="784"/>
                  <a:pt x="14" y="839"/>
                  <a:pt x="27" y="88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rot="558600">
            <a:off x="3976200" y="5179680"/>
            <a:ext cx="959040" cy="1182600"/>
          </a:xfrm>
          <a:custGeom>
            <a:avLst/>
            <a:gdLst/>
            <a:ahLst/>
            <a:rect l="l" t="t" r="r" b="b"/>
            <a:pathLst>
              <a:path w="454" h="556">
                <a:moveTo>
                  <a:pt x="168" y="539"/>
                </a:moveTo>
                <a:cubicBezTo>
                  <a:pt x="191" y="546"/>
                  <a:pt x="238" y="554"/>
                  <a:pt x="261" y="555"/>
                </a:cubicBezTo>
                <a:cubicBezTo>
                  <a:pt x="284" y="556"/>
                  <a:pt x="292" y="552"/>
                  <a:pt x="306" y="547"/>
                </a:cubicBezTo>
                <a:cubicBezTo>
                  <a:pt x="320" y="542"/>
                  <a:pt x="331" y="535"/>
                  <a:pt x="343" y="525"/>
                </a:cubicBezTo>
                <a:cubicBezTo>
                  <a:pt x="355" y="515"/>
                  <a:pt x="366" y="505"/>
                  <a:pt x="376" y="489"/>
                </a:cubicBezTo>
                <a:cubicBezTo>
                  <a:pt x="386" y="473"/>
                  <a:pt x="391" y="459"/>
                  <a:pt x="403" y="429"/>
                </a:cubicBezTo>
                <a:cubicBezTo>
                  <a:pt x="415" y="399"/>
                  <a:pt x="442" y="341"/>
                  <a:pt x="448" y="306"/>
                </a:cubicBezTo>
                <a:cubicBezTo>
                  <a:pt x="454" y="271"/>
                  <a:pt x="448" y="245"/>
                  <a:pt x="442" y="216"/>
                </a:cubicBezTo>
                <a:cubicBezTo>
                  <a:pt x="436" y="187"/>
                  <a:pt x="428" y="159"/>
                  <a:pt x="412" y="129"/>
                </a:cubicBezTo>
                <a:cubicBezTo>
                  <a:pt x="396" y="99"/>
                  <a:pt x="376" y="58"/>
                  <a:pt x="347" y="36"/>
                </a:cubicBezTo>
                <a:cubicBezTo>
                  <a:pt x="318" y="14"/>
                  <a:pt x="275" y="0"/>
                  <a:pt x="240" y="0"/>
                </a:cubicBezTo>
                <a:cubicBezTo>
                  <a:pt x="205" y="0"/>
                  <a:pt x="172" y="6"/>
                  <a:pt x="137" y="34"/>
                </a:cubicBezTo>
                <a:cubicBezTo>
                  <a:pt x="102" y="62"/>
                  <a:pt x="50" y="124"/>
                  <a:pt x="28" y="171"/>
                </a:cubicBezTo>
                <a:cubicBezTo>
                  <a:pt x="6" y="218"/>
                  <a:pt x="0" y="271"/>
                  <a:pt x="4" y="318"/>
                </a:cubicBezTo>
                <a:cubicBezTo>
                  <a:pt x="8" y="365"/>
                  <a:pt x="29" y="420"/>
                  <a:pt x="49" y="453"/>
                </a:cubicBezTo>
                <a:cubicBezTo>
                  <a:pt x="69" y="486"/>
                  <a:pt x="104" y="500"/>
                  <a:pt x="124" y="514"/>
                </a:cubicBezTo>
                <a:cubicBezTo>
                  <a:pt x="144" y="528"/>
                  <a:pt x="145" y="532"/>
                  <a:pt x="168" y="539"/>
                </a:cubicBezTo>
                <a:close/>
              </a:path>
            </a:pathLst>
          </a:custGeom>
          <a:gradFill rotWithShape="0">
            <a:gsLst>
              <a:gs pos="0">
                <a:srgbClr val="fef1fe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rot="558600">
            <a:off x="4506840" y="5094000"/>
            <a:ext cx="544680" cy="1224000"/>
          </a:xfrm>
          <a:custGeom>
            <a:avLst/>
            <a:gdLst/>
            <a:ahLst/>
            <a:rect l="l" t="t" r="r" b="b"/>
            <a:pathLst>
              <a:path w="258" h="576">
                <a:moveTo>
                  <a:pt x="161" y="565"/>
                </a:moveTo>
                <a:cubicBezTo>
                  <a:pt x="176" y="574"/>
                  <a:pt x="189" y="576"/>
                  <a:pt x="203" y="574"/>
                </a:cubicBezTo>
                <a:cubicBezTo>
                  <a:pt x="217" y="572"/>
                  <a:pt x="242" y="573"/>
                  <a:pt x="248" y="550"/>
                </a:cubicBezTo>
                <a:cubicBezTo>
                  <a:pt x="254" y="527"/>
                  <a:pt x="244" y="475"/>
                  <a:pt x="242" y="436"/>
                </a:cubicBezTo>
                <a:cubicBezTo>
                  <a:pt x="240" y="397"/>
                  <a:pt x="233" y="360"/>
                  <a:pt x="233" y="316"/>
                </a:cubicBezTo>
                <a:cubicBezTo>
                  <a:pt x="233" y="272"/>
                  <a:pt x="239" y="211"/>
                  <a:pt x="242" y="172"/>
                </a:cubicBezTo>
                <a:cubicBezTo>
                  <a:pt x="245" y="133"/>
                  <a:pt x="258" y="107"/>
                  <a:pt x="252" y="80"/>
                </a:cubicBezTo>
                <a:cubicBezTo>
                  <a:pt x="246" y="53"/>
                  <a:pt x="224" y="20"/>
                  <a:pt x="203" y="10"/>
                </a:cubicBezTo>
                <a:cubicBezTo>
                  <a:pt x="182" y="0"/>
                  <a:pt x="151" y="14"/>
                  <a:pt x="125" y="22"/>
                </a:cubicBezTo>
                <a:cubicBezTo>
                  <a:pt x="99" y="30"/>
                  <a:pt x="64" y="39"/>
                  <a:pt x="44" y="58"/>
                </a:cubicBezTo>
                <a:cubicBezTo>
                  <a:pt x="24" y="77"/>
                  <a:pt x="0" y="100"/>
                  <a:pt x="2" y="136"/>
                </a:cubicBezTo>
                <a:cubicBezTo>
                  <a:pt x="4" y="172"/>
                  <a:pt x="48" y="233"/>
                  <a:pt x="56" y="277"/>
                </a:cubicBezTo>
                <a:cubicBezTo>
                  <a:pt x="64" y="321"/>
                  <a:pt x="48" y="364"/>
                  <a:pt x="47" y="400"/>
                </a:cubicBezTo>
                <a:cubicBezTo>
                  <a:pt x="46" y="436"/>
                  <a:pt x="35" y="471"/>
                  <a:pt x="47" y="493"/>
                </a:cubicBezTo>
                <a:cubicBezTo>
                  <a:pt x="59" y="515"/>
                  <a:pt x="100" y="523"/>
                  <a:pt x="119" y="535"/>
                </a:cubicBezTo>
                <a:cubicBezTo>
                  <a:pt x="138" y="547"/>
                  <a:pt x="152" y="559"/>
                  <a:pt x="161" y="56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rot="558600">
            <a:off x="3870360" y="5127480"/>
            <a:ext cx="552240" cy="1035360"/>
          </a:xfrm>
          <a:custGeom>
            <a:avLst/>
            <a:gdLst/>
            <a:ahLst/>
            <a:rect l="l" t="t" r="r" b="b"/>
            <a:pathLst>
              <a:path w="262" h="486">
                <a:moveTo>
                  <a:pt x="200" y="0"/>
                </a:moveTo>
                <a:cubicBezTo>
                  <a:pt x="212" y="0"/>
                  <a:pt x="226" y="4"/>
                  <a:pt x="235" y="12"/>
                </a:cubicBezTo>
                <a:cubicBezTo>
                  <a:pt x="244" y="20"/>
                  <a:pt x="252" y="35"/>
                  <a:pt x="256" y="46"/>
                </a:cubicBezTo>
                <a:cubicBezTo>
                  <a:pt x="259" y="59"/>
                  <a:pt x="262" y="60"/>
                  <a:pt x="260" y="81"/>
                </a:cubicBezTo>
                <a:cubicBezTo>
                  <a:pt x="259" y="102"/>
                  <a:pt x="251" y="144"/>
                  <a:pt x="246" y="172"/>
                </a:cubicBezTo>
                <a:cubicBezTo>
                  <a:pt x="241" y="200"/>
                  <a:pt x="235" y="225"/>
                  <a:pt x="230" y="249"/>
                </a:cubicBezTo>
                <a:cubicBezTo>
                  <a:pt x="225" y="273"/>
                  <a:pt x="223" y="290"/>
                  <a:pt x="218" y="315"/>
                </a:cubicBezTo>
                <a:cubicBezTo>
                  <a:pt x="213" y="340"/>
                  <a:pt x="208" y="376"/>
                  <a:pt x="200" y="399"/>
                </a:cubicBezTo>
                <a:cubicBezTo>
                  <a:pt x="192" y="422"/>
                  <a:pt x="188" y="437"/>
                  <a:pt x="170" y="451"/>
                </a:cubicBezTo>
                <a:cubicBezTo>
                  <a:pt x="152" y="465"/>
                  <a:pt x="116" y="481"/>
                  <a:pt x="95" y="484"/>
                </a:cubicBezTo>
                <a:cubicBezTo>
                  <a:pt x="73" y="486"/>
                  <a:pt x="59" y="481"/>
                  <a:pt x="45" y="463"/>
                </a:cubicBezTo>
                <a:cubicBezTo>
                  <a:pt x="30" y="445"/>
                  <a:pt x="15" y="406"/>
                  <a:pt x="8" y="374"/>
                </a:cubicBezTo>
                <a:cubicBezTo>
                  <a:pt x="1" y="342"/>
                  <a:pt x="0" y="300"/>
                  <a:pt x="5" y="269"/>
                </a:cubicBezTo>
                <a:cubicBezTo>
                  <a:pt x="9" y="238"/>
                  <a:pt x="22" y="219"/>
                  <a:pt x="34" y="190"/>
                </a:cubicBezTo>
                <a:cubicBezTo>
                  <a:pt x="46" y="161"/>
                  <a:pt x="62" y="124"/>
                  <a:pt x="77" y="96"/>
                </a:cubicBezTo>
                <a:cubicBezTo>
                  <a:pt x="92" y="68"/>
                  <a:pt x="111" y="40"/>
                  <a:pt x="125" y="25"/>
                </a:cubicBezTo>
                <a:cubicBezTo>
                  <a:pt x="139" y="10"/>
                  <a:pt x="149" y="13"/>
                  <a:pt x="161" y="9"/>
                </a:cubicBezTo>
                <a:cubicBezTo>
                  <a:pt x="173" y="5"/>
                  <a:pt x="188" y="0"/>
                  <a:pt x="2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3086640" y="4884480"/>
            <a:ext cx="794880" cy="1419120"/>
            <a:chOff x="3086640" y="4884480"/>
            <a:chExt cx="794880" cy="1419120"/>
          </a:xfrm>
        </p:grpSpPr>
        <p:sp>
          <p:nvSpPr>
            <p:cNvPr id="1392" name=""/>
            <p:cNvSpPr/>
            <p:nvPr/>
          </p:nvSpPr>
          <p:spPr>
            <a:xfrm rot="13708800">
              <a:off x="3178080" y="6148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3708800">
              <a:off x="3125520" y="5756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3708800">
              <a:off x="3149280" y="60714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13708800">
              <a:off x="3164400" y="6005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13708800">
              <a:off x="3130200" y="5915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15954000">
              <a:off x="3464280" y="5775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15954000">
              <a:off x="3203640" y="5898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6344600">
              <a:off x="3426840" y="569772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16344600">
              <a:off x="3169080" y="5796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4892000">
              <a:off x="3489480" y="59371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4892000">
              <a:off x="3246120" y="61290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5339000">
              <a:off x="3479760" y="58492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rot="15339000">
              <a:off x="3226680" y="6014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rot="16330800">
              <a:off x="3441960" y="573984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6330800">
              <a:off x="3179880" y="58381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6330800">
              <a:off x="3214080" y="584964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6721400">
              <a:off x="3154320" y="5734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rot="16721400">
              <a:off x="3186720" y="5748840"/>
              <a:ext cx="9648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rot="15268800">
              <a:off x="3451320" y="5906160"/>
              <a:ext cx="5364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rot="15268800">
              <a:off x="3199680" y="6070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5268800">
              <a:off x="3229200" y="607824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14974200">
              <a:off x="3487680" y="59846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14974200">
              <a:off x="3244320" y="6166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14974200">
              <a:off x="3273840" y="61714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5715800">
              <a:off x="3449520" y="58183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15715800">
              <a:off x="3191760" y="5955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15715800">
              <a:off x="3224520" y="5964120"/>
              <a:ext cx="96120" cy="9648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rot="15046800">
              <a:off x="3110400" y="5820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5046800">
              <a:off x="3106800" y="5732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15046800">
              <a:off x="3102840" y="56415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15046800">
              <a:off x="3157920" y="5864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15046800">
              <a:off x="3153600" y="5772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15046800">
              <a:off x="3150360" y="5683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15046800">
              <a:off x="3150360" y="5594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15046800">
              <a:off x="3145320" y="55065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15046800">
              <a:off x="3246840" y="5122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5046800">
              <a:off x="3311640" y="50544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5046800">
              <a:off x="3148560" y="5424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15046800">
              <a:off x="3188520" y="5370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5046800">
              <a:off x="3191040" y="5272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15046800">
              <a:off x="3216600" y="5894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15711000">
              <a:off x="3496320" y="56678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15711000">
              <a:off x="3242520" y="58071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5841200">
              <a:off x="3495960" y="558072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15841200">
              <a:off x="3236400" y="5711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17293200">
              <a:off x="3515040" y="52477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3200">
              <a:off x="3265920" y="5285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17683800">
              <a:off x="3510000" y="5163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17683800">
              <a:off x="3270600" y="5178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8412800">
              <a:off x="3543480" y="51296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18412800">
              <a:off x="3330000" y="51015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19349400">
              <a:off x="3575880" y="50961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19349400">
              <a:off x="3405600" y="5020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16230600">
              <a:off x="3476880" y="54093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rot="16230600">
              <a:off x="3215520" y="5513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15936600">
              <a:off x="3492720" y="54939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15936600">
              <a:off x="3233880" y="5617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6678200">
              <a:off x="3500640" y="532584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6678200">
              <a:off x="3242880" y="5401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15423600">
              <a:off x="3434760" y="57016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5423600">
              <a:off x="3182040" y="5859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15423600">
              <a:off x="3215520" y="586512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16087200">
              <a:off x="3445200" y="562608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16087200">
              <a:off x="3184560" y="5736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16087200">
              <a:off x="3217680" y="574920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16218600">
              <a:off x="3451320" y="553860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16218600">
              <a:off x="3190680" y="56433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16218600">
              <a:off x="3224880" y="56548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17669400">
              <a:off x="3506760" y="520920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17669400">
              <a:off x="3266280" y="52203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17669400">
              <a:off x="3298320" y="52390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18060000">
              <a:off x="3510000" y="51253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8060000">
              <a:off x="3281760" y="5113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rot="18060000">
              <a:off x="3310920" y="513576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8789000">
              <a:off x="3549600" y="50936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18789000">
              <a:off x="3352680" y="5046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18789000">
              <a:off x="3378600" y="507060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16606800">
              <a:off x="3451320" y="5364360"/>
              <a:ext cx="5364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606800">
              <a:off x="3195720" y="5442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16606800">
              <a:off x="3226680" y="545796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16312800">
              <a:off x="3458160" y="5451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16312800">
              <a:off x="3199320" y="5548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16312800">
              <a:off x="3232080" y="556056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17054400">
              <a:off x="3485520" y="52844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054400">
              <a:off x="3231360" y="5332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7054400">
              <a:off x="3264480" y="535068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14752200">
              <a:off x="3119400" y="55573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14752200">
              <a:off x="3170520" y="5596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14752200">
              <a:off x="3123360" y="54518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4752200">
              <a:off x="3137400" y="5331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14752200">
              <a:off x="3171240" y="5277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14752200">
              <a:off x="3236040" y="5207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14752200">
              <a:off x="3165120" y="55144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14752200">
              <a:off x="3199320" y="54579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4752200">
              <a:off x="3194280" y="53625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16998000">
              <a:off x="3524400" y="53114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16998000">
              <a:off x="3269160" y="5365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17388600">
              <a:off x="3511440" y="522684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17388600">
              <a:off x="3266280" y="5258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15936000">
              <a:off x="3500640" y="547452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5936000">
              <a:off x="3241080" y="5599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16383000">
              <a:off x="3517200" y="5387040"/>
              <a:ext cx="5220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16383000">
              <a:off x="3257280" y="5483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17373600">
              <a:off x="3512520" y="52725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17373600">
              <a:off x="3264480" y="5301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17373600">
              <a:off x="3298320" y="53200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7764800">
              <a:off x="3272400" y="5194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17764800">
              <a:off x="3302280" y="521640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16312200">
              <a:off x="3472200" y="5433120"/>
              <a:ext cx="5364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16312200">
              <a:off x="3213000" y="55296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6312200">
              <a:off x="3244320" y="554364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16018200">
              <a:off x="3484440" y="55191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6018200">
              <a:off x="3227760" y="56343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6018200">
              <a:off x="3259800" y="564516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6759200">
              <a:off x="3497040" y="53499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6759200">
              <a:off x="3241440" y="5417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6759200">
              <a:off x="3273120" y="543240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090800">
              <a:off x="3204360" y="52646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090800">
              <a:off x="3227040" y="5180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16090800">
              <a:off x="3250440" y="5092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16090800">
              <a:off x="3274560" y="5005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16090800">
              <a:off x="3300840" y="4919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6090800">
              <a:off x="3236400" y="5320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16090800">
              <a:off x="3258360" y="5232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16090800">
              <a:off x="3282840" y="5146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16090800">
              <a:off x="3308400" y="50612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rot="16090800">
              <a:off x="3331800" y="4975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16090800">
              <a:off x="3358800" y="48981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rot="16090800">
              <a:off x="3282120" y="5366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6755000">
              <a:off x="3587400" y="52210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16755000">
              <a:off x="3332880" y="52905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16885800">
              <a:off x="3613320" y="513540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16885800">
              <a:off x="3357360" y="51984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17274000">
              <a:off x="3645360" y="49672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7274000">
              <a:off x="3395160" y="5003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980000">
              <a:off x="3636000" y="505260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980000">
              <a:off x="3382920" y="5108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17721600">
              <a:off x="3693600" y="489456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7721600">
              <a:off x="3456360" y="4904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6467000">
              <a:off x="3519360" y="52336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6467000">
              <a:off x="3261960" y="53215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16467000">
              <a:off x="3293640" y="533484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17130600">
              <a:off x="3552120" y="516420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17130600">
              <a:off x="3299760" y="5206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7130600">
              <a:off x="3331440" y="522648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7261400">
              <a:off x="3583440" y="50828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17261400">
              <a:off x="3333600" y="51188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17261400">
              <a:off x="3366360" y="51364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17651400">
              <a:off x="3634200" y="4917960"/>
              <a:ext cx="5364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17651400">
              <a:off x="3398760" y="4928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7651400">
              <a:off x="3427200" y="495072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7356200">
              <a:off x="3616200" y="500220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7356200">
              <a:off x="3369960" y="50320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7356200">
              <a:off x="3401640" y="505008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132520" y="5136480"/>
            <a:ext cx="876240" cy="1535400"/>
            <a:chOff x="5132520" y="5136480"/>
            <a:chExt cx="876240" cy="1535400"/>
          </a:xfrm>
        </p:grpSpPr>
        <p:sp>
          <p:nvSpPr>
            <p:cNvPr id="1547" name=""/>
            <p:cNvSpPr/>
            <p:nvPr/>
          </p:nvSpPr>
          <p:spPr>
            <a:xfrm rot="3930000">
              <a:off x="5668200" y="6166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3930000">
              <a:off x="5656320" y="62888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3930000">
              <a:off x="5622480" y="63406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3930000">
              <a:off x="5558400" y="64144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3930000">
              <a:off x="5500800" y="64882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3930000">
              <a:off x="5631480" y="610740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3930000">
              <a:off x="5615280" y="61754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3930000">
              <a:off x="5599080" y="62568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6176400">
              <a:off x="5523840" y="62535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6567000">
              <a:off x="5528880" y="6361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7296600">
              <a:off x="5316840" y="62193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7296600">
              <a:off x="5475960" y="6442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8232600">
              <a:off x="5406480" y="652752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5561400">
              <a:off x="5534640" y="6137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6176400">
              <a:off x="5337360" y="609876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6567000">
              <a:off x="5349960" y="61819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8232600">
              <a:off x="5287320" y="62560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561400">
              <a:off x="5343480" y="60213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6176400">
              <a:off x="5288040" y="605952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6567000">
              <a:off x="5300280" y="61426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7296600">
              <a:off x="5267160" y="61801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8232600">
              <a:off x="5239080" y="62168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5561400">
              <a:off x="5293080" y="598212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6176400">
              <a:off x="5473800" y="62157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6176400">
              <a:off x="5465160" y="622260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6567000">
              <a:off x="5479200" y="63234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6567000">
              <a:off x="5470920" y="632664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7296600">
              <a:off x="5425200" y="64029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7296600">
              <a:off x="5420160" y="6406920"/>
              <a:ext cx="9612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8232600">
              <a:off x="5356800" y="64879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8232600">
              <a:off x="5355000" y="6486120"/>
              <a:ext cx="96120" cy="9468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5154120" y="5931720"/>
              <a:ext cx="623520" cy="414000"/>
              <a:chOff x="5154120" y="5931720"/>
              <a:chExt cx="623520" cy="414000"/>
            </a:xfrm>
          </p:grpSpPr>
          <p:sp>
            <p:nvSpPr>
              <p:cNvPr id="1579" name=""/>
              <p:cNvSpPr/>
              <p:nvPr/>
            </p:nvSpPr>
            <p:spPr>
              <a:xfrm rot="5278800">
                <a:off x="5655960" y="6051960"/>
                <a:ext cx="11916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5278800">
                <a:off x="5629680" y="613800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5278800">
                <a:off x="5607000" y="622404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5278800">
                <a:off x="5599440" y="6083640"/>
                <a:ext cx="11916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5278800">
                <a:off x="5576040" y="6168960"/>
                <a:ext cx="11916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6463200">
                <a:off x="5511600" y="6140880"/>
                <a:ext cx="11952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6168000">
                <a:off x="5523840" y="6036480"/>
                <a:ext cx="119160" cy="11988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6463200">
                <a:off x="5325480" y="596592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6168000">
                <a:off x="5334120" y="588024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6463200">
                <a:off x="5294880" y="5912640"/>
                <a:ext cx="52560" cy="33444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6168000">
                <a:off x="5303880" y="5827320"/>
                <a:ext cx="52560" cy="334080"/>
              </a:xfrm>
              <a:custGeom>
                <a:avLst/>
                <a:gdLst/>
                <a:ahLst/>
                <a:rect l="l" t="t" r="r" b="b"/>
                <a:pathLst>
                  <a:path w="40" h="254">
                    <a:moveTo>
                      <a:pt x="0" y="193"/>
                    </a:moveTo>
                    <a:lnTo>
                      <a:pt x="4" y="224"/>
                    </a:lnTo>
                    <a:lnTo>
                      <a:pt x="14" y="246"/>
                    </a:lnTo>
                    <a:lnTo>
                      <a:pt x="23" y="254"/>
                    </a:lnTo>
                    <a:lnTo>
                      <a:pt x="31" y="245"/>
                    </a:lnTo>
                    <a:lnTo>
                      <a:pt x="38" y="224"/>
                    </a:lnTo>
                    <a:lnTo>
                      <a:pt x="40" y="19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6463200">
                <a:off x="5479200" y="6086520"/>
                <a:ext cx="119520" cy="1198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6463200">
                <a:off x="5470920" y="6091560"/>
                <a:ext cx="96120" cy="96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6168000">
                <a:off x="5493240" y="5982840"/>
                <a:ext cx="118080" cy="11952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cc00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6168000">
                <a:off x="5483520" y="5989320"/>
                <a:ext cx="94680" cy="950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 rot="5561400">
              <a:off x="5486040" y="60980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5561400">
              <a:off x="5475240" y="610884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5629200">
              <a:off x="5884920" y="53510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5629200">
              <a:off x="5853960" y="5434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5629200">
              <a:off x="5821920" y="55180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5629200">
              <a:off x="5787720" y="56001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5629200">
              <a:off x="5755680" y="5681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5629200">
              <a:off x="5860800" y="52920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5629200">
              <a:off x="5827680" y="53740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5629200">
              <a:off x="5796360" y="54590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5629200">
              <a:off x="5762160" y="55422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5629200">
              <a:off x="5730120" y="56260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5629200">
              <a:off x="5697720" y="570564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5629200">
              <a:off x="5816520" y="52437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6293400">
              <a:off x="5759640" y="5310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6424200">
              <a:off x="5726160" y="54003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6813000">
              <a:off x="5669640" y="55908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6519000">
              <a:off x="5693760" y="54896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5629200">
              <a:off x="5605560" y="507564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6293400">
              <a:off x="5573880" y="5148360"/>
              <a:ext cx="52560" cy="33372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6424200">
              <a:off x="5542560" y="522864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rot="6813000">
              <a:off x="5492160" y="53956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rot="6519000">
              <a:off x="5509080" y="531072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rot="7260000">
              <a:off x="5437800" y="54637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5629200">
              <a:off x="5581080" y="5020200"/>
              <a:ext cx="5220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6293400">
              <a:off x="5548320" y="508932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6424200">
              <a:off x="5516640" y="517068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6813000">
              <a:off x="5466240" y="533664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6519000">
              <a:off x="5484240" y="52534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7260000">
              <a:off x="5414040" y="540504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5629200">
              <a:off x="5771520" y="51400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5629200">
              <a:off x="5765400" y="5148000"/>
              <a:ext cx="9504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6293400">
              <a:off x="5733720" y="52538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6293400">
              <a:off x="5726880" y="525924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6424200">
              <a:off x="5699880" y="53438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6424200">
              <a:off x="5694120" y="534744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6813000">
              <a:off x="5643360" y="55332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6813000">
              <a:off x="5634360" y="553536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6519000">
              <a:off x="5668200" y="5431320"/>
              <a:ext cx="11844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6519000">
              <a:off x="5658480" y="5435640"/>
              <a:ext cx="9504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7260000">
              <a:off x="5573160" y="56282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7260000">
              <a:off x="5567760" y="562860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5191200">
              <a:off x="5753160" y="56484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5191200">
              <a:off x="5733360" y="57358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5191200">
              <a:off x="5711760" y="58222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5191200">
              <a:off x="5688720" y="590904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5191200">
              <a:off x="5667120" y="59943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5191200">
              <a:off x="5720400" y="559476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5191200">
              <a:off x="5699520" y="5679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5191200">
              <a:off x="5679000" y="57682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5191200">
              <a:off x="5655960" y="58550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5191200">
              <a:off x="5634000" y="59418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5191200">
              <a:off x="5613120" y="602424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5855400">
              <a:off x="5623920" y="56264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5986200">
              <a:off x="5601600" y="571860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6375000">
              <a:off x="5569200" y="591444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rot="6081600">
              <a:off x="5580000" y="581148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6822600">
              <a:off x="5513040" y="601776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5855400">
              <a:off x="5432040" y="549108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5986200">
              <a:off x="5411520" y="5575320"/>
              <a:ext cx="52560" cy="33300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rot="6375000">
              <a:off x="5382720" y="57463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rot="6081600">
              <a:off x="5389200" y="56613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6822600">
              <a:off x="5338080" y="582192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5855400">
              <a:off x="5399640" y="54363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5986200">
              <a:off x="5379480" y="5521320"/>
              <a:ext cx="5220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6375000">
              <a:off x="5349960" y="5691960"/>
              <a:ext cx="5256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rot="6081600">
              <a:off x="5356800" y="5607360"/>
              <a:ext cx="52200" cy="33408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rot="6822600">
              <a:off x="5306760" y="5767200"/>
              <a:ext cx="52560" cy="332640"/>
            </a:xfrm>
            <a:custGeom>
              <a:avLst/>
              <a:gdLst/>
              <a:ahLst/>
              <a:rect l="l" t="t" r="r" b="b"/>
              <a:pathLst>
                <a:path w="40" h="254">
                  <a:moveTo>
                    <a:pt x="0" y="193"/>
                  </a:moveTo>
                  <a:lnTo>
                    <a:pt x="4" y="224"/>
                  </a:lnTo>
                  <a:lnTo>
                    <a:pt x="14" y="246"/>
                  </a:lnTo>
                  <a:lnTo>
                    <a:pt x="23" y="254"/>
                  </a:lnTo>
                  <a:lnTo>
                    <a:pt x="31" y="245"/>
                  </a:lnTo>
                  <a:lnTo>
                    <a:pt x="38" y="224"/>
                  </a:lnTo>
                  <a:lnTo>
                    <a:pt x="40" y="195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5855400">
              <a:off x="5591520" y="557172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5855400">
              <a:off x="5582520" y="558036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5986200">
              <a:off x="5568840" y="5665680"/>
              <a:ext cx="11952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5986200">
              <a:off x="5562360" y="5672520"/>
              <a:ext cx="9468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rot="6375000">
              <a:off x="5536440" y="58608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rot="6375000">
              <a:off x="5526720" y="5865120"/>
              <a:ext cx="96120" cy="9612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6081600">
              <a:off x="5548320" y="5756760"/>
              <a:ext cx="1180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6081600">
              <a:off x="5538240" y="5763960"/>
              <a:ext cx="94680" cy="9468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6822600">
              <a:off x="5479920" y="5963400"/>
              <a:ext cx="11988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6822600">
              <a:off x="5472360" y="5966280"/>
              <a:ext cx="96120" cy="9612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6402240" y="51055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114800" y="3824280"/>
            <a:ext cx="152280" cy="214200"/>
          </a:xfrm>
          <a:custGeom>
            <a:avLst/>
            <a:gdLst/>
            <a:ahLst/>
            <a:rect l="l" t="t" r="r" b="b"/>
            <a:pathLst>
              <a:path w="96" h="135">
                <a:moveTo>
                  <a:pt x="96" y="0"/>
                </a:moveTo>
                <a:lnTo>
                  <a:pt x="0" y="0"/>
                </a:lnTo>
                <a:lnTo>
                  <a:pt x="48" y="135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4191120" y="237636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5400000">
            <a:off x="4753440" y="3029760"/>
            <a:ext cx="152280" cy="214200"/>
          </a:xfrm>
          <a:custGeom>
            <a:avLst/>
            <a:gdLst/>
            <a:ahLst/>
            <a:rect l="l" t="t" r="r" b="b"/>
            <a:pathLst>
              <a:path w="96" h="135">
                <a:moveTo>
                  <a:pt x="96" y="0"/>
                </a:moveTo>
                <a:lnTo>
                  <a:pt x="0" y="0"/>
                </a:lnTo>
                <a:lnTo>
                  <a:pt x="48" y="135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938840" y="3137040"/>
            <a:ext cx="7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6224760" y="3405960"/>
            <a:ext cx="440640" cy="241200"/>
            <a:chOff x="6224760" y="3405960"/>
            <a:chExt cx="440640" cy="241200"/>
          </a:xfrm>
        </p:grpSpPr>
        <p:sp>
          <p:nvSpPr>
            <p:cNvPr id="1678" name=""/>
            <p:cNvSpPr/>
            <p:nvPr/>
          </p:nvSpPr>
          <p:spPr>
            <a:xfrm rot="1266600">
              <a:off x="6332040" y="3536280"/>
              <a:ext cx="334800" cy="5220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14086200">
              <a:off x="6247800" y="3429720"/>
              <a:ext cx="12024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7360920" y="2335680"/>
            <a:ext cx="257040" cy="412200"/>
            <a:chOff x="7360920" y="2335680"/>
            <a:chExt cx="257040" cy="412200"/>
          </a:xfrm>
        </p:grpSpPr>
        <p:sp>
          <p:nvSpPr>
            <p:cNvPr id="1681" name=""/>
            <p:cNvSpPr/>
            <p:nvPr/>
          </p:nvSpPr>
          <p:spPr>
            <a:xfrm rot="3801600">
              <a:off x="7351920" y="2559960"/>
              <a:ext cx="334800" cy="525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6620600">
              <a:off x="7366680" y="2342880"/>
              <a:ext cx="12060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7708680" y="2263680"/>
            <a:ext cx="428400" cy="281880"/>
            <a:chOff x="7708680" y="2263680"/>
            <a:chExt cx="428400" cy="281880"/>
          </a:xfrm>
        </p:grpSpPr>
        <p:sp>
          <p:nvSpPr>
            <p:cNvPr id="1684" name=""/>
            <p:cNvSpPr/>
            <p:nvPr/>
          </p:nvSpPr>
          <p:spPr>
            <a:xfrm flipH="1" rot="19923600">
              <a:off x="7700760" y="2418840"/>
              <a:ext cx="33516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rot="2802000">
              <a:off x="7993080" y="2287800"/>
              <a:ext cx="118800" cy="119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6707880" y="3575880"/>
            <a:ext cx="410760" cy="312840"/>
            <a:chOff x="6707880" y="3575880"/>
            <a:chExt cx="410760" cy="312840"/>
          </a:xfrm>
        </p:grpSpPr>
        <p:sp>
          <p:nvSpPr>
            <p:cNvPr id="1687" name=""/>
            <p:cNvSpPr/>
            <p:nvPr/>
          </p:nvSpPr>
          <p:spPr>
            <a:xfrm flipH="1" rot="8772600">
              <a:off x="6797520" y="366444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rot="13251000">
              <a:off x="6732000" y="374508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6081120" y="2277000"/>
            <a:ext cx="1125720" cy="1114920"/>
            <a:chOff x="6081120" y="2277000"/>
            <a:chExt cx="1125720" cy="1114920"/>
          </a:xfrm>
        </p:grpSpPr>
        <p:grpSp>
          <p:nvGrpSpPr>
            <p:cNvPr id="1690" name=""/>
            <p:cNvGrpSpPr/>
            <p:nvPr/>
          </p:nvGrpSpPr>
          <p:grpSpPr>
            <a:xfrm>
              <a:off x="6611040" y="2277000"/>
              <a:ext cx="138240" cy="444960"/>
              <a:chOff x="6611040" y="2277000"/>
              <a:chExt cx="138240" cy="444960"/>
            </a:xfrm>
          </p:grpSpPr>
          <p:sp>
            <p:nvSpPr>
              <p:cNvPr id="1691" name=""/>
              <p:cNvSpPr/>
              <p:nvPr/>
            </p:nvSpPr>
            <p:spPr>
              <a:xfrm flipH="1" rot="16501200">
                <a:off x="6493320" y="252756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rot="20980200">
                <a:off x="6620400" y="22863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6661440" y="2335680"/>
              <a:ext cx="248400" cy="420480"/>
              <a:chOff x="6661440" y="2335680"/>
              <a:chExt cx="248400" cy="420480"/>
            </a:xfrm>
          </p:grpSpPr>
          <p:sp>
            <p:nvSpPr>
              <p:cNvPr id="1694" name=""/>
              <p:cNvSpPr/>
              <p:nvPr/>
            </p:nvSpPr>
            <p:spPr>
              <a:xfrm flipH="1" rot="17675400">
                <a:off x="6586920" y="2567520"/>
                <a:ext cx="33516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 rot="553800">
                <a:off x="6781680" y="2344320"/>
                <a:ext cx="11880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6758280" y="2761560"/>
              <a:ext cx="448560" cy="144000"/>
              <a:chOff x="6758280" y="2761560"/>
              <a:chExt cx="448560" cy="144000"/>
            </a:xfrm>
          </p:grpSpPr>
          <p:sp>
            <p:nvSpPr>
              <p:cNvPr id="1697" name=""/>
              <p:cNvSpPr/>
              <p:nvPr/>
            </p:nvSpPr>
            <p:spPr>
              <a:xfrm flipH="1" rot="88800">
                <a:off x="6758280" y="2801520"/>
                <a:ext cx="33516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rot="4567200">
                <a:off x="7074720" y="2773440"/>
                <a:ext cx="11880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6746760" y="2839320"/>
              <a:ext cx="427680" cy="186120"/>
              <a:chOff x="6746760" y="2839320"/>
              <a:chExt cx="427680" cy="186120"/>
            </a:xfrm>
          </p:grpSpPr>
          <p:sp>
            <p:nvSpPr>
              <p:cNvPr id="1700" name=""/>
              <p:cNvSpPr/>
              <p:nvPr/>
            </p:nvSpPr>
            <p:spPr>
              <a:xfrm flipH="1" rot="937800">
                <a:off x="6747120" y="288360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rot="5416200">
                <a:off x="7054560" y="29059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6501600" y="2938680"/>
              <a:ext cx="144720" cy="441720"/>
              <a:chOff x="6501600" y="2938680"/>
              <a:chExt cx="144720" cy="441720"/>
            </a:xfrm>
          </p:grpSpPr>
          <p:sp>
            <p:nvSpPr>
              <p:cNvPr id="1703" name=""/>
              <p:cNvSpPr/>
              <p:nvPr/>
            </p:nvSpPr>
            <p:spPr>
              <a:xfrm flipH="1" rot="5880600">
                <a:off x="6430320" y="308268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rot="10358400">
                <a:off x="6508440" y="325404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6714000" y="2878920"/>
              <a:ext cx="389520" cy="327600"/>
              <a:chOff x="6714000" y="2878920"/>
              <a:chExt cx="389520" cy="327600"/>
            </a:xfrm>
          </p:grpSpPr>
          <p:sp>
            <p:nvSpPr>
              <p:cNvPr id="1706" name=""/>
              <p:cNvSpPr/>
              <p:nvPr/>
            </p:nvSpPr>
            <p:spPr>
              <a:xfrm flipH="1" rot="2261400">
                <a:off x="6694560" y="297576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rot="6739200">
                <a:off x="6966000" y="306900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6679080" y="2907360"/>
              <a:ext cx="309960" cy="411840"/>
              <a:chOff x="6679080" y="2907360"/>
              <a:chExt cx="309960" cy="411840"/>
            </a:xfrm>
          </p:grpSpPr>
          <p:sp>
            <p:nvSpPr>
              <p:cNvPr id="1709" name=""/>
              <p:cNvSpPr/>
              <p:nvPr/>
            </p:nvSpPr>
            <p:spPr>
              <a:xfrm flipH="1" rot="3407400">
                <a:off x="6624000" y="303588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rot="7885800">
                <a:off x="6844680" y="31755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6641640" y="2938680"/>
              <a:ext cx="161640" cy="453240"/>
              <a:chOff x="6641640" y="2938680"/>
              <a:chExt cx="161640" cy="453240"/>
            </a:xfrm>
          </p:grpSpPr>
          <p:sp>
            <p:nvSpPr>
              <p:cNvPr id="1712" name=""/>
              <p:cNvSpPr/>
              <p:nvPr/>
            </p:nvSpPr>
            <p:spPr>
              <a:xfrm flipH="1" rot="4858200">
                <a:off x="6525000" y="308232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 rot="9336600">
                <a:off x="6665040" y="32533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6710760" y="2435040"/>
              <a:ext cx="390240" cy="340200"/>
              <a:chOff x="6710760" y="2435040"/>
              <a:chExt cx="390240" cy="340200"/>
            </a:xfrm>
          </p:grpSpPr>
          <p:sp>
            <p:nvSpPr>
              <p:cNvPr id="1715" name=""/>
              <p:cNvSpPr/>
              <p:nvPr/>
            </p:nvSpPr>
            <p:spPr>
              <a:xfrm flipH="1" rot="19240200">
                <a:off x="6688800" y="2624040"/>
                <a:ext cx="33516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 rot="2118600">
                <a:off x="6958080" y="2458440"/>
                <a:ext cx="11880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6737400" y="2576520"/>
              <a:ext cx="446040" cy="227520"/>
              <a:chOff x="6737400" y="2576520"/>
              <a:chExt cx="446040" cy="227520"/>
            </a:xfrm>
          </p:grpSpPr>
          <p:sp>
            <p:nvSpPr>
              <p:cNvPr id="1718" name=""/>
              <p:cNvSpPr/>
              <p:nvPr/>
            </p:nvSpPr>
            <p:spPr>
              <a:xfrm flipH="1" rot="20464200">
                <a:off x="6735600" y="270036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rot="3342600">
                <a:off x="7040880" y="25995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6376680" y="2926800"/>
              <a:ext cx="224640" cy="424080"/>
              <a:chOff x="6376680" y="2926800"/>
              <a:chExt cx="224640" cy="424080"/>
            </a:xfrm>
          </p:grpSpPr>
          <p:sp>
            <p:nvSpPr>
              <p:cNvPr id="1721" name=""/>
              <p:cNvSpPr/>
              <p:nvPr/>
            </p:nvSpPr>
            <p:spPr>
              <a:xfrm flipH="1" rot="6666000">
                <a:off x="6350040" y="306684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rot="11144400">
                <a:off x="6381720" y="32259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6081120" y="2781720"/>
              <a:ext cx="450360" cy="149400"/>
              <a:chOff x="6081120" y="2781720"/>
              <a:chExt cx="450360" cy="149400"/>
            </a:xfrm>
          </p:grpSpPr>
          <p:sp>
            <p:nvSpPr>
              <p:cNvPr id="1724" name=""/>
              <p:cNvSpPr/>
              <p:nvPr/>
            </p:nvSpPr>
            <p:spPr>
              <a:xfrm flipH="1" rot="10659600">
                <a:off x="6195240" y="282348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rot="15138000">
                <a:off x="6095880" y="279684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6101280" y="2642040"/>
              <a:ext cx="427680" cy="191880"/>
              <a:chOff x="6101280" y="2642040"/>
              <a:chExt cx="427680" cy="191880"/>
            </a:xfrm>
          </p:grpSpPr>
          <p:sp>
            <p:nvSpPr>
              <p:cNvPr id="1727" name=""/>
              <p:cNvSpPr/>
              <p:nvPr/>
            </p:nvSpPr>
            <p:spPr>
              <a:xfrm flipH="1" rot="11786400">
                <a:off x="6193800" y="273672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 rot="16264800">
                <a:off x="6102000" y="2642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6162480" y="2483640"/>
              <a:ext cx="396000" cy="316080"/>
              <a:chOff x="6162480" y="2483640"/>
              <a:chExt cx="396000" cy="316080"/>
            </a:xfrm>
          </p:grpSpPr>
          <p:sp>
            <p:nvSpPr>
              <p:cNvPr id="1730" name=""/>
              <p:cNvSpPr/>
              <p:nvPr/>
            </p:nvSpPr>
            <p:spPr>
              <a:xfrm flipH="1" rot="12933000">
                <a:off x="6239520" y="265608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rot="17411400">
                <a:off x="6179040" y="250020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6261120" y="2359080"/>
              <a:ext cx="325080" cy="401760"/>
              <a:chOff x="6261120" y="2359080"/>
              <a:chExt cx="325080" cy="401760"/>
            </a:xfrm>
          </p:grpSpPr>
          <p:sp>
            <p:nvSpPr>
              <p:cNvPr id="1733" name=""/>
              <p:cNvSpPr/>
              <p:nvPr/>
            </p:nvSpPr>
            <p:spPr>
              <a:xfrm flipH="1" rot="14026800">
                <a:off x="6299280" y="258516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rot="18505200">
                <a:off x="6284880" y="238284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6437880" y="2289600"/>
              <a:ext cx="191520" cy="451800"/>
              <a:chOff x="6437880" y="2289600"/>
              <a:chExt cx="191520" cy="451800"/>
            </a:xfrm>
          </p:grpSpPr>
          <p:sp>
            <p:nvSpPr>
              <p:cNvPr id="1736" name=""/>
              <p:cNvSpPr/>
              <p:nvPr/>
            </p:nvSpPr>
            <p:spPr>
              <a:xfrm flipH="1" rot="15394200">
                <a:off x="6397920" y="254700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 rot="19872600">
                <a:off x="6458760" y="231084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6205680" y="2890440"/>
              <a:ext cx="361440" cy="367560"/>
              <a:chOff x="6205680" y="2890440"/>
              <a:chExt cx="361440" cy="367560"/>
            </a:xfrm>
          </p:grpSpPr>
          <p:sp>
            <p:nvSpPr>
              <p:cNvPr id="1739" name=""/>
              <p:cNvSpPr/>
              <p:nvPr/>
            </p:nvSpPr>
            <p:spPr>
              <a:xfrm flipH="1" rot="8047200">
                <a:off x="6264360" y="3002760"/>
                <a:ext cx="33516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 rot="12525600">
                <a:off x="6226560" y="3116880"/>
                <a:ext cx="118800" cy="11952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6113520" y="2842920"/>
              <a:ext cx="434880" cy="264240"/>
              <a:chOff x="6113520" y="2842920"/>
              <a:chExt cx="434880" cy="264240"/>
            </a:xfrm>
          </p:grpSpPr>
          <p:sp>
            <p:nvSpPr>
              <p:cNvPr id="1742" name=""/>
              <p:cNvSpPr/>
              <p:nvPr/>
            </p:nvSpPr>
            <p:spPr>
              <a:xfrm flipH="1" rot="9304200">
                <a:off x="6217920" y="2910960"/>
                <a:ext cx="334800" cy="50760"/>
              </a:xfrm>
              <a:custGeom>
                <a:avLst/>
                <a:gdLst/>
                <a:ahLst/>
                <a:rect l="l" t="t" r="r" b="b"/>
                <a:pathLst>
                  <a:path w="256" h="39">
                    <a:moveTo>
                      <a:pt x="203" y="38"/>
                    </a:moveTo>
                    <a:lnTo>
                      <a:pt x="229" y="35"/>
                    </a:lnTo>
                    <a:lnTo>
                      <a:pt x="248" y="28"/>
                    </a:lnTo>
                    <a:lnTo>
                      <a:pt x="256" y="19"/>
                    </a:lnTo>
                    <a:lnTo>
                      <a:pt x="248" y="10"/>
                    </a:lnTo>
                    <a:lnTo>
                      <a:pt x="227" y="4"/>
                    </a:lnTo>
                    <a:lnTo>
                      <a:pt x="203" y="1"/>
                    </a:lnTo>
                    <a:lnTo>
                      <a:pt x="0" y="0"/>
                    </a:lnTo>
                    <a:lnTo>
                      <a:pt x="1" y="39"/>
                    </a:lnTo>
                    <a:lnTo>
                      <a:pt x="203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cc00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 rot="13782000">
                <a:off x="6137280" y="29635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4" name=""/>
          <p:cNvGrpSpPr/>
          <p:nvPr/>
        </p:nvGrpSpPr>
        <p:grpSpPr>
          <a:xfrm>
            <a:off x="7223040" y="2885760"/>
            <a:ext cx="1126800" cy="1115640"/>
            <a:chOff x="7223040" y="2885760"/>
            <a:chExt cx="1126800" cy="1115640"/>
          </a:xfrm>
        </p:grpSpPr>
        <p:sp>
          <p:nvSpPr>
            <p:cNvPr id="1745" name=""/>
            <p:cNvSpPr/>
            <p:nvPr/>
          </p:nvSpPr>
          <p:spPr>
            <a:xfrm flipH="1" rot="16502400">
              <a:off x="7637760" y="3135600"/>
              <a:ext cx="334800" cy="5112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 rot="20980200">
              <a:off x="7763400" y="2895120"/>
              <a:ext cx="11916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 rot="17676000">
              <a:off x="7731360" y="3175200"/>
              <a:ext cx="335160" cy="5112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 rot="554400">
              <a:off x="7925760" y="295416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rot="89400">
              <a:off x="7903080" y="341244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 rot="4567800">
              <a:off x="8218440" y="338400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 rot="939000">
              <a:off x="7891200" y="349344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rot="5416800">
              <a:off x="8198640" y="351576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rot="5881200">
              <a:off x="7576200" y="369288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rot="10359600">
              <a:off x="7652160" y="386460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rot="2262000">
              <a:off x="7837920" y="3587040"/>
              <a:ext cx="335160" cy="5040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rot="6739800">
              <a:off x="8110080" y="36802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rot="3408000">
              <a:off x="7769880" y="3645000"/>
              <a:ext cx="33516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rot="7886400">
              <a:off x="7988760" y="37850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rot="4858800">
              <a:off x="7670880" y="369288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rot="9336600">
              <a:off x="7808400" y="3863160"/>
              <a:ext cx="11916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rot="19240800">
              <a:off x="7832880" y="3233160"/>
              <a:ext cx="33444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rot="2119200">
              <a:off x="8101800" y="306828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rot="20464800">
              <a:off x="7879320" y="331128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rot="3342600">
              <a:off x="8184600" y="320940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rot="6666600">
              <a:off x="7495200" y="367704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rot="11145000">
              <a:off x="7524360" y="383616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rot="10660200">
              <a:off x="7338600" y="3434760"/>
              <a:ext cx="33516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rot="15138600">
              <a:off x="7237440" y="3408120"/>
              <a:ext cx="11916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 rot="11787000">
              <a:off x="7334280" y="3346560"/>
              <a:ext cx="335160" cy="5112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 rot="16264800">
              <a:off x="7244280" y="325224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 rot="12933600">
              <a:off x="7381800" y="3266280"/>
              <a:ext cx="334800" cy="5112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 rot="17412000">
              <a:off x="7320960" y="3109680"/>
              <a:ext cx="119160" cy="1184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 rot="14027400">
              <a:off x="7442280" y="3194280"/>
              <a:ext cx="33516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 rot="18505800">
              <a:off x="7427880" y="299196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 rot="15394800">
              <a:off x="7542720" y="3156120"/>
              <a:ext cx="335160" cy="5112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 rot="19873200">
              <a:off x="7601760" y="29192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 rot="8047800">
              <a:off x="7408440" y="3612960"/>
              <a:ext cx="33516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 rot="12525600">
              <a:off x="7369200" y="372636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rot="9304800">
              <a:off x="7360560" y="3521520"/>
              <a:ext cx="334800" cy="50760"/>
            </a:xfrm>
            <a:custGeom>
              <a:avLst/>
              <a:gdLst/>
              <a:ahLst/>
              <a:rect l="l" t="t" r="r" b="b"/>
              <a:pathLst>
                <a:path w="256" h="39">
                  <a:moveTo>
                    <a:pt x="203" y="38"/>
                  </a:moveTo>
                  <a:lnTo>
                    <a:pt x="229" y="35"/>
                  </a:lnTo>
                  <a:lnTo>
                    <a:pt x="248" y="28"/>
                  </a:lnTo>
                  <a:lnTo>
                    <a:pt x="256" y="19"/>
                  </a:lnTo>
                  <a:lnTo>
                    <a:pt x="248" y="10"/>
                  </a:lnTo>
                  <a:lnTo>
                    <a:pt x="227" y="4"/>
                  </a:lnTo>
                  <a:lnTo>
                    <a:pt x="203" y="1"/>
                  </a:lnTo>
                  <a:lnTo>
                    <a:pt x="0" y="0"/>
                  </a:lnTo>
                  <a:lnTo>
                    <a:pt x="1" y="39"/>
                  </a:lnTo>
                  <a:lnTo>
                    <a:pt x="203" y="3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 rot="13783200">
              <a:off x="7279200" y="3574440"/>
              <a:ext cx="119160" cy="1191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454680" y="241128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lubilized membra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435800" y="93996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p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i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800280"/>
            <a:ext cx="152640" cy="952200"/>
          </a:xfrm>
          <a:custGeom>
            <a:avLst/>
            <a:gdLst/>
            <a:ahLst/>
            <a:rect l="l" t="t" r="r" b="b"/>
            <a:pathLst>
              <a:path w="708" h="467">
                <a:moveTo>
                  <a:pt x="0" y="12"/>
                </a:moveTo>
                <a:cubicBezTo>
                  <a:pt x="52" y="16"/>
                  <a:pt x="221" y="0"/>
                  <a:pt x="291" y="32"/>
                </a:cubicBezTo>
                <a:cubicBezTo>
                  <a:pt x="361" y="64"/>
                  <a:pt x="353" y="170"/>
                  <a:pt x="423" y="202"/>
                </a:cubicBezTo>
                <a:cubicBezTo>
                  <a:pt x="493" y="234"/>
                  <a:pt x="708" y="218"/>
                  <a:pt x="708" y="227"/>
                </a:cubicBezTo>
                <a:cubicBezTo>
                  <a:pt x="708" y="236"/>
                  <a:pt x="486" y="224"/>
                  <a:pt x="420" y="258"/>
                </a:cubicBezTo>
                <a:cubicBezTo>
                  <a:pt x="354" y="292"/>
                  <a:pt x="379" y="401"/>
                  <a:pt x="310" y="434"/>
                </a:cubicBezTo>
                <a:cubicBezTo>
                  <a:pt x="241" y="467"/>
                  <a:pt x="71" y="452"/>
                  <a:pt x="8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30360" y="3946680"/>
            <a:ext cx="22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gent mice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 mon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60680" y="60800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pid-deterg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c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82080" y="144360"/>
            <a:ext cx="91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d09ff"/>
                </a:solidFill>
                <a:uFillTx/>
                <a:latin typeface="Times New Roman"/>
              </a:rPr>
              <a:t>The energy harvest systems are embedded in membrane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8" name=""/>
          <p:cNvGrpSpPr/>
          <p:nvPr/>
        </p:nvGrpSpPr>
        <p:grpSpPr>
          <a:xfrm>
            <a:off x="1449360" y="990720"/>
            <a:ext cx="5608440" cy="4311360"/>
            <a:chOff x="1449360" y="990720"/>
            <a:chExt cx="5608440" cy="4311360"/>
          </a:xfrm>
        </p:grpSpPr>
        <p:sp>
          <p:nvSpPr>
            <p:cNvPr id="1789" name=""/>
            <p:cNvSpPr/>
            <p:nvPr/>
          </p:nvSpPr>
          <p:spPr>
            <a:xfrm>
              <a:off x="212616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86092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9892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33620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7132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0860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43360" y="4773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6" name=""/>
            <p:cNvGrpSpPr/>
            <p:nvPr/>
          </p:nvGrpSpPr>
          <p:grpSpPr>
            <a:xfrm>
              <a:off x="1888200" y="990720"/>
              <a:ext cx="249120" cy="3728520"/>
              <a:chOff x="1888200" y="990720"/>
              <a:chExt cx="249120" cy="3728520"/>
            </a:xfrm>
          </p:grpSpPr>
          <p:sp>
            <p:nvSpPr>
              <p:cNvPr id="1797" name=""/>
              <p:cNvSpPr/>
              <p:nvPr/>
            </p:nvSpPr>
            <p:spPr>
              <a:xfrm>
                <a:off x="1888200" y="450576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888200" y="380196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888200" y="30974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888200" y="239652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888200" y="16974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888200" y="99072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3" name=""/>
            <p:cNvSpPr/>
            <p:nvPr/>
          </p:nvSpPr>
          <p:spPr>
            <a:xfrm flipV="1">
              <a:off x="2374920" y="4646520"/>
              <a:ext cx="288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2743920" y="468216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3110040" y="4646520"/>
              <a:ext cx="2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3478680" y="468216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3844800" y="4646520"/>
              <a:ext cx="2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215960" y="4682160"/>
              <a:ext cx="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4584600" y="4646520"/>
              <a:ext cx="288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4950720" y="468216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5319360" y="46465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5685840" y="4682160"/>
              <a:ext cx="216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6054480" y="4646520"/>
              <a:ext cx="288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6423120" y="468216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6789240" y="4646520"/>
              <a:ext cx="2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374920" y="4717800"/>
              <a:ext cx="4413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374920" y="4717800"/>
              <a:ext cx="69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374920" y="4541040"/>
              <a:ext cx="34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374920" y="436716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374920" y="4190040"/>
              <a:ext cx="3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374920" y="4013280"/>
              <a:ext cx="698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374920" y="3837240"/>
              <a:ext cx="34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74920" y="366264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74920" y="3486240"/>
              <a:ext cx="3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74920" y="3309480"/>
              <a:ext cx="69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4920" y="3132720"/>
              <a:ext cx="34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374920" y="2958840"/>
              <a:ext cx="69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374920" y="2782080"/>
              <a:ext cx="34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74920" y="2605680"/>
              <a:ext cx="69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74920" y="2431440"/>
              <a:ext cx="34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74920" y="2255040"/>
              <a:ext cx="69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74920" y="2080440"/>
              <a:ext cx="34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74920" y="1904400"/>
              <a:ext cx="69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374920" y="1727640"/>
              <a:ext cx="34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374920" y="1550880"/>
              <a:ext cx="698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374920" y="1376640"/>
              <a:ext cx="3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374920" y="119988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374920" y="1199880"/>
              <a:ext cx="2880" cy="3517560"/>
            </a:xfrm>
            <a:custGeom>
              <a:avLst/>
              <a:gdLst/>
              <a:ahLst/>
              <a:rect l="l" t="t" r="r" b="b"/>
              <a:pathLst>
                <a:path w="0" h="1723">
                  <a:moveTo>
                    <a:pt x="0" y="1723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743920" y="119988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110040" y="1199880"/>
              <a:ext cx="2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478680" y="119988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844800" y="1199880"/>
              <a:ext cx="2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15960" y="1199880"/>
              <a:ext cx="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4600" y="1199880"/>
              <a:ext cx="288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950720" y="1199880"/>
              <a:ext cx="288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374920" y="1199880"/>
              <a:ext cx="441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6721920" y="4717800"/>
              <a:ext cx="66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6756480" y="4541040"/>
              <a:ext cx="32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6721920" y="436716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6756480" y="419004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6721920" y="4013280"/>
              <a:ext cx="669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6756480" y="3837240"/>
              <a:ext cx="32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721920" y="366264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756480" y="348624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721920" y="3309480"/>
              <a:ext cx="66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6756480" y="3132720"/>
              <a:ext cx="320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6721920" y="2958840"/>
              <a:ext cx="66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6756480" y="2782080"/>
              <a:ext cx="320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6721920" y="2605680"/>
              <a:ext cx="66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6789240" y="1199520"/>
              <a:ext cx="2160" cy="35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386080" y="2451960"/>
              <a:ext cx="4392000" cy="2237760"/>
            </a:xfrm>
            <a:custGeom>
              <a:avLst/>
              <a:gdLst/>
              <a:ahLst/>
              <a:rect l="l" t="t" r="r" b="b"/>
              <a:pathLst>
                <a:path w="2293" h="1179">
                  <a:moveTo>
                    <a:pt x="0" y="1179"/>
                  </a:moveTo>
                  <a:lnTo>
                    <a:pt x="7" y="1179"/>
                  </a:lnTo>
                  <a:lnTo>
                    <a:pt x="16" y="1179"/>
                  </a:lnTo>
                  <a:lnTo>
                    <a:pt x="24" y="1179"/>
                  </a:lnTo>
                  <a:lnTo>
                    <a:pt x="31" y="1179"/>
                  </a:lnTo>
                  <a:lnTo>
                    <a:pt x="39" y="1178"/>
                  </a:lnTo>
                  <a:lnTo>
                    <a:pt x="47" y="1178"/>
                  </a:lnTo>
                  <a:lnTo>
                    <a:pt x="55" y="1178"/>
                  </a:lnTo>
                  <a:lnTo>
                    <a:pt x="62" y="1177"/>
                  </a:lnTo>
                  <a:lnTo>
                    <a:pt x="70" y="1177"/>
                  </a:lnTo>
                  <a:lnTo>
                    <a:pt x="78" y="1177"/>
                  </a:lnTo>
                  <a:lnTo>
                    <a:pt x="86" y="1175"/>
                  </a:lnTo>
                  <a:lnTo>
                    <a:pt x="93" y="1175"/>
                  </a:lnTo>
                  <a:lnTo>
                    <a:pt x="102" y="1174"/>
                  </a:lnTo>
                  <a:lnTo>
                    <a:pt x="110" y="1173"/>
                  </a:lnTo>
                  <a:lnTo>
                    <a:pt x="117" y="1172"/>
                  </a:lnTo>
                  <a:lnTo>
                    <a:pt x="125" y="1171"/>
                  </a:lnTo>
                  <a:lnTo>
                    <a:pt x="133" y="1169"/>
                  </a:lnTo>
                  <a:lnTo>
                    <a:pt x="141" y="1168"/>
                  </a:lnTo>
                  <a:lnTo>
                    <a:pt x="148" y="1166"/>
                  </a:lnTo>
                  <a:lnTo>
                    <a:pt x="157" y="1164"/>
                  </a:lnTo>
                  <a:lnTo>
                    <a:pt x="164" y="1160"/>
                  </a:lnTo>
                  <a:lnTo>
                    <a:pt x="172" y="1157"/>
                  </a:lnTo>
                  <a:lnTo>
                    <a:pt x="179" y="1154"/>
                  </a:lnTo>
                  <a:lnTo>
                    <a:pt x="188" y="1151"/>
                  </a:lnTo>
                  <a:lnTo>
                    <a:pt x="196" y="1146"/>
                  </a:lnTo>
                  <a:lnTo>
                    <a:pt x="203" y="1143"/>
                  </a:lnTo>
                  <a:lnTo>
                    <a:pt x="212" y="1139"/>
                  </a:lnTo>
                  <a:lnTo>
                    <a:pt x="219" y="1136"/>
                  </a:lnTo>
                  <a:lnTo>
                    <a:pt x="227" y="1131"/>
                  </a:lnTo>
                  <a:lnTo>
                    <a:pt x="234" y="1128"/>
                  </a:lnTo>
                  <a:lnTo>
                    <a:pt x="243" y="1125"/>
                  </a:lnTo>
                  <a:lnTo>
                    <a:pt x="250" y="1122"/>
                  </a:lnTo>
                  <a:lnTo>
                    <a:pt x="258" y="1118"/>
                  </a:lnTo>
                  <a:lnTo>
                    <a:pt x="266" y="1115"/>
                  </a:lnTo>
                  <a:lnTo>
                    <a:pt x="274" y="1112"/>
                  </a:lnTo>
                  <a:lnTo>
                    <a:pt x="282" y="1110"/>
                  </a:lnTo>
                  <a:lnTo>
                    <a:pt x="289" y="1107"/>
                  </a:lnTo>
                  <a:lnTo>
                    <a:pt x="298" y="1104"/>
                  </a:lnTo>
                  <a:lnTo>
                    <a:pt x="305" y="1101"/>
                  </a:lnTo>
                  <a:lnTo>
                    <a:pt x="313" y="1099"/>
                  </a:lnTo>
                  <a:lnTo>
                    <a:pt x="320" y="1096"/>
                  </a:lnTo>
                  <a:lnTo>
                    <a:pt x="329" y="1094"/>
                  </a:lnTo>
                  <a:lnTo>
                    <a:pt x="337" y="1091"/>
                  </a:lnTo>
                  <a:lnTo>
                    <a:pt x="344" y="1088"/>
                  </a:lnTo>
                  <a:lnTo>
                    <a:pt x="353" y="1085"/>
                  </a:lnTo>
                  <a:lnTo>
                    <a:pt x="360" y="1083"/>
                  </a:lnTo>
                  <a:lnTo>
                    <a:pt x="368" y="1080"/>
                  </a:lnTo>
                  <a:lnTo>
                    <a:pt x="375" y="1077"/>
                  </a:lnTo>
                  <a:lnTo>
                    <a:pt x="384" y="1073"/>
                  </a:lnTo>
                  <a:lnTo>
                    <a:pt x="391" y="1070"/>
                  </a:lnTo>
                  <a:lnTo>
                    <a:pt x="399" y="1066"/>
                  </a:lnTo>
                  <a:lnTo>
                    <a:pt x="406" y="1061"/>
                  </a:lnTo>
                  <a:lnTo>
                    <a:pt x="415" y="1056"/>
                  </a:lnTo>
                  <a:lnTo>
                    <a:pt x="423" y="1050"/>
                  </a:lnTo>
                  <a:lnTo>
                    <a:pt x="430" y="1041"/>
                  </a:lnTo>
                  <a:lnTo>
                    <a:pt x="439" y="1032"/>
                  </a:lnTo>
                  <a:lnTo>
                    <a:pt x="446" y="1024"/>
                  </a:lnTo>
                  <a:lnTo>
                    <a:pt x="454" y="1015"/>
                  </a:lnTo>
                  <a:lnTo>
                    <a:pt x="461" y="1007"/>
                  </a:lnTo>
                  <a:lnTo>
                    <a:pt x="470" y="998"/>
                  </a:lnTo>
                  <a:lnTo>
                    <a:pt x="477" y="992"/>
                  </a:lnTo>
                  <a:lnTo>
                    <a:pt x="485" y="986"/>
                  </a:lnTo>
                  <a:lnTo>
                    <a:pt x="492" y="982"/>
                  </a:lnTo>
                  <a:lnTo>
                    <a:pt x="501" y="980"/>
                  </a:lnTo>
                  <a:lnTo>
                    <a:pt x="509" y="978"/>
                  </a:lnTo>
                  <a:lnTo>
                    <a:pt x="516" y="978"/>
                  </a:lnTo>
                  <a:lnTo>
                    <a:pt x="525" y="978"/>
                  </a:lnTo>
                  <a:lnTo>
                    <a:pt x="532" y="979"/>
                  </a:lnTo>
                  <a:lnTo>
                    <a:pt x="540" y="980"/>
                  </a:lnTo>
                  <a:lnTo>
                    <a:pt x="547" y="982"/>
                  </a:lnTo>
                  <a:lnTo>
                    <a:pt x="556" y="984"/>
                  </a:lnTo>
                  <a:lnTo>
                    <a:pt x="563" y="986"/>
                  </a:lnTo>
                  <a:lnTo>
                    <a:pt x="571" y="989"/>
                  </a:lnTo>
                  <a:lnTo>
                    <a:pt x="579" y="993"/>
                  </a:lnTo>
                  <a:lnTo>
                    <a:pt x="587" y="997"/>
                  </a:lnTo>
                  <a:lnTo>
                    <a:pt x="595" y="1001"/>
                  </a:lnTo>
                  <a:lnTo>
                    <a:pt x="602" y="1007"/>
                  </a:lnTo>
                  <a:lnTo>
                    <a:pt x="610" y="1012"/>
                  </a:lnTo>
                  <a:lnTo>
                    <a:pt x="618" y="1018"/>
                  </a:lnTo>
                  <a:lnTo>
                    <a:pt x="626" y="1025"/>
                  </a:lnTo>
                  <a:lnTo>
                    <a:pt x="633" y="1030"/>
                  </a:lnTo>
                  <a:lnTo>
                    <a:pt x="642" y="1036"/>
                  </a:lnTo>
                  <a:lnTo>
                    <a:pt x="650" y="1041"/>
                  </a:lnTo>
                  <a:lnTo>
                    <a:pt x="657" y="1045"/>
                  </a:lnTo>
                  <a:lnTo>
                    <a:pt x="665" y="1050"/>
                  </a:lnTo>
                  <a:lnTo>
                    <a:pt x="673" y="1053"/>
                  </a:lnTo>
                  <a:lnTo>
                    <a:pt x="681" y="1056"/>
                  </a:lnTo>
                  <a:lnTo>
                    <a:pt x="688" y="1059"/>
                  </a:lnTo>
                  <a:lnTo>
                    <a:pt x="696" y="1063"/>
                  </a:lnTo>
                  <a:lnTo>
                    <a:pt x="704" y="1066"/>
                  </a:lnTo>
                  <a:lnTo>
                    <a:pt x="712" y="1069"/>
                  </a:lnTo>
                  <a:lnTo>
                    <a:pt x="719" y="1073"/>
                  </a:lnTo>
                  <a:lnTo>
                    <a:pt x="727" y="1077"/>
                  </a:lnTo>
                  <a:lnTo>
                    <a:pt x="736" y="1080"/>
                  </a:lnTo>
                  <a:lnTo>
                    <a:pt x="743" y="1084"/>
                  </a:lnTo>
                  <a:lnTo>
                    <a:pt x="751" y="1086"/>
                  </a:lnTo>
                  <a:lnTo>
                    <a:pt x="758" y="1089"/>
                  </a:lnTo>
                  <a:lnTo>
                    <a:pt x="767" y="1092"/>
                  </a:lnTo>
                  <a:lnTo>
                    <a:pt x="774" y="1093"/>
                  </a:lnTo>
                  <a:lnTo>
                    <a:pt x="782" y="1094"/>
                  </a:lnTo>
                  <a:lnTo>
                    <a:pt x="790" y="1094"/>
                  </a:lnTo>
                  <a:lnTo>
                    <a:pt x="798" y="1095"/>
                  </a:lnTo>
                  <a:lnTo>
                    <a:pt x="805" y="1095"/>
                  </a:lnTo>
                  <a:lnTo>
                    <a:pt x="813" y="1095"/>
                  </a:lnTo>
                  <a:lnTo>
                    <a:pt x="822" y="1096"/>
                  </a:lnTo>
                  <a:lnTo>
                    <a:pt x="829" y="1096"/>
                  </a:lnTo>
                  <a:lnTo>
                    <a:pt x="837" y="1096"/>
                  </a:lnTo>
                  <a:lnTo>
                    <a:pt x="844" y="1096"/>
                  </a:lnTo>
                  <a:lnTo>
                    <a:pt x="853" y="1096"/>
                  </a:lnTo>
                  <a:lnTo>
                    <a:pt x="860" y="1095"/>
                  </a:lnTo>
                  <a:lnTo>
                    <a:pt x="868" y="1094"/>
                  </a:lnTo>
                  <a:lnTo>
                    <a:pt x="875" y="1093"/>
                  </a:lnTo>
                  <a:lnTo>
                    <a:pt x="884" y="1091"/>
                  </a:lnTo>
                  <a:lnTo>
                    <a:pt x="892" y="1088"/>
                  </a:lnTo>
                  <a:lnTo>
                    <a:pt x="899" y="1085"/>
                  </a:lnTo>
                  <a:lnTo>
                    <a:pt x="907" y="1082"/>
                  </a:lnTo>
                  <a:lnTo>
                    <a:pt x="915" y="1078"/>
                  </a:lnTo>
                  <a:lnTo>
                    <a:pt x="923" y="1073"/>
                  </a:lnTo>
                  <a:lnTo>
                    <a:pt x="930" y="1068"/>
                  </a:lnTo>
                  <a:lnTo>
                    <a:pt x="938" y="1063"/>
                  </a:lnTo>
                  <a:lnTo>
                    <a:pt x="946" y="1056"/>
                  </a:lnTo>
                  <a:lnTo>
                    <a:pt x="954" y="1049"/>
                  </a:lnTo>
                  <a:lnTo>
                    <a:pt x="961" y="1040"/>
                  </a:lnTo>
                  <a:lnTo>
                    <a:pt x="969" y="1029"/>
                  </a:lnTo>
                  <a:lnTo>
                    <a:pt x="978" y="1018"/>
                  </a:lnTo>
                  <a:lnTo>
                    <a:pt x="985" y="1006"/>
                  </a:lnTo>
                  <a:lnTo>
                    <a:pt x="993" y="992"/>
                  </a:lnTo>
                  <a:lnTo>
                    <a:pt x="1001" y="977"/>
                  </a:lnTo>
                  <a:lnTo>
                    <a:pt x="1009" y="959"/>
                  </a:lnTo>
                  <a:lnTo>
                    <a:pt x="1016" y="941"/>
                  </a:lnTo>
                  <a:lnTo>
                    <a:pt x="1024" y="921"/>
                  </a:lnTo>
                  <a:lnTo>
                    <a:pt x="1032" y="900"/>
                  </a:lnTo>
                  <a:lnTo>
                    <a:pt x="1040" y="878"/>
                  </a:lnTo>
                  <a:lnTo>
                    <a:pt x="1047" y="853"/>
                  </a:lnTo>
                  <a:lnTo>
                    <a:pt x="1055" y="827"/>
                  </a:lnTo>
                  <a:lnTo>
                    <a:pt x="1064" y="800"/>
                  </a:lnTo>
                  <a:lnTo>
                    <a:pt x="1071" y="771"/>
                  </a:lnTo>
                  <a:lnTo>
                    <a:pt x="1079" y="740"/>
                  </a:lnTo>
                  <a:lnTo>
                    <a:pt x="1086" y="708"/>
                  </a:lnTo>
                  <a:lnTo>
                    <a:pt x="1095" y="673"/>
                  </a:lnTo>
                  <a:lnTo>
                    <a:pt x="1102" y="638"/>
                  </a:lnTo>
                  <a:lnTo>
                    <a:pt x="1110" y="602"/>
                  </a:lnTo>
                  <a:lnTo>
                    <a:pt x="1117" y="565"/>
                  </a:lnTo>
                  <a:lnTo>
                    <a:pt x="1126" y="527"/>
                  </a:lnTo>
                  <a:lnTo>
                    <a:pt x="1134" y="490"/>
                  </a:lnTo>
                  <a:lnTo>
                    <a:pt x="1141" y="452"/>
                  </a:lnTo>
                  <a:lnTo>
                    <a:pt x="1149" y="414"/>
                  </a:lnTo>
                  <a:lnTo>
                    <a:pt x="1157" y="379"/>
                  </a:lnTo>
                  <a:lnTo>
                    <a:pt x="1165" y="343"/>
                  </a:lnTo>
                  <a:lnTo>
                    <a:pt x="1172" y="310"/>
                  </a:lnTo>
                  <a:lnTo>
                    <a:pt x="1180" y="277"/>
                  </a:lnTo>
                  <a:lnTo>
                    <a:pt x="1188" y="246"/>
                  </a:lnTo>
                  <a:lnTo>
                    <a:pt x="1196" y="215"/>
                  </a:lnTo>
                  <a:lnTo>
                    <a:pt x="1203" y="186"/>
                  </a:lnTo>
                  <a:lnTo>
                    <a:pt x="1211" y="158"/>
                  </a:lnTo>
                  <a:lnTo>
                    <a:pt x="1220" y="133"/>
                  </a:lnTo>
                  <a:lnTo>
                    <a:pt x="1227" y="107"/>
                  </a:lnTo>
                  <a:lnTo>
                    <a:pt x="1235" y="84"/>
                  </a:lnTo>
                  <a:lnTo>
                    <a:pt x="1242" y="63"/>
                  </a:lnTo>
                  <a:lnTo>
                    <a:pt x="1251" y="45"/>
                  </a:lnTo>
                  <a:lnTo>
                    <a:pt x="1258" y="29"/>
                  </a:lnTo>
                  <a:lnTo>
                    <a:pt x="1266" y="17"/>
                  </a:lnTo>
                  <a:lnTo>
                    <a:pt x="1273" y="8"/>
                  </a:lnTo>
                  <a:lnTo>
                    <a:pt x="1282" y="3"/>
                  </a:lnTo>
                  <a:lnTo>
                    <a:pt x="1289" y="0"/>
                  </a:lnTo>
                  <a:lnTo>
                    <a:pt x="1297" y="0"/>
                  </a:lnTo>
                  <a:lnTo>
                    <a:pt x="1305" y="3"/>
                  </a:lnTo>
                  <a:lnTo>
                    <a:pt x="1313" y="6"/>
                  </a:lnTo>
                  <a:lnTo>
                    <a:pt x="1321" y="11"/>
                  </a:lnTo>
                  <a:lnTo>
                    <a:pt x="1328" y="18"/>
                  </a:lnTo>
                  <a:lnTo>
                    <a:pt x="1336" y="25"/>
                  </a:lnTo>
                  <a:lnTo>
                    <a:pt x="1344" y="35"/>
                  </a:lnTo>
                  <a:lnTo>
                    <a:pt x="1352" y="45"/>
                  </a:lnTo>
                  <a:lnTo>
                    <a:pt x="1359" y="57"/>
                  </a:lnTo>
                  <a:lnTo>
                    <a:pt x="1367" y="71"/>
                  </a:lnTo>
                  <a:lnTo>
                    <a:pt x="1374" y="86"/>
                  </a:lnTo>
                  <a:lnTo>
                    <a:pt x="1383" y="105"/>
                  </a:lnTo>
                  <a:lnTo>
                    <a:pt x="1391" y="123"/>
                  </a:lnTo>
                  <a:lnTo>
                    <a:pt x="1398" y="143"/>
                  </a:lnTo>
                  <a:lnTo>
                    <a:pt x="1406" y="164"/>
                  </a:lnTo>
                  <a:lnTo>
                    <a:pt x="1414" y="185"/>
                  </a:lnTo>
                  <a:lnTo>
                    <a:pt x="1422" y="207"/>
                  </a:lnTo>
                  <a:lnTo>
                    <a:pt x="1429" y="227"/>
                  </a:lnTo>
                  <a:lnTo>
                    <a:pt x="1437" y="249"/>
                  </a:lnTo>
                  <a:lnTo>
                    <a:pt x="1445" y="269"/>
                  </a:lnTo>
                  <a:lnTo>
                    <a:pt x="1453" y="290"/>
                  </a:lnTo>
                  <a:lnTo>
                    <a:pt x="1461" y="310"/>
                  </a:lnTo>
                  <a:lnTo>
                    <a:pt x="1468" y="330"/>
                  </a:lnTo>
                  <a:lnTo>
                    <a:pt x="1477" y="350"/>
                  </a:lnTo>
                  <a:lnTo>
                    <a:pt x="1484" y="370"/>
                  </a:lnTo>
                  <a:lnTo>
                    <a:pt x="1492" y="391"/>
                  </a:lnTo>
                  <a:lnTo>
                    <a:pt x="1499" y="411"/>
                  </a:lnTo>
                  <a:lnTo>
                    <a:pt x="1508" y="433"/>
                  </a:lnTo>
                  <a:lnTo>
                    <a:pt x="1515" y="454"/>
                  </a:lnTo>
                  <a:lnTo>
                    <a:pt x="1523" y="476"/>
                  </a:lnTo>
                  <a:lnTo>
                    <a:pt x="1530" y="497"/>
                  </a:lnTo>
                  <a:lnTo>
                    <a:pt x="1539" y="518"/>
                  </a:lnTo>
                  <a:lnTo>
                    <a:pt x="1547" y="538"/>
                  </a:lnTo>
                  <a:lnTo>
                    <a:pt x="1554" y="558"/>
                  </a:lnTo>
                  <a:lnTo>
                    <a:pt x="1562" y="579"/>
                  </a:lnTo>
                  <a:lnTo>
                    <a:pt x="1570" y="597"/>
                  </a:lnTo>
                  <a:lnTo>
                    <a:pt x="1578" y="616"/>
                  </a:lnTo>
                  <a:lnTo>
                    <a:pt x="1585" y="635"/>
                  </a:lnTo>
                  <a:lnTo>
                    <a:pt x="1593" y="653"/>
                  </a:lnTo>
                  <a:lnTo>
                    <a:pt x="1600" y="671"/>
                  </a:lnTo>
                  <a:lnTo>
                    <a:pt x="1609" y="688"/>
                  </a:lnTo>
                  <a:lnTo>
                    <a:pt x="1616" y="706"/>
                  </a:lnTo>
                  <a:lnTo>
                    <a:pt x="1624" y="722"/>
                  </a:lnTo>
                  <a:lnTo>
                    <a:pt x="1632" y="737"/>
                  </a:lnTo>
                  <a:lnTo>
                    <a:pt x="1640" y="751"/>
                  </a:lnTo>
                  <a:lnTo>
                    <a:pt x="1648" y="765"/>
                  </a:lnTo>
                  <a:lnTo>
                    <a:pt x="1655" y="777"/>
                  </a:lnTo>
                  <a:lnTo>
                    <a:pt x="1663" y="788"/>
                  </a:lnTo>
                  <a:lnTo>
                    <a:pt x="1671" y="800"/>
                  </a:lnTo>
                  <a:lnTo>
                    <a:pt x="1679" y="811"/>
                  </a:lnTo>
                  <a:lnTo>
                    <a:pt x="1686" y="823"/>
                  </a:lnTo>
                  <a:lnTo>
                    <a:pt x="1694" y="834"/>
                  </a:lnTo>
                  <a:lnTo>
                    <a:pt x="1703" y="845"/>
                  </a:lnTo>
                  <a:lnTo>
                    <a:pt x="1710" y="857"/>
                  </a:lnTo>
                  <a:lnTo>
                    <a:pt x="1718" y="868"/>
                  </a:lnTo>
                  <a:lnTo>
                    <a:pt x="1725" y="879"/>
                  </a:lnTo>
                  <a:lnTo>
                    <a:pt x="1733" y="889"/>
                  </a:lnTo>
                  <a:lnTo>
                    <a:pt x="1741" y="899"/>
                  </a:lnTo>
                  <a:lnTo>
                    <a:pt x="1749" y="908"/>
                  </a:lnTo>
                  <a:lnTo>
                    <a:pt x="1756" y="917"/>
                  </a:lnTo>
                  <a:lnTo>
                    <a:pt x="1764" y="926"/>
                  </a:lnTo>
                  <a:lnTo>
                    <a:pt x="1772" y="934"/>
                  </a:lnTo>
                  <a:lnTo>
                    <a:pt x="1780" y="942"/>
                  </a:lnTo>
                  <a:lnTo>
                    <a:pt x="1787" y="950"/>
                  </a:lnTo>
                  <a:lnTo>
                    <a:pt x="1795" y="957"/>
                  </a:lnTo>
                  <a:lnTo>
                    <a:pt x="1804" y="965"/>
                  </a:lnTo>
                  <a:lnTo>
                    <a:pt x="1811" y="971"/>
                  </a:lnTo>
                  <a:lnTo>
                    <a:pt x="1819" y="977"/>
                  </a:lnTo>
                  <a:lnTo>
                    <a:pt x="1826" y="983"/>
                  </a:lnTo>
                  <a:lnTo>
                    <a:pt x="1834" y="988"/>
                  </a:lnTo>
                  <a:lnTo>
                    <a:pt x="1842" y="993"/>
                  </a:lnTo>
                  <a:lnTo>
                    <a:pt x="1850" y="998"/>
                  </a:lnTo>
                  <a:lnTo>
                    <a:pt x="1857" y="1002"/>
                  </a:lnTo>
                  <a:lnTo>
                    <a:pt x="1865" y="1007"/>
                  </a:lnTo>
                  <a:lnTo>
                    <a:pt x="1874" y="1011"/>
                  </a:lnTo>
                  <a:lnTo>
                    <a:pt x="1881" y="1015"/>
                  </a:lnTo>
                  <a:lnTo>
                    <a:pt x="1889" y="1018"/>
                  </a:lnTo>
                  <a:lnTo>
                    <a:pt x="1896" y="1023"/>
                  </a:lnTo>
                  <a:lnTo>
                    <a:pt x="1904" y="1026"/>
                  </a:lnTo>
                  <a:lnTo>
                    <a:pt x="1912" y="1029"/>
                  </a:lnTo>
                  <a:lnTo>
                    <a:pt x="1920" y="1032"/>
                  </a:lnTo>
                  <a:lnTo>
                    <a:pt x="1927" y="1037"/>
                  </a:lnTo>
                  <a:lnTo>
                    <a:pt x="1935" y="1040"/>
                  </a:lnTo>
                  <a:lnTo>
                    <a:pt x="1943" y="1044"/>
                  </a:lnTo>
                  <a:lnTo>
                    <a:pt x="1951" y="1049"/>
                  </a:lnTo>
                  <a:lnTo>
                    <a:pt x="1958" y="1052"/>
                  </a:lnTo>
                  <a:lnTo>
                    <a:pt x="1966" y="1055"/>
                  </a:lnTo>
                  <a:lnTo>
                    <a:pt x="1975" y="1058"/>
                  </a:lnTo>
                  <a:lnTo>
                    <a:pt x="1982" y="1061"/>
                  </a:lnTo>
                  <a:lnTo>
                    <a:pt x="1990" y="1064"/>
                  </a:lnTo>
                  <a:lnTo>
                    <a:pt x="1997" y="1065"/>
                  </a:lnTo>
                  <a:lnTo>
                    <a:pt x="2005" y="1067"/>
                  </a:lnTo>
                  <a:lnTo>
                    <a:pt x="2013" y="1068"/>
                  </a:lnTo>
                  <a:lnTo>
                    <a:pt x="2021" y="1069"/>
                  </a:lnTo>
                  <a:lnTo>
                    <a:pt x="2028" y="1070"/>
                  </a:lnTo>
                  <a:lnTo>
                    <a:pt x="2036" y="1072"/>
                  </a:lnTo>
                  <a:lnTo>
                    <a:pt x="2045" y="1073"/>
                  </a:lnTo>
                  <a:lnTo>
                    <a:pt x="2052" y="1074"/>
                  </a:lnTo>
                  <a:lnTo>
                    <a:pt x="2060" y="1077"/>
                  </a:lnTo>
                  <a:lnTo>
                    <a:pt x="2067" y="1078"/>
                  </a:lnTo>
                  <a:lnTo>
                    <a:pt x="2075" y="1080"/>
                  </a:lnTo>
                  <a:lnTo>
                    <a:pt x="2083" y="1081"/>
                  </a:lnTo>
                  <a:lnTo>
                    <a:pt x="2091" y="1083"/>
                  </a:lnTo>
                  <a:lnTo>
                    <a:pt x="2098" y="1084"/>
                  </a:lnTo>
                  <a:lnTo>
                    <a:pt x="2106" y="1085"/>
                  </a:lnTo>
                  <a:lnTo>
                    <a:pt x="2114" y="1086"/>
                  </a:lnTo>
                  <a:lnTo>
                    <a:pt x="2122" y="1087"/>
                  </a:lnTo>
                  <a:lnTo>
                    <a:pt x="2130" y="1088"/>
                  </a:lnTo>
                  <a:lnTo>
                    <a:pt x="2137" y="1088"/>
                  </a:lnTo>
                  <a:lnTo>
                    <a:pt x="2145" y="1089"/>
                  </a:lnTo>
                  <a:lnTo>
                    <a:pt x="2153" y="1089"/>
                  </a:lnTo>
                  <a:lnTo>
                    <a:pt x="2161" y="1091"/>
                  </a:lnTo>
                  <a:lnTo>
                    <a:pt x="2168" y="1091"/>
                  </a:lnTo>
                  <a:lnTo>
                    <a:pt x="2176" y="1092"/>
                  </a:lnTo>
                  <a:lnTo>
                    <a:pt x="2183" y="1092"/>
                  </a:lnTo>
                  <a:lnTo>
                    <a:pt x="2192" y="1093"/>
                  </a:lnTo>
                  <a:lnTo>
                    <a:pt x="2199" y="1093"/>
                  </a:lnTo>
                  <a:lnTo>
                    <a:pt x="2207" y="1094"/>
                  </a:lnTo>
                  <a:lnTo>
                    <a:pt x="2214" y="1094"/>
                  </a:lnTo>
                  <a:lnTo>
                    <a:pt x="2223" y="1094"/>
                  </a:lnTo>
                  <a:lnTo>
                    <a:pt x="2231" y="1095"/>
                  </a:lnTo>
                  <a:lnTo>
                    <a:pt x="2238" y="1095"/>
                  </a:lnTo>
                  <a:lnTo>
                    <a:pt x="2246" y="1095"/>
                  </a:lnTo>
                  <a:lnTo>
                    <a:pt x="2253" y="1095"/>
                  </a:lnTo>
                  <a:lnTo>
                    <a:pt x="2262" y="1095"/>
                  </a:lnTo>
                  <a:lnTo>
                    <a:pt x="2269" y="1096"/>
                  </a:lnTo>
                  <a:lnTo>
                    <a:pt x="2277" y="1096"/>
                  </a:lnTo>
                  <a:lnTo>
                    <a:pt x="2284" y="1096"/>
                  </a:lnTo>
                  <a:lnTo>
                    <a:pt x="2293" y="10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418480" y="1429920"/>
              <a:ext cx="4400640" cy="3189240"/>
            </a:xfrm>
            <a:custGeom>
              <a:avLst/>
              <a:gdLst/>
              <a:ahLst/>
              <a:rect l="l" t="t" r="r" b="b"/>
              <a:pathLst>
                <a:path w="2297" h="1680">
                  <a:moveTo>
                    <a:pt x="0" y="1671"/>
                  </a:moveTo>
                  <a:lnTo>
                    <a:pt x="7" y="1672"/>
                  </a:lnTo>
                  <a:lnTo>
                    <a:pt x="15" y="1672"/>
                  </a:lnTo>
                  <a:lnTo>
                    <a:pt x="23" y="1672"/>
                  </a:lnTo>
                  <a:lnTo>
                    <a:pt x="31" y="1672"/>
                  </a:lnTo>
                  <a:lnTo>
                    <a:pt x="38" y="1672"/>
                  </a:lnTo>
                  <a:lnTo>
                    <a:pt x="46" y="1671"/>
                  </a:lnTo>
                  <a:lnTo>
                    <a:pt x="54" y="1672"/>
                  </a:lnTo>
                  <a:lnTo>
                    <a:pt x="62" y="1671"/>
                  </a:lnTo>
                  <a:lnTo>
                    <a:pt x="69" y="1671"/>
                  </a:lnTo>
                  <a:lnTo>
                    <a:pt x="77" y="1671"/>
                  </a:lnTo>
                  <a:lnTo>
                    <a:pt x="85" y="1671"/>
                  </a:lnTo>
                  <a:lnTo>
                    <a:pt x="93" y="1672"/>
                  </a:lnTo>
                  <a:lnTo>
                    <a:pt x="101" y="1672"/>
                  </a:lnTo>
                  <a:lnTo>
                    <a:pt x="108" y="1672"/>
                  </a:lnTo>
                  <a:lnTo>
                    <a:pt x="116" y="1672"/>
                  </a:lnTo>
                  <a:lnTo>
                    <a:pt x="124" y="1672"/>
                  </a:lnTo>
                  <a:lnTo>
                    <a:pt x="132" y="1671"/>
                  </a:lnTo>
                  <a:lnTo>
                    <a:pt x="139" y="1671"/>
                  </a:lnTo>
                  <a:lnTo>
                    <a:pt x="147" y="1671"/>
                  </a:lnTo>
                  <a:lnTo>
                    <a:pt x="154" y="1671"/>
                  </a:lnTo>
                  <a:lnTo>
                    <a:pt x="163" y="1669"/>
                  </a:lnTo>
                  <a:lnTo>
                    <a:pt x="171" y="1669"/>
                  </a:lnTo>
                  <a:lnTo>
                    <a:pt x="178" y="1669"/>
                  </a:lnTo>
                  <a:lnTo>
                    <a:pt x="186" y="1668"/>
                  </a:lnTo>
                  <a:lnTo>
                    <a:pt x="194" y="1667"/>
                  </a:lnTo>
                  <a:lnTo>
                    <a:pt x="202" y="1667"/>
                  </a:lnTo>
                  <a:lnTo>
                    <a:pt x="209" y="1665"/>
                  </a:lnTo>
                  <a:lnTo>
                    <a:pt x="217" y="1664"/>
                  </a:lnTo>
                  <a:lnTo>
                    <a:pt x="224" y="1664"/>
                  </a:lnTo>
                  <a:lnTo>
                    <a:pt x="233" y="1662"/>
                  </a:lnTo>
                  <a:lnTo>
                    <a:pt x="241" y="1661"/>
                  </a:lnTo>
                  <a:lnTo>
                    <a:pt x="248" y="1659"/>
                  </a:lnTo>
                  <a:lnTo>
                    <a:pt x="256" y="1655"/>
                  </a:lnTo>
                  <a:lnTo>
                    <a:pt x="264" y="1654"/>
                  </a:lnTo>
                  <a:lnTo>
                    <a:pt x="272" y="1651"/>
                  </a:lnTo>
                  <a:lnTo>
                    <a:pt x="279" y="1647"/>
                  </a:lnTo>
                  <a:lnTo>
                    <a:pt x="287" y="1643"/>
                  </a:lnTo>
                  <a:lnTo>
                    <a:pt x="294" y="1635"/>
                  </a:lnTo>
                  <a:lnTo>
                    <a:pt x="303" y="1626"/>
                  </a:lnTo>
                  <a:lnTo>
                    <a:pt x="310" y="1618"/>
                  </a:lnTo>
                  <a:lnTo>
                    <a:pt x="318" y="1606"/>
                  </a:lnTo>
                  <a:lnTo>
                    <a:pt x="325" y="1593"/>
                  </a:lnTo>
                  <a:lnTo>
                    <a:pt x="334" y="1578"/>
                  </a:lnTo>
                  <a:lnTo>
                    <a:pt x="342" y="1556"/>
                  </a:lnTo>
                  <a:lnTo>
                    <a:pt x="349" y="1526"/>
                  </a:lnTo>
                  <a:lnTo>
                    <a:pt x="357" y="1493"/>
                  </a:lnTo>
                  <a:lnTo>
                    <a:pt x="364" y="1452"/>
                  </a:lnTo>
                  <a:lnTo>
                    <a:pt x="373" y="1403"/>
                  </a:lnTo>
                  <a:lnTo>
                    <a:pt x="380" y="1343"/>
                  </a:lnTo>
                  <a:lnTo>
                    <a:pt x="388" y="1273"/>
                  </a:lnTo>
                  <a:lnTo>
                    <a:pt x="395" y="1191"/>
                  </a:lnTo>
                  <a:lnTo>
                    <a:pt x="403" y="1090"/>
                  </a:lnTo>
                  <a:lnTo>
                    <a:pt x="412" y="988"/>
                  </a:lnTo>
                  <a:lnTo>
                    <a:pt x="419" y="870"/>
                  </a:lnTo>
                  <a:lnTo>
                    <a:pt x="427" y="743"/>
                  </a:lnTo>
                  <a:lnTo>
                    <a:pt x="434" y="606"/>
                  </a:lnTo>
                  <a:lnTo>
                    <a:pt x="443" y="482"/>
                  </a:lnTo>
                  <a:lnTo>
                    <a:pt x="450" y="362"/>
                  </a:lnTo>
                  <a:lnTo>
                    <a:pt x="458" y="249"/>
                  </a:lnTo>
                  <a:lnTo>
                    <a:pt x="465" y="152"/>
                  </a:lnTo>
                  <a:lnTo>
                    <a:pt x="473" y="78"/>
                  </a:lnTo>
                  <a:lnTo>
                    <a:pt x="481" y="21"/>
                  </a:lnTo>
                  <a:lnTo>
                    <a:pt x="489" y="2"/>
                  </a:lnTo>
                  <a:lnTo>
                    <a:pt x="496" y="0"/>
                  </a:lnTo>
                  <a:lnTo>
                    <a:pt x="504" y="21"/>
                  </a:lnTo>
                  <a:lnTo>
                    <a:pt x="512" y="64"/>
                  </a:lnTo>
                  <a:lnTo>
                    <a:pt x="520" y="133"/>
                  </a:lnTo>
                  <a:lnTo>
                    <a:pt x="528" y="212"/>
                  </a:lnTo>
                  <a:lnTo>
                    <a:pt x="535" y="296"/>
                  </a:lnTo>
                  <a:lnTo>
                    <a:pt x="543" y="382"/>
                  </a:lnTo>
                  <a:lnTo>
                    <a:pt x="550" y="468"/>
                  </a:lnTo>
                  <a:lnTo>
                    <a:pt x="559" y="556"/>
                  </a:lnTo>
                  <a:lnTo>
                    <a:pt x="566" y="632"/>
                  </a:lnTo>
                  <a:lnTo>
                    <a:pt x="574" y="709"/>
                  </a:lnTo>
                  <a:lnTo>
                    <a:pt x="581" y="766"/>
                  </a:lnTo>
                  <a:lnTo>
                    <a:pt x="589" y="831"/>
                  </a:lnTo>
                  <a:lnTo>
                    <a:pt x="598" y="886"/>
                  </a:lnTo>
                  <a:lnTo>
                    <a:pt x="605" y="933"/>
                  </a:lnTo>
                  <a:lnTo>
                    <a:pt x="613" y="980"/>
                  </a:lnTo>
                  <a:lnTo>
                    <a:pt x="620" y="1021"/>
                  </a:lnTo>
                  <a:lnTo>
                    <a:pt x="629" y="1052"/>
                  </a:lnTo>
                  <a:lnTo>
                    <a:pt x="636" y="1089"/>
                  </a:lnTo>
                  <a:lnTo>
                    <a:pt x="644" y="1116"/>
                  </a:lnTo>
                  <a:lnTo>
                    <a:pt x="651" y="1139"/>
                  </a:lnTo>
                  <a:lnTo>
                    <a:pt x="659" y="1158"/>
                  </a:lnTo>
                  <a:lnTo>
                    <a:pt x="668" y="1178"/>
                  </a:lnTo>
                  <a:lnTo>
                    <a:pt x="675" y="1201"/>
                  </a:lnTo>
                  <a:lnTo>
                    <a:pt x="683" y="1214"/>
                  </a:lnTo>
                  <a:lnTo>
                    <a:pt x="690" y="1231"/>
                  </a:lnTo>
                  <a:lnTo>
                    <a:pt x="698" y="1244"/>
                  </a:lnTo>
                  <a:lnTo>
                    <a:pt x="706" y="1253"/>
                  </a:lnTo>
                  <a:lnTo>
                    <a:pt x="714" y="1267"/>
                  </a:lnTo>
                  <a:lnTo>
                    <a:pt x="721" y="1277"/>
                  </a:lnTo>
                  <a:lnTo>
                    <a:pt x="729" y="1286"/>
                  </a:lnTo>
                  <a:lnTo>
                    <a:pt x="736" y="1299"/>
                  </a:lnTo>
                  <a:lnTo>
                    <a:pt x="745" y="1309"/>
                  </a:lnTo>
                  <a:lnTo>
                    <a:pt x="752" y="1319"/>
                  </a:lnTo>
                  <a:lnTo>
                    <a:pt x="760" y="1325"/>
                  </a:lnTo>
                  <a:lnTo>
                    <a:pt x="768" y="1336"/>
                  </a:lnTo>
                  <a:lnTo>
                    <a:pt x="775" y="1347"/>
                  </a:lnTo>
                  <a:lnTo>
                    <a:pt x="784" y="1356"/>
                  </a:lnTo>
                  <a:lnTo>
                    <a:pt x="791" y="1366"/>
                  </a:lnTo>
                  <a:lnTo>
                    <a:pt x="799" y="1373"/>
                  </a:lnTo>
                  <a:lnTo>
                    <a:pt x="806" y="1382"/>
                  </a:lnTo>
                  <a:lnTo>
                    <a:pt x="814" y="1392"/>
                  </a:lnTo>
                  <a:lnTo>
                    <a:pt x="822" y="1399"/>
                  </a:lnTo>
                  <a:lnTo>
                    <a:pt x="830" y="1405"/>
                  </a:lnTo>
                  <a:lnTo>
                    <a:pt x="837" y="1411"/>
                  </a:lnTo>
                  <a:lnTo>
                    <a:pt x="845" y="1421"/>
                  </a:lnTo>
                  <a:lnTo>
                    <a:pt x="853" y="1424"/>
                  </a:lnTo>
                  <a:lnTo>
                    <a:pt x="861" y="1434"/>
                  </a:lnTo>
                  <a:lnTo>
                    <a:pt x="869" y="1436"/>
                  </a:lnTo>
                  <a:lnTo>
                    <a:pt x="876" y="1438"/>
                  </a:lnTo>
                  <a:lnTo>
                    <a:pt x="884" y="1444"/>
                  </a:lnTo>
                  <a:lnTo>
                    <a:pt x="891" y="1446"/>
                  </a:lnTo>
                  <a:lnTo>
                    <a:pt x="900" y="1449"/>
                  </a:lnTo>
                  <a:lnTo>
                    <a:pt x="907" y="1454"/>
                  </a:lnTo>
                  <a:lnTo>
                    <a:pt x="915" y="1459"/>
                  </a:lnTo>
                  <a:lnTo>
                    <a:pt x="922" y="1462"/>
                  </a:lnTo>
                  <a:lnTo>
                    <a:pt x="930" y="1465"/>
                  </a:lnTo>
                  <a:lnTo>
                    <a:pt x="939" y="1461"/>
                  </a:lnTo>
                  <a:lnTo>
                    <a:pt x="946" y="1463"/>
                  </a:lnTo>
                  <a:lnTo>
                    <a:pt x="954" y="1465"/>
                  </a:lnTo>
                  <a:lnTo>
                    <a:pt x="961" y="1465"/>
                  </a:lnTo>
                  <a:lnTo>
                    <a:pt x="969" y="1467"/>
                  </a:lnTo>
                  <a:lnTo>
                    <a:pt x="977" y="1463"/>
                  </a:lnTo>
                  <a:lnTo>
                    <a:pt x="985" y="1464"/>
                  </a:lnTo>
                  <a:lnTo>
                    <a:pt x="992" y="1462"/>
                  </a:lnTo>
                  <a:lnTo>
                    <a:pt x="1000" y="1465"/>
                  </a:lnTo>
                  <a:lnTo>
                    <a:pt x="1007" y="1462"/>
                  </a:lnTo>
                  <a:lnTo>
                    <a:pt x="1016" y="1461"/>
                  </a:lnTo>
                  <a:lnTo>
                    <a:pt x="1024" y="1464"/>
                  </a:lnTo>
                  <a:lnTo>
                    <a:pt x="1031" y="1466"/>
                  </a:lnTo>
                  <a:lnTo>
                    <a:pt x="1039" y="1468"/>
                  </a:lnTo>
                  <a:lnTo>
                    <a:pt x="1046" y="1472"/>
                  </a:lnTo>
                  <a:lnTo>
                    <a:pt x="1055" y="1474"/>
                  </a:lnTo>
                  <a:lnTo>
                    <a:pt x="1062" y="1476"/>
                  </a:lnTo>
                  <a:lnTo>
                    <a:pt x="1070" y="1482"/>
                  </a:lnTo>
                  <a:lnTo>
                    <a:pt x="1077" y="1486"/>
                  </a:lnTo>
                  <a:lnTo>
                    <a:pt x="1085" y="1489"/>
                  </a:lnTo>
                  <a:lnTo>
                    <a:pt x="1093" y="1492"/>
                  </a:lnTo>
                  <a:lnTo>
                    <a:pt x="1101" y="1495"/>
                  </a:lnTo>
                  <a:lnTo>
                    <a:pt x="1108" y="1501"/>
                  </a:lnTo>
                  <a:lnTo>
                    <a:pt x="1116" y="1503"/>
                  </a:lnTo>
                  <a:lnTo>
                    <a:pt x="1124" y="1507"/>
                  </a:lnTo>
                  <a:lnTo>
                    <a:pt x="1132" y="1507"/>
                  </a:lnTo>
                  <a:lnTo>
                    <a:pt x="1140" y="1509"/>
                  </a:lnTo>
                  <a:lnTo>
                    <a:pt x="1147" y="1513"/>
                  </a:lnTo>
                  <a:lnTo>
                    <a:pt x="1155" y="1514"/>
                  </a:lnTo>
                  <a:lnTo>
                    <a:pt x="1162" y="1513"/>
                  </a:lnTo>
                  <a:lnTo>
                    <a:pt x="1170" y="1514"/>
                  </a:lnTo>
                  <a:lnTo>
                    <a:pt x="1178" y="1516"/>
                  </a:lnTo>
                  <a:lnTo>
                    <a:pt x="1186" y="1514"/>
                  </a:lnTo>
                  <a:lnTo>
                    <a:pt x="1193" y="1514"/>
                  </a:lnTo>
                  <a:lnTo>
                    <a:pt x="1201" y="1514"/>
                  </a:lnTo>
                  <a:lnTo>
                    <a:pt x="1209" y="1517"/>
                  </a:lnTo>
                  <a:lnTo>
                    <a:pt x="1217" y="1516"/>
                  </a:lnTo>
                  <a:lnTo>
                    <a:pt x="1225" y="1515"/>
                  </a:lnTo>
                  <a:lnTo>
                    <a:pt x="1232" y="1515"/>
                  </a:lnTo>
                  <a:lnTo>
                    <a:pt x="1240" y="1517"/>
                  </a:lnTo>
                  <a:lnTo>
                    <a:pt x="1247" y="1517"/>
                  </a:lnTo>
                  <a:lnTo>
                    <a:pt x="1256" y="1515"/>
                  </a:lnTo>
                  <a:lnTo>
                    <a:pt x="1263" y="1515"/>
                  </a:lnTo>
                  <a:lnTo>
                    <a:pt x="1271" y="1514"/>
                  </a:lnTo>
                  <a:lnTo>
                    <a:pt x="1278" y="1514"/>
                  </a:lnTo>
                  <a:lnTo>
                    <a:pt x="1286" y="1514"/>
                  </a:lnTo>
                  <a:lnTo>
                    <a:pt x="1293" y="1513"/>
                  </a:lnTo>
                  <a:lnTo>
                    <a:pt x="1302" y="1513"/>
                  </a:lnTo>
                  <a:lnTo>
                    <a:pt x="1310" y="1509"/>
                  </a:lnTo>
                  <a:lnTo>
                    <a:pt x="1317" y="1505"/>
                  </a:lnTo>
                  <a:lnTo>
                    <a:pt x="1325" y="1507"/>
                  </a:lnTo>
                  <a:lnTo>
                    <a:pt x="1332" y="1505"/>
                  </a:lnTo>
                  <a:lnTo>
                    <a:pt x="1341" y="1502"/>
                  </a:lnTo>
                  <a:lnTo>
                    <a:pt x="1348" y="1502"/>
                  </a:lnTo>
                  <a:lnTo>
                    <a:pt x="1356" y="1499"/>
                  </a:lnTo>
                  <a:lnTo>
                    <a:pt x="1363" y="1497"/>
                  </a:lnTo>
                  <a:lnTo>
                    <a:pt x="1371" y="1496"/>
                  </a:lnTo>
                  <a:lnTo>
                    <a:pt x="1380" y="1493"/>
                  </a:lnTo>
                  <a:lnTo>
                    <a:pt x="1387" y="1496"/>
                  </a:lnTo>
                  <a:lnTo>
                    <a:pt x="1395" y="1494"/>
                  </a:lnTo>
                  <a:lnTo>
                    <a:pt x="1402" y="1497"/>
                  </a:lnTo>
                  <a:lnTo>
                    <a:pt x="1410" y="1499"/>
                  </a:lnTo>
                  <a:lnTo>
                    <a:pt x="1417" y="1495"/>
                  </a:lnTo>
                  <a:lnTo>
                    <a:pt x="1426" y="1500"/>
                  </a:lnTo>
                  <a:lnTo>
                    <a:pt x="1433" y="1501"/>
                  </a:lnTo>
                  <a:lnTo>
                    <a:pt x="1441" y="1502"/>
                  </a:lnTo>
                  <a:lnTo>
                    <a:pt x="1448" y="1505"/>
                  </a:lnTo>
                  <a:lnTo>
                    <a:pt x="1456" y="1509"/>
                  </a:lnTo>
                  <a:lnTo>
                    <a:pt x="1465" y="1513"/>
                  </a:lnTo>
                  <a:lnTo>
                    <a:pt x="1472" y="1515"/>
                  </a:lnTo>
                  <a:lnTo>
                    <a:pt x="1480" y="1519"/>
                  </a:lnTo>
                  <a:lnTo>
                    <a:pt x="1487" y="1523"/>
                  </a:lnTo>
                  <a:lnTo>
                    <a:pt x="1495" y="1524"/>
                  </a:lnTo>
                  <a:lnTo>
                    <a:pt x="1502" y="1529"/>
                  </a:lnTo>
                  <a:lnTo>
                    <a:pt x="1511" y="1533"/>
                  </a:lnTo>
                  <a:lnTo>
                    <a:pt x="1518" y="1538"/>
                  </a:lnTo>
                  <a:lnTo>
                    <a:pt x="1526" y="1540"/>
                  </a:lnTo>
                  <a:lnTo>
                    <a:pt x="1533" y="1543"/>
                  </a:lnTo>
                  <a:lnTo>
                    <a:pt x="1541" y="1548"/>
                  </a:lnTo>
                  <a:lnTo>
                    <a:pt x="1549" y="1549"/>
                  </a:lnTo>
                  <a:lnTo>
                    <a:pt x="1557" y="1551"/>
                  </a:lnTo>
                  <a:lnTo>
                    <a:pt x="1565" y="1556"/>
                  </a:lnTo>
                  <a:lnTo>
                    <a:pt x="1572" y="1560"/>
                  </a:lnTo>
                  <a:lnTo>
                    <a:pt x="1580" y="1564"/>
                  </a:lnTo>
                  <a:lnTo>
                    <a:pt x="1587" y="1563"/>
                  </a:lnTo>
                  <a:lnTo>
                    <a:pt x="1596" y="1564"/>
                  </a:lnTo>
                  <a:lnTo>
                    <a:pt x="1603" y="1566"/>
                  </a:lnTo>
                  <a:lnTo>
                    <a:pt x="1611" y="1569"/>
                  </a:lnTo>
                  <a:lnTo>
                    <a:pt x="1618" y="1569"/>
                  </a:lnTo>
                  <a:lnTo>
                    <a:pt x="1626" y="1572"/>
                  </a:lnTo>
                  <a:lnTo>
                    <a:pt x="1633" y="1574"/>
                  </a:lnTo>
                  <a:lnTo>
                    <a:pt x="1642" y="1576"/>
                  </a:lnTo>
                  <a:lnTo>
                    <a:pt x="1650" y="1574"/>
                  </a:lnTo>
                  <a:lnTo>
                    <a:pt x="1657" y="1577"/>
                  </a:lnTo>
                  <a:lnTo>
                    <a:pt x="1665" y="1580"/>
                  </a:lnTo>
                  <a:lnTo>
                    <a:pt x="1672" y="1582"/>
                  </a:lnTo>
                  <a:lnTo>
                    <a:pt x="1681" y="1579"/>
                  </a:lnTo>
                  <a:lnTo>
                    <a:pt x="1688" y="1586"/>
                  </a:lnTo>
                  <a:lnTo>
                    <a:pt x="1696" y="1588"/>
                  </a:lnTo>
                  <a:lnTo>
                    <a:pt x="1703" y="1588"/>
                  </a:lnTo>
                  <a:lnTo>
                    <a:pt x="1711" y="1589"/>
                  </a:lnTo>
                  <a:lnTo>
                    <a:pt x="1718" y="1593"/>
                  </a:lnTo>
                  <a:lnTo>
                    <a:pt x="1727" y="1594"/>
                  </a:lnTo>
                  <a:lnTo>
                    <a:pt x="1734" y="1597"/>
                  </a:lnTo>
                  <a:lnTo>
                    <a:pt x="1742" y="1600"/>
                  </a:lnTo>
                  <a:lnTo>
                    <a:pt x="1750" y="1606"/>
                  </a:lnTo>
                  <a:lnTo>
                    <a:pt x="1757" y="1606"/>
                  </a:lnTo>
                  <a:lnTo>
                    <a:pt x="1765" y="1610"/>
                  </a:lnTo>
                  <a:lnTo>
                    <a:pt x="1773" y="1612"/>
                  </a:lnTo>
                  <a:lnTo>
                    <a:pt x="1781" y="1617"/>
                  </a:lnTo>
                  <a:lnTo>
                    <a:pt x="1788" y="1619"/>
                  </a:lnTo>
                  <a:lnTo>
                    <a:pt x="1796" y="1621"/>
                  </a:lnTo>
                  <a:lnTo>
                    <a:pt x="1803" y="1624"/>
                  </a:lnTo>
                  <a:lnTo>
                    <a:pt x="1811" y="1626"/>
                  </a:lnTo>
                  <a:lnTo>
                    <a:pt x="1819" y="1629"/>
                  </a:lnTo>
                  <a:lnTo>
                    <a:pt x="1827" y="1630"/>
                  </a:lnTo>
                  <a:lnTo>
                    <a:pt x="1835" y="1634"/>
                  </a:lnTo>
                  <a:lnTo>
                    <a:pt x="1842" y="1634"/>
                  </a:lnTo>
                  <a:lnTo>
                    <a:pt x="1850" y="1637"/>
                  </a:lnTo>
                  <a:lnTo>
                    <a:pt x="1857" y="1638"/>
                  </a:lnTo>
                  <a:lnTo>
                    <a:pt x="1866" y="1642"/>
                  </a:lnTo>
                  <a:lnTo>
                    <a:pt x="1873" y="1644"/>
                  </a:lnTo>
                  <a:lnTo>
                    <a:pt x="1881" y="1645"/>
                  </a:lnTo>
                  <a:lnTo>
                    <a:pt x="1888" y="1646"/>
                  </a:lnTo>
                  <a:lnTo>
                    <a:pt x="1896" y="1648"/>
                  </a:lnTo>
                  <a:lnTo>
                    <a:pt x="1904" y="1651"/>
                  </a:lnTo>
                  <a:lnTo>
                    <a:pt x="1912" y="1651"/>
                  </a:lnTo>
                  <a:lnTo>
                    <a:pt x="1919" y="1654"/>
                  </a:lnTo>
                  <a:lnTo>
                    <a:pt x="1927" y="1653"/>
                  </a:lnTo>
                  <a:lnTo>
                    <a:pt x="1935" y="1655"/>
                  </a:lnTo>
                  <a:lnTo>
                    <a:pt x="1942" y="1657"/>
                  </a:lnTo>
                  <a:lnTo>
                    <a:pt x="1951" y="1659"/>
                  </a:lnTo>
                  <a:lnTo>
                    <a:pt x="1958" y="1658"/>
                  </a:lnTo>
                  <a:lnTo>
                    <a:pt x="1966" y="1660"/>
                  </a:lnTo>
                  <a:lnTo>
                    <a:pt x="1973" y="1660"/>
                  </a:lnTo>
                  <a:lnTo>
                    <a:pt x="1981" y="1660"/>
                  </a:lnTo>
                  <a:lnTo>
                    <a:pt x="1988" y="1661"/>
                  </a:lnTo>
                  <a:lnTo>
                    <a:pt x="1996" y="1663"/>
                  </a:lnTo>
                  <a:lnTo>
                    <a:pt x="2004" y="1663"/>
                  </a:lnTo>
                  <a:lnTo>
                    <a:pt x="2012" y="1664"/>
                  </a:lnTo>
                  <a:lnTo>
                    <a:pt x="2019" y="1666"/>
                  </a:lnTo>
                  <a:lnTo>
                    <a:pt x="2027" y="1666"/>
                  </a:lnTo>
                  <a:lnTo>
                    <a:pt x="2035" y="1665"/>
                  </a:lnTo>
                  <a:lnTo>
                    <a:pt x="2042" y="1665"/>
                  </a:lnTo>
                  <a:lnTo>
                    <a:pt x="2051" y="1666"/>
                  </a:lnTo>
                  <a:lnTo>
                    <a:pt x="2058" y="1667"/>
                  </a:lnTo>
                  <a:lnTo>
                    <a:pt x="2066" y="1668"/>
                  </a:lnTo>
                  <a:lnTo>
                    <a:pt x="2073" y="1669"/>
                  </a:lnTo>
                  <a:lnTo>
                    <a:pt x="2081" y="1668"/>
                  </a:lnTo>
                  <a:lnTo>
                    <a:pt x="2088" y="1669"/>
                  </a:lnTo>
                  <a:lnTo>
                    <a:pt x="2097" y="1671"/>
                  </a:lnTo>
                  <a:lnTo>
                    <a:pt x="2104" y="1672"/>
                  </a:lnTo>
                  <a:lnTo>
                    <a:pt x="2112" y="1671"/>
                  </a:lnTo>
                  <a:lnTo>
                    <a:pt x="2120" y="1671"/>
                  </a:lnTo>
                  <a:lnTo>
                    <a:pt x="2127" y="1672"/>
                  </a:lnTo>
                  <a:lnTo>
                    <a:pt x="2135" y="1672"/>
                  </a:lnTo>
                  <a:lnTo>
                    <a:pt x="2143" y="1673"/>
                  </a:lnTo>
                  <a:lnTo>
                    <a:pt x="2151" y="1674"/>
                  </a:lnTo>
                  <a:lnTo>
                    <a:pt x="2158" y="1674"/>
                  </a:lnTo>
                  <a:lnTo>
                    <a:pt x="2166" y="1674"/>
                  </a:lnTo>
                  <a:lnTo>
                    <a:pt x="2173" y="1675"/>
                  </a:lnTo>
                  <a:lnTo>
                    <a:pt x="2181" y="1675"/>
                  </a:lnTo>
                  <a:lnTo>
                    <a:pt x="2189" y="1676"/>
                  </a:lnTo>
                  <a:lnTo>
                    <a:pt x="2197" y="1676"/>
                  </a:lnTo>
                  <a:lnTo>
                    <a:pt x="2204" y="1676"/>
                  </a:lnTo>
                  <a:lnTo>
                    <a:pt x="2212" y="1676"/>
                  </a:lnTo>
                  <a:lnTo>
                    <a:pt x="2220" y="1677"/>
                  </a:lnTo>
                  <a:lnTo>
                    <a:pt x="2227" y="1676"/>
                  </a:lnTo>
                  <a:lnTo>
                    <a:pt x="2235" y="1677"/>
                  </a:lnTo>
                  <a:lnTo>
                    <a:pt x="2243" y="1678"/>
                  </a:lnTo>
                  <a:lnTo>
                    <a:pt x="2251" y="1679"/>
                  </a:lnTo>
                  <a:lnTo>
                    <a:pt x="2258" y="1678"/>
                  </a:lnTo>
                  <a:lnTo>
                    <a:pt x="2266" y="1679"/>
                  </a:lnTo>
                  <a:lnTo>
                    <a:pt x="2273" y="1680"/>
                  </a:lnTo>
                  <a:lnTo>
                    <a:pt x="2281" y="1679"/>
                  </a:lnTo>
                  <a:lnTo>
                    <a:pt x="2289" y="1679"/>
                  </a:lnTo>
                  <a:lnTo>
                    <a:pt x="2297" y="167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83200" y="2446920"/>
              <a:ext cx="4406040" cy="2228040"/>
            </a:xfrm>
            <a:custGeom>
              <a:avLst/>
              <a:gdLst/>
              <a:ahLst/>
              <a:rect l="l" t="t" r="r" b="b"/>
              <a:pathLst>
                <a:path w="2299" h="1173">
                  <a:moveTo>
                    <a:pt x="0" y="1172"/>
                  </a:moveTo>
                  <a:lnTo>
                    <a:pt x="7" y="1173"/>
                  </a:lnTo>
                  <a:lnTo>
                    <a:pt x="15" y="1172"/>
                  </a:lnTo>
                  <a:lnTo>
                    <a:pt x="23" y="1171"/>
                  </a:lnTo>
                  <a:lnTo>
                    <a:pt x="31" y="1172"/>
                  </a:lnTo>
                  <a:lnTo>
                    <a:pt x="39" y="1172"/>
                  </a:lnTo>
                  <a:lnTo>
                    <a:pt x="46" y="1171"/>
                  </a:lnTo>
                  <a:lnTo>
                    <a:pt x="55" y="1172"/>
                  </a:lnTo>
                  <a:lnTo>
                    <a:pt x="62" y="1171"/>
                  </a:lnTo>
                  <a:lnTo>
                    <a:pt x="70" y="1172"/>
                  </a:lnTo>
                  <a:lnTo>
                    <a:pt x="77" y="1169"/>
                  </a:lnTo>
                  <a:lnTo>
                    <a:pt x="86" y="1170"/>
                  </a:lnTo>
                  <a:lnTo>
                    <a:pt x="93" y="1168"/>
                  </a:lnTo>
                  <a:lnTo>
                    <a:pt x="101" y="1168"/>
                  </a:lnTo>
                  <a:lnTo>
                    <a:pt x="108" y="1168"/>
                  </a:lnTo>
                  <a:lnTo>
                    <a:pt x="117" y="1167"/>
                  </a:lnTo>
                  <a:lnTo>
                    <a:pt x="125" y="1168"/>
                  </a:lnTo>
                  <a:lnTo>
                    <a:pt x="132" y="1166"/>
                  </a:lnTo>
                  <a:lnTo>
                    <a:pt x="140" y="1166"/>
                  </a:lnTo>
                  <a:lnTo>
                    <a:pt x="148" y="1164"/>
                  </a:lnTo>
                  <a:lnTo>
                    <a:pt x="156" y="1163"/>
                  </a:lnTo>
                  <a:lnTo>
                    <a:pt x="163" y="1161"/>
                  </a:lnTo>
                  <a:lnTo>
                    <a:pt x="171" y="1160"/>
                  </a:lnTo>
                  <a:lnTo>
                    <a:pt x="179" y="1161"/>
                  </a:lnTo>
                  <a:lnTo>
                    <a:pt x="187" y="1159"/>
                  </a:lnTo>
                  <a:lnTo>
                    <a:pt x="194" y="1160"/>
                  </a:lnTo>
                  <a:lnTo>
                    <a:pt x="202" y="1157"/>
                  </a:lnTo>
                  <a:lnTo>
                    <a:pt x="211" y="1155"/>
                  </a:lnTo>
                  <a:lnTo>
                    <a:pt x="218" y="1154"/>
                  </a:lnTo>
                  <a:lnTo>
                    <a:pt x="226" y="1153"/>
                  </a:lnTo>
                  <a:lnTo>
                    <a:pt x="233" y="1152"/>
                  </a:lnTo>
                  <a:lnTo>
                    <a:pt x="242" y="1150"/>
                  </a:lnTo>
                  <a:lnTo>
                    <a:pt x="249" y="1149"/>
                  </a:lnTo>
                  <a:lnTo>
                    <a:pt x="257" y="1148"/>
                  </a:lnTo>
                  <a:lnTo>
                    <a:pt x="265" y="1146"/>
                  </a:lnTo>
                  <a:lnTo>
                    <a:pt x="273" y="1146"/>
                  </a:lnTo>
                  <a:lnTo>
                    <a:pt x="281" y="1145"/>
                  </a:lnTo>
                  <a:lnTo>
                    <a:pt x="288" y="1144"/>
                  </a:lnTo>
                  <a:lnTo>
                    <a:pt x="297" y="1143"/>
                  </a:lnTo>
                  <a:lnTo>
                    <a:pt x="304" y="1144"/>
                  </a:lnTo>
                  <a:lnTo>
                    <a:pt x="312" y="1141"/>
                  </a:lnTo>
                  <a:lnTo>
                    <a:pt x="319" y="1141"/>
                  </a:lnTo>
                  <a:lnTo>
                    <a:pt x="328" y="1142"/>
                  </a:lnTo>
                  <a:lnTo>
                    <a:pt x="335" y="1141"/>
                  </a:lnTo>
                  <a:lnTo>
                    <a:pt x="343" y="1142"/>
                  </a:lnTo>
                  <a:lnTo>
                    <a:pt x="352" y="1142"/>
                  </a:lnTo>
                  <a:lnTo>
                    <a:pt x="359" y="1144"/>
                  </a:lnTo>
                  <a:lnTo>
                    <a:pt x="367" y="1142"/>
                  </a:lnTo>
                  <a:lnTo>
                    <a:pt x="374" y="1140"/>
                  </a:lnTo>
                  <a:lnTo>
                    <a:pt x="383" y="1141"/>
                  </a:lnTo>
                  <a:lnTo>
                    <a:pt x="390" y="1140"/>
                  </a:lnTo>
                  <a:lnTo>
                    <a:pt x="398" y="1138"/>
                  </a:lnTo>
                  <a:lnTo>
                    <a:pt x="405" y="1133"/>
                  </a:lnTo>
                  <a:lnTo>
                    <a:pt x="414" y="1128"/>
                  </a:lnTo>
                  <a:lnTo>
                    <a:pt x="421" y="1119"/>
                  </a:lnTo>
                  <a:lnTo>
                    <a:pt x="429" y="1112"/>
                  </a:lnTo>
                  <a:lnTo>
                    <a:pt x="438" y="1099"/>
                  </a:lnTo>
                  <a:lnTo>
                    <a:pt x="445" y="1083"/>
                  </a:lnTo>
                  <a:lnTo>
                    <a:pt x="453" y="1073"/>
                  </a:lnTo>
                  <a:lnTo>
                    <a:pt x="460" y="1059"/>
                  </a:lnTo>
                  <a:lnTo>
                    <a:pt x="469" y="1052"/>
                  </a:lnTo>
                  <a:lnTo>
                    <a:pt x="476" y="1046"/>
                  </a:lnTo>
                  <a:lnTo>
                    <a:pt x="484" y="1042"/>
                  </a:lnTo>
                  <a:lnTo>
                    <a:pt x="491" y="1039"/>
                  </a:lnTo>
                  <a:lnTo>
                    <a:pt x="500" y="1042"/>
                  </a:lnTo>
                  <a:lnTo>
                    <a:pt x="507" y="1042"/>
                  </a:lnTo>
                  <a:lnTo>
                    <a:pt x="515" y="1047"/>
                  </a:lnTo>
                  <a:lnTo>
                    <a:pt x="523" y="1047"/>
                  </a:lnTo>
                  <a:lnTo>
                    <a:pt x="531" y="1049"/>
                  </a:lnTo>
                  <a:lnTo>
                    <a:pt x="539" y="1049"/>
                  </a:lnTo>
                  <a:lnTo>
                    <a:pt x="546" y="1049"/>
                  </a:lnTo>
                  <a:lnTo>
                    <a:pt x="555" y="1048"/>
                  </a:lnTo>
                  <a:lnTo>
                    <a:pt x="562" y="1051"/>
                  </a:lnTo>
                  <a:lnTo>
                    <a:pt x="570" y="1053"/>
                  </a:lnTo>
                  <a:lnTo>
                    <a:pt x="577" y="1051"/>
                  </a:lnTo>
                  <a:lnTo>
                    <a:pt x="586" y="1055"/>
                  </a:lnTo>
                  <a:lnTo>
                    <a:pt x="594" y="1054"/>
                  </a:lnTo>
                  <a:lnTo>
                    <a:pt x="601" y="1058"/>
                  </a:lnTo>
                  <a:lnTo>
                    <a:pt x="609" y="1056"/>
                  </a:lnTo>
                  <a:lnTo>
                    <a:pt x="617" y="1059"/>
                  </a:lnTo>
                  <a:lnTo>
                    <a:pt x="625" y="1059"/>
                  </a:lnTo>
                  <a:lnTo>
                    <a:pt x="632" y="1062"/>
                  </a:lnTo>
                  <a:lnTo>
                    <a:pt x="640" y="1066"/>
                  </a:lnTo>
                  <a:lnTo>
                    <a:pt x="648" y="1067"/>
                  </a:lnTo>
                  <a:lnTo>
                    <a:pt x="656" y="1068"/>
                  </a:lnTo>
                  <a:lnTo>
                    <a:pt x="663" y="1070"/>
                  </a:lnTo>
                  <a:lnTo>
                    <a:pt x="672" y="1075"/>
                  </a:lnTo>
                  <a:lnTo>
                    <a:pt x="680" y="1076"/>
                  </a:lnTo>
                  <a:lnTo>
                    <a:pt x="687" y="1082"/>
                  </a:lnTo>
                  <a:lnTo>
                    <a:pt x="695" y="1082"/>
                  </a:lnTo>
                  <a:lnTo>
                    <a:pt x="703" y="1086"/>
                  </a:lnTo>
                  <a:lnTo>
                    <a:pt x="711" y="1087"/>
                  </a:lnTo>
                  <a:lnTo>
                    <a:pt x="718" y="1088"/>
                  </a:lnTo>
                  <a:lnTo>
                    <a:pt x="726" y="1091"/>
                  </a:lnTo>
                  <a:lnTo>
                    <a:pt x="734" y="1094"/>
                  </a:lnTo>
                  <a:lnTo>
                    <a:pt x="742" y="1095"/>
                  </a:lnTo>
                  <a:lnTo>
                    <a:pt x="749" y="1095"/>
                  </a:lnTo>
                  <a:lnTo>
                    <a:pt x="757" y="1092"/>
                  </a:lnTo>
                  <a:lnTo>
                    <a:pt x="766" y="1098"/>
                  </a:lnTo>
                  <a:lnTo>
                    <a:pt x="773" y="1095"/>
                  </a:lnTo>
                  <a:lnTo>
                    <a:pt x="781" y="1094"/>
                  </a:lnTo>
                  <a:lnTo>
                    <a:pt x="788" y="1095"/>
                  </a:lnTo>
                  <a:lnTo>
                    <a:pt x="797" y="1092"/>
                  </a:lnTo>
                  <a:lnTo>
                    <a:pt x="804" y="1091"/>
                  </a:lnTo>
                  <a:lnTo>
                    <a:pt x="812" y="1089"/>
                  </a:lnTo>
                  <a:lnTo>
                    <a:pt x="820" y="1087"/>
                  </a:lnTo>
                  <a:lnTo>
                    <a:pt x="828" y="1086"/>
                  </a:lnTo>
                  <a:lnTo>
                    <a:pt x="836" y="1083"/>
                  </a:lnTo>
                  <a:lnTo>
                    <a:pt x="843" y="1077"/>
                  </a:lnTo>
                  <a:lnTo>
                    <a:pt x="852" y="1074"/>
                  </a:lnTo>
                  <a:lnTo>
                    <a:pt x="859" y="1071"/>
                  </a:lnTo>
                  <a:lnTo>
                    <a:pt x="867" y="1066"/>
                  </a:lnTo>
                  <a:lnTo>
                    <a:pt x="874" y="1056"/>
                  </a:lnTo>
                  <a:lnTo>
                    <a:pt x="883" y="1054"/>
                  </a:lnTo>
                  <a:lnTo>
                    <a:pt x="890" y="1045"/>
                  </a:lnTo>
                  <a:lnTo>
                    <a:pt x="898" y="1038"/>
                  </a:lnTo>
                  <a:lnTo>
                    <a:pt x="905" y="1030"/>
                  </a:lnTo>
                  <a:lnTo>
                    <a:pt x="914" y="1021"/>
                  </a:lnTo>
                  <a:lnTo>
                    <a:pt x="922" y="1017"/>
                  </a:lnTo>
                  <a:lnTo>
                    <a:pt x="929" y="1002"/>
                  </a:lnTo>
                  <a:lnTo>
                    <a:pt x="937" y="988"/>
                  </a:lnTo>
                  <a:lnTo>
                    <a:pt x="945" y="978"/>
                  </a:lnTo>
                  <a:lnTo>
                    <a:pt x="953" y="967"/>
                  </a:lnTo>
                  <a:lnTo>
                    <a:pt x="960" y="956"/>
                  </a:lnTo>
                  <a:lnTo>
                    <a:pt x="968" y="940"/>
                  </a:lnTo>
                  <a:lnTo>
                    <a:pt x="976" y="925"/>
                  </a:lnTo>
                  <a:lnTo>
                    <a:pt x="984" y="909"/>
                  </a:lnTo>
                  <a:lnTo>
                    <a:pt x="991" y="889"/>
                  </a:lnTo>
                  <a:lnTo>
                    <a:pt x="999" y="871"/>
                  </a:lnTo>
                  <a:lnTo>
                    <a:pt x="1008" y="854"/>
                  </a:lnTo>
                  <a:lnTo>
                    <a:pt x="1015" y="828"/>
                  </a:lnTo>
                  <a:lnTo>
                    <a:pt x="1023" y="808"/>
                  </a:lnTo>
                  <a:lnTo>
                    <a:pt x="1030" y="785"/>
                  </a:lnTo>
                  <a:lnTo>
                    <a:pt x="1039" y="762"/>
                  </a:lnTo>
                  <a:lnTo>
                    <a:pt x="1046" y="732"/>
                  </a:lnTo>
                  <a:lnTo>
                    <a:pt x="1054" y="701"/>
                  </a:lnTo>
                  <a:lnTo>
                    <a:pt x="1061" y="674"/>
                  </a:lnTo>
                  <a:lnTo>
                    <a:pt x="1070" y="643"/>
                  </a:lnTo>
                  <a:lnTo>
                    <a:pt x="1078" y="621"/>
                  </a:lnTo>
                  <a:lnTo>
                    <a:pt x="1085" y="589"/>
                  </a:lnTo>
                  <a:lnTo>
                    <a:pt x="1093" y="553"/>
                  </a:lnTo>
                  <a:lnTo>
                    <a:pt x="1101" y="522"/>
                  </a:lnTo>
                  <a:lnTo>
                    <a:pt x="1109" y="492"/>
                  </a:lnTo>
                  <a:lnTo>
                    <a:pt x="1116" y="457"/>
                  </a:lnTo>
                  <a:lnTo>
                    <a:pt x="1124" y="421"/>
                  </a:lnTo>
                  <a:lnTo>
                    <a:pt x="1132" y="385"/>
                  </a:lnTo>
                  <a:lnTo>
                    <a:pt x="1140" y="352"/>
                  </a:lnTo>
                  <a:lnTo>
                    <a:pt x="1147" y="328"/>
                  </a:lnTo>
                  <a:lnTo>
                    <a:pt x="1155" y="296"/>
                  </a:lnTo>
                  <a:lnTo>
                    <a:pt x="1164" y="254"/>
                  </a:lnTo>
                  <a:lnTo>
                    <a:pt x="1171" y="236"/>
                  </a:lnTo>
                  <a:lnTo>
                    <a:pt x="1179" y="202"/>
                  </a:lnTo>
                  <a:lnTo>
                    <a:pt x="1186" y="169"/>
                  </a:lnTo>
                  <a:lnTo>
                    <a:pt x="1195" y="144"/>
                  </a:lnTo>
                  <a:lnTo>
                    <a:pt x="1202" y="124"/>
                  </a:lnTo>
                  <a:lnTo>
                    <a:pt x="1210" y="98"/>
                  </a:lnTo>
                  <a:lnTo>
                    <a:pt x="1217" y="81"/>
                  </a:lnTo>
                  <a:lnTo>
                    <a:pt x="1226" y="61"/>
                  </a:lnTo>
                  <a:lnTo>
                    <a:pt x="1233" y="40"/>
                  </a:lnTo>
                  <a:lnTo>
                    <a:pt x="1241" y="34"/>
                  </a:lnTo>
                  <a:lnTo>
                    <a:pt x="1249" y="26"/>
                  </a:lnTo>
                  <a:lnTo>
                    <a:pt x="1257" y="21"/>
                  </a:lnTo>
                  <a:lnTo>
                    <a:pt x="1265" y="9"/>
                  </a:lnTo>
                  <a:lnTo>
                    <a:pt x="1272" y="5"/>
                  </a:lnTo>
                  <a:lnTo>
                    <a:pt x="1280" y="6"/>
                  </a:lnTo>
                  <a:lnTo>
                    <a:pt x="1288" y="3"/>
                  </a:lnTo>
                  <a:lnTo>
                    <a:pt x="1296" y="0"/>
                  </a:lnTo>
                  <a:lnTo>
                    <a:pt x="1303" y="8"/>
                  </a:lnTo>
                  <a:lnTo>
                    <a:pt x="1311" y="17"/>
                  </a:lnTo>
                  <a:lnTo>
                    <a:pt x="1320" y="24"/>
                  </a:lnTo>
                  <a:lnTo>
                    <a:pt x="1327" y="28"/>
                  </a:lnTo>
                  <a:lnTo>
                    <a:pt x="1335" y="50"/>
                  </a:lnTo>
                  <a:lnTo>
                    <a:pt x="1342" y="50"/>
                  </a:lnTo>
                  <a:lnTo>
                    <a:pt x="1351" y="61"/>
                  </a:lnTo>
                  <a:lnTo>
                    <a:pt x="1358" y="71"/>
                  </a:lnTo>
                  <a:lnTo>
                    <a:pt x="1366" y="88"/>
                  </a:lnTo>
                  <a:lnTo>
                    <a:pt x="1373" y="101"/>
                  </a:lnTo>
                  <a:lnTo>
                    <a:pt x="1382" y="126"/>
                  </a:lnTo>
                  <a:lnTo>
                    <a:pt x="1389" y="150"/>
                  </a:lnTo>
                  <a:lnTo>
                    <a:pt x="1397" y="163"/>
                  </a:lnTo>
                  <a:lnTo>
                    <a:pt x="1404" y="182"/>
                  </a:lnTo>
                  <a:lnTo>
                    <a:pt x="1413" y="200"/>
                  </a:lnTo>
                  <a:lnTo>
                    <a:pt x="1421" y="217"/>
                  </a:lnTo>
                  <a:lnTo>
                    <a:pt x="1428" y="245"/>
                  </a:lnTo>
                  <a:lnTo>
                    <a:pt x="1436" y="257"/>
                  </a:lnTo>
                  <a:lnTo>
                    <a:pt x="1444" y="284"/>
                  </a:lnTo>
                  <a:lnTo>
                    <a:pt x="1452" y="302"/>
                  </a:lnTo>
                  <a:lnTo>
                    <a:pt x="1459" y="321"/>
                  </a:lnTo>
                  <a:lnTo>
                    <a:pt x="1467" y="346"/>
                  </a:lnTo>
                  <a:lnTo>
                    <a:pt x="1475" y="366"/>
                  </a:lnTo>
                  <a:lnTo>
                    <a:pt x="1483" y="384"/>
                  </a:lnTo>
                  <a:lnTo>
                    <a:pt x="1491" y="406"/>
                  </a:lnTo>
                  <a:lnTo>
                    <a:pt x="1498" y="427"/>
                  </a:lnTo>
                  <a:lnTo>
                    <a:pt x="1506" y="452"/>
                  </a:lnTo>
                  <a:lnTo>
                    <a:pt x="1514" y="467"/>
                  </a:lnTo>
                  <a:lnTo>
                    <a:pt x="1522" y="497"/>
                  </a:lnTo>
                  <a:lnTo>
                    <a:pt x="1529" y="505"/>
                  </a:lnTo>
                  <a:lnTo>
                    <a:pt x="1537" y="528"/>
                  </a:lnTo>
                  <a:lnTo>
                    <a:pt x="1545" y="542"/>
                  </a:lnTo>
                  <a:lnTo>
                    <a:pt x="1553" y="566"/>
                  </a:lnTo>
                  <a:lnTo>
                    <a:pt x="1560" y="581"/>
                  </a:lnTo>
                  <a:lnTo>
                    <a:pt x="1568" y="603"/>
                  </a:lnTo>
                  <a:lnTo>
                    <a:pt x="1577" y="617"/>
                  </a:lnTo>
                  <a:lnTo>
                    <a:pt x="1584" y="629"/>
                  </a:lnTo>
                  <a:lnTo>
                    <a:pt x="1592" y="645"/>
                  </a:lnTo>
                  <a:lnTo>
                    <a:pt x="1599" y="665"/>
                  </a:lnTo>
                  <a:lnTo>
                    <a:pt x="1608" y="685"/>
                  </a:lnTo>
                  <a:lnTo>
                    <a:pt x="1615" y="697"/>
                  </a:lnTo>
                  <a:lnTo>
                    <a:pt x="1623" y="716"/>
                  </a:lnTo>
                  <a:lnTo>
                    <a:pt x="1630" y="730"/>
                  </a:lnTo>
                  <a:lnTo>
                    <a:pt x="1639" y="739"/>
                  </a:lnTo>
                  <a:lnTo>
                    <a:pt x="1647" y="752"/>
                  </a:lnTo>
                  <a:lnTo>
                    <a:pt x="1654" y="773"/>
                  </a:lnTo>
                  <a:lnTo>
                    <a:pt x="1662" y="782"/>
                  </a:lnTo>
                  <a:lnTo>
                    <a:pt x="1669" y="796"/>
                  </a:lnTo>
                  <a:lnTo>
                    <a:pt x="1678" y="804"/>
                  </a:lnTo>
                  <a:lnTo>
                    <a:pt x="1685" y="823"/>
                  </a:lnTo>
                  <a:lnTo>
                    <a:pt x="1693" y="828"/>
                  </a:lnTo>
                  <a:lnTo>
                    <a:pt x="1700" y="842"/>
                  </a:lnTo>
                  <a:lnTo>
                    <a:pt x="1709" y="852"/>
                  </a:lnTo>
                  <a:lnTo>
                    <a:pt x="1716" y="867"/>
                  </a:lnTo>
                  <a:lnTo>
                    <a:pt x="1724" y="875"/>
                  </a:lnTo>
                  <a:lnTo>
                    <a:pt x="1731" y="883"/>
                  </a:lnTo>
                  <a:lnTo>
                    <a:pt x="1740" y="895"/>
                  </a:lnTo>
                  <a:lnTo>
                    <a:pt x="1748" y="904"/>
                  </a:lnTo>
                  <a:lnTo>
                    <a:pt x="1755" y="913"/>
                  </a:lnTo>
                  <a:lnTo>
                    <a:pt x="1763" y="920"/>
                  </a:lnTo>
                  <a:lnTo>
                    <a:pt x="1770" y="928"/>
                  </a:lnTo>
                  <a:lnTo>
                    <a:pt x="1779" y="935"/>
                  </a:lnTo>
                  <a:lnTo>
                    <a:pt x="1786" y="944"/>
                  </a:lnTo>
                  <a:lnTo>
                    <a:pt x="1794" y="951"/>
                  </a:lnTo>
                  <a:lnTo>
                    <a:pt x="1801" y="958"/>
                  </a:lnTo>
                  <a:lnTo>
                    <a:pt x="1810" y="966"/>
                  </a:lnTo>
                  <a:lnTo>
                    <a:pt x="1818" y="969"/>
                  </a:lnTo>
                  <a:lnTo>
                    <a:pt x="1825" y="978"/>
                  </a:lnTo>
                  <a:lnTo>
                    <a:pt x="1833" y="983"/>
                  </a:lnTo>
                  <a:lnTo>
                    <a:pt x="1841" y="986"/>
                  </a:lnTo>
                  <a:lnTo>
                    <a:pt x="1849" y="996"/>
                  </a:lnTo>
                  <a:lnTo>
                    <a:pt x="1856" y="999"/>
                  </a:lnTo>
                  <a:lnTo>
                    <a:pt x="1864" y="1000"/>
                  </a:lnTo>
                  <a:lnTo>
                    <a:pt x="1871" y="1005"/>
                  </a:lnTo>
                  <a:lnTo>
                    <a:pt x="1880" y="1013"/>
                  </a:lnTo>
                  <a:lnTo>
                    <a:pt x="1887" y="1018"/>
                  </a:lnTo>
                  <a:lnTo>
                    <a:pt x="1895" y="1019"/>
                  </a:lnTo>
                  <a:lnTo>
                    <a:pt x="1902" y="1024"/>
                  </a:lnTo>
                  <a:lnTo>
                    <a:pt x="1911" y="1028"/>
                  </a:lnTo>
                  <a:lnTo>
                    <a:pt x="1919" y="1032"/>
                  </a:lnTo>
                  <a:lnTo>
                    <a:pt x="1926" y="1031"/>
                  </a:lnTo>
                  <a:lnTo>
                    <a:pt x="1934" y="1041"/>
                  </a:lnTo>
                  <a:lnTo>
                    <a:pt x="1942" y="1042"/>
                  </a:lnTo>
                  <a:lnTo>
                    <a:pt x="1950" y="1042"/>
                  </a:lnTo>
                  <a:lnTo>
                    <a:pt x="1957" y="1048"/>
                  </a:lnTo>
                  <a:lnTo>
                    <a:pt x="1965" y="1053"/>
                  </a:lnTo>
                  <a:lnTo>
                    <a:pt x="1972" y="1054"/>
                  </a:lnTo>
                  <a:lnTo>
                    <a:pt x="1981" y="1058"/>
                  </a:lnTo>
                  <a:lnTo>
                    <a:pt x="1989" y="1058"/>
                  </a:lnTo>
                  <a:lnTo>
                    <a:pt x="1996" y="1062"/>
                  </a:lnTo>
                  <a:lnTo>
                    <a:pt x="2004" y="1067"/>
                  </a:lnTo>
                  <a:lnTo>
                    <a:pt x="2012" y="1066"/>
                  </a:lnTo>
                  <a:lnTo>
                    <a:pt x="2020" y="1070"/>
                  </a:lnTo>
                  <a:lnTo>
                    <a:pt x="2027" y="1072"/>
                  </a:lnTo>
                  <a:lnTo>
                    <a:pt x="2035" y="1073"/>
                  </a:lnTo>
                  <a:lnTo>
                    <a:pt x="2042" y="1072"/>
                  </a:lnTo>
                  <a:lnTo>
                    <a:pt x="2051" y="1073"/>
                  </a:lnTo>
                  <a:lnTo>
                    <a:pt x="2058" y="1078"/>
                  </a:lnTo>
                  <a:lnTo>
                    <a:pt x="2066" y="1080"/>
                  </a:lnTo>
                  <a:lnTo>
                    <a:pt x="2074" y="1083"/>
                  </a:lnTo>
                  <a:lnTo>
                    <a:pt x="2082" y="1080"/>
                  </a:lnTo>
                  <a:lnTo>
                    <a:pt x="2090" y="1085"/>
                  </a:lnTo>
                  <a:lnTo>
                    <a:pt x="2097" y="1085"/>
                  </a:lnTo>
                  <a:lnTo>
                    <a:pt x="2105" y="1085"/>
                  </a:lnTo>
                  <a:lnTo>
                    <a:pt x="2112" y="1085"/>
                  </a:lnTo>
                  <a:lnTo>
                    <a:pt x="2121" y="1088"/>
                  </a:lnTo>
                  <a:lnTo>
                    <a:pt x="2128" y="1091"/>
                  </a:lnTo>
                  <a:lnTo>
                    <a:pt x="2136" y="1090"/>
                  </a:lnTo>
                  <a:lnTo>
                    <a:pt x="2143" y="1089"/>
                  </a:lnTo>
                  <a:lnTo>
                    <a:pt x="2152" y="1095"/>
                  </a:lnTo>
                  <a:lnTo>
                    <a:pt x="2160" y="1095"/>
                  </a:lnTo>
                  <a:lnTo>
                    <a:pt x="2167" y="1096"/>
                  </a:lnTo>
                  <a:lnTo>
                    <a:pt x="2175" y="1095"/>
                  </a:lnTo>
                  <a:lnTo>
                    <a:pt x="2182" y="1097"/>
                  </a:lnTo>
                  <a:lnTo>
                    <a:pt x="2191" y="1098"/>
                  </a:lnTo>
                  <a:lnTo>
                    <a:pt x="2198" y="1098"/>
                  </a:lnTo>
                  <a:lnTo>
                    <a:pt x="2206" y="1100"/>
                  </a:lnTo>
                  <a:lnTo>
                    <a:pt x="2213" y="1099"/>
                  </a:lnTo>
                  <a:lnTo>
                    <a:pt x="2221" y="1100"/>
                  </a:lnTo>
                  <a:lnTo>
                    <a:pt x="2229" y="1101"/>
                  </a:lnTo>
                  <a:lnTo>
                    <a:pt x="2237" y="1102"/>
                  </a:lnTo>
                  <a:lnTo>
                    <a:pt x="2245" y="1104"/>
                  </a:lnTo>
                  <a:lnTo>
                    <a:pt x="2252" y="1104"/>
                  </a:lnTo>
                  <a:lnTo>
                    <a:pt x="2261" y="1104"/>
                  </a:lnTo>
                  <a:lnTo>
                    <a:pt x="2268" y="1103"/>
                  </a:lnTo>
                  <a:lnTo>
                    <a:pt x="2276" y="1109"/>
                  </a:lnTo>
                  <a:lnTo>
                    <a:pt x="2283" y="1104"/>
                  </a:lnTo>
                  <a:lnTo>
                    <a:pt x="2291" y="1109"/>
                  </a:lnTo>
                  <a:lnTo>
                    <a:pt x="2299" y="1110"/>
                  </a:ln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383200" y="3019680"/>
              <a:ext cx="4406040" cy="1659600"/>
            </a:xfrm>
            <a:custGeom>
              <a:avLst/>
              <a:gdLst/>
              <a:ahLst/>
              <a:rect l="l" t="t" r="r" b="b"/>
              <a:pathLst>
                <a:path w="2299" h="874">
                  <a:moveTo>
                    <a:pt x="0" y="873"/>
                  </a:moveTo>
                  <a:lnTo>
                    <a:pt x="7" y="873"/>
                  </a:lnTo>
                  <a:lnTo>
                    <a:pt x="15" y="873"/>
                  </a:lnTo>
                  <a:lnTo>
                    <a:pt x="23" y="874"/>
                  </a:lnTo>
                  <a:lnTo>
                    <a:pt x="31" y="873"/>
                  </a:lnTo>
                  <a:lnTo>
                    <a:pt x="39" y="873"/>
                  </a:lnTo>
                  <a:lnTo>
                    <a:pt x="46" y="873"/>
                  </a:lnTo>
                  <a:lnTo>
                    <a:pt x="55" y="874"/>
                  </a:lnTo>
                  <a:lnTo>
                    <a:pt x="62" y="873"/>
                  </a:lnTo>
                  <a:lnTo>
                    <a:pt x="70" y="873"/>
                  </a:lnTo>
                  <a:lnTo>
                    <a:pt x="77" y="873"/>
                  </a:lnTo>
                  <a:lnTo>
                    <a:pt x="86" y="872"/>
                  </a:lnTo>
                  <a:lnTo>
                    <a:pt x="93" y="871"/>
                  </a:lnTo>
                  <a:lnTo>
                    <a:pt x="101" y="873"/>
                  </a:lnTo>
                  <a:lnTo>
                    <a:pt x="108" y="872"/>
                  </a:lnTo>
                  <a:lnTo>
                    <a:pt x="117" y="872"/>
                  </a:lnTo>
                  <a:lnTo>
                    <a:pt x="125" y="871"/>
                  </a:lnTo>
                  <a:lnTo>
                    <a:pt x="132" y="872"/>
                  </a:lnTo>
                  <a:lnTo>
                    <a:pt x="140" y="871"/>
                  </a:lnTo>
                  <a:lnTo>
                    <a:pt x="148" y="871"/>
                  </a:lnTo>
                  <a:lnTo>
                    <a:pt x="156" y="870"/>
                  </a:lnTo>
                  <a:lnTo>
                    <a:pt x="163" y="870"/>
                  </a:lnTo>
                  <a:lnTo>
                    <a:pt x="171" y="870"/>
                  </a:lnTo>
                  <a:lnTo>
                    <a:pt x="179" y="869"/>
                  </a:lnTo>
                  <a:lnTo>
                    <a:pt x="187" y="869"/>
                  </a:lnTo>
                  <a:lnTo>
                    <a:pt x="194" y="868"/>
                  </a:lnTo>
                  <a:lnTo>
                    <a:pt x="202" y="868"/>
                  </a:lnTo>
                  <a:lnTo>
                    <a:pt x="211" y="868"/>
                  </a:lnTo>
                  <a:lnTo>
                    <a:pt x="218" y="867"/>
                  </a:lnTo>
                  <a:lnTo>
                    <a:pt x="226" y="866"/>
                  </a:lnTo>
                  <a:lnTo>
                    <a:pt x="233" y="866"/>
                  </a:lnTo>
                  <a:lnTo>
                    <a:pt x="242" y="866"/>
                  </a:lnTo>
                  <a:lnTo>
                    <a:pt x="249" y="865"/>
                  </a:lnTo>
                  <a:lnTo>
                    <a:pt x="257" y="865"/>
                  </a:lnTo>
                  <a:lnTo>
                    <a:pt x="265" y="865"/>
                  </a:lnTo>
                  <a:lnTo>
                    <a:pt x="273" y="864"/>
                  </a:lnTo>
                  <a:lnTo>
                    <a:pt x="281" y="864"/>
                  </a:lnTo>
                  <a:lnTo>
                    <a:pt x="288" y="862"/>
                  </a:lnTo>
                  <a:lnTo>
                    <a:pt x="297" y="862"/>
                  </a:lnTo>
                  <a:lnTo>
                    <a:pt x="304" y="861"/>
                  </a:lnTo>
                  <a:lnTo>
                    <a:pt x="312" y="862"/>
                  </a:lnTo>
                  <a:lnTo>
                    <a:pt x="319" y="861"/>
                  </a:lnTo>
                  <a:lnTo>
                    <a:pt x="328" y="861"/>
                  </a:lnTo>
                  <a:lnTo>
                    <a:pt x="335" y="861"/>
                  </a:lnTo>
                  <a:lnTo>
                    <a:pt x="343" y="861"/>
                  </a:lnTo>
                  <a:lnTo>
                    <a:pt x="352" y="860"/>
                  </a:lnTo>
                  <a:lnTo>
                    <a:pt x="359" y="860"/>
                  </a:lnTo>
                  <a:lnTo>
                    <a:pt x="367" y="859"/>
                  </a:lnTo>
                  <a:lnTo>
                    <a:pt x="374" y="859"/>
                  </a:lnTo>
                  <a:lnTo>
                    <a:pt x="383" y="859"/>
                  </a:lnTo>
                  <a:lnTo>
                    <a:pt x="390" y="858"/>
                  </a:lnTo>
                  <a:lnTo>
                    <a:pt x="398" y="856"/>
                  </a:lnTo>
                  <a:lnTo>
                    <a:pt x="405" y="854"/>
                  </a:lnTo>
                  <a:lnTo>
                    <a:pt x="414" y="850"/>
                  </a:lnTo>
                  <a:lnTo>
                    <a:pt x="421" y="846"/>
                  </a:lnTo>
                  <a:lnTo>
                    <a:pt x="429" y="840"/>
                  </a:lnTo>
                  <a:lnTo>
                    <a:pt x="438" y="833"/>
                  </a:lnTo>
                  <a:lnTo>
                    <a:pt x="445" y="827"/>
                  </a:lnTo>
                  <a:lnTo>
                    <a:pt x="453" y="821"/>
                  </a:lnTo>
                  <a:lnTo>
                    <a:pt x="460" y="814"/>
                  </a:lnTo>
                  <a:lnTo>
                    <a:pt x="469" y="809"/>
                  </a:lnTo>
                  <a:lnTo>
                    <a:pt x="476" y="804"/>
                  </a:lnTo>
                  <a:lnTo>
                    <a:pt x="484" y="804"/>
                  </a:lnTo>
                  <a:lnTo>
                    <a:pt x="491" y="804"/>
                  </a:lnTo>
                  <a:lnTo>
                    <a:pt x="500" y="802"/>
                  </a:lnTo>
                  <a:lnTo>
                    <a:pt x="507" y="801"/>
                  </a:lnTo>
                  <a:lnTo>
                    <a:pt x="515" y="803"/>
                  </a:lnTo>
                  <a:lnTo>
                    <a:pt x="523" y="802"/>
                  </a:lnTo>
                  <a:lnTo>
                    <a:pt x="531" y="801"/>
                  </a:lnTo>
                  <a:lnTo>
                    <a:pt x="539" y="800"/>
                  </a:lnTo>
                  <a:lnTo>
                    <a:pt x="546" y="799"/>
                  </a:lnTo>
                  <a:lnTo>
                    <a:pt x="555" y="800"/>
                  </a:lnTo>
                  <a:lnTo>
                    <a:pt x="562" y="800"/>
                  </a:lnTo>
                  <a:lnTo>
                    <a:pt x="570" y="797"/>
                  </a:lnTo>
                  <a:lnTo>
                    <a:pt x="577" y="795"/>
                  </a:lnTo>
                  <a:lnTo>
                    <a:pt x="586" y="794"/>
                  </a:lnTo>
                  <a:lnTo>
                    <a:pt x="594" y="789"/>
                  </a:lnTo>
                  <a:lnTo>
                    <a:pt x="601" y="789"/>
                  </a:lnTo>
                  <a:lnTo>
                    <a:pt x="609" y="787"/>
                  </a:lnTo>
                  <a:lnTo>
                    <a:pt x="617" y="785"/>
                  </a:lnTo>
                  <a:lnTo>
                    <a:pt x="625" y="784"/>
                  </a:lnTo>
                  <a:lnTo>
                    <a:pt x="632" y="781"/>
                  </a:lnTo>
                  <a:lnTo>
                    <a:pt x="640" y="781"/>
                  </a:lnTo>
                  <a:lnTo>
                    <a:pt x="648" y="779"/>
                  </a:lnTo>
                  <a:lnTo>
                    <a:pt x="656" y="779"/>
                  </a:lnTo>
                  <a:lnTo>
                    <a:pt x="663" y="780"/>
                  </a:lnTo>
                  <a:lnTo>
                    <a:pt x="672" y="776"/>
                  </a:lnTo>
                  <a:lnTo>
                    <a:pt x="680" y="775"/>
                  </a:lnTo>
                  <a:lnTo>
                    <a:pt x="687" y="778"/>
                  </a:lnTo>
                  <a:lnTo>
                    <a:pt x="695" y="773"/>
                  </a:lnTo>
                  <a:lnTo>
                    <a:pt x="703" y="774"/>
                  </a:lnTo>
                  <a:lnTo>
                    <a:pt x="711" y="771"/>
                  </a:lnTo>
                  <a:lnTo>
                    <a:pt x="718" y="769"/>
                  </a:lnTo>
                  <a:lnTo>
                    <a:pt x="726" y="766"/>
                  </a:lnTo>
                  <a:lnTo>
                    <a:pt x="734" y="764"/>
                  </a:lnTo>
                  <a:lnTo>
                    <a:pt x="742" y="761"/>
                  </a:lnTo>
                  <a:lnTo>
                    <a:pt x="749" y="757"/>
                  </a:lnTo>
                  <a:lnTo>
                    <a:pt x="757" y="752"/>
                  </a:lnTo>
                  <a:lnTo>
                    <a:pt x="766" y="750"/>
                  </a:lnTo>
                  <a:lnTo>
                    <a:pt x="773" y="746"/>
                  </a:lnTo>
                  <a:lnTo>
                    <a:pt x="781" y="741"/>
                  </a:lnTo>
                  <a:lnTo>
                    <a:pt x="788" y="736"/>
                  </a:lnTo>
                  <a:lnTo>
                    <a:pt x="797" y="731"/>
                  </a:lnTo>
                  <a:lnTo>
                    <a:pt x="804" y="725"/>
                  </a:lnTo>
                  <a:lnTo>
                    <a:pt x="812" y="718"/>
                  </a:lnTo>
                  <a:lnTo>
                    <a:pt x="820" y="710"/>
                  </a:lnTo>
                  <a:lnTo>
                    <a:pt x="828" y="702"/>
                  </a:lnTo>
                  <a:lnTo>
                    <a:pt x="836" y="693"/>
                  </a:lnTo>
                  <a:lnTo>
                    <a:pt x="843" y="683"/>
                  </a:lnTo>
                  <a:lnTo>
                    <a:pt x="852" y="671"/>
                  </a:lnTo>
                  <a:lnTo>
                    <a:pt x="859" y="661"/>
                  </a:lnTo>
                  <a:lnTo>
                    <a:pt x="867" y="649"/>
                  </a:lnTo>
                  <a:lnTo>
                    <a:pt x="874" y="633"/>
                  </a:lnTo>
                  <a:lnTo>
                    <a:pt x="883" y="621"/>
                  </a:lnTo>
                  <a:lnTo>
                    <a:pt x="890" y="607"/>
                  </a:lnTo>
                  <a:lnTo>
                    <a:pt x="898" y="593"/>
                  </a:lnTo>
                  <a:lnTo>
                    <a:pt x="905" y="573"/>
                  </a:lnTo>
                  <a:lnTo>
                    <a:pt x="914" y="555"/>
                  </a:lnTo>
                  <a:lnTo>
                    <a:pt x="922" y="538"/>
                  </a:lnTo>
                  <a:lnTo>
                    <a:pt x="929" y="517"/>
                  </a:lnTo>
                  <a:lnTo>
                    <a:pt x="937" y="500"/>
                  </a:lnTo>
                  <a:lnTo>
                    <a:pt x="945" y="475"/>
                  </a:lnTo>
                  <a:lnTo>
                    <a:pt x="953" y="457"/>
                  </a:lnTo>
                  <a:lnTo>
                    <a:pt x="960" y="436"/>
                  </a:lnTo>
                  <a:lnTo>
                    <a:pt x="968" y="414"/>
                  </a:lnTo>
                  <a:lnTo>
                    <a:pt x="976" y="391"/>
                  </a:lnTo>
                  <a:lnTo>
                    <a:pt x="984" y="368"/>
                  </a:lnTo>
                  <a:lnTo>
                    <a:pt x="991" y="345"/>
                  </a:lnTo>
                  <a:lnTo>
                    <a:pt x="999" y="321"/>
                  </a:lnTo>
                  <a:lnTo>
                    <a:pt x="1008" y="296"/>
                  </a:lnTo>
                  <a:lnTo>
                    <a:pt x="1015" y="278"/>
                  </a:lnTo>
                  <a:lnTo>
                    <a:pt x="1023" y="254"/>
                  </a:lnTo>
                  <a:lnTo>
                    <a:pt x="1030" y="229"/>
                  </a:lnTo>
                  <a:lnTo>
                    <a:pt x="1039" y="211"/>
                  </a:lnTo>
                  <a:lnTo>
                    <a:pt x="1046" y="186"/>
                  </a:lnTo>
                  <a:lnTo>
                    <a:pt x="1054" y="169"/>
                  </a:lnTo>
                  <a:lnTo>
                    <a:pt x="1061" y="152"/>
                  </a:lnTo>
                  <a:lnTo>
                    <a:pt x="1070" y="135"/>
                  </a:lnTo>
                  <a:lnTo>
                    <a:pt x="1078" y="121"/>
                  </a:lnTo>
                  <a:lnTo>
                    <a:pt x="1085" y="102"/>
                  </a:lnTo>
                  <a:lnTo>
                    <a:pt x="1093" y="86"/>
                  </a:lnTo>
                  <a:lnTo>
                    <a:pt x="1101" y="72"/>
                  </a:lnTo>
                  <a:lnTo>
                    <a:pt x="1109" y="64"/>
                  </a:lnTo>
                  <a:lnTo>
                    <a:pt x="1116" y="51"/>
                  </a:lnTo>
                  <a:lnTo>
                    <a:pt x="1124" y="48"/>
                  </a:lnTo>
                  <a:lnTo>
                    <a:pt x="1132" y="30"/>
                  </a:lnTo>
                  <a:lnTo>
                    <a:pt x="1140" y="24"/>
                  </a:lnTo>
                  <a:lnTo>
                    <a:pt x="1147" y="20"/>
                  </a:lnTo>
                  <a:lnTo>
                    <a:pt x="1155" y="15"/>
                  </a:lnTo>
                  <a:lnTo>
                    <a:pt x="1164" y="13"/>
                  </a:lnTo>
                  <a:lnTo>
                    <a:pt x="1171" y="9"/>
                  </a:lnTo>
                  <a:lnTo>
                    <a:pt x="1179" y="0"/>
                  </a:lnTo>
                  <a:lnTo>
                    <a:pt x="1186" y="2"/>
                  </a:lnTo>
                  <a:lnTo>
                    <a:pt x="1195" y="1"/>
                  </a:lnTo>
                  <a:lnTo>
                    <a:pt x="1202" y="9"/>
                  </a:lnTo>
                  <a:lnTo>
                    <a:pt x="1210" y="13"/>
                  </a:lnTo>
                  <a:lnTo>
                    <a:pt x="1217" y="16"/>
                  </a:lnTo>
                  <a:lnTo>
                    <a:pt x="1226" y="22"/>
                  </a:lnTo>
                  <a:lnTo>
                    <a:pt x="1233" y="25"/>
                  </a:lnTo>
                  <a:lnTo>
                    <a:pt x="1241" y="37"/>
                  </a:lnTo>
                  <a:lnTo>
                    <a:pt x="1249" y="44"/>
                  </a:lnTo>
                  <a:lnTo>
                    <a:pt x="1257" y="50"/>
                  </a:lnTo>
                  <a:lnTo>
                    <a:pt x="1265" y="67"/>
                  </a:lnTo>
                  <a:lnTo>
                    <a:pt x="1272" y="73"/>
                  </a:lnTo>
                  <a:lnTo>
                    <a:pt x="1280" y="83"/>
                  </a:lnTo>
                  <a:lnTo>
                    <a:pt x="1288" y="102"/>
                  </a:lnTo>
                  <a:lnTo>
                    <a:pt x="1296" y="114"/>
                  </a:lnTo>
                  <a:lnTo>
                    <a:pt x="1303" y="125"/>
                  </a:lnTo>
                  <a:lnTo>
                    <a:pt x="1311" y="140"/>
                  </a:lnTo>
                  <a:lnTo>
                    <a:pt x="1320" y="152"/>
                  </a:lnTo>
                  <a:lnTo>
                    <a:pt x="1327" y="169"/>
                  </a:lnTo>
                  <a:lnTo>
                    <a:pt x="1335" y="182"/>
                  </a:lnTo>
                  <a:lnTo>
                    <a:pt x="1342" y="201"/>
                  </a:lnTo>
                  <a:lnTo>
                    <a:pt x="1351" y="211"/>
                  </a:lnTo>
                  <a:lnTo>
                    <a:pt x="1358" y="225"/>
                  </a:lnTo>
                  <a:lnTo>
                    <a:pt x="1366" y="243"/>
                  </a:lnTo>
                  <a:lnTo>
                    <a:pt x="1373" y="258"/>
                  </a:lnTo>
                  <a:lnTo>
                    <a:pt x="1382" y="274"/>
                  </a:lnTo>
                  <a:lnTo>
                    <a:pt x="1389" y="288"/>
                  </a:lnTo>
                  <a:lnTo>
                    <a:pt x="1397" y="306"/>
                  </a:lnTo>
                  <a:lnTo>
                    <a:pt x="1404" y="317"/>
                  </a:lnTo>
                  <a:lnTo>
                    <a:pt x="1413" y="330"/>
                  </a:lnTo>
                  <a:lnTo>
                    <a:pt x="1421" y="349"/>
                  </a:lnTo>
                  <a:lnTo>
                    <a:pt x="1428" y="365"/>
                  </a:lnTo>
                  <a:lnTo>
                    <a:pt x="1436" y="375"/>
                  </a:lnTo>
                  <a:lnTo>
                    <a:pt x="1444" y="392"/>
                  </a:lnTo>
                  <a:lnTo>
                    <a:pt x="1452" y="403"/>
                  </a:lnTo>
                  <a:lnTo>
                    <a:pt x="1459" y="422"/>
                  </a:lnTo>
                  <a:lnTo>
                    <a:pt x="1467" y="436"/>
                  </a:lnTo>
                  <a:lnTo>
                    <a:pt x="1475" y="444"/>
                  </a:lnTo>
                  <a:lnTo>
                    <a:pt x="1483" y="456"/>
                  </a:lnTo>
                  <a:lnTo>
                    <a:pt x="1491" y="468"/>
                  </a:lnTo>
                  <a:lnTo>
                    <a:pt x="1498" y="481"/>
                  </a:lnTo>
                  <a:lnTo>
                    <a:pt x="1506" y="496"/>
                  </a:lnTo>
                  <a:lnTo>
                    <a:pt x="1514" y="507"/>
                  </a:lnTo>
                  <a:lnTo>
                    <a:pt x="1522" y="516"/>
                  </a:lnTo>
                  <a:lnTo>
                    <a:pt x="1529" y="527"/>
                  </a:lnTo>
                  <a:lnTo>
                    <a:pt x="1537" y="537"/>
                  </a:lnTo>
                  <a:lnTo>
                    <a:pt x="1545" y="549"/>
                  </a:lnTo>
                  <a:lnTo>
                    <a:pt x="1553" y="558"/>
                  </a:lnTo>
                  <a:lnTo>
                    <a:pt x="1560" y="568"/>
                  </a:lnTo>
                  <a:lnTo>
                    <a:pt x="1568" y="578"/>
                  </a:lnTo>
                  <a:lnTo>
                    <a:pt x="1577" y="587"/>
                  </a:lnTo>
                  <a:lnTo>
                    <a:pt x="1584" y="594"/>
                  </a:lnTo>
                  <a:lnTo>
                    <a:pt x="1592" y="601"/>
                  </a:lnTo>
                  <a:lnTo>
                    <a:pt x="1599" y="609"/>
                  </a:lnTo>
                  <a:lnTo>
                    <a:pt x="1608" y="616"/>
                  </a:lnTo>
                  <a:lnTo>
                    <a:pt x="1615" y="626"/>
                  </a:lnTo>
                  <a:lnTo>
                    <a:pt x="1623" y="632"/>
                  </a:lnTo>
                  <a:lnTo>
                    <a:pt x="1630" y="641"/>
                  </a:lnTo>
                  <a:lnTo>
                    <a:pt x="1639" y="647"/>
                  </a:lnTo>
                  <a:lnTo>
                    <a:pt x="1647" y="654"/>
                  </a:lnTo>
                  <a:lnTo>
                    <a:pt x="1654" y="659"/>
                  </a:lnTo>
                  <a:lnTo>
                    <a:pt x="1662" y="666"/>
                  </a:lnTo>
                  <a:lnTo>
                    <a:pt x="1669" y="672"/>
                  </a:lnTo>
                  <a:lnTo>
                    <a:pt x="1678" y="678"/>
                  </a:lnTo>
                  <a:lnTo>
                    <a:pt x="1685" y="685"/>
                  </a:lnTo>
                  <a:lnTo>
                    <a:pt x="1693" y="692"/>
                  </a:lnTo>
                  <a:lnTo>
                    <a:pt x="1700" y="693"/>
                  </a:lnTo>
                  <a:lnTo>
                    <a:pt x="1709" y="699"/>
                  </a:lnTo>
                  <a:lnTo>
                    <a:pt x="1716" y="703"/>
                  </a:lnTo>
                  <a:lnTo>
                    <a:pt x="1724" y="710"/>
                  </a:lnTo>
                  <a:lnTo>
                    <a:pt x="1731" y="714"/>
                  </a:lnTo>
                  <a:lnTo>
                    <a:pt x="1740" y="717"/>
                  </a:lnTo>
                  <a:lnTo>
                    <a:pt x="1748" y="723"/>
                  </a:lnTo>
                  <a:lnTo>
                    <a:pt x="1755" y="725"/>
                  </a:lnTo>
                  <a:lnTo>
                    <a:pt x="1763" y="730"/>
                  </a:lnTo>
                  <a:lnTo>
                    <a:pt x="1770" y="732"/>
                  </a:lnTo>
                  <a:lnTo>
                    <a:pt x="1779" y="739"/>
                  </a:lnTo>
                  <a:lnTo>
                    <a:pt x="1786" y="743"/>
                  </a:lnTo>
                  <a:lnTo>
                    <a:pt x="1794" y="744"/>
                  </a:lnTo>
                  <a:lnTo>
                    <a:pt x="1801" y="746"/>
                  </a:lnTo>
                  <a:lnTo>
                    <a:pt x="1810" y="750"/>
                  </a:lnTo>
                  <a:lnTo>
                    <a:pt x="1818" y="753"/>
                  </a:lnTo>
                  <a:lnTo>
                    <a:pt x="1825" y="755"/>
                  </a:lnTo>
                  <a:lnTo>
                    <a:pt x="1833" y="757"/>
                  </a:lnTo>
                  <a:lnTo>
                    <a:pt x="1841" y="759"/>
                  </a:lnTo>
                  <a:lnTo>
                    <a:pt x="1849" y="761"/>
                  </a:lnTo>
                  <a:lnTo>
                    <a:pt x="1856" y="762"/>
                  </a:lnTo>
                  <a:lnTo>
                    <a:pt x="1864" y="765"/>
                  </a:lnTo>
                  <a:lnTo>
                    <a:pt x="1871" y="767"/>
                  </a:lnTo>
                  <a:lnTo>
                    <a:pt x="1880" y="770"/>
                  </a:lnTo>
                  <a:lnTo>
                    <a:pt x="1887" y="772"/>
                  </a:lnTo>
                  <a:lnTo>
                    <a:pt x="1895" y="774"/>
                  </a:lnTo>
                  <a:lnTo>
                    <a:pt x="1902" y="778"/>
                  </a:lnTo>
                  <a:lnTo>
                    <a:pt x="1911" y="776"/>
                  </a:lnTo>
                  <a:lnTo>
                    <a:pt x="1919" y="779"/>
                  </a:lnTo>
                  <a:lnTo>
                    <a:pt x="1926" y="779"/>
                  </a:lnTo>
                  <a:lnTo>
                    <a:pt x="1934" y="782"/>
                  </a:lnTo>
                  <a:lnTo>
                    <a:pt x="1942" y="782"/>
                  </a:lnTo>
                  <a:lnTo>
                    <a:pt x="1950" y="785"/>
                  </a:lnTo>
                  <a:lnTo>
                    <a:pt x="1957" y="786"/>
                  </a:lnTo>
                  <a:lnTo>
                    <a:pt x="1965" y="786"/>
                  </a:lnTo>
                  <a:lnTo>
                    <a:pt x="1972" y="788"/>
                  </a:lnTo>
                  <a:lnTo>
                    <a:pt x="1981" y="789"/>
                  </a:lnTo>
                  <a:lnTo>
                    <a:pt x="1989" y="790"/>
                  </a:lnTo>
                  <a:lnTo>
                    <a:pt x="1996" y="790"/>
                  </a:lnTo>
                  <a:lnTo>
                    <a:pt x="2004" y="792"/>
                  </a:lnTo>
                  <a:lnTo>
                    <a:pt x="2012" y="793"/>
                  </a:lnTo>
                  <a:lnTo>
                    <a:pt x="2020" y="795"/>
                  </a:lnTo>
                  <a:lnTo>
                    <a:pt x="2027" y="796"/>
                  </a:lnTo>
                  <a:lnTo>
                    <a:pt x="2035" y="796"/>
                  </a:lnTo>
                  <a:lnTo>
                    <a:pt x="2042" y="798"/>
                  </a:lnTo>
                  <a:lnTo>
                    <a:pt x="2051" y="797"/>
                  </a:lnTo>
                  <a:lnTo>
                    <a:pt x="2058" y="800"/>
                  </a:lnTo>
                  <a:lnTo>
                    <a:pt x="2066" y="801"/>
                  </a:lnTo>
                  <a:lnTo>
                    <a:pt x="2074" y="801"/>
                  </a:lnTo>
                  <a:lnTo>
                    <a:pt x="2082" y="801"/>
                  </a:lnTo>
                  <a:lnTo>
                    <a:pt x="2090" y="801"/>
                  </a:lnTo>
                  <a:lnTo>
                    <a:pt x="2097" y="802"/>
                  </a:lnTo>
                  <a:lnTo>
                    <a:pt x="2105" y="802"/>
                  </a:lnTo>
                  <a:lnTo>
                    <a:pt x="2112" y="807"/>
                  </a:lnTo>
                  <a:lnTo>
                    <a:pt x="2121" y="805"/>
                  </a:lnTo>
                  <a:lnTo>
                    <a:pt x="2128" y="807"/>
                  </a:lnTo>
                  <a:lnTo>
                    <a:pt x="2136" y="809"/>
                  </a:lnTo>
                  <a:lnTo>
                    <a:pt x="2143" y="807"/>
                  </a:lnTo>
                  <a:lnTo>
                    <a:pt x="2152" y="810"/>
                  </a:lnTo>
                  <a:lnTo>
                    <a:pt x="2160" y="809"/>
                  </a:lnTo>
                  <a:lnTo>
                    <a:pt x="2167" y="810"/>
                  </a:lnTo>
                  <a:lnTo>
                    <a:pt x="2175" y="811"/>
                  </a:lnTo>
                  <a:lnTo>
                    <a:pt x="2182" y="812"/>
                  </a:lnTo>
                  <a:lnTo>
                    <a:pt x="2191" y="814"/>
                  </a:lnTo>
                  <a:lnTo>
                    <a:pt x="2198" y="815"/>
                  </a:lnTo>
                  <a:lnTo>
                    <a:pt x="2206" y="815"/>
                  </a:lnTo>
                  <a:lnTo>
                    <a:pt x="2213" y="814"/>
                  </a:lnTo>
                  <a:lnTo>
                    <a:pt x="2221" y="815"/>
                  </a:lnTo>
                  <a:lnTo>
                    <a:pt x="2229" y="816"/>
                  </a:lnTo>
                  <a:lnTo>
                    <a:pt x="2237" y="817"/>
                  </a:lnTo>
                  <a:lnTo>
                    <a:pt x="2245" y="818"/>
                  </a:lnTo>
                  <a:lnTo>
                    <a:pt x="2252" y="819"/>
                  </a:lnTo>
                  <a:lnTo>
                    <a:pt x="2261" y="819"/>
                  </a:lnTo>
                  <a:lnTo>
                    <a:pt x="2268" y="822"/>
                  </a:lnTo>
                  <a:lnTo>
                    <a:pt x="2276" y="823"/>
                  </a:lnTo>
                  <a:lnTo>
                    <a:pt x="2283" y="822"/>
                  </a:lnTo>
                  <a:lnTo>
                    <a:pt x="2291" y="823"/>
                  </a:lnTo>
                  <a:lnTo>
                    <a:pt x="2299" y="824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83200" y="3077280"/>
              <a:ext cx="4406040" cy="1589400"/>
            </a:xfrm>
            <a:custGeom>
              <a:avLst/>
              <a:gdLst/>
              <a:ahLst/>
              <a:rect l="l" t="t" r="r" b="b"/>
              <a:pathLst>
                <a:path w="2299" h="837">
                  <a:moveTo>
                    <a:pt x="0" y="837"/>
                  </a:moveTo>
                  <a:lnTo>
                    <a:pt x="7" y="837"/>
                  </a:lnTo>
                  <a:lnTo>
                    <a:pt x="16" y="837"/>
                  </a:lnTo>
                  <a:lnTo>
                    <a:pt x="23" y="837"/>
                  </a:lnTo>
                  <a:lnTo>
                    <a:pt x="31" y="837"/>
                  </a:lnTo>
                  <a:lnTo>
                    <a:pt x="39" y="836"/>
                  </a:lnTo>
                  <a:lnTo>
                    <a:pt x="47" y="836"/>
                  </a:lnTo>
                  <a:lnTo>
                    <a:pt x="55" y="836"/>
                  </a:lnTo>
                  <a:lnTo>
                    <a:pt x="62" y="836"/>
                  </a:lnTo>
                  <a:lnTo>
                    <a:pt x="70" y="836"/>
                  </a:lnTo>
                  <a:lnTo>
                    <a:pt x="78" y="835"/>
                  </a:lnTo>
                  <a:lnTo>
                    <a:pt x="86" y="835"/>
                  </a:lnTo>
                  <a:lnTo>
                    <a:pt x="93" y="835"/>
                  </a:lnTo>
                  <a:lnTo>
                    <a:pt x="101" y="835"/>
                  </a:lnTo>
                  <a:lnTo>
                    <a:pt x="110" y="835"/>
                  </a:lnTo>
                  <a:lnTo>
                    <a:pt x="117" y="835"/>
                  </a:lnTo>
                  <a:lnTo>
                    <a:pt x="125" y="834"/>
                  </a:lnTo>
                  <a:lnTo>
                    <a:pt x="132" y="834"/>
                  </a:lnTo>
                  <a:lnTo>
                    <a:pt x="141" y="832"/>
                  </a:lnTo>
                  <a:lnTo>
                    <a:pt x="148" y="832"/>
                  </a:lnTo>
                  <a:lnTo>
                    <a:pt x="156" y="831"/>
                  </a:lnTo>
                  <a:lnTo>
                    <a:pt x="163" y="830"/>
                  </a:lnTo>
                  <a:lnTo>
                    <a:pt x="172" y="828"/>
                  </a:lnTo>
                  <a:lnTo>
                    <a:pt x="179" y="827"/>
                  </a:lnTo>
                  <a:lnTo>
                    <a:pt x="187" y="826"/>
                  </a:lnTo>
                  <a:lnTo>
                    <a:pt x="194" y="824"/>
                  </a:lnTo>
                  <a:lnTo>
                    <a:pt x="203" y="823"/>
                  </a:lnTo>
                  <a:lnTo>
                    <a:pt x="211" y="821"/>
                  </a:lnTo>
                  <a:lnTo>
                    <a:pt x="218" y="820"/>
                  </a:lnTo>
                  <a:lnTo>
                    <a:pt x="226" y="817"/>
                  </a:lnTo>
                  <a:lnTo>
                    <a:pt x="234" y="816"/>
                  </a:lnTo>
                  <a:lnTo>
                    <a:pt x="242" y="814"/>
                  </a:lnTo>
                  <a:lnTo>
                    <a:pt x="249" y="812"/>
                  </a:lnTo>
                  <a:lnTo>
                    <a:pt x="257" y="811"/>
                  </a:lnTo>
                  <a:lnTo>
                    <a:pt x="265" y="810"/>
                  </a:lnTo>
                  <a:lnTo>
                    <a:pt x="273" y="809"/>
                  </a:lnTo>
                  <a:lnTo>
                    <a:pt x="281" y="808"/>
                  </a:lnTo>
                  <a:lnTo>
                    <a:pt x="288" y="807"/>
                  </a:lnTo>
                  <a:lnTo>
                    <a:pt x="297" y="807"/>
                  </a:lnTo>
                  <a:lnTo>
                    <a:pt x="304" y="806"/>
                  </a:lnTo>
                  <a:lnTo>
                    <a:pt x="312" y="806"/>
                  </a:lnTo>
                  <a:lnTo>
                    <a:pt x="319" y="806"/>
                  </a:lnTo>
                  <a:lnTo>
                    <a:pt x="328" y="805"/>
                  </a:lnTo>
                  <a:lnTo>
                    <a:pt x="335" y="805"/>
                  </a:lnTo>
                  <a:lnTo>
                    <a:pt x="343" y="803"/>
                  </a:lnTo>
                  <a:lnTo>
                    <a:pt x="350" y="802"/>
                  </a:lnTo>
                  <a:lnTo>
                    <a:pt x="359" y="801"/>
                  </a:lnTo>
                  <a:lnTo>
                    <a:pt x="367" y="799"/>
                  </a:lnTo>
                  <a:lnTo>
                    <a:pt x="374" y="797"/>
                  </a:lnTo>
                  <a:lnTo>
                    <a:pt x="382" y="794"/>
                  </a:lnTo>
                  <a:lnTo>
                    <a:pt x="390" y="791"/>
                  </a:lnTo>
                  <a:lnTo>
                    <a:pt x="398" y="785"/>
                  </a:lnTo>
                  <a:lnTo>
                    <a:pt x="405" y="780"/>
                  </a:lnTo>
                  <a:lnTo>
                    <a:pt x="413" y="773"/>
                  </a:lnTo>
                  <a:lnTo>
                    <a:pt x="421" y="766"/>
                  </a:lnTo>
                  <a:lnTo>
                    <a:pt x="429" y="757"/>
                  </a:lnTo>
                  <a:lnTo>
                    <a:pt x="436" y="749"/>
                  </a:lnTo>
                  <a:lnTo>
                    <a:pt x="444" y="741"/>
                  </a:lnTo>
                  <a:lnTo>
                    <a:pt x="453" y="734"/>
                  </a:lnTo>
                  <a:lnTo>
                    <a:pt x="460" y="726"/>
                  </a:lnTo>
                  <a:lnTo>
                    <a:pt x="468" y="721"/>
                  </a:lnTo>
                  <a:lnTo>
                    <a:pt x="475" y="716"/>
                  </a:lnTo>
                  <a:lnTo>
                    <a:pt x="484" y="713"/>
                  </a:lnTo>
                  <a:lnTo>
                    <a:pt x="491" y="710"/>
                  </a:lnTo>
                  <a:lnTo>
                    <a:pt x="499" y="709"/>
                  </a:lnTo>
                  <a:lnTo>
                    <a:pt x="506" y="708"/>
                  </a:lnTo>
                  <a:lnTo>
                    <a:pt x="515" y="707"/>
                  </a:lnTo>
                  <a:lnTo>
                    <a:pt x="523" y="706"/>
                  </a:lnTo>
                  <a:lnTo>
                    <a:pt x="530" y="705"/>
                  </a:lnTo>
                  <a:lnTo>
                    <a:pt x="538" y="702"/>
                  </a:lnTo>
                  <a:lnTo>
                    <a:pt x="546" y="700"/>
                  </a:lnTo>
                  <a:lnTo>
                    <a:pt x="554" y="697"/>
                  </a:lnTo>
                  <a:lnTo>
                    <a:pt x="561" y="693"/>
                  </a:lnTo>
                  <a:lnTo>
                    <a:pt x="569" y="689"/>
                  </a:lnTo>
                  <a:lnTo>
                    <a:pt x="577" y="685"/>
                  </a:lnTo>
                  <a:lnTo>
                    <a:pt x="585" y="682"/>
                  </a:lnTo>
                  <a:lnTo>
                    <a:pt x="592" y="679"/>
                  </a:lnTo>
                  <a:lnTo>
                    <a:pt x="600" y="674"/>
                  </a:lnTo>
                  <a:lnTo>
                    <a:pt x="609" y="671"/>
                  </a:lnTo>
                  <a:lnTo>
                    <a:pt x="616" y="669"/>
                  </a:lnTo>
                  <a:lnTo>
                    <a:pt x="624" y="666"/>
                  </a:lnTo>
                  <a:lnTo>
                    <a:pt x="631" y="663"/>
                  </a:lnTo>
                  <a:lnTo>
                    <a:pt x="639" y="660"/>
                  </a:lnTo>
                  <a:lnTo>
                    <a:pt x="647" y="657"/>
                  </a:lnTo>
                  <a:lnTo>
                    <a:pt x="655" y="655"/>
                  </a:lnTo>
                  <a:lnTo>
                    <a:pt x="662" y="652"/>
                  </a:lnTo>
                  <a:lnTo>
                    <a:pt x="670" y="650"/>
                  </a:lnTo>
                  <a:lnTo>
                    <a:pt x="678" y="646"/>
                  </a:lnTo>
                  <a:lnTo>
                    <a:pt x="686" y="643"/>
                  </a:lnTo>
                  <a:lnTo>
                    <a:pt x="694" y="640"/>
                  </a:lnTo>
                  <a:lnTo>
                    <a:pt x="701" y="637"/>
                  </a:lnTo>
                  <a:lnTo>
                    <a:pt x="710" y="634"/>
                  </a:lnTo>
                  <a:lnTo>
                    <a:pt x="717" y="629"/>
                  </a:lnTo>
                  <a:lnTo>
                    <a:pt x="725" y="625"/>
                  </a:lnTo>
                  <a:lnTo>
                    <a:pt x="732" y="620"/>
                  </a:lnTo>
                  <a:lnTo>
                    <a:pt x="741" y="614"/>
                  </a:lnTo>
                  <a:lnTo>
                    <a:pt x="748" y="609"/>
                  </a:lnTo>
                  <a:lnTo>
                    <a:pt x="756" y="602"/>
                  </a:lnTo>
                  <a:lnTo>
                    <a:pt x="763" y="596"/>
                  </a:lnTo>
                  <a:lnTo>
                    <a:pt x="772" y="590"/>
                  </a:lnTo>
                  <a:lnTo>
                    <a:pt x="780" y="582"/>
                  </a:lnTo>
                  <a:lnTo>
                    <a:pt x="787" y="573"/>
                  </a:lnTo>
                  <a:lnTo>
                    <a:pt x="795" y="565"/>
                  </a:lnTo>
                  <a:lnTo>
                    <a:pt x="803" y="555"/>
                  </a:lnTo>
                  <a:lnTo>
                    <a:pt x="811" y="545"/>
                  </a:lnTo>
                  <a:lnTo>
                    <a:pt x="818" y="534"/>
                  </a:lnTo>
                  <a:lnTo>
                    <a:pt x="826" y="522"/>
                  </a:lnTo>
                  <a:lnTo>
                    <a:pt x="834" y="510"/>
                  </a:lnTo>
                  <a:lnTo>
                    <a:pt x="842" y="496"/>
                  </a:lnTo>
                  <a:lnTo>
                    <a:pt x="850" y="482"/>
                  </a:lnTo>
                  <a:lnTo>
                    <a:pt x="858" y="466"/>
                  </a:lnTo>
                  <a:lnTo>
                    <a:pt x="866" y="450"/>
                  </a:lnTo>
                  <a:lnTo>
                    <a:pt x="873" y="433"/>
                  </a:lnTo>
                  <a:lnTo>
                    <a:pt x="881" y="414"/>
                  </a:lnTo>
                  <a:lnTo>
                    <a:pt x="889" y="395"/>
                  </a:lnTo>
                  <a:lnTo>
                    <a:pt x="897" y="376"/>
                  </a:lnTo>
                  <a:lnTo>
                    <a:pt x="904" y="355"/>
                  </a:lnTo>
                  <a:lnTo>
                    <a:pt x="912" y="335"/>
                  </a:lnTo>
                  <a:lnTo>
                    <a:pt x="920" y="313"/>
                  </a:lnTo>
                  <a:lnTo>
                    <a:pt x="928" y="293"/>
                  </a:lnTo>
                  <a:lnTo>
                    <a:pt x="936" y="271"/>
                  </a:lnTo>
                  <a:lnTo>
                    <a:pt x="944" y="251"/>
                  </a:lnTo>
                  <a:lnTo>
                    <a:pt x="952" y="230"/>
                  </a:lnTo>
                  <a:lnTo>
                    <a:pt x="959" y="210"/>
                  </a:lnTo>
                  <a:lnTo>
                    <a:pt x="967" y="190"/>
                  </a:lnTo>
                  <a:lnTo>
                    <a:pt x="975" y="170"/>
                  </a:lnTo>
                  <a:lnTo>
                    <a:pt x="983" y="152"/>
                  </a:lnTo>
                  <a:lnTo>
                    <a:pt x="990" y="134"/>
                  </a:lnTo>
                  <a:lnTo>
                    <a:pt x="998" y="117"/>
                  </a:lnTo>
                  <a:lnTo>
                    <a:pt x="1007" y="101"/>
                  </a:lnTo>
                  <a:lnTo>
                    <a:pt x="1014" y="87"/>
                  </a:lnTo>
                  <a:lnTo>
                    <a:pt x="1022" y="76"/>
                  </a:lnTo>
                  <a:lnTo>
                    <a:pt x="1029" y="66"/>
                  </a:lnTo>
                  <a:lnTo>
                    <a:pt x="1038" y="56"/>
                  </a:lnTo>
                  <a:lnTo>
                    <a:pt x="1045" y="49"/>
                  </a:lnTo>
                  <a:lnTo>
                    <a:pt x="1053" y="42"/>
                  </a:lnTo>
                  <a:lnTo>
                    <a:pt x="1060" y="37"/>
                  </a:lnTo>
                  <a:lnTo>
                    <a:pt x="1069" y="32"/>
                  </a:lnTo>
                  <a:lnTo>
                    <a:pt x="1076" y="26"/>
                  </a:lnTo>
                  <a:lnTo>
                    <a:pt x="1084" y="22"/>
                  </a:lnTo>
                  <a:lnTo>
                    <a:pt x="1093" y="18"/>
                  </a:lnTo>
                  <a:lnTo>
                    <a:pt x="1100" y="13"/>
                  </a:lnTo>
                  <a:lnTo>
                    <a:pt x="1108" y="9"/>
                  </a:lnTo>
                  <a:lnTo>
                    <a:pt x="1115" y="6"/>
                  </a:lnTo>
                  <a:lnTo>
                    <a:pt x="1124" y="4"/>
                  </a:lnTo>
                  <a:lnTo>
                    <a:pt x="1131" y="1"/>
                  </a:lnTo>
                  <a:lnTo>
                    <a:pt x="1139" y="0"/>
                  </a:lnTo>
                  <a:lnTo>
                    <a:pt x="1146" y="0"/>
                  </a:lnTo>
                  <a:lnTo>
                    <a:pt x="1155" y="0"/>
                  </a:lnTo>
                  <a:lnTo>
                    <a:pt x="1162" y="3"/>
                  </a:lnTo>
                  <a:lnTo>
                    <a:pt x="1170" y="5"/>
                  </a:lnTo>
                  <a:lnTo>
                    <a:pt x="1178" y="9"/>
                  </a:lnTo>
                  <a:lnTo>
                    <a:pt x="1186" y="14"/>
                  </a:lnTo>
                  <a:lnTo>
                    <a:pt x="1194" y="20"/>
                  </a:lnTo>
                  <a:lnTo>
                    <a:pt x="1201" y="27"/>
                  </a:lnTo>
                  <a:lnTo>
                    <a:pt x="1209" y="36"/>
                  </a:lnTo>
                  <a:lnTo>
                    <a:pt x="1217" y="44"/>
                  </a:lnTo>
                  <a:lnTo>
                    <a:pt x="1225" y="55"/>
                  </a:lnTo>
                  <a:lnTo>
                    <a:pt x="1232" y="66"/>
                  </a:lnTo>
                  <a:lnTo>
                    <a:pt x="1240" y="78"/>
                  </a:lnTo>
                  <a:lnTo>
                    <a:pt x="1249" y="91"/>
                  </a:lnTo>
                  <a:lnTo>
                    <a:pt x="1256" y="105"/>
                  </a:lnTo>
                  <a:lnTo>
                    <a:pt x="1264" y="119"/>
                  </a:lnTo>
                  <a:lnTo>
                    <a:pt x="1271" y="133"/>
                  </a:lnTo>
                  <a:lnTo>
                    <a:pt x="1280" y="148"/>
                  </a:lnTo>
                  <a:lnTo>
                    <a:pt x="1287" y="163"/>
                  </a:lnTo>
                  <a:lnTo>
                    <a:pt x="1295" y="178"/>
                  </a:lnTo>
                  <a:lnTo>
                    <a:pt x="1302" y="193"/>
                  </a:lnTo>
                  <a:lnTo>
                    <a:pt x="1311" y="208"/>
                  </a:lnTo>
                  <a:lnTo>
                    <a:pt x="1318" y="223"/>
                  </a:lnTo>
                  <a:lnTo>
                    <a:pt x="1326" y="238"/>
                  </a:lnTo>
                  <a:lnTo>
                    <a:pt x="1335" y="253"/>
                  </a:lnTo>
                  <a:lnTo>
                    <a:pt x="1342" y="267"/>
                  </a:lnTo>
                  <a:lnTo>
                    <a:pt x="1350" y="281"/>
                  </a:lnTo>
                  <a:lnTo>
                    <a:pt x="1357" y="294"/>
                  </a:lnTo>
                  <a:lnTo>
                    <a:pt x="1366" y="307"/>
                  </a:lnTo>
                  <a:lnTo>
                    <a:pt x="1373" y="320"/>
                  </a:lnTo>
                  <a:lnTo>
                    <a:pt x="1381" y="332"/>
                  </a:lnTo>
                  <a:lnTo>
                    <a:pt x="1388" y="343"/>
                  </a:lnTo>
                  <a:lnTo>
                    <a:pt x="1397" y="354"/>
                  </a:lnTo>
                  <a:lnTo>
                    <a:pt x="1404" y="366"/>
                  </a:lnTo>
                  <a:lnTo>
                    <a:pt x="1412" y="378"/>
                  </a:lnTo>
                  <a:lnTo>
                    <a:pt x="1420" y="388"/>
                  </a:lnTo>
                  <a:lnTo>
                    <a:pt x="1428" y="400"/>
                  </a:lnTo>
                  <a:lnTo>
                    <a:pt x="1436" y="412"/>
                  </a:lnTo>
                  <a:lnTo>
                    <a:pt x="1443" y="424"/>
                  </a:lnTo>
                  <a:lnTo>
                    <a:pt x="1451" y="436"/>
                  </a:lnTo>
                  <a:lnTo>
                    <a:pt x="1459" y="448"/>
                  </a:lnTo>
                  <a:lnTo>
                    <a:pt x="1467" y="458"/>
                  </a:lnTo>
                  <a:lnTo>
                    <a:pt x="1474" y="470"/>
                  </a:lnTo>
                  <a:lnTo>
                    <a:pt x="1482" y="481"/>
                  </a:lnTo>
                  <a:lnTo>
                    <a:pt x="1491" y="491"/>
                  </a:lnTo>
                  <a:lnTo>
                    <a:pt x="1498" y="501"/>
                  </a:lnTo>
                  <a:lnTo>
                    <a:pt x="1506" y="511"/>
                  </a:lnTo>
                  <a:lnTo>
                    <a:pt x="1513" y="521"/>
                  </a:lnTo>
                  <a:lnTo>
                    <a:pt x="1522" y="530"/>
                  </a:lnTo>
                  <a:lnTo>
                    <a:pt x="1529" y="539"/>
                  </a:lnTo>
                  <a:lnTo>
                    <a:pt x="1537" y="548"/>
                  </a:lnTo>
                  <a:lnTo>
                    <a:pt x="1544" y="556"/>
                  </a:lnTo>
                  <a:lnTo>
                    <a:pt x="1553" y="565"/>
                  </a:lnTo>
                  <a:lnTo>
                    <a:pt x="1560" y="572"/>
                  </a:lnTo>
                  <a:lnTo>
                    <a:pt x="1568" y="580"/>
                  </a:lnTo>
                  <a:lnTo>
                    <a:pt x="1576" y="587"/>
                  </a:lnTo>
                  <a:lnTo>
                    <a:pt x="1584" y="595"/>
                  </a:lnTo>
                  <a:lnTo>
                    <a:pt x="1592" y="602"/>
                  </a:lnTo>
                  <a:lnTo>
                    <a:pt x="1599" y="609"/>
                  </a:lnTo>
                  <a:lnTo>
                    <a:pt x="1607" y="615"/>
                  </a:lnTo>
                  <a:lnTo>
                    <a:pt x="1615" y="622"/>
                  </a:lnTo>
                  <a:lnTo>
                    <a:pt x="1623" y="627"/>
                  </a:lnTo>
                  <a:lnTo>
                    <a:pt x="1630" y="634"/>
                  </a:lnTo>
                  <a:lnTo>
                    <a:pt x="1638" y="639"/>
                  </a:lnTo>
                  <a:lnTo>
                    <a:pt x="1647" y="643"/>
                  </a:lnTo>
                  <a:lnTo>
                    <a:pt x="1654" y="649"/>
                  </a:lnTo>
                  <a:lnTo>
                    <a:pt x="1662" y="653"/>
                  </a:lnTo>
                  <a:lnTo>
                    <a:pt x="1669" y="657"/>
                  </a:lnTo>
                  <a:lnTo>
                    <a:pt x="1677" y="662"/>
                  </a:lnTo>
                  <a:lnTo>
                    <a:pt x="1685" y="666"/>
                  </a:lnTo>
                  <a:lnTo>
                    <a:pt x="1693" y="669"/>
                  </a:lnTo>
                  <a:lnTo>
                    <a:pt x="1700" y="672"/>
                  </a:lnTo>
                  <a:lnTo>
                    <a:pt x="1708" y="677"/>
                  </a:lnTo>
                  <a:lnTo>
                    <a:pt x="1716" y="680"/>
                  </a:lnTo>
                  <a:lnTo>
                    <a:pt x="1724" y="683"/>
                  </a:lnTo>
                  <a:lnTo>
                    <a:pt x="1731" y="686"/>
                  </a:lnTo>
                  <a:lnTo>
                    <a:pt x="1739" y="689"/>
                  </a:lnTo>
                  <a:lnTo>
                    <a:pt x="1748" y="693"/>
                  </a:lnTo>
                  <a:lnTo>
                    <a:pt x="1755" y="695"/>
                  </a:lnTo>
                  <a:lnTo>
                    <a:pt x="1763" y="698"/>
                  </a:lnTo>
                  <a:lnTo>
                    <a:pt x="1770" y="701"/>
                  </a:lnTo>
                  <a:lnTo>
                    <a:pt x="1779" y="705"/>
                  </a:lnTo>
                  <a:lnTo>
                    <a:pt x="1786" y="708"/>
                  </a:lnTo>
                  <a:lnTo>
                    <a:pt x="1794" y="711"/>
                  </a:lnTo>
                  <a:lnTo>
                    <a:pt x="1801" y="714"/>
                  </a:lnTo>
                  <a:lnTo>
                    <a:pt x="1810" y="716"/>
                  </a:lnTo>
                  <a:lnTo>
                    <a:pt x="1818" y="720"/>
                  </a:lnTo>
                  <a:lnTo>
                    <a:pt x="1825" y="722"/>
                  </a:lnTo>
                  <a:lnTo>
                    <a:pt x="1833" y="725"/>
                  </a:lnTo>
                  <a:lnTo>
                    <a:pt x="1841" y="726"/>
                  </a:lnTo>
                  <a:lnTo>
                    <a:pt x="1849" y="728"/>
                  </a:lnTo>
                  <a:lnTo>
                    <a:pt x="1856" y="729"/>
                  </a:lnTo>
                  <a:lnTo>
                    <a:pt x="1864" y="730"/>
                  </a:lnTo>
                  <a:lnTo>
                    <a:pt x="1872" y="731"/>
                  </a:lnTo>
                  <a:lnTo>
                    <a:pt x="1880" y="732"/>
                  </a:lnTo>
                  <a:lnTo>
                    <a:pt x="1887" y="734"/>
                  </a:lnTo>
                  <a:lnTo>
                    <a:pt x="1895" y="735"/>
                  </a:lnTo>
                  <a:lnTo>
                    <a:pt x="1902" y="737"/>
                  </a:lnTo>
                  <a:lnTo>
                    <a:pt x="1911" y="739"/>
                  </a:lnTo>
                  <a:lnTo>
                    <a:pt x="1919" y="741"/>
                  </a:lnTo>
                  <a:lnTo>
                    <a:pt x="1926" y="744"/>
                  </a:lnTo>
                  <a:lnTo>
                    <a:pt x="1934" y="746"/>
                  </a:lnTo>
                  <a:lnTo>
                    <a:pt x="1942" y="750"/>
                  </a:lnTo>
                  <a:lnTo>
                    <a:pt x="1950" y="752"/>
                  </a:lnTo>
                  <a:lnTo>
                    <a:pt x="1957" y="753"/>
                  </a:lnTo>
                  <a:lnTo>
                    <a:pt x="1965" y="755"/>
                  </a:lnTo>
                  <a:lnTo>
                    <a:pt x="1973" y="756"/>
                  </a:lnTo>
                  <a:lnTo>
                    <a:pt x="1981" y="756"/>
                  </a:lnTo>
                  <a:lnTo>
                    <a:pt x="1989" y="757"/>
                  </a:lnTo>
                  <a:lnTo>
                    <a:pt x="1996" y="757"/>
                  </a:lnTo>
                  <a:lnTo>
                    <a:pt x="2005" y="758"/>
                  </a:lnTo>
                  <a:lnTo>
                    <a:pt x="2012" y="758"/>
                  </a:lnTo>
                  <a:lnTo>
                    <a:pt x="2020" y="759"/>
                  </a:lnTo>
                  <a:lnTo>
                    <a:pt x="2027" y="760"/>
                  </a:lnTo>
                  <a:lnTo>
                    <a:pt x="2035" y="760"/>
                  </a:lnTo>
                  <a:lnTo>
                    <a:pt x="2043" y="762"/>
                  </a:lnTo>
                  <a:lnTo>
                    <a:pt x="2051" y="763"/>
                  </a:lnTo>
                  <a:lnTo>
                    <a:pt x="2058" y="763"/>
                  </a:lnTo>
                  <a:lnTo>
                    <a:pt x="2066" y="764"/>
                  </a:lnTo>
                  <a:lnTo>
                    <a:pt x="2075" y="764"/>
                  </a:lnTo>
                  <a:lnTo>
                    <a:pt x="2082" y="765"/>
                  </a:lnTo>
                  <a:lnTo>
                    <a:pt x="2090" y="766"/>
                  </a:lnTo>
                  <a:lnTo>
                    <a:pt x="2097" y="767"/>
                  </a:lnTo>
                  <a:lnTo>
                    <a:pt x="2106" y="768"/>
                  </a:lnTo>
                  <a:lnTo>
                    <a:pt x="2113" y="769"/>
                  </a:lnTo>
                  <a:lnTo>
                    <a:pt x="2121" y="770"/>
                  </a:lnTo>
                  <a:lnTo>
                    <a:pt x="2128" y="772"/>
                  </a:lnTo>
                  <a:lnTo>
                    <a:pt x="2136" y="774"/>
                  </a:lnTo>
                  <a:lnTo>
                    <a:pt x="2144" y="775"/>
                  </a:lnTo>
                  <a:lnTo>
                    <a:pt x="2152" y="777"/>
                  </a:lnTo>
                  <a:lnTo>
                    <a:pt x="2160" y="778"/>
                  </a:lnTo>
                  <a:lnTo>
                    <a:pt x="2167" y="779"/>
                  </a:lnTo>
                  <a:lnTo>
                    <a:pt x="2176" y="780"/>
                  </a:lnTo>
                  <a:lnTo>
                    <a:pt x="2183" y="780"/>
                  </a:lnTo>
                  <a:lnTo>
                    <a:pt x="2191" y="781"/>
                  </a:lnTo>
                  <a:lnTo>
                    <a:pt x="2198" y="781"/>
                  </a:lnTo>
                  <a:lnTo>
                    <a:pt x="2207" y="782"/>
                  </a:lnTo>
                  <a:lnTo>
                    <a:pt x="2214" y="783"/>
                  </a:lnTo>
                  <a:lnTo>
                    <a:pt x="2222" y="783"/>
                  </a:lnTo>
                  <a:lnTo>
                    <a:pt x="2229" y="784"/>
                  </a:lnTo>
                  <a:lnTo>
                    <a:pt x="2237" y="785"/>
                  </a:lnTo>
                  <a:lnTo>
                    <a:pt x="2246" y="786"/>
                  </a:lnTo>
                  <a:lnTo>
                    <a:pt x="2253" y="788"/>
                  </a:lnTo>
                  <a:lnTo>
                    <a:pt x="2261" y="789"/>
                  </a:lnTo>
                  <a:lnTo>
                    <a:pt x="2268" y="791"/>
                  </a:lnTo>
                  <a:lnTo>
                    <a:pt x="2277" y="792"/>
                  </a:lnTo>
                  <a:lnTo>
                    <a:pt x="2284" y="792"/>
                  </a:lnTo>
                  <a:lnTo>
                    <a:pt x="2292" y="793"/>
                  </a:lnTo>
                  <a:lnTo>
                    <a:pt x="2299" y="794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16200000">
              <a:off x="510840" y="3391560"/>
              <a:ext cx="20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uorescent intensity [a.u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189240" y="5088600"/>
              <a:ext cx="160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velength (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[n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384360" y="1495080"/>
              <a:ext cx="5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lu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932640" y="210132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833280" y="247932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6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06120" y="284544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y 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434040" y="32061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y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3430080" y="1783080"/>
              <a:ext cx="365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739680" y="3516840"/>
              <a:ext cx="3686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0240" y="3186000"/>
              <a:ext cx="3661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194720" y="2787120"/>
              <a:ext cx="366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377600" y="2421720"/>
              <a:ext cx="3686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058720" y="1180080"/>
              <a:ext cx="1778400" cy="148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64720" y="2491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68360" y="2491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368760" y="2491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023080" y="239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023080" y="130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85080" y="1374480"/>
              <a:ext cx="1603800" cy="877680"/>
            </a:xfrm>
            <a:custGeom>
              <a:avLst/>
              <a:gdLst/>
              <a:ahLst/>
              <a:rect l="l" t="t" r="r" b="b"/>
              <a:pathLst>
                <a:path w="2510" h="1388">
                  <a:moveTo>
                    <a:pt x="0" y="1331"/>
                  </a:moveTo>
                  <a:lnTo>
                    <a:pt x="78" y="1328"/>
                  </a:lnTo>
                  <a:lnTo>
                    <a:pt x="157" y="1324"/>
                  </a:lnTo>
                  <a:lnTo>
                    <a:pt x="235" y="1311"/>
                  </a:lnTo>
                  <a:lnTo>
                    <a:pt x="314" y="1285"/>
                  </a:lnTo>
                  <a:lnTo>
                    <a:pt x="392" y="1254"/>
                  </a:lnTo>
                  <a:lnTo>
                    <a:pt x="471" y="1225"/>
                  </a:lnTo>
                  <a:lnTo>
                    <a:pt x="549" y="1199"/>
                  </a:lnTo>
                  <a:lnTo>
                    <a:pt x="627" y="1169"/>
                  </a:lnTo>
                  <a:lnTo>
                    <a:pt x="705" y="1131"/>
                  </a:lnTo>
                  <a:lnTo>
                    <a:pt x="784" y="1079"/>
                  </a:lnTo>
                  <a:lnTo>
                    <a:pt x="862" y="1009"/>
                  </a:lnTo>
                  <a:lnTo>
                    <a:pt x="941" y="920"/>
                  </a:lnTo>
                  <a:lnTo>
                    <a:pt x="1019" y="815"/>
                  </a:lnTo>
                  <a:lnTo>
                    <a:pt x="1098" y="700"/>
                  </a:lnTo>
                  <a:lnTo>
                    <a:pt x="1176" y="582"/>
                  </a:lnTo>
                  <a:lnTo>
                    <a:pt x="1255" y="467"/>
                  </a:lnTo>
                  <a:lnTo>
                    <a:pt x="1333" y="357"/>
                  </a:lnTo>
                  <a:lnTo>
                    <a:pt x="1412" y="255"/>
                  </a:lnTo>
                  <a:lnTo>
                    <a:pt x="1490" y="160"/>
                  </a:lnTo>
                  <a:lnTo>
                    <a:pt x="1569" y="75"/>
                  </a:lnTo>
                  <a:lnTo>
                    <a:pt x="1647" y="14"/>
                  </a:lnTo>
                  <a:lnTo>
                    <a:pt x="1726" y="0"/>
                  </a:lnTo>
                  <a:lnTo>
                    <a:pt x="1804" y="58"/>
                  </a:lnTo>
                  <a:lnTo>
                    <a:pt x="1881" y="191"/>
                  </a:lnTo>
                  <a:lnTo>
                    <a:pt x="1960" y="382"/>
                  </a:lnTo>
                  <a:lnTo>
                    <a:pt x="2038" y="596"/>
                  </a:lnTo>
                  <a:lnTo>
                    <a:pt x="2117" y="801"/>
                  </a:lnTo>
                  <a:lnTo>
                    <a:pt x="2195" y="978"/>
                  </a:lnTo>
                  <a:lnTo>
                    <a:pt x="2274" y="1124"/>
                  </a:lnTo>
                  <a:lnTo>
                    <a:pt x="2353" y="1242"/>
                  </a:lnTo>
                  <a:lnTo>
                    <a:pt x="2431" y="1332"/>
                  </a:lnTo>
                  <a:lnTo>
                    <a:pt x="2510" y="13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265720" y="2002680"/>
              <a:ext cx="37800" cy="37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519160" y="2048040"/>
              <a:ext cx="34560" cy="37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769360" y="1939320"/>
              <a:ext cx="34560" cy="352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118920" y="1541160"/>
              <a:ext cx="37800" cy="37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269760" y="1341360"/>
              <a:ext cx="34560" cy="37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64240" y="266868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n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5505480" y="1974600"/>
              <a:ext cx="60840" cy="181440"/>
              <a:chOff x="5505480" y="1974600"/>
              <a:chExt cx="60840" cy="181440"/>
            </a:xfrm>
          </p:grpSpPr>
          <p:sp>
            <p:nvSpPr>
              <p:cNvPr id="1892" name=""/>
              <p:cNvSpPr/>
              <p:nvPr/>
            </p:nvSpPr>
            <p:spPr>
              <a:xfrm>
                <a:off x="5505480" y="1974600"/>
                <a:ext cx="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535720" y="1974600"/>
                <a:ext cx="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506920" y="2156040"/>
                <a:ext cx="5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5756040" y="1868760"/>
              <a:ext cx="60840" cy="180720"/>
              <a:chOff x="5756040" y="1868760"/>
              <a:chExt cx="60840" cy="180720"/>
            </a:xfrm>
          </p:grpSpPr>
          <p:sp>
            <p:nvSpPr>
              <p:cNvPr id="1896" name=""/>
              <p:cNvSpPr/>
              <p:nvPr/>
            </p:nvSpPr>
            <p:spPr>
              <a:xfrm>
                <a:off x="5756040" y="1868760"/>
                <a:ext cx="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786280" y="186876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57480" y="2049480"/>
                <a:ext cx="5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6105600" y="1464840"/>
              <a:ext cx="58680" cy="183600"/>
              <a:chOff x="6105600" y="1464840"/>
              <a:chExt cx="58680" cy="183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6105600" y="1464840"/>
                <a:ext cx="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134760" y="146484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107040" y="164844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6258960" y="1273320"/>
              <a:ext cx="58680" cy="181440"/>
              <a:chOff x="6258960" y="1273320"/>
              <a:chExt cx="58680" cy="181440"/>
            </a:xfrm>
          </p:grpSpPr>
          <p:sp>
            <p:nvSpPr>
              <p:cNvPr id="1904" name=""/>
              <p:cNvSpPr/>
              <p:nvPr/>
            </p:nvSpPr>
            <p:spPr>
              <a:xfrm>
                <a:off x="6258960" y="1273320"/>
                <a:ext cx="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288120" y="1273320"/>
                <a:ext cx="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260400" y="145476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5252400" y="1931760"/>
              <a:ext cx="61200" cy="183600"/>
              <a:chOff x="5252400" y="1931760"/>
              <a:chExt cx="61200" cy="183600"/>
            </a:xfrm>
          </p:grpSpPr>
          <p:sp>
            <p:nvSpPr>
              <p:cNvPr id="1908" name=""/>
              <p:cNvSpPr/>
              <p:nvPr/>
            </p:nvSpPr>
            <p:spPr>
              <a:xfrm>
                <a:off x="5252400" y="1931760"/>
                <a:ext cx="5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283000" y="193176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253840" y="2115360"/>
                <a:ext cx="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 flipH="1">
              <a:off x="5936040" y="1560960"/>
              <a:ext cx="18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96120" y="1510560"/>
              <a:ext cx="18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6200000">
              <a:off x="4617360" y="186372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a.u.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rot="16200000">
              <a:off x="6473520" y="2129040"/>
              <a:ext cx="101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orption [a.u.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826320" y="2416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26320" y="132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5160600" y="249480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5411160" y="249480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5661360" y="249480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5911560" y="249480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162480" y="2494800"/>
              <a:ext cx="216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412680" y="2494800"/>
              <a:ext cx="216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665400" y="2494800"/>
              <a:ext cx="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6789240" y="2481840"/>
              <a:ext cx="2160" cy="24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60600" y="2398680"/>
              <a:ext cx="1080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60600" y="2181960"/>
              <a:ext cx="108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60600" y="1967400"/>
              <a:ext cx="108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160600" y="1750320"/>
              <a:ext cx="108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60600" y="1532880"/>
              <a:ext cx="1080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60600" y="1319040"/>
              <a:ext cx="1080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60600" y="1210320"/>
              <a:ext cx="241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11160" y="121032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661360" y="121032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911560" y="1210320"/>
              <a:ext cx="288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162480" y="1210320"/>
              <a:ext cx="216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412680" y="1210320"/>
              <a:ext cx="216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665400" y="1210320"/>
              <a:ext cx="0" cy="1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789240" y="1210320"/>
              <a:ext cx="2160" cy="24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6775560" y="2398680"/>
              <a:ext cx="133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6775560" y="2181960"/>
              <a:ext cx="133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6775560" y="1967400"/>
              <a:ext cx="133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6775560" y="1750320"/>
              <a:ext cx="133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5160600" y="1210320"/>
              <a:ext cx="1627200" cy="1296000"/>
              <a:chOff x="5160600" y="1210320"/>
              <a:chExt cx="1627200" cy="1296000"/>
            </a:xfrm>
          </p:grpSpPr>
          <p:sp>
            <p:nvSpPr>
              <p:cNvPr id="1944" name=""/>
              <p:cNvSpPr/>
              <p:nvPr/>
            </p:nvSpPr>
            <p:spPr>
              <a:xfrm flipH="1">
                <a:off x="6755760" y="2080080"/>
                <a:ext cx="3204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5286600" y="2481480"/>
                <a:ext cx="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5784840" y="2481480"/>
                <a:ext cx="288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V="1">
                <a:off x="6288120" y="2481480"/>
                <a:ext cx="21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160600" y="2292480"/>
                <a:ext cx="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160600" y="2075760"/>
                <a:ext cx="24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160600" y="1858320"/>
                <a:ext cx="24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160600" y="1641600"/>
                <a:ext cx="24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286600" y="1210320"/>
                <a:ext cx="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784840" y="1210320"/>
                <a:ext cx="288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288120" y="1210320"/>
                <a:ext cx="21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6763680" y="2292480"/>
                <a:ext cx="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6763680" y="1858320"/>
                <a:ext cx="24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6763680" y="1641600"/>
                <a:ext cx="24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 flipH="1">
              <a:off x="6775560" y="1532880"/>
              <a:ext cx="1332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9" name=""/>
            <p:cNvGrpSpPr/>
            <p:nvPr/>
          </p:nvGrpSpPr>
          <p:grpSpPr>
            <a:xfrm>
              <a:off x="5537880" y="1210320"/>
              <a:ext cx="1000440" cy="1296000"/>
              <a:chOff x="5537880" y="1210320"/>
              <a:chExt cx="1000440" cy="1296000"/>
            </a:xfrm>
          </p:grpSpPr>
          <p:sp>
            <p:nvSpPr>
              <p:cNvPr id="1960" name=""/>
              <p:cNvSpPr/>
              <p:nvPr/>
            </p:nvSpPr>
            <p:spPr>
              <a:xfrm flipV="1">
                <a:off x="5537880" y="2481480"/>
                <a:ext cx="21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6037920" y="248148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538320" y="248148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37880" y="1210320"/>
                <a:ext cx="21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037920" y="121032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538320" y="121032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6" name=""/>
            <p:cNvGrpSpPr/>
            <p:nvPr/>
          </p:nvGrpSpPr>
          <p:grpSpPr>
            <a:xfrm>
              <a:off x="5166360" y="1427040"/>
              <a:ext cx="1616760" cy="0"/>
              <a:chOff x="5166360" y="1427040"/>
              <a:chExt cx="1616760" cy="0"/>
            </a:xfrm>
          </p:grpSpPr>
          <p:sp>
            <p:nvSpPr>
              <p:cNvPr id="1967" name=""/>
              <p:cNvSpPr/>
              <p:nvPr/>
            </p:nvSpPr>
            <p:spPr>
              <a:xfrm>
                <a:off x="5166360" y="1427040"/>
                <a:ext cx="2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6759360" y="14270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 flipH="1">
              <a:off x="6775560" y="1319040"/>
              <a:ext cx="133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>
              <a:off x="6764400" y="1210320"/>
              <a:ext cx="241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5160600" y="1210320"/>
              <a:ext cx="1630080" cy="1296720"/>
              <a:chOff x="5160600" y="1210320"/>
              <a:chExt cx="1630080" cy="1296720"/>
            </a:xfrm>
          </p:grpSpPr>
          <p:sp>
            <p:nvSpPr>
              <p:cNvPr id="1972" name=""/>
              <p:cNvSpPr/>
              <p:nvPr/>
            </p:nvSpPr>
            <p:spPr>
              <a:xfrm>
                <a:off x="5160600" y="2507040"/>
                <a:ext cx="162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160600" y="1210320"/>
                <a:ext cx="2160" cy="1296720"/>
              </a:xfrm>
              <a:custGeom>
                <a:avLst/>
                <a:gdLst/>
                <a:ahLst/>
                <a:rect l="l" t="t" r="r" b="b"/>
                <a:pathLst>
                  <a:path w="0" h="1723">
                    <a:moveTo>
                      <a:pt x="0" y="1723"/>
                    </a:moveTo>
                    <a:lnTo>
                      <a:pt x="0" y="0"/>
                    </a:lnTo>
                    <a:lnTo>
                      <a:pt x="0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160600" y="1210320"/>
                <a:ext cx="162792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6788520" y="1210320"/>
                <a:ext cx="2160" cy="12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6" name=""/>
          <p:cNvSpPr/>
          <p:nvPr/>
        </p:nvSpPr>
        <p:spPr>
          <a:xfrm>
            <a:off x="1755000" y="551664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cff"/>
                </a:solidFill>
                <a:latin typeface="Times New Roman"/>
              </a:rPr>
              <a:t>Das, et al., </a:t>
            </a:r>
            <a:r>
              <a:rPr b="1" i="1" lang="en-US" sz="2800" spc="-1" strike="noStrike">
                <a:solidFill>
                  <a:srgbClr val="090cff"/>
                </a:solidFill>
                <a:latin typeface="Times New Roman"/>
              </a:rPr>
              <a:t>NanoLetters</a:t>
            </a:r>
            <a:r>
              <a:rPr b="1" lang="en-US" sz="2800" spc="-1" strike="noStrike">
                <a:solidFill>
                  <a:srgbClr val="090cff"/>
                </a:solidFill>
                <a:latin typeface="Times New Roman"/>
              </a:rPr>
              <a:t>,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9720" y="236520"/>
            <a:ext cx="906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c2bff"/>
                </a:solidFill>
                <a:uFillTx/>
                <a:latin typeface="Times New Roman"/>
              </a:rPr>
              <a:t>Peptide detergents stabilized photosystem I for long-te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8" name=""/>
          <p:cNvGrpSpPr/>
          <p:nvPr/>
        </p:nvGrpSpPr>
        <p:grpSpPr>
          <a:xfrm>
            <a:off x="1154160" y="685800"/>
            <a:ext cx="6031800" cy="4690800"/>
            <a:chOff x="1154160" y="685800"/>
            <a:chExt cx="6031800" cy="4690800"/>
          </a:xfrm>
        </p:grpSpPr>
        <p:sp>
          <p:nvSpPr>
            <p:cNvPr id="1979" name=""/>
            <p:cNvSpPr/>
            <p:nvPr/>
          </p:nvSpPr>
          <p:spPr>
            <a:xfrm>
              <a:off x="1833840" y="4885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803680" y="4885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773520" y="4885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740480" y="4885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712120" y="4885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680160" y="4885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5" name=""/>
            <p:cNvGrpSpPr/>
            <p:nvPr/>
          </p:nvGrpSpPr>
          <p:grpSpPr>
            <a:xfrm>
              <a:off x="1596960" y="994680"/>
              <a:ext cx="249120" cy="3872520"/>
              <a:chOff x="1596960" y="994680"/>
              <a:chExt cx="249120" cy="3872520"/>
            </a:xfrm>
          </p:grpSpPr>
          <p:sp>
            <p:nvSpPr>
              <p:cNvPr id="1986" name=""/>
              <p:cNvSpPr/>
              <p:nvPr/>
            </p:nvSpPr>
            <p:spPr>
              <a:xfrm>
                <a:off x="1596960" y="465372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596960" y="39240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596960" y="31906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596960" y="24602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596960" y="17276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596960" y="9946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2" name=""/>
            <p:cNvSpPr/>
            <p:nvPr/>
          </p:nvSpPr>
          <p:spPr>
            <a:xfrm flipV="1">
              <a:off x="2032920" y="4787280"/>
              <a:ext cx="252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2520720" y="4824720"/>
              <a:ext cx="0" cy="38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3003480" y="4787280"/>
              <a:ext cx="216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3488040" y="4824720"/>
              <a:ext cx="4320" cy="38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3970080" y="4787280"/>
              <a:ext cx="504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4457880" y="4824720"/>
              <a:ext cx="2160" cy="38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939920" y="4787280"/>
              <a:ext cx="252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5425200" y="4824720"/>
              <a:ext cx="2160" cy="38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5912280" y="4787280"/>
              <a:ext cx="216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6395040" y="4824720"/>
              <a:ext cx="2160" cy="38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879600" y="4787280"/>
              <a:ext cx="216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32920" y="4863600"/>
              <a:ext cx="484668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032920" y="4863600"/>
              <a:ext cx="756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032920" y="4678920"/>
              <a:ext cx="3816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032920" y="4497120"/>
              <a:ext cx="756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032920" y="4312800"/>
              <a:ext cx="38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032920" y="4131000"/>
              <a:ext cx="756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032920" y="3946320"/>
              <a:ext cx="38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32920" y="3764160"/>
              <a:ext cx="756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032920" y="3579480"/>
              <a:ext cx="3816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032920" y="3397680"/>
              <a:ext cx="756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032920" y="3215520"/>
              <a:ext cx="3816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032920" y="3030840"/>
              <a:ext cx="756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032920" y="2848680"/>
              <a:ext cx="3816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032920" y="2664720"/>
              <a:ext cx="756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032920" y="2482560"/>
              <a:ext cx="38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032920" y="2297880"/>
              <a:ext cx="756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032920" y="2116080"/>
              <a:ext cx="38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032920" y="1931400"/>
              <a:ext cx="756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032920" y="1749240"/>
              <a:ext cx="3816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032920" y="1567440"/>
              <a:ext cx="756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032920" y="1383120"/>
              <a:ext cx="38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032920" y="1200600"/>
              <a:ext cx="756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032920" y="1016640"/>
              <a:ext cx="38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032920" y="834480"/>
              <a:ext cx="756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32920" y="834480"/>
              <a:ext cx="2520" cy="4029120"/>
            </a:xfrm>
            <a:custGeom>
              <a:avLst/>
              <a:gdLst/>
              <a:ahLst/>
              <a:rect l="l" t="t" r="r" b="b"/>
              <a:pathLst>
                <a:path w="0" h="1760">
                  <a:moveTo>
                    <a:pt x="0" y="176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520720" y="834480"/>
              <a:ext cx="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003480" y="834480"/>
              <a:ext cx="2160" cy="7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488040" y="834480"/>
              <a:ext cx="432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70080" y="834480"/>
              <a:ext cx="5040" cy="7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457880" y="834480"/>
              <a:ext cx="216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032920" y="834480"/>
              <a:ext cx="484668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6801840" y="4863600"/>
              <a:ext cx="777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6839280" y="4678920"/>
              <a:ext cx="403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6801840" y="4497120"/>
              <a:ext cx="7776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>
              <a:off x="6839280" y="4312800"/>
              <a:ext cx="4032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6801840" y="4131000"/>
              <a:ext cx="777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6839280" y="3946320"/>
              <a:ext cx="4032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6801840" y="3764160"/>
              <a:ext cx="777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6839280" y="3579480"/>
              <a:ext cx="403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6801840" y="3397680"/>
              <a:ext cx="7776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6839280" y="3215520"/>
              <a:ext cx="403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6801840" y="3030840"/>
              <a:ext cx="7776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6839280" y="2848680"/>
              <a:ext cx="4032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6801840" y="2664720"/>
              <a:ext cx="777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6879600" y="834480"/>
              <a:ext cx="2160" cy="402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64800" y="4410720"/>
              <a:ext cx="24840" cy="504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213600" y="4219560"/>
              <a:ext cx="15120" cy="331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982840" y="3987000"/>
              <a:ext cx="7200" cy="68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894640" y="3817080"/>
              <a:ext cx="27720" cy="622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48840" y="3615480"/>
              <a:ext cx="12240" cy="19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76480" y="3505680"/>
              <a:ext cx="4320" cy="43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18080" y="3306960"/>
              <a:ext cx="7200" cy="140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364720" y="3222720"/>
              <a:ext cx="7200" cy="9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4978080" y="3249360"/>
              <a:ext cx="2160" cy="21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894920" y="3351600"/>
              <a:ext cx="15120" cy="28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4812120" y="3488400"/>
              <a:ext cx="24840" cy="572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4653720" y="3584520"/>
              <a:ext cx="32400" cy="813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570560" y="3471840"/>
              <a:ext cx="45360" cy="1915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12160" y="3213360"/>
              <a:ext cx="50400" cy="2296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334760" y="2841840"/>
              <a:ext cx="50040" cy="2512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254480" y="2446200"/>
              <a:ext cx="55080" cy="2779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176360" y="2058480"/>
              <a:ext cx="55080" cy="2682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103640" y="1761120"/>
              <a:ext cx="45000" cy="1818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040640" y="1627200"/>
              <a:ext cx="17640" cy="216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3889800" y="1634400"/>
              <a:ext cx="7200" cy="90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46960" y="1754280"/>
              <a:ext cx="2520" cy="46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825000" y="1881000"/>
              <a:ext cx="4320" cy="932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3807360" y="2100960"/>
              <a:ext cx="2160" cy="46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3784320" y="2228040"/>
              <a:ext cx="7200" cy="860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3724200" y="2630520"/>
              <a:ext cx="10080" cy="673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3704040" y="2819520"/>
              <a:ext cx="10080" cy="8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80040" y="3079080"/>
              <a:ext cx="2160" cy="140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2874960" y="3126600"/>
              <a:ext cx="2160" cy="140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761880" y="4566600"/>
              <a:ext cx="7740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83760" y="455688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05640" y="452592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527520" y="4487760"/>
              <a:ext cx="8064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50120" y="4408560"/>
              <a:ext cx="8028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74520" y="4475880"/>
              <a:ext cx="80640" cy="80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297120" y="431496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221160" y="426240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143760" y="4123440"/>
              <a:ext cx="7740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065640" y="407340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87520" y="400392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910120" y="389124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829840" y="3720600"/>
              <a:ext cx="8244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51720" y="3646800"/>
              <a:ext cx="8244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676480" y="352188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598360" y="341424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520240" y="3327840"/>
              <a:ext cx="77760" cy="86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445360" y="321336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7240" y="3244320"/>
              <a:ext cx="7776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289120" y="3129120"/>
              <a:ext cx="7776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11720" y="3096000"/>
              <a:ext cx="80280" cy="856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133600" y="311508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55480" y="315072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978080" y="3157920"/>
              <a:ext cx="80280" cy="86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899960" y="325620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824720" y="3392640"/>
              <a:ext cx="7740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746600" y="356040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68480" y="348876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593600" y="3679920"/>
              <a:ext cx="7776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515480" y="337356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438080" y="346500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359960" y="311220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81840" y="274140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01560" y="2345760"/>
              <a:ext cx="831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123440" y="1962720"/>
              <a:ext cx="8316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48200" y="166068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970080" y="153360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92680" y="1543320"/>
              <a:ext cx="7740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17080" y="165384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96920" y="177588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7120" y="199584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756600" y="2127960"/>
              <a:ext cx="8064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739320" y="2336400"/>
              <a:ext cx="7740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718800" y="243936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699000" y="252792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79200" y="271728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661200" y="2925360"/>
              <a:ext cx="8244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641400" y="2937240"/>
              <a:ext cx="8244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620880" y="2994840"/>
              <a:ext cx="8316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601080" y="311724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583440" y="3186720"/>
              <a:ext cx="8028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563280" y="323244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543480" y="327312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525840" y="334476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505680" y="328716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485160" y="328500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465360" y="336168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447720" y="331380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427920" y="330192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07760" y="330696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390120" y="3251520"/>
              <a:ext cx="7740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369600" y="3129120"/>
              <a:ext cx="8064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349800" y="311508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332160" y="2978280"/>
              <a:ext cx="7776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312000" y="294732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294360" y="293040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274560" y="2841840"/>
              <a:ext cx="7776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254400" y="2734200"/>
              <a:ext cx="7740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236760" y="2647800"/>
              <a:ext cx="7740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216240" y="262872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196440" y="257616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176640" y="251856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159000" y="249480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138840" y="2489760"/>
              <a:ext cx="7740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118320" y="247284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098520" y="249480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80880" y="249480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060720" y="245880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40920" y="255240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23280" y="258804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03480" y="260496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982960" y="264780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962800" y="265968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945160" y="273420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925360" y="281988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905200" y="286092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884680" y="291852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864880" y="2994840"/>
              <a:ext cx="8316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45080" y="3021480"/>
              <a:ext cx="8244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824560" y="3162960"/>
              <a:ext cx="831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809440" y="315576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789640" y="318204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769120" y="3290040"/>
              <a:ext cx="8064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746800" y="3311280"/>
              <a:ext cx="8244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731680" y="340956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11520" y="337140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691720" y="347688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674080" y="3543840"/>
              <a:ext cx="7776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653920" y="360108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633400" y="3634920"/>
              <a:ext cx="80280" cy="856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613600" y="365400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593800" y="3679920"/>
              <a:ext cx="8244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578320" y="3720600"/>
              <a:ext cx="7776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558520" y="3720600"/>
              <a:ext cx="748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538360" y="3725640"/>
              <a:ext cx="748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520720" y="3788280"/>
              <a:ext cx="7776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0920" y="3749400"/>
              <a:ext cx="7740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480400" y="382608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460240" y="3826080"/>
              <a:ext cx="7776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440440" y="386676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420640" y="387468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400120" y="390780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382480" y="3924360"/>
              <a:ext cx="777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62320" y="3900600"/>
              <a:ext cx="77760" cy="86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42520" y="3895560"/>
              <a:ext cx="82440" cy="7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22360" y="394632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307240" y="3917520"/>
              <a:ext cx="748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284200" y="3967920"/>
              <a:ext cx="831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264400" y="3960360"/>
              <a:ext cx="8316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244600" y="3967920"/>
              <a:ext cx="8244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229120" y="394848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208960" y="396036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189160" y="396036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169360" y="398700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148840" y="397008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128680" y="3975120"/>
              <a:ext cx="80280" cy="83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108880" y="3987000"/>
              <a:ext cx="80280" cy="78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091240" y="393660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071080" y="3987000"/>
              <a:ext cx="8028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050560" y="395316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030760" y="3936600"/>
              <a:ext cx="80280" cy="83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013120" y="3991680"/>
              <a:ext cx="83160" cy="81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744000" y="1565280"/>
              <a:ext cx="72720" cy="6948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937680" y="1320840"/>
              <a:ext cx="69840" cy="7416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8480" y="2580480"/>
              <a:ext cx="72720" cy="720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324680" y="3625200"/>
              <a:ext cx="67680" cy="7416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518360" y="3821760"/>
              <a:ext cx="72720" cy="738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11320" y="4015800"/>
              <a:ext cx="72720" cy="716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905000" y="4166640"/>
              <a:ext cx="72720" cy="738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292000" y="3778200"/>
              <a:ext cx="72720" cy="7632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387040" y="3265920"/>
              <a:ext cx="72720" cy="7380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585760" y="3203640"/>
              <a:ext cx="67680" cy="716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rot="16200000">
              <a:off x="270720" y="3382920"/>
              <a:ext cx="198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ntum efficiency [a.u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367080" y="5163120"/>
              <a:ext cx="134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velength [n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3711600" y="1258200"/>
              <a:ext cx="137880" cy="720720"/>
              <a:chOff x="3711600" y="1258200"/>
              <a:chExt cx="137880" cy="720720"/>
            </a:xfrm>
          </p:grpSpPr>
          <p:sp>
            <p:nvSpPr>
              <p:cNvPr id="2221" name=""/>
              <p:cNvSpPr/>
              <p:nvPr/>
            </p:nvSpPr>
            <p:spPr>
              <a:xfrm>
                <a:off x="3780360" y="1263600"/>
                <a:ext cx="0" cy="71532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711600" y="125820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11600" y="197892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4093200" y="2336400"/>
              <a:ext cx="137880" cy="555120"/>
              <a:chOff x="4093200" y="2336400"/>
              <a:chExt cx="137880" cy="555120"/>
            </a:xfrm>
          </p:grpSpPr>
          <p:sp>
            <p:nvSpPr>
              <p:cNvPr id="2225" name=""/>
              <p:cNvSpPr/>
              <p:nvPr/>
            </p:nvSpPr>
            <p:spPr>
              <a:xfrm>
                <a:off x="4161960" y="2340360"/>
                <a:ext cx="0" cy="55080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93200" y="233640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93200" y="289152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4289040" y="3465000"/>
              <a:ext cx="137880" cy="392400"/>
              <a:chOff x="4289040" y="3465000"/>
              <a:chExt cx="137880" cy="392400"/>
            </a:xfrm>
          </p:grpSpPr>
          <p:sp>
            <p:nvSpPr>
              <p:cNvPr id="2229" name=""/>
              <p:cNvSpPr/>
              <p:nvPr/>
            </p:nvSpPr>
            <p:spPr>
              <a:xfrm>
                <a:off x="4357800" y="3467880"/>
                <a:ext cx="0" cy="38952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289040" y="346500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289040" y="385740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4485240" y="3665880"/>
              <a:ext cx="140040" cy="392400"/>
              <a:chOff x="4485240" y="3665880"/>
              <a:chExt cx="140040" cy="392400"/>
            </a:xfrm>
          </p:grpSpPr>
          <p:sp>
            <p:nvSpPr>
              <p:cNvPr id="2233" name=""/>
              <p:cNvSpPr/>
              <p:nvPr/>
            </p:nvSpPr>
            <p:spPr>
              <a:xfrm>
                <a:off x="4555080" y="3668760"/>
                <a:ext cx="0" cy="38952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485240" y="3665880"/>
                <a:ext cx="1400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485240" y="4058280"/>
                <a:ext cx="1400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4874760" y="4037400"/>
              <a:ext cx="137160" cy="325080"/>
              <a:chOff x="4874760" y="4037400"/>
              <a:chExt cx="137160" cy="325080"/>
            </a:xfrm>
          </p:grpSpPr>
          <p:sp>
            <p:nvSpPr>
              <p:cNvPr id="2237" name=""/>
              <p:cNvSpPr/>
              <p:nvPr/>
            </p:nvSpPr>
            <p:spPr>
              <a:xfrm>
                <a:off x="4943160" y="4039560"/>
                <a:ext cx="0" cy="32256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74760" y="4037400"/>
                <a:ext cx="13716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874760" y="4362480"/>
                <a:ext cx="13716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5261760" y="3625200"/>
              <a:ext cx="137160" cy="392400"/>
              <a:chOff x="5261760" y="3625200"/>
              <a:chExt cx="137160" cy="392400"/>
            </a:xfrm>
          </p:grpSpPr>
          <p:sp>
            <p:nvSpPr>
              <p:cNvPr id="2241" name=""/>
              <p:cNvSpPr/>
              <p:nvPr/>
            </p:nvSpPr>
            <p:spPr>
              <a:xfrm>
                <a:off x="5330160" y="3628080"/>
                <a:ext cx="0" cy="38952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261760" y="3625200"/>
                <a:ext cx="13716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261760" y="4017600"/>
                <a:ext cx="13716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4" name=""/>
            <p:cNvGrpSpPr/>
            <p:nvPr/>
          </p:nvGrpSpPr>
          <p:grpSpPr>
            <a:xfrm>
              <a:off x="5352480" y="3028680"/>
              <a:ext cx="140040" cy="555120"/>
              <a:chOff x="5352480" y="3028680"/>
              <a:chExt cx="140040" cy="555120"/>
            </a:xfrm>
          </p:grpSpPr>
          <p:sp>
            <p:nvSpPr>
              <p:cNvPr id="2245" name=""/>
              <p:cNvSpPr/>
              <p:nvPr/>
            </p:nvSpPr>
            <p:spPr>
              <a:xfrm>
                <a:off x="5422320" y="3032640"/>
                <a:ext cx="0" cy="55080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352480" y="3028680"/>
                <a:ext cx="1400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352480" y="3583800"/>
                <a:ext cx="1400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8" name=""/>
            <p:cNvSpPr/>
            <p:nvPr/>
          </p:nvSpPr>
          <p:spPr>
            <a:xfrm rot="16200000">
              <a:off x="6427080" y="3126600"/>
              <a:ext cx="130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orption [a.u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14800" y="3845880"/>
              <a:ext cx="41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3347280" y="1610280"/>
              <a:ext cx="416880" cy="0"/>
            </a:xfrm>
            <a:prstGeom prst="line">
              <a:avLst/>
            </a:prstGeom>
            <a:ln w="93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1" name=""/>
            <p:cNvGrpSpPr/>
            <p:nvPr/>
          </p:nvGrpSpPr>
          <p:grpSpPr>
            <a:xfrm>
              <a:off x="2023560" y="1548360"/>
              <a:ext cx="3928680" cy="2648520"/>
              <a:chOff x="2023560" y="1548360"/>
              <a:chExt cx="3928680" cy="2648520"/>
            </a:xfrm>
          </p:grpSpPr>
          <p:sp>
            <p:nvSpPr>
              <p:cNvPr id="2252" name=""/>
              <p:cNvSpPr/>
              <p:nvPr/>
            </p:nvSpPr>
            <p:spPr>
              <a:xfrm>
                <a:off x="2023560" y="3961440"/>
                <a:ext cx="7200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347200" y="3806640"/>
                <a:ext cx="7200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740680" y="3276360"/>
                <a:ext cx="7200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093480" y="2739960"/>
                <a:ext cx="7200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584520" y="3180960"/>
                <a:ext cx="7272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931200" y="1548360"/>
                <a:ext cx="72720" cy="74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307400" y="3073680"/>
                <a:ext cx="7200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717800" y="3902040"/>
                <a:ext cx="72000" cy="741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16680" y="2864880"/>
                <a:ext cx="72720" cy="74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591160" y="3425040"/>
                <a:ext cx="72000" cy="74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880240" y="4122000"/>
                <a:ext cx="72000" cy="748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3902400" y="994680"/>
              <a:ext cx="137880" cy="723240"/>
              <a:chOff x="3902400" y="994680"/>
              <a:chExt cx="137880" cy="723240"/>
            </a:xfrm>
          </p:grpSpPr>
          <p:sp>
            <p:nvSpPr>
              <p:cNvPr id="2264" name=""/>
              <p:cNvSpPr/>
              <p:nvPr/>
            </p:nvSpPr>
            <p:spPr>
              <a:xfrm>
                <a:off x="3971160" y="1000080"/>
                <a:ext cx="0" cy="7178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902400" y="99468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902400" y="171792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676040" y="3879360"/>
              <a:ext cx="140040" cy="327960"/>
              <a:chOff x="4676040" y="3879360"/>
              <a:chExt cx="140040" cy="327960"/>
            </a:xfrm>
          </p:grpSpPr>
          <p:sp>
            <p:nvSpPr>
              <p:cNvPr id="2268" name=""/>
              <p:cNvSpPr/>
              <p:nvPr/>
            </p:nvSpPr>
            <p:spPr>
              <a:xfrm>
                <a:off x="4745880" y="3881520"/>
                <a:ext cx="0" cy="3254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676040" y="3879360"/>
                <a:ext cx="1400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676040" y="4207320"/>
                <a:ext cx="14004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5550480" y="2872800"/>
              <a:ext cx="137880" cy="739800"/>
              <a:chOff x="5550480" y="2872800"/>
              <a:chExt cx="137880" cy="739800"/>
            </a:xfrm>
          </p:grpSpPr>
          <p:sp>
            <p:nvSpPr>
              <p:cNvPr id="2272" name=""/>
              <p:cNvSpPr/>
              <p:nvPr/>
            </p:nvSpPr>
            <p:spPr>
              <a:xfrm>
                <a:off x="5619240" y="2878200"/>
                <a:ext cx="0" cy="73404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550480" y="287280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550480" y="3612600"/>
                <a:ext cx="137880" cy="0"/>
              </a:xfrm>
              <a:prstGeom prst="line">
                <a:avLst/>
              </a:prstGeom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5" name=""/>
            <p:cNvSpPr/>
            <p:nvPr/>
          </p:nvSpPr>
          <p:spPr>
            <a:xfrm flipH="1">
              <a:off x="2301840" y="3306960"/>
              <a:ext cx="4168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379760" y="685800"/>
              <a:ext cx="2615400" cy="21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812200" y="810720"/>
              <a:ext cx="0" cy="1762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746600" y="1787760"/>
              <a:ext cx="2130120" cy="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589640" y="2588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756400" y="2580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02040" y="2580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2" name=""/>
            <p:cNvGrpSpPr/>
            <p:nvPr/>
          </p:nvGrpSpPr>
          <p:grpSpPr>
            <a:xfrm>
              <a:off x="4361760" y="841680"/>
              <a:ext cx="222120" cy="1722600"/>
              <a:chOff x="4361760" y="841680"/>
              <a:chExt cx="222120" cy="1722600"/>
            </a:xfrm>
          </p:grpSpPr>
          <p:sp>
            <p:nvSpPr>
              <p:cNvPr id="2283" name=""/>
              <p:cNvSpPr/>
              <p:nvPr/>
            </p:nvSpPr>
            <p:spPr>
              <a:xfrm>
                <a:off x="4361760" y="241164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361760" y="201960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407840" y="16246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407120" y="1234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407120" y="8416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4744440" y="1203480"/>
              <a:ext cx="2135160" cy="824040"/>
            </a:xfrm>
            <a:custGeom>
              <a:avLst/>
              <a:gdLst/>
              <a:ahLst/>
              <a:rect l="l" t="t" r="r" b="b"/>
              <a:pathLst>
                <a:path w="2534" h="949">
                  <a:moveTo>
                    <a:pt x="0" y="949"/>
                  </a:moveTo>
                  <a:lnTo>
                    <a:pt x="253" y="906"/>
                  </a:lnTo>
                  <a:lnTo>
                    <a:pt x="508" y="860"/>
                  </a:lnTo>
                  <a:lnTo>
                    <a:pt x="761" y="807"/>
                  </a:lnTo>
                  <a:lnTo>
                    <a:pt x="1014" y="746"/>
                  </a:lnTo>
                  <a:lnTo>
                    <a:pt x="1268" y="674"/>
                  </a:lnTo>
                  <a:lnTo>
                    <a:pt x="1521" y="587"/>
                  </a:lnTo>
                  <a:lnTo>
                    <a:pt x="1774" y="482"/>
                  </a:lnTo>
                  <a:lnTo>
                    <a:pt x="2027" y="353"/>
                  </a:lnTo>
                  <a:lnTo>
                    <a:pt x="2281" y="196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744440" y="1248840"/>
              <a:ext cx="2135160" cy="1137240"/>
            </a:xfrm>
            <a:custGeom>
              <a:avLst/>
              <a:gdLst/>
              <a:ahLst/>
              <a:rect l="l" t="t" r="r" b="b"/>
              <a:pathLst>
                <a:path w="2534" h="1312">
                  <a:moveTo>
                    <a:pt x="0" y="1312"/>
                  </a:moveTo>
                  <a:lnTo>
                    <a:pt x="253" y="1250"/>
                  </a:lnTo>
                  <a:lnTo>
                    <a:pt x="508" y="1178"/>
                  </a:lnTo>
                  <a:lnTo>
                    <a:pt x="761" y="1100"/>
                  </a:lnTo>
                  <a:lnTo>
                    <a:pt x="1014" y="1009"/>
                  </a:lnTo>
                  <a:lnTo>
                    <a:pt x="1268" y="905"/>
                  </a:lnTo>
                  <a:lnTo>
                    <a:pt x="1521" y="786"/>
                  </a:lnTo>
                  <a:lnTo>
                    <a:pt x="1774" y="641"/>
                  </a:lnTo>
                  <a:lnTo>
                    <a:pt x="2027" y="467"/>
                  </a:lnTo>
                  <a:lnTo>
                    <a:pt x="2281" y="256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44440" y="1152720"/>
              <a:ext cx="2135160" cy="898200"/>
            </a:xfrm>
            <a:custGeom>
              <a:avLst/>
              <a:gdLst/>
              <a:ahLst/>
              <a:rect l="l" t="t" r="r" b="b"/>
              <a:pathLst>
                <a:path w="2534" h="1037">
                  <a:moveTo>
                    <a:pt x="0" y="1037"/>
                  </a:moveTo>
                  <a:lnTo>
                    <a:pt x="253" y="990"/>
                  </a:lnTo>
                  <a:lnTo>
                    <a:pt x="508" y="939"/>
                  </a:lnTo>
                  <a:lnTo>
                    <a:pt x="761" y="880"/>
                  </a:lnTo>
                  <a:lnTo>
                    <a:pt x="1014" y="813"/>
                  </a:lnTo>
                  <a:lnTo>
                    <a:pt x="1268" y="734"/>
                  </a:lnTo>
                  <a:lnTo>
                    <a:pt x="1521" y="639"/>
                  </a:lnTo>
                  <a:lnTo>
                    <a:pt x="1774" y="523"/>
                  </a:lnTo>
                  <a:lnTo>
                    <a:pt x="2027" y="384"/>
                  </a:lnTo>
                  <a:lnTo>
                    <a:pt x="2281" y="212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44440" y="1227240"/>
              <a:ext cx="2135160" cy="1163880"/>
            </a:xfrm>
            <a:custGeom>
              <a:avLst/>
              <a:gdLst/>
              <a:ahLst/>
              <a:rect l="l" t="t" r="r" b="b"/>
              <a:pathLst>
                <a:path w="2534" h="1344">
                  <a:moveTo>
                    <a:pt x="0" y="1344"/>
                  </a:moveTo>
                  <a:lnTo>
                    <a:pt x="253" y="1281"/>
                  </a:lnTo>
                  <a:lnTo>
                    <a:pt x="508" y="1210"/>
                  </a:lnTo>
                  <a:lnTo>
                    <a:pt x="761" y="1130"/>
                  </a:lnTo>
                  <a:lnTo>
                    <a:pt x="1014" y="1039"/>
                  </a:lnTo>
                  <a:lnTo>
                    <a:pt x="1268" y="932"/>
                  </a:lnTo>
                  <a:lnTo>
                    <a:pt x="1521" y="807"/>
                  </a:lnTo>
                  <a:lnTo>
                    <a:pt x="1774" y="657"/>
                  </a:lnTo>
                  <a:lnTo>
                    <a:pt x="2027" y="481"/>
                  </a:lnTo>
                  <a:lnTo>
                    <a:pt x="2281" y="263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44440" y="1135800"/>
              <a:ext cx="2135160" cy="924840"/>
            </a:xfrm>
            <a:custGeom>
              <a:avLst/>
              <a:gdLst/>
              <a:ahLst/>
              <a:rect l="l" t="t" r="r" b="b"/>
              <a:pathLst>
                <a:path w="2534" h="1069">
                  <a:moveTo>
                    <a:pt x="0" y="1069"/>
                  </a:moveTo>
                  <a:lnTo>
                    <a:pt x="253" y="1020"/>
                  </a:lnTo>
                  <a:lnTo>
                    <a:pt x="508" y="967"/>
                  </a:lnTo>
                  <a:lnTo>
                    <a:pt x="761" y="907"/>
                  </a:lnTo>
                  <a:lnTo>
                    <a:pt x="1014" y="837"/>
                  </a:lnTo>
                  <a:lnTo>
                    <a:pt x="1268" y="756"/>
                  </a:lnTo>
                  <a:lnTo>
                    <a:pt x="1521" y="658"/>
                  </a:lnTo>
                  <a:lnTo>
                    <a:pt x="1774" y="539"/>
                  </a:lnTo>
                  <a:lnTo>
                    <a:pt x="2027" y="395"/>
                  </a:lnTo>
                  <a:lnTo>
                    <a:pt x="2281" y="219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744440" y="1212480"/>
              <a:ext cx="2135160" cy="1183680"/>
            </a:xfrm>
            <a:custGeom>
              <a:avLst/>
              <a:gdLst/>
              <a:ahLst/>
              <a:rect l="l" t="t" r="r" b="b"/>
              <a:pathLst>
                <a:path w="2534" h="1368">
                  <a:moveTo>
                    <a:pt x="0" y="1368"/>
                  </a:moveTo>
                  <a:lnTo>
                    <a:pt x="253" y="1303"/>
                  </a:lnTo>
                  <a:lnTo>
                    <a:pt x="508" y="1229"/>
                  </a:lnTo>
                  <a:lnTo>
                    <a:pt x="761" y="1145"/>
                  </a:lnTo>
                  <a:lnTo>
                    <a:pt x="1014" y="1054"/>
                  </a:lnTo>
                  <a:lnTo>
                    <a:pt x="1268" y="947"/>
                  </a:lnTo>
                  <a:lnTo>
                    <a:pt x="1521" y="819"/>
                  </a:lnTo>
                  <a:lnTo>
                    <a:pt x="1774" y="669"/>
                  </a:lnTo>
                  <a:lnTo>
                    <a:pt x="2027" y="486"/>
                  </a:lnTo>
                  <a:lnTo>
                    <a:pt x="2281" y="269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744440" y="812880"/>
              <a:ext cx="2135160" cy="1679040"/>
            </a:xfrm>
            <a:custGeom>
              <a:avLst/>
              <a:gdLst/>
              <a:ahLst/>
              <a:rect l="l" t="t" r="r" b="b"/>
              <a:pathLst>
                <a:path w="2534" h="1939">
                  <a:moveTo>
                    <a:pt x="0" y="1939"/>
                  </a:moveTo>
                  <a:lnTo>
                    <a:pt x="253" y="1810"/>
                  </a:lnTo>
                  <a:lnTo>
                    <a:pt x="508" y="1675"/>
                  </a:lnTo>
                  <a:lnTo>
                    <a:pt x="761" y="1530"/>
                  </a:lnTo>
                  <a:lnTo>
                    <a:pt x="1014" y="1374"/>
                  </a:lnTo>
                  <a:lnTo>
                    <a:pt x="1268" y="1203"/>
                  </a:lnTo>
                  <a:lnTo>
                    <a:pt x="1521" y="1017"/>
                  </a:lnTo>
                  <a:lnTo>
                    <a:pt x="1774" y="806"/>
                  </a:lnTo>
                  <a:lnTo>
                    <a:pt x="2027" y="571"/>
                  </a:lnTo>
                  <a:lnTo>
                    <a:pt x="2281" y="306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ffb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744440" y="805680"/>
              <a:ext cx="2119680" cy="1707840"/>
            </a:xfrm>
            <a:custGeom>
              <a:avLst/>
              <a:gdLst/>
              <a:ahLst/>
              <a:rect l="l" t="t" r="r" b="b"/>
              <a:pathLst>
                <a:path w="2534" h="1998">
                  <a:moveTo>
                    <a:pt x="0" y="1998"/>
                  </a:moveTo>
                  <a:lnTo>
                    <a:pt x="253" y="1867"/>
                  </a:lnTo>
                  <a:lnTo>
                    <a:pt x="508" y="1726"/>
                  </a:lnTo>
                  <a:lnTo>
                    <a:pt x="761" y="1576"/>
                  </a:lnTo>
                  <a:lnTo>
                    <a:pt x="1014" y="1414"/>
                  </a:lnTo>
                  <a:lnTo>
                    <a:pt x="1268" y="1238"/>
                  </a:lnTo>
                  <a:lnTo>
                    <a:pt x="1521" y="1044"/>
                  </a:lnTo>
                  <a:lnTo>
                    <a:pt x="1774" y="828"/>
                  </a:lnTo>
                  <a:lnTo>
                    <a:pt x="2027" y="587"/>
                  </a:lnTo>
                  <a:lnTo>
                    <a:pt x="2281" y="313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ffb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744440" y="812880"/>
              <a:ext cx="2092320" cy="1719720"/>
            </a:xfrm>
            <a:custGeom>
              <a:avLst/>
              <a:gdLst/>
              <a:ahLst/>
              <a:rect l="l" t="t" r="r" b="b"/>
              <a:pathLst>
                <a:path w="2534" h="2049">
                  <a:moveTo>
                    <a:pt x="0" y="2049"/>
                  </a:moveTo>
                  <a:lnTo>
                    <a:pt x="253" y="1910"/>
                  </a:lnTo>
                  <a:lnTo>
                    <a:pt x="508" y="1766"/>
                  </a:lnTo>
                  <a:lnTo>
                    <a:pt x="761" y="1613"/>
                  </a:lnTo>
                  <a:lnTo>
                    <a:pt x="1014" y="1446"/>
                  </a:lnTo>
                  <a:lnTo>
                    <a:pt x="1268" y="1265"/>
                  </a:lnTo>
                  <a:lnTo>
                    <a:pt x="1521" y="1067"/>
                  </a:lnTo>
                  <a:lnTo>
                    <a:pt x="1774" y="844"/>
                  </a:lnTo>
                  <a:lnTo>
                    <a:pt x="2027" y="596"/>
                  </a:lnTo>
                  <a:lnTo>
                    <a:pt x="2281" y="321"/>
                  </a:lnTo>
                  <a:lnTo>
                    <a:pt x="2534" y="0"/>
                  </a:lnTo>
                </a:path>
              </a:pathLst>
            </a:custGeom>
            <a:noFill/>
            <a:ln w="9360">
              <a:solidFill>
                <a:srgbClr val="ffb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rot="16200000">
              <a:off x="3897720" y="149940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 [mA/cm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008040" y="27460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 [V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870440" y="1464480"/>
              <a:ext cx="42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916240" y="1761120"/>
              <a:ext cx="65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ght w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pti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980240" y="2226240"/>
              <a:ext cx="117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ght - no pepti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5964840" y="1983960"/>
              <a:ext cx="18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4910040" y="244908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206320" y="174024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663440" y="812880"/>
              <a:ext cx="151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08nm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W/cm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6" name=""/>
            <p:cNvGrpSpPr/>
            <p:nvPr/>
          </p:nvGrpSpPr>
          <p:grpSpPr>
            <a:xfrm>
              <a:off x="4744440" y="807840"/>
              <a:ext cx="2134080" cy="1764360"/>
              <a:chOff x="4744440" y="807840"/>
              <a:chExt cx="2134080" cy="1764360"/>
            </a:xfrm>
          </p:grpSpPr>
          <p:sp>
            <p:nvSpPr>
              <p:cNvPr id="2307" name=""/>
              <p:cNvSpPr/>
              <p:nvPr/>
            </p:nvSpPr>
            <p:spPr>
              <a:xfrm flipV="1">
                <a:off x="4957200" y="2538720"/>
                <a:ext cx="2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5384520" y="2538720"/>
                <a:ext cx="216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5811840" y="2538720"/>
                <a:ext cx="216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6238440" y="2538720"/>
                <a:ext cx="2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6667920" y="2538720"/>
                <a:ext cx="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744440" y="2182320"/>
                <a:ext cx="3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744440" y="1787400"/>
                <a:ext cx="324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744440" y="1397160"/>
                <a:ext cx="324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744440" y="1004400"/>
                <a:ext cx="324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957200" y="807840"/>
                <a:ext cx="2520" cy="3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384520" y="807840"/>
                <a:ext cx="2160" cy="3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811840" y="807840"/>
                <a:ext cx="2160" cy="3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38440" y="807840"/>
                <a:ext cx="2520" cy="3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67920" y="807840"/>
                <a:ext cx="0" cy="3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>
                <a:off x="6845760" y="2182320"/>
                <a:ext cx="3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6845760" y="1787400"/>
                <a:ext cx="32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6845760" y="1397160"/>
                <a:ext cx="32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6845760" y="1004400"/>
                <a:ext cx="32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4744440" y="807840"/>
              <a:ext cx="2136960" cy="1767240"/>
              <a:chOff x="4744440" y="807840"/>
              <a:chExt cx="2136960" cy="1767240"/>
            </a:xfrm>
          </p:grpSpPr>
          <p:sp>
            <p:nvSpPr>
              <p:cNvPr id="2326" name=""/>
              <p:cNvSpPr/>
              <p:nvPr/>
            </p:nvSpPr>
            <p:spPr>
              <a:xfrm flipV="1">
                <a:off x="4744440" y="2556000"/>
                <a:ext cx="216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5171040" y="2556000"/>
                <a:ext cx="25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5598000" y="2556000"/>
                <a:ext cx="216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6024600" y="2556000"/>
                <a:ext cx="25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6451920" y="2556000"/>
                <a:ext cx="25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6879240" y="2556000"/>
                <a:ext cx="216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744440" y="2572560"/>
                <a:ext cx="324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744440" y="2376720"/>
                <a:ext cx="169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744440" y="1986120"/>
                <a:ext cx="169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744440" y="1593360"/>
                <a:ext cx="1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744440" y="1200240"/>
                <a:ext cx="169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744440" y="807840"/>
                <a:ext cx="169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171040" y="807840"/>
                <a:ext cx="252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598000" y="807840"/>
                <a:ext cx="216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024600" y="807840"/>
                <a:ext cx="252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451920" y="807840"/>
                <a:ext cx="252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879240" y="807840"/>
                <a:ext cx="216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6845760" y="2572560"/>
                <a:ext cx="327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6863760" y="2376720"/>
                <a:ext cx="15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6863760" y="1986120"/>
                <a:ext cx="15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6863760" y="1593360"/>
                <a:ext cx="1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>
                <a:off x="6863760" y="1200240"/>
                <a:ext cx="15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>
                <a:off x="6863760" y="807840"/>
                <a:ext cx="15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4744440" y="807840"/>
              <a:ext cx="2136960" cy="1767240"/>
              <a:chOff x="4744440" y="807840"/>
              <a:chExt cx="2136960" cy="1767240"/>
            </a:xfrm>
          </p:grpSpPr>
          <p:sp>
            <p:nvSpPr>
              <p:cNvPr id="2350" name=""/>
              <p:cNvSpPr/>
              <p:nvPr/>
            </p:nvSpPr>
            <p:spPr>
              <a:xfrm>
                <a:off x="4744440" y="2572560"/>
                <a:ext cx="2134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744440" y="807840"/>
                <a:ext cx="2160" cy="1764720"/>
              </a:xfrm>
              <a:custGeom>
                <a:avLst/>
                <a:gdLst/>
                <a:ahLst/>
                <a:rect l="l" t="t" r="r" b="b"/>
                <a:pathLst>
                  <a:path w="0" h="1723">
                    <a:moveTo>
                      <a:pt x="0" y="1723"/>
                    </a:moveTo>
                    <a:lnTo>
                      <a:pt x="0" y="0"/>
                    </a:lnTo>
                    <a:lnTo>
                      <a:pt x="0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744440" y="807840"/>
                <a:ext cx="2134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6879240" y="807840"/>
                <a:ext cx="2160" cy="17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4" name=""/>
          <p:cNvSpPr/>
          <p:nvPr/>
        </p:nvSpPr>
        <p:spPr>
          <a:xfrm>
            <a:off x="1755000" y="551664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cff"/>
                </a:solidFill>
                <a:latin typeface="Times New Roman"/>
              </a:rPr>
              <a:t>Das, et al., </a:t>
            </a:r>
            <a:r>
              <a:rPr b="1" i="1" lang="en-US" sz="2800" spc="-1" strike="noStrike">
                <a:solidFill>
                  <a:srgbClr val="090cff"/>
                </a:solidFill>
                <a:latin typeface="Times New Roman"/>
              </a:rPr>
              <a:t>NanoLetters</a:t>
            </a:r>
            <a:r>
              <a:rPr b="1" lang="en-US" sz="2800" spc="-1" strike="noStrike">
                <a:solidFill>
                  <a:srgbClr val="090cff"/>
                </a:solidFill>
                <a:latin typeface="Times New Roman"/>
              </a:rPr>
              <a:t>,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-10800" y="228600"/>
            <a:ext cx="90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c2bff"/>
                </a:solidFill>
                <a:uFillTx/>
                <a:latin typeface="Times New Roman"/>
              </a:rPr>
              <a:t>Peptide detergents stabilized photosystem I generate current &amp; vol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eb.mit.edu/lms/www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02:53:01Z</dcterms:created>
  <dc:creator>Shuguang Zhang</dc:creator>
  <dc:description/>
  <dc:language>en-US</dc:language>
  <cp:lastModifiedBy>Shuguang Zhang</cp:lastModifiedBy>
  <dcterms:modified xsi:type="dcterms:W3CDTF">2004-06-10T04:19:02Z</dcterms:modified>
  <cp:revision>10</cp:revision>
  <dc:subject/>
  <dc:title>PowerPoint Presentation</dc:title>
</cp:coreProperties>
</file>