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67D-8249-459C-BBA9-4C4432A2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BBF-A340-4CC0-A7A9-A08C048E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A84-403F-44F6-92B6-A485EE26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0CEA-20CD-49B2-B16B-B555867F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2DF-5BDE-4644-84C5-7BE81F9F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BA1-AA0F-4692-A9E1-B082D1C5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CE4-CF35-471D-8483-7F6C5E28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D29E-D532-4878-B06B-0B971C2E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F77-10F2-40D9-9BD5-CB6426E4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A8C6-B1AF-4A0F-B601-CEA5356F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C1A-C669-4529-AD3A-A047C1ED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CBF-E973-4674-88A8-04CE90A1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5358-3C4C-4D3B-8740-23DBFDA60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672000" cy="3671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00360" y="476280"/>
            <a:ext cx="37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ernet 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nternet Zero @ Fab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cost, nodes and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b tools &amp;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ep tag &lt; 2 dol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1071720"/>
            <a:ext cx="77457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1557360"/>
            <a:ext cx="76197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22:06:21Z</dcterms:created>
  <dc:creator>Jørgen Karlsen</dc:creator>
  <dc:description/>
  <dc:language>en-US</dc:language>
  <cp:lastModifiedBy>Jørgen Karlsen</cp:lastModifiedBy>
  <dcterms:modified xsi:type="dcterms:W3CDTF">2005-08-11T23:14:12Z</dcterms:modified>
  <cp:revision>3</cp:revision>
  <dc:subject/>
  <dc:title>Lysbilde 1</dc:title>
</cp:coreProperties>
</file>