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9999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D13D-870F-4A27-8D42-74313BB52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4C9-121A-4BB3-8952-A1F4C413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AFF-F5DD-4CD2-A167-FCE94F20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3FA-2270-47E1-8C36-6B2EB08E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74B-FBBE-4BB8-842F-F155643F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1ED-CA88-4BA3-BE49-04F91095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927-921F-44CF-8FEB-F43373E5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5A1-7264-406F-9CBF-18EA5449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89A-FE13-4B7C-9F2B-B4A1C874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F31-0AAE-4017-AA02-6B6BB0CA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A47-F3D7-4CCE-8E8B-07E10547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163D-3EF4-472D-81FE-90B6D7A2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E2B-B84B-4B71-8CEB-B6A4ACD6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9999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6699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6699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6699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699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3D85-D49C-4071-A86A-BB2EB62C44B9}" type="slidenum">
              <a:rPr b="0" lang="en-US" sz="1400" spc="-1" strike="noStrike">
                <a:solidFill>
                  <a:srgbClr val="6699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millner@media.mit.edu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99ff"/>
                </a:solidFill>
                <a:uFillTx/>
                <a:latin typeface="Trebuchet MS"/>
              </a:rPr>
              <a:t>Learning In and From Fab Labs</a:t>
            </a:r>
            <a:endParaRPr b="0" lang="en-US" sz="4000" spc="-1" strike="noStrike">
              <a:solidFill>
                <a:srgbClr val="9999ff"/>
              </a:solidFill>
              <a:latin typeface="Trebuchet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4842000"/>
            <a:ext cx="41907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22096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rebuchet MS"/>
              </a:rPr>
              <a:t>Amon Millner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9999ff"/>
                </a:solidFill>
                <a:latin typeface="Trebuchet MS"/>
              </a:rPr>
              <a:t>CBA, Media Lab, Lifelong Kindergarten Group, MIT</a:t>
            </a:r>
            <a:br>
              <a:rPr sz="2000"/>
            </a:br>
            <a:r>
              <a:rPr b="0" lang="en-US" sz="2000" spc="-1" strike="noStrike">
                <a:solidFill>
                  <a:srgbClr val="9999ff"/>
                </a:solidFill>
                <a:latin typeface="Trebuchet MS"/>
              </a:rPr>
              <a:t>Cambridge, Massachusetts, USA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9999ff"/>
                </a:solidFill>
                <a:latin typeface="Trebuchet MS"/>
              </a:rPr>
              <a:t>August 12, 2005</a:t>
            </a:r>
            <a:endParaRPr b="0" lang="en-US" sz="20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Trebuchet MS"/>
              </a:rPr>
              <a:t>Enhancing “Constructionist” Learning</a:t>
            </a:r>
            <a:endParaRPr b="0" lang="en-US" sz="4000" spc="-1" strike="noStrike">
              <a:solidFill>
                <a:srgbClr val="9999ff"/>
              </a:solidFill>
              <a:latin typeface="Trebuchet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165096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2286000" cy="138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38080" y="510552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3716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60’s   .   .   .   .   .   .   . 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343400" y="2260440"/>
            <a:ext cx="132084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238880" y="2260440"/>
            <a:ext cx="132876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537000" y="3962520"/>
            <a:ext cx="1317600" cy="1360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191120" y="5029200"/>
            <a:ext cx="2057400" cy="1486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6566040" y="3962520"/>
            <a:ext cx="1187280" cy="172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7162920" y="5079960"/>
            <a:ext cx="1828800" cy="1541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17320" y="167652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.   .   .   .   .   .   .   now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2200" y="144792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.   .   .   .   .   .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rebuchet MS"/>
              </a:rPr>
              <a:t>Early Computers</a:t>
            </a:r>
            <a:endParaRPr b="0" lang="en-US" sz="2400" spc="-1" strike="noStrike">
              <a:solidFill>
                <a:srgbClr val="9999ff"/>
              </a:solidFill>
              <a:latin typeface="Trebuchet MS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1148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Visionaries helped find many educational uses for personal computers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152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rebuchet MS"/>
              </a:rPr>
              <a:t>Early fabrication tools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54100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ab Labs are exploring educational uses of digital fabrication tools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2667240" cy="1809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81480" y="609480"/>
            <a:ext cx="2438640" cy="194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28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Initially big, expensive machines </a:t>
            </a:r>
            <a:r>
              <a:rPr b="0" lang="en-US" sz="2400" spc="-1" strike="noStrike" u="sng">
                <a:solidFill>
                  <a:srgbClr val="6699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accessible to less-technical people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80’s &amp; 90’s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49528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2000’s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Trebuchet MS"/>
              </a:rPr>
              <a:t>What Can I Learn by Doing This?</a:t>
            </a:r>
            <a:endParaRPr b="0" lang="en-US" sz="4000" spc="-1" strike="noStrike">
              <a:solidFill>
                <a:srgbClr val="9999ff"/>
              </a:solidFill>
              <a:latin typeface="Trebuchet M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1576440"/>
            <a:ext cx="70866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Trebuchet MS"/>
              </a:rPr>
              <a:t>Fab Tools + a </a:t>
            </a:r>
            <a:r>
              <a:rPr b="0" i="1" lang="en-US" sz="3600" spc="-1" strike="noStrike">
                <a:solidFill>
                  <a:srgbClr val="6699ff"/>
                </a:solidFill>
                <a:latin typeface="Trebuchet MS"/>
              </a:rPr>
              <a:t>Supportive</a:t>
            </a:r>
            <a:r>
              <a:rPr b="0" lang="en-US" sz="3600" spc="-1" strike="noStrike">
                <a:solidFill>
                  <a:srgbClr val="6699ff"/>
                </a:solidFill>
                <a:latin typeface="Trebuchet MS"/>
              </a:rPr>
              <a:t> Design Environment has Lead to Learning Through:</a:t>
            </a:r>
            <a:endParaRPr b="0" lang="en-US" sz="3600" spc="-1" strike="noStrike">
              <a:solidFill>
                <a:srgbClr val="9999ff"/>
              </a:solidFill>
              <a:latin typeface="Trebuchet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44197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40080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and much more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2800" y="342900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tistic expression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62485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botics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5715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aining confidence and having fun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3657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teraction design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295280" y="19051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572000" y="1752480"/>
            <a:ext cx="22255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Trebuchet MS"/>
              </a:rPr>
              <a:t>Support for Fab Lab Learning:</a:t>
            </a:r>
            <a:br>
              <a:rPr sz="4000"/>
            </a:br>
            <a:r>
              <a:rPr b="0" lang="en-US" sz="4000" spc="-1" strike="noStrike">
                <a:solidFill>
                  <a:srgbClr val="9999ff"/>
                </a:solidFill>
                <a:latin typeface="Trebuchet MS"/>
              </a:rPr>
              <a:t>P</a:t>
            </a:r>
            <a:r>
              <a:rPr b="0" lang="en-US" sz="3600" spc="-1" strike="noStrike">
                <a:solidFill>
                  <a:srgbClr val="9999ff"/>
                </a:solidFill>
                <a:latin typeface="Trebuchet MS"/>
              </a:rPr>
              <a:t>eople, Time, Research &amp; Development</a:t>
            </a:r>
            <a:endParaRPr b="0" lang="en-US" sz="3600" spc="-1" strike="noStrike">
              <a:solidFill>
                <a:srgbClr val="9999ff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810240" cy="2855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19920" y="1295280"/>
            <a:ext cx="2900160" cy="3886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89548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9999ff"/>
                </a:solidFill>
                <a:latin typeface="Trebuchet MS"/>
              </a:rPr>
              <a:t>Thanks for listening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9999ff"/>
                </a:solidFill>
                <a:latin typeface="Trebuchet MS"/>
              </a:rPr>
              <a:t>I look forward to seeing you at the Norway Fab Lab</a:t>
            </a:r>
            <a:endParaRPr b="0" lang="en-US" sz="4400" spc="-1" strike="noStrike">
              <a:solidFill>
                <a:srgbClr val="9999ff"/>
              </a:solidFill>
              <a:latin typeface="Trebuchet MS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5181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rebuchet MS"/>
              </a:rPr>
              <a:t>email:</a:t>
            </a:r>
            <a:br>
              <a:rPr sz="3200"/>
            </a:br>
            <a:r>
              <a:rPr b="0" lang="en-US" sz="3200" spc="-1" strike="noStrike" u="sng">
                <a:solidFill>
                  <a:srgbClr val="ccccff"/>
                </a:solidFill>
                <a:uFillTx/>
                <a:latin typeface="Trebuchet MS"/>
                <a:hlinkClick r:id="rId1"/>
              </a:rPr>
              <a:t>millner@media.mit.edu</a:t>
            </a: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9:30:31Z</dcterms:created>
  <dc:creator>sylvan</dc:creator>
  <dc:description/>
  <dc:language>en-US</dc:language>
  <cp:lastModifiedBy>millner</cp:lastModifiedBy>
  <dcterms:modified xsi:type="dcterms:W3CDTF">2005-08-12T05:07:19Z</dcterms:modified>
  <cp:revision>134</cp:revision>
  <dc:subject/>
  <dc:title>Designing through Learning </dc:title>
</cp:coreProperties>
</file>