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3DFC-8F9F-43FD-BC15-8DF3901B7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NewRomanPS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NewRomanPS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564F-D27D-4082-9053-5ABDC4721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NewRomanPS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NewRomanPS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NewRomanPSM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NewRomanPS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474C-8AFD-4BC4-81F9-61D43B205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NewRomanPS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NewRomanPS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NewRomanPS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NewRomanPSMT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NewRomanPSMT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NewRomanPS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03A1-E697-4DFB-A4BB-DC22163E2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NewRomanPS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C0A8-E84A-4292-934A-8AAE89A48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NewRomanPS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5918-D4CF-495D-B93F-FFDD86831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NewRomanPSM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NewRomanPS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5034-FF50-4882-8597-ABC5F3A06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0F83-286A-45E3-BBA6-F67BBDF9A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NewRomanPS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98D2-CE61-4CDB-A898-36B5AEE58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NewRomanPS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NewRomanPSM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NewRomanPS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256E-9848-4251-9762-8CD6B224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NewRomanPSM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NewRomanPSM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NewRomanPS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0B1E-B41B-462F-93B5-9A6D6AEFB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NewRomanPS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NewRomanPS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NewRomanPS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0EBE-AB39-482A-99DA-B90439C0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NewRomanPS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NewRomanPSM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NewRomanPS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NewRomanPSM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NewRomanPS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NewRomanPSM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NewRomanPS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NewRomanPSM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NewRomanPS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NewRomanPSM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NewRomanPS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NewRomanPSM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NewRomanPS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NewRomanPS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5804F-F4E6-4721-9703-233E378BFE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3543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88920" y="5934240"/>
            <a:ext cx="625320" cy="852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NewRomanPSMT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3034" t="0" r="3034" b="0"/>
          <a:stretch/>
        </p:blipFill>
        <p:spPr>
          <a:xfrm>
            <a:off x="-74520" y="-14400"/>
            <a:ext cx="9232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600" spc="-1" strike="noStrike">
                <a:solidFill>
                  <a:srgbClr val="00089a"/>
                </a:solidFill>
                <a:latin typeface="TimesNewRomanPSMT"/>
              </a:rPr>
              <a:t>The objectives of MIT-FabLab Norw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NewRomanPSMT"/>
              </a:rPr>
              <a:t>Education at all levels through research projects and the development and testing of prototypes.</a:t>
            </a:r>
            <a:endParaRPr b="0" lang="en-US" sz="2800" spc="-1" strike="noStrike">
              <a:solidFill>
                <a:srgbClr val="000000"/>
              </a:solidFill>
              <a:latin typeface="TimesNewRomanPSMT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NewRomanPSMT"/>
              </a:rPr>
              <a:t>Product development for the business community.</a:t>
            </a:r>
            <a:endParaRPr b="0" lang="en-US" sz="2800" spc="-1" strike="noStrike">
              <a:solidFill>
                <a:srgbClr val="000000"/>
              </a:solidFill>
              <a:latin typeface="TimesNewRomanPSMT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NewRomanPSMT"/>
              </a:rPr>
              <a:t>An international network between all the FabLabs around the world.</a:t>
            </a:r>
            <a:endParaRPr b="0" lang="en-US" sz="2800" spc="-1" strike="noStrike">
              <a:solidFill>
                <a:srgbClr val="000000"/>
              </a:solidFill>
              <a:latin typeface="TimesNewRomanPSMT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Interstate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Interstate-Regular"/>
              </a:rPr>
              <a:t>Access to professional assistance and technical equipment for fabricating and testing.</a:t>
            </a:r>
            <a:endParaRPr b="0" lang="en-US" sz="2800" spc="-1" strike="noStrike">
              <a:solidFill>
                <a:srgbClr val="000000"/>
              </a:solidFill>
              <a:latin typeface="TimesNewRomanPSMT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NewRomanPSMT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NewRomanPSMT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NewRomanPSMT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NewRomanPS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600" spc="-1" strike="noStrike">
                <a:solidFill>
                  <a:srgbClr val="00089a"/>
                </a:solidFill>
                <a:latin typeface="TimesNewRomanPSMT"/>
              </a:rPr>
              <a:t>A modern laborat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5830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Interstate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Interstate-Regular"/>
              </a:rPr>
              <a:t>Buildings totalling more than 1000 m2.</a:t>
            </a:r>
            <a:endParaRPr b="0" lang="en-US" sz="2400" spc="-1" strike="noStrike">
              <a:solidFill>
                <a:srgbClr val="000000"/>
              </a:solidFill>
              <a:latin typeface="TimesNewRomanPSM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Interstate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Interstate-Regular"/>
              </a:rPr>
              <a:t>Capacity for 20-30 people</a:t>
            </a:r>
            <a:endParaRPr b="0" lang="en-US" sz="2400" spc="-1" strike="noStrike">
              <a:solidFill>
                <a:srgbClr val="000000"/>
              </a:solidFill>
              <a:latin typeface="TimesNewRomanPSMT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NewRomanPSM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Interstate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Interstate-Bold"/>
              </a:rPr>
              <a:t>Contribute to increased research in important areas for Norway.</a:t>
            </a:r>
            <a:endParaRPr b="0" lang="en-US" sz="2400" spc="-1" strike="noStrike">
              <a:solidFill>
                <a:srgbClr val="000000"/>
              </a:solidFill>
              <a:latin typeface="TimesNewRomanPSMT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NewRomanPSMT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400800" y="3657600"/>
            <a:ext cx="2422440" cy="1828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553080" y="152280"/>
            <a:ext cx="225288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600" spc="-1" strike="noStrike">
                <a:solidFill>
                  <a:srgbClr val="00089a"/>
                </a:solidFill>
                <a:latin typeface="TimesNewRomanPSMT"/>
              </a:rPr>
              <a:t>MIT-FabLab Norw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435640" y="1773360"/>
            <a:ext cx="3295440" cy="3286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rcRect l="4922" t="0" r="4922" b="0"/>
          <a:stretch/>
        </p:blipFill>
        <p:spPr>
          <a:xfrm>
            <a:off x="826920" y="1773360"/>
            <a:ext cx="329904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2T09:02:12Z</dcterms:created>
  <dc:creator>BEJ</dc:creator>
  <dc:description/>
  <dc:language>en-US</dc:language>
  <cp:lastModifiedBy>Benn H.J. Molund</cp:lastModifiedBy>
  <dcterms:modified xsi:type="dcterms:W3CDTF">2005-08-12T13:12:37Z</dcterms:modified>
  <cp:revision>6</cp:revision>
  <dc:subject/>
  <dc:title>PowerPoint-presentasjon</dc:title>
</cp:coreProperties>
</file>