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86600" y="76320"/>
            <a:ext cx="1816200" cy="1166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91440" y="182520"/>
            <a:ext cx="530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Investing at a micr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A personal journey to becoming a micro-V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480" y="1676520"/>
            <a:ext cx="7315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My first fabrication project: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66bb50"/>
                </a:solidFill>
                <a:latin typeface="Tempus Sans ITC"/>
              </a:rPr>
              <a:t>Campus Car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4341960"/>
            <a:ext cx="7315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Community business: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e9f34"/>
                </a:solidFill>
                <a:latin typeface="Tempus Sans ITC"/>
              </a:rPr>
              <a:t>L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7240"/>
            <a:ext cx="7315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Micro-VC: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809cc9"/>
                </a:solidFill>
                <a:latin typeface="Tempus Sans ITC"/>
              </a:rPr>
              <a:t>The Fab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19384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A lesson in small scale production and the joy of starting a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609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A lesson in reproducing business models – bringing franchising to out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172200"/>
            <a:ext cx="63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Marrying machines that make machines with businesses that make 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0360"/>
            <a:ext cx="7315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Business of Investment: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fe9f34"/>
                </a:solidFill>
                <a:latin typeface="Tempus Sans ITC"/>
              </a:rPr>
              <a:t>Private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5053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A lesson in keeping it small or losing the joy of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2514600" y="1953000"/>
            <a:ext cx="3760920" cy="3760920"/>
          </a:xfrm>
          <a:prstGeom prst="rtTriangle">
            <a:avLst/>
          </a:prstGeom>
          <a:solidFill>
            <a:srgbClr val="fe9f3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38200" y="20574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activiti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enable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76000" y="28954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15480" y="2106720"/>
            <a:ext cx="3760920" cy="3760560"/>
          </a:xfrm>
          <a:prstGeom prst="rtTriangle">
            <a:avLst/>
          </a:prstGeom>
          <a:solidFill>
            <a:srgbClr val="66bb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514980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enterpris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are enabled by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7720" y="443376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37960" y="182520"/>
            <a:ext cx="578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onal and Workgroup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Enabling sustainable models of ownershi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244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empus Sans ITC"/>
              </a:rPr>
              <a:t>Until a machine can truly make itsel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3244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empus Sans ITC"/>
              </a:rPr>
              <a:t>…</a:t>
            </a:r>
            <a:r>
              <a:rPr b="0" i="1" lang="en-US" sz="1800" spc="-1" strike="noStrike">
                <a:solidFill>
                  <a:srgbClr val="ffffff"/>
                </a:solidFill>
                <a:latin typeface="Tempus Sans ITC"/>
              </a:rPr>
              <a:t>it should at least help pay for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4267080" y="1980000"/>
            <a:ext cx="3760920" cy="3760920"/>
          </a:xfrm>
          <a:prstGeom prst="rtTriangle">
            <a:avLst/>
          </a:prstGeom>
          <a:solidFill>
            <a:srgbClr val="fe9f3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0680" y="20844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activiti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enable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8480" y="29224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67960" y="2133720"/>
            <a:ext cx="3760920" cy="376056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31160" y="517680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enterpris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are enabled by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0200" y="446076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46600" y="182520"/>
            <a:ext cx="585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onal and Workgroup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Providing commercial support to early adop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60368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Seed a robust open-source project with design and production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34996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Facilitate access to and setup of useful equipment bun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9712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Moderate an active online community to encourage sharing of tools, tips,  and in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99692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Co-invest in the creation of workgroup fabrication facilities with early adop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759040"/>
            <a:ext cx="335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Partner with early adopters to develop effective learning 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flipV="1">
            <a:off x="762120" y="2029320"/>
            <a:ext cx="3760560" cy="376092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5360" y="213372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activiti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enable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29718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63720" y="2182680"/>
            <a:ext cx="3760560" cy="3760920"/>
          </a:xfrm>
          <a:prstGeom prst="rtTriangle">
            <a:avLst/>
          </a:prstGeom>
          <a:solidFill>
            <a:srgbClr val="66bb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25840" y="522612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nvest in enterpris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are enabled by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4880" y="45100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Fab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07080" y="182520"/>
            <a:ext cx="596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onal and Workgroup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Providing capital and expertise to entrepreneu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58784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Learn from the successes of micro-finance initiative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425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Balance financial return with social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8257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Help entrepreneurs partner with the local community for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07324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Develop investment models that can be effective at a very small scale (micro-V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291132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Develop business infrastructure that can be shared among similar small enterprises  (reproducable business mode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37960" y="182520"/>
            <a:ext cx="578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onal and Workgroup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Enabling sustainable models of ownershi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6019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empus Sans ITC"/>
              </a:rPr>
              <a:t>www.fabcompan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35240" y="1523520"/>
            <a:ext cx="4343040" cy="3913560"/>
            <a:chOff x="2235240" y="1523520"/>
            <a:chExt cx="4343040" cy="3913560"/>
          </a:xfrm>
        </p:grpSpPr>
        <p:sp>
          <p:nvSpPr>
            <p:cNvPr id="84" name=""/>
            <p:cNvSpPr/>
            <p:nvPr/>
          </p:nvSpPr>
          <p:spPr>
            <a:xfrm flipV="1">
              <a:off x="2438280" y="1522800"/>
              <a:ext cx="3760920" cy="3760920"/>
            </a:xfrm>
            <a:prstGeom prst="rtTriangle">
              <a:avLst/>
            </a:prstGeom>
            <a:solidFill>
              <a:srgbClr val="fe9f34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35240" y="1703520"/>
              <a:ext cx="283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Machines tha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make machine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639160" y="1676520"/>
              <a:ext cx="3760920" cy="3760560"/>
            </a:xfrm>
            <a:prstGeom prst="rtTriangle">
              <a:avLst/>
            </a:prstGeom>
            <a:solidFill>
              <a:srgbClr val="66bb5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80280" y="4462560"/>
              <a:ext cx="289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businesses tha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make busines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86200" y="3227400"/>
              <a:ext cx="1218960" cy="380880"/>
            </a:xfrm>
            <a:prstGeom prst="rect">
              <a:avLst/>
            </a:prstGeom>
            <a:solidFill>
              <a:srgbClr val="809cc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empus Sans ITC"/>
                </a:rPr>
                <a:t>need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6:29:17Z</dcterms:created>
  <dc:creator>Michael Angst</dc:creator>
  <dc:description/>
  <dc:language>en-US</dc:language>
  <cp:lastModifiedBy>Michael Angst</cp:lastModifiedBy>
  <dcterms:modified xsi:type="dcterms:W3CDTF">2005-08-12T12:22:39Z</dcterms:modified>
  <cp:revision>37</cp:revision>
  <dc:subject/>
  <dc:title>Slide 1</dc:title>
</cp:coreProperties>
</file>