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4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D7B-AE91-4A07-A0B9-74F47BEF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896-8C93-48F5-BE05-7147EC85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D2B-DC58-48C9-B9D7-6C561411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FD7-D11C-4606-B7FF-14F7DB02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03B-03AF-4092-8D13-C2E22099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997-D4D3-4757-8864-01D716B6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A45-C7E3-4325-BE82-F2C21A2F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E4B-1232-45AB-8A34-E531A383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B01-D451-4429-945A-8044D0E3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2C5-65F1-43A5-8E9D-79FD9677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C1F-BEC4-47A3-BA9F-D101BE2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532-4063-45AB-A42D-1D14905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920A-D898-4630-AEB3-957B630EC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-t-fusion.pn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Image:DT_fusion_rxnrate.svg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iter.org/pics/ITER01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 Jacobson May 10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Bits and Atoms Energy and Computatio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953000">
            <a:off x="3657240" y="1523520"/>
            <a:ext cx="30492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243400">
            <a:off x="3657600" y="1523880"/>
            <a:ext cx="30492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5262600">
            <a:off x="3657240" y="1523520"/>
            <a:ext cx="30492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953000">
            <a:off x="365724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53000">
            <a:off x="4373280" y="207180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19647000">
            <a:off x="5028840" y="1523520"/>
            <a:ext cx="30492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1356600">
            <a:off x="5028840" y="1523520"/>
            <a:ext cx="30492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337400">
            <a:off x="5028840" y="1523520"/>
            <a:ext cx="30492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19647000">
            <a:off x="502884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9647000">
            <a:off x="4539240" y="207180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52774" t="0" r="0" b="0"/>
          <a:stretch/>
        </p:blipFill>
        <p:spPr>
          <a:xfrm rot="5400000">
            <a:off x="4003560" y="3540240"/>
            <a:ext cx="1043280" cy="1582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 rot="19647000">
            <a:off x="4418640" y="3200040"/>
            <a:ext cx="304560" cy="1219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1356600">
            <a:off x="4419360" y="3200400"/>
            <a:ext cx="304560" cy="1218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337400">
            <a:off x="4419360" y="3200040"/>
            <a:ext cx="304920" cy="1218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19647000">
            <a:off x="441864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19647000">
            <a:off x="3929760" y="3747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rot="19647000">
            <a:off x="457092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19647000">
            <a:off x="47998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64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3000">
            <a:off x="3809520" y="19807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53000">
            <a:off x="510516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53000">
            <a:off x="5181120" y="19807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rot="19647000">
            <a:off x="4495320" y="35809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53000">
            <a:off x="4495320" y="388584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953000">
            <a:off x="548604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21760" y="3618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1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flipH="1" rot="5400000">
            <a:off x="1973880" y="1530360"/>
            <a:ext cx="685800" cy="158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6200000">
            <a:off x="6317280" y="1530360"/>
            <a:ext cx="68580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1295280" y="487656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1600200" y="5867280"/>
            <a:ext cx="533520" cy="457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876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5334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2880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905120" y="4038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75248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479920" y="914400"/>
            <a:ext cx="2140200" cy="3809880"/>
            <a:chOff x="5479920" y="914400"/>
            <a:chExt cx="2140200" cy="3809880"/>
          </a:xfrm>
        </p:grpSpPr>
        <p:grpSp>
          <p:nvGrpSpPr>
            <p:cNvPr id="155" name=""/>
            <p:cNvGrpSpPr/>
            <p:nvPr/>
          </p:nvGrpSpPr>
          <p:grpSpPr>
            <a:xfrm>
              <a:off x="5479920" y="1024560"/>
              <a:ext cx="752040" cy="662400"/>
              <a:chOff x="5479920" y="1024560"/>
              <a:chExt cx="752040" cy="662400"/>
            </a:xfrm>
          </p:grpSpPr>
          <p:sp>
            <p:nvSpPr>
              <p:cNvPr id="156" name=""/>
              <p:cNvSpPr/>
              <p:nvPr/>
            </p:nvSpPr>
            <p:spPr>
              <a:xfrm>
                <a:off x="5479920" y="1024560"/>
                <a:ext cx="75204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3800" y="124524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479920" y="1687320"/>
              <a:ext cx="752040" cy="662400"/>
              <a:chOff x="5479920" y="1687320"/>
              <a:chExt cx="752040" cy="662400"/>
            </a:xfrm>
          </p:grpSpPr>
          <p:sp>
            <p:nvSpPr>
              <p:cNvPr id="159" name=""/>
              <p:cNvSpPr/>
              <p:nvPr/>
            </p:nvSpPr>
            <p:spPr>
              <a:xfrm>
                <a:off x="5479920" y="1687320"/>
                <a:ext cx="75204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53800" y="19080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116040" y="1355760"/>
              <a:ext cx="752040" cy="662400"/>
              <a:chOff x="6116040" y="1355760"/>
              <a:chExt cx="752040" cy="66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6116040" y="1355760"/>
                <a:ext cx="75204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291720" y="157644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479920" y="2349720"/>
              <a:ext cx="752040" cy="662400"/>
              <a:chOff x="5479920" y="2349720"/>
              <a:chExt cx="752040" cy="662400"/>
            </a:xfrm>
          </p:grpSpPr>
          <p:sp>
            <p:nvSpPr>
              <p:cNvPr id="165" name=""/>
              <p:cNvSpPr/>
              <p:nvPr/>
            </p:nvSpPr>
            <p:spPr>
              <a:xfrm>
                <a:off x="5479920" y="2349720"/>
                <a:ext cx="75204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53800" y="25704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479920" y="3012480"/>
              <a:ext cx="752040" cy="662400"/>
              <a:chOff x="5479920" y="3012480"/>
              <a:chExt cx="752040" cy="662400"/>
            </a:xfrm>
          </p:grpSpPr>
          <p:sp>
            <p:nvSpPr>
              <p:cNvPr id="168" name=""/>
              <p:cNvSpPr/>
              <p:nvPr/>
            </p:nvSpPr>
            <p:spPr>
              <a:xfrm>
                <a:off x="5479920" y="3012480"/>
                <a:ext cx="75204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53800" y="32331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116040" y="2018520"/>
              <a:ext cx="752040" cy="662400"/>
              <a:chOff x="6116040" y="2018520"/>
              <a:chExt cx="752040" cy="662400"/>
            </a:xfrm>
          </p:grpSpPr>
          <p:sp>
            <p:nvSpPr>
              <p:cNvPr id="171" name=""/>
              <p:cNvSpPr/>
              <p:nvPr/>
            </p:nvSpPr>
            <p:spPr>
              <a:xfrm>
                <a:off x="6116040" y="2018520"/>
                <a:ext cx="75204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91720" y="22392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116040" y="2680920"/>
              <a:ext cx="752040" cy="662400"/>
              <a:chOff x="6116040" y="2680920"/>
              <a:chExt cx="752040" cy="662400"/>
            </a:xfrm>
          </p:grpSpPr>
          <p:sp>
            <p:nvSpPr>
              <p:cNvPr id="174" name=""/>
              <p:cNvSpPr/>
              <p:nvPr/>
            </p:nvSpPr>
            <p:spPr>
              <a:xfrm>
                <a:off x="6116040" y="2680920"/>
                <a:ext cx="75204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91720" y="29016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479920" y="3674880"/>
              <a:ext cx="752040" cy="662400"/>
              <a:chOff x="5479920" y="3674880"/>
              <a:chExt cx="752040" cy="662400"/>
            </a:xfrm>
          </p:grpSpPr>
          <p:sp>
            <p:nvSpPr>
              <p:cNvPr id="177" name=""/>
              <p:cNvSpPr/>
              <p:nvPr/>
            </p:nvSpPr>
            <p:spPr>
              <a:xfrm>
                <a:off x="5479920" y="3674880"/>
                <a:ext cx="75204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53800" y="38955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116040" y="3343680"/>
              <a:ext cx="752040" cy="662400"/>
              <a:chOff x="6116040" y="3343680"/>
              <a:chExt cx="752040" cy="662400"/>
            </a:xfrm>
          </p:grpSpPr>
          <p:sp>
            <p:nvSpPr>
              <p:cNvPr id="180" name=""/>
              <p:cNvSpPr/>
              <p:nvPr/>
            </p:nvSpPr>
            <p:spPr>
              <a:xfrm>
                <a:off x="6116040" y="3343680"/>
                <a:ext cx="75204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91720" y="35643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752520" y="1024560"/>
              <a:ext cx="751680" cy="662400"/>
              <a:chOff x="6752520" y="1024560"/>
              <a:chExt cx="751680" cy="662400"/>
            </a:xfrm>
          </p:grpSpPr>
          <p:sp>
            <p:nvSpPr>
              <p:cNvPr id="183" name=""/>
              <p:cNvSpPr/>
              <p:nvPr/>
            </p:nvSpPr>
            <p:spPr>
              <a:xfrm>
                <a:off x="6752520" y="1024560"/>
                <a:ext cx="75168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927840" y="124524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752520" y="1687320"/>
              <a:ext cx="751680" cy="662400"/>
              <a:chOff x="6752520" y="1687320"/>
              <a:chExt cx="751680" cy="662400"/>
            </a:xfrm>
          </p:grpSpPr>
          <p:sp>
            <p:nvSpPr>
              <p:cNvPr id="186" name=""/>
              <p:cNvSpPr/>
              <p:nvPr/>
            </p:nvSpPr>
            <p:spPr>
              <a:xfrm>
                <a:off x="6752520" y="1687320"/>
                <a:ext cx="75168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27840" y="19080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52520" y="2349720"/>
              <a:ext cx="751680" cy="662400"/>
              <a:chOff x="6752520" y="2349720"/>
              <a:chExt cx="751680" cy="662400"/>
            </a:xfrm>
          </p:grpSpPr>
          <p:sp>
            <p:nvSpPr>
              <p:cNvPr id="189" name=""/>
              <p:cNvSpPr/>
              <p:nvPr/>
            </p:nvSpPr>
            <p:spPr>
              <a:xfrm>
                <a:off x="6752520" y="2349720"/>
                <a:ext cx="75168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27840" y="25704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752520" y="3012480"/>
              <a:ext cx="751680" cy="662400"/>
              <a:chOff x="6752520" y="3012480"/>
              <a:chExt cx="751680" cy="662400"/>
            </a:xfrm>
          </p:grpSpPr>
          <p:sp>
            <p:nvSpPr>
              <p:cNvPr id="192" name=""/>
              <p:cNvSpPr/>
              <p:nvPr/>
            </p:nvSpPr>
            <p:spPr>
              <a:xfrm>
                <a:off x="6752520" y="3012480"/>
                <a:ext cx="75168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927840" y="32331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752520" y="3674880"/>
              <a:ext cx="751680" cy="662400"/>
              <a:chOff x="6752520" y="3674880"/>
              <a:chExt cx="751680" cy="662400"/>
            </a:xfrm>
          </p:grpSpPr>
          <p:sp>
            <p:nvSpPr>
              <p:cNvPr id="195" name=""/>
              <p:cNvSpPr/>
              <p:nvPr/>
            </p:nvSpPr>
            <p:spPr>
              <a:xfrm>
                <a:off x="6752520" y="3674880"/>
                <a:ext cx="751680" cy="66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27840" y="38955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,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7620120" y="914400"/>
              <a:ext cx="0" cy="38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04960" y="2019240"/>
            <a:ext cx="750960" cy="662040"/>
            <a:chOff x="804960" y="2019240"/>
            <a:chExt cx="750960" cy="662040"/>
          </a:xfrm>
        </p:grpSpPr>
        <p:sp>
          <p:nvSpPr>
            <p:cNvPr id="199" name=""/>
            <p:cNvSpPr/>
            <p:nvPr/>
          </p:nvSpPr>
          <p:spPr>
            <a:xfrm>
              <a:off x="804960" y="2019240"/>
              <a:ext cx="750960" cy="66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79920" y="2239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04960" y="2681280"/>
            <a:ext cx="750960" cy="663480"/>
            <a:chOff x="804960" y="2681280"/>
            <a:chExt cx="750960" cy="663480"/>
          </a:xfrm>
        </p:grpSpPr>
        <p:sp>
          <p:nvSpPr>
            <p:cNvPr id="202" name=""/>
            <p:cNvSpPr/>
            <p:nvPr/>
          </p:nvSpPr>
          <p:spPr>
            <a:xfrm>
              <a:off x="804960" y="2681280"/>
              <a:ext cx="750960" cy="663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79920" y="2902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440000" y="1687680"/>
            <a:ext cx="752400" cy="661680"/>
            <a:chOff x="1440000" y="1687680"/>
            <a:chExt cx="752400" cy="661680"/>
          </a:xfrm>
        </p:grpSpPr>
        <p:sp>
          <p:nvSpPr>
            <p:cNvPr id="205" name=""/>
            <p:cNvSpPr/>
            <p:nvPr/>
          </p:nvSpPr>
          <p:spPr>
            <a:xfrm>
              <a:off x="1440000" y="1687680"/>
              <a:ext cx="752400" cy="66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13880" y="19083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40000" y="2349360"/>
            <a:ext cx="752400" cy="663840"/>
            <a:chOff x="1440000" y="2349360"/>
            <a:chExt cx="752400" cy="663840"/>
          </a:xfrm>
        </p:grpSpPr>
        <p:sp>
          <p:nvSpPr>
            <p:cNvPr id="208" name=""/>
            <p:cNvSpPr/>
            <p:nvPr/>
          </p:nvSpPr>
          <p:spPr>
            <a:xfrm>
              <a:off x="1440000" y="2349360"/>
              <a:ext cx="752400" cy="66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13880" y="2570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440000" y="3013200"/>
            <a:ext cx="752400" cy="662040"/>
            <a:chOff x="1440000" y="3013200"/>
            <a:chExt cx="752400" cy="662040"/>
          </a:xfrm>
        </p:grpSpPr>
        <p:sp>
          <p:nvSpPr>
            <p:cNvPr id="211" name=""/>
            <p:cNvSpPr/>
            <p:nvPr/>
          </p:nvSpPr>
          <p:spPr>
            <a:xfrm>
              <a:off x="1440000" y="3013200"/>
              <a:ext cx="752400" cy="66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13880" y="3233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76480" y="2019240"/>
            <a:ext cx="752400" cy="662040"/>
            <a:chOff x="2076480" y="2019240"/>
            <a:chExt cx="752400" cy="662040"/>
          </a:xfrm>
        </p:grpSpPr>
        <p:sp>
          <p:nvSpPr>
            <p:cNvPr id="214" name=""/>
            <p:cNvSpPr/>
            <p:nvPr/>
          </p:nvSpPr>
          <p:spPr>
            <a:xfrm>
              <a:off x="2076480" y="2019240"/>
              <a:ext cx="752400" cy="66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50360" y="2239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076480" y="2681280"/>
            <a:ext cx="752400" cy="663480"/>
            <a:chOff x="2076480" y="2681280"/>
            <a:chExt cx="752400" cy="663480"/>
          </a:xfrm>
        </p:grpSpPr>
        <p:sp>
          <p:nvSpPr>
            <p:cNvPr id="217" name=""/>
            <p:cNvSpPr/>
            <p:nvPr/>
          </p:nvSpPr>
          <p:spPr>
            <a:xfrm>
              <a:off x="2076480" y="2681280"/>
              <a:ext cx="752400" cy="663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0360" y="2902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779840" y="1476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97040" y="40068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40160" y="1411200"/>
            <a:ext cx="92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743120"/>
            <a:ext cx="0" cy="20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22760" y="2681280"/>
            <a:ext cx="925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0680" y="4800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33320" y="4800600"/>
            <a:ext cx="522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1/ [N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senberg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-61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am-Target Fusion Using Quantum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t 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he deuterium-tritium (D-T) fusion reaction is considered the most promising for producing fusion power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762120"/>
            <a:ext cx="2381400" cy="236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he deuterium-tritium fusion reaction rate increases rapidly with temperature until it maximizes near 70 keV (800 million kelvins) and then gradually drops off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62600" y="3429000"/>
            <a:ext cx="2381400" cy="2143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54864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uterium-tritium fusion reaction rate vs.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45072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 Fusion Energy / Chemic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7.6 MeV / 13.6 eV ~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static Energy Barrier ~ 0.1 MeV (kT ~1 G Kelv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Fusion at 10 KeV (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lvin) – Botlzman Tai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Fusion: Beam – Target,Beam-Beam,Magnetic Confinement (‘Tokomak’), Electrostatic Confinement (‘Fusor’),Thermo-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8280" y="641520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wikiped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n_{\rm e} T \tau_{\rm E} \ge \frac{12k_{\rm B}}{E_{\rm ch}}\,\frac{T^2}{\langle\sigma v\rangle}"/>
          <p:cNvPicPr/>
          <p:nvPr/>
        </p:nvPicPr>
        <p:blipFill>
          <a:blip r:embed="rId5"/>
          <a:stretch/>
        </p:blipFill>
        <p:spPr>
          <a:xfrm>
            <a:off x="1882800" y="6286680"/>
            <a:ext cx="1638360" cy="49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1120" y="63230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le 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n_{\rm e} T \tau_E \ge 10^{21} \mbox{keV s}/\mbox{m}^3"/>
          <p:cNvPicPr/>
          <p:nvPr/>
        </p:nvPicPr>
        <p:blipFill>
          <a:blip r:embed="rId6"/>
          <a:stretch/>
        </p:blipFill>
        <p:spPr>
          <a:xfrm>
            <a:off x="3673440" y="6362640"/>
            <a:ext cx="1886040" cy="23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52280" y="3505320"/>
          <a:ext cx="6400800" cy="263988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1371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+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7 M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E-13 Jo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in sea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g/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3E+24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/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E+12 Jo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E+08 W-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U.S. Annual Energy 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E+15 Watt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of Sea Water Requir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E+06 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Energy in World Oc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E+26 Watt-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 of U.S 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E+11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lons of sea water needed for each gallon of gaso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4 Gal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304920"/>
          <a:ext cx="9144000" cy="4884480"/>
        </p:xfrm>
        <a:graphic>
          <a:graphicData uri="http://schemas.openxmlformats.org/drawingml/2006/table">
            <a:tbl>
              <a:tblPr/>
              <a:tblGrid>
                <a:gridCol w="470880"/>
                <a:gridCol w="450000"/>
                <a:gridCol w="252000"/>
                <a:gridCol w="502560"/>
                <a:gridCol w="586800"/>
                <a:gridCol w="336240"/>
                <a:gridCol w="919080"/>
                <a:gridCol w="971640"/>
                <a:gridCol w="456480"/>
                <a:gridCol w="247320"/>
                <a:gridCol w="504360"/>
                <a:gridCol w="1171080"/>
                <a:gridCol w="252000"/>
                <a:gridCol w="334800"/>
                <a:gridCol w="638640"/>
                <a:gridCol w="216000"/>
                <a:gridCol w="834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1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1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02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82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45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7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1.3 M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2.9 M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2.1 M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8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5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i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5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9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2.4 M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7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3 M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6.9 M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8.7 M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2210040" y="-76320"/>
            <a:ext cx="52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sion Reactions with Largest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76720" y="5334120"/>
          <a:ext cx="5790960" cy="2154240"/>
        </p:xfrm>
        <a:graphic>
          <a:graphicData uri="http://schemas.openxmlformats.org/drawingml/2006/table">
            <a:tbl>
              <a:tblPr/>
              <a:tblGrid>
                <a:gridCol w="914400"/>
                <a:gridCol w="1447560"/>
                <a:gridCol w="3429000"/>
              </a:tblGrid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[KeV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σv&gt;/T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³/s/keV²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-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×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-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8×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-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4×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×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1×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6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900720" y="5751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plasma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3676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Fusion-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29718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143000"/>
            <a:ext cx="563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erformance and Testing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chieve inductive plasma burn with power amplification, Q (ratio of fusion power to auxiliary heating power), of at least 10 short term, steady-state operation with Q &gt; 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Design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ngineering choices and design solutions make maximum use of existing R&amp;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verage neutron flux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0.5 MW/m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verage fluence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&gt;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0.3 MWa/m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ater installation of tritium breeding blanket should not be preclu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Operation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device is anticipated to operate for ~ 20 years, using externally supplied tritiu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: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sion Power Output: 500 MW (500 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l Load: 0.1g D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: 9 years * $360 M per year ~ $3.24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ission reactor ~ $4 B for 1GW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R Technical Ob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t Fusion-Pyroelectric Crystal 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8120" y="1339920"/>
            <a:ext cx="5715000" cy="159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93200" y="6126480"/>
            <a:ext cx="508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ation of nuclear fusion driven by a pyroelectric cryst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 Naranjo, J.K. Gimzewski and S. Putte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434, 1115-1117 (28 April 200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666880" y="3016080"/>
            <a:ext cx="6477120" cy="1952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81160" y="4997160"/>
            <a:ext cx="61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0-keV 3He (lower panel) and a 2.45-MeV neutron (upper pane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5600" y="8820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+ D -&gt; 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(820 keV) + n (2.45 MeV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right arrow"/>
          <p:cNvPicPr/>
          <p:nvPr/>
        </p:nvPicPr>
        <p:blipFill>
          <a:blip r:embed="rId3"/>
          <a:stretch/>
        </p:blipFill>
        <p:spPr>
          <a:xfrm>
            <a:off x="3289320" y="3292560"/>
            <a:ext cx="133200" cy="8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9054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hium tantalate (LiTaO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roelectric crystal 120 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V/n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utrons 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oules per 5 minute heating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4520" y="60948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rian-mcdermott.com/fusion_is_eas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1542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n Rosenstiel's Fusor: This fusor currently holds the amateur record with a fusion output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"ten to the seven" or "10 million") fusions per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05120" y="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"Fusion is Easy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omemade Amateur Nuclear Fusion 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4200" y="18651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nsworth Fu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2286000"/>
            <a:ext cx="2071800" cy="2133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338880" y="4495680"/>
            <a:ext cx="28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10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: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utrons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0 Watt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029120" y="0"/>
            <a:ext cx="5191200" cy="7086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ed 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27688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W. Alvarez, H. Bradner, F.S. Crawford Jr., J.A. Crawford, P. Falk-Vairant, M.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, J.D. Gow, A.H. Rosenfeld, F.T. Solmitz, M.L. Stevenson, H.K. Ticho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D. Tripp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hys. Rev.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 (1957) 11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.C. Frank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ture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0 (1947) 5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411480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6160" y="25146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87040" y="2362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2362320"/>
            <a:ext cx="23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1600" y="2666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768760" cy="5181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ic De Broiglie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17720" y="2571840"/>
                <a:ext cx="11174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Broglie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140520" y="2571840"/>
                <a:ext cx="1054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Broglie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949400" y="4911840"/>
                <a:ext cx="1054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Broglie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903400"/>
            <a:ext cx="6095880" cy="3040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2008080"/>
            <a:ext cx="4038480" cy="111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94720" y="6248520"/>
            <a:ext cx="47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tonic De Broglie Waves,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obson, Bjork, Chuang, Yamamo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74,4835 (19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990720"/>
            <a:ext cx="380880" cy="398880"/>
            <a:chOff x="914400" y="990720"/>
            <a:chExt cx="380880" cy="398880"/>
          </a:xfrm>
        </p:grpSpPr>
        <p:sp>
          <p:nvSpPr>
            <p:cNvPr id="121" name=""/>
            <p:cNvSpPr/>
            <p:nvPr/>
          </p:nvSpPr>
          <p:spPr>
            <a:xfrm>
              <a:off x="914400" y="9907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90720" y="9907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447920" y="990720"/>
            <a:ext cx="380880" cy="398880"/>
            <a:chOff x="1447920" y="990720"/>
            <a:chExt cx="380880" cy="398880"/>
          </a:xfrm>
        </p:grpSpPr>
        <p:sp>
          <p:nvSpPr>
            <p:cNvPr id="124" name=""/>
            <p:cNvSpPr/>
            <p:nvPr/>
          </p:nvSpPr>
          <p:spPr>
            <a:xfrm>
              <a:off x="1447920" y="9907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4240" y="9907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95280" y="12193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14400" y="1584360"/>
            <a:ext cx="380880" cy="398880"/>
            <a:chOff x="914400" y="1584360"/>
            <a:chExt cx="380880" cy="398880"/>
          </a:xfrm>
        </p:grpSpPr>
        <p:sp>
          <p:nvSpPr>
            <p:cNvPr id="128" name=""/>
            <p:cNvSpPr/>
            <p:nvPr/>
          </p:nvSpPr>
          <p:spPr>
            <a:xfrm>
              <a:off x="914400" y="15843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0720" y="158436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447920" y="1584360"/>
            <a:ext cx="380880" cy="398880"/>
            <a:chOff x="1447920" y="1584360"/>
            <a:chExt cx="380880" cy="398880"/>
          </a:xfrm>
        </p:grpSpPr>
        <p:sp>
          <p:nvSpPr>
            <p:cNvPr id="131" name=""/>
            <p:cNvSpPr/>
            <p:nvPr/>
          </p:nvSpPr>
          <p:spPr>
            <a:xfrm>
              <a:off x="1447920" y="15843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4240" y="158436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12760" y="950760"/>
            <a:ext cx="54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760" y="1584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133720" y="976320"/>
                <a:ext cx="2590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Broglie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57400" y="1447920"/>
                <a:ext cx="28195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Broglie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867280" y="5712840"/>
            <a:ext cx="32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roglie wavelength of a non-local four-photon state,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Walther, J.W. Pan, M. Aspelmeyer, R. Ursin, S. Gasparoni and A. Zeilinge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Na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58 (200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295280" y="5867280"/>
            <a:ext cx="412920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am-Target Fusion Using Quantum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5520" y="762120"/>
            <a:ext cx="7145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barrier ~ 0.1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with Beam-Target Fusio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section: ~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=r0 A1/3~ 1.3*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-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uestion:  How much energy is required to target incident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clear radius (~1 fm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/Sqrt [N]  standard quantum limit and 1/N in Heisenberg li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eV photo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4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~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otons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 to localize D2 to 1.24 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radius. Total energy extracted is: 3.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Cluster of 300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54758" b="0"/>
          <a:stretch/>
        </p:blipFill>
        <p:spPr>
          <a:xfrm>
            <a:off x="3352680" y="4191120"/>
            <a:ext cx="3962520" cy="244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4114800" cy="419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5029200"/>
            <a:ext cx="380880" cy="30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5638680"/>
            <a:ext cx="533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16:56:47Z</dcterms:created>
  <dc:creator>MIT</dc:creator>
  <dc:description/>
  <dc:language>en-US</dc:language>
  <cp:lastModifiedBy>MIT</cp:lastModifiedBy>
  <dcterms:modified xsi:type="dcterms:W3CDTF">2006-05-10T14:00:55Z</dcterms:modified>
  <cp:revision>42</cp:revision>
  <dc:subject/>
  <dc:title>Quantum</dc:title>
</cp:coreProperties>
</file>