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media/image5.png" ContentType="image/png"/>
  <Override PartName="/ppt/media/image3.png" ContentType="image/png"/>
  <Override PartName="/ppt/media/image4.jpeg" ContentType="image/jpeg"/>
  <Override PartName="/ppt/media/image9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C4D-AE35-4C04-AE02-13FC96C6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D6D-45A7-43C0-91B8-C1A16E4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681-6ACF-474E-B371-4FCEDEBF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6E1-060A-4B08-AEC2-70BF5C9C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66F-9BB3-4C6F-8C91-B4E3BE6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B4B-B2BD-4D18-8041-6C4E547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902-82B4-486E-BF74-501880E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6A4-0C39-4FD1-8A93-05AB618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E30-2A1F-42B3-89BE-8383ADC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55E-76FF-4B82-B91C-E2C42EE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D3F-4B01-4AC2-AF20-23E3C69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7C7-F7B8-4FF2-B894-5C3C888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DF3F-4FBF-4994-8381-63CCE5E2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Research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nest J. Mo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cil and Ida Green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hysics and Engineer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irector, Laboratory for Energy and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38960" y="608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33520"/>
            <a:ext cx="78487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il And Energy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Issue: inelasticity of transportation fuels market,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geographical and geophysical realities of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sudden disru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egic res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l-functioning mark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and diversify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production from existing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tic E&amp;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onventional” oil (tar sand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ening the “addic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icient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 fuels (coal, NG, bio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transportation paradigm (electricity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”?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95480" y="1066680"/>
            <a:ext cx="3124440" cy="2154240"/>
          </a:xfrm>
          <a:prstGeom prst="cloudCallout">
            <a:avLst>
              <a:gd name="adj1" fmla="val 22560"/>
              <a:gd name="adj2" fmla="val -30175"/>
            </a:avLst>
          </a:prstGeom>
          <a:noFill/>
          <a:ln w="9360">
            <a:solidFill>
              <a:srgbClr val="d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1735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4100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TION &amp;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54508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86000" y="2971800"/>
            <a:ext cx="990720" cy="2286000"/>
          </a:xfrm>
          <a:prstGeom prst="line">
            <a:avLst/>
          </a:prstGeom>
          <a:ln w="19080">
            <a:solidFill>
              <a:srgbClr val="008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3962520"/>
            <a:ext cx="380880" cy="1295280"/>
          </a:xfrm>
          <a:prstGeom prst="line">
            <a:avLst/>
          </a:prstGeom>
          <a:ln w="19080">
            <a:solidFill>
              <a:srgbClr val="008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105160" y="2971800"/>
            <a:ext cx="990360" cy="228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971800"/>
            <a:ext cx="990720" cy="228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91120" y="3200400"/>
            <a:ext cx="304560" cy="838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5840" y="47242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05320" y="464796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86200" y="3276720"/>
            <a:ext cx="304920" cy="838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334120"/>
            <a:ext cx="2971800" cy="1066680"/>
          </a:xfrm>
          <a:custGeom>
            <a:avLst/>
            <a:gdLst>
              <a:gd name="textAreaLeft" fmla="*/ 125640 w 2971800"/>
              <a:gd name="textAreaRight" fmla="*/ 2846160 w 2971800"/>
              <a:gd name="textAreaTop" fmla="*/ 125640 h 1066680"/>
              <a:gd name="textAreaBottom" fmla="*/ 941040 h 1066680"/>
            </a:gdLst>
            <a:ahLst/>
            <a:rect l="textAreaLeft" t="textAreaTop" r="textAreaRight" b="textAreaBottom"/>
            <a:pathLst>
              <a:path w="601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565" y="21600"/>
                </a:lnTo>
                <a:arcTo wR="3600" hR="3600" stAng="10800000" swAng="5400000"/>
                <a:lnTo>
                  <a:pt x="60165" y="3600"/>
                </a:lnTo>
                <a:arcTo wR="3600" hR="3600" stAng="5400000" swAng="5400000"/>
                <a:close/>
              </a:path>
            </a:pathLst>
          </a:custGeom>
          <a:noFill/>
          <a:ln w="28440">
            <a:solidFill>
              <a:srgbClr val="00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733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581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114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ing Land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429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29360" y="3413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4267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2819160"/>
            <a:ext cx="914400" cy="1143000"/>
          </a:xfrm>
          <a:prstGeom prst="line">
            <a:avLst/>
          </a:prstGeom>
          <a:ln w="19080">
            <a:solidFill>
              <a:srgbClr val="008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238880" y="3657600"/>
            <a:ext cx="15264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7280" y="2437920"/>
            <a:ext cx="137160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46004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SSIL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3244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6520" y="4621680"/>
            <a:ext cx="2661840" cy="185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6" y="8923"/>
                </a:moveTo>
                <a:arcTo wR="10800" hR="10800" stAng="-600558" swAng="11879160"/>
                <a:lnTo>
                  <a:pt x="10800" y="10800"/>
                </a:lnTo>
                <a:close/>
              </a:path>
              <a:path fill="none" w="21600" h="21600">
                <a:moveTo>
                  <a:pt x="21436" y="8923"/>
                </a:moveTo>
                <a:arcTo wR="10800" hR="10800" stAng="-600558" swAng="11879160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rot="16231200">
            <a:off x="5295600" y="5141880"/>
            <a:ext cx="228600" cy="457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6231200">
            <a:off x="5752800" y="5141880"/>
            <a:ext cx="228600" cy="457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rot="16231200">
            <a:off x="6591240" y="5143320"/>
            <a:ext cx="228600" cy="457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31200">
            <a:off x="6171120" y="5181120"/>
            <a:ext cx="228600" cy="381240"/>
          </a:xfrm>
          <a:custGeom>
            <a:avLst/>
            <a:gdLst>
              <a:gd name="textAreaLeft" fmla="*/ 145800 w 228600"/>
              <a:gd name="textAreaRight" fmla="*/ 22860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6231200">
            <a:off x="7048440" y="5143320"/>
            <a:ext cx="228600" cy="457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295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Carbon Cycle (IPCC/E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ntries in Billion Metric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6231200">
            <a:off x="7505640" y="5143320"/>
            <a:ext cx="228600" cy="457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Carbon Dioxide Emissions (EIA BAU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Tonnes -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2057400"/>
          <a:ext cx="8686800" cy="4459320"/>
        </p:xfrm>
        <a:graphic>
          <a:graphicData uri="http://schemas.openxmlformats.org/drawingml/2006/table">
            <a:tbl>
              <a:tblPr/>
              <a:tblGrid>
                <a:gridCol w="1263600"/>
                <a:gridCol w="711360"/>
                <a:gridCol w="1027080"/>
                <a:gridCol w="788760"/>
                <a:gridCol w="949320"/>
                <a:gridCol w="946440"/>
                <a:gridCol w="1263600"/>
                <a:gridCol w="711000"/>
                <a:gridCol w="1025640"/>
              </a:tblGrid>
              <a:tr h="92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AL+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e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G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/y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/y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/y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/y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609480"/>
            <a:ext cx="78487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Technology/Policy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arbon or “carbon-less” technologies/f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 switching, e.g., coal to natural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clear power (fission, possibly fusion in long te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wables (wind, geothermal, solar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scale mat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dioxide capture and sequest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PPA model can be used to study how world energy markets would adapt to a carbon policy change.  In the EPPA world, a  significant (but not exorbitant?) CO2 tax leads to emissions stabilization by mid-century. However, the time to stabilization and the scale of emissions are quite dependent on the “tax profil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838080" y="1219320"/>
          <a:ext cx="7386840" cy="52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86840" cy="52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62120" y="1252440"/>
          <a:ext cx="7688160" cy="525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52440"/>
                    <a:ext cx="7688160" cy="52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9440" y="5157720"/>
            <a:ext cx="322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0080" y="1447920"/>
          <a:ext cx="564372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1447920"/>
                    <a:ext cx="56437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600200" y="1523880"/>
          <a:ext cx="587232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872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eloping economies do not adopt a carbon charge, emissions cannot be stabilized by mid-cen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eloping economies adopt a carbon charge but lag behind developed economies in doing so, stabilization of emissions is possible, although achieved later and at a higher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10 year lag increases cumulative emissions to mid-century by less than 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ect Storm of Energy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685620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upply an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projected doubling of energy use and tripl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ity use by 2050 in business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geological and geopolitical realities of oil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an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greenhouse gas emissions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914400" y="1143000"/>
          <a:ext cx="710244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1024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04760" y="1222200"/>
          <a:ext cx="7148520" cy="525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714852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57200" y="826920"/>
          <a:ext cx="8229600" cy="57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26920"/>
                    <a:ext cx="82296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609480"/>
            <a:ext cx="78487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 and Technology for a Clean Energy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technologies (wind, solar, geothermal, waves, biofu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chemical energy storage and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enabling science and technology (superconducti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ogenic components, nanotechnology and materials,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a,…)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f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609480"/>
            <a:ext cx="78487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Today’s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nuclear reactors and fuel cycles that address co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,  waste, and nonprolifera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ordable supply of fossil-derived fuels (oil, natural gas, coal) from    both conventional and unconventional source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enablers such as carbon seque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conversion and utilization for dramatically enhanced energy efficiency, including in industrial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 reliability, robustness and resiliency of energy delivery 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ntegration in energy supply, delivery, 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from the past and understanding current public attitudes towards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facilitating the energy technology innov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grative energy and technology policy studies that draw on faculty across the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533520"/>
            <a:ext cx="78487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 For a Rapidly Evolving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policy of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fficient build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transportation systems, from novel technologies and new fuels, to systems design including passenger and freigh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ga-city” design and development, particularly in the developing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533520"/>
            <a:ext cx="7848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scenarios highly uncertain on mid-century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-year time scale characteristic of significant change in   energy infrastructure, of greenhouse gas concentrations approaching twice pre-industrial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avail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ossil fuels, land for renewable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 and technology adva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echnology breakthroughs, climate chang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political consid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iddle East, climate protocol participation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9400" y="1143000"/>
          <a:ext cx="868356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143000"/>
                    <a:ext cx="868356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Energy Supply Since 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9436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E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019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: Ko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Primary Energy Demand BAU, Ref. Gas Price, Limited 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39120" cy="513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520" y="6400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EP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Energy Use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8680" y="150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93600"/>
            <a:ext cx="822672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400800" cy="5168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Per Capita Electricity Use (kW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32448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. Benka, Physics Today, April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3730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09480"/>
            <a:ext cx="8305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33520"/>
            <a:ext cx="7848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(and natural gas) adequate and reliable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nerability of extended energy delivery sys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weapons proliferation facilita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nuclear power expan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 from environmental impacts,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rom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2296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World Oil/Gas/Coal Reserves By Region:  Geopolitical Issues In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1447920"/>
          <a:ext cx="82296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105160"/>
                  </a:xfrm>
                  <a:prstGeom prst="rect">
                    <a:avLst/>
                  </a:prstGeom>
                  <a:ln w="381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5105520"/>
            <a:ext cx="160020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/S.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18800" y="4511520"/>
            <a:ext cx="165600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 &amp; Oce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286000"/>
            <a:ext cx="381240" cy="2209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65600" y="4648320"/>
            <a:ext cx="130680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dle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447920"/>
            <a:ext cx="380880" cy="304776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8720" y="1752480"/>
            <a:ext cx="157680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60120" y="3368520"/>
            <a:ext cx="118368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.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28080" y="3139920"/>
            <a:ext cx="167868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000" y="5502240"/>
            <a:ext cx="755280" cy="33732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286000"/>
            <a:ext cx="380880" cy="1447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29000"/>
            <a:ext cx="38088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381240" cy="11430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4876920"/>
            <a:ext cx="3808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800600"/>
            <a:ext cx="3808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0"/>
            <a:ext cx="381240" cy="4572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105520"/>
            <a:ext cx="38088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4952880"/>
            <a:ext cx="38124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5105520"/>
            <a:ext cx="380880" cy="30456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429000"/>
            <a:ext cx="38124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809880"/>
            <a:ext cx="38088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886200"/>
            <a:ext cx="380880" cy="76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572000"/>
            <a:ext cx="4572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523880"/>
            <a:ext cx="38124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447920"/>
            <a:ext cx="380880" cy="160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666880"/>
            <a:ext cx="380880" cy="381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743200"/>
            <a:ext cx="381240" cy="1676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962520"/>
            <a:ext cx="38088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191120"/>
            <a:ext cx="38088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655308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 EIA, International Energy Outlook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91320"/>
            <a:ext cx="30492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410080"/>
            <a:ext cx="304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172200"/>
            <a:ext cx="304920" cy="3049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278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897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5166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7:13:01Z</dcterms:created>
  <dc:creator>Marie Tangney</dc:creator>
  <dc:description/>
  <dc:language>en-US</dc:language>
  <cp:lastModifiedBy>Marie Tangney</cp:lastModifiedBy>
  <cp:lastPrinted>2006-05-10T16:58:20Z</cp:lastPrinted>
  <dcterms:modified xsi:type="dcterms:W3CDTF">2006-05-10T17:12:59Z</dcterms:modified>
  <cp:revision>13</cp:revision>
  <dc:subject/>
  <dc:title>Overview of the Energy Research Council Report</dc:title>
</cp:coreProperties>
</file>