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26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5.wmf" ContentType="image/x-wmf"/>
  <Override PartName="/ppt/media/image4.wmf" ContentType="image/x-wmf"/>
  <Override PartName="/ppt/media/image24.png" ContentType="image/png"/>
  <Override PartName="/ppt/media/image22.jpeg" ContentType="image/jpeg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2.wmf" ContentType="image/x-wmf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90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9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3080" indent="-120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78560" y="6585120"/>
            <a:ext cx="792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079F-1570-49C9-BBF0-69978A621956}" type="slidenum">
              <a:rPr b="1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07080" y="6585120"/>
            <a:ext cx="73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81160" y="533520"/>
            <a:ext cx="8573760" cy="204840"/>
            <a:chOff x="281160" y="533520"/>
            <a:chExt cx="8573760" cy="20484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912080" y="533520"/>
              <a:ext cx="94248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281160" y="738360"/>
              <a:ext cx="8573760" cy="0"/>
            </a:xfrm>
            <a:prstGeom prst="line">
              <a:avLst/>
            </a:prstGeom>
            <a:ln w="1260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440" y="4803840"/>
            <a:ext cx="9141120" cy="2054160"/>
            <a:chOff x="1440" y="4803840"/>
            <a:chExt cx="9141120" cy="2054160"/>
          </a:xfrm>
        </p:grpSpPr>
        <p:sp>
          <p:nvSpPr>
            <p:cNvPr id="45" name=""/>
            <p:cNvSpPr/>
            <p:nvPr/>
          </p:nvSpPr>
          <p:spPr>
            <a:xfrm>
              <a:off x="1440" y="4803840"/>
              <a:ext cx="9141120" cy="457200"/>
            </a:xfrm>
            <a:custGeom>
              <a:avLst/>
              <a:gdLst/>
              <a:ahLst/>
              <a:rect l="l" t="t" r="r" b="b"/>
              <a:pathLst>
                <a:path w="5758" h="314">
                  <a:moveTo>
                    <a:pt x="0" y="314"/>
                  </a:moveTo>
                  <a:cubicBezTo>
                    <a:pt x="959" y="157"/>
                    <a:pt x="1919" y="0"/>
                    <a:pt x="2879" y="0"/>
                  </a:cubicBezTo>
                  <a:cubicBezTo>
                    <a:pt x="3839" y="0"/>
                    <a:pt x="4798" y="157"/>
                    <a:pt x="5758" y="3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0" y="5261040"/>
              <a:ext cx="9141120" cy="15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94320" y="5904000"/>
            <a:ext cx="1835280" cy="33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a5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  <a:p>
            <a:pPr lvl="1" marL="28908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ctr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24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004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image" Target="../media/image12.wmf"/><Relationship Id="rId19" Type="http://schemas.openxmlformats.org/officeDocument/2006/relationships/image" Target="../media/image12.wmf"/><Relationship Id="rId20" Type="http://schemas.openxmlformats.org/officeDocument/2006/relationships/image" Target="../media/image13.jpeg"/><Relationship Id="rId2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ergy Efficienc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lligent Power Pla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095640"/>
            <a:ext cx="6400800" cy="17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a5"/>
                </a:solidFill>
                <a:latin typeface="Arial"/>
              </a:rPr>
              <a:t>Rameshbabu R S</a:t>
            </a:r>
            <a:endParaRPr b="1" lang="en-US" sz="2400" spc="-1" strike="noStrike">
              <a:solidFill>
                <a:srgbClr val="0053a5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a5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53a5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53a5"/>
                </a:solidFill>
                <a:latin typeface="Arial"/>
              </a:rPr>
              <a:t> May, 2006</a:t>
            </a:r>
            <a:endParaRPr b="1" lang="en-US" sz="2400" spc="-1" strike="noStrike">
              <a:solidFill>
                <a:srgbClr val="0053a5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a5"/>
                </a:solidFill>
                <a:latin typeface="Arial"/>
              </a:rPr>
              <a:t>The Center For Bits And Atoms</a:t>
            </a:r>
            <a:endParaRPr b="1" lang="en-US" sz="2400" spc="-1" strike="noStrike">
              <a:solidFill>
                <a:srgbClr val="0053a5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a5"/>
                </a:solidFill>
                <a:latin typeface="Arial"/>
              </a:rPr>
              <a:t>MIT</a:t>
            </a:r>
            <a:endParaRPr b="1" lang="en-US" sz="24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Sol: Industrial Power Pl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5975280" cy="4730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24280" y="5562720"/>
            <a:ext cx="160020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07" y="-19739"/>
                </a:moveTo>
                <a:lnTo>
                  <a:pt x="-1029" y="4061"/>
                </a:lnTo>
              </a:path>
            </a:pathLst>
          </a:custGeom>
          <a:noFill/>
          <a:ln w="9360">
            <a:solidFill>
              <a:srgbClr val="919191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ral boilers operating to common steam h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13720" y="2973240"/>
            <a:ext cx="152388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20" y="-6260"/>
                </a:moveTo>
                <a:lnTo>
                  <a:pt x="-1080" y="4061"/>
                </a:lnTo>
              </a:path>
            </a:pathLst>
          </a:custGeom>
          <a:noFill/>
          <a:ln w="9360">
            <a:solidFill>
              <a:srgbClr val="919191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pressure turbine(s) (w/extrac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3887640"/>
            <a:ext cx="160020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479" y="-40831"/>
                </a:moveTo>
                <a:lnTo>
                  <a:pt x="-1029" y="4061"/>
                </a:lnTo>
              </a:path>
            </a:pathLst>
          </a:custGeom>
          <a:noFill/>
          <a:ln w="9360">
            <a:solidFill>
              <a:srgbClr val="919191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densing turbin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/extrac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4044960"/>
            <a:ext cx="11239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95" y="-22275"/>
                </a:moveTo>
                <a:lnTo>
                  <a:pt x="-1464" y="4000"/>
                </a:lnTo>
              </a:path>
            </a:pathLst>
          </a:custGeom>
          <a:noFill/>
          <a:ln w="9360">
            <a:solidFill>
              <a:srgbClr val="919191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am Let-dow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38440" y="990720"/>
            <a:ext cx="84924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1500120"/>
            <a:ext cx="8496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4000" y="1521000"/>
            <a:ext cx="2266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74760" y="2398680"/>
            <a:ext cx="849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84480" y="3665520"/>
            <a:ext cx="849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3840" y="4932360"/>
            <a:ext cx="849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1174680" y="2414520"/>
            <a:ext cx="45108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60" y="5730840"/>
            <a:ext cx="525636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 – Advanced Combust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-B – Economic Load Allocation for Bo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-T – Economic Load Allocation for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5320" y="5715000"/>
            <a:ext cx="35953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C – Tie Lin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C – Master Pressur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Optimization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3040" y="1233360"/>
            <a:ext cx="7998120" cy="10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15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PI/Chemical plant relying on steam delivery from in-house boile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762120"/>
            <a:ext cx="7925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c241f"/>
                </a:solidFill>
                <a:latin typeface="Arial"/>
              </a:rPr>
              <a:t>Scenario for Industrial Pow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0760" y="2787480"/>
          <a:ext cx="8518320" cy="262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2787480"/>
                    <a:ext cx="85183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Optimization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3040" y="1233000"/>
            <a:ext cx="79981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15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P selling heat, power, and power ancillary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698400"/>
            <a:ext cx="7925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c241f"/>
                </a:solidFill>
                <a:latin typeface="Arial"/>
              </a:rPr>
              <a:t>Scenario for District Heat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09680" y="2131920"/>
          <a:ext cx="8310600" cy="36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2131920"/>
                    <a:ext cx="8310600" cy="36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991800"/>
            <a:ext cx="858060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Benefits of the Industrial Energy Efficiency S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stability of steam headers, responsiveness to steam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power generation flexibil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zed operations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efficiency incr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l cost sav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2 Emission Re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mprehensive Intelligent Power Plan is aimed to improve the overall Energy Efficiency in following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Generation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Energy Consumption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d E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8600" y="3390840"/>
            <a:ext cx="2343240" cy="2019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14600" y="3314880"/>
            <a:ext cx="609588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db8"/>
                </a:solidFill>
                <a:latin typeface="Arial"/>
              </a:rPr>
              <a:t>We are building a world that’s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db8"/>
                </a:solidFill>
                <a:latin typeface="Arial"/>
              </a:rPr>
              <a:t>Safer and more sec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db8"/>
                </a:solidFill>
                <a:latin typeface="Arial"/>
              </a:rPr>
              <a:t>More comfortable and energ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db8"/>
                </a:solidFill>
                <a:latin typeface="Arial"/>
              </a:rPr>
              <a:t>More innovative and produ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 are Honey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38120" y="1017720"/>
            <a:ext cx="1090440" cy="687960"/>
            <a:chOff x="438120" y="1017720"/>
            <a:chExt cx="1090440" cy="687960"/>
          </a:xfrm>
        </p:grpSpPr>
        <p:sp>
          <p:nvSpPr>
            <p:cNvPr id="170" name=""/>
            <p:cNvSpPr/>
            <p:nvPr/>
          </p:nvSpPr>
          <p:spPr>
            <a:xfrm>
              <a:off x="438120" y="1398600"/>
              <a:ext cx="109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erosp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819000" y="1017720"/>
              <a:ext cx="3654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1752480" y="990720"/>
            <a:ext cx="2209680" cy="740520"/>
            <a:chOff x="1752480" y="990720"/>
            <a:chExt cx="2209680" cy="740520"/>
          </a:xfrm>
        </p:grpSpPr>
        <p:sp>
          <p:nvSpPr>
            <p:cNvPr id="173" name=""/>
            <p:cNvSpPr/>
            <p:nvPr/>
          </p:nvSpPr>
          <p:spPr>
            <a:xfrm>
              <a:off x="1752480" y="1447920"/>
              <a:ext cx="220968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omation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2666880" y="990720"/>
              <a:ext cx="36504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6172200" y="990720"/>
            <a:ext cx="2743200" cy="740160"/>
            <a:chOff x="6172200" y="990720"/>
            <a:chExt cx="2743200" cy="740160"/>
          </a:xfrm>
        </p:grpSpPr>
        <p:sp>
          <p:nvSpPr>
            <p:cNvPr id="176" name=""/>
            <p:cNvSpPr/>
            <p:nvPr/>
          </p:nvSpPr>
          <p:spPr>
            <a:xfrm>
              <a:off x="6172200" y="1447560"/>
              <a:ext cx="27432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portation 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7391160" y="990720"/>
              <a:ext cx="3654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3809880" y="1012680"/>
            <a:ext cx="2743200" cy="697680"/>
            <a:chOff x="3809880" y="1012680"/>
            <a:chExt cx="2743200" cy="697680"/>
          </a:xfrm>
        </p:grpSpPr>
        <p:pic>
          <p:nvPicPr>
            <p:cNvPr id="179" name="" descr=""/>
            <p:cNvPicPr/>
            <p:nvPr/>
          </p:nvPicPr>
          <p:blipFill>
            <a:blip r:embed="rId5"/>
            <a:stretch/>
          </p:blipFill>
          <p:spPr>
            <a:xfrm>
              <a:off x="5028840" y="101268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809880" y="1427040"/>
              <a:ext cx="27432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cialty 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40" y="4343400"/>
            <a:ext cx="9140760" cy="457200"/>
          </a:xfrm>
          <a:custGeom>
            <a:avLst/>
            <a:gdLst/>
            <a:ahLst/>
            <a:rect l="l" t="t" r="r" b="b"/>
            <a:pathLst>
              <a:path w="5758" h="314">
                <a:moveTo>
                  <a:pt x="0" y="314"/>
                </a:moveTo>
                <a:cubicBezTo>
                  <a:pt x="959" y="157"/>
                  <a:pt x="1919" y="0"/>
                  <a:pt x="2879" y="0"/>
                </a:cubicBezTo>
                <a:cubicBezTo>
                  <a:pt x="3839" y="0"/>
                  <a:pt x="4798" y="157"/>
                  <a:pt x="5758" y="314"/>
                </a:cubicBezTo>
              </a:path>
            </a:pathLst>
          </a:cu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4800600"/>
            <a:ext cx="9140760" cy="205740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55720" y="1571760"/>
            <a:ext cx="5619960" cy="1057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43720" y="3314520"/>
            <a:ext cx="32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honeywel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178680"/>
            <a:ext cx="8640720" cy="45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afd00"/>
                </a:solidFill>
                <a:latin typeface="Times New Roman"/>
                <a:ea typeface="宋体"/>
              </a:rPr>
              <a:t>Broad and Diverse Business, Technologies and Produc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09840" y="1041480"/>
          <a:ext cx="609732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041480"/>
                    <a:ext cx="609732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786040" y="4113360"/>
            <a:ext cx="2336760" cy="127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  <a:effectLst>
            <a:outerShdw dist="99192" dir="3018055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451480" y="4371840"/>
          <a:ext cx="1090440" cy="10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1480" y="4371840"/>
                    <a:ext cx="1090440" cy="103536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  <a:effectLst>
                    <a:outerShdw dist="99192" dir="3018055" blurRad="0" rotWithShape="0">
                      <a:srgbClr val="cecece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590840" y="824040"/>
          <a:ext cx="1247760" cy="12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0840" y="824040"/>
                    <a:ext cx="1247760" cy="121896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  <a:effectLst>
                    <a:outerShdw dist="107932" dir="2700000" blurRad="0" rotWithShape="0">
                      <a:srgbClr val="cecece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88960" y="2263680"/>
          <a:ext cx="1285920" cy="104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8960" y="2263680"/>
                    <a:ext cx="1285920" cy="104796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  <a:effectLst>
                    <a:outerShdw dist="89604" dir="2700000" blurRad="0" rotWithShape="0">
                      <a:srgbClr val="cecece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225960" y="728640"/>
          <a:ext cx="1135080" cy="105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5960" y="728640"/>
                    <a:ext cx="1135080" cy="105732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  <a:effectLst>
                    <a:outerShdw dist="99192" dir="3018055" blurRad="0" rotWithShape="0">
                      <a:srgbClr val="cecece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485040" y="934920"/>
          <a:ext cx="1181160" cy="102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85040" y="934920"/>
                    <a:ext cx="1181160" cy="102240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  <a:effectLst>
                    <a:outerShdw dist="107932" dir="2700000" blurRad="0" rotWithShape="0">
                      <a:srgbClr val="cecece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700520" y="762120"/>
          <a:ext cx="1419120" cy="101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00520" y="762120"/>
                    <a:ext cx="1419120" cy="101916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  <a:effectLst>
                    <a:outerShdw dist="107932" dir="2700000" blurRad="0" rotWithShape="0">
                      <a:srgbClr val="cecece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854440" y="4443480"/>
          <a:ext cx="1133280" cy="888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54440" y="4443480"/>
                    <a:ext cx="11332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17"/>
          <a:stretch/>
        </p:blipFill>
        <p:spPr>
          <a:xfrm>
            <a:off x="3981600" y="4181400"/>
            <a:ext cx="1114200" cy="108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8"/>
          <a:srcRect l="0" t="66661" r="0" b="0"/>
          <a:stretch/>
        </p:blipFill>
        <p:spPr>
          <a:xfrm>
            <a:off x="6791400" y="4106880"/>
            <a:ext cx="1314360" cy="1298520"/>
          </a:xfrm>
          <a:prstGeom prst="rect">
            <a:avLst/>
          </a:prstGeom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19"/>
          <a:srcRect l="0" t="23501" r="0" b="30796"/>
          <a:stretch/>
        </p:blipFill>
        <p:spPr>
          <a:xfrm>
            <a:off x="7040520" y="2173320"/>
            <a:ext cx="1344600" cy="1679400"/>
          </a:xfrm>
          <a:prstGeom prst="rect">
            <a:avLst/>
          </a:prstGeom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20"/>
          <a:stretch/>
        </p:blipFill>
        <p:spPr>
          <a:xfrm>
            <a:off x="603360" y="4064040"/>
            <a:ext cx="1815840" cy="1333440"/>
          </a:xfrm>
          <a:prstGeom prst="rect">
            <a:avLst/>
          </a:prstGeom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neywell International In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for Industrial  Energy Effici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2286000"/>
            <a:ext cx="190512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794040"/>
            <a:ext cx="1905120" cy="175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3809880"/>
            <a:ext cx="1905120" cy="175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5562720"/>
            <a:ext cx="5257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1447920"/>
            <a:ext cx="2514600" cy="41148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1447920"/>
            <a:ext cx="2743200" cy="4114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87720" y="5562720"/>
            <a:ext cx="482220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lant Performan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4163600">
            <a:off x="3600360" y="3028320"/>
            <a:ext cx="502488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istributed Dem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252800">
            <a:off x="59760" y="3110760"/>
            <a:ext cx="563724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quipment Performanc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Components of Intelligent Power pl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cess monitoring and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lant and Unit performances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conomical analysis of plant for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hedule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vanced control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quipment health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Monitoring, Optimization &amp; Mgm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229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time Process data col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time process stat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time process 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matics visualization &amp;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s Gen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38240" y="991800"/>
            <a:ext cx="3922920" cy="5032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4120" y="14670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00600" y="2590920"/>
            <a:ext cx="3352680" cy="251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26708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Calculation &amp;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229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it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ss and Energy Bal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i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urb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eedwater He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den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oling T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8240" y="991800"/>
            <a:ext cx="39229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r Prehe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eedwater P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densing P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irculating P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duced Draft F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ce Draft F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imary Air F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bustion Turb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conomical analysis and optimal operation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3040" y="992160"/>
            <a:ext cx="7998120" cy="53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lculate and compare between the actually controllable parameters and expected parameters to obtaining the energy lo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alyze the reasons of deviation by expert system, and providing the operation dir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imary Controllable Lo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in Steam Pres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in Steam Temper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heat Steam Temperat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rbon Content of Fly 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re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imary uncontrollable Lo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0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H Pressure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0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uel Thermal 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0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P Turbine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0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re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al Operational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3040" y="992160"/>
            <a:ext cx="7998120" cy="586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ceive the instruction from EMS (Energy Management System), then distribute the load to each unit, meanwhile reduce the gross coal consumption and ensure safe, steady and economical runn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egrate the equal Incremental Rate and Neural Network arithmetic to predict the load vari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sider all restricted conditions and running steadily, to ensure running safely and economic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lexible running modes, and satisfy various condi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.g. Sootblow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to measure &amp; monitor the cleanliness or foul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to quantify the degree of contamina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to measure the change in heat transfer efficiency of the surfac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Control 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992160"/>
            <a:ext cx="495324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Advanced Combustion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optimize the excess air in the combustion process to decrease CO emi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lculate the best relationship between oxygen, air flow, coal supply, main steam flow and so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Performance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oiler Performance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urbine Performance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denser Performance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ir Preheater Leakage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acuum Leakage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38240" y="991800"/>
            <a:ext cx="3922920" cy="5032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10080" y="1104840"/>
            <a:ext cx="3181320" cy="262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1:29:49Z</dcterms:created>
  <dc:creator>ramesh</dc:creator>
  <dc:description/>
  <dc:language>en-US</dc:language>
  <cp:lastModifiedBy>ramesh</cp:lastModifiedBy>
  <dcterms:modified xsi:type="dcterms:W3CDTF">2006-05-10T15:49:07Z</dcterms:modified>
  <cp:revision>11</cp:revision>
  <dc:subject/>
  <dc:title>Energy Efficiency  and Intelligent Power Plants</dc:title>
</cp:coreProperties>
</file>