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2.jpeg" ContentType="image/jpeg"/>
  <Override PartName="/ppt/media/image6.pct" ContentType="image/x-pict"/>
  <Override PartName="/ppt/media/image1.jpeg" ContentType="image/jpeg"/>
  <Override PartName="/ppt/media/image10.png" ContentType="image/png"/>
  <Override PartName="/ppt/media/image27.jpeg" ContentType="image/jpeg"/>
  <Override PartName="/ppt/media/image50.jpeg" ContentType="image/jpeg"/>
  <Override PartName="/ppt/media/image28.pct" ContentType="image/x-pict"/>
  <Override PartName="/ppt/media/image2.jpeg" ContentType="image/jpeg"/>
  <Override PartName="/ppt/media/image20.png" ContentType="image/png"/>
  <Override PartName="/ppt/media/image54.pct" ContentType="image/x-pict"/>
  <Override PartName="/ppt/media/image57.png" ContentType="image/png"/>
  <Override PartName="/ppt/media/image3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2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51.jpeg" ContentType="image/jpeg"/>
  <Override PartName="/ppt/media/image52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31.png" ContentType="image/png"/>
  <Override PartName="/ppt/media/image47.pct" ContentType="image/x-pict"/>
  <Override PartName="/ppt/media/image13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3.jpeg" ContentType="image/jpeg"/>
  <Override PartName="/ppt/media/image30.png" ContentType="image/png"/>
  <Override PartName="/ppt/media/image43.jpeg" ContentType="image/jpeg"/>
  <Override PartName="/ppt/media/image5.png" ContentType="image/png"/>
  <Override PartName="/ppt/media/image35.png" ContentType="image/png"/>
  <Override PartName="/ppt/media/image38.jpeg" ContentType="image/jpeg"/>
  <Override PartName="/ppt/media/image7.jpeg" ContentType="image/jpeg"/>
  <Override PartName="/ppt/media/image37.png" ContentType="image/pn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0531F4-84E0-4750-BC82-0EA5B24F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5724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ast slide I kind of waved my hands to write down the soft-xo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essentially the soft-xor is saying that p(z) = p(y)p(z) but subject to the mod 2 constrai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o if we have another kind of logical constraint, we can derive a soft-gat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s in coding (0,1) suggests a dual rail circuit representation of p(0), p(1) in currents, log-likelihood 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ual values from simulation - SNR in circuits, power consumption, speed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y 1uW with Yael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ft decoding we want about 5-8 bits of resolution - around 100 discretely recognizable analog level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ynamic range plus the SNR put a bound on this.  Get from thesis argu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ual values from simulation - SNR in circuits, power consumption, speed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ify 1uW with Yael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soft decoding we want about 5-8 bits of resolution - around 100 discretely recognizable analog level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ynamic range plus the SNR put a bound on this.  Get from thesis argu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ual values from simulation - SNR in circuits, power consumption, speed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ify 1uW with Yael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soft decoding we want about 5-8 bits of resolution - around 100 discretely recognizable analog level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ynamic range plus the SNR put a bound on this.  Get from thesis argu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w let’s combine a couple of different kinds of factor nodes – “soft-gat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AC66-58F5-4AE9-8977-DA52593D1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7216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C9E8-F3E7-405D-9EBD-91E55438D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832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A8D9-96E1-473E-A4C5-865BB2DA9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708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100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708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100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BD5F-88BE-46F6-B023-FD9BDF066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3B74-8FB9-4B3D-A879-B4B544264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832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87216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832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708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01000" y="152352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708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01000" y="3872160"/>
            <a:ext cx="26985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1AC0-7359-4D8D-ACF8-034111CB8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E415-0B5D-4575-AF12-8FB6D751B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E61-2836-4AA4-8D10-CF1F17980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DD59-8171-4646-B5E2-27F7BF90C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33D3-C60B-4AD8-A111-38AFD3C0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832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4E92-7CF6-421C-ABCD-F4841B944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832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97C7-05D8-4095-9E8A-A5AC9ADD6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242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92240" y="6565680"/>
            <a:ext cx="1293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1A4-F39D-4BFF-8216-89A876C51C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27634" t="0" r="0" b="16327"/>
          <a:stretch/>
        </p:blipFill>
        <p:spPr>
          <a:xfrm>
            <a:off x="4425840" y="1523880"/>
            <a:ext cx="4191120" cy="228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1600" y="2165400"/>
            <a:ext cx="43844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50320" y="1676520"/>
            <a:ext cx="248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Helvetica Neue"/>
              </a:rPr>
              <a:t>Cambridge, Massachuset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743200"/>
            <a:ext cx="792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6165720" y="6566040"/>
            <a:ext cx="17179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2424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24242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42424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24242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42424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24242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24242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2424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ct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ba.mit.edu/media/logos/" TargetMode="External"/><Relationship Id="rId2" Type="http://schemas.openxmlformats.org/officeDocument/2006/relationships/image" Target="../media/image52.jpeg"/><Relationship Id="rId3" Type="http://schemas.openxmlformats.org/officeDocument/2006/relationships/image" Target="../media/image3.jpeg"/><Relationship Id="rId4" Type="http://schemas.openxmlformats.org/officeDocument/2006/relationships/image" Target="../media/image53.png"/><Relationship Id="rId5" Type="http://schemas.openxmlformats.org/officeDocument/2006/relationships/image" Target="../media/image54.pct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8920" y="1920960"/>
            <a:ext cx="7381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-Italic"/>
              </a:rPr>
              <a:t>Low-Power Statistical Computing with</a:t>
            </a:r>
            <a:r>
              <a:rPr b="1" i="1" lang="en-US" sz="2400" spc="-1" strike="noStrike">
                <a:solidFill>
                  <a:srgbClr val="000000"/>
                </a:solidFill>
                <a:latin typeface="Times-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 Logi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71760" y="3044520"/>
            <a:ext cx="439236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Vig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25760" y="5888160"/>
            <a:ext cx="919080" cy="488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44920" y="5954040"/>
            <a:ext cx="53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  <a:ea typeface="Times New Roman"/>
              </a:rPr>
              <a:t>Advanced Technology Office (ATO) (BAA 04-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5410080"/>
            <a:ext cx="2031840" cy="838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2158920"/>
            <a:ext cx="2184480" cy="66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 Example: probability inverter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3019320"/>
          <a:ext cx="1523880" cy="1312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415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3200400" cy="482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182880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84280" y="4826160"/>
            <a:ext cx="4597200" cy="507960"/>
          </a:xfrm>
          <a:prstGeom prst="rect">
            <a:avLst/>
          </a:prstGeom>
          <a:ln w="0">
            <a:noFill/>
          </a:ln>
        </p:spPr>
      </p:pic>
      <p:pic>
        <p:nvPicPr>
          <p:cNvPr id="130" name="x-inv-y-factor-graph" descr=""/>
          <p:cNvPicPr/>
          <p:nvPr/>
        </p:nvPicPr>
        <p:blipFill>
          <a:blip r:embed="rId6"/>
          <a:stretch/>
        </p:blipFill>
        <p:spPr>
          <a:xfrm>
            <a:off x="5257800" y="1523880"/>
            <a:ext cx="3429000" cy="133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1523880"/>
            <a:ext cx="3581280" cy="137160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2300400"/>
            <a:ext cx="3353040" cy="442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2120" y="1803240"/>
            <a:ext cx="2590560" cy="482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5715000" cy="642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76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 Example: probability XOR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199692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62120" y="5262480"/>
            <a:ext cx="4521240" cy="101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07960" y="4957920"/>
            <a:ext cx="3301920" cy="533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1219320"/>
            <a:ext cx="5791320" cy="518148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2976480"/>
          <a:ext cx="1676160" cy="1904760"/>
        </p:xfrm>
        <a:graphic>
          <a:graphicData uri="http://schemas.openxmlformats.org/drawingml/2006/table">
            <a:tbl>
              <a:tblPr/>
              <a:tblGrid>
                <a:gridCol w="515880"/>
                <a:gridCol w="601200"/>
                <a:gridCol w="55908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711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 Example: probability XOR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1996920" cy="2666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1371600"/>
            <a:ext cx="1981080" cy="289548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38080" y="2300400"/>
            <a:ext cx="3353040" cy="442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62120" y="1803240"/>
            <a:ext cx="2590560" cy="482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2120" y="5262480"/>
            <a:ext cx="4521240" cy="1015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07960" y="4957920"/>
            <a:ext cx="3301920" cy="53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1143000" y="2976480"/>
          <a:ext cx="1676160" cy="1904760"/>
        </p:xfrm>
        <a:graphic>
          <a:graphicData uri="http://schemas.openxmlformats.org/drawingml/2006/table">
            <a:tbl>
              <a:tblPr/>
              <a:tblGrid>
                <a:gridCol w="515880"/>
                <a:gridCol w="601200"/>
                <a:gridCol w="55908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24242"/>
                          </a:solidFill>
                          <a:latin typeface="Courier Ne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70120" y="838080"/>
            <a:ext cx="7394400" cy="1576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2280" y="176040"/>
            <a:ext cx="7767720" cy="131616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Factor Graph Example: Error Correction Encoding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897200" y="1566720"/>
            <a:ext cx="893520" cy="482760"/>
          </a:xfrm>
          <a:prstGeom prst="rect">
            <a:avLst/>
          </a:prstGeom>
          <a:solidFill>
            <a:srgbClr val="80008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21320" y="2322360"/>
            <a:ext cx="2287440" cy="3953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6720" y="2935440"/>
            <a:ext cx="3818160" cy="2260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3040" y="2214720"/>
            <a:ext cx="6828120" cy="4113000"/>
          </a:xfrm>
          <a:prstGeom prst="rect">
            <a:avLst/>
          </a:prstGeom>
          <a:solidFill>
            <a:srgbClr val="80008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1160" y="792000"/>
            <a:ext cx="7313760" cy="164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18120" y="1593720"/>
            <a:ext cx="911160" cy="53496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45040" y="2260440"/>
            <a:ext cx="3197160" cy="3964320"/>
          </a:xfrm>
          <a:prstGeom prst="rect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373640" y="2332080"/>
            <a:ext cx="2824200" cy="3800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600" y="235080"/>
            <a:ext cx="7769160" cy="12096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Factor Graph Example: Error Correction Decoding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524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11448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Soft-Gates In General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816520"/>
            <a:ext cx="6134400" cy="4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Graphs and the Sum-Product Algorithm. Kschischang, Frey and Loeliger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Transactions on Information Theory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4480" y="1371600"/>
            <a:ext cx="5029200" cy="90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0080" y="2895480"/>
            <a:ext cx="6127920" cy="1722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80880" y="2270160"/>
            <a:ext cx="8458200" cy="473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38080" y="4780080"/>
            <a:ext cx="45720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3040" y="647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11448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s: Joint Marginals</a:t>
            </a:r>
            <a:br>
              <a:rPr sz="2000"/>
            </a:b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(Generalized Belief Propagation)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43560" y="1905120"/>
            <a:ext cx="2190960" cy="312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5591160"/>
            <a:ext cx="690876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ng Free Energy Approximations and Generalized Belief Propagation  Algorithms. Yedidia, Freeman and Weiss. IEEE Transactions on Information Theory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518148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667240" cy="1978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357960" y="1906560"/>
            <a:ext cx="2166840" cy="310824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ourier Transform of a Factor Graph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1640" y="1501920"/>
            <a:ext cx="6248520" cy="2869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9000" y="4500720"/>
            <a:ext cx="4711680" cy="1625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37040" y="609840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s on graphs: Normal realizations. Dave For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2504-D26C-48B5-9FB6-EC3DEADAEB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0440" y="1889280"/>
            <a:ext cx="2590920" cy="1247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51480" y="3436920"/>
            <a:ext cx="3376440" cy="2314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89120" y="693360"/>
            <a:ext cx="458316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nalog Logic Circuit:</a:t>
            </a:r>
            <a:br>
              <a:rPr sz="1900"/>
            </a:b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“Soft-XOR” Circuit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343160" y="2141640"/>
            <a:ext cx="1527120" cy="739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38360" y="896760"/>
            <a:ext cx="3170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  <a:ea typeface="Arial Black"/>
              </a:rPr>
              <a:t>Digital CMOS Circu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  <a:ea typeface="Arial Black"/>
              </a:rPr>
              <a:t>XOR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9560" y="3244680"/>
            <a:ext cx="3909960" cy="257364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0240" y="3357720"/>
            <a:ext cx="3075120" cy="235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1680" y="3232080"/>
            <a:ext cx="3247920" cy="2590920"/>
          </a:xfrm>
          <a:prstGeom prst="rect">
            <a:avLst/>
          </a:prstGeom>
          <a:solidFill>
            <a:srgbClr val="80808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8480" y="499680"/>
            <a:ext cx="8429400" cy="11876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Analog Logic Gates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264960" y="5207040"/>
            <a:ext cx="795996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8160">
              <a:lnSpc>
                <a:spcPct val="100000"/>
              </a:lnSpc>
              <a:buClr>
                <a:srgbClr val="424242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TSMC .18um digital process (1.8V supp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buClr>
                <a:srgbClr val="424242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1 Analog Logic gate is equivalent to &gt; 10</a:t>
            </a:r>
            <a:r>
              <a:rPr b="0" lang="en-US" sz="2400" spc="-1" strike="noStrike" baseline="30000">
                <a:solidFill>
                  <a:srgbClr val="424242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 digita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buClr>
                <a:srgbClr val="424242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Up to ~1GHz Bandwidth (~1mA per AL g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5480" y="1496880"/>
            <a:ext cx="3494160" cy="34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040" y="8222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Energy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79840" y="1814400"/>
            <a:ext cx="297972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6B7D-AC39-41D6-8F10-0CB7C6A58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91040" y="1515960"/>
            <a:ext cx="4330800" cy="4005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63440" y="1649520"/>
            <a:ext cx="4002120" cy="3560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930320" y="5375160"/>
            <a:ext cx="4521240" cy="1016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8120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Transfer Function of 2-Input SoftXOR Analog Logic Gate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814320" y="247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4120" y="24660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91400" y="252468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B825-EAB0-4DCB-8BF4-AFD3254168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3880" y="758880"/>
            <a:ext cx="5757840" cy="339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nalog Logic Modular Workflow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" y="5256360"/>
            <a:ext cx="84931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Simulate factor graph algorithms in JmpLab  (Java message passing Laborato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07880" y="1343160"/>
            <a:ext cx="1865520" cy="358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3040" y="1406520"/>
            <a:ext cx="1725480" cy="40176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11640" y="1477800"/>
            <a:ext cx="49654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31640" y="5365800"/>
            <a:ext cx="71280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08640" y="1386000"/>
            <a:ext cx="2146320" cy="3706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3880" y="758880"/>
            <a:ext cx="5757840" cy="339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nalog Logic Modular Workflow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7880" y="1343160"/>
            <a:ext cx="1865520" cy="3582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73040" y="1978200"/>
            <a:ext cx="1725480" cy="78408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760" y="5538960"/>
            <a:ext cx="8213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Find minimum realization of factor graph. (Similar to RTL synthe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5520" y="5425920"/>
            <a:ext cx="8055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Times New Roman"/>
              </a:rPr>
              <a:t>Compile factor graph into circuit schematic and simulate in Cadence circuit simulat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378320" y="1405080"/>
            <a:ext cx="2428920" cy="117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25960" y="2944800"/>
            <a:ext cx="3165480" cy="2170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35360" y="2800440"/>
            <a:ext cx="3665520" cy="2414520"/>
          </a:xfrm>
          <a:prstGeom prst="rect">
            <a:avLst/>
          </a:prstGeom>
          <a:solidFill>
            <a:srgbClr val="ef2b2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3880" y="758880"/>
            <a:ext cx="5757840" cy="339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nalog Logic Modular Workflow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07880" y="1343160"/>
            <a:ext cx="1865520" cy="358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3040" y="2936880"/>
            <a:ext cx="1725480" cy="40176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3880" y="758880"/>
            <a:ext cx="5757840" cy="339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nalog Logic Modular Workflow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07880" y="1343160"/>
            <a:ext cx="1865520" cy="3582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3040" y="3510000"/>
            <a:ext cx="1725480" cy="48420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30640" y="1359000"/>
            <a:ext cx="4619520" cy="3319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0160" y="5207400"/>
            <a:ext cx="678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Cadence software to design and re-simulate our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Essentially thousands of “mixer” circuits on one 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040" y="4176720"/>
            <a:ext cx="1725480" cy="663480"/>
          </a:xfrm>
          <a:prstGeom prst="rect">
            <a:avLst/>
          </a:prstGeom>
          <a:solidFill>
            <a:srgbClr val="ef2b2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3920" y="937800"/>
            <a:ext cx="861876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Analog Logic Enables</a:t>
            </a:r>
            <a:br>
              <a:rPr sz="2400"/>
            </a:b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Complex Signal Processing in RF Front-ends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9600" y="1884240"/>
            <a:ext cx="755028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Complex Signal Processing in “Analog” Circuits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Adaptive Filtering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Signal Selective Gain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Interference Rejection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Arbitrary Waveform Generation and Selection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No DAC, No ADC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Frequencies and bandwidths that would be heroic in digital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Can Implement in High-Speed Process (SiGe)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Arial"/>
              </a:rPr>
              <a:t>100x Less Power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EC28-E8A3-4DF6-BA92-CE0C8DEC27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4720" y="812880"/>
            <a:ext cx="5941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Noise Lock Loop (NLL) Circuit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38640" y="1332000"/>
            <a:ext cx="4788000" cy="2544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5760" y="3871800"/>
            <a:ext cx="8594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Noise Lock Loop</a:t>
            </a: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Tx: Generate arbitrary wideband wavefor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Rx: Amplify a family of wide-band waveforms, while rejecting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Applications in UWB, Radar, and GPS</a:t>
            </a:r>
            <a:br>
              <a:rPr sz="2000"/>
            </a:b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Synchronization of Pseudo-Random Signals by Forward-Only Message Passing with Application to Electronic Circuits.  </a:t>
            </a:r>
            <a:r>
              <a:rPr b="1" i="1" lang="en-US" sz="1800" spc="-1" strike="noStrike">
                <a:solidFill>
                  <a:srgbClr val="424242"/>
                </a:solidFill>
                <a:latin typeface="Arial"/>
              </a:rPr>
              <a:t>IEEE Transactions on Information Theory, August 2006</a:t>
            </a:r>
            <a:r>
              <a:rPr b="0" i="1" lang="en-US" sz="1800" spc="-1" strike="noStrike">
                <a:solidFill>
                  <a:srgbClr val="424242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  Vigoda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85840" y="2382840"/>
            <a:ext cx="4290840" cy="1403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174680" y="1400040"/>
            <a:ext cx="2386080" cy="11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8B0B-A090-41E7-8B5C-8C369C4A32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7800" y="10922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Comparison of Noise Lock Loops Built Using</a:t>
            </a:r>
            <a:br>
              <a:rPr sz="2400"/>
            </a:b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 Analog Logic vs. Digital ASIC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492200" y="2516040"/>
          <a:ext cx="5459400" cy="2532240"/>
        </p:xfrm>
        <a:graphic>
          <a:graphicData uri="http://schemas.openxmlformats.org/drawingml/2006/table">
            <a:tbl>
              <a:tblPr/>
              <a:tblGrid>
                <a:gridCol w="1819440"/>
                <a:gridCol w="1579320"/>
                <a:gridCol w="2060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Analog 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Dig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200u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20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Number of 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ana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digital 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FCFD-E7A5-480C-84E0-092B9E0D04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49120" y="1539720"/>
            <a:ext cx="8541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Baseband Algorithms Implemented in “Analog” Hardware</a:t>
            </a:r>
            <a:r>
              <a:rPr b="0" i="1" lang="en-US" sz="2400" spc="-1" strike="noStrike">
                <a:solidFill>
                  <a:srgbClr val="42424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LDPC / Turbo 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MIMO Estimation and 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FFT / Spectral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Demodulation / Channel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Filtering / Interpolation /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Eliminate Analog-to-Digital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Exponential Power/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Comparison to Baseband Digital 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10x Less Silicon Area /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4242"/>
                </a:solidFill>
                <a:latin typeface="Arial"/>
              </a:rPr>
              <a:t>10x Less Power + Savings From Eliminating A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8840" y="844200"/>
            <a:ext cx="85582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Analog Logic Replaces Baseband DSP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9998-1916-45A4-8F0C-3D15ECED29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680" y="933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Analog Logic Low-Power, Low-Latency</a:t>
            </a:r>
            <a:br>
              <a:rPr sz="2400"/>
            </a:b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Low Density Parity Check (LDPC) Decoder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39560" y="2076480"/>
            <a:ext cx="4710240" cy="3384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21240" y="2176560"/>
            <a:ext cx="338796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424242"/>
                </a:solidFill>
                <a:latin typeface="Arial"/>
                <a:ea typeface="Times New Roman"/>
              </a:rPr>
              <a:t>Just 3 man-months to produce analog circuit with 30,000 analog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424242"/>
                </a:solidFill>
                <a:latin typeface="Arial"/>
                <a:ea typeface="Times New Roman"/>
              </a:rPr>
              <a:t>Designed for WiFi/WiM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424242"/>
                </a:solidFill>
                <a:latin typeface="Arial"/>
                <a:ea typeface="Times New Roman"/>
              </a:rPr>
              <a:t>No ADC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CCB6-D5B6-4FC4-A937-7A90983E5C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Ubiquitous Networked Computation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6600" y="1501920"/>
            <a:ext cx="6589440" cy="47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35CD-210E-49E6-8EDD-4562EBAC0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12600" y="82368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Comparison of LDPC Decoders We Are Building Using</a:t>
            </a:r>
            <a:br>
              <a:rPr sz="2400"/>
            </a:br>
            <a:r>
              <a:rPr b="0" i="1" lang="en-US" sz="2400" spc="-1" strike="noStrike">
                <a:solidFill>
                  <a:srgbClr val="424242"/>
                </a:solidFill>
                <a:latin typeface="Arial Black"/>
              </a:rPr>
              <a:t> Analog Logic vs. Digital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92200" y="1868400"/>
          <a:ext cx="5459400" cy="4162680"/>
        </p:xfrm>
        <a:graphic>
          <a:graphicData uri="http://schemas.openxmlformats.org/drawingml/2006/table">
            <a:tbl>
              <a:tblPr/>
              <a:tblGrid>
                <a:gridCol w="1819440"/>
                <a:gridCol w="1579320"/>
                <a:gridCol w="2060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Analog 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Dig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75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~750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mm</a:t>
                      </a:r>
                      <a:r>
                        <a:rPr b="0" lang="en-US" sz="1800" spc="-1" strike="noStrike" baseline="30000">
                          <a:solidFill>
                            <a:srgbClr val="42424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mm</a:t>
                      </a:r>
                      <a:r>
                        <a:rPr b="0" lang="en-US" sz="1800" spc="-1" strike="noStrike" baseline="30000">
                          <a:solidFill>
                            <a:srgbClr val="42424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Desig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3 person-months to  sche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3 person-months to V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Number of 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30,000 ana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Several millions digital transis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40B6-FDD6-4043-985B-368EF091A7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7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“</a:t>
            </a: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Adiabatic” Radio Receiver Using Analog Logic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8200" y="1154160"/>
            <a:ext cx="6634080" cy="525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1747-1302-41A9-8CF7-235D22566E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7729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Partners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38" name="" descr="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17520" y="4346640"/>
            <a:ext cx="1654200" cy="619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92320" y="1444680"/>
            <a:ext cx="66261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  <a:ea typeface="Times New Roman"/>
              </a:rPr>
              <a:t>Advanced Technology Office (A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  <a:ea typeface="Times New Roman"/>
              </a:rPr>
              <a:t>Analog Logic Seedling (BAA 04-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4520" y="1465200"/>
            <a:ext cx="1411200" cy="750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19200" y="2571840"/>
            <a:ext cx="41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360" tIns="0" bIns="0" anchor="t">
            <a:no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  <a:ea typeface="Times New Roman"/>
              </a:rPr>
              <a:t>OpenChoice Program</a:t>
            </a:r>
            <a:br>
              <a:rPr sz="2000"/>
            </a:br>
            <a:br>
              <a:rPr sz="3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9080" y="2543040"/>
            <a:ext cx="1957320" cy="466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360360" y="3287880"/>
            <a:ext cx="1174680" cy="68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824120" y="3299400"/>
            <a:ext cx="663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MIT Analog and Biological System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Professor Rahul Sarpeshk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3840" y="43009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MIT Media Lab, Center for Bits and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Professor Neil Gershenfeld,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0B2A-6EC3-4C4D-979C-924C16B1B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960" y="634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11448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 Example: Marginalization on Tree</a:t>
            </a:r>
            <a:br>
              <a:rPr sz="2000"/>
            </a:b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(message passing metaphor)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40360" y="1359000"/>
            <a:ext cx="2075040" cy="43434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6172200" cy="65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80880" y="2054160"/>
            <a:ext cx="4800600" cy="460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57200" y="3565440"/>
            <a:ext cx="6019920" cy="320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46840" y="1371600"/>
            <a:ext cx="2063880" cy="431640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7840" y="776160"/>
            <a:ext cx="8215560" cy="41112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Design Tool Assisted Optimization of Circuits Is Essential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84320" y="1652760"/>
            <a:ext cx="87865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8160" tIns="0" bIns="0" anchor="t">
            <a:noAutofit/>
          </a:bodyPr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Digital design would be impossible without software to help automatically optimize the design and layout of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20760">
              <a:lnSpc>
                <a:spcPct val="100000"/>
              </a:lnSpc>
              <a:spcBef>
                <a:spcPts val="499"/>
              </a:spcBef>
              <a:buClr>
                <a:srgbClr val="424242"/>
              </a:buClr>
              <a:buFont typeface="Times"/>
              <a:buChar char="•"/>
              <a:tabLst>
                <a:tab algn="l" pos="35712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To make optimization of analog circuits tractable,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use small library of modular primitives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1040" y="8222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The Problem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9520" y="1366920"/>
            <a:ext cx="690084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A97D-A4E1-4D37-88F5-4F9D1DE272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360" y="723960"/>
            <a:ext cx="8661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Our Solution: Analog Logic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5760" y="1744200"/>
            <a:ext cx="861048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Arial"/>
              </a:rPr>
              <a:t>Combine Efficiency of Analog Device Physics</a:t>
            </a:r>
            <a:r>
              <a:rPr b="0" lang="en-US" sz="2400" spc="-1" strike="noStrike">
                <a:solidFill>
                  <a:srgbClr val="42424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&gt;10x Less Power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10x Less Area / Cost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Unlike Digital, Can Operate in SiGe or GaA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Arial"/>
              </a:rPr>
              <a:t>With Scalability of Digital Signal Processing</a:t>
            </a:r>
            <a:endParaRPr b="0" lang="en-US" sz="24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Modular, Hierarchical for Automated Design Synthesi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Invariant to Fabrication Proces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Currently Designing Analog Logic IC’s with Computational Complexity Equivalent to Millions of Digital Device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"/>
              </a:rPr>
              <a:t>Programmable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7595-7B4E-4583-BB69-31BBE9B26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Analog Logic for Wireless Communications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760" y="2346480"/>
            <a:ext cx="861048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4242"/>
                </a:solidFill>
                <a:latin typeface="Arial"/>
              </a:rPr>
              <a:t>Complex Signal Processing Algorithms in “Analog” Electronic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Replace Baseband DSP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Augment RF Capabilities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242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24242"/>
                </a:solidFill>
                <a:latin typeface="Arial"/>
              </a:rPr>
              <a:t>Smooth “Adiabatic” Conversion from Uncertainty to Certainty</a:t>
            </a:r>
            <a:endParaRPr b="0" lang="en-US" sz="2000" spc="-1" strike="noStrike">
              <a:solidFill>
                <a:srgbClr val="4242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51C3-A99B-451A-8C67-3C77D573F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8440" y="696600"/>
            <a:ext cx="8153640" cy="114948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24242"/>
                </a:solidFill>
                <a:latin typeface="Arial Black"/>
              </a:rPr>
              <a:t>Belief Propagation on Factor Graphs includes a very wide range of signal processing and machine learning algorithms</a:t>
            </a:r>
            <a:endParaRPr b="0" lang="en-US" sz="1900" spc="-1" strike="noStrike">
              <a:solidFill>
                <a:srgbClr val="424242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08520" y="3790800"/>
            <a:ext cx="3249360" cy="238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81400" y="1565280"/>
            <a:ext cx="3081240" cy="23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20880" y="163980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85920" y="4748040"/>
            <a:ext cx="2411280" cy="13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30200" y="4322880"/>
            <a:ext cx="2527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ltering and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42"/>
                </a:solidFill>
                <a:latin typeface="Arial Black"/>
              </a:rPr>
              <a:t>From Logic Gates to Analog Logic Gates</a:t>
            </a:r>
            <a:endParaRPr b="0" lang="en-US" sz="2400" spc="-1" strike="noStrike">
              <a:solidFill>
                <a:srgbClr val="424242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55720" y="1928880"/>
          <a:ext cx="1523880" cy="1312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415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16440" y="1700280"/>
            <a:ext cx="24508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1840" y="3500280"/>
            <a:ext cx="2225880" cy="2679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15480" y="3979800"/>
            <a:ext cx="425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a z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80% chance of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tw, p(0) + p(1) 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8BDF-41FE-45D2-9771-7EDE3B782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5410080"/>
            <a:ext cx="2031840" cy="838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2158920"/>
            <a:ext cx="2184480" cy="660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8120" y="348840"/>
            <a:ext cx="7772400" cy="1174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42"/>
                </a:solidFill>
                <a:latin typeface="Arial Black"/>
              </a:rPr>
              <a:t>Factor Graph Example: probability inverter</a:t>
            </a:r>
            <a:endParaRPr b="0" lang="en-US" sz="2000" spc="-1" strike="noStrike">
              <a:solidFill>
                <a:srgbClr val="424242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3019320"/>
          <a:ext cx="1523880" cy="1312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415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2424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3200400" cy="4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182880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84280" y="4826160"/>
            <a:ext cx="45972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0840" y="1187280"/>
            <a:ext cx="4647960" cy="518184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x-inv-y-factor-graph" descr=""/>
          <p:cNvPicPr/>
          <p:nvPr/>
        </p:nvPicPr>
        <p:blipFill>
          <a:blip r:embed="rId6"/>
          <a:stretch/>
        </p:blipFill>
        <p:spPr>
          <a:xfrm>
            <a:off x="5257800" y="1523880"/>
            <a:ext cx="3429000" cy="13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26:23Z</dcterms:created>
  <dc:creator/>
  <dc:description/>
  <dc:language>en-US</dc:language>
  <cp:lastModifiedBy>Benjamin Vigoda</cp:lastModifiedBy>
  <cp:lastPrinted>2003-05-12T18:07:40Z</cp:lastPrinted>
  <dcterms:modified xsi:type="dcterms:W3CDTF">2006-05-10T12:45:52Z</dcterms:modified>
  <cp:revision>990</cp:revision>
  <dc:subject/>
  <dc:title>MASTER SLIDES</dc:title>
</cp:coreProperties>
</file>