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CD9-4958-4F03-9720-DD67C62B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450-2D49-4C67-9995-D3AE50B9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04F-44CE-414A-977F-B146AF99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277-045E-4A43-906F-AB7F3EAA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9AA-2890-41AE-B359-8539ED4D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689-CAD5-4EE0-BB13-100E6CA0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656-7327-4F81-AECE-7D98034F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967-9C95-4C64-9982-3FD9D8E1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011-7010-469B-9541-87EAF028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3B8-BB2C-4C9F-A568-25BE452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639-441D-4B9A-8563-A0643A5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995-E6F9-4D86-80D7-10D300B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348B-BCD7-4C0A-A840-EC3E7DDCD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0" y="2895480"/>
            <a:ext cx="160020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666880"/>
            <a:ext cx="160020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52280" y="1294920"/>
            <a:ext cx="609840" cy="12193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295280"/>
            <a:ext cx="160020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52280" y="2514600"/>
            <a:ext cx="609840" cy="1295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tpr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152280" y="3809880"/>
            <a:ext cx="609840" cy="1447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895480"/>
            <a:ext cx="160020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 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5105160" y="1295280"/>
            <a:ext cx="533160" cy="19051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d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2971800" y="3123720"/>
            <a:ext cx="533520" cy="21337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2971800" y="1295280"/>
            <a:ext cx="533520" cy="18288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1295280"/>
            <a:ext cx="160020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ntion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5105160" y="3200040"/>
            <a:ext cx="533160" cy="1981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b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6324480" y="1295280"/>
            <a:ext cx="533520" cy="19814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6324480" y="3276360"/>
            <a:ext cx="533520" cy="1981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8458200" y="1295280"/>
            <a:ext cx="533520" cy="19814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8458200" y="3276360"/>
            <a:ext cx="533520" cy="1981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1295280"/>
            <a:ext cx="160020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 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800600"/>
            <a:ext cx="160020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2:41:20Z</dcterms:created>
  <dc:creator> </dc:creator>
  <dc:description/>
  <dc:language>en-US</dc:language>
  <cp:lastModifiedBy> </cp:lastModifiedBy>
  <dcterms:modified xsi:type="dcterms:W3CDTF">2006-06-29T09:31:54Z</dcterms:modified>
  <cp:revision>17</cp:revision>
  <dc:subject/>
  <dc:title>Slide 1</dc:title>
</cp:coreProperties>
</file>