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346500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872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636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872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636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0956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340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20720" y="346500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340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872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7636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2072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872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7636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956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2d5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1" marL="743040" indent="-2858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3" marL="1600200" indent="-2286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4" marL="2057400" indent="-2286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5" marL="2057400" indent="-228600">
              <a:lnSpc>
                <a:spcPts val="2200"/>
              </a:lnSpc>
              <a:spcBef>
                <a:spcPts val="550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  <a:p>
            <a:pPr lvl="6" marL="2057400" indent="-228600">
              <a:lnSpc>
                <a:spcPts val="2200"/>
              </a:lnSpc>
              <a:spcBef>
                <a:spcPts val="550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36264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Page </a:t>
            </a:r>
            <a:fld id="{64BA4B4C-D4A9-4B6B-BBE1-19F7F57333FD}" type="slidenum">
              <a:rPr b="0" lang="en-US" sz="1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31488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12d50"/>
                </a:solidFill>
                <a:latin typeface="Times New Roman"/>
                <a:ea typeface="ヒラギノ角ゴ Pro W3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2d50"/>
                </a:solidFill>
                <a:latin typeface="Times New Roman"/>
                <a:ea typeface="ヒラギノ角ゴ Pro W3"/>
              </a:rPr>
              <a:t>© CSIR  2006                        www.csir.co.z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70640" y="5743440"/>
            <a:ext cx="1773360" cy="111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8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ts val="1899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ts val="1899"/>
              </a:lnSpc>
              <a:spcBef>
                <a:spcPts val="176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blab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nner Client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33320" y="2438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ter A. Bossch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9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ne 200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12d50"/>
                </a:solidFill>
                <a:uFillTx/>
                <a:latin typeface="Arial"/>
              </a:rPr>
              <a:t>Current Status</a:t>
            </a:r>
            <a:br>
              <a:rPr sz="3000"/>
            </a:br>
            <a:r>
              <a:rPr b="0" lang="en-US" sz="2400" spc="-1" strike="noStrike">
                <a:solidFill>
                  <a:srgbClr val="012d50"/>
                </a:solidFill>
                <a:latin typeface="Arial"/>
              </a:rPr>
              <a:t>Demo Idea</a:t>
            </a:r>
            <a:endParaRPr b="0" lang="en-US" sz="24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ts val="1899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71640" y="1341360"/>
          <a:ext cx="65530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341360"/>
                    <a:ext cx="65530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12d50"/>
                </a:solidFill>
                <a:uFillTx/>
                <a:latin typeface="Arial"/>
              </a:rPr>
              <a:t>Current Status</a:t>
            </a:r>
            <a:br>
              <a:rPr sz="3000"/>
            </a:br>
            <a:r>
              <a:rPr b="0" lang="en-US" sz="2400" spc="-1" strike="noStrike">
                <a:solidFill>
                  <a:srgbClr val="012d5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1484280"/>
            <a:ext cx="637236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Hardware is flexible, does not have to be TV, could be small LCD’s.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Hardware is low cost, +/-20 USD for working implementation.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Businesses might grow from this; 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twork maintenance 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erminal manufacture and customisation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12d50"/>
                </a:solidFill>
                <a:uFillTx/>
                <a:latin typeface="Arial"/>
              </a:rPr>
              <a:t>Future Ideas</a:t>
            </a:r>
            <a:br>
              <a:rPr sz="3000"/>
            </a:b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484280"/>
            <a:ext cx="637236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Keyboard to be done using Fablab technology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Add I0 Radio link, work out bandwidth requirements.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Use Wavelet encoding for true graphic interface.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Pointing Device from Fablab technology. 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ilt Sensor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12d50"/>
                </a:solidFill>
                <a:uFillTx/>
                <a:latin typeface="Arial"/>
              </a:rPr>
              <a:t>Agenda</a:t>
            </a:r>
            <a:endParaRPr b="0" lang="en-US" sz="30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68360" y="1628280"/>
            <a:ext cx="539928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70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5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12d50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5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70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50"/>
                </a:solidFill>
                <a:latin typeface="Arial"/>
              </a:rPr>
              <a:t>Current Status</a:t>
            </a:r>
            <a:endParaRPr b="0" lang="en-US" sz="2800" spc="-1" strike="noStrike">
              <a:solidFill>
                <a:srgbClr val="012d50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d5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70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2d50"/>
                </a:solidFill>
                <a:latin typeface="Arial"/>
              </a:rPr>
              <a:t>Future Ideas</a:t>
            </a:r>
            <a:endParaRPr b="0" lang="en-US" sz="2800" spc="-1" strike="noStrike">
              <a:solidFill>
                <a:srgbClr val="012d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12d50"/>
                </a:solidFill>
                <a:uFillTx/>
                <a:latin typeface="Arial"/>
              </a:rPr>
              <a:t>Background</a:t>
            </a:r>
            <a:br>
              <a:rPr sz="3000"/>
            </a:br>
            <a:r>
              <a:rPr b="0" lang="en-US" sz="2400" spc="-1" strike="noStrike">
                <a:solidFill>
                  <a:srgbClr val="012d50"/>
                </a:solidFill>
                <a:latin typeface="Arial"/>
              </a:rPr>
              <a:t>The Idea</a:t>
            </a:r>
            <a:br>
              <a:rPr sz="2400"/>
            </a:br>
            <a:endParaRPr b="0" lang="en-US" sz="24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Bringing computing / messaging to community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One Model: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ablab has Internet access and real computing power.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mmunity around the Fablab benefits by networked connections to the Lab, using Fablab technology to build their computing &amp; networking needs.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In ICT world this is known as Thin Clients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12d50"/>
                </a:solidFill>
                <a:uFillTx/>
                <a:latin typeface="Arial"/>
              </a:rPr>
              <a:t>Background</a:t>
            </a:r>
            <a:br>
              <a:rPr sz="3000"/>
            </a:br>
            <a:r>
              <a:rPr b="0" lang="en-US" sz="2400" spc="-1" strike="noStrike">
                <a:solidFill>
                  <a:srgbClr val="012d5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What are the needs: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essaging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ocument creation &amp; printing (CV)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rowsing (Data Access)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What is available already in terms of input, output and communication devices.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bile Phones 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2" marL="1143000" indent="-22860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blem: Diverse models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V as a display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12d50"/>
                </a:solidFill>
                <a:uFillTx/>
                <a:latin typeface="Arial"/>
              </a:rPr>
              <a:t>Current Status</a:t>
            </a:r>
            <a:br>
              <a:rPr sz="3000"/>
            </a:br>
            <a:r>
              <a:rPr b="0" lang="en-US" sz="2400" spc="-1" strike="noStrike">
                <a:solidFill>
                  <a:srgbClr val="012d5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ts val="1899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00000" y="1125360"/>
          <a:ext cx="6913800" cy="50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25360"/>
                    <a:ext cx="691380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12d50"/>
                </a:solidFill>
                <a:uFillTx/>
                <a:latin typeface="Arial"/>
              </a:rPr>
              <a:t>Current Status</a:t>
            </a:r>
            <a:br>
              <a:rPr sz="3000"/>
            </a:br>
            <a:r>
              <a:rPr b="0" lang="en-US" sz="2400" spc="-1" strike="noStrike">
                <a:solidFill>
                  <a:srgbClr val="012d50"/>
                </a:solidFill>
                <a:latin typeface="Arial"/>
              </a:rPr>
              <a:t>VNC</a:t>
            </a:r>
            <a:endParaRPr b="0" lang="en-US" sz="24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ts val="1899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484280"/>
            <a:ext cx="637236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Open protocol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298440" indent="-29844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298440" indent="-2984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Server has screen content and performs all computing.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298440" indent="-29844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298440" indent="-2984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Client requests screen updates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298440" indent="-29844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298440" indent="-2984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Connection is state-less. (Travel around the world to another computer, pick up where you left off.)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298440" indent="-2984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298440" indent="-2984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Experiments: SLIP interface 115KBaud 320x240 is workable.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298440" indent="-29844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12d50"/>
                </a:solidFill>
                <a:uFillTx/>
                <a:latin typeface="Arial"/>
              </a:rPr>
              <a:t>Current Status</a:t>
            </a:r>
            <a:br>
              <a:rPr sz="3000"/>
            </a:br>
            <a:r>
              <a:rPr b="0" lang="en-US" sz="2400" spc="-1" strike="noStrike">
                <a:solidFill>
                  <a:srgbClr val="012d50"/>
                </a:solidFill>
                <a:latin typeface="Arial"/>
              </a:rPr>
              <a:t>First Iteration</a:t>
            </a:r>
            <a:endParaRPr b="0" lang="en-US" sz="24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ts val="1899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372360" y="476280"/>
            <a:ext cx="1790640" cy="1533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36720" y="1765440"/>
            <a:ext cx="478764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VNC is do-able but might not fully meet our needs.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288000" indent="-28800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288000" indent="-2880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Text based computing for a first iteration. (Less bandwidth)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288000" indent="-288000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288000" indent="-2880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Decided on VT-100 Terminal,  serial interface.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288000" indent="-2880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288000" indent="-2880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Possible applications: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lvl="1" marL="623880" indent="-2397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ext Based Browsing (Lynx)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623880" indent="-2397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ext Based E-Mail (Mutt)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623880" indent="-23976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ocument editing (Nano, VI)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marL="288000" indent="-2880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288000" indent="-28800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12d50"/>
                </a:solidFill>
                <a:uFillTx/>
                <a:latin typeface="Arial"/>
              </a:rPr>
              <a:t>Current Status</a:t>
            </a:r>
            <a:br>
              <a:rPr sz="3000"/>
            </a:br>
            <a:r>
              <a:rPr b="0" lang="en-US" sz="2400" spc="-1" strike="noStrike">
                <a:solidFill>
                  <a:srgbClr val="012d50"/>
                </a:solidFill>
                <a:latin typeface="Arial"/>
              </a:rPr>
              <a:t>Video Part</a:t>
            </a:r>
            <a:endParaRPr b="0" lang="en-US" sz="24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ts val="1899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535560" cy="3666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36720" y="1765440"/>
            <a:ext cx="385128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Revision 1: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ega16 (IO) + SRAM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AL Output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pable of 320 * 240 Grey Scale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rial Interface, 230KBaud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marL="308520" indent="-3085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Revision 2: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haracter Generator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T-100 Emulation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rial Interface now 9600Baud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de Size: +/- 4KByte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lvl="1" marL="668520" indent="-257040">
              <a:lnSpc>
                <a:spcPts val="1899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 marL="308520" indent="-3085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Cost: +/- 5 USD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08520" indent="-30852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12d50"/>
                </a:solidFill>
                <a:uFillTx/>
                <a:latin typeface="Arial"/>
              </a:rPr>
              <a:t>Current Status</a:t>
            </a:r>
            <a:br>
              <a:rPr sz="3000"/>
            </a:br>
            <a:r>
              <a:rPr b="0" lang="en-US" sz="2400" spc="-1" strike="noStrike">
                <a:solidFill>
                  <a:srgbClr val="012d50"/>
                </a:solidFill>
                <a:latin typeface="Arial"/>
              </a:rPr>
              <a:t>Keyboard</a:t>
            </a:r>
            <a:endParaRPr b="0" lang="en-US" sz="2400" spc="-1" strike="noStrike">
              <a:solidFill>
                <a:srgbClr val="012d5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ts val="1899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2852640"/>
            <a:ext cx="385128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Interfaces to standard PC-Keyboard (US)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550"/>
              </a:spcBef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2d50"/>
                </a:solidFill>
                <a:latin typeface="Arial"/>
                <a:ea typeface="ヒラギノ角ゴ Pro W3"/>
              </a:rPr>
              <a:t>Serial Output</a:t>
            </a:r>
            <a:endParaRPr b="0" lang="en-US" sz="2200" spc="-1" strike="noStrike">
              <a:solidFill>
                <a:srgbClr val="afafa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48000" y="836640"/>
            <a:ext cx="52070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8:11:18Z</dcterms:created>
  <dc:creator>User @</dc:creator>
  <dc:description/>
  <dc:language>en-US</dc:language>
  <cp:lastModifiedBy>Neil Gershenfeld</cp:lastModifiedBy>
  <dcterms:modified xsi:type="dcterms:W3CDTF">2006-06-29T17:01:57Z</dcterms:modified>
  <cp:revision>40</cp:revision>
  <dc:subject/>
  <dc:title>Electronics: Motors, Drivers, Encoders</dc:title>
</cp:coreProperties>
</file>