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6.wmf" ContentType="image/x-wmf"/>
  <Override PartName="/ppt/media/image15.jpeg" ContentType="image/jpeg"/>
  <Override PartName="/ppt/media/image25.wmf" ContentType="image/x-wmf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9.wmf" ContentType="image/x-wmf"/>
  <Override PartName="/ppt/media/image41.png" ContentType="image/png"/>
  <Override PartName="/ppt/media/image42.png" ContentType="image/png"/>
  <Override PartName="/ppt/media/image36.wmf" ContentType="image/x-wmf"/>
  <Override PartName="/ppt/media/image37.png" ContentType="image/png"/>
  <Override PartName="/ppt/media/image33.png" ContentType="image/png"/>
  <Override PartName="/ppt/media/image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12.jpeg" ContentType="image/jpeg"/>
  <Override PartName="/ppt/media/image48.png" ContentType="image/png"/>
  <Override PartName="/ppt/media/image9.jpeg" ContentType="image/jpeg"/>
  <Override PartName="/ppt/media/image7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6.png" ContentType="image/png"/>
  <Override PartName="/ppt/media/image40.png" ContentType="image/png"/>
  <Override PartName="/ppt/media/image38.wmf" ContentType="image/x-wmf"/>
  <Override PartName="/ppt/media/image4.jpeg" ContentType="image/jpeg"/>
  <Override PartName="/ppt/media/image1.jpeg" ContentType="image/jpe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1C5-3C37-44C2-877E-33DB77E9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888-A457-4BF3-9F23-8351A5EA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F33-AF75-4D71-949C-C058A88F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10D-C318-4965-B3EE-658393D8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E10-B5F0-4684-8EC2-F3903C9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EAA-BCCA-44CE-8609-3293B424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8A-845C-4CCA-9A8F-F4D76ED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3B3-0BEE-4048-B540-D161E7B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486-DA53-4256-A60C-957CEFCD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C57-AE5C-4F85-B788-AB2359B0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B3E-F489-44F9-8382-96C94B4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3F8-43CF-41EC-B72B-B140E5C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6376-1068-40E8-84CA-5EC74614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jpeg"/><Relationship Id="rId6" Type="http://schemas.openxmlformats.org/officeDocument/2006/relationships/hyperlink" Target="http://cba.mit.edu/media/logos/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1.jpeg"/><Relationship Id="rId5" Type="http://schemas.openxmlformats.org/officeDocument/2006/relationships/hyperlink" Target="http://cba.mit.edu/media/logos/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sciam.com/subscribe.cfm?lsource=toc_current" TargetMode="External"/><Relationship Id="rId5" Type="http://schemas.openxmlformats.org/officeDocument/2006/relationships/image" Target="../media/image4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988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ymposium on Digital Fabr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retoria,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June 29,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"/>
            <a:ext cx="91440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vogadro Scale Engineering &amp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olecular Fabrication (Jacobson) Group jacobson@media.mit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11480" y="2059560"/>
            <a:ext cx="2353680" cy="1523880"/>
            <a:chOff x="2211480" y="2059560"/>
            <a:chExt cx="2353680" cy="1523880"/>
          </a:xfrm>
        </p:grpSpPr>
        <p:sp>
          <p:nvSpPr>
            <p:cNvPr id="45" name=""/>
            <p:cNvSpPr/>
            <p:nvPr/>
          </p:nvSpPr>
          <p:spPr>
            <a:xfrm>
              <a:off x="2699640" y="2819160"/>
              <a:ext cx="64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49800" y="281916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22760" y="2819160"/>
              <a:ext cx="52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11480" y="2971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3048120" y="23169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L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81760" y="2971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105520" y="1905120"/>
            <a:ext cx="1900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38080" y="292104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502920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9360" y="292104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9720" y="51307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2*A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09480" y="2235240"/>
          <a:ext cx="8001000" cy="4089240"/>
        </p:xfrm>
        <a:graphic>
          <a:graphicData uri="http://schemas.openxmlformats.org/drawingml/2006/table">
            <a:tbl>
              <a:tblPr/>
              <a:tblGrid>
                <a:gridCol w="1752840"/>
                <a:gridCol w="1981080"/>
                <a:gridCol w="426708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76320" y="1676520"/>
            <a:ext cx="89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correct functionality = p[A]  ~ e A (small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aling Properties of Redundant Logic (to first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24400" y="2895480"/>
            <a:ext cx="22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p[A] = 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57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252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30800" y="7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974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49560" y="590400"/>
            <a:ext cx="1544760" cy="844560"/>
          </a:xfrm>
          <a:custGeom>
            <a:avLst/>
            <a:gdLst/>
            <a:ahLst/>
            <a:rect l="l" t="t" r="r" b="b"/>
            <a:pathLst>
              <a:path w="973" h="532">
                <a:moveTo>
                  <a:pt x="0" y="532"/>
                </a:moveTo>
                <a:cubicBezTo>
                  <a:pt x="23" y="529"/>
                  <a:pt x="46" y="527"/>
                  <a:pt x="69" y="522"/>
                </a:cubicBezTo>
                <a:cubicBezTo>
                  <a:pt x="90" y="517"/>
                  <a:pt x="129" y="502"/>
                  <a:pt x="129" y="502"/>
                </a:cubicBezTo>
                <a:cubicBezTo>
                  <a:pt x="160" y="471"/>
                  <a:pt x="200" y="448"/>
                  <a:pt x="228" y="413"/>
                </a:cubicBezTo>
                <a:cubicBezTo>
                  <a:pt x="243" y="394"/>
                  <a:pt x="255" y="373"/>
                  <a:pt x="268" y="353"/>
                </a:cubicBezTo>
                <a:cubicBezTo>
                  <a:pt x="275" y="343"/>
                  <a:pt x="288" y="323"/>
                  <a:pt x="288" y="323"/>
                </a:cubicBezTo>
                <a:cubicBezTo>
                  <a:pt x="311" y="233"/>
                  <a:pt x="286" y="259"/>
                  <a:pt x="337" y="224"/>
                </a:cubicBezTo>
                <a:cubicBezTo>
                  <a:pt x="388" y="121"/>
                  <a:pt x="324" y="227"/>
                  <a:pt x="387" y="174"/>
                </a:cubicBezTo>
                <a:cubicBezTo>
                  <a:pt x="421" y="146"/>
                  <a:pt x="434" y="106"/>
                  <a:pt x="476" y="85"/>
                </a:cubicBezTo>
                <a:cubicBezTo>
                  <a:pt x="643" y="0"/>
                  <a:pt x="782" y="5"/>
                  <a:pt x="973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4560" y="4267080"/>
            <a:ext cx="4144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p[A/2](1-p[A/2])+p[A/2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A –(eA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11680" y="6400800"/>
            <a:ext cx="289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lusion: 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&gt; 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38080" y="990720"/>
            <a:ext cx="12956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63040" y="99072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 = n*(A/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320" y="1828800"/>
            <a:ext cx="89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correct functionality = p[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aling Properties of Majority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609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1600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21720" y="91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8840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40480" y="743040"/>
            <a:ext cx="1544760" cy="844560"/>
          </a:xfrm>
          <a:custGeom>
            <a:avLst/>
            <a:gdLst/>
            <a:ahLst/>
            <a:rect l="l" t="t" r="r" b="b"/>
            <a:pathLst>
              <a:path w="973" h="532">
                <a:moveTo>
                  <a:pt x="0" y="532"/>
                </a:moveTo>
                <a:cubicBezTo>
                  <a:pt x="23" y="529"/>
                  <a:pt x="46" y="527"/>
                  <a:pt x="69" y="522"/>
                </a:cubicBezTo>
                <a:cubicBezTo>
                  <a:pt x="90" y="517"/>
                  <a:pt x="129" y="502"/>
                  <a:pt x="129" y="502"/>
                </a:cubicBezTo>
                <a:cubicBezTo>
                  <a:pt x="160" y="471"/>
                  <a:pt x="200" y="448"/>
                  <a:pt x="228" y="413"/>
                </a:cubicBezTo>
                <a:cubicBezTo>
                  <a:pt x="243" y="394"/>
                  <a:pt x="255" y="373"/>
                  <a:pt x="268" y="353"/>
                </a:cubicBezTo>
                <a:cubicBezTo>
                  <a:pt x="275" y="343"/>
                  <a:pt x="288" y="323"/>
                  <a:pt x="288" y="323"/>
                </a:cubicBezTo>
                <a:cubicBezTo>
                  <a:pt x="311" y="233"/>
                  <a:pt x="286" y="259"/>
                  <a:pt x="337" y="224"/>
                </a:cubicBezTo>
                <a:cubicBezTo>
                  <a:pt x="388" y="121"/>
                  <a:pt x="324" y="227"/>
                  <a:pt x="387" y="174"/>
                </a:cubicBezTo>
                <a:cubicBezTo>
                  <a:pt x="421" y="146"/>
                  <a:pt x="434" y="106"/>
                  <a:pt x="476" y="85"/>
                </a:cubicBezTo>
                <a:cubicBezTo>
                  <a:pt x="643" y="0"/>
                  <a:pt x="782" y="5"/>
                  <a:pt x="973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668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1371240" y="22824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4280" y="4572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981080" y="2971800"/>
                <a:ext cx="5181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jority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295280" y="4267080"/>
                <a:ext cx="4114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[</m:t>
                            </m:r>
                            <m:r>
                              <m:t xml:space="preserve">0</m:t>
                            </m:r>
                            <m:r>
                              <m:t xml:space="preserve">]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5487840" y="47242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west Order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0" y="6019920"/>
            <a:ext cx="91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lusion: For most functions n = 1 is optimal.  Larger n is wo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43488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11320" y="2666880"/>
            <a:ext cx="73072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W)  /  [ a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M)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 [ a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133720" y="1219320"/>
          <a:ext cx="1095120" cy="12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109512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914400" y="4343400"/>
          <a:ext cx="757224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757224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588480" y="1143000"/>
            <a:ext cx="44226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Time*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38088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-7632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295280" y="1523880"/>
                <a:ext cx="658656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82440" y="762120"/>
            <a:ext cx="88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mplexity Accessible to a Fabrication Proces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step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of part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78440" y="510552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00760" y="57150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80920" y="571500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28520" y="510552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38720" y="510552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9080" y="510552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83480" y="57150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64360" y="571500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97880" y="57150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9120" y="571500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11560" y="571500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93160" y="571500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13640" y="579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94280" y="632448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74440" y="632448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67200" y="632448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65880" y="632448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46040" y="632448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9160" y="632448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4020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081160" y="5105520"/>
                <a:ext cx="43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081160" y="5562720"/>
                <a:ext cx="57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2057400" y="6134040"/>
                <a:ext cx="538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3179880" y="57150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24400" y="57150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0" y="2971800"/>
            <a:ext cx="4114800" cy="2063880"/>
            <a:chOff x="0" y="2971800"/>
            <a:chExt cx="4114800" cy="2063880"/>
          </a:xfrm>
        </p:grpSpPr>
        <p:pic>
          <p:nvPicPr>
            <p:cNvPr id="440" name="" descr=""/>
            <p:cNvPicPr/>
            <p:nvPr/>
          </p:nvPicPr>
          <p:blipFill>
            <a:blip r:embed="rId4"/>
            <a:stretch/>
          </p:blipFill>
          <p:spPr>
            <a:xfrm>
              <a:off x="1295280" y="2971800"/>
              <a:ext cx="2819520" cy="1731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0" y="3352680"/>
                  <a:ext cx="12193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2438280" y="4724280"/>
                  <a:ext cx="2826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5065560" y="2733840"/>
            <a:ext cx="3240360" cy="199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114800" y="3200400"/>
                <a:ext cx="91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629400" y="4724280"/>
                <a:ext cx="422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-7632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050640" y="4038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per uni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3409920" y="4572000"/>
                <a:ext cx="2705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1" name=""/>
          <p:cNvGrpSpPr/>
          <p:nvPr/>
        </p:nvGrpSpPr>
        <p:grpSpPr>
          <a:xfrm>
            <a:off x="2897280" y="1371600"/>
            <a:ext cx="3477960" cy="459720"/>
            <a:chOff x="2897280" y="1371600"/>
            <a:chExt cx="3477960" cy="459720"/>
          </a:xfrm>
        </p:grpSpPr>
        <p:sp>
          <p:nvSpPr>
            <p:cNvPr id="452" name=""/>
            <p:cNvSpPr/>
            <p:nvPr/>
          </p:nvSpPr>
          <p:spPr>
            <a:xfrm>
              <a:off x="2897280" y="1371600"/>
              <a:ext cx="38340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3920" y="1371600"/>
              <a:ext cx="418320" cy="45972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9000" y="1371600"/>
              <a:ext cx="36648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86720" y="1371600"/>
              <a:ext cx="400320" cy="4597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66520" y="1371600"/>
              <a:ext cx="418320" cy="45972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24800" y="1371600"/>
              <a:ext cx="400320" cy="4597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99200" y="1371600"/>
              <a:ext cx="38340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86560" y="1371600"/>
              <a:ext cx="38340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08760" y="1371600"/>
              <a:ext cx="36648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 rot="5400000">
            <a:off x="4419000" y="-609480"/>
            <a:ext cx="380880" cy="3429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48520" y="53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37640" y="2097000"/>
            <a:ext cx="51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al Complexity for n-me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756480" y="1967040"/>
                <a:ext cx="10922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1923480" y="263052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al Cost for n-me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113520" y="2514600"/>
                <a:ext cx="1404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838080" y="3962520"/>
            <a:ext cx="746784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029040" y="1409760"/>
                <a:ext cx="2705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0" y="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20" y="11430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Error Correc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74520" y="25909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y Error Correc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80880" y="3084480"/>
                <a:ext cx="5791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B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6850440" y="152388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16280" y="152388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773840" y="152388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161920" y="152388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83560" y="251460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49760" y="251460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07320" y="251460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95400" y="251460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9800" y="304812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25640" y="304812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783560" y="304812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171280" y="304812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9800" y="3581280"/>
            <a:ext cx="383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25640" y="3581280"/>
            <a:ext cx="41832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783560" y="3581280"/>
            <a:ext cx="366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71280" y="3581280"/>
            <a:ext cx="40032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2514600" cy="1990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281600" y="43830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31000" y="632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0" y="4648320"/>
                <a:ext cx="83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8079120" y="632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629400" y="4703760"/>
            <a:ext cx="2514600" cy="1544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935840" y="4343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429000" y="4403880"/>
            <a:ext cx="3124080" cy="192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6478560" y="4800600"/>
                <a:ext cx="83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1906920" y="632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6760" y="44197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843840" y="609588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rnl.gov/hgmis/publicat/microbial/image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638680" y="1127160"/>
            <a:ext cx="2367000" cy="28195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28600" y="1011240"/>
            <a:ext cx="4495680" cy="3240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914400" y="4098960"/>
            <a:ext cx="3505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ature Biotechnology 18, 85-90 (January 2000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62720" y="40226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ormed Services University of the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4480" y="0"/>
            <a:ext cx="510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Deinococcus radiodura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3.2 Mb,  4-10 Copies of Genom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4880" y="487692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. radiodur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 Million Rads (17kGy) – 200 DS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Thousand Rads – 2 or 3 DS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239240" cy="53247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448880" y="3102120"/>
            <a:ext cx="4249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. radiodur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.75 million rads, 24 h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60840" y="457200"/>
            <a:ext cx="40042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. radiodur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.75 million rads, 0 h</a:t>
            </a:r>
            <a:br>
              <a:rPr sz="37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18560" y="6461280"/>
            <a:ext cx="39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otos provided by David Schwartz (University of Wisconsin, Madison)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1219320" y="762120"/>
          <a:ext cx="7010280" cy="61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7010280" cy="61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0" y="-61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utonomous self replicating machine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andom building blo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1523880" y="0"/>
          <a:ext cx="6728040" cy="76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728040" cy="76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17600" y="1635120"/>
            <a:ext cx="591840" cy="563040"/>
            <a:chOff x="417600" y="1635120"/>
            <a:chExt cx="591840" cy="563040"/>
          </a:xfrm>
        </p:grpSpPr>
        <p:sp>
          <p:nvSpPr>
            <p:cNvPr id="55" name=""/>
            <p:cNvSpPr/>
            <p:nvPr/>
          </p:nvSpPr>
          <p:spPr>
            <a:xfrm>
              <a:off x="417600" y="191880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01840" y="1948680"/>
              <a:ext cx="162360" cy="25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1480" y="1834920"/>
              <a:ext cx="248760" cy="244080"/>
            </a:xfrm>
            <a:prstGeom prst="ellipse">
              <a:avLst/>
            </a:prstGeom>
            <a:gradFill rotWithShape="0">
              <a:gsLst>
                <a:gs pos="0">
                  <a:srgbClr val="b9b9ec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" y="1721160"/>
              <a:ext cx="0" cy="14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801720" y="1987200"/>
              <a:ext cx="141480" cy="777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55840" y="2010960"/>
              <a:ext cx="98640" cy="1209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7360" y="2075760"/>
              <a:ext cx="124560" cy="122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4880" y="2010240"/>
              <a:ext cx="124560" cy="121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3040" y="163512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3120" y="825480"/>
            <a:ext cx="1201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 molec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1n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6040" y="5721480"/>
            <a:ext cx="1922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PowerPC 75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6mm×8.799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5×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320" y="5256360"/>
            <a:ext cx="1411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icondu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85760" y="2900520"/>
            <a:ext cx="8628120" cy="672120"/>
            <a:chOff x="185760" y="2900520"/>
            <a:chExt cx="8628120" cy="672120"/>
          </a:xfrm>
        </p:grpSpPr>
        <p:grpSp>
          <p:nvGrpSpPr>
            <p:cNvPr id="68" name=""/>
            <p:cNvGrpSpPr/>
            <p:nvPr/>
          </p:nvGrpSpPr>
          <p:grpSpPr>
            <a:xfrm>
              <a:off x="363600" y="2900520"/>
              <a:ext cx="8450280" cy="245880"/>
              <a:chOff x="363600" y="2900520"/>
              <a:chExt cx="8450280" cy="245880"/>
            </a:xfrm>
          </p:grpSpPr>
          <p:sp>
            <p:nvSpPr>
              <p:cNvPr id="69" name=""/>
              <p:cNvSpPr/>
              <p:nvPr/>
            </p:nvSpPr>
            <p:spPr>
              <a:xfrm>
                <a:off x="363600" y="3023280"/>
                <a:ext cx="845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2120" rIns="132120" tIns="-65880" bIns="-65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63600" y="2900520"/>
                <a:ext cx="7801920" cy="245880"/>
                <a:chOff x="363600" y="2900520"/>
                <a:chExt cx="7801920" cy="245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636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3381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2878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2645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2390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2139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18884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655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130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185760" y="3164040"/>
              <a:ext cx="8272440" cy="408600"/>
              <a:chOff x="185760" y="3164040"/>
              <a:chExt cx="8272440" cy="408600"/>
            </a:xfrm>
          </p:grpSpPr>
          <p:sp>
            <p:nvSpPr>
              <p:cNvPr id="81" name=""/>
              <p:cNvSpPr/>
              <p:nvPr/>
            </p:nvSpPr>
            <p:spPr>
              <a:xfrm>
                <a:off x="185760" y="3164040"/>
                <a:ext cx="7092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9881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02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9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963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442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7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33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78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267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8253360" y="2602080"/>
            <a:ext cx="439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118800" tIns="59400" bIns="59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01680" y="5256360"/>
            <a:ext cx="1270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per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36440" y="527040"/>
            <a:ext cx="1233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(S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04960" y="816120"/>
            <a:ext cx="857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53480" y="2257560"/>
            <a:ext cx="806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160" y="2293920"/>
            <a:ext cx="0" cy="687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2030400"/>
            <a:ext cx="0" cy="950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454880" y="3057480"/>
            <a:ext cx="676440" cy="979200"/>
            <a:chOff x="7454880" y="3057480"/>
            <a:chExt cx="676440" cy="979200"/>
          </a:xfrm>
        </p:grpSpPr>
        <p:sp>
          <p:nvSpPr>
            <p:cNvPr id="98" name=""/>
            <p:cNvSpPr/>
            <p:nvPr/>
          </p:nvSpPr>
          <p:spPr>
            <a:xfrm flipV="1">
              <a:off x="7460640" y="3057480"/>
              <a:ext cx="0" cy="979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54880" y="4036680"/>
              <a:ext cx="676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rcRect l="0" t="0" r="5082" b="0"/>
          <a:stretch/>
        </p:blipFill>
        <p:spPr>
          <a:xfrm>
            <a:off x="3516480" y="649440"/>
            <a:ext cx="1698480" cy="14335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4751280" y="2346480"/>
            <a:ext cx="1101600" cy="634680"/>
            <a:chOff x="4751280" y="2346480"/>
            <a:chExt cx="1101600" cy="634680"/>
          </a:xfrm>
        </p:grpSpPr>
        <p:sp>
          <p:nvSpPr>
            <p:cNvPr id="102" name=""/>
            <p:cNvSpPr/>
            <p:nvPr/>
          </p:nvSpPr>
          <p:spPr>
            <a:xfrm>
              <a:off x="4766040" y="2346480"/>
              <a:ext cx="0" cy="63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751280" y="2356560"/>
              <a:ext cx="11016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622880" y="5637240"/>
            <a:ext cx="17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tube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kk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95320" y="2295360"/>
            <a:ext cx="952200" cy="685800"/>
            <a:chOff x="1795320" y="2295360"/>
            <a:chExt cx="952200" cy="685800"/>
          </a:xfrm>
        </p:grpSpPr>
        <p:sp>
          <p:nvSpPr>
            <p:cNvPr id="106" name=""/>
            <p:cNvSpPr/>
            <p:nvPr/>
          </p:nvSpPr>
          <p:spPr>
            <a:xfrm>
              <a:off x="1803600" y="229536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5320" y="2295360"/>
              <a:ext cx="952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658960" y="898560"/>
            <a:ext cx="704880" cy="18828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208160" y="3102480"/>
            <a:ext cx="674640" cy="978840"/>
            <a:chOff x="1208160" y="3102480"/>
            <a:chExt cx="674640" cy="978840"/>
          </a:xfrm>
        </p:grpSpPr>
        <p:sp>
          <p:nvSpPr>
            <p:cNvPr id="110" name=""/>
            <p:cNvSpPr/>
            <p:nvPr/>
          </p:nvSpPr>
          <p:spPr>
            <a:xfrm flipV="1">
              <a:off x="1877040" y="3102480"/>
              <a:ext cx="0" cy="9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08160" y="40813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17360" y="3716280"/>
            <a:ext cx="1389240" cy="1443240"/>
            <a:chOff x="117360" y="3716280"/>
            <a:chExt cx="1389240" cy="144324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rcRect l="9399" t="8175" r="9399" b="11321"/>
            <a:stretch/>
          </p:blipFill>
          <p:spPr>
            <a:xfrm>
              <a:off x="117360" y="3716280"/>
              <a:ext cx="1389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34520" y="3816000"/>
              <a:ext cx="78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2757600" y="3076200"/>
            <a:ext cx="0" cy="143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31563" t="0" r="30481" b="0"/>
          <a:stretch/>
        </p:blipFill>
        <p:spPr>
          <a:xfrm>
            <a:off x="7499520" y="3649680"/>
            <a:ext cx="1617480" cy="209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rcRect l="0" t="0" r="16303" b="7605"/>
          <a:stretch/>
        </p:blipFill>
        <p:spPr>
          <a:xfrm>
            <a:off x="5438880" y="1030320"/>
            <a:ext cx="1677960" cy="14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657440" y="1636560"/>
            <a:ext cx="912600" cy="885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4400"/>
            <a:ext cx="9144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plexity vs.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rcRect l="11949" t="0" r="22303" b="0"/>
          <a:stretch/>
        </p:blipFill>
        <p:spPr>
          <a:xfrm>
            <a:off x="4157640" y="3490920"/>
            <a:ext cx="1749600" cy="1290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40280" y="3797280"/>
            <a:ext cx="1265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46440" y="3066120"/>
            <a:ext cx="956880" cy="2499120"/>
            <a:chOff x="3646440" y="3066120"/>
            <a:chExt cx="956880" cy="2499120"/>
          </a:xfrm>
        </p:grpSpPr>
        <p:grpSp>
          <p:nvGrpSpPr>
            <p:cNvPr id="123" name=""/>
            <p:cNvGrpSpPr/>
            <p:nvPr/>
          </p:nvGrpSpPr>
          <p:grpSpPr>
            <a:xfrm>
              <a:off x="3646440" y="3066120"/>
              <a:ext cx="956880" cy="2499120"/>
              <a:chOff x="3646440" y="3066120"/>
              <a:chExt cx="956880" cy="249912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3654720" y="3066120"/>
                <a:ext cx="0" cy="2499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46440" y="5565240"/>
                <a:ext cx="95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668040" y="4267080"/>
              <a:ext cx="436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10760" y="566640"/>
            <a:ext cx="7063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86400" y="2637000"/>
            <a:ext cx="2013120" cy="344160"/>
            <a:chOff x="5486400" y="2637000"/>
            <a:chExt cx="2013120" cy="344160"/>
          </a:xfrm>
        </p:grpSpPr>
        <p:sp>
          <p:nvSpPr>
            <p:cNvPr id="129" name=""/>
            <p:cNvSpPr/>
            <p:nvPr/>
          </p:nvSpPr>
          <p:spPr>
            <a:xfrm>
              <a:off x="5490360" y="2637000"/>
              <a:ext cx="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486400" y="2642040"/>
              <a:ext cx="201312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372440" y="1089000"/>
            <a:ext cx="1122120" cy="1611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rcRect l="0" t="0" r="5019" b="4910"/>
          <a:stretch/>
        </p:blipFill>
        <p:spPr>
          <a:xfrm>
            <a:off x="4245120" y="4819680"/>
            <a:ext cx="1476360" cy="17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1676520" y="4419720"/>
            <a:ext cx="1828800" cy="104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990720" y="1371600"/>
            <a:ext cx="761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strands of N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By carrying out a consensus vote one requires onl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plicate with error below some epsilon such that the global replication err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809880" y="5683320"/>
                <a:ext cx="158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429000" y="4419720"/>
                <a:ext cx="2209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1292400" y="0"/>
            <a:ext cx="67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ing Error Correcting Polymeras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Correcting Codes One Can Replica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me of Arbitra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581280" y="1295280"/>
            <a:ext cx="2874960" cy="1600200"/>
            <a:chOff x="3581280" y="1295280"/>
            <a:chExt cx="2874960" cy="1600200"/>
          </a:xfrm>
        </p:grpSpPr>
        <p:sp>
          <p:nvSpPr>
            <p:cNvPr id="524" name=""/>
            <p:cNvSpPr/>
            <p:nvPr/>
          </p:nvSpPr>
          <p:spPr>
            <a:xfrm>
              <a:off x="4114440" y="2209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38480" y="2133720"/>
              <a:ext cx="228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71640" y="2209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95680" y="21337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28840" y="2209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52880" y="2133720"/>
              <a:ext cx="2286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10080" y="2133720"/>
              <a:ext cx="2286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7240" y="2209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81280" y="2133720"/>
              <a:ext cx="2286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4440" y="25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2438280"/>
              <a:ext cx="2286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1640" y="25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5680" y="24382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8840" y="25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52880" y="2438280"/>
              <a:ext cx="228600" cy="1526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0080" y="2438280"/>
              <a:ext cx="2286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57240" y="25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81280" y="24382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1444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38480" y="2743200"/>
              <a:ext cx="228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7164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95680" y="274320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2884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52880" y="2743200"/>
              <a:ext cx="2286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10080" y="2743200"/>
              <a:ext cx="2286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5724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1280" y="2743200"/>
              <a:ext cx="228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13372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21000" y="2249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4533480" y="799920"/>
              <a:ext cx="152640" cy="20574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21520" y="1295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33242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16208400">
            <a:off x="-632880" y="307188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# of Copies of Gen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3320" y="52578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(Genome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378240" y="914400"/>
                <a:ext cx="2755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∵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2520" y="1295280"/>
            <a:ext cx="8912880" cy="3812400"/>
            <a:chOff x="2520" y="1295280"/>
            <a:chExt cx="8912880" cy="3812400"/>
          </a:xfrm>
        </p:grpSpPr>
        <p:grpSp>
          <p:nvGrpSpPr>
            <p:cNvPr id="560" name=""/>
            <p:cNvGrpSpPr/>
            <p:nvPr/>
          </p:nvGrpSpPr>
          <p:grpSpPr>
            <a:xfrm>
              <a:off x="1828800" y="3657240"/>
              <a:ext cx="990000" cy="761760"/>
              <a:chOff x="1828800" y="3657240"/>
              <a:chExt cx="990000" cy="761760"/>
            </a:xfrm>
          </p:grpSpPr>
          <p:sp>
            <p:nvSpPr>
              <p:cNvPr id="561" name=""/>
              <p:cNvSpPr/>
              <p:nvPr/>
            </p:nvSpPr>
            <p:spPr>
              <a:xfrm>
                <a:off x="1901520" y="3728520"/>
                <a:ext cx="834480" cy="614520"/>
              </a:xfrm>
              <a:custGeom>
                <a:avLst/>
                <a:gdLst/>
                <a:ahLst/>
                <a:rect l="l" t="t" r="r" b="b"/>
                <a:pathLst>
                  <a:path w="526" h="387">
                    <a:moveTo>
                      <a:pt x="272" y="387"/>
                    </a:moveTo>
                    <a:cubicBezTo>
                      <a:pt x="362" y="364"/>
                      <a:pt x="321" y="377"/>
                      <a:pt x="398" y="351"/>
                    </a:cubicBezTo>
                    <a:cubicBezTo>
                      <a:pt x="407" y="348"/>
                      <a:pt x="425" y="342"/>
                      <a:pt x="425" y="342"/>
                    </a:cubicBezTo>
                    <a:cubicBezTo>
                      <a:pt x="465" y="302"/>
                      <a:pt x="489" y="286"/>
                      <a:pt x="506" y="234"/>
                    </a:cubicBezTo>
                    <a:cubicBezTo>
                      <a:pt x="499" y="111"/>
                      <a:pt x="526" y="61"/>
                      <a:pt x="434" y="0"/>
                    </a:cubicBezTo>
                    <a:cubicBezTo>
                      <a:pt x="368" y="11"/>
                      <a:pt x="356" y="16"/>
                      <a:pt x="299" y="54"/>
                    </a:cubicBezTo>
                    <a:cubicBezTo>
                      <a:pt x="264" y="77"/>
                      <a:pt x="215" y="60"/>
                      <a:pt x="173" y="63"/>
                    </a:cubicBezTo>
                    <a:cubicBezTo>
                      <a:pt x="164" y="66"/>
                      <a:pt x="154" y="68"/>
                      <a:pt x="146" y="72"/>
                    </a:cubicBezTo>
                    <a:cubicBezTo>
                      <a:pt x="136" y="77"/>
                      <a:pt x="129" y="86"/>
                      <a:pt x="119" y="90"/>
                    </a:cubicBezTo>
                    <a:cubicBezTo>
                      <a:pt x="102" y="98"/>
                      <a:pt x="65" y="108"/>
                      <a:pt x="65" y="108"/>
                    </a:cubicBezTo>
                    <a:cubicBezTo>
                      <a:pt x="39" y="147"/>
                      <a:pt x="0" y="180"/>
                      <a:pt x="38" y="234"/>
                    </a:cubicBezTo>
                    <a:cubicBezTo>
                      <a:pt x="49" y="250"/>
                      <a:pt x="74" y="246"/>
                      <a:pt x="92" y="252"/>
                    </a:cubicBezTo>
                    <a:cubicBezTo>
                      <a:pt x="150" y="271"/>
                      <a:pt x="212" y="290"/>
                      <a:pt x="263" y="324"/>
                    </a:cubicBezTo>
                    <a:cubicBezTo>
                      <a:pt x="280" y="350"/>
                      <a:pt x="308" y="369"/>
                      <a:pt x="272" y="38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90560" y="3961800"/>
                <a:ext cx="22824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14240" y="365724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57040" y="3733200"/>
                <a:ext cx="22824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28800" y="403812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09320" y="4266720"/>
                <a:ext cx="22824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4114800" y="1523880"/>
              <a:ext cx="2057400" cy="152280"/>
              <a:chOff x="4114800" y="1523880"/>
              <a:chExt cx="2057400" cy="152280"/>
            </a:xfrm>
          </p:grpSpPr>
          <p:sp>
            <p:nvSpPr>
              <p:cNvPr id="568" name=""/>
              <p:cNvSpPr/>
              <p:nvPr/>
            </p:nvSpPr>
            <p:spPr>
              <a:xfrm>
                <a:off x="4647960" y="15998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72000" y="1523880"/>
                <a:ext cx="2286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05160" y="15998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29200" y="1523880"/>
                <a:ext cx="228600" cy="15228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62360" y="15998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86400" y="152388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43600" y="1523880"/>
                <a:ext cx="22860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90760" y="15998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14800" y="152388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904760" y="1295280"/>
              <a:ext cx="914400" cy="761760"/>
              <a:chOff x="1904760" y="1295280"/>
              <a:chExt cx="914400" cy="761760"/>
            </a:xfrm>
          </p:grpSpPr>
          <p:sp>
            <p:nvSpPr>
              <p:cNvPr id="578" name=""/>
              <p:cNvSpPr/>
              <p:nvPr/>
            </p:nvSpPr>
            <p:spPr>
              <a:xfrm>
                <a:off x="2514240" y="1295280"/>
                <a:ext cx="2286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9680" y="1752480"/>
                <a:ext cx="228600" cy="15228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81080" y="144756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90560" y="1676160"/>
                <a:ext cx="22860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04760" y="190476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495680" y="3581280"/>
              <a:ext cx="990720" cy="761760"/>
              <a:chOff x="4495680" y="3581280"/>
              <a:chExt cx="990720" cy="761760"/>
            </a:xfrm>
          </p:grpSpPr>
          <p:sp>
            <p:nvSpPr>
              <p:cNvPr id="584" name=""/>
              <p:cNvSpPr/>
              <p:nvPr/>
            </p:nvSpPr>
            <p:spPr>
              <a:xfrm>
                <a:off x="4568760" y="3652560"/>
                <a:ext cx="834840" cy="614520"/>
              </a:xfrm>
              <a:custGeom>
                <a:avLst/>
                <a:gdLst/>
                <a:ahLst/>
                <a:rect l="l" t="t" r="r" b="b"/>
                <a:pathLst>
                  <a:path w="526" h="387">
                    <a:moveTo>
                      <a:pt x="272" y="387"/>
                    </a:moveTo>
                    <a:cubicBezTo>
                      <a:pt x="362" y="364"/>
                      <a:pt x="321" y="377"/>
                      <a:pt x="398" y="351"/>
                    </a:cubicBezTo>
                    <a:cubicBezTo>
                      <a:pt x="407" y="348"/>
                      <a:pt x="425" y="342"/>
                      <a:pt x="425" y="342"/>
                    </a:cubicBezTo>
                    <a:cubicBezTo>
                      <a:pt x="465" y="302"/>
                      <a:pt x="489" y="286"/>
                      <a:pt x="506" y="234"/>
                    </a:cubicBezTo>
                    <a:cubicBezTo>
                      <a:pt x="499" y="111"/>
                      <a:pt x="526" y="61"/>
                      <a:pt x="434" y="0"/>
                    </a:cubicBezTo>
                    <a:cubicBezTo>
                      <a:pt x="368" y="11"/>
                      <a:pt x="356" y="16"/>
                      <a:pt x="299" y="54"/>
                    </a:cubicBezTo>
                    <a:cubicBezTo>
                      <a:pt x="264" y="77"/>
                      <a:pt x="215" y="60"/>
                      <a:pt x="173" y="63"/>
                    </a:cubicBezTo>
                    <a:cubicBezTo>
                      <a:pt x="164" y="66"/>
                      <a:pt x="154" y="68"/>
                      <a:pt x="146" y="72"/>
                    </a:cubicBezTo>
                    <a:cubicBezTo>
                      <a:pt x="136" y="77"/>
                      <a:pt x="129" y="86"/>
                      <a:pt x="119" y="90"/>
                    </a:cubicBezTo>
                    <a:cubicBezTo>
                      <a:pt x="102" y="98"/>
                      <a:pt x="65" y="108"/>
                      <a:pt x="65" y="108"/>
                    </a:cubicBezTo>
                    <a:cubicBezTo>
                      <a:pt x="39" y="147"/>
                      <a:pt x="0" y="180"/>
                      <a:pt x="38" y="234"/>
                    </a:cubicBezTo>
                    <a:cubicBezTo>
                      <a:pt x="49" y="250"/>
                      <a:pt x="74" y="246"/>
                      <a:pt x="92" y="252"/>
                    </a:cubicBezTo>
                    <a:cubicBezTo>
                      <a:pt x="150" y="271"/>
                      <a:pt x="212" y="290"/>
                      <a:pt x="263" y="324"/>
                    </a:cubicBezTo>
                    <a:cubicBezTo>
                      <a:pt x="280" y="350"/>
                      <a:pt x="308" y="369"/>
                      <a:pt x="272" y="38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57800" y="3885840"/>
                <a:ext cx="22860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81480" y="358128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724280" y="3657240"/>
                <a:ext cx="22860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95680" y="396216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76560" y="4190760"/>
                <a:ext cx="2286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2211120" y="304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78000" y="304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7600" y="28191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7238880" y="3581280"/>
              <a:ext cx="990720" cy="761760"/>
              <a:chOff x="7238880" y="3581280"/>
              <a:chExt cx="990720" cy="761760"/>
            </a:xfrm>
          </p:grpSpPr>
          <p:sp>
            <p:nvSpPr>
              <p:cNvPr id="594" name=""/>
              <p:cNvSpPr/>
              <p:nvPr/>
            </p:nvSpPr>
            <p:spPr>
              <a:xfrm>
                <a:off x="7311960" y="3652560"/>
                <a:ext cx="834840" cy="614520"/>
              </a:xfrm>
              <a:custGeom>
                <a:avLst/>
                <a:gdLst/>
                <a:ahLst/>
                <a:rect l="l" t="t" r="r" b="b"/>
                <a:pathLst>
                  <a:path w="526" h="387">
                    <a:moveTo>
                      <a:pt x="272" y="387"/>
                    </a:moveTo>
                    <a:cubicBezTo>
                      <a:pt x="362" y="364"/>
                      <a:pt x="321" y="377"/>
                      <a:pt x="398" y="351"/>
                    </a:cubicBezTo>
                    <a:cubicBezTo>
                      <a:pt x="407" y="348"/>
                      <a:pt x="425" y="342"/>
                      <a:pt x="425" y="342"/>
                    </a:cubicBezTo>
                    <a:cubicBezTo>
                      <a:pt x="465" y="302"/>
                      <a:pt x="489" y="286"/>
                      <a:pt x="506" y="234"/>
                    </a:cubicBezTo>
                    <a:cubicBezTo>
                      <a:pt x="499" y="111"/>
                      <a:pt x="526" y="61"/>
                      <a:pt x="434" y="0"/>
                    </a:cubicBezTo>
                    <a:cubicBezTo>
                      <a:pt x="368" y="11"/>
                      <a:pt x="356" y="16"/>
                      <a:pt x="299" y="54"/>
                    </a:cubicBezTo>
                    <a:cubicBezTo>
                      <a:pt x="264" y="77"/>
                      <a:pt x="215" y="60"/>
                      <a:pt x="173" y="63"/>
                    </a:cubicBezTo>
                    <a:cubicBezTo>
                      <a:pt x="164" y="66"/>
                      <a:pt x="154" y="68"/>
                      <a:pt x="146" y="72"/>
                    </a:cubicBezTo>
                    <a:cubicBezTo>
                      <a:pt x="136" y="77"/>
                      <a:pt x="129" y="86"/>
                      <a:pt x="119" y="90"/>
                    </a:cubicBezTo>
                    <a:cubicBezTo>
                      <a:pt x="102" y="98"/>
                      <a:pt x="65" y="108"/>
                      <a:pt x="65" y="108"/>
                    </a:cubicBezTo>
                    <a:cubicBezTo>
                      <a:pt x="39" y="147"/>
                      <a:pt x="0" y="180"/>
                      <a:pt x="38" y="234"/>
                    </a:cubicBezTo>
                    <a:cubicBezTo>
                      <a:pt x="49" y="250"/>
                      <a:pt x="74" y="246"/>
                      <a:pt x="92" y="252"/>
                    </a:cubicBezTo>
                    <a:cubicBezTo>
                      <a:pt x="150" y="271"/>
                      <a:pt x="212" y="290"/>
                      <a:pt x="263" y="324"/>
                    </a:cubicBezTo>
                    <a:cubicBezTo>
                      <a:pt x="280" y="350"/>
                      <a:pt x="308" y="369"/>
                      <a:pt x="272" y="38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001000" y="3885840"/>
                <a:ext cx="22860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24680" y="358128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67480" y="3657240"/>
                <a:ext cx="22860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38880" y="3962160"/>
                <a:ext cx="22860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19760" y="4190760"/>
                <a:ext cx="2286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7697520" y="3124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1447560" y="2742840"/>
              <a:ext cx="2057400" cy="152640"/>
              <a:chOff x="1447560" y="2742840"/>
              <a:chExt cx="2057400" cy="152640"/>
            </a:xfrm>
          </p:grpSpPr>
          <p:sp>
            <p:nvSpPr>
              <p:cNvPr id="602" name=""/>
              <p:cNvSpPr/>
              <p:nvPr/>
            </p:nvSpPr>
            <p:spPr>
              <a:xfrm>
                <a:off x="198072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04760" y="2742840"/>
                <a:ext cx="2286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3792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61960" y="2742840"/>
                <a:ext cx="22860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9512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819160" y="2742840"/>
                <a:ext cx="22860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2742840"/>
                <a:ext cx="22860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52352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447560" y="2742840"/>
                <a:ext cx="22860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2211120" y="2133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114800" y="2742840"/>
              <a:ext cx="2057400" cy="152640"/>
              <a:chOff x="4114800" y="2742840"/>
              <a:chExt cx="2057400" cy="152640"/>
            </a:xfrm>
          </p:grpSpPr>
          <p:sp>
            <p:nvSpPr>
              <p:cNvPr id="613" name=""/>
              <p:cNvSpPr/>
              <p:nvPr/>
            </p:nvSpPr>
            <p:spPr>
              <a:xfrm>
                <a:off x="46479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72000" y="2742840"/>
                <a:ext cx="2286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1051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029200" y="2742840"/>
                <a:ext cx="22860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623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86400" y="2742840"/>
                <a:ext cx="22860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43600" y="2742840"/>
                <a:ext cx="22860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907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114800" y="2742840"/>
                <a:ext cx="22860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4878000" y="2133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720" y="461160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98920" y="464796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42120" y="464796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7315200" y="1295280"/>
              <a:ext cx="990000" cy="761760"/>
              <a:chOff x="7315200" y="1295280"/>
              <a:chExt cx="990000" cy="761760"/>
            </a:xfrm>
          </p:grpSpPr>
          <p:sp>
            <p:nvSpPr>
              <p:cNvPr id="627" name=""/>
              <p:cNvSpPr/>
              <p:nvPr/>
            </p:nvSpPr>
            <p:spPr>
              <a:xfrm>
                <a:off x="7387920" y="1366560"/>
                <a:ext cx="834480" cy="614520"/>
              </a:xfrm>
              <a:custGeom>
                <a:avLst/>
                <a:gdLst/>
                <a:ahLst/>
                <a:rect l="l" t="t" r="r" b="b"/>
                <a:pathLst>
                  <a:path w="526" h="387">
                    <a:moveTo>
                      <a:pt x="272" y="387"/>
                    </a:moveTo>
                    <a:cubicBezTo>
                      <a:pt x="362" y="364"/>
                      <a:pt x="321" y="377"/>
                      <a:pt x="398" y="351"/>
                    </a:cubicBezTo>
                    <a:cubicBezTo>
                      <a:pt x="407" y="348"/>
                      <a:pt x="425" y="342"/>
                      <a:pt x="425" y="342"/>
                    </a:cubicBezTo>
                    <a:cubicBezTo>
                      <a:pt x="465" y="302"/>
                      <a:pt x="489" y="286"/>
                      <a:pt x="506" y="234"/>
                    </a:cubicBezTo>
                    <a:cubicBezTo>
                      <a:pt x="499" y="111"/>
                      <a:pt x="526" y="61"/>
                      <a:pt x="434" y="0"/>
                    </a:cubicBezTo>
                    <a:cubicBezTo>
                      <a:pt x="368" y="11"/>
                      <a:pt x="356" y="16"/>
                      <a:pt x="299" y="54"/>
                    </a:cubicBezTo>
                    <a:cubicBezTo>
                      <a:pt x="264" y="77"/>
                      <a:pt x="215" y="60"/>
                      <a:pt x="173" y="63"/>
                    </a:cubicBezTo>
                    <a:cubicBezTo>
                      <a:pt x="164" y="66"/>
                      <a:pt x="154" y="68"/>
                      <a:pt x="146" y="72"/>
                    </a:cubicBezTo>
                    <a:cubicBezTo>
                      <a:pt x="136" y="77"/>
                      <a:pt x="129" y="86"/>
                      <a:pt x="119" y="90"/>
                    </a:cubicBezTo>
                    <a:cubicBezTo>
                      <a:pt x="102" y="98"/>
                      <a:pt x="65" y="108"/>
                      <a:pt x="65" y="108"/>
                    </a:cubicBezTo>
                    <a:cubicBezTo>
                      <a:pt x="39" y="147"/>
                      <a:pt x="0" y="180"/>
                      <a:pt x="38" y="234"/>
                    </a:cubicBezTo>
                    <a:cubicBezTo>
                      <a:pt x="49" y="250"/>
                      <a:pt x="74" y="246"/>
                      <a:pt x="92" y="252"/>
                    </a:cubicBezTo>
                    <a:cubicBezTo>
                      <a:pt x="150" y="271"/>
                      <a:pt x="212" y="290"/>
                      <a:pt x="263" y="324"/>
                    </a:cubicBezTo>
                    <a:cubicBezTo>
                      <a:pt x="280" y="350"/>
                      <a:pt x="308" y="369"/>
                      <a:pt x="272" y="38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76960" y="1599840"/>
                <a:ext cx="22824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000640" y="129528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543440" y="1371240"/>
                <a:ext cx="22824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15200" y="167616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95720" y="1904760"/>
                <a:ext cx="22824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697520" y="2057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9520" y="1523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20" y="259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0440" y="38858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6858000" y="2742840"/>
              <a:ext cx="2057400" cy="152640"/>
              <a:chOff x="6858000" y="2742840"/>
              <a:chExt cx="2057400" cy="152640"/>
            </a:xfrm>
          </p:grpSpPr>
          <p:sp>
            <p:nvSpPr>
              <p:cNvPr id="638" name=""/>
              <p:cNvSpPr/>
              <p:nvPr/>
            </p:nvSpPr>
            <p:spPr>
              <a:xfrm>
                <a:off x="73911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315200" y="2742840"/>
                <a:ext cx="2286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8483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772400" y="2742840"/>
                <a:ext cx="228600" cy="15264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3055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229600" y="2742840"/>
                <a:ext cx="22860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686800" y="2742840"/>
                <a:ext cx="22860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33960" y="28191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58000" y="2742840"/>
                <a:ext cx="22860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6400800" y="28191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3099600" y="152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ication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2920" y="2895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per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27400" y="2909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 per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581280" y="5611680"/>
                <a:ext cx="21592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∝</m:t>
                    </m:r>
                    <m:r>
                      <m:t xml:space="preserve">1</m:t>
                    </m:r>
                    <m:r>
                      <m:t xml:space="preserve">/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427480" y="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ich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Protein Biochemical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6705720" y="1219320"/>
          <a:ext cx="22255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219320"/>
                    <a:ext cx="22255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-914400" y="990720"/>
          <a:ext cx="7772400" cy="58291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14400" y="990720"/>
                    <a:ext cx="77724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6858000" y="61228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. Szostak, Nature,409, Jan.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523880" y="1382760"/>
            <a:ext cx="5791320" cy="35575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766800" y="5867280"/>
            <a:ext cx="66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Threshold M Cop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371600" y="5732640"/>
                <a:ext cx="1143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62120" y="2273400"/>
                <a:ext cx="699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419720" y="4863960"/>
                <a:ext cx="774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5791320" y="1981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657600" y="3187800"/>
                <a:ext cx="1282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5810400" y="2441520"/>
                <a:ext cx="1428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 flipH="1">
            <a:off x="3733560" y="37339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16520" y="0"/>
            <a:ext cx="668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ing Error Correcting Machiner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rror Correcting Codes One Can Replica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chine of Arbitra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5080" y="6400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son ‘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52280" y="5638680"/>
            <a:ext cx="914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 Molecular Machines (Jacobson)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cobson@media.mit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679320"/>
            <a:ext cx="914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BioF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  <a:ea typeface="Arial"/>
              </a:rPr>
              <a:t>-Building a Fab for Biology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8748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762120"/>
            <a:ext cx="1905120" cy="5238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0" y="1792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June 2006 issue content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52480" y="2057400"/>
            <a:ext cx="208440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5" name=""/>
          <p:cNvGraphicFramePr/>
          <p:nvPr/>
        </p:nvGraphicFramePr>
        <p:xfrm>
          <a:off x="3886200" y="2133720"/>
          <a:ext cx="3352680" cy="26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2133720"/>
                    <a:ext cx="335268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7" name="" descr=""/>
          <p:cNvPicPr/>
          <p:nvPr/>
        </p:nvPicPr>
        <p:blipFill>
          <a:blip r:embed="rId8"/>
          <a:stretch/>
        </p:blipFill>
        <p:spPr>
          <a:xfrm>
            <a:off x="228600" y="152280"/>
            <a:ext cx="10666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003320" y="749160"/>
            <a:ext cx="7137360" cy="580392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25880" y="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utS Repai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6503040" y="6583320"/>
            <a:ext cx="26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ers et al. Nature 407:711 (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277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rror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m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 Vitro Error Correction Yields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&gt;10x Reduction in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44560" y="3776760"/>
            <a:ext cx="233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49640"/>
            <a:ext cx="22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438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87640" y="0"/>
          <a:ext cx="5048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0"/>
                    <a:ext cx="5048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uthers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9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A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035760"/>
            <a:ext cx="4038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ed.upenn.edu/naf/services/catalog99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480" y="1731960"/>
            <a:ext cx="167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8280" y="2612880"/>
            <a:ext cx="3178080" cy="332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10320" y="1770120"/>
            <a:ext cx="1960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31480" y="3581280"/>
            <a:ext cx="210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rror-enri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&lt;10% fluoresc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943680" y="1447920"/>
            <a:ext cx="219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rror-cor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&gt;95% fluoresc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rror-Removal</a:t>
            </a:r>
            <a:br>
              <a:rPr sz="36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0 bp Fluorescent Gene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333680" cy="43434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834240" y="449568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tive erro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rror Reduction: GFP Gen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9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6324480" cy="4591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602280" y="6324480"/>
            <a:ext cx="83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thetech.org/exhibits_events/traveling/robotzoo/about/images/grasshopper.g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4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4343400"/>
            <a:ext cx="3505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Air inlet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Crusher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Ganglion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Multiple Visual sensor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Muscle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Pincer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Sensory receptor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Stridulatory pegs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W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olecular Machines Group-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57920" y="1600200"/>
            <a:ext cx="65721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cul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seph Jacob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earch Scientists and Post Do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ter Ca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ngjun M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duate 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ian C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vid K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ris Em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e Bum J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son P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m H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6720" y="6497640"/>
            <a:ext cx="5704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iochem.ucl.ac.uk/bsm/xtal/teach/repl/kleno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19520" y="927000"/>
            <a:ext cx="3809880" cy="2425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1976400" y="6172200"/>
            <a:ext cx="6009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lvl="4" marL="2284560" indent="-455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e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3)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352-355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eplicate Linearly with Proofreading and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old to 3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2280" y="3403440"/>
            <a:ext cx="2743200" cy="1597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124080" y="3403440"/>
            <a:ext cx="2743200" cy="1625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153120" y="3262320"/>
            <a:ext cx="2838600" cy="174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9600" y="5181480"/>
            <a:ext cx="2385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mplate dependant 5'-3'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mer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1240" y="5181480"/>
            <a:ext cx="233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'-3' error-correc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onuc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840" y="5181480"/>
            <a:ext cx="180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'-5' proofrea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uc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070400" y="1106640"/>
            <a:ext cx="167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07120" y="2130480"/>
            <a:ext cx="197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Step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2514600"/>
            <a:ext cx="624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 Quantum Phase Sp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] Error Correcting Fabr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] Fault Tolerant Hardware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] Fault Tolerant Software or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762120"/>
            <a:ext cx="789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which increase the complexity of a system exponentially with a linear addi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4280" y="144360"/>
            <a:ext cx="77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sources for Exponential 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ult Tolerant Translation Codes (Hech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N encodes 5 different nonpolar resid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et, Leu, Ile, Val and P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 encodes 6 different polar resid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ys, His, Glu, Gln, Asp and A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Error Corr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bozyme: 1: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Correcting Polymerase:  1: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de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NA Repair 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bination - retrieval - post replication repa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ymine Dimer byp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8400" y="-100080"/>
            <a:ext cx="76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ror Correction in Biolog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3344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95960" y="3809880"/>
          <a:ext cx="294804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5960" y="3809880"/>
                    <a:ext cx="29480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219360" y="5257800"/>
            <a:ext cx="27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Coli Retrieval system - Le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248520" y="1219320"/>
            <a:ext cx="2819160" cy="243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172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ology Employs Error Correcting Fabrication + Error Correcting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179360"/>
            <a:ext cx="255600" cy="793800"/>
          </a:xfrm>
          <a:custGeom>
            <a:avLst/>
            <a:gdLst>
              <a:gd name="textAreaLeft" fmla="*/ 163440 w 255600"/>
              <a:gd name="textAreaRight" fmla="*/ 255600 w 25560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00" y="133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9880" y="1103400"/>
            <a:ext cx="1218600" cy="946800"/>
            <a:chOff x="839880" y="1103400"/>
            <a:chExt cx="1218600" cy="946800"/>
          </a:xfrm>
        </p:grpSpPr>
        <p:grpSp>
          <p:nvGrpSpPr>
            <p:cNvPr id="169" name=""/>
            <p:cNvGrpSpPr/>
            <p:nvPr/>
          </p:nvGrpSpPr>
          <p:grpSpPr>
            <a:xfrm>
              <a:off x="1449360" y="1363680"/>
              <a:ext cx="609120" cy="337320"/>
              <a:chOff x="1449360" y="1363680"/>
              <a:chExt cx="609120" cy="337320"/>
            </a:xfrm>
          </p:grpSpPr>
          <p:sp>
            <p:nvSpPr>
              <p:cNvPr id="170" name=""/>
              <p:cNvSpPr/>
              <p:nvPr/>
            </p:nvSpPr>
            <p:spPr>
              <a:xfrm>
                <a:off x="1458360" y="1439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49360" y="136368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061640" y="128736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1640" y="15922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061640" y="159192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842760" y="1712880"/>
              <a:ext cx="304200" cy="337320"/>
              <a:chOff x="842760" y="1712880"/>
              <a:chExt cx="304200" cy="337320"/>
            </a:xfrm>
          </p:grpSpPr>
          <p:sp>
            <p:nvSpPr>
              <p:cNvPr id="176" name=""/>
              <p:cNvSpPr/>
              <p:nvPr/>
            </p:nvSpPr>
            <p:spPr>
              <a:xfrm>
                <a:off x="851760" y="17884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2760" y="1712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42760" y="1407960"/>
              <a:ext cx="304200" cy="337320"/>
              <a:chOff x="842760" y="1407960"/>
              <a:chExt cx="304200" cy="337320"/>
            </a:xfrm>
          </p:grpSpPr>
          <p:sp>
            <p:nvSpPr>
              <p:cNvPr id="179" name=""/>
              <p:cNvSpPr/>
              <p:nvPr/>
            </p:nvSpPr>
            <p:spPr>
              <a:xfrm>
                <a:off x="851760" y="148356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42760" y="14079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39880" y="1103400"/>
              <a:ext cx="304200" cy="337320"/>
              <a:chOff x="839880" y="1103400"/>
              <a:chExt cx="304200" cy="337320"/>
            </a:xfrm>
          </p:grpSpPr>
          <p:sp>
            <p:nvSpPr>
              <p:cNvPr id="182" name=""/>
              <p:cNvSpPr/>
              <p:nvPr/>
            </p:nvSpPr>
            <p:spPr>
              <a:xfrm>
                <a:off x="848880" y="1179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39880" y="1103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440080" y="2398680"/>
            <a:ext cx="609120" cy="337320"/>
            <a:chOff x="2440080" y="2398680"/>
            <a:chExt cx="609120" cy="337320"/>
          </a:xfrm>
        </p:grpSpPr>
        <p:sp>
          <p:nvSpPr>
            <p:cNvPr id="185" name=""/>
            <p:cNvSpPr/>
            <p:nvPr/>
          </p:nvSpPr>
          <p:spPr>
            <a:xfrm>
              <a:off x="2449080" y="2474640"/>
              <a:ext cx="22068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40080" y="23986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39880" y="2138400"/>
            <a:ext cx="1218600" cy="946800"/>
            <a:chOff x="839880" y="2138400"/>
            <a:chExt cx="1218600" cy="946800"/>
          </a:xfrm>
        </p:grpSpPr>
        <p:grpSp>
          <p:nvGrpSpPr>
            <p:cNvPr id="188" name=""/>
            <p:cNvGrpSpPr/>
            <p:nvPr/>
          </p:nvGrpSpPr>
          <p:grpSpPr>
            <a:xfrm>
              <a:off x="1449360" y="2398680"/>
              <a:ext cx="609120" cy="337320"/>
              <a:chOff x="1449360" y="2398680"/>
              <a:chExt cx="609120" cy="337320"/>
            </a:xfrm>
          </p:grpSpPr>
          <p:sp>
            <p:nvSpPr>
              <p:cNvPr id="189" name=""/>
              <p:cNvSpPr/>
              <p:nvPr/>
            </p:nvSpPr>
            <p:spPr>
              <a:xfrm>
                <a:off x="1458360" y="2474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49360" y="239868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061640" y="232236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1640" y="26272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061640" y="262692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42760" y="2747880"/>
              <a:ext cx="304200" cy="337320"/>
              <a:chOff x="842760" y="2747880"/>
              <a:chExt cx="304200" cy="337320"/>
            </a:xfrm>
          </p:grpSpPr>
          <p:sp>
            <p:nvSpPr>
              <p:cNvPr id="195" name=""/>
              <p:cNvSpPr/>
              <p:nvPr/>
            </p:nvSpPr>
            <p:spPr>
              <a:xfrm>
                <a:off x="851760" y="28234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42760" y="2747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842760" y="2442960"/>
              <a:ext cx="304200" cy="337320"/>
              <a:chOff x="842760" y="2442960"/>
              <a:chExt cx="304200" cy="337320"/>
            </a:xfrm>
          </p:grpSpPr>
          <p:sp>
            <p:nvSpPr>
              <p:cNvPr id="198" name=""/>
              <p:cNvSpPr/>
              <p:nvPr/>
            </p:nvSpPr>
            <p:spPr>
              <a:xfrm>
                <a:off x="851760" y="251856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2760" y="24429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39880" y="2138400"/>
              <a:ext cx="304200" cy="337320"/>
              <a:chOff x="839880" y="2138400"/>
              <a:chExt cx="304200" cy="337320"/>
            </a:xfrm>
          </p:grpSpPr>
          <p:sp>
            <p:nvSpPr>
              <p:cNvPr id="201" name=""/>
              <p:cNvSpPr/>
              <p:nvPr/>
            </p:nvSpPr>
            <p:spPr>
              <a:xfrm>
                <a:off x="848880" y="2214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9880" y="2138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839880" y="3129120"/>
            <a:ext cx="1218600" cy="946800"/>
            <a:chOff x="839880" y="3129120"/>
            <a:chExt cx="1218600" cy="946800"/>
          </a:xfrm>
        </p:grpSpPr>
        <p:grpSp>
          <p:nvGrpSpPr>
            <p:cNvPr id="204" name=""/>
            <p:cNvGrpSpPr/>
            <p:nvPr/>
          </p:nvGrpSpPr>
          <p:grpSpPr>
            <a:xfrm>
              <a:off x="1449360" y="3389400"/>
              <a:ext cx="609120" cy="337320"/>
              <a:chOff x="1449360" y="3389400"/>
              <a:chExt cx="609120" cy="337320"/>
            </a:xfrm>
          </p:grpSpPr>
          <p:sp>
            <p:nvSpPr>
              <p:cNvPr id="205" name=""/>
              <p:cNvSpPr/>
              <p:nvPr/>
            </p:nvSpPr>
            <p:spPr>
              <a:xfrm>
                <a:off x="1458360" y="3465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49360" y="338940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061640" y="331308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1640" y="361800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061640" y="361764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842760" y="3738600"/>
              <a:ext cx="304200" cy="337320"/>
              <a:chOff x="842760" y="3738600"/>
              <a:chExt cx="304200" cy="337320"/>
            </a:xfrm>
          </p:grpSpPr>
          <p:sp>
            <p:nvSpPr>
              <p:cNvPr id="211" name=""/>
              <p:cNvSpPr/>
              <p:nvPr/>
            </p:nvSpPr>
            <p:spPr>
              <a:xfrm>
                <a:off x="851760" y="38142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760" y="37386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842760" y="3433680"/>
              <a:ext cx="304200" cy="337320"/>
              <a:chOff x="842760" y="3433680"/>
              <a:chExt cx="304200" cy="3373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1760" y="3509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42760" y="34336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839880" y="3129120"/>
              <a:ext cx="304200" cy="337320"/>
              <a:chOff x="839880" y="3129120"/>
              <a:chExt cx="304200" cy="337320"/>
            </a:xfrm>
          </p:grpSpPr>
          <p:sp>
            <p:nvSpPr>
              <p:cNvPr id="217" name=""/>
              <p:cNvSpPr/>
              <p:nvPr/>
            </p:nvSpPr>
            <p:spPr>
              <a:xfrm>
                <a:off x="848880" y="320472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39880" y="312912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676520" y="1560600"/>
            <a:ext cx="7617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62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76520" y="262728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981080" y="354132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01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92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reshold Theorem – Von Neumann 19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43160" y="1371600"/>
                <a:ext cx="48402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</m:sup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551480" y="3486240"/>
                <a:ext cx="415764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≈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7" name=""/>
          <p:cNvGraphicFramePr/>
          <p:nvPr/>
        </p:nvGraphicFramePr>
        <p:xfrm>
          <a:off x="3200400" y="2971800"/>
          <a:ext cx="5715000" cy="2362320"/>
        </p:xfrm>
        <a:graphic>
          <a:graphicData uri="http://schemas.openxmlformats.org/drawingml/2006/table">
            <a:tbl>
              <a:tblPr/>
              <a:tblGrid>
                <a:gridCol w="1371600"/>
                <a:gridCol w="4343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sion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5336280" y="25909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360" y="560232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ircuit to be fault tole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724280" y="5562720"/>
                <a:ext cx="2438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p>
                        </m:sSup>
                        <m:r>
                          <m:t xml:space="preserve">p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93080" y="725400"/>
            <a:ext cx="56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obability of Individual Gate Wor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054240" y="657360"/>
                <a:ext cx="5605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1179360"/>
            <a:ext cx="255600" cy="793800"/>
          </a:xfrm>
          <a:custGeom>
            <a:avLst/>
            <a:gdLst>
              <a:gd name="textAreaLeft" fmla="*/ 163440 w 255600"/>
              <a:gd name="textAreaRight" fmla="*/ 255600 w 25560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4160" y="133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920" y="1103400"/>
            <a:ext cx="1218600" cy="946800"/>
            <a:chOff x="763920" y="1103400"/>
            <a:chExt cx="1218600" cy="946800"/>
          </a:xfrm>
        </p:grpSpPr>
        <p:grpSp>
          <p:nvGrpSpPr>
            <p:cNvPr id="236" name=""/>
            <p:cNvGrpSpPr/>
            <p:nvPr/>
          </p:nvGrpSpPr>
          <p:grpSpPr>
            <a:xfrm>
              <a:off x="1373400" y="1363680"/>
              <a:ext cx="609120" cy="337320"/>
              <a:chOff x="1373400" y="1363680"/>
              <a:chExt cx="609120" cy="337320"/>
            </a:xfrm>
          </p:grpSpPr>
          <p:sp>
            <p:nvSpPr>
              <p:cNvPr id="237" name=""/>
              <p:cNvSpPr/>
              <p:nvPr/>
            </p:nvSpPr>
            <p:spPr>
              <a:xfrm>
                <a:off x="1382400" y="1439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3400" y="136368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985680" y="128736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85680" y="15922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985680" y="159192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66800" y="1712880"/>
              <a:ext cx="304200" cy="337320"/>
              <a:chOff x="766800" y="1712880"/>
              <a:chExt cx="304200" cy="337320"/>
            </a:xfrm>
          </p:grpSpPr>
          <p:sp>
            <p:nvSpPr>
              <p:cNvPr id="243" name=""/>
              <p:cNvSpPr/>
              <p:nvPr/>
            </p:nvSpPr>
            <p:spPr>
              <a:xfrm>
                <a:off x="775800" y="17884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6800" y="1712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66800" y="1407960"/>
              <a:ext cx="304200" cy="337320"/>
              <a:chOff x="766800" y="1407960"/>
              <a:chExt cx="304200" cy="33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775800" y="148356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6800" y="14079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763920" y="1103400"/>
              <a:ext cx="304200" cy="337320"/>
              <a:chOff x="763920" y="1103400"/>
              <a:chExt cx="304200" cy="337320"/>
            </a:xfrm>
          </p:grpSpPr>
          <p:sp>
            <p:nvSpPr>
              <p:cNvPr id="249" name=""/>
              <p:cNvSpPr/>
              <p:nvPr/>
            </p:nvSpPr>
            <p:spPr>
              <a:xfrm>
                <a:off x="772920" y="1179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920" y="1103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2364120" y="2398680"/>
            <a:ext cx="609120" cy="337320"/>
            <a:chOff x="2364120" y="2398680"/>
            <a:chExt cx="609120" cy="337320"/>
          </a:xfrm>
        </p:grpSpPr>
        <p:sp>
          <p:nvSpPr>
            <p:cNvPr id="252" name=""/>
            <p:cNvSpPr/>
            <p:nvPr/>
          </p:nvSpPr>
          <p:spPr>
            <a:xfrm>
              <a:off x="2373120" y="2474640"/>
              <a:ext cx="22068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4120" y="23986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3920" y="2138400"/>
            <a:ext cx="1218600" cy="946800"/>
            <a:chOff x="763920" y="2138400"/>
            <a:chExt cx="1218600" cy="946800"/>
          </a:xfrm>
        </p:grpSpPr>
        <p:grpSp>
          <p:nvGrpSpPr>
            <p:cNvPr id="255" name=""/>
            <p:cNvGrpSpPr/>
            <p:nvPr/>
          </p:nvGrpSpPr>
          <p:grpSpPr>
            <a:xfrm>
              <a:off x="1373400" y="2398680"/>
              <a:ext cx="609120" cy="337320"/>
              <a:chOff x="1373400" y="2398680"/>
              <a:chExt cx="609120" cy="337320"/>
            </a:xfrm>
          </p:grpSpPr>
          <p:sp>
            <p:nvSpPr>
              <p:cNvPr id="256" name=""/>
              <p:cNvSpPr/>
              <p:nvPr/>
            </p:nvSpPr>
            <p:spPr>
              <a:xfrm>
                <a:off x="1382400" y="2474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3400" y="239868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985680" y="232236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85680" y="26272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985680" y="262692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766800" y="2747880"/>
              <a:ext cx="304200" cy="337320"/>
              <a:chOff x="766800" y="2747880"/>
              <a:chExt cx="304200" cy="337320"/>
            </a:xfrm>
          </p:grpSpPr>
          <p:sp>
            <p:nvSpPr>
              <p:cNvPr id="262" name=""/>
              <p:cNvSpPr/>
              <p:nvPr/>
            </p:nvSpPr>
            <p:spPr>
              <a:xfrm>
                <a:off x="775800" y="28234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6800" y="2747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66800" y="2442960"/>
              <a:ext cx="304200" cy="337320"/>
              <a:chOff x="766800" y="2442960"/>
              <a:chExt cx="304200" cy="337320"/>
            </a:xfrm>
          </p:grpSpPr>
          <p:sp>
            <p:nvSpPr>
              <p:cNvPr id="265" name=""/>
              <p:cNvSpPr/>
              <p:nvPr/>
            </p:nvSpPr>
            <p:spPr>
              <a:xfrm>
                <a:off x="775800" y="251856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6800" y="24429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63920" y="2138400"/>
              <a:ext cx="304200" cy="337320"/>
              <a:chOff x="763920" y="2138400"/>
              <a:chExt cx="304200" cy="337320"/>
            </a:xfrm>
          </p:grpSpPr>
          <p:sp>
            <p:nvSpPr>
              <p:cNvPr id="268" name=""/>
              <p:cNvSpPr/>
              <p:nvPr/>
            </p:nvSpPr>
            <p:spPr>
              <a:xfrm>
                <a:off x="772920" y="2214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3920" y="2138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763920" y="3129120"/>
            <a:ext cx="1218600" cy="946800"/>
            <a:chOff x="763920" y="3129120"/>
            <a:chExt cx="1218600" cy="946800"/>
          </a:xfrm>
        </p:grpSpPr>
        <p:grpSp>
          <p:nvGrpSpPr>
            <p:cNvPr id="271" name=""/>
            <p:cNvGrpSpPr/>
            <p:nvPr/>
          </p:nvGrpSpPr>
          <p:grpSpPr>
            <a:xfrm>
              <a:off x="1373400" y="3389400"/>
              <a:ext cx="609120" cy="337320"/>
              <a:chOff x="1373400" y="3389400"/>
              <a:chExt cx="609120" cy="337320"/>
            </a:xfrm>
          </p:grpSpPr>
          <p:sp>
            <p:nvSpPr>
              <p:cNvPr id="272" name=""/>
              <p:cNvSpPr/>
              <p:nvPr/>
            </p:nvSpPr>
            <p:spPr>
              <a:xfrm>
                <a:off x="1382400" y="3465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73400" y="338940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985680" y="331308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5680" y="361800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85680" y="361764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766800" y="3738600"/>
              <a:ext cx="304200" cy="337320"/>
              <a:chOff x="766800" y="3738600"/>
              <a:chExt cx="304200" cy="337320"/>
            </a:xfrm>
          </p:grpSpPr>
          <p:sp>
            <p:nvSpPr>
              <p:cNvPr id="278" name=""/>
              <p:cNvSpPr/>
              <p:nvPr/>
            </p:nvSpPr>
            <p:spPr>
              <a:xfrm>
                <a:off x="775800" y="38142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6800" y="37386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66800" y="3433680"/>
              <a:ext cx="304200" cy="337320"/>
              <a:chOff x="766800" y="3433680"/>
              <a:chExt cx="304200" cy="337320"/>
            </a:xfrm>
          </p:grpSpPr>
          <p:sp>
            <p:nvSpPr>
              <p:cNvPr id="281" name=""/>
              <p:cNvSpPr/>
              <p:nvPr/>
            </p:nvSpPr>
            <p:spPr>
              <a:xfrm>
                <a:off x="775800" y="3509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6800" y="34336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63920" y="3129120"/>
              <a:ext cx="304200" cy="337320"/>
              <a:chOff x="763920" y="3129120"/>
              <a:chExt cx="304200" cy="337320"/>
            </a:xfrm>
          </p:grpSpPr>
          <p:sp>
            <p:nvSpPr>
              <p:cNvPr id="284" name=""/>
              <p:cNvSpPr/>
              <p:nvPr/>
            </p:nvSpPr>
            <p:spPr>
              <a:xfrm>
                <a:off x="772920" y="320472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3920" y="312912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600200" y="156060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262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600200" y="26272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904760" y="354132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2564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92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reshold Theorem - Winograd and Cowan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1066680"/>
            <a:ext cx="6248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cuit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free gates can be simulated with probability of failure ε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⋅poly(log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ε))) error-prone gates which fail with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id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stant threshold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86000" y="369720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gates consum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04040" y="3632040"/>
                <a:ext cx="392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200760" y="430704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k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638680" y="4240080"/>
                <a:ext cx="26672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151160" y="4800600"/>
                <a:ext cx="23655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000240" y="6095880"/>
                <a:ext cx="3143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l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07080" y="57913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Gates Con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erfect Gat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1179360"/>
            <a:ext cx="255600" cy="793800"/>
          </a:xfrm>
          <a:custGeom>
            <a:avLst/>
            <a:gdLst>
              <a:gd name="textAreaLeft" fmla="*/ 163440 w 255600"/>
              <a:gd name="textAreaRight" fmla="*/ 255600 w 25560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00" y="133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39880" y="1103400"/>
            <a:ext cx="913680" cy="946800"/>
            <a:chOff x="839880" y="1103400"/>
            <a:chExt cx="913680" cy="946800"/>
          </a:xfrm>
        </p:grpSpPr>
        <p:grpSp>
          <p:nvGrpSpPr>
            <p:cNvPr id="303" name=""/>
            <p:cNvGrpSpPr/>
            <p:nvPr/>
          </p:nvGrpSpPr>
          <p:grpSpPr>
            <a:xfrm>
              <a:off x="1449360" y="1363680"/>
              <a:ext cx="304200" cy="337320"/>
              <a:chOff x="1449360" y="1363680"/>
              <a:chExt cx="304200" cy="337320"/>
            </a:xfrm>
          </p:grpSpPr>
          <p:sp>
            <p:nvSpPr>
              <p:cNvPr id="304" name=""/>
              <p:cNvSpPr/>
              <p:nvPr/>
            </p:nvSpPr>
            <p:spPr>
              <a:xfrm>
                <a:off x="1458360" y="1439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49360" y="13636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061640" y="128736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1640" y="15922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061640" y="159192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842760" y="1712880"/>
              <a:ext cx="304200" cy="337320"/>
              <a:chOff x="842760" y="1712880"/>
              <a:chExt cx="304200" cy="337320"/>
            </a:xfrm>
          </p:grpSpPr>
          <p:sp>
            <p:nvSpPr>
              <p:cNvPr id="310" name=""/>
              <p:cNvSpPr/>
              <p:nvPr/>
            </p:nvSpPr>
            <p:spPr>
              <a:xfrm>
                <a:off x="851760" y="17884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2760" y="1712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42760" y="1407960"/>
              <a:ext cx="304200" cy="337320"/>
              <a:chOff x="842760" y="1407960"/>
              <a:chExt cx="304200" cy="337320"/>
            </a:xfrm>
          </p:grpSpPr>
          <p:sp>
            <p:nvSpPr>
              <p:cNvPr id="313" name=""/>
              <p:cNvSpPr/>
              <p:nvPr/>
            </p:nvSpPr>
            <p:spPr>
              <a:xfrm>
                <a:off x="851760" y="148356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2760" y="14079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839880" y="1103400"/>
              <a:ext cx="304200" cy="337320"/>
              <a:chOff x="839880" y="1103400"/>
              <a:chExt cx="304200" cy="337320"/>
            </a:xfrm>
          </p:grpSpPr>
          <p:sp>
            <p:nvSpPr>
              <p:cNvPr id="316" name=""/>
              <p:cNvSpPr/>
              <p:nvPr/>
            </p:nvSpPr>
            <p:spPr>
              <a:xfrm>
                <a:off x="848880" y="1179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9880" y="1103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2440080" y="2398680"/>
            <a:ext cx="609120" cy="337320"/>
            <a:chOff x="2440080" y="2398680"/>
            <a:chExt cx="609120" cy="337320"/>
          </a:xfrm>
        </p:grpSpPr>
        <p:sp>
          <p:nvSpPr>
            <p:cNvPr id="319" name=""/>
            <p:cNvSpPr/>
            <p:nvPr/>
          </p:nvSpPr>
          <p:spPr>
            <a:xfrm>
              <a:off x="2449080" y="2474640"/>
              <a:ext cx="22068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40080" y="23986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39880" y="2138400"/>
            <a:ext cx="913680" cy="946800"/>
            <a:chOff x="839880" y="2138400"/>
            <a:chExt cx="913680" cy="946800"/>
          </a:xfrm>
        </p:grpSpPr>
        <p:grpSp>
          <p:nvGrpSpPr>
            <p:cNvPr id="322" name=""/>
            <p:cNvGrpSpPr/>
            <p:nvPr/>
          </p:nvGrpSpPr>
          <p:grpSpPr>
            <a:xfrm>
              <a:off x="1449360" y="2398680"/>
              <a:ext cx="304200" cy="337320"/>
              <a:chOff x="1449360" y="2398680"/>
              <a:chExt cx="30420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1458360" y="2474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49360" y="23986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061640" y="232236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1640" y="26272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061640" y="262692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842760" y="2747880"/>
              <a:ext cx="304200" cy="337320"/>
              <a:chOff x="842760" y="2747880"/>
              <a:chExt cx="304200" cy="337320"/>
            </a:xfrm>
          </p:grpSpPr>
          <p:sp>
            <p:nvSpPr>
              <p:cNvPr id="329" name=""/>
              <p:cNvSpPr/>
              <p:nvPr/>
            </p:nvSpPr>
            <p:spPr>
              <a:xfrm>
                <a:off x="851760" y="28234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42760" y="27478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842760" y="2442960"/>
              <a:ext cx="304200" cy="337320"/>
              <a:chOff x="842760" y="2442960"/>
              <a:chExt cx="304200" cy="337320"/>
            </a:xfrm>
          </p:grpSpPr>
          <p:sp>
            <p:nvSpPr>
              <p:cNvPr id="332" name=""/>
              <p:cNvSpPr/>
              <p:nvPr/>
            </p:nvSpPr>
            <p:spPr>
              <a:xfrm>
                <a:off x="851760" y="251856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2760" y="24429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839880" y="2138400"/>
              <a:ext cx="304200" cy="337320"/>
              <a:chOff x="839880" y="2138400"/>
              <a:chExt cx="304200" cy="337320"/>
            </a:xfrm>
          </p:grpSpPr>
          <p:sp>
            <p:nvSpPr>
              <p:cNvPr id="335" name=""/>
              <p:cNvSpPr/>
              <p:nvPr/>
            </p:nvSpPr>
            <p:spPr>
              <a:xfrm>
                <a:off x="848880" y="2214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39880" y="2138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839880" y="3129120"/>
            <a:ext cx="913680" cy="946800"/>
            <a:chOff x="839880" y="3129120"/>
            <a:chExt cx="913680" cy="946800"/>
          </a:xfrm>
        </p:grpSpPr>
        <p:grpSp>
          <p:nvGrpSpPr>
            <p:cNvPr id="338" name=""/>
            <p:cNvGrpSpPr/>
            <p:nvPr/>
          </p:nvGrpSpPr>
          <p:grpSpPr>
            <a:xfrm>
              <a:off x="1449360" y="3389400"/>
              <a:ext cx="304200" cy="337320"/>
              <a:chOff x="1449360" y="3389400"/>
              <a:chExt cx="304200" cy="337320"/>
            </a:xfrm>
          </p:grpSpPr>
          <p:sp>
            <p:nvSpPr>
              <p:cNvPr id="339" name=""/>
              <p:cNvSpPr/>
              <p:nvPr/>
            </p:nvSpPr>
            <p:spPr>
              <a:xfrm>
                <a:off x="1458360" y="34650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49360" y="33894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061640" y="3313080"/>
              <a:ext cx="397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1640" y="361800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061640" y="3617640"/>
              <a:ext cx="3970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842760" y="3738600"/>
              <a:ext cx="304200" cy="337320"/>
              <a:chOff x="842760" y="3738600"/>
              <a:chExt cx="304200" cy="337320"/>
            </a:xfrm>
          </p:grpSpPr>
          <p:sp>
            <p:nvSpPr>
              <p:cNvPr id="345" name=""/>
              <p:cNvSpPr/>
              <p:nvPr/>
            </p:nvSpPr>
            <p:spPr>
              <a:xfrm>
                <a:off x="851760" y="381420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2760" y="37386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42760" y="3433680"/>
              <a:ext cx="304200" cy="337320"/>
              <a:chOff x="842760" y="3433680"/>
              <a:chExt cx="304200" cy="337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51760" y="350928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42760" y="34336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839880" y="3129120"/>
              <a:ext cx="304200" cy="337320"/>
              <a:chOff x="839880" y="3129120"/>
              <a:chExt cx="30420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848880" y="3204720"/>
                <a:ext cx="220680" cy="253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39880" y="312912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1676520" y="1560600"/>
            <a:ext cx="7617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262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76520" y="262728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981080" y="354132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1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92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reshold Theorem –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133720" y="1066680"/>
                <a:ext cx="65102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</m:sup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nary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</m:m>
                      </m:e>
                    </m:nary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557520" y="2743200"/>
                <a:ext cx="37641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k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413160" y="415440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ircuit to be fault toler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37000" y="4724280"/>
                <a:ext cx="3287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eshold</m:t>
                        </m:r>
                      </m:sub>
                    </m:sSub>
                    <m:r>
                      <m:t xml:space="preserve">&lt;</m:t>
                    </m:r>
                    <m:rad>
                      <m:deg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g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3506040" y="57546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g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6797520" y="5715000"/>
                <a:ext cx="10670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44Z</dcterms:created>
  <dc:creator>saul griffith</dc:creator>
  <dc:description/>
  <dc:language>en-US</dc:language>
  <cp:lastModifiedBy>MIT</cp:lastModifiedBy>
  <dcterms:modified xsi:type="dcterms:W3CDTF">2006-06-29T06:25:59Z</dcterms:modified>
  <cp:revision>315</cp:revision>
  <dc:subject/>
  <dc:title>Predicated assembly and biomimetics in micro/nano-manufacture</dc:title>
</cp:coreProperties>
</file>