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DC6-D876-4B55-A1F1-D3EEEE3E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785-E3CA-4AE7-A68A-EB3DE0A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399-771B-4DEA-BAF7-64DF593D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CF2-3A2D-4BD3-8944-B824D6D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D63-0C91-43AC-A897-A57C02F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981-7C46-430D-8CFB-F6BC0EB8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803-DB5C-41FA-BBA8-7094154E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089-4952-4AB5-B4C3-7A9D3910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288-79D7-4942-883D-1F420EB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750-C566-442A-B08D-61C9200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FB1-226E-4A15-A6CF-FE436B2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E50-F267-4AA5-A452-35C87381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876920"/>
            <a:ext cx="1295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C27-8923-454C-8ED4-77344488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3670200" y="3860640"/>
          <a:ext cx="547380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860640"/>
                    <a:ext cx="5473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7426440" y="0"/>
            <a:ext cx="1717560" cy="9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08160" y="331920"/>
            <a:ext cx="3733920" cy="164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55600" y="22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rd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International Digital Fabrication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SIR International Convention Cent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etoria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9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B De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6040" y="594828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tlotlo Pho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27520" y="42670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47880" y="317520"/>
            <a:ext cx="4759200" cy="17683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981080" y="2278080"/>
            <a:ext cx="4741920" cy="4887360"/>
            <a:chOff x="1981080" y="2278080"/>
            <a:chExt cx="4741920" cy="4887360"/>
          </a:xfrm>
        </p:grpSpPr>
        <p:sp>
          <p:nvSpPr>
            <p:cNvPr id="82" name=""/>
            <p:cNvSpPr/>
            <p:nvPr/>
          </p:nvSpPr>
          <p:spPr>
            <a:xfrm>
              <a:off x="1981080" y="5730840"/>
              <a:ext cx="47419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Question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964600" y="2278080"/>
              <a:ext cx="266688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3360" y="3211560"/>
            <a:ext cx="6480000" cy="504360"/>
            <a:chOff x="603360" y="3211560"/>
            <a:chExt cx="6480000" cy="504360"/>
          </a:xfrm>
        </p:grpSpPr>
        <p:sp>
          <p:nvSpPr>
            <p:cNvPr id="86" name=""/>
            <p:cNvSpPr/>
            <p:nvPr/>
          </p:nvSpPr>
          <p:spPr>
            <a:xfrm>
              <a:off x="603360" y="3211560"/>
              <a:ext cx="718920" cy="504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ny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3920" y="3211560"/>
              <a:ext cx="71892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85920" y="3211560"/>
              <a:ext cx="719280" cy="504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il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8280" y="3211560"/>
              <a:ext cx="71892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las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64080" y="3211560"/>
              <a:ext cx="71928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icro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troll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54640" y="3211560"/>
              <a:ext cx="792000" cy="504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70280" y="3211560"/>
              <a:ext cx="719280" cy="504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19720" y="3211560"/>
              <a:ext cx="86364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1560" y="1913040"/>
            <a:ext cx="6481800" cy="1298160"/>
            <a:chOff x="601560" y="1913040"/>
            <a:chExt cx="6481800" cy="1298160"/>
          </a:xfrm>
        </p:grpSpPr>
        <p:sp>
          <p:nvSpPr>
            <p:cNvPr id="95" name=""/>
            <p:cNvSpPr/>
            <p:nvPr/>
          </p:nvSpPr>
          <p:spPr>
            <a:xfrm>
              <a:off x="603360" y="1913040"/>
              <a:ext cx="6480000" cy="797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 Focus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360" y="2812320"/>
              <a:ext cx="6480000" cy="3988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bLab as an integrated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560" y="2311920"/>
              <a:ext cx="8654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lectron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8280" y="2311920"/>
              <a:ext cx="7920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chan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01920" y="2311920"/>
              <a:ext cx="7920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67000" y="2311920"/>
              <a:ext cx="8636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uto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2280" y="2311920"/>
              <a:ext cx="8632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t &amp; C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8640" y="2311920"/>
              <a:ext cx="10080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munity /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cial enginee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8280" y="2311920"/>
              <a:ext cx="8636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155000" y="2276640"/>
            <a:ext cx="1728720" cy="3671280"/>
            <a:chOff x="7155000" y="2276640"/>
            <a:chExt cx="1728720" cy="3671280"/>
          </a:xfrm>
        </p:grpSpPr>
        <p:sp>
          <p:nvSpPr>
            <p:cNvPr id="105" name=""/>
            <p:cNvSpPr/>
            <p:nvPr/>
          </p:nvSpPr>
          <p:spPr>
            <a:xfrm>
              <a:off x="7155000" y="2735280"/>
              <a:ext cx="215640" cy="3212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 User Ma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43720" y="2735280"/>
              <a:ext cx="216000" cy="32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tion / Maintenance / Assembly Ma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31000" y="2735280"/>
              <a:ext cx="216000" cy="3212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ining Ma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0080" y="2735280"/>
              <a:ext cx="216000" cy="32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etency Assessment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07360" y="2735280"/>
              <a:ext cx="216000" cy="3212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afety Ma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67720" y="2735280"/>
              <a:ext cx="216000" cy="32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55000" y="2276640"/>
              <a:ext cx="1728720" cy="38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1560" y="3792600"/>
            <a:ext cx="6483600" cy="2158920"/>
            <a:chOff x="601560" y="3792600"/>
            <a:chExt cx="6483600" cy="2158920"/>
          </a:xfrm>
        </p:grpSpPr>
        <p:sp>
          <p:nvSpPr>
            <p:cNvPr id="113" name=""/>
            <p:cNvSpPr/>
            <p:nvPr/>
          </p:nvSpPr>
          <p:spPr>
            <a:xfrm>
              <a:off x="601560" y="3792600"/>
              <a:ext cx="6481800" cy="287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uter aided design (as applic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3360" y="4656240"/>
              <a:ext cx="6481800" cy="287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Linux (lowest level required for fabla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3360" y="5160960"/>
              <a:ext cx="648180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PC hardware skills (lowest level required for fabla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360" y="4224600"/>
              <a:ext cx="64818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Python programming (lowest level required for fabla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360" y="5664240"/>
              <a:ext cx="64818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upport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develop a working model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required content of an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vanced technical training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rs of the Fabrication Labora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Fab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To prov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accessible, affordable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advanced technical education for pers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and employment capacity buil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7320" y="2443320"/>
            <a:ext cx="20206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0400" y="1486080"/>
            <a:ext cx="6303960" cy="4054320"/>
            <a:chOff x="590400" y="1486080"/>
            <a:chExt cx="6303960" cy="4054320"/>
          </a:xfrm>
        </p:grpSpPr>
        <p:sp>
          <p:nvSpPr>
            <p:cNvPr id="57" name=""/>
            <p:cNvSpPr/>
            <p:nvPr/>
          </p:nvSpPr>
          <p:spPr>
            <a:xfrm>
              <a:off x="590400" y="1486080"/>
              <a:ext cx="5835600" cy="40543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AB Cert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1240" y="2071800"/>
              <a:ext cx="1817640" cy="177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78200" y="2071800"/>
              <a:ext cx="1817640" cy="177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p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1800" y="3513240"/>
              <a:ext cx="1818000" cy="177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13400" y="1486080"/>
              <a:ext cx="480960" cy="4054320"/>
            </a:xfrm>
            <a:custGeom>
              <a:avLst/>
              <a:gdLst>
                <a:gd name="textAreaLeft" fmla="*/ 0 w 480960"/>
                <a:gd name="textAreaRight" fmla="*/ 173520 w 480960"/>
                <a:gd name="textAreaTop" fmla="*/ 105480 h 4054320"/>
                <a:gd name="textAreaBottom" fmla="*/ 3948840 h 40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re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mework to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gnise users? - Empower users? – Employability?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Times New Roman"/>
              </a:rPr>
              <a:t>Innovators – students – SMEs – industry – entrepreneurs – scholars – school lea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evels of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ic – Intermediate – Adv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week – 6 months - x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earning / Train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ructor Centred – Student Centred – Community Cent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ture what Knowled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@ wha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ena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is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lobal Fab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onal footpr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redi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6720" y="1943280"/>
            <a:ext cx="8602920" cy="36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2600" y="2238480"/>
            <a:ext cx="132552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8040" y="2620800"/>
            <a:ext cx="1216080" cy="184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38240" y="2230560"/>
            <a:ext cx="4392720" cy="2455920"/>
            <a:chOff x="1938240" y="2230560"/>
            <a:chExt cx="4392720" cy="2455920"/>
          </a:xfrm>
        </p:grpSpPr>
        <p:sp>
          <p:nvSpPr>
            <p:cNvPr id="73" name=""/>
            <p:cNvSpPr/>
            <p:nvPr/>
          </p:nvSpPr>
          <p:spPr>
            <a:xfrm>
              <a:off x="1938240" y="2230560"/>
              <a:ext cx="4392720" cy="245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each Fab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9880" y="2658960"/>
              <a:ext cx="1358640" cy="184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velop F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90960" y="2639880"/>
              <a:ext cx="1359000" cy="184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termine 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d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eri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48080" y="2658960"/>
              <a:ext cx="1360440" cy="184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FAB content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73080" indent="-73080" algn="ctr">
                <a:lnSpc>
                  <a:spcPct val="100000"/>
                </a:lnSpc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ify &amp; Val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404040" y="2620800"/>
            <a:ext cx="1144440" cy="184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-73080" algn="ct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sustainable model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Global FAB Qua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value lo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37:48Z</dcterms:created>
  <dc:creator>Michael</dc:creator>
  <dc:description/>
  <dc:language>en-US</dc:language>
  <cp:lastModifiedBy>User @</cp:lastModifiedBy>
  <dcterms:modified xsi:type="dcterms:W3CDTF">2006-07-05T12:05:46Z</dcterms:modified>
  <cp:revision>490</cp:revision>
  <dc:subject/>
  <dc:title>PowerPoint Presentation</dc:title>
</cp:coreProperties>
</file>