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4C7-9A74-4F11-B7FF-72DFDE8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198-9169-4964-BC9F-33C40E1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20E-DE44-4056-81E7-9A6AF597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9E5-A9E3-4AAF-9A4A-776F6115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9AA-E013-4748-B8FB-5BCF3722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7C6-ED86-4EA9-9DFF-8C77E5B8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683-537C-40DE-83FA-892DDAE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9A0-0CD9-492B-A4D0-89A313E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586-B974-4740-BCBE-AEDE0EA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659-8415-42B3-B781-4C4F62D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791-1701-4F63-9957-A1FD79C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BAF-13A1-4DE4-84DF-9B83F85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022-A4BD-4949-901E-6ED776AD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7920" y="914400"/>
            <a:ext cx="24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B LA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53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40160" y="10666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OD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8:48:49Z</dcterms:created>
  <dc:creator>Fab</dc:creator>
  <dc:description/>
  <dc:language>en-US</dc:language>
  <cp:lastModifiedBy>Neil Gershenfeld</cp:lastModifiedBy>
  <dcterms:modified xsi:type="dcterms:W3CDTF">2006-06-26T00:51:56Z</dcterms:modified>
  <cp:revision>6</cp:revision>
  <dc:subject/>
  <dc:title>PowerPoint Presentation</dc:title>
</cp:coreProperties>
</file>