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ng" ContentType="image/png"/>
  <Override PartName="/ppt/media/image7.jpeg" ContentType="image/jpeg"/>
  <Override PartName="/ppt/media/image8.gif" ContentType="image/gi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F11-8694-4FE4-9DD0-8FBA5F2F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34E-D1A1-4068-A3C2-618A7B9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CAB-A917-45BD-823C-5CF98FA4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CD0-E521-4E8B-9DFB-857F168C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5A8-58A9-44EC-9AAA-4B349BD5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75D-B879-4F45-BF8D-9DA78CC3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964-48E0-4D61-97AF-11B8DD5E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D77-1558-4B3B-BEBB-86B0105A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98E-2FA4-4835-9A79-5BF04326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CD0-4D16-4CF1-B507-2E4F5AB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B7B-F0EB-419F-9324-F7FDE66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D99-CC76-49FB-9B8E-B9D5218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876920"/>
            <a:ext cx="1295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3928-A031-4E17-B78B-72F8D3D8E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3670200" y="3860640"/>
          <a:ext cx="5473800" cy="26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3860640"/>
                    <a:ext cx="5473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7426440" y="0"/>
            <a:ext cx="1717560" cy="9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08160" y="331920"/>
            <a:ext cx="3733920" cy="164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612800" y="2377800"/>
            <a:ext cx="64008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ab lab Forum -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novation Hub,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onal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th Af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43480" y="550080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lotlo Pho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b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933640" cy="28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 footprint of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 FabLab Roll-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FabLab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 Chain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11760" y="2019240"/>
          <a:ext cx="4559040" cy="2562120"/>
        </p:xfrm>
        <a:graphic>
          <a:graphicData uri="http://schemas.openxmlformats.org/drawingml/2006/table">
            <a:tbl>
              <a:tblPr/>
              <a:tblGrid>
                <a:gridCol w="1844640"/>
                <a:gridCol w="1357200"/>
                <a:gridCol w="1357200"/>
              </a:tblGrid>
              <a:tr h="1267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ource functions of foun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F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SI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umis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t ag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2038320" y="5397480"/>
            <a:ext cx="1461600" cy="927720"/>
            <a:chOff x="2038320" y="5397480"/>
            <a:chExt cx="1461600" cy="927720"/>
          </a:xfrm>
        </p:grpSpPr>
        <p:sp>
          <p:nvSpPr>
            <p:cNvPr id="134" name=""/>
            <p:cNvSpPr/>
            <p:nvPr/>
          </p:nvSpPr>
          <p:spPr>
            <a:xfrm>
              <a:off x="2038320" y="5500800"/>
              <a:ext cx="164880" cy="177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44440" y="5805360"/>
              <a:ext cx="165240" cy="177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4440" y="6110280"/>
              <a:ext cx="1652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40000" y="53974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8280" y="571356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1600" y="601812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08880" y="4660920"/>
            <a:ext cx="2899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ransfer for Social Impa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6600" y="577800"/>
            <a:ext cx="4759560" cy="1768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981080" y="2278080"/>
            <a:ext cx="4741920" cy="4887360"/>
            <a:chOff x="1981080" y="2278080"/>
            <a:chExt cx="4741920" cy="4887360"/>
          </a:xfrm>
        </p:grpSpPr>
        <p:sp>
          <p:nvSpPr>
            <p:cNvPr id="143" name=""/>
            <p:cNvSpPr/>
            <p:nvPr/>
          </p:nvSpPr>
          <p:spPr>
            <a:xfrm>
              <a:off x="1981080" y="5730840"/>
              <a:ext cx="47419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Questions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2964600" y="2278080"/>
              <a:ext cx="2666880" cy="32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it all fits toge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32080"/>
            <a:ext cx="9304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ledge managemen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echnical indepen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assembly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manual (user and technical manu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Laser cuter; Plasma cuter; NC Milling machine; Vinyl cuter; Electronics assembly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60920" y="2057400"/>
          <a:ext cx="3809880" cy="27417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56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Document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H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e T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" name=""/>
          <p:cNvGrpSpPr/>
          <p:nvPr/>
        </p:nvGrpSpPr>
        <p:grpSpPr>
          <a:xfrm>
            <a:off x="4699080" y="4964040"/>
            <a:ext cx="1463040" cy="927720"/>
            <a:chOff x="4699080" y="4964040"/>
            <a:chExt cx="1463040" cy="927720"/>
          </a:xfrm>
        </p:grpSpPr>
        <p:sp>
          <p:nvSpPr>
            <p:cNvPr id="55" name=""/>
            <p:cNvSpPr/>
            <p:nvPr/>
          </p:nvSpPr>
          <p:spPr>
            <a:xfrm>
              <a:off x="4699080" y="5067360"/>
              <a:ext cx="164880" cy="177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05200" y="5371920"/>
              <a:ext cx="165240" cy="177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05200" y="5676840"/>
              <a:ext cx="1652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01840" y="496404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0480" y="528012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2720" y="558468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ledge managemen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echnical indepen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044440"/>
            <a:ext cx="3809880" cy="391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R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889520" y="2349360"/>
          <a:ext cx="3809880" cy="290052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69720"/>
              </a:tblGrid>
              <a:tr h="49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H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 / TUT (MO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e T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"/>
          <p:cNvGrpSpPr/>
          <p:nvPr/>
        </p:nvGrpSpPr>
        <p:grpSpPr>
          <a:xfrm>
            <a:off x="4889520" y="5357880"/>
            <a:ext cx="1463040" cy="927720"/>
            <a:chOff x="4889520" y="5357880"/>
            <a:chExt cx="1463040" cy="927720"/>
          </a:xfrm>
        </p:grpSpPr>
        <p:sp>
          <p:nvSpPr>
            <p:cNvPr id="65" name=""/>
            <p:cNvSpPr/>
            <p:nvPr/>
          </p:nvSpPr>
          <p:spPr>
            <a:xfrm>
              <a:off x="4889520" y="5461200"/>
              <a:ext cx="164880" cy="177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95640" y="5765760"/>
              <a:ext cx="165240" cy="177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95640" y="6070680"/>
              <a:ext cx="1652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92280" y="535788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00920" y="567396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3160" y="597852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889520" y="3089160"/>
            <a:ext cx="216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96000" y="3699000"/>
            <a:ext cx="21564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96000" y="4702320"/>
            <a:ext cx="21564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9200" y="2200320"/>
            <a:ext cx="21564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4840" y="2200320"/>
            <a:ext cx="216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9200" y="2631960"/>
            <a:ext cx="21564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74840" y="2631960"/>
            <a:ext cx="216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9200" y="3025800"/>
            <a:ext cx="21564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74840" y="3025800"/>
            <a:ext cx="216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90840" y="3025800"/>
            <a:ext cx="216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84400" y="3457440"/>
            <a:ext cx="216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3457440"/>
            <a:ext cx="2160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6400" y="3457440"/>
            <a:ext cx="21564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ledge manag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knowledge transf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3809880" cy="22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Collaboration with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889520" y="1770120"/>
          <a:ext cx="3809880" cy="3600360"/>
        </p:xfrm>
        <a:graphic>
          <a:graphicData uri="http://schemas.openxmlformats.org/drawingml/2006/table">
            <a:tbl>
              <a:tblPr/>
              <a:tblGrid>
                <a:gridCol w="1523880"/>
                <a:gridCol w="1016280"/>
                <a:gridCol w="126972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 Collabo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nner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ing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-turb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 F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4761000" y="5522760"/>
            <a:ext cx="1463040" cy="927720"/>
            <a:chOff x="4761000" y="5522760"/>
            <a:chExt cx="1463040" cy="927720"/>
          </a:xfrm>
        </p:grpSpPr>
        <p:sp>
          <p:nvSpPr>
            <p:cNvPr id="88" name=""/>
            <p:cNvSpPr/>
            <p:nvPr/>
          </p:nvSpPr>
          <p:spPr>
            <a:xfrm>
              <a:off x="4761000" y="5626080"/>
              <a:ext cx="164880" cy="177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67120" y="5930640"/>
              <a:ext cx="165240" cy="177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67120" y="6235560"/>
              <a:ext cx="1652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63760" y="552276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72400" y="583884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84640" y="614340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 Hub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IR - M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shanguve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shwab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e Town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e Craft Design Institute / WC provincial 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60920" y="2057400"/>
          <a:ext cx="3809880" cy="274176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69720"/>
              </a:tblGrid>
              <a:tr h="56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 Business Ad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H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 G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e T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99080" y="4964040"/>
            <a:ext cx="1463040" cy="927720"/>
            <a:chOff x="4699080" y="4964040"/>
            <a:chExt cx="1463040" cy="927720"/>
          </a:xfrm>
        </p:grpSpPr>
        <p:sp>
          <p:nvSpPr>
            <p:cNvPr id="98" name=""/>
            <p:cNvSpPr/>
            <p:nvPr/>
          </p:nvSpPr>
          <p:spPr>
            <a:xfrm>
              <a:off x="4699080" y="5067360"/>
              <a:ext cx="164880" cy="177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5200" y="5371920"/>
              <a:ext cx="165240" cy="177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5200" y="5676840"/>
              <a:ext cx="1652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01840" y="496404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lle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10480" y="528012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22720" y="558468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Measuremen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pability maturity mod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736560"/>
            <a:ext cx="76075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bLab roll-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33640" cy="158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T funded labs to be rolled out at forgotten provi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11760" y="2019240"/>
          <a:ext cx="4559040" cy="4029120"/>
        </p:xfrm>
        <a:graphic>
          <a:graphicData uri="http://schemas.openxmlformats.org/drawingml/2006/table">
            <a:tbl>
              <a:tblPr/>
              <a:tblGrid>
                <a:gridCol w="1844640"/>
                <a:gridCol w="1357200"/>
                <a:gridCol w="1357200"/>
              </a:tblGrid>
              <a:tr h="56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bLab roll-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po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umalan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895320" y="4635360"/>
            <a:ext cx="1463040" cy="927720"/>
            <a:chOff x="895320" y="4635360"/>
            <a:chExt cx="1463040" cy="927720"/>
          </a:xfrm>
        </p:grpSpPr>
        <p:sp>
          <p:nvSpPr>
            <p:cNvPr id="110" name=""/>
            <p:cNvSpPr/>
            <p:nvPr/>
          </p:nvSpPr>
          <p:spPr>
            <a:xfrm>
              <a:off x="895320" y="4738680"/>
              <a:ext cx="164880" cy="177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1440" y="5043240"/>
              <a:ext cx="165240" cy="177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01440" y="5348160"/>
              <a:ext cx="16524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98800" y="46353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06720" y="495144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8960" y="525600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0304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 FabLab footpri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nned &amp; act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68400" y="1085760"/>
            <a:ext cx="7718400" cy="5467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6642000" y="2831400"/>
            <a:ext cx="119160" cy="122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61040" y="3047400"/>
            <a:ext cx="1191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159600" y="3047400"/>
            <a:ext cx="118800" cy="122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4320" y="2221920"/>
            <a:ext cx="11880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84800" y="3708360"/>
            <a:ext cx="1191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68880" y="3263760"/>
            <a:ext cx="1191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36960" y="4165560"/>
            <a:ext cx="1191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60720" y="6222960"/>
            <a:ext cx="119160" cy="12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97680" y="5840280"/>
            <a:ext cx="165240" cy="177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04160" y="6132600"/>
            <a:ext cx="164880" cy="177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1160" y="573732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83520" y="605628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37:48Z</dcterms:created>
  <dc:creator>Michael</dc:creator>
  <dc:description/>
  <dc:language>en-US</dc:language>
  <cp:lastModifiedBy>Sherry Lassiter</cp:lastModifiedBy>
  <dcterms:modified xsi:type="dcterms:W3CDTF">2006-06-26T06:38:25Z</dcterms:modified>
  <cp:revision>496</cp:revision>
  <dc:subject/>
  <dc:title>PowerPoint Presentation</dc:title>
</cp:coreProperties>
</file>