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8.wmf" ContentType="image/x-wmf"/>
  <Override PartName="/ppt/media/image12.jpeg" ContentType="image/jpeg"/>
  <Override PartName="/ppt/media/image7.wmf" ContentType="image/x-wmf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4.gif" ContentType="image/gif"/>
  <Override PartName="/ppt/media/image17.jpeg" ContentType="image/jpeg"/>
  <Override PartName="/ppt/media/image3.jpeg" ContentType="image/jpeg"/>
  <Override PartName="/ppt/media/image15.png" ContentType="image/png"/>
  <Override PartName="/ppt/media/image5.jpeg" ContentType="image/jpeg"/>
  <Override PartName="/ppt/media/image9.wmf" ContentType="image/x-wmf"/>
  <Override PartName="/ppt/media/image16.jpeg" ContentType="image/jpeg"/>
  <Override PartName="/ppt/media/image13.gif" ContentType="image/gif"/>
  <Override PartName="/ppt/media/image6.png" ContentType="image/png"/>
  <Override PartName="/ppt/media/image10.wmf" ContentType="image/x-wmf"/>
  <Override PartName="/ppt/media/image4.jpeg" ContentType="image/jpe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</p:sldIdLst>
  <p:sldSz cx="9144000" cy="6858000"/>
  <p:notesSz cx="6937375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69372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6720" cy="46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0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dt" idx="5"/>
          </p:nvPr>
        </p:nvSpPr>
        <p:spPr>
          <a:xfrm>
            <a:off x="3927600" y="-360"/>
            <a:ext cx="3006720" cy="46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sldImg"/>
          </p:nvPr>
        </p:nvSpPr>
        <p:spPr>
          <a:xfrm>
            <a:off x="1163520" y="690120"/>
            <a:ext cx="4610160" cy="345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1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832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ftr" idx="6"/>
          </p:nvPr>
        </p:nvSpPr>
        <p:spPr>
          <a:xfrm>
            <a:off x="0" y="8756280"/>
            <a:ext cx="3006720" cy="46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 type="sldNum" idx="7"/>
          </p:nvPr>
        </p:nvSpPr>
        <p:spPr>
          <a:xfrm>
            <a:off x="3927600" y="8756280"/>
            <a:ext cx="3006720" cy="46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9164D34-FEDA-44EC-9425-A5D4ADA2D2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63520" y="690480"/>
            <a:ext cx="4610160" cy="34578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832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TSLRP speaker notes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3927600" y="8756280"/>
            <a:ext cx="3006720" cy="46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C018092-EFC1-44B3-9BC3-463365435B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0" y="8756280"/>
            <a:ext cx="3006720" cy="46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0" y="-360"/>
            <a:ext cx="3006720" cy="46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927600" y="-360"/>
            <a:ext cx="3006720" cy="46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65320" y="69228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23760" y="4377960"/>
            <a:ext cx="50882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short, we enable all the things that we don’t want someone else to get to fir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o many bullet poin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se first bullet poi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-word “Google-IT” – gives the wrong idea of a large mass of data – call it statistical workloa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ntion yie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rten list. Suggestion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ntion engineering science to enable a disruption and characterize sub-bulle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Eric] Strong, memorable single sentence with sub-bull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’t anger the red baron (M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slide is the concept &amp; eye candy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thing that everybody has to rememb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C32F67-F852-4D98-B22F-9223F02861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75960"/>
            <a:ext cx="8237520" cy="88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760" y="117432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760" y="344304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6BE68-AD1C-426A-9955-95251E6CCE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75960"/>
            <a:ext cx="8237520" cy="88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760" y="117432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760" y="117432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760" y="34430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760" y="34430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4DE5B8-C1EA-454B-8033-276AF236E9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75960"/>
            <a:ext cx="8237520" cy="88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760" y="117432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40720" y="117432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6040" y="117432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760" y="34430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40720" y="34430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6040" y="34430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0B894B-505E-4B13-8791-9085E0F950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5760" y="75960"/>
            <a:ext cx="8237520" cy="88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5760" y="117432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9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760" y="75960"/>
            <a:ext cx="8237520" cy="88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5760" y="117432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75960"/>
            <a:ext cx="8237520" cy="88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17432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760" y="117432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75960"/>
            <a:ext cx="8237520" cy="88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5760" y="75960"/>
            <a:ext cx="8237520" cy="412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9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75960"/>
            <a:ext cx="8237520" cy="88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17432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6760" y="117432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5760" y="34430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75960"/>
            <a:ext cx="8237520" cy="88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760" y="117432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9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B7F806-1FC9-4E22-B879-497FEDCE36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5760" y="75960"/>
            <a:ext cx="8237520" cy="88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5760" y="117432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6760" y="117432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6760" y="34430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5760" y="75960"/>
            <a:ext cx="8237520" cy="88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5760" y="117432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6760" y="117432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5760" y="344304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75960"/>
            <a:ext cx="8237520" cy="88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760" y="117432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5760" y="344304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5760" y="75960"/>
            <a:ext cx="8237520" cy="88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5760" y="117432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6760" y="117432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5760" y="34430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6760" y="34430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75960"/>
            <a:ext cx="8237520" cy="88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17432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40720" y="117432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6040" y="117432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5760" y="34430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40720" y="34430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6040" y="34430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7404DA-23E9-417E-9941-AB42931CF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75960"/>
            <a:ext cx="8237520" cy="88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5760" y="117432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9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4B520C-8E51-451D-939D-310DE1440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5760" y="75960"/>
            <a:ext cx="8237520" cy="88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5760" y="117432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2EE69B-8306-4278-8B76-00DF81D91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760" y="75960"/>
            <a:ext cx="8237520" cy="88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760" y="117432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6760" y="117432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5953D4-0BB5-4DF7-8284-FB7BA5076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75960"/>
            <a:ext cx="8237520" cy="88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6B520B-5E37-4C86-A94F-24525E575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75960"/>
            <a:ext cx="8237520" cy="88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760" y="117432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A80A59-FE5A-4991-B56A-1A083947DB5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5760" y="75960"/>
            <a:ext cx="8237520" cy="412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9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E64303-18B0-4C6C-AB82-05B294B45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75960"/>
            <a:ext cx="8237520" cy="88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17432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6760" y="117432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5760" y="34430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E23310-928E-4C0B-B0E2-B5F223705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75960"/>
            <a:ext cx="8237520" cy="88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760" y="117432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6760" y="117432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6760" y="34430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DE133C-C0A1-47DB-B3B0-511877D97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75960"/>
            <a:ext cx="8237520" cy="88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5760" y="117432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6760" y="117432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5760" y="344304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42F750-2435-40E3-A505-34CBBDC58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75960"/>
            <a:ext cx="8237520" cy="88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760" y="117432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5760" y="344304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4AA3B1-C600-479D-96C5-5B268DFC2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5760" y="75960"/>
            <a:ext cx="8237520" cy="88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5760" y="117432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6760" y="117432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5760" y="34430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6760" y="34430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58FAE4-4D4A-45C6-BD95-FF8D21E91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75960"/>
            <a:ext cx="8237520" cy="88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5760" y="117432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40720" y="117432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6040" y="117432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5760" y="34430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40720" y="34430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6040" y="34430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DEB272-ABEA-49DF-ABD1-E7D512982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75960"/>
            <a:ext cx="8237520" cy="88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17432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760" y="117432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E046A4-9C12-4F29-8CD4-F14432FA35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75960"/>
            <a:ext cx="8237520" cy="88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DF1BB5-96FB-4895-9899-E685D07AC2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75960"/>
            <a:ext cx="8237520" cy="412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9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3A1492-919E-4604-9073-94F0B0E3DA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75960"/>
            <a:ext cx="8237520" cy="88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760" y="117432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760" y="117432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760" y="34430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E3B492-22D1-4473-8B39-FC07AE333B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75960"/>
            <a:ext cx="8237520" cy="88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760" y="117432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760" y="117432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760" y="34430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B40DD6-1B4D-4DF4-9AA0-616A805A14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75960"/>
            <a:ext cx="8237520" cy="88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760" y="117432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760" y="117432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760" y="344304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A6D1E2-B81D-472D-A898-1C47C135D1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96d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610480" y="6477120"/>
            <a:ext cx="471600" cy="31428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0" y="647712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BA Program Review – October 200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76320" y="6273720"/>
            <a:ext cx="914400" cy="533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5760" y="75960"/>
            <a:ext cx="8237520" cy="88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5760" y="117432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800"/>
              </a:spcBef>
              <a:buClr>
                <a:srgbClr val="ffff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spcBef>
                <a:spcPts val="1800"/>
              </a:spcBef>
              <a:buClr>
                <a:srgbClr val="ffff00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725400" indent="-152280">
              <a:spcBef>
                <a:spcPts val="1800"/>
              </a:spcBef>
              <a:buClr>
                <a:srgbClr val="ffff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4" marL="1136520" indent="-409320">
              <a:spcBef>
                <a:spcPts val="1800"/>
              </a:spcBef>
              <a:buClr>
                <a:srgbClr val="ffff00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5" marL="1136520" indent="-409320">
              <a:spcBef>
                <a:spcPts val="1800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6" marL="1136520" indent="-409320">
              <a:spcBef>
                <a:spcPts val="1800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84F15-3FD6-4CC7-8307-E232685AE0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60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7396200" y="538200"/>
            <a:ext cx="1290600" cy="8618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40880" y="3528360"/>
            <a:ext cx="794556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0" y="6095880"/>
            <a:ext cx="9144000" cy="711360"/>
            <a:chOff x="0" y="6095880"/>
            <a:chExt cx="9144000" cy="711360"/>
          </a:xfrm>
        </p:grpSpPr>
        <p:sp>
          <p:nvSpPr>
            <p:cNvPr id="46" name=""/>
            <p:cNvSpPr/>
            <p:nvPr/>
          </p:nvSpPr>
          <p:spPr>
            <a:xfrm>
              <a:off x="0" y="6477120"/>
              <a:ext cx="9144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CBA Program Review – October 2006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47" name="" descr=""/>
            <p:cNvPicPr/>
            <p:nvPr/>
          </p:nvPicPr>
          <p:blipFill>
            <a:blip r:embed="rId3"/>
            <a:stretch/>
          </p:blipFill>
          <p:spPr>
            <a:xfrm>
              <a:off x="76320" y="6095880"/>
              <a:ext cx="1218960" cy="711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9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900" spc="-1" strike="noStrike">
              <a:solidFill>
                <a:srgbClr val="ffffff"/>
              </a:solidFill>
              <a:latin typeface="Verdana"/>
            </a:endParaRPr>
          </a:p>
          <a:p>
            <a:pPr lvl="1" marL="1440" indent="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247680" algn="ctr">
              <a:spcBef>
                <a:spcPts val="499"/>
              </a:spcBef>
              <a:buClr>
                <a:srgbClr val="ffff00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marL="573120" algn="ctr">
              <a:spcBef>
                <a:spcPts val="499"/>
              </a:spcBef>
              <a:buClr>
                <a:srgbClr val="ffff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727200" algn="ctr">
              <a:spcBef>
                <a:spcPts val="499"/>
              </a:spcBef>
              <a:buClr>
                <a:srgbClr val="ffff00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72720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72720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819E8-0631-4A6E-856E-5C8FC00DFB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.wmf"/><Relationship Id="rId9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image" Target="../media/image15.pn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60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400" y="1599120"/>
            <a:ext cx="5526000" cy="18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Verdana"/>
              </a:rPr>
              <a:t>From </a:t>
            </a:r>
            <a:br>
              <a:rPr sz="24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Paintable Computing</a:t>
            </a:r>
            <a:br>
              <a:rPr sz="3200"/>
            </a:br>
            <a:r>
              <a:rPr b="0" i="1" lang="en-US" sz="2400" spc="-1" strike="noStrike">
                <a:solidFill>
                  <a:srgbClr val="ffffff"/>
                </a:solidFill>
                <a:latin typeface="Verdana"/>
              </a:rPr>
              <a:t>to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Scale-free Architecture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4735440" y="4572000"/>
            <a:ext cx="369576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7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Bill Buter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 algn="r">
              <a:lnSpc>
                <a:spcPct val="7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Digital Enterprise Group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 algn="r">
              <a:lnSpc>
                <a:spcPct val="7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ntel Corporat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96d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75960"/>
            <a:ext cx="8237520" cy="88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Verdana"/>
              </a:rPr>
              <a:t>Paint Research, DARPA, DTO first HW</a:t>
            </a: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380880" y="762120"/>
            <a:ext cx="3065760" cy="202860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5181480" y="3200400"/>
            <a:ext cx="3659400" cy="274464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655560" y="2895480"/>
            <a:ext cx="2316240" cy="30895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4"/>
          <a:stretch/>
        </p:blipFill>
        <p:spPr>
          <a:xfrm>
            <a:off x="4943520" y="838080"/>
            <a:ext cx="3743280" cy="218772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4344120" y="1981080"/>
            <a:ext cx="120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5e647"/>
                </a:solidFill>
                <a:latin typeface="Arial"/>
              </a:rPr>
              <a:t>Concep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734640" y="4175280"/>
            <a:ext cx="147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5e647"/>
                </a:solidFill>
                <a:latin typeface="Arial"/>
              </a:rPr>
              <a:t>Simul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971800" y="5165640"/>
            <a:ext cx="152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5e647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f5e647"/>
                </a:solidFill>
                <a:latin typeface="Arial"/>
              </a:rPr>
              <a:t>COTS’ H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200040" y="2514600"/>
            <a:ext cx="1256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5e647"/>
                </a:solidFill>
                <a:latin typeface="Arial"/>
              </a:rPr>
              <a:t>SW</a:t>
            </a:r>
            <a:br>
              <a:rPr sz="2000"/>
            </a:br>
            <a:r>
              <a:rPr b="1" lang="en-US" sz="2000" spc="-1" strike="noStrike">
                <a:solidFill>
                  <a:srgbClr val="f5e647"/>
                </a:solidFill>
                <a:latin typeface="Arial"/>
              </a:rPr>
              <a:t>Proof-of-</a:t>
            </a:r>
            <a:br>
              <a:rPr sz="2000"/>
            </a:br>
            <a:r>
              <a:rPr b="1" lang="en-US" sz="2000" spc="-1" strike="noStrike">
                <a:solidFill>
                  <a:srgbClr val="f5e647"/>
                </a:solidFill>
                <a:latin typeface="Arial"/>
              </a:rPr>
              <a:t>concep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906E5C-4D7C-4EA3-99AE-FBA3003A9EB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" restart="whenNotActive" nodeType="interactiveSeq" fill="hold">
                <p:stCondLst>
                  <p:cond evt="onClick">
                    <p:tgtEl>
                      <p:spTgt spid="137"/>
                    </p:tgtEl>
                  </p:cond>
                </p:stCondLst>
                <p:childTnLst>
                  <p:par>
                    <p:cTn id="28" fill="hold">
                      <p:stCondLst>
                        <p:cond evt="onClick">
                          <p:tgtEl>
                            <p:spTgt spid="137"/>
                          </p:tgtEl>
                        </p:cond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1" dur="1" fill="hold"/>
                                        <p:tgtEl>
                                          <p:spTgt spid="1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96d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5760" y="75960"/>
            <a:ext cx="82375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Reliability – 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new challenges at extreme of device shrinkage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457200" y="549360"/>
            <a:ext cx="4350600" cy="2819160"/>
            <a:chOff x="457200" y="549360"/>
            <a:chExt cx="4350600" cy="2819160"/>
          </a:xfrm>
        </p:grpSpPr>
        <p:sp>
          <p:nvSpPr>
            <p:cNvPr id="146" name=""/>
            <p:cNvSpPr/>
            <p:nvPr/>
          </p:nvSpPr>
          <p:spPr>
            <a:xfrm>
              <a:off x="457200" y="549360"/>
              <a:ext cx="4267080" cy="2819160"/>
            </a:xfrm>
            <a:prstGeom prst="roundRect">
              <a:avLst>
                <a:gd name="adj" fmla="val 4477"/>
              </a:avLst>
            </a:prstGeom>
            <a:gradFill rotWithShape="0">
              <a:gsLst>
                <a:gs pos="0">
                  <a:srgbClr val="17175e"/>
                </a:gs>
                <a:gs pos="50000">
                  <a:srgbClr val="3333cc"/>
                </a:gs>
                <a:gs pos="100000">
                  <a:srgbClr val="17175e"/>
                </a:gs>
              </a:gsLst>
              <a:lin ang="8100000"/>
            </a:gradFill>
            <a:ln w="0">
              <a:noFill/>
            </a:ln>
            <a:effectLst>
              <a:outerShdw dist="17819" dir="2700000" blurRad="0" rotWithShape="0">
                <a:srgbClr val="1e1e7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47" name=""/>
            <p:cNvGrpSpPr/>
            <p:nvPr/>
          </p:nvGrpSpPr>
          <p:grpSpPr>
            <a:xfrm>
              <a:off x="457200" y="549360"/>
              <a:ext cx="4350600" cy="2684520"/>
              <a:chOff x="457200" y="549360"/>
              <a:chExt cx="4350600" cy="2684520"/>
            </a:xfrm>
          </p:grpSpPr>
          <p:sp>
            <p:nvSpPr>
              <p:cNvPr id="148" name=""/>
              <p:cNvSpPr/>
              <p:nvPr/>
            </p:nvSpPr>
            <p:spPr>
              <a:xfrm>
                <a:off x="530640" y="2835000"/>
                <a:ext cx="42771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5e647"/>
                    </a:solidFill>
                    <a:latin typeface="Arial"/>
                  </a:rPr>
                  <a:t>Soft Error FIT/Chip (Logic &amp; Mem)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aphicFrame>
            <p:nvGraphicFramePr>
              <p:cNvPr id="149" name=""/>
              <p:cNvGraphicFramePr/>
              <p:nvPr/>
            </p:nvGraphicFramePr>
            <p:xfrm>
              <a:off x="457200" y="549360"/>
              <a:ext cx="3733560" cy="249048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50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457200" y="549360"/>
                        <a:ext cx="3733560" cy="24904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pSp>
        <p:nvGrpSpPr>
          <p:cNvPr id="151" name=""/>
          <p:cNvGrpSpPr/>
          <p:nvPr/>
        </p:nvGrpSpPr>
        <p:grpSpPr>
          <a:xfrm>
            <a:off x="380880" y="3444840"/>
            <a:ext cx="4343400" cy="2819520"/>
            <a:chOff x="380880" y="3444840"/>
            <a:chExt cx="4343400" cy="2819520"/>
          </a:xfrm>
        </p:grpSpPr>
        <p:sp>
          <p:nvSpPr>
            <p:cNvPr id="152" name=""/>
            <p:cNvSpPr/>
            <p:nvPr/>
          </p:nvSpPr>
          <p:spPr>
            <a:xfrm>
              <a:off x="457200" y="3444840"/>
              <a:ext cx="4267080" cy="2819520"/>
            </a:xfrm>
            <a:prstGeom prst="roundRect">
              <a:avLst>
                <a:gd name="adj" fmla="val 4477"/>
              </a:avLst>
            </a:prstGeom>
            <a:gradFill rotWithShape="0">
              <a:gsLst>
                <a:gs pos="0">
                  <a:srgbClr val="17175e"/>
                </a:gs>
                <a:gs pos="50000">
                  <a:srgbClr val="3333cc"/>
                </a:gs>
                <a:gs pos="100000">
                  <a:srgbClr val="17175e"/>
                </a:gs>
              </a:gsLst>
              <a:lin ang="8100000"/>
            </a:gradFill>
            <a:ln w="0">
              <a:noFill/>
            </a:ln>
            <a:effectLst>
              <a:outerShdw dist="17819" dir="2700000" blurRad="0" rotWithShape="0">
                <a:srgbClr val="1e1e7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53" name=""/>
            <p:cNvGrpSpPr/>
            <p:nvPr/>
          </p:nvGrpSpPr>
          <p:grpSpPr>
            <a:xfrm>
              <a:off x="380880" y="3581640"/>
              <a:ext cx="4158720" cy="2679480"/>
              <a:chOff x="380880" y="3581640"/>
              <a:chExt cx="4158720" cy="2679480"/>
            </a:xfrm>
          </p:grpSpPr>
          <p:sp>
            <p:nvSpPr>
              <p:cNvPr id="154" name=""/>
              <p:cNvSpPr/>
              <p:nvPr/>
            </p:nvSpPr>
            <p:spPr>
              <a:xfrm>
                <a:off x="457560" y="5892840"/>
                <a:ext cx="4082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5e647"/>
                    </a:solidFill>
                    <a:latin typeface="Arial"/>
                  </a:rPr>
                  <a:t>Time dependent device degradation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aphicFrame>
            <p:nvGraphicFramePr>
              <p:cNvPr id="155" name=""/>
              <p:cNvGraphicFramePr/>
              <p:nvPr/>
            </p:nvGraphicFramePr>
            <p:xfrm>
              <a:off x="380880" y="3581640"/>
              <a:ext cx="3733920" cy="249048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156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380880" y="3581640"/>
                        <a:ext cx="3733920" cy="24904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pSp>
        <p:nvGrpSpPr>
          <p:cNvPr id="157" name=""/>
          <p:cNvGrpSpPr/>
          <p:nvPr/>
        </p:nvGrpSpPr>
        <p:grpSpPr>
          <a:xfrm>
            <a:off x="4800600" y="3352680"/>
            <a:ext cx="4343400" cy="2911320"/>
            <a:chOff x="4800600" y="3352680"/>
            <a:chExt cx="4343400" cy="2911320"/>
          </a:xfrm>
        </p:grpSpPr>
        <p:sp>
          <p:nvSpPr>
            <p:cNvPr id="158" name=""/>
            <p:cNvSpPr/>
            <p:nvPr/>
          </p:nvSpPr>
          <p:spPr>
            <a:xfrm>
              <a:off x="4876560" y="3444480"/>
              <a:ext cx="4267440" cy="2819520"/>
            </a:xfrm>
            <a:prstGeom prst="roundRect">
              <a:avLst>
                <a:gd name="adj" fmla="val 4477"/>
              </a:avLst>
            </a:prstGeom>
            <a:gradFill rotWithShape="0">
              <a:gsLst>
                <a:gs pos="0">
                  <a:srgbClr val="17175e"/>
                </a:gs>
                <a:gs pos="50000">
                  <a:srgbClr val="3333cc"/>
                </a:gs>
                <a:gs pos="100000">
                  <a:srgbClr val="17175e"/>
                </a:gs>
              </a:gsLst>
              <a:lin ang="8100000"/>
            </a:gradFill>
            <a:ln w="0">
              <a:noFill/>
            </a:ln>
            <a:effectLst>
              <a:outerShdw dist="17819" dir="2700000" blurRad="0" rotWithShape="0">
                <a:srgbClr val="1e1e7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59" name=""/>
            <p:cNvGrpSpPr/>
            <p:nvPr/>
          </p:nvGrpSpPr>
          <p:grpSpPr>
            <a:xfrm>
              <a:off x="4800600" y="3352680"/>
              <a:ext cx="4184280" cy="2684880"/>
              <a:chOff x="4800600" y="3352680"/>
              <a:chExt cx="4184280" cy="2684880"/>
            </a:xfrm>
          </p:grpSpPr>
          <p:sp>
            <p:nvSpPr>
              <p:cNvPr id="160" name=""/>
              <p:cNvSpPr/>
              <p:nvPr/>
            </p:nvSpPr>
            <p:spPr>
              <a:xfrm>
                <a:off x="5637240" y="5638680"/>
                <a:ext cx="3347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5e647"/>
                    </a:solidFill>
                    <a:latin typeface="Arial"/>
                  </a:rPr>
                  <a:t>Burn-in may phase out…?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aphicFrame>
            <p:nvGraphicFramePr>
              <p:cNvPr id="161" name=""/>
              <p:cNvGraphicFramePr/>
              <p:nvPr/>
            </p:nvGraphicFramePr>
            <p:xfrm>
              <a:off x="4800600" y="3352680"/>
              <a:ext cx="3733560" cy="24904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62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4800600" y="3352680"/>
                        <a:ext cx="3733560" cy="24904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pSp>
        <p:nvGrpSpPr>
          <p:cNvPr id="163" name=""/>
          <p:cNvGrpSpPr/>
          <p:nvPr/>
        </p:nvGrpSpPr>
        <p:grpSpPr>
          <a:xfrm>
            <a:off x="4724280" y="496800"/>
            <a:ext cx="4343400" cy="2871360"/>
            <a:chOff x="4724280" y="496800"/>
            <a:chExt cx="4343400" cy="2871360"/>
          </a:xfrm>
        </p:grpSpPr>
        <p:sp>
          <p:nvSpPr>
            <p:cNvPr id="164" name=""/>
            <p:cNvSpPr/>
            <p:nvPr/>
          </p:nvSpPr>
          <p:spPr>
            <a:xfrm>
              <a:off x="4800600" y="549000"/>
              <a:ext cx="4267080" cy="2819160"/>
            </a:xfrm>
            <a:prstGeom prst="roundRect">
              <a:avLst>
                <a:gd name="adj" fmla="val 4477"/>
              </a:avLst>
            </a:prstGeom>
            <a:gradFill rotWithShape="0">
              <a:gsLst>
                <a:gs pos="0">
                  <a:srgbClr val="17175e"/>
                </a:gs>
                <a:gs pos="50000">
                  <a:srgbClr val="3333cc"/>
                </a:gs>
                <a:gs pos="100000">
                  <a:srgbClr val="17175e"/>
                </a:gs>
              </a:gsLst>
              <a:lin ang="8100000"/>
            </a:gradFill>
            <a:ln w="0">
              <a:noFill/>
            </a:ln>
            <a:effectLst>
              <a:outerShdw dist="17819" dir="2700000" blurRad="0" rotWithShape="0">
                <a:srgbClr val="1e1e7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65" name=""/>
            <p:cNvGrpSpPr/>
            <p:nvPr/>
          </p:nvGrpSpPr>
          <p:grpSpPr>
            <a:xfrm>
              <a:off x="4724280" y="496800"/>
              <a:ext cx="4003560" cy="2721240"/>
              <a:chOff x="4724280" y="496800"/>
              <a:chExt cx="4003560" cy="2721240"/>
            </a:xfrm>
          </p:grpSpPr>
          <p:sp>
            <p:nvSpPr>
              <p:cNvPr id="166" name=""/>
              <p:cNvSpPr/>
              <p:nvPr/>
            </p:nvSpPr>
            <p:spPr>
              <a:xfrm>
                <a:off x="5407560" y="2819160"/>
                <a:ext cx="3320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5e647"/>
                    </a:solidFill>
                    <a:latin typeface="Arial"/>
                  </a:rPr>
                  <a:t>Extreme device variations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7" name=""/>
              <p:cNvGrpSpPr/>
              <p:nvPr/>
            </p:nvGrpSpPr>
            <p:grpSpPr>
              <a:xfrm>
                <a:off x="4724280" y="496800"/>
                <a:ext cx="3733920" cy="2490480"/>
                <a:chOff x="4724280" y="496800"/>
                <a:chExt cx="3733920" cy="2490480"/>
              </a:xfrm>
            </p:grpSpPr>
            <p:graphicFrame>
              <p:nvGraphicFramePr>
                <p:cNvPr id="168" name=""/>
                <p:cNvGraphicFramePr/>
                <p:nvPr/>
              </p:nvGraphicFramePr>
              <p:xfrm>
                <a:off x="4724280" y="496800"/>
                <a:ext cx="3733920" cy="2490480"/>
              </p:xfrm>
              <a:graphic>
                <a:graphicData uri="http://schemas.openxmlformats.org/presentationml/2006/ole">
                  <p:oleObj r:id="rId7" spid="">
                    <p:embed/>
                    <p:pic>
                      <p:nvPicPr>
                        <p:cNvPr id="169" name="" descr=""/>
                        <p:cNvPicPr/>
                        <p:nvPr/>
                      </p:nvPicPr>
                      <p:blipFill>
                        <a:blip r:embed="rId8"/>
                        <a:stretch/>
                      </p:blipFill>
                      <p:spPr>
                        <a:xfrm>
                          <a:off x="4724280" y="496800"/>
                          <a:ext cx="3733920" cy="249048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sp>
              <p:nvSpPr>
                <p:cNvPr id="170" name=""/>
                <p:cNvSpPr/>
                <p:nvPr/>
              </p:nvSpPr>
              <p:spPr>
                <a:xfrm>
                  <a:off x="6476760" y="1234800"/>
                  <a:ext cx="1067040" cy="761760"/>
                </a:xfrm>
                <a:prstGeom prst="leftRightArrow">
                  <a:avLst>
                    <a:gd name="adj1" fmla="val 50000"/>
                    <a:gd name="adj2" fmla="val 27885"/>
                  </a:avLst>
                </a:prstGeom>
                <a:solidFill>
                  <a:srgbClr val="0c2e86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"/>
                    </a:rPr>
                    <a:t>Wider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1" name=""/>
          <p:cNvSpPr/>
          <p:nvPr/>
        </p:nvSpPr>
        <p:spPr>
          <a:xfrm>
            <a:off x="2666880" y="6477120"/>
            <a:ext cx="3733920" cy="307080"/>
          </a:xfrm>
          <a:prstGeom prst="rect">
            <a:avLst/>
          </a:prstGeom>
          <a:solidFill>
            <a:srgbClr val="567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ource: Shekhar Borkar- Intel CT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2968C3-6057-4D1D-926F-AAAB235BFA5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96d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80720" y="-360"/>
            <a:ext cx="876276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Verdana"/>
              </a:rPr>
              <a:t>Scale-free Architectures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761760" y="533160"/>
            <a:ext cx="774036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2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SW techniques for reliable computation on meshes of unreliable HW node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457200" y="1523880"/>
            <a:ext cx="4998960" cy="336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100000"/>
              </a:lnSpc>
              <a:spcBef>
                <a:spcPts val="16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High value “statistical workloads” running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reliably on meshes of unreliable cores (nodes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HW meshes whose performance scale smoothly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with size -- over multiple orders of magnitude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(1K nodes upward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Write once”, scale-agnostic application cod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Excessive defect tolerance,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smooth response to soft error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Shortened HW design cycle,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minimum form factor,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faster yield ramps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6267600" y="1619280"/>
            <a:ext cx="1974600" cy="198756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7188120" y="3871800"/>
            <a:ext cx="1536840" cy="120816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7556400" y="2496960"/>
            <a:ext cx="397080" cy="2923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7230960" y="2478240"/>
            <a:ext cx="309600" cy="1355400"/>
          </a:xfrm>
          <a:prstGeom prst="line">
            <a:avLst/>
          </a:prstGeom>
          <a:ln cap="rnd" w="2844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69320" y="2522520"/>
            <a:ext cx="722160" cy="1311120"/>
          </a:xfrm>
          <a:prstGeom prst="line">
            <a:avLst/>
          </a:prstGeom>
          <a:ln cap="rnd" w="28440">
            <a:solidFill>
              <a:srgbClr val="ffffff"/>
            </a:solidFill>
            <a:custDash>
              <a:ds d="100000" sp="1000"/>
            </a:custDash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278680" y="3946680"/>
            <a:ext cx="12610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00"/>
                </a:solidFill>
                <a:latin typeface="Bookman Old Style"/>
              </a:rPr>
              <a:t>Server (50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283720" y="4292640"/>
            <a:ext cx="14259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00"/>
                </a:solidFill>
                <a:latin typeface="Bookman Old Style"/>
              </a:rPr>
              <a:t>Desktop (20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286600" y="5041800"/>
            <a:ext cx="15264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00"/>
                </a:solidFill>
                <a:latin typeface="Bookman Old Style"/>
              </a:rPr>
              <a:t>Cell phone (1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285880" y="4694400"/>
            <a:ext cx="105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Bookman Old Style"/>
              </a:rPr>
              <a:t>UMPC (2K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578640" y="4113360"/>
            <a:ext cx="1209600" cy="17280"/>
          </a:xfrm>
          <a:prstGeom prst="line">
            <a:avLst/>
          </a:prstGeom>
          <a:ln w="12600">
            <a:solidFill>
              <a:srgbClr val="ffffff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6788160" y="4414680"/>
            <a:ext cx="858960" cy="74880"/>
          </a:xfrm>
          <a:prstGeom prst="line">
            <a:avLst/>
          </a:prstGeom>
          <a:ln w="12600">
            <a:solidFill>
              <a:srgbClr val="ffffff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6434280" y="4713120"/>
            <a:ext cx="1449360" cy="154080"/>
          </a:xfrm>
          <a:prstGeom prst="line">
            <a:avLst/>
          </a:prstGeom>
          <a:ln w="12600">
            <a:solidFill>
              <a:srgbClr val="ffffff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6888240" y="4917600"/>
            <a:ext cx="506160" cy="319320"/>
          </a:xfrm>
          <a:prstGeom prst="line">
            <a:avLst/>
          </a:prstGeom>
          <a:ln w="12600">
            <a:solidFill>
              <a:srgbClr val="ffffff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96680" y="3486240"/>
            <a:ext cx="18572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00"/>
                </a:solidFill>
                <a:latin typeface="Bookman Old Style"/>
              </a:rPr>
              <a:t>Farm (300K nodes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5880240" y="2758680"/>
            <a:ext cx="1009440" cy="709560"/>
          </a:xfrm>
          <a:prstGeom prst="line">
            <a:avLst/>
          </a:prstGeom>
          <a:ln w="12600">
            <a:solidFill>
              <a:srgbClr val="ffffff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325680" y="5540400"/>
            <a:ext cx="545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99ff66"/>
                </a:solidFill>
                <a:latin typeface="Arial"/>
              </a:rPr>
              <a:t>All platforms with the same short design cycle</a:t>
            </a:r>
            <a:r>
              <a:rPr b="1" i="1" lang="en-US" sz="1800" spc="-1" strike="noStrike">
                <a:solidFill>
                  <a:srgbClr val="aa014c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408480" y="5913360"/>
            <a:ext cx="56926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59E235-E516-47C1-9357-74269F0CD8A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96d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01120" y="1447920"/>
            <a:ext cx="1442880" cy="541008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0" y="4583160"/>
            <a:ext cx="4495680" cy="22748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rcRect l="0" t="0" r="0" b="4650"/>
          <a:stretch/>
        </p:blipFill>
        <p:spPr>
          <a:xfrm>
            <a:off x="4952880" y="2419200"/>
            <a:ext cx="2895840" cy="276084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0" y="0"/>
            <a:ext cx="5867280" cy="231300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019920" y="0"/>
            <a:ext cx="3124080" cy="23432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0" y="2362320"/>
                <a:ext cx="5861160" cy="101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L</m:t>
                        </m:r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d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t xml:space="preserve">⇒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d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j</m:t>
                        </m:r>
                        <m:r>
                          <m:t xml:space="preserve">∈</m:t>
                        </m:r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λ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d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λ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d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0" y="3505320"/>
                <a:ext cx="480060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d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new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d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old</m:t>
                        </m:r>
                      </m:sup>
                    </m:sSubSup>
                    <m:r>
                      <m:t xml:space="preserve">+</m:t>
                    </m:r>
                    <m:r>
                      <m:t xml:space="preserve">ε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,</m:t>
                            </m:r>
                            <m:r>
                              <m:t xml:space="preserve">d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00" name=""/>
          <p:cNvSpPr/>
          <p:nvPr/>
        </p:nvSpPr>
        <p:spPr>
          <a:xfrm>
            <a:off x="3981600" y="5121360"/>
            <a:ext cx="41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582"/>
                </a:solidFill>
                <a:latin typeface="Arial"/>
              </a:rPr>
              <a:t>David Dalrymple Ara Knai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310520" y="2347920"/>
            <a:ext cx="1828800" cy="190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6"/>
          <a:stretch/>
        </p:blipFill>
        <p:spPr>
          <a:xfrm>
            <a:off x="4495680" y="5486400"/>
            <a:ext cx="1166760" cy="137160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7"/>
          <a:stretch/>
        </p:blipFill>
        <p:spPr>
          <a:xfrm>
            <a:off x="5791320" y="5514840"/>
            <a:ext cx="1790640" cy="13431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D29669-6081-42D0-88D3-1A78935D3262}" type="slidenum">
              <a:t>5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9T05:52:51Z</dcterms:created>
  <dc:creator>Justin Rattner</dc:creator>
  <dc:description/>
  <dc:language>en-US</dc:language>
  <cp:lastModifiedBy>Neil Gershenfeld</cp:lastModifiedBy>
  <dcterms:modified xsi:type="dcterms:W3CDTF">2006-10-12T13:57:45Z</dcterms:modified>
  <cp:revision>278</cp:revision>
  <dc:subject/>
  <dc:title>TSLRP 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