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6F9-49AB-4FB9-A442-FCDDD6DD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265F-242F-4106-B711-EBB2FA1F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6E42-99DD-4047-AC14-1A5CF979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BD9-1078-4935-B0DC-689C052D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71C-FBEB-44AC-9B30-165DA0F5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A61-2233-4EE6-952E-E456F069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2013-89DD-459E-AC7F-C37E00B0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EDE-25F6-44F1-BEBC-60418282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92D-6E92-4027-90E4-8461C418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5C7-72BD-4F6C-A999-B3FCFBD5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4CF-099F-4260-8410-AFE37C1A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0464-C3B0-4665-B1C7-A80D4487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BBA0-A8AB-4751-B6D7-32AF39900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Why synthsize genes and genom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83640" y="3352680"/>
            <a:ext cx="7476120" cy="945720"/>
            <a:chOff x="683640" y="3352680"/>
            <a:chExt cx="7476120" cy="945720"/>
          </a:xfrm>
        </p:grpSpPr>
        <p:sp>
          <p:nvSpPr>
            <p:cNvPr id="43" name=""/>
            <p:cNvSpPr/>
            <p:nvPr/>
          </p:nvSpPr>
          <p:spPr>
            <a:xfrm>
              <a:off x="683640" y="383868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541640" y="383868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79200" y="3352680"/>
              <a:ext cx="6858000" cy="457200"/>
              <a:chOff x="979200" y="3352680"/>
              <a:chExt cx="6858000" cy="457200"/>
            </a:xfrm>
          </p:grpSpPr>
          <p:sp>
            <p:nvSpPr>
              <p:cNvPr id="46" name=""/>
              <p:cNvSpPr/>
              <p:nvPr/>
            </p:nvSpPr>
            <p:spPr>
              <a:xfrm>
                <a:off x="979200" y="3352680"/>
                <a:ext cx="2286000" cy="457200"/>
              </a:xfrm>
              <a:prstGeom prst="rect">
                <a:avLst/>
              </a:prstGeom>
              <a:gradFill rotWithShape="0">
                <a:gsLst>
                  <a:gs pos="0">
                    <a:srgbClr val="00cc00"/>
                  </a:gs>
                  <a:gs pos="100000">
                    <a:srgbClr val="0000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265200" y="3352680"/>
                <a:ext cx="2286000" cy="4572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0cc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551200" y="3352680"/>
                <a:ext cx="2286000" cy="4572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5284080" y="383868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9000" y="383868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" name="ecoldiv" descr=""/>
          <p:cNvPicPr/>
          <p:nvPr/>
        </p:nvPicPr>
        <p:blipFill>
          <a:blip r:embed="rId1"/>
          <a:stretch/>
        </p:blipFill>
        <p:spPr>
          <a:xfrm>
            <a:off x="6999120" y="4505400"/>
            <a:ext cx="1892520" cy="1482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296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0018" descr=""/>
          <p:cNvPicPr/>
          <p:nvPr/>
        </p:nvPicPr>
        <p:blipFill>
          <a:blip r:embed="rId2"/>
          <a:stretch/>
        </p:blipFill>
        <p:spPr>
          <a:xfrm>
            <a:off x="4827600" y="1762200"/>
            <a:ext cx="1434960" cy="1498680"/>
          </a:xfrm>
          <a:prstGeom prst="rect">
            <a:avLst/>
          </a:prstGeom>
          <a:ln w="0">
            <a:noFill/>
          </a:ln>
        </p:spPr>
      </p:pic>
      <p:pic>
        <p:nvPicPr>
          <p:cNvPr id="54" name="403335aa.2" descr=""/>
          <p:cNvPicPr/>
          <p:nvPr/>
        </p:nvPicPr>
        <p:blipFill>
          <a:blip r:embed="rId3"/>
          <a:srcRect l="0" t="2645" r="48869" b="65632"/>
          <a:stretch/>
        </p:blipFill>
        <p:spPr>
          <a:xfrm>
            <a:off x="2351160" y="4467240"/>
            <a:ext cx="175248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gfp-protein" descr=""/>
          <p:cNvPicPr/>
          <p:nvPr/>
        </p:nvPicPr>
        <p:blipFill>
          <a:blip r:embed="rId4"/>
          <a:stretch/>
        </p:blipFill>
        <p:spPr>
          <a:xfrm>
            <a:off x="303120" y="1419120"/>
            <a:ext cx="1397160" cy="1790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21720" y="2016000"/>
            <a:ext cx="1828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inimal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enome re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837560" y="2666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0840" y="2197080"/>
            <a:ext cx="2259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enetic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etabolic path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59200" y="4768920"/>
            <a:ext cx="1587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ene thera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720" y="4950000"/>
            <a:ext cx="2184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ndividual 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ssembly scaffo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265560" y="28479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979560" y="426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551560" y="42670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32160" y="3328920"/>
            <a:ext cx="11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ase pai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rror Correction with Flawed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410080" y="2971800"/>
            <a:ext cx="2001960" cy="2209680"/>
            <a:chOff x="5410080" y="2971800"/>
            <a:chExt cx="2001960" cy="2209680"/>
          </a:xfrm>
        </p:grpSpPr>
        <p:grpSp>
          <p:nvGrpSpPr>
            <p:cNvPr id="67" name=""/>
            <p:cNvGrpSpPr/>
            <p:nvPr/>
          </p:nvGrpSpPr>
          <p:grpSpPr>
            <a:xfrm>
              <a:off x="5410080" y="2971800"/>
              <a:ext cx="2001600" cy="533520"/>
              <a:chOff x="5410080" y="2971800"/>
              <a:chExt cx="2001600" cy="533520"/>
            </a:xfrm>
          </p:grpSpPr>
          <p:sp>
            <p:nvSpPr>
              <p:cNvPr id="68" name=""/>
              <p:cNvSpPr/>
              <p:nvPr/>
            </p:nvSpPr>
            <p:spPr>
              <a:xfrm>
                <a:off x="5410080" y="2971800"/>
                <a:ext cx="2001600" cy="533520"/>
              </a:xfrm>
              <a:prstGeom prst="rightArrow">
                <a:avLst>
                  <a:gd name="adj1" fmla="val 59093"/>
                  <a:gd name="adj2" fmla="val 88859"/>
                </a:avLst>
              </a:prstGeom>
              <a:solidFill>
                <a:srgbClr val="57a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21240" y="308628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802120" y="308628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183000" y="3086280"/>
                <a:ext cx="381240" cy="304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564240" y="308628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410080" y="3809880"/>
              <a:ext cx="2001960" cy="533520"/>
              <a:chOff x="5410080" y="3809880"/>
              <a:chExt cx="2001960" cy="533520"/>
            </a:xfrm>
          </p:grpSpPr>
          <p:sp>
            <p:nvSpPr>
              <p:cNvPr id="74" name=""/>
              <p:cNvSpPr/>
              <p:nvPr/>
            </p:nvSpPr>
            <p:spPr>
              <a:xfrm>
                <a:off x="5410080" y="3809880"/>
                <a:ext cx="2001960" cy="533520"/>
              </a:xfrm>
              <a:prstGeom prst="rightArrow">
                <a:avLst>
                  <a:gd name="adj1" fmla="val 59093"/>
                  <a:gd name="adj2" fmla="val 88875"/>
                </a:avLst>
              </a:prstGeom>
              <a:solidFill>
                <a:srgbClr val="57a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421240" y="392436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802120" y="3924360"/>
                <a:ext cx="381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183360" y="392436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564240" y="392436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410080" y="4648320"/>
              <a:ext cx="2001960" cy="533160"/>
              <a:chOff x="5410080" y="4648320"/>
              <a:chExt cx="2001960" cy="533160"/>
            </a:xfrm>
          </p:grpSpPr>
          <p:sp>
            <p:nvSpPr>
              <p:cNvPr id="80" name=""/>
              <p:cNvSpPr/>
              <p:nvPr/>
            </p:nvSpPr>
            <p:spPr>
              <a:xfrm>
                <a:off x="5410080" y="4648320"/>
                <a:ext cx="2001960" cy="533160"/>
              </a:xfrm>
              <a:prstGeom prst="rightArrow">
                <a:avLst>
                  <a:gd name="adj1" fmla="val 59093"/>
                  <a:gd name="adj2" fmla="val 88935"/>
                </a:avLst>
              </a:prstGeom>
              <a:solidFill>
                <a:srgbClr val="57a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421240" y="4762440"/>
                <a:ext cx="38088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802120" y="4762440"/>
                <a:ext cx="38124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183360" y="4762440"/>
                <a:ext cx="38088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564240" y="4762440"/>
                <a:ext cx="380880" cy="304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5410080" y="6019920"/>
            <a:ext cx="2001960" cy="533160"/>
            <a:chOff x="5410080" y="6019920"/>
            <a:chExt cx="2001960" cy="533160"/>
          </a:xfrm>
        </p:grpSpPr>
        <p:sp>
          <p:nvSpPr>
            <p:cNvPr id="86" name=""/>
            <p:cNvSpPr/>
            <p:nvPr/>
          </p:nvSpPr>
          <p:spPr>
            <a:xfrm>
              <a:off x="5410080" y="6019920"/>
              <a:ext cx="2001960" cy="533160"/>
            </a:xfrm>
            <a:prstGeom prst="rightArrow">
              <a:avLst>
                <a:gd name="adj1" fmla="val 59093"/>
                <a:gd name="adj2" fmla="val 88935"/>
              </a:avLst>
            </a:prstGeom>
            <a:solidFill>
              <a:srgbClr val="57a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21240" y="6134040"/>
              <a:ext cx="3808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02120" y="6134040"/>
              <a:ext cx="3812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83360" y="6134040"/>
              <a:ext cx="3808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64240" y="6134040"/>
              <a:ext cx="3808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324480" y="5334120"/>
            <a:ext cx="0" cy="609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IMAGE-winograd-cowan-3-5-hamming" descr=""/>
          <p:cNvPicPr/>
          <p:nvPr/>
        </p:nvPicPr>
        <p:blipFill>
          <a:blip r:embed="rId1"/>
          <a:stretch/>
        </p:blipFill>
        <p:spPr>
          <a:xfrm>
            <a:off x="1266840" y="2895480"/>
            <a:ext cx="2495520" cy="2935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90720" y="5943600"/>
            <a:ext cx="30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nograd and Cowan (1967) “Reliable Computation in the Presence of Nois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9480" y="993600"/>
            <a:ext cx="7772400" cy="1673280"/>
            <a:chOff x="609480" y="993600"/>
            <a:chExt cx="7772400" cy="1673280"/>
          </a:xfrm>
        </p:grpSpPr>
        <p:grpSp>
          <p:nvGrpSpPr>
            <p:cNvPr id="95" name=""/>
            <p:cNvGrpSpPr/>
            <p:nvPr/>
          </p:nvGrpSpPr>
          <p:grpSpPr>
            <a:xfrm>
              <a:off x="609480" y="993600"/>
              <a:ext cx="7772400" cy="1673280"/>
              <a:chOff x="609480" y="993600"/>
              <a:chExt cx="7772400" cy="1673280"/>
            </a:xfrm>
          </p:grpSpPr>
          <p:sp>
            <p:nvSpPr>
              <p:cNvPr id="96" name=""/>
              <p:cNvSpPr/>
              <p:nvPr/>
            </p:nvSpPr>
            <p:spPr>
              <a:xfrm>
                <a:off x="609480" y="993600"/>
                <a:ext cx="7772400" cy="167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16680" y="1038600"/>
                <a:ext cx="7724160" cy="53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 circuit containing N (error-free) gates can be simulated with probability of error at most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, using N log(N/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) faulty gates, which fail with probability p, so long as p&lt;p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ahoma"/>
                  </a:rPr>
                  <a:t>th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486400" y="2209680"/>
              <a:ext cx="264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von Neumann (195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431040" y="545004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NA “consensus vo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57200" y="2209680"/>
            <a:ext cx="5334120" cy="459720"/>
            <a:chOff x="457200" y="2209680"/>
            <a:chExt cx="5334120" cy="459720"/>
          </a:xfrm>
        </p:grpSpPr>
        <p:sp>
          <p:nvSpPr>
            <p:cNvPr id="101" name=""/>
            <p:cNvSpPr/>
            <p:nvPr/>
          </p:nvSpPr>
          <p:spPr>
            <a:xfrm>
              <a:off x="457200" y="2514600"/>
              <a:ext cx="5334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2666880"/>
              <a:ext cx="5257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02000" y="2209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400800" y="3352680"/>
            <a:ext cx="237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ismatch Recogn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uclease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586160" y="1600200"/>
            <a:ext cx="774000" cy="900000"/>
            <a:chOff x="1586160" y="1600200"/>
            <a:chExt cx="774000" cy="900000"/>
          </a:xfrm>
        </p:grpSpPr>
        <p:sp>
          <p:nvSpPr>
            <p:cNvPr id="106" name=""/>
            <p:cNvSpPr/>
            <p:nvPr/>
          </p:nvSpPr>
          <p:spPr>
            <a:xfrm>
              <a:off x="1600200" y="1966680"/>
              <a:ext cx="30492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7400" y="1662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86160" y="20793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14920" y="1600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00360" y="1714320"/>
              <a:ext cx="242640" cy="285840"/>
            </a:xfrm>
            <a:custGeom>
              <a:avLst/>
              <a:gdLst/>
              <a:ahLst/>
              <a:rect l="l" t="t" r="r" b="b"/>
              <a:pathLst>
                <a:path w="153" h="180">
                  <a:moveTo>
                    <a:pt x="0" y="180"/>
                  </a:moveTo>
                  <a:cubicBezTo>
                    <a:pt x="36" y="168"/>
                    <a:pt x="42" y="152"/>
                    <a:pt x="54" y="117"/>
                  </a:cubicBezTo>
                  <a:cubicBezTo>
                    <a:pt x="35" y="59"/>
                    <a:pt x="61" y="50"/>
                    <a:pt x="108" y="27"/>
                  </a:cubicBezTo>
                  <a:cubicBezTo>
                    <a:pt x="109" y="27"/>
                    <a:pt x="146" y="3"/>
                    <a:pt x="15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57200" y="3429000"/>
            <a:ext cx="5334120" cy="459720"/>
            <a:chOff x="457200" y="3429000"/>
            <a:chExt cx="5334120" cy="459720"/>
          </a:xfrm>
        </p:grpSpPr>
        <p:sp>
          <p:nvSpPr>
            <p:cNvPr id="112" name=""/>
            <p:cNvSpPr/>
            <p:nvPr/>
          </p:nvSpPr>
          <p:spPr>
            <a:xfrm>
              <a:off x="457200" y="3733920"/>
              <a:ext cx="5334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" y="3886200"/>
              <a:ext cx="5257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152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57200" y="4876920"/>
            <a:ext cx="5334120" cy="459720"/>
            <a:chOff x="457200" y="4876920"/>
            <a:chExt cx="5334120" cy="459720"/>
          </a:xfrm>
        </p:grpSpPr>
        <p:sp>
          <p:nvSpPr>
            <p:cNvPr id="116" name=""/>
            <p:cNvSpPr/>
            <p:nvPr/>
          </p:nvSpPr>
          <p:spPr>
            <a:xfrm>
              <a:off x="457200" y="5181480"/>
              <a:ext cx="5334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" y="5334120"/>
              <a:ext cx="5257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5000" y="48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410000" y="2820960"/>
            <a:ext cx="797760" cy="896400"/>
            <a:chOff x="4410000" y="2820960"/>
            <a:chExt cx="797760" cy="896400"/>
          </a:xfrm>
        </p:grpSpPr>
        <p:sp>
          <p:nvSpPr>
            <p:cNvPr id="120" name=""/>
            <p:cNvSpPr/>
            <p:nvPr/>
          </p:nvSpPr>
          <p:spPr>
            <a:xfrm rot="97200">
              <a:off x="4429800" y="3179520"/>
              <a:ext cx="30456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97200">
              <a:off x="4899600" y="2886840"/>
              <a:ext cx="2282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7200">
              <a:off x="4415040" y="329292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97200">
              <a:off x="4857120" y="2825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7200">
              <a:off x="4640760" y="2932200"/>
              <a:ext cx="242280" cy="285840"/>
            </a:xfrm>
            <a:custGeom>
              <a:avLst/>
              <a:gdLst/>
              <a:ahLst/>
              <a:rect l="l" t="t" r="r" b="b"/>
              <a:pathLst>
                <a:path w="153" h="180">
                  <a:moveTo>
                    <a:pt x="0" y="180"/>
                  </a:moveTo>
                  <a:cubicBezTo>
                    <a:pt x="36" y="168"/>
                    <a:pt x="42" y="152"/>
                    <a:pt x="54" y="117"/>
                  </a:cubicBezTo>
                  <a:cubicBezTo>
                    <a:pt x="35" y="59"/>
                    <a:pt x="61" y="50"/>
                    <a:pt x="108" y="27"/>
                  </a:cubicBezTo>
                  <a:cubicBezTo>
                    <a:pt x="109" y="27"/>
                    <a:pt x="146" y="3"/>
                    <a:pt x="15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729160" y="4281480"/>
            <a:ext cx="774000" cy="900000"/>
            <a:chOff x="2729160" y="4281480"/>
            <a:chExt cx="774000" cy="900000"/>
          </a:xfrm>
        </p:grpSpPr>
        <p:sp>
          <p:nvSpPr>
            <p:cNvPr id="126" name=""/>
            <p:cNvSpPr/>
            <p:nvPr/>
          </p:nvSpPr>
          <p:spPr>
            <a:xfrm>
              <a:off x="2743200" y="4647960"/>
              <a:ext cx="30492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00400" y="4343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29160" y="47606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57920" y="42814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43360" y="4395600"/>
              <a:ext cx="242640" cy="285840"/>
            </a:xfrm>
            <a:custGeom>
              <a:avLst/>
              <a:gdLst/>
              <a:ahLst/>
              <a:rect l="l" t="t" r="r" b="b"/>
              <a:pathLst>
                <a:path w="153" h="180">
                  <a:moveTo>
                    <a:pt x="0" y="180"/>
                  </a:moveTo>
                  <a:cubicBezTo>
                    <a:pt x="36" y="168"/>
                    <a:pt x="42" y="152"/>
                    <a:pt x="54" y="117"/>
                  </a:cubicBezTo>
                  <a:cubicBezTo>
                    <a:pt x="35" y="59"/>
                    <a:pt x="61" y="50"/>
                    <a:pt x="108" y="27"/>
                  </a:cubicBezTo>
                  <a:cubicBezTo>
                    <a:pt x="109" y="27"/>
                    <a:pt x="146" y="3"/>
                    <a:pt x="15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267080" y="2819520"/>
            <a:ext cx="990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4191120"/>
            <a:ext cx="9903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301160" y="2286000"/>
            <a:ext cx="774000" cy="900000"/>
            <a:chOff x="7301160" y="2286000"/>
            <a:chExt cx="774000" cy="900000"/>
          </a:xfrm>
        </p:grpSpPr>
        <p:sp>
          <p:nvSpPr>
            <p:cNvPr id="134" name=""/>
            <p:cNvSpPr/>
            <p:nvPr/>
          </p:nvSpPr>
          <p:spPr>
            <a:xfrm>
              <a:off x="7315200" y="2652480"/>
              <a:ext cx="30492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72400" y="23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01160" y="27651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29920" y="2286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15360" y="2400120"/>
              <a:ext cx="242640" cy="285840"/>
            </a:xfrm>
            <a:custGeom>
              <a:avLst/>
              <a:gdLst/>
              <a:ahLst/>
              <a:rect l="l" t="t" r="r" b="b"/>
              <a:pathLst>
                <a:path w="153" h="180">
                  <a:moveTo>
                    <a:pt x="0" y="180"/>
                  </a:moveTo>
                  <a:cubicBezTo>
                    <a:pt x="36" y="168"/>
                    <a:pt x="42" y="152"/>
                    <a:pt x="54" y="117"/>
                  </a:cubicBezTo>
                  <a:cubicBezTo>
                    <a:pt x="35" y="59"/>
                    <a:pt x="61" y="50"/>
                    <a:pt x="108" y="27"/>
                  </a:cubicBezTo>
                  <a:cubicBezTo>
                    <a:pt x="109" y="27"/>
                    <a:pt x="146" y="3"/>
                    <a:pt x="15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447920" y="1600200"/>
            <a:ext cx="9903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3200" y="137160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Repair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73160" y="152280"/>
            <a:ext cx="69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lete error correction when no strand is error-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457200" y="4876920"/>
            <a:ext cx="5334120" cy="459720"/>
            <a:chOff x="457200" y="4876920"/>
            <a:chExt cx="5334120" cy="459720"/>
          </a:xfrm>
        </p:grpSpPr>
        <p:sp>
          <p:nvSpPr>
            <p:cNvPr id="143" name=""/>
            <p:cNvSpPr/>
            <p:nvPr/>
          </p:nvSpPr>
          <p:spPr>
            <a:xfrm>
              <a:off x="457200" y="5181480"/>
              <a:ext cx="5334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" y="5334120"/>
              <a:ext cx="5257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45000" y="48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729160" y="4281480"/>
            <a:ext cx="774000" cy="900000"/>
            <a:chOff x="2729160" y="4281480"/>
            <a:chExt cx="774000" cy="900000"/>
          </a:xfrm>
        </p:grpSpPr>
        <p:sp>
          <p:nvSpPr>
            <p:cNvPr id="147" name=""/>
            <p:cNvSpPr/>
            <p:nvPr/>
          </p:nvSpPr>
          <p:spPr>
            <a:xfrm>
              <a:off x="2743200" y="4647960"/>
              <a:ext cx="30492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00400" y="4343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29160" y="47606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57920" y="42814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43360" y="4395600"/>
              <a:ext cx="242640" cy="285840"/>
            </a:xfrm>
            <a:custGeom>
              <a:avLst/>
              <a:gdLst/>
              <a:ahLst/>
              <a:rect l="l" t="t" r="r" b="b"/>
              <a:pathLst>
                <a:path w="153" h="180">
                  <a:moveTo>
                    <a:pt x="0" y="180"/>
                  </a:moveTo>
                  <a:cubicBezTo>
                    <a:pt x="36" y="168"/>
                    <a:pt x="42" y="152"/>
                    <a:pt x="54" y="117"/>
                  </a:cubicBezTo>
                  <a:cubicBezTo>
                    <a:pt x="35" y="59"/>
                    <a:pt x="61" y="50"/>
                    <a:pt x="108" y="27"/>
                  </a:cubicBezTo>
                  <a:cubicBezTo>
                    <a:pt x="109" y="27"/>
                    <a:pt x="146" y="3"/>
                    <a:pt x="15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590920" y="4191120"/>
            <a:ext cx="9903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312408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3124080"/>
            <a:ext cx="3276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666880"/>
            <a:ext cx="9907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666880"/>
            <a:ext cx="3276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429000"/>
            <a:ext cx="3809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34290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88620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3886200"/>
            <a:ext cx="457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30760" y="2743200"/>
            <a:ext cx="16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pies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3200" y="137160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Repair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3160" y="152280"/>
            <a:ext cx="69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lete error correction when no strand is error-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457200" y="4876920"/>
            <a:ext cx="5334120" cy="459720"/>
            <a:chOff x="457200" y="4876920"/>
            <a:chExt cx="5334120" cy="459720"/>
          </a:xfrm>
        </p:grpSpPr>
        <p:sp>
          <p:nvSpPr>
            <p:cNvPr id="165" name=""/>
            <p:cNvSpPr/>
            <p:nvPr/>
          </p:nvSpPr>
          <p:spPr>
            <a:xfrm>
              <a:off x="457200" y="5181480"/>
              <a:ext cx="5334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" y="5334120"/>
              <a:ext cx="5257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45000" y="48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729160" y="4281480"/>
            <a:ext cx="774000" cy="900000"/>
            <a:chOff x="2729160" y="4281480"/>
            <a:chExt cx="774000" cy="900000"/>
          </a:xfrm>
        </p:grpSpPr>
        <p:sp>
          <p:nvSpPr>
            <p:cNvPr id="169" name=""/>
            <p:cNvSpPr/>
            <p:nvPr/>
          </p:nvSpPr>
          <p:spPr>
            <a:xfrm>
              <a:off x="2743200" y="4647960"/>
              <a:ext cx="30492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00400" y="4343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29160" y="47606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57920" y="42814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43360" y="4395600"/>
              <a:ext cx="242640" cy="285840"/>
            </a:xfrm>
            <a:custGeom>
              <a:avLst/>
              <a:gdLst/>
              <a:ahLst/>
              <a:rect l="l" t="t" r="r" b="b"/>
              <a:pathLst>
                <a:path w="153" h="180">
                  <a:moveTo>
                    <a:pt x="0" y="180"/>
                  </a:moveTo>
                  <a:cubicBezTo>
                    <a:pt x="36" y="168"/>
                    <a:pt x="42" y="152"/>
                    <a:pt x="54" y="117"/>
                  </a:cubicBezTo>
                  <a:cubicBezTo>
                    <a:pt x="35" y="59"/>
                    <a:pt x="61" y="50"/>
                    <a:pt x="108" y="27"/>
                  </a:cubicBezTo>
                  <a:cubicBezTo>
                    <a:pt x="109" y="27"/>
                    <a:pt x="146" y="3"/>
                    <a:pt x="15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590920" y="4191120"/>
            <a:ext cx="9903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37339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733920"/>
            <a:ext cx="3276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2666880"/>
            <a:ext cx="9907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2666880"/>
            <a:ext cx="3276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2514600"/>
            <a:ext cx="3809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25146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88620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3886200"/>
            <a:ext cx="457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91120" y="2514600"/>
            <a:ext cx="1218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219320" y="266688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373392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3920" y="3886200"/>
            <a:ext cx="1600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30760" y="2743200"/>
            <a:ext cx="16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pies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3200" y="137160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Repair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73160" y="152280"/>
            <a:ext cx="69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lete error correction when no strand is error-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44197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4419720"/>
            <a:ext cx="3276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2666880"/>
            <a:ext cx="9907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2666880"/>
            <a:ext cx="3276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514600"/>
            <a:ext cx="3809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5146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388620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3886200"/>
            <a:ext cx="457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2514600"/>
            <a:ext cx="1218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219320" y="266688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441972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3886200"/>
            <a:ext cx="1600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4876920"/>
            <a:ext cx="2133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4876920"/>
            <a:ext cx="2133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5334120"/>
            <a:ext cx="21337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5334120"/>
            <a:ext cx="2133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54800" y="4130640"/>
            <a:ext cx="16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pies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53200" y="137160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Repair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73160" y="152280"/>
            <a:ext cx="69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lete error correction when no strand is error-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518148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2666880"/>
            <a:ext cx="9907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2666880"/>
            <a:ext cx="3276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2514600"/>
            <a:ext cx="3809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57800" y="25146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388620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3886200"/>
            <a:ext cx="457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2514600"/>
            <a:ext cx="1218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219320" y="266688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518148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3886200"/>
            <a:ext cx="1600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733920"/>
            <a:ext cx="2133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3733920"/>
            <a:ext cx="2133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5334120"/>
            <a:ext cx="21337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5334120"/>
            <a:ext cx="2133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373392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33720" y="53341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54800" y="4130640"/>
            <a:ext cx="16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pies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4240" y="5918040"/>
            <a:ext cx="59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urrent milestone: 1 error per 20,000 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Next milestone: 1 error per 100,000 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53200" y="137160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Repair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73160" y="152280"/>
            <a:ext cx="69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lete error correction when no strand is error-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237600"/>
            <a:ext cx="8686800" cy="4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y Synthetic Geno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4267080"/>
            <a:ext cx="4952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ug biosynthesis of new prote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natural Amino Ac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cod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ome stabilit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fer Bio-is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6320" y="990720"/>
            <a:ext cx="3124080" cy="1828800"/>
            <a:chOff x="76320" y="990720"/>
            <a:chExt cx="3124080" cy="1828800"/>
          </a:xfrm>
        </p:grpSpPr>
        <p:sp>
          <p:nvSpPr>
            <p:cNvPr id="234" name=""/>
            <p:cNvSpPr/>
            <p:nvPr/>
          </p:nvSpPr>
          <p:spPr>
            <a:xfrm>
              <a:off x="286200" y="1071720"/>
              <a:ext cx="247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Nonnatural amino aci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147600" y="1387800"/>
              <a:ext cx="2979360" cy="130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6320" y="990720"/>
              <a:ext cx="312408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200400" y="1701720"/>
            <a:ext cx="2590920" cy="133056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5791320" y="990720"/>
            <a:ext cx="3124080" cy="1828800"/>
            <a:chOff x="5791320" y="990720"/>
            <a:chExt cx="3124080" cy="1828800"/>
          </a:xfrm>
        </p:grpSpPr>
        <p:pic>
          <p:nvPicPr>
            <p:cNvPr id="239" name="" descr=""/>
            <p:cNvPicPr/>
            <p:nvPr/>
          </p:nvPicPr>
          <p:blipFill>
            <a:blip r:embed="rId3"/>
            <a:stretch/>
          </p:blipFill>
          <p:spPr>
            <a:xfrm>
              <a:off x="6400800" y="1393920"/>
              <a:ext cx="198108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791320" y="990720"/>
              <a:ext cx="312408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29520" y="990720"/>
              <a:ext cx="22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Genome Engine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51000" y="2971800"/>
            <a:ext cx="29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lular Chas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5638680" y="3943440"/>
            <a:ext cx="2976840" cy="2762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870160" y="354168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-resistant str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41960" y="419112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137440" y="419112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.co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c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ng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E.coli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: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rE.c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029120" y="3233880"/>
            <a:ext cx="5191200" cy="34718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151640" y="1600200"/>
            <a:ext cx="105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G16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6 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79320" y="1017720"/>
            <a:ext cx="8541000" cy="5688000"/>
            <a:chOff x="679320" y="1017720"/>
            <a:chExt cx="8541000" cy="5688000"/>
          </a:xfrm>
        </p:grpSpPr>
        <p:grpSp>
          <p:nvGrpSpPr>
            <p:cNvPr id="251" name=""/>
            <p:cNvGrpSpPr/>
            <p:nvPr/>
          </p:nvGrpSpPr>
          <p:grpSpPr>
            <a:xfrm>
              <a:off x="679320" y="1017720"/>
              <a:ext cx="2071800" cy="2071080"/>
              <a:chOff x="679320" y="1017720"/>
              <a:chExt cx="2071800" cy="207108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80760" y="1017720"/>
                <a:ext cx="2070360" cy="2069280"/>
                <a:chOff x="680760" y="1017720"/>
                <a:chExt cx="2070360" cy="206928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1722240" y="1082160"/>
                  <a:ext cx="180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573200" y="10267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573200" y="10267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568160" y="1026720"/>
                  <a:ext cx="208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68160" y="1026720"/>
                  <a:ext cx="208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80760" y="1977840"/>
                  <a:ext cx="150840" cy="9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V="1">
                  <a:off x="809640" y="2485800"/>
                  <a:ext cx="131760" cy="74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 flipV="1">
                  <a:off x="2484360" y="2489040"/>
                  <a:ext cx="131760" cy="72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>
                  <a:off x="2576160" y="2252520"/>
                  <a:ext cx="145800" cy="36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>
                  <a:off x="2596680" y="2006280"/>
                  <a:ext cx="150840" cy="6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2597040" y="1977840"/>
                  <a:ext cx="149040" cy="9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>
                  <a:off x="2582280" y="1860480"/>
                  <a:ext cx="149400" cy="28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>
                  <a:off x="2549160" y="1712520"/>
                  <a:ext cx="14436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>
                  <a:off x="2550600" y="1715760"/>
                  <a:ext cx="142920" cy="4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>
                  <a:off x="2531880" y="1655640"/>
                  <a:ext cx="139680" cy="56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>
                  <a:off x="2212920" y="1199880"/>
                  <a:ext cx="8712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>
                  <a:off x="2215800" y="1199880"/>
                  <a:ext cx="83880" cy="12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1736640" y="1017720"/>
                  <a:ext cx="144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1544400" y="2926800"/>
                  <a:ext cx="2376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23600" y="1749240"/>
                  <a:ext cx="144720" cy="42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23600" y="1749240"/>
                  <a:ext cx="144720" cy="42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2460600" y="1496880"/>
                  <a:ext cx="126720" cy="78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2460600" y="1496880"/>
                  <a:ext cx="126720" cy="78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2460600" y="1496880"/>
                  <a:ext cx="126720" cy="78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2460600" y="1496880"/>
                  <a:ext cx="126720" cy="82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>
                  <a:off x="2460600" y="1496880"/>
                  <a:ext cx="126720" cy="82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2296800" y="1274400"/>
                  <a:ext cx="9864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2296800" y="1274400"/>
                  <a:ext cx="9864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>
                  <a:off x="2296800" y="1274400"/>
                  <a:ext cx="9864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>
                  <a:off x="2296800" y="1274400"/>
                  <a:ext cx="9864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2296800" y="1274400"/>
                  <a:ext cx="9864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2296440" y="1274400"/>
                  <a:ext cx="10188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2296440" y="1274400"/>
                  <a:ext cx="10188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2296440" y="1274400"/>
                  <a:ext cx="101880" cy="114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>
                  <a:off x="2296440" y="1276200"/>
                  <a:ext cx="10188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>
                  <a:off x="2300040" y="1276200"/>
                  <a:ext cx="9864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2458440" y="1492200"/>
                  <a:ext cx="127080" cy="82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>
                  <a:off x="2458440" y="1492200"/>
                  <a:ext cx="127080" cy="82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>
                  <a:off x="2458440" y="1492200"/>
                  <a:ext cx="127080" cy="82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2458440" y="1492200"/>
                  <a:ext cx="127080" cy="82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2458440" y="1492200"/>
                  <a:ext cx="127080" cy="82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>
                  <a:off x="2458440" y="149508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>
                  <a:off x="2458440" y="149508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>
                  <a:off x="2458440" y="1495080"/>
                  <a:ext cx="127080" cy="80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2460600" y="1495080"/>
                  <a:ext cx="125280" cy="80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96600" y="1852560"/>
                  <a:ext cx="149400" cy="28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96600" y="1852560"/>
                  <a:ext cx="149400" cy="28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96600" y="1852560"/>
                  <a:ext cx="149400" cy="28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96600" y="1852560"/>
                  <a:ext cx="149400" cy="28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96600" y="1850760"/>
                  <a:ext cx="149400" cy="29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96600" y="1850760"/>
                  <a:ext cx="149400" cy="28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96600" y="1850760"/>
                  <a:ext cx="149400" cy="28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6600" y="1850760"/>
                  <a:ext cx="149400" cy="28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96600" y="1850760"/>
                  <a:ext cx="149400" cy="28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96600" y="1850760"/>
                  <a:ext cx="149400" cy="28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53840" y="1660320"/>
                  <a:ext cx="139680" cy="56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53840" y="1660320"/>
                  <a:ext cx="139680" cy="56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53840" y="1660320"/>
                  <a:ext cx="139680" cy="56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53840" y="1660320"/>
                  <a:ext cx="139680" cy="56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53840" y="1660320"/>
                  <a:ext cx="139680" cy="55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57080" y="1658880"/>
                  <a:ext cx="136440" cy="56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57080" y="1658880"/>
                  <a:ext cx="139680" cy="56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57080" y="1658880"/>
                  <a:ext cx="139680" cy="56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>
                  <a:off x="2489040" y="2481120"/>
                  <a:ext cx="130320" cy="74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>
                  <a:off x="2489040" y="2481120"/>
                  <a:ext cx="130320" cy="74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 flipV="1">
                  <a:off x="2489040" y="2484000"/>
                  <a:ext cx="130320" cy="70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 flipV="1">
                  <a:off x="2489040" y="2484000"/>
                  <a:ext cx="130320" cy="70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620720" y="1022040"/>
                  <a:ext cx="126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20720" y="1022040"/>
                  <a:ext cx="126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535040" y="1031760"/>
                  <a:ext cx="2520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535040" y="1031760"/>
                  <a:ext cx="2520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536480" y="1031760"/>
                  <a:ext cx="2376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536480" y="1031760"/>
                  <a:ext cx="2376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536480" y="1031760"/>
                  <a:ext cx="2376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535040" y="1035000"/>
                  <a:ext cx="2520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535040" y="1035000"/>
                  <a:ext cx="2520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535040" y="1035000"/>
                  <a:ext cx="2520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535040" y="1035000"/>
                  <a:ext cx="2520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535040" y="1035000"/>
                  <a:ext cx="2520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535040" y="1035000"/>
                  <a:ext cx="2520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535040" y="1035000"/>
                  <a:ext cx="2376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535040" y="1035000"/>
                  <a:ext cx="2376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527120" y="1035000"/>
                  <a:ext cx="2700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527120" y="1035000"/>
                  <a:ext cx="2700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527120" y="1035000"/>
                  <a:ext cx="2700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527120" y="1035000"/>
                  <a:ext cx="2700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527120" y="1035000"/>
                  <a:ext cx="2700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34760" y="1715760"/>
                  <a:ext cx="142920" cy="50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34760" y="1715760"/>
                  <a:ext cx="142920" cy="50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34760" y="1715760"/>
                  <a:ext cx="142920" cy="4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33320" y="1715760"/>
                  <a:ext cx="144360" cy="50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33320" y="1715760"/>
                  <a:ext cx="144360" cy="50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34760" y="1715760"/>
                  <a:ext cx="142920" cy="50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34760" y="1715760"/>
                  <a:ext cx="142920" cy="50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06320" y="1809360"/>
                  <a:ext cx="146160" cy="36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90480" y="1903320"/>
                  <a:ext cx="147600" cy="20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90480" y="1903320"/>
                  <a:ext cx="147600" cy="20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V="1">
                  <a:off x="690480" y="2185920"/>
                  <a:ext cx="147600" cy="21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V="1">
                  <a:off x="788760" y="2451960"/>
                  <a:ext cx="133560" cy="66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 flipV="1">
                  <a:off x="1745640" y="2939400"/>
                  <a:ext cx="468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1887120" y="2922480"/>
                  <a:ext cx="2844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flipV="1">
                  <a:off x="1887120" y="2922480"/>
                  <a:ext cx="2844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 flipV="1">
                  <a:off x="1884240" y="2922480"/>
                  <a:ext cx="3168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 flipV="1">
                  <a:off x="1966320" y="2900160"/>
                  <a:ext cx="4284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 flipV="1">
                  <a:off x="2103120" y="2847600"/>
                  <a:ext cx="66960" cy="134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 flipV="1">
                  <a:off x="2103120" y="2847600"/>
                  <a:ext cx="66960" cy="134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>
                  <a:off x="2520360" y="2418840"/>
                  <a:ext cx="136440" cy="61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>
                  <a:off x="2520360" y="2418840"/>
                  <a:ext cx="136440" cy="61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>
                  <a:off x="2520360" y="2418840"/>
                  <a:ext cx="136440" cy="61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 flipV="1">
                  <a:off x="2520360" y="2418840"/>
                  <a:ext cx="136440" cy="61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 flipV="1">
                  <a:off x="2520360" y="2418840"/>
                  <a:ext cx="136440" cy="61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>
                  <a:off x="2520360" y="2420280"/>
                  <a:ext cx="136440" cy="60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 flipV="1">
                  <a:off x="2550600" y="2336040"/>
                  <a:ext cx="14292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2597040" y="1969920"/>
                  <a:ext cx="149040" cy="12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2597040" y="1969920"/>
                  <a:ext cx="149040" cy="12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>
                  <a:off x="2597040" y="1969920"/>
                  <a:ext cx="149040" cy="12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>
                  <a:off x="2590560" y="1908000"/>
                  <a:ext cx="147600" cy="20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>
                  <a:off x="2590560" y="1908000"/>
                  <a:ext cx="147600" cy="20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>
                  <a:off x="2590560" y="1908000"/>
                  <a:ext cx="147600" cy="20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>
                  <a:off x="2463120" y="1500120"/>
                  <a:ext cx="127080" cy="78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>
                  <a:off x="2428560" y="1442880"/>
                  <a:ext cx="120960" cy="88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>
                  <a:off x="2167920" y="1163520"/>
                  <a:ext cx="79560" cy="129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>
                  <a:off x="2167920" y="1163520"/>
                  <a:ext cx="79560" cy="129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>
                  <a:off x="2170080" y="1166760"/>
                  <a:ext cx="77760" cy="126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>
                  <a:off x="2089080" y="1114200"/>
                  <a:ext cx="6192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>
                  <a:off x="2089080" y="1115640"/>
                  <a:ext cx="61920" cy="134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>
                  <a:off x="2089080" y="1115640"/>
                  <a:ext cx="61920" cy="134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>
                  <a:off x="1746000" y="1017720"/>
                  <a:ext cx="648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>
                  <a:off x="1747440" y="1017720"/>
                  <a:ext cx="468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1740960" y="1017720"/>
                  <a:ext cx="468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1653840" y="2936520"/>
                  <a:ext cx="972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82560" y="1958760"/>
                  <a:ext cx="149040" cy="14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>
                  <a:off x="1898640" y="1041120"/>
                  <a:ext cx="316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 flipV="1">
                  <a:off x="2582280" y="2222280"/>
                  <a:ext cx="149400" cy="25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 flipV="1">
                  <a:off x="2582280" y="2222280"/>
                  <a:ext cx="149400" cy="25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>
                  <a:off x="2582280" y="2222280"/>
                  <a:ext cx="149400" cy="28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>
                  <a:off x="2582280" y="2222280"/>
                  <a:ext cx="149400" cy="28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V="1">
                  <a:off x="1108080" y="2771640"/>
                  <a:ext cx="88560" cy="12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1112760" y="2772720"/>
                  <a:ext cx="8568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1112760" y="2772720"/>
                  <a:ext cx="8568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1109520" y="2772720"/>
                  <a:ext cx="8892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1112760" y="2772720"/>
                  <a:ext cx="8892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1114200" y="2775960"/>
                  <a:ext cx="8748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1117440" y="2775960"/>
                  <a:ext cx="8568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1114200" y="2775960"/>
                  <a:ext cx="8892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1117440" y="2775960"/>
                  <a:ext cx="8568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1117440" y="2775960"/>
                  <a:ext cx="8568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V="1">
                  <a:off x="1117440" y="2775960"/>
                  <a:ext cx="85680" cy="12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V="1">
                  <a:off x="1117440" y="2775960"/>
                  <a:ext cx="85680" cy="12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1117440" y="2777400"/>
                  <a:ext cx="8568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1122120" y="277776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1122120" y="277776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1122120" y="277776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V="1">
                  <a:off x="1122120" y="2777760"/>
                  <a:ext cx="8568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1122120" y="2780640"/>
                  <a:ext cx="8568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1126800" y="2782440"/>
                  <a:ext cx="84240" cy="12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V="1">
                  <a:off x="1123920" y="2781000"/>
                  <a:ext cx="8712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V="1">
                  <a:off x="1123920" y="2781000"/>
                  <a:ext cx="8712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1123920" y="2781000"/>
                  <a:ext cx="8712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1123920" y="2781000"/>
                  <a:ext cx="8712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V="1">
                  <a:off x="1126800" y="2782440"/>
                  <a:ext cx="86040" cy="12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1126800" y="2782440"/>
                  <a:ext cx="84240" cy="12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V="1">
                  <a:off x="1126800" y="2782440"/>
                  <a:ext cx="84240" cy="12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V="1">
                  <a:off x="1126800" y="2782440"/>
                  <a:ext cx="84240" cy="12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1128600" y="2782440"/>
                  <a:ext cx="84240" cy="12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1128600" y="2782440"/>
                  <a:ext cx="84240" cy="12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V="1">
                  <a:off x="1128600" y="2782440"/>
                  <a:ext cx="84240" cy="12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1126800" y="2782440"/>
                  <a:ext cx="86040" cy="12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1128600" y="2785320"/>
                  <a:ext cx="8712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1128600" y="2785320"/>
                  <a:ext cx="8712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1128600" y="2782440"/>
                  <a:ext cx="87120" cy="12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1371600" y="2889000"/>
                  <a:ext cx="5076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1373040" y="2889000"/>
                  <a:ext cx="4932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V="1">
                  <a:off x="1371600" y="2889000"/>
                  <a:ext cx="5076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1371600" y="2889000"/>
                  <a:ext cx="5076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1373040" y="2889000"/>
                  <a:ext cx="5076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V="1">
                  <a:off x="1373040" y="2889000"/>
                  <a:ext cx="5076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V="1">
                  <a:off x="1376280" y="2889000"/>
                  <a:ext cx="4752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V="1">
                  <a:off x="1376280" y="2890440"/>
                  <a:ext cx="475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V="1">
                  <a:off x="1376280" y="2890440"/>
                  <a:ext cx="507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V="1">
                  <a:off x="1376280" y="2890440"/>
                  <a:ext cx="507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V="1">
                  <a:off x="1376280" y="2890440"/>
                  <a:ext cx="507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flipV="1">
                  <a:off x="1376280" y="2890440"/>
                  <a:ext cx="507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V="1">
                  <a:off x="1376280" y="2890440"/>
                  <a:ext cx="475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V="1">
                  <a:off x="1377720" y="2890440"/>
                  <a:ext cx="493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V="1">
                  <a:off x="1377720" y="2890440"/>
                  <a:ext cx="493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V="1">
                  <a:off x="1377720" y="2890440"/>
                  <a:ext cx="493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V="1">
                  <a:off x="1377720" y="2890440"/>
                  <a:ext cx="493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V="1">
                  <a:off x="1377720" y="2890440"/>
                  <a:ext cx="493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flipV="1">
                  <a:off x="1377720" y="2890440"/>
                  <a:ext cx="493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V="1">
                  <a:off x="1377720" y="2890440"/>
                  <a:ext cx="493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1377720" y="2890440"/>
                  <a:ext cx="493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V="1">
                  <a:off x="1493640" y="2917440"/>
                  <a:ext cx="316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V="1">
                  <a:off x="1495440" y="2917440"/>
                  <a:ext cx="316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V="1">
                  <a:off x="1495440" y="2917440"/>
                  <a:ext cx="316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V="1">
                  <a:off x="1498320" y="2920320"/>
                  <a:ext cx="3204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V="1">
                  <a:off x="1501560" y="2920320"/>
                  <a:ext cx="316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V="1">
                  <a:off x="1503360" y="2920320"/>
                  <a:ext cx="298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V="1">
                  <a:off x="1501560" y="2920320"/>
                  <a:ext cx="316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V="1">
                  <a:off x="1503360" y="2920320"/>
                  <a:ext cx="316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V="1">
                  <a:off x="1503360" y="2920320"/>
                  <a:ext cx="316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V="1">
                  <a:off x="1503360" y="2920320"/>
                  <a:ext cx="316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V="1">
                  <a:off x="1506240" y="2920320"/>
                  <a:ext cx="3204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V="1">
                  <a:off x="1506240" y="2920320"/>
                  <a:ext cx="3204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V="1">
                  <a:off x="1506240" y="2920320"/>
                  <a:ext cx="3204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V="1">
                  <a:off x="1506240" y="2920320"/>
                  <a:ext cx="3204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V="1">
                  <a:off x="1506240" y="2920320"/>
                  <a:ext cx="2880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V="1">
                  <a:off x="1506240" y="2920320"/>
                  <a:ext cx="2880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 flipV="1">
                  <a:off x="1892160" y="2920320"/>
                  <a:ext cx="3168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 flipV="1">
                  <a:off x="1892160" y="2920320"/>
                  <a:ext cx="3168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 flipV="1">
                  <a:off x="1937880" y="2911320"/>
                  <a:ext cx="3636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 flipV="1">
                  <a:off x="1999800" y="2890080"/>
                  <a:ext cx="4932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 flipV="1">
                  <a:off x="1998000" y="2893680"/>
                  <a:ext cx="4788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 flipV="1">
                  <a:off x="2003040" y="2890440"/>
                  <a:ext cx="507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 flipV="1">
                  <a:off x="2003400" y="2890440"/>
                  <a:ext cx="475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 flipV="1">
                  <a:off x="2003400" y="2890440"/>
                  <a:ext cx="475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 flipV="1">
                  <a:off x="1999800" y="2890440"/>
                  <a:ext cx="507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 flipV="1">
                  <a:off x="2411280" y="2602800"/>
                  <a:ext cx="11736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 flipV="1">
                  <a:off x="2408040" y="2606040"/>
                  <a:ext cx="11736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 flipV="1">
                  <a:off x="2408040" y="2606040"/>
                  <a:ext cx="11736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flipV="1">
                  <a:off x="2412360" y="2601360"/>
                  <a:ext cx="11772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 flipV="1">
                  <a:off x="2412360" y="2601720"/>
                  <a:ext cx="117720" cy="90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flipV="1">
                  <a:off x="2412360" y="2598120"/>
                  <a:ext cx="12060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 flipV="1">
                  <a:off x="2412360" y="2598120"/>
                  <a:ext cx="12060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 flipV="1">
                  <a:off x="2415600" y="2597040"/>
                  <a:ext cx="119160" cy="90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 flipV="1">
                  <a:off x="2415600" y="2597040"/>
                  <a:ext cx="119160" cy="90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 flipV="1">
                  <a:off x="2417400" y="2593800"/>
                  <a:ext cx="120600" cy="90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 flipV="1">
                  <a:off x="2417400" y="2593800"/>
                  <a:ext cx="120600" cy="90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 flipV="1">
                  <a:off x="2417400" y="2593800"/>
                  <a:ext cx="120600" cy="90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 flipV="1">
                  <a:off x="2420280" y="2591640"/>
                  <a:ext cx="11772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 flipV="1">
                  <a:off x="2420280" y="2591640"/>
                  <a:ext cx="1191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H="1" flipV="1">
                  <a:off x="2422080" y="2589120"/>
                  <a:ext cx="120600" cy="90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 flipV="1">
                  <a:off x="2422080" y="2586960"/>
                  <a:ext cx="12060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 flipV="1">
                  <a:off x="2422080" y="2586960"/>
                  <a:ext cx="12060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 flipV="1">
                  <a:off x="2539800" y="2380680"/>
                  <a:ext cx="13968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 flipV="1">
                  <a:off x="2539800" y="2377800"/>
                  <a:ext cx="139680" cy="56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 flipV="1">
                  <a:off x="2543040" y="2376000"/>
                  <a:ext cx="13968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 flipV="1">
                  <a:off x="2543040" y="2376000"/>
                  <a:ext cx="13968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 flipV="1">
                  <a:off x="2539440" y="2376000"/>
                  <a:ext cx="14292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 flipV="1">
                  <a:off x="2539440" y="2377440"/>
                  <a:ext cx="14292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 flipV="1">
                  <a:off x="2539800" y="2377440"/>
                  <a:ext cx="139680" cy="55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H="1" flipV="1">
                  <a:off x="2543040" y="2372760"/>
                  <a:ext cx="139680" cy="55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 flipV="1">
                  <a:off x="2543040" y="2373120"/>
                  <a:ext cx="139680" cy="51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 flipV="1">
                  <a:off x="2543040" y="2369520"/>
                  <a:ext cx="14112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2543040" y="2369520"/>
                  <a:ext cx="14112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2544120" y="2364840"/>
                  <a:ext cx="14292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2544120" y="2364840"/>
                  <a:ext cx="14292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 flipV="1">
                  <a:off x="2544120" y="2364840"/>
                  <a:ext cx="14292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 flipV="1">
                  <a:off x="2544120" y="2363040"/>
                  <a:ext cx="14292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 flipV="1">
                  <a:off x="2549520" y="2355120"/>
                  <a:ext cx="14256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>
                  <a:off x="2549520" y="2355120"/>
                  <a:ext cx="14256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>
                  <a:off x="2600280" y="2123640"/>
                  <a:ext cx="149040" cy="10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 flipV="1">
                  <a:off x="2600280" y="2118960"/>
                  <a:ext cx="149040" cy="10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H="1" flipV="1">
                  <a:off x="2600280" y="2116080"/>
                  <a:ext cx="149040" cy="12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 flipV="1">
                  <a:off x="2600280" y="2115720"/>
                  <a:ext cx="149040" cy="9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 flipV="1">
                  <a:off x="2600280" y="2115720"/>
                  <a:ext cx="149040" cy="9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 flipV="1">
                  <a:off x="2600280" y="2114280"/>
                  <a:ext cx="1490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H="1" flipV="1">
                  <a:off x="2600280" y="2110680"/>
                  <a:ext cx="149040" cy="12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H="1" flipV="1">
                  <a:off x="2600280" y="2111040"/>
                  <a:ext cx="1490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H="1" flipV="1">
                  <a:off x="2600280" y="2111040"/>
                  <a:ext cx="1490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H="1" flipV="1">
                  <a:off x="2600280" y="2111040"/>
                  <a:ext cx="1490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 flipV="1">
                  <a:off x="2600280" y="2111040"/>
                  <a:ext cx="1490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 flipV="1">
                  <a:off x="2599920" y="2111040"/>
                  <a:ext cx="1508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 flipV="1">
                  <a:off x="2599920" y="2104560"/>
                  <a:ext cx="150840" cy="9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2350800" y="1330200"/>
                  <a:ext cx="108000" cy="10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2347560" y="1326960"/>
                  <a:ext cx="107640" cy="105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>
                  <a:off x="2347560" y="1326960"/>
                  <a:ext cx="106200" cy="105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2347560" y="1326960"/>
                  <a:ext cx="106200" cy="105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>
                  <a:off x="2346120" y="1325160"/>
                  <a:ext cx="10800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H="1">
                  <a:off x="2342880" y="1322280"/>
                  <a:ext cx="106560" cy="105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>
                  <a:off x="2342880" y="1322280"/>
                  <a:ext cx="106560" cy="105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>
                  <a:off x="2341440" y="1320480"/>
                  <a:ext cx="10800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>
                  <a:off x="2341440" y="1320480"/>
                  <a:ext cx="10800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H="1">
                  <a:off x="2341440" y="1320480"/>
                  <a:ext cx="108000" cy="10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H="1">
                  <a:off x="2341080" y="1320480"/>
                  <a:ext cx="104760" cy="10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>
                  <a:off x="2341080" y="1320480"/>
                  <a:ext cx="104760" cy="10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H="1">
                  <a:off x="2338200" y="1317240"/>
                  <a:ext cx="10656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2338200" y="1317240"/>
                  <a:ext cx="10656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>
                  <a:off x="2338200" y="1317240"/>
                  <a:ext cx="10656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H="1">
                  <a:off x="2338200" y="1317240"/>
                  <a:ext cx="10656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H="1">
                  <a:off x="2338200" y="1317240"/>
                  <a:ext cx="10656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2338200" y="1317240"/>
                  <a:ext cx="10800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H="1">
                  <a:off x="2338200" y="1315800"/>
                  <a:ext cx="1065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>
                  <a:off x="2336400" y="1315800"/>
                  <a:ext cx="1047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>
                  <a:off x="2336400" y="1315800"/>
                  <a:ext cx="1047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2338200" y="1315800"/>
                  <a:ext cx="1065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H="1">
                  <a:off x="2336400" y="1315800"/>
                  <a:ext cx="104760" cy="10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H="1">
                  <a:off x="2069640" y="1104840"/>
                  <a:ext cx="6012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2068200" y="1101600"/>
                  <a:ext cx="5904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2068200" y="1101600"/>
                  <a:ext cx="5904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2067840" y="1101600"/>
                  <a:ext cx="5724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2067840" y="1101600"/>
                  <a:ext cx="5724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>
                  <a:off x="2064960" y="1101600"/>
                  <a:ext cx="6012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>
                  <a:off x="2065320" y="1101600"/>
                  <a:ext cx="5688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2065320" y="1101600"/>
                  <a:ext cx="5688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>
                  <a:off x="2064960" y="1101600"/>
                  <a:ext cx="6012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>
                  <a:off x="2063160" y="1101600"/>
                  <a:ext cx="5868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2063160" y="1101600"/>
                  <a:ext cx="5868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>
                  <a:off x="2063160" y="1101600"/>
                  <a:ext cx="5868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2050560" y="1093680"/>
                  <a:ext cx="5724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H="1">
                  <a:off x="2050560" y="1093680"/>
                  <a:ext cx="5724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H="1">
                  <a:off x="2050560" y="1093680"/>
                  <a:ext cx="5724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flipH="1">
                  <a:off x="2046240" y="1091880"/>
                  <a:ext cx="5544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flipH="1">
                  <a:off x="2044440" y="1091880"/>
                  <a:ext cx="540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flipH="1">
                  <a:off x="2044440" y="1091880"/>
                  <a:ext cx="540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>
                  <a:off x="2044080" y="1091880"/>
                  <a:ext cx="5724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H="1">
                  <a:off x="2044080" y="1091880"/>
                  <a:ext cx="5724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flipH="1">
                  <a:off x="2044080" y="1091880"/>
                  <a:ext cx="5724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>
                  <a:off x="2040840" y="1088640"/>
                  <a:ext cx="558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>
                  <a:off x="2040840" y="1088640"/>
                  <a:ext cx="558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H="1">
                  <a:off x="2040840" y="1088640"/>
                  <a:ext cx="558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H="1">
                  <a:off x="2040840" y="1088640"/>
                  <a:ext cx="558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>
                  <a:off x="2040840" y="1088640"/>
                  <a:ext cx="558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>
                  <a:off x="2040840" y="1088640"/>
                  <a:ext cx="5724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>
                  <a:off x="2040840" y="1088640"/>
                  <a:ext cx="558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H="1">
                  <a:off x="2040840" y="1088640"/>
                  <a:ext cx="558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flipH="1">
                  <a:off x="2039760" y="1088640"/>
                  <a:ext cx="540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H="1">
                  <a:off x="2033280" y="1087200"/>
                  <a:ext cx="540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H="1">
                  <a:off x="2032920" y="1087200"/>
                  <a:ext cx="558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H="1" flipV="1">
                  <a:off x="2599920" y="2109240"/>
                  <a:ext cx="150840" cy="9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flipH="1" flipV="1">
                  <a:off x="2599920" y="2109240"/>
                  <a:ext cx="150840" cy="9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flipH="1" flipV="1">
                  <a:off x="2599920" y="2109240"/>
                  <a:ext cx="150840" cy="9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 flipV="1">
                  <a:off x="2599920" y="2109240"/>
                  <a:ext cx="150840" cy="9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523880" y="1036440"/>
                  <a:ext cx="2844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523880" y="1036440"/>
                  <a:ext cx="2844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523880" y="1036440"/>
                  <a:ext cx="2844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H="1">
                  <a:off x="2054160" y="1093680"/>
                  <a:ext cx="540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H="1">
                  <a:off x="2054160" y="1093680"/>
                  <a:ext cx="540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>
                  <a:off x="2054160" y="1093680"/>
                  <a:ext cx="5688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H="1">
                  <a:off x="2054160" y="1093680"/>
                  <a:ext cx="5688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 flipV="1">
                  <a:off x="2544120" y="2363040"/>
                  <a:ext cx="14292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V="1">
                  <a:off x="1135080" y="2785680"/>
                  <a:ext cx="8388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>
                  <a:off x="2347560" y="1330200"/>
                  <a:ext cx="107640" cy="102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H="1" flipV="1">
                  <a:off x="2420280" y="2589120"/>
                  <a:ext cx="119160" cy="90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H="1" flipV="1">
                  <a:off x="2420280" y="2589120"/>
                  <a:ext cx="119160" cy="90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H="1" flipV="1">
                  <a:off x="2411280" y="2602800"/>
                  <a:ext cx="11736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H="1" flipV="1">
                  <a:off x="2411280" y="2602800"/>
                  <a:ext cx="11736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H="1" flipV="1">
                  <a:off x="2411280" y="2602800"/>
                  <a:ext cx="11736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 flipV="1">
                  <a:off x="2410920" y="2601360"/>
                  <a:ext cx="11916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 flipV="1">
                  <a:off x="2415960" y="2598120"/>
                  <a:ext cx="11736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H="1" flipV="1">
                  <a:off x="2600280" y="2120400"/>
                  <a:ext cx="149040" cy="9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flipH="1" flipV="1">
                  <a:off x="2600280" y="2120400"/>
                  <a:ext cx="149040" cy="9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flipH="1" flipV="1">
                  <a:off x="2600280" y="2120760"/>
                  <a:ext cx="149040" cy="12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flipH="1" flipV="1">
                  <a:off x="2600280" y="2120760"/>
                  <a:ext cx="149040" cy="12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H="1" flipV="1">
                  <a:off x="2600280" y="2120760"/>
                  <a:ext cx="149040" cy="12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H="1">
                  <a:off x="2336760" y="1312560"/>
                  <a:ext cx="1029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>
                  <a:off x="2336760" y="1312560"/>
                  <a:ext cx="1029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H="1">
                  <a:off x="2336760" y="1312560"/>
                  <a:ext cx="1029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H="1">
                  <a:off x="2336400" y="1312560"/>
                  <a:ext cx="1047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>
                  <a:off x="2336400" y="1312560"/>
                  <a:ext cx="1047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 flipV="1">
                  <a:off x="2412360" y="2601360"/>
                  <a:ext cx="11772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 flipV="1">
                  <a:off x="2412360" y="2601360"/>
                  <a:ext cx="11772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614240" y="1022040"/>
                  <a:ext cx="144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H="1" flipV="1">
                  <a:off x="2593800" y="2171160"/>
                  <a:ext cx="14760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 flipV="1">
                  <a:off x="2593800" y="2174760"/>
                  <a:ext cx="147600" cy="18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1117440" y="2775960"/>
                  <a:ext cx="8892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V="1">
                  <a:off x="1117440" y="2775960"/>
                  <a:ext cx="8892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V="1">
                  <a:off x="1117440" y="2775960"/>
                  <a:ext cx="8748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H="1">
                  <a:off x="2598120" y="1958760"/>
                  <a:ext cx="150840" cy="14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>
                  <a:off x="2036160" y="1087200"/>
                  <a:ext cx="55800" cy="14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>
                  <a:off x="2036160" y="1087200"/>
                  <a:ext cx="55800" cy="14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2036160" y="1087200"/>
                  <a:ext cx="55800" cy="14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H="1" flipV="1">
                  <a:off x="2563560" y="2306520"/>
                  <a:ext cx="144720" cy="42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V="1">
                  <a:off x="957240" y="2653920"/>
                  <a:ext cx="109440" cy="102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H="1" flipV="1">
                  <a:off x="2196720" y="2798280"/>
                  <a:ext cx="82440" cy="12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V="1">
                  <a:off x="712800" y="2273040"/>
                  <a:ext cx="145800" cy="34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H="1" flipV="1">
                  <a:off x="2454120" y="2543040"/>
                  <a:ext cx="125280" cy="83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H="1" flipV="1">
                  <a:off x="2454120" y="2543040"/>
                  <a:ext cx="125280" cy="82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H="1" flipV="1">
                  <a:off x="2454120" y="2543040"/>
                  <a:ext cx="125280" cy="83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H="1">
                  <a:off x="2584080" y="1842840"/>
                  <a:ext cx="145800" cy="31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H="1">
                  <a:off x="1863360" y="1031760"/>
                  <a:ext cx="2700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587240" y="1025280"/>
                  <a:ext cx="1764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1587240" y="1025280"/>
                  <a:ext cx="1764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587240" y="1025280"/>
                  <a:ext cx="1764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587240" y="1025280"/>
                  <a:ext cx="1764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587240" y="1025280"/>
                  <a:ext cx="1764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H="1">
                  <a:off x="1904760" y="1041120"/>
                  <a:ext cx="316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H="1">
                  <a:off x="1904400" y="1041120"/>
                  <a:ext cx="334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592280" y="1025280"/>
                  <a:ext cx="2052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592280" y="1025280"/>
                  <a:ext cx="1728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779400" y="1612800"/>
                  <a:ext cx="136440" cy="61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782640" y="1609560"/>
                  <a:ext cx="133200" cy="64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782640" y="1607760"/>
                  <a:ext cx="133200" cy="64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618920" y="1022040"/>
                  <a:ext cx="144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V="1">
                  <a:off x="688680" y="2158920"/>
                  <a:ext cx="147600" cy="20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V="1">
                  <a:off x="704520" y="2237760"/>
                  <a:ext cx="146160" cy="31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V="1">
                  <a:off x="704520" y="2237760"/>
                  <a:ext cx="146160" cy="31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V="1">
                  <a:off x="714240" y="2274840"/>
                  <a:ext cx="144360" cy="37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V="1">
                  <a:off x="714240" y="2274840"/>
                  <a:ext cx="144360" cy="36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V="1">
                  <a:off x="714240" y="2272680"/>
                  <a:ext cx="144360" cy="37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V="1">
                  <a:off x="733320" y="2329920"/>
                  <a:ext cx="142920" cy="47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V="1">
                  <a:off x="733320" y="2329920"/>
                  <a:ext cx="142920" cy="47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V="1">
                  <a:off x="736560" y="2334600"/>
                  <a:ext cx="141120" cy="47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V="1">
                  <a:off x="755640" y="2385360"/>
                  <a:ext cx="13968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flipV="1">
                  <a:off x="760320" y="2390400"/>
                  <a:ext cx="136440" cy="56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V="1">
                  <a:off x="757080" y="2390040"/>
                  <a:ext cx="13968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1287360" y="2860560"/>
                  <a:ext cx="6336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1287360" y="2860560"/>
                  <a:ext cx="6336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V="1">
                  <a:off x="1573200" y="2930040"/>
                  <a:ext cx="2196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>
                  <a:off x="2046240" y="2874240"/>
                  <a:ext cx="5544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flipV="1">
                  <a:off x="2377440" y="2640960"/>
                  <a:ext cx="112680" cy="10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H="1">
                  <a:off x="2600280" y="1968120"/>
                  <a:ext cx="149040" cy="10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>
                  <a:off x="2584080" y="1839600"/>
                  <a:ext cx="145800" cy="31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>
                  <a:off x="2584080" y="1839600"/>
                  <a:ext cx="145800" cy="31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2528640" y="1641240"/>
                  <a:ext cx="138240" cy="60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>
                  <a:off x="2528640" y="1641240"/>
                  <a:ext cx="138240" cy="60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H="1">
                  <a:off x="2514600" y="1603080"/>
                  <a:ext cx="133200" cy="64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>
                  <a:off x="2514600" y="1603080"/>
                  <a:ext cx="133200" cy="64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H="1">
                  <a:off x="2446200" y="1466640"/>
                  <a:ext cx="123840" cy="85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>
                  <a:off x="2331360" y="1307880"/>
                  <a:ext cx="10332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H="1">
                  <a:off x="1880640" y="1035000"/>
                  <a:ext cx="2556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H="1">
                  <a:off x="1880640" y="1035000"/>
                  <a:ext cx="2556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703080" y="1839600"/>
                  <a:ext cx="147600" cy="31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H="1" flipV="1">
                  <a:off x="1821960" y="2931840"/>
                  <a:ext cx="2052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H="1">
                  <a:off x="1909080" y="1041120"/>
                  <a:ext cx="334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304640" y="1104840"/>
                  <a:ext cx="6048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304640" y="1104840"/>
                  <a:ext cx="6048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V="1">
                  <a:off x="699840" y="2223360"/>
                  <a:ext cx="149400" cy="28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flipV="1">
                  <a:off x="685800" y="2128680"/>
                  <a:ext cx="149040" cy="10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flipV="1">
                  <a:off x="685800" y="2125080"/>
                  <a:ext cx="149040" cy="14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flipH="1" flipV="1">
                  <a:off x="2506680" y="2454120"/>
                  <a:ext cx="134640" cy="67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flipV="1">
                  <a:off x="1110960" y="2771640"/>
                  <a:ext cx="88920" cy="12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V="1">
                  <a:off x="1136520" y="2787120"/>
                  <a:ext cx="84240" cy="12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 flipV="1">
                  <a:off x="1995480" y="2893680"/>
                  <a:ext cx="4896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H="1" flipV="1">
                  <a:off x="2598480" y="2144160"/>
                  <a:ext cx="147600" cy="14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H="1">
                  <a:off x="2033280" y="1087200"/>
                  <a:ext cx="540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flipH="1">
                  <a:off x="2033280" y="1087200"/>
                  <a:ext cx="540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flipH="1" flipV="1">
                  <a:off x="2511000" y="2442960"/>
                  <a:ext cx="135000" cy="66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H="1">
                  <a:off x="2244240" y="1222200"/>
                  <a:ext cx="88920" cy="118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066680" y="1247400"/>
                  <a:ext cx="93600" cy="117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H="1" flipV="1">
                  <a:off x="2008080" y="2889000"/>
                  <a:ext cx="4752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126800" y="1199880"/>
                  <a:ext cx="87480" cy="12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126800" y="1199880"/>
                  <a:ext cx="87480" cy="12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H="1" flipV="1">
                  <a:off x="2175840" y="2809800"/>
                  <a:ext cx="79560" cy="129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H="1" flipV="1">
                  <a:off x="2106000" y="2847240"/>
                  <a:ext cx="6516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718920" y="1773000"/>
                  <a:ext cx="146160" cy="41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flipV="1">
                  <a:off x="895320" y="2591640"/>
                  <a:ext cx="11880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flipV="1">
                  <a:off x="895320" y="2591640"/>
                  <a:ext cx="11880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flipV="1">
                  <a:off x="895320" y="2591640"/>
                  <a:ext cx="11880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V="1">
                  <a:off x="915840" y="2615760"/>
                  <a:ext cx="115920" cy="9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H="1" flipV="1">
                  <a:off x="2504520" y="2453760"/>
                  <a:ext cx="133560" cy="69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H="1" flipV="1">
                  <a:off x="2504520" y="2457360"/>
                  <a:ext cx="133560" cy="66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flipV="1">
                  <a:off x="1008000" y="2699640"/>
                  <a:ext cx="1029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V="1">
                  <a:off x="844560" y="2531520"/>
                  <a:ext cx="126720" cy="78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V="1">
                  <a:off x="707760" y="2252520"/>
                  <a:ext cx="146160" cy="34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V="1">
                  <a:off x="707760" y="2252520"/>
                  <a:ext cx="146160" cy="34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772920" y="1631880"/>
                  <a:ext cx="136440" cy="59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772920" y="1628640"/>
                  <a:ext cx="136440" cy="63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772920" y="1628640"/>
                  <a:ext cx="136440" cy="63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H="1">
                  <a:off x="2411280" y="1407960"/>
                  <a:ext cx="11736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V="1">
                  <a:off x="703080" y="2231280"/>
                  <a:ext cx="146160" cy="28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H="1">
                  <a:off x="1834560" y="10267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865080" y="1463400"/>
                  <a:ext cx="123840" cy="87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865080" y="1461960"/>
                  <a:ext cx="125280" cy="85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V="1">
                  <a:off x="1544400" y="2926800"/>
                  <a:ext cx="2700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374480" y="1074600"/>
                  <a:ext cx="4788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374480" y="1074600"/>
                  <a:ext cx="4788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680760" y="2066400"/>
                  <a:ext cx="150840" cy="1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flipV="1">
                  <a:off x="680760" y="2068200"/>
                  <a:ext cx="150840" cy="2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V="1">
                  <a:off x="680760" y="2068200"/>
                  <a:ext cx="150840" cy="2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V="1">
                  <a:off x="680760" y="2068200"/>
                  <a:ext cx="150840" cy="2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flipV="1">
                  <a:off x="680760" y="2071080"/>
                  <a:ext cx="150840" cy="1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V="1">
                  <a:off x="680760" y="2068200"/>
                  <a:ext cx="150840" cy="4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flipV="1">
                  <a:off x="680760" y="2072880"/>
                  <a:ext cx="150840" cy="2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V="1">
                  <a:off x="680760" y="2077920"/>
                  <a:ext cx="150840" cy="2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V="1">
                  <a:off x="680760" y="2077920"/>
                  <a:ext cx="150840" cy="2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flipV="1">
                  <a:off x="1636560" y="2936520"/>
                  <a:ext cx="111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flipH="1" flipV="1">
                  <a:off x="2163600" y="2817720"/>
                  <a:ext cx="76320" cy="12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H="1">
                  <a:off x="2600280" y="1982520"/>
                  <a:ext cx="1490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H="1">
                  <a:off x="2598120" y="1960200"/>
                  <a:ext cx="150840" cy="12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H="1">
                  <a:off x="2598120" y="1960200"/>
                  <a:ext cx="150840" cy="14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H="1">
                  <a:off x="2589120" y="1869840"/>
                  <a:ext cx="147600" cy="25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flipH="1">
                  <a:off x="2544120" y="1688760"/>
                  <a:ext cx="14292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H="1">
                  <a:off x="2538360" y="1668240"/>
                  <a:ext cx="13968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flipH="1">
                  <a:off x="2538360" y="1668240"/>
                  <a:ext cx="13968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H="1">
                  <a:off x="2525400" y="1634760"/>
                  <a:ext cx="136800" cy="5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flipH="1">
                  <a:off x="2435040" y="1449000"/>
                  <a:ext cx="122400" cy="87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H="1">
                  <a:off x="2293560" y="1266480"/>
                  <a:ext cx="9828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H="1">
                  <a:off x="2017080" y="1079280"/>
                  <a:ext cx="507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680760" y="2066400"/>
                  <a:ext cx="150840" cy="1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V="1">
                  <a:off x="680760" y="2066400"/>
                  <a:ext cx="150840" cy="1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V="1">
                  <a:off x="680760" y="2066400"/>
                  <a:ext cx="150840" cy="1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V="1">
                  <a:off x="698400" y="2207880"/>
                  <a:ext cx="146160" cy="25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942840" y="1365120"/>
                  <a:ext cx="112680" cy="10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12800" y="1804680"/>
                  <a:ext cx="145800" cy="34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V="1">
                  <a:off x="1204920" y="2823480"/>
                  <a:ext cx="72720" cy="129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H="1">
                  <a:off x="2415960" y="1419120"/>
                  <a:ext cx="117360" cy="90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H="1" flipV="1">
                  <a:off x="1798200" y="2935080"/>
                  <a:ext cx="1404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568160" y="1026720"/>
                  <a:ext cx="2232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568160" y="1026720"/>
                  <a:ext cx="2232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568160" y="1026720"/>
                  <a:ext cx="2232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566720" y="1029960"/>
                  <a:ext cx="2052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26840" y="1752480"/>
                  <a:ext cx="144720" cy="42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26840" y="1752480"/>
                  <a:ext cx="144720" cy="42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820440" y="1533240"/>
                  <a:ext cx="128880" cy="75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V="1">
                  <a:off x="690480" y="2174760"/>
                  <a:ext cx="149040" cy="18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V="1">
                  <a:off x="860400" y="2552400"/>
                  <a:ext cx="125280" cy="87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V="1">
                  <a:off x="868320" y="2561760"/>
                  <a:ext cx="125280" cy="86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V="1">
                  <a:off x="1444320" y="2908080"/>
                  <a:ext cx="3816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V="1">
                  <a:off x="1474560" y="2916000"/>
                  <a:ext cx="349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 flipV="1">
                  <a:off x="1904400" y="2917080"/>
                  <a:ext cx="334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 flipV="1">
                  <a:off x="2018880" y="2885760"/>
                  <a:ext cx="507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H="1" flipV="1">
                  <a:off x="2017440" y="2885760"/>
                  <a:ext cx="525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 flipV="1">
                  <a:off x="2017080" y="2885760"/>
                  <a:ext cx="507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flipV="1">
                  <a:off x="2017080" y="2885760"/>
                  <a:ext cx="507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flipV="1">
                  <a:off x="2017080" y="2885760"/>
                  <a:ext cx="507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flipV="1">
                  <a:off x="2178000" y="2809440"/>
                  <a:ext cx="77760" cy="126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H="1" flipV="1">
                  <a:off x="2214360" y="278568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>
                  <a:off x="2603520" y="2012760"/>
                  <a:ext cx="147600" cy="4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H="1">
                  <a:off x="2594880" y="1933200"/>
                  <a:ext cx="150840" cy="17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H="1">
                  <a:off x="2594880" y="1936440"/>
                  <a:ext cx="150840" cy="17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H="1">
                  <a:off x="2543040" y="1682640"/>
                  <a:ext cx="141120" cy="55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H="1">
                  <a:off x="2312640" y="1285560"/>
                  <a:ext cx="99720" cy="110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2225160" y="1207800"/>
                  <a:ext cx="8748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80760" y="2049120"/>
                  <a:ext cx="150840" cy="1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V="1">
                  <a:off x="1484280" y="2915640"/>
                  <a:ext cx="3492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V="1">
                  <a:off x="1484280" y="2915640"/>
                  <a:ext cx="3492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H="1" flipV="1">
                  <a:off x="2552400" y="2341440"/>
                  <a:ext cx="144720" cy="50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622160" y="1022040"/>
                  <a:ext cx="144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557360" y="1029960"/>
                  <a:ext cx="2052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533240" y="1035000"/>
                  <a:ext cx="2556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 flipV="1">
                  <a:off x="2234520" y="2771640"/>
                  <a:ext cx="87480" cy="12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H="1" flipV="1">
                  <a:off x="1896840" y="2920320"/>
                  <a:ext cx="316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 flipV="1">
                  <a:off x="1791720" y="2935080"/>
                  <a:ext cx="1116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036440" y="1271520"/>
                  <a:ext cx="9864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812520" y="1545840"/>
                  <a:ext cx="131760" cy="72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803160" y="1566720"/>
                  <a:ext cx="131760" cy="69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803160" y="1566720"/>
                  <a:ext cx="131760" cy="69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873000" y="1452240"/>
                  <a:ext cx="122040" cy="88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 flipV="1">
                  <a:off x="2544480" y="2368080"/>
                  <a:ext cx="139680" cy="55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flipV="1">
                  <a:off x="2543040" y="2369520"/>
                  <a:ext cx="14112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>
                  <a:off x="1782360" y="1020600"/>
                  <a:ext cx="1116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V="1">
                  <a:off x="1342800" y="2879280"/>
                  <a:ext cx="558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112760" y="1212480"/>
                  <a:ext cx="8892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V="1">
                  <a:off x="1228680" y="2833200"/>
                  <a:ext cx="69840" cy="131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flipV="1">
                  <a:off x="2147760" y="2828160"/>
                  <a:ext cx="71280" cy="129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 flipV="1">
                  <a:off x="1833120" y="293184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>
                  <a:off x="2383920" y="1373040"/>
                  <a:ext cx="112680" cy="97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544400" y="1031760"/>
                  <a:ext cx="2700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H="1" flipV="1">
                  <a:off x="2472840" y="251424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 flipV="1">
                  <a:off x="2563560" y="2311200"/>
                  <a:ext cx="144720" cy="42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 flipV="1">
                  <a:off x="2563560" y="2312640"/>
                  <a:ext cx="144720" cy="42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460520" y="1049040"/>
                  <a:ext cx="3780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flipV="1">
                  <a:off x="1204920" y="2822040"/>
                  <a:ext cx="72720" cy="131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 flipV="1">
                  <a:off x="1834920" y="2930040"/>
                  <a:ext cx="2232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03080" y="1846080"/>
                  <a:ext cx="146160" cy="29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542960" y="1031760"/>
                  <a:ext cx="2520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542960" y="1031760"/>
                  <a:ext cx="2520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544400" y="1031760"/>
                  <a:ext cx="2376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H="1">
                  <a:off x="2558520" y="1731600"/>
                  <a:ext cx="142920" cy="48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>
                  <a:off x="2250720" y="1226880"/>
                  <a:ext cx="90360" cy="118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 flipV="1">
                  <a:off x="2444760" y="2556720"/>
                  <a:ext cx="125280" cy="83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H="1" flipV="1">
                  <a:off x="2473200" y="2512440"/>
                  <a:ext cx="130320" cy="75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flipH="1" flipV="1">
                  <a:off x="2500200" y="2466360"/>
                  <a:ext cx="133200" cy="69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flipH="1">
                  <a:off x="2519280" y="1612800"/>
                  <a:ext cx="133200" cy="64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V="1">
                  <a:off x="684000" y="2116080"/>
                  <a:ext cx="150840" cy="12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flipV="1">
                  <a:off x="684000" y="2116080"/>
                  <a:ext cx="150840" cy="12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460520" y="1049040"/>
                  <a:ext cx="3636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H="1" flipV="1">
                  <a:off x="1763280" y="2936520"/>
                  <a:ext cx="612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539720" y="1031760"/>
                  <a:ext cx="2700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539720" y="1031760"/>
                  <a:ext cx="2700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1542960" y="1031760"/>
                  <a:ext cx="2376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flipH="1">
                  <a:off x="2298240" y="1271520"/>
                  <a:ext cx="9828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03080" y="1842840"/>
                  <a:ext cx="146160" cy="28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993600" y="1312560"/>
                  <a:ext cx="1047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flipH="1" flipV="1">
                  <a:off x="2562120" y="2320200"/>
                  <a:ext cx="141120" cy="44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H="1">
                  <a:off x="2266920" y="1242720"/>
                  <a:ext cx="93600" cy="117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H="1" flipV="1">
                  <a:off x="2111040" y="2845800"/>
                  <a:ext cx="66960" cy="13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98400" y="1866600"/>
                  <a:ext cx="147600" cy="26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V="1">
                  <a:off x="806400" y="2473200"/>
                  <a:ext cx="131760" cy="72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H="1" flipV="1">
                  <a:off x="2314440" y="2706480"/>
                  <a:ext cx="10152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1670040" y="1017720"/>
                  <a:ext cx="612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1614240" y="1022040"/>
                  <a:ext cx="144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1614240" y="1022040"/>
                  <a:ext cx="1764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80760" y="2054160"/>
                  <a:ext cx="150840" cy="1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H="1" flipV="1">
                  <a:off x="2275920" y="2737800"/>
                  <a:ext cx="96840" cy="11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 flipV="1">
                  <a:off x="2280600" y="2734560"/>
                  <a:ext cx="96840" cy="115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 flipV="1">
                  <a:off x="2280600" y="2734560"/>
                  <a:ext cx="96840" cy="115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 flipV="1">
                  <a:off x="2501280" y="2461680"/>
                  <a:ext cx="135000" cy="69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>
                  <a:off x="2600280" y="1968120"/>
                  <a:ext cx="149040" cy="10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H="1">
                  <a:off x="2600280" y="1969920"/>
                  <a:ext cx="149040" cy="12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>
                  <a:off x="2600280" y="1969920"/>
                  <a:ext cx="149040" cy="12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>
                  <a:off x="2600280" y="1969920"/>
                  <a:ext cx="149040" cy="12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>
                  <a:off x="2544120" y="1688760"/>
                  <a:ext cx="14292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>
                  <a:off x="2544120" y="1688760"/>
                  <a:ext cx="14292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>
                  <a:off x="2530080" y="1644480"/>
                  <a:ext cx="136440" cy="58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>
                  <a:off x="1942920" y="1050840"/>
                  <a:ext cx="3816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 flipV="1">
                  <a:off x="1852560" y="2926800"/>
                  <a:ext cx="2376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 flipV="1">
                  <a:off x="1852560" y="2926800"/>
                  <a:ext cx="2376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815760" y="1545840"/>
                  <a:ext cx="128520" cy="71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V="1">
                  <a:off x="1436400" y="2906280"/>
                  <a:ext cx="41400" cy="14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H="1">
                  <a:off x="2182680" y="1172880"/>
                  <a:ext cx="79200" cy="12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H="1">
                  <a:off x="2185920" y="1172880"/>
                  <a:ext cx="79200" cy="12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H="1">
                  <a:off x="2233080" y="1212480"/>
                  <a:ext cx="8892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H="1">
                  <a:off x="2233080" y="1212480"/>
                  <a:ext cx="8892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H="1" flipV="1">
                  <a:off x="2599920" y="2106360"/>
                  <a:ext cx="1508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H="1" flipV="1">
                  <a:off x="2599920" y="2106360"/>
                  <a:ext cx="1508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 flipV="1">
                  <a:off x="2599920" y="2106360"/>
                  <a:ext cx="1508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 flipV="1">
                  <a:off x="2511000" y="2442960"/>
                  <a:ext cx="135000" cy="66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H="1" flipV="1">
                  <a:off x="2511000" y="2444040"/>
                  <a:ext cx="135000" cy="68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H="1" flipV="1">
                  <a:off x="2112840" y="2845800"/>
                  <a:ext cx="68400" cy="13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 flipV="1">
                  <a:off x="2115720" y="2842920"/>
                  <a:ext cx="66600" cy="134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>
                  <a:off x="2158560" y="1157040"/>
                  <a:ext cx="74520" cy="12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>
                  <a:off x="1815480" y="1025280"/>
                  <a:ext cx="1764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H="1" flipV="1">
                  <a:off x="1788840" y="2936520"/>
                  <a:ext cx="129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684080" y="1017720"/>
                  <a:ext cx="504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684080" y="1017720"/>
                  <a:ext cx="504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554120" y="1029960"/>
                  <a:ext cx="2196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flipV="1">
                  <a:off x="736560" y="2339640"/>
                  <a:ext cx="141120" cy="4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V="1">
                  <a:off x="769680" y="2409480"/>
                  <a:ext cx="136800" cy="58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 flipV="1">
                  <a:off x="2396880" y="2620440"/>
                  <a:ext cx="114480" cy="9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 flipV="1">
                  <a:off x="2396880" y="2620800"/>
                  <a:ext cx="114480" cy="97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 flipV="1">
                  <a:off x="2477520" y="2508120"/>
                  <a:ext cx="127080" cy="75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 flipV="1">
                  <a:off x="2603520" y="2082240"/>
                  <a:ext cx="147600" cy="7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603520" y="2082240"/>
                  <a:ext cx="147600" cy="7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 flipV="1">
                  <a:off x="2603520" y="2071080"/>
                  <a:ext cx="147600" cy="1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 flipV="1">
                  <a:off x="2603520" y="2071080"/>
                  <a:ext cx="147600" cy="1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>
                  <a:off x="2471400" y="1510920"/>
                  <a:ext cx="12852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>
                  <a:off x="2471400" y="1510920"/>
                  <a:ext cx="12852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>
                  <a:off x="2087280" y="1110960"/>
                  <a:ext cx="6192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>
                  <a:off x="2087280" y="1110960"/>
                  <a:ext cx="6192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>
                  <a:off x="2087280" y="1110960"/>
                  <a:ext cx="6192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H="1">
                  <a:off x="2069640" y="1104840"/>
                  <a:ext cx="6012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>
                  <a:off x="2069640" y="1104840"/>
                  <a:ext cx="60120" cy="13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1455480" y="1050840"/>
                  <a:ext cx="3816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>
                  <a:off x="2156760" y="1153800"/>
                  <a:ext cx="73080" cy="129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2589120" y="2212560"/>
                  <a:ext cx="146160" cy="24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H="1" flipV="1">
                  <a:off x="2589120" y="2212560"/>
                  <a:ext cx="146160" cy="24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V="1">
                  <a:off x="803160" y="2468160"/>
                  <a:ext cx="131760" cy="72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>
                  <a:off x="2427120" y="1438200"/>
                  <a:ext cx="122400" cy="88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>
                  <a:off x="2426760" y="1434960"/>
                  <a:ext cx="120600" cy="88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H="1">
                  <a:off x="2426760" y="1434960"/>
                  <a:ext cx="120600" cy="88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>
                  <a:off x="2426760" y="1434960"/>
                  <a:ext cx="120600" cy="88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>
                  <a:off x="2331360" y="1307880"/>
                  <a:ext cx="10332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H="1">
                  <a:off x="2585520" y="1861920"/>
                  <a:ext cx="149400" cy="26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>
                  <a:off x="2585520" y="1861920"/>
                  <a:ext cx="149400" cy="26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H="1" flipV="1">
                  <a:off x="1915560" y="2915640"/>
                  <a:ext cx="349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H="1">
                  <a:off x="1909080" y="1041120"/>
                  <a:ext cx="334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V="1">
                  <a:off x="787320" y="2442960"/>
                  <a:ext cx="133200" cy="64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V="1">
                  <a:off x="1087200" y="2756880"/>
                  <a:ext cx="90720" cy="11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>
                  <a:off x="1791720" y="1022040"/>
                  <a:ext cx="111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1587240" y="1025280"/>
                  <a:ext cx="1908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H="1">
                  <a:off x="1744200" y="1017720"/>
                  <a:ext cx="468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V="1">
                  <a:off x="1214280" y="2826720"/>
                  <a:ext cx="73080" cy="131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V="1">
                  <a:off x="1214280" y="2826720"/>
                  <a:ext cx="71280" cy="131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 flipV="1">
                  <a:off x="2044440" y="2876040"/>
                  <a:ext cx="540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H="1">
                  <a:off x="2406600" y="1403280"/>
                  <a:ext cx="11736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H="1">
                  <a:off x="2403360" y="1398240"/>
                  <a:ext cx="11592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H="1">
                  <a:off x="2360520" y="1341360"/>
                  <a:ext cx="108000" cy="102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V="1">
                  <a:off x="768240" y="2409480"/>
                  <a:ext cx="138240" cy="58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V="1">
                  <a:off x="768240" y="2409480"/>
                  <a:ext cx="138240" cy="58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V="1">
                  <a:off x="1717560" y="2939400"/>
                  <a:ext cx="144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H="1" flipV="1">
                  <a:off x="1839600" y="2930040"/>
                  <a:ext cx="2232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1303200" y="1104840"/>
                  <a:ext cx="5868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V="1">
                  <a:off x="1477800" y="2915640"/>
                  <a:ext cx="3636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>
                  <a:off x="2603520" y="2012760"/>
                  <a:ext cx="147600" cy="7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1676160" y="1017720"/>
                  <a:ext cx="792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flipV="1">
                  <a:off x="2599920" y="2094840"/>
                  <a:ext cx="150840" cy="6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V="1">
                  <a:off x="1003320" y="2694960"/>
                  <a:ext cx="102960" cy="10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V="1">
                  <a:off x="1003320" y="2694960"/>
                  <a:ext cx="102960" cy="10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84000" y="1969920"/>
                  <a:ext cx="150840" cy="12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flipV="1">
                  <a:off x="2117520" y="2842920"/>
                  <a:ext cx="68400" cy="134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H="1" flipV="1">
                  <a:off x="1777320" y="2936520"/>
                  <a:ext cx="972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V="1">
                  <a:off x="858600" y="2550600"/>
                  <a:ext cx="125640" cy="83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H="1">
                  <a:off x="1915560" y="1044360"/>
                  <a:ext cx="349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1914480" y="1044360"/>
                  <a:ext cx="331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>
                  <a:off x="1981080" y="1064880"/>
                  <a:ext cx="4608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H="1" flipV="1">
                  <a:off x="2290320" y="2728800"/>
                  <a:ext cx="96840" cy="113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H="1" flipV="1">
                  <a:off x="1858680" y="2926800"/>
                  <a:ext cx="2376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38000" y="1711080"/>
                  <a:ext cx="142920" cy="50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>
                  <a:off x="2580840" y="1823760"/>
                  <a:ext cx="145800" cy="33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H="1">
                  <a:off x="2401200" y="1396800"/>
                  <a:ext cx="117720" cy="95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H="1" flipV="1">
                  <a:off x="1920240" y="2915640"/>
                  <a:ext cx="349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H="1" flipV="1">
                  <a:off x="2018880" y="2885400"/>
                  <a:ext cx="5076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>
                  <a:off x="2492280" y="1552320"/>
                  <a:ext cx="131760" cy="74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H="1">
                  <a:off x="2492280" y="1552320"/>
                  <a:ext cx="131760" cy="71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H="1">
                  <a:off x="2492280" y="1552320"/>
                  <a:ext cx="131760" cy="71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flipV="1">
                  <a:off x="934920" y="2635200"/>
                  <a:ext cx="112680" cy="97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 flipV="1">
                  <a:off x="2574360" y="2279160"/>
                  <a:ext cx="142920" cy="37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H="1" flipV="1">
                  <a:off x="2571480" y="2279160"/>
                  <a:ext cx="146160" cy="37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H="1" flipV="1">
                  <a:off x="2571480" y="2279160"/>
                  <a:ext cx="146160" cy="37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88680" y="1941120"/>
                  <a:ext cx="147600" cy="17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V="1">
                  <a:off x="957240" y="2655360"/>
                  <a:ext cx="109440" cy="102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V="1">
                  <a:off x="1009440" y="2701440"/>
                  <a:ext cx="10332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V="1">
                  <a:off x="1539720" y="2925360"/>
                  <a:ext cx="270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 flipV="1">
                  <a:off x="2599920" y="2101320"/>
                  <a:ext cx="150840" cy="9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>
                  <a:off x="1976400" y="1063440"/>
                  <a:ext cx="4608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 flipV="1">
                  <a:off x="2182680" y="2808000"/>
                  <a:ext cx="79200" cy="12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 flipV="1">
                  <a:off x="1820880" y="2931840"/>
                  <a:ext cx="172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1004760" y="1299960"/>
                  <a:ext cx="103320" cy="110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V="1">
                  <a:off x="811080" y="2484000"/>
                  <a:ext cx="131760" cy="70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>
                  <a:off x="2304360" y="1279440"/>
                  <a:ext cx="10188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V="1">
                  <a:off x="966600" y="2663640"/>
                  <a:ext cx="108000" cy="102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>
                  <a:off x="2603520" y="2041200"/>
                  <a:ext cx="147600" cy="2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V="1">
                  <a:off x="1149120" y="2792160"/>
                  <a:ext cx="81000" cy="12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836280" y="1504800"/>
                  <a:ext cx="130320" cy="80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93440" y="1584000"/>
                  <a:ext cx="135000" cy="66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>
                  <a:off x="1914480" y="1044360"/>
                  <a:ext cx="331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1390320" y="1069920"/>
                  <a:ext cx="46080" cy="14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390320" y="1069920"/>
                  <a:ext cx="46080" cy="14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V="1">
                  <a:off x="1549080" y="2926800"/>
                  <a:ext cx="2412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V="1">
                  <a:off x="707760" y="2252520"/>
                  <a:ext cx="146160" cy="34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V="1">
                  <a:off x="726840" y="2315520"/>
                  <a:ext cx="144720" cy="44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V="1">
                  <a:off x="726840" y="2315880"/>
                  <a:ext cx="144720" cy="42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V="1">
                  <a:off x="777600" y="2425320"/>
                  <a:ext cx="136800" cy="63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V="1">
                  <a:off x="836280" y="2518920"/>
                  <a:ext cx="127080" cy="78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V="1">
                  <a:off x="836280" y="2518920"/>
                  <a:ext cx="127080" cy="78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V="1">
                  <a:off x="895320" y="2591640"/>
                  <a:ext cx="1173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V="1">
                  <a:off x="895320" y="2591640"/>
                  <a:ext cx="1173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V="1">
                  <a:off x="1019160" y="2709360"/>
                  <a:ext cx="101520" cy="10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V="1">
                  <a:off x="1425240" y="2903400"/>
                  <a:ext cx="4320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V="1">
                  <a:off x="1458720" y="2911320"/>
                  <a:ext cx="3816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V="1">
                  <a:off x="1652400" y="2936520"/>
                  <a:ext cx="972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V="1">
                  <a:off x="1652400" y="2936520"/>
                  <a:ext cx="972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1652400" y="2936520"/>
                  <a:ext cx="972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H="1" flipV="1">
                  <a:off x="2040840" y="2876040"/>
                  <a:ext cx="558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H="1" flipV="1">
                  <a:off x="2040840" y="2876040"/>
                  <a:ext cx="558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H="1" flipV="1">
                  <a:off x="2040840" y="2876040"/>
                  <a:ext cx="558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H="1" flipV="1">
                  <a:off x="2040840" y="2876040"/>
                  <a:ext cx="558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 flipV="1">
                  <a:off x="2040840" y="2876040"/>
                  <a:ext cx="558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 flipV="1">
                  <a:off x="2040840" y="2876040"/>
                  <a:ext cx="558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H="1" flipV="1">
                  <a:off x="2209320" y="2790360"/>
                  <a:ext cx="81000" cy="12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 flipV="1">
                  <a:off x="2214360" y="278568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H="1" flipV="1">
                  <a:off x="2214360" y="278568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H="1" flipV="1">
                  <a:off x="2233080" y="2771640"/>
                  <a:ext cx="88920" cy="12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 flipV="1">
                  <a:off x="2233080" y="2771640"/>
                  <a:ext cx="88920" cy="12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 flipV="1">
                  <a:off x="2304720" y="2715840"/>
                  <a:ext cx="98640" cy="110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flipH="1" flipV="1">
                  <a:off x="2304720" y="2715840"/>
                  <a:ext cx="9864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H="1" flipV="1">
                  <a:off x="2496960" y="2472840"/>
                  <a:ext cx="131760" cy="69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 flipV="1">
                  <a:off x="2496960" y="2473200"/>
                  <a:ext cx="131760" cy="72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H="1" flipV="1">
                  <a:off x="2496960" y="2473200"/>
                  <a:ext cx="131760" cy="72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H="1" flipV="1">
                  <a:off x="2509560" y="2444040"/>
                  <a:ext cx="136800" cy="68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H="1" flipV="1">
                  <a:off x="2557440" y="2331720"/>
                  <a:ext cx="141120" cy="48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H="1" flipV="1">
                  <a:off x="2558520" y="2322000"/>
                  <a:ext cx="144360" cy="45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 flipV="1">
                  <a:off x="2600280" y="2123640"/>
                  <a:ext cx="149040" cy="10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H="1">
                  <a:off x="2600280" y="1982520"/>
                  <a:ext cx="1490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H="1">
                  <a:off x="2600280" y="1982520"/>
                  <a:ext cx="1490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H="1">
                  <a:off x="2501280" y="1576080"/>
                  <a:ext cx="135000" cy="69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H="1">
                  <a:off x="2408040" y="1406160"/>
                  <a:ext cx="11592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>
                  <a:off x="2393640" y="1387080"/>
                  <a:ext cx="115920" cy="95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H="1">
                  <a:off x="2307960" y="1280880"/>
                  <a:ext cx="10008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>
                  <a:off x="2307960" y="1280880"/>
                  <a:ext cx="10008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flipH="1">
                  <a:off x="2304360" y="1280880"/>
                  <a:ext cx="101880" cy="110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H="1">
                  <a:off x="2247480" y="1223640"/>
                  <a:ext cx="90360" cy="120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H="1">
                  <a:off x="2096640" y="1118880"/>
                  <a:ext cx="6516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H="1">
                  <a:off x="2096640" y="1118880"/>
                  <a:ext cx="6516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flipH="1">
                  <a:off x="2092320" y="1115640"/>
                  <a:ext cx="64800" cy="134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H="1">
                  <a:off x="2092320" y="1115640"/>
                  <a:ext cx="6480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901440" y="1415880"/>
                  <a:ext cx="117720" cy="90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flipH="1">
                  <a:off x="2518920" y="1612800"/>
                  <a:ext cx="136440" cy="64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>
                  <a:off x="2518920" y="1614240"/>
                  <a:ext cx="136440" cy="63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H="1">
                  <a:off x="2598480" y="1941120"/>
                  <a:ext cx="147600" cy="17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47720" y="1688760"/>
                  <a:ext cx="13968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17480" y="1782360"/>
                  <a:ext cx="145800" cy="37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14240" y="1790640"/>
                  <a:ext cx="146160" cy="37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14240" y="1792080"/>
                  <a:ext cx="146160" cy="37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flipH="1" flipV="1">
                  <a:off x="2338200" y="2682360"/>
                  <a:ext cx="1065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1050840" y="2729880"/>
                  <a:ext cx="98280" cy="115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 flipV="1">
                  <a:off x="1837800" y="2930040"/>
                  <a:ext cx="1908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1309680" y="1101600"/>
                  <a:ext cx="5688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1309680" y="1101600"/>
                  <a:ext cx="6012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1211040" y="1149120"/>
                  <a:ext cx="74520" cy="131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211040" y="1149120"/>
                  <a:ext cx="74520" cy="131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1082520" y="1236600"/>
                  <a:ext cx="90360" cy="118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V="1">
                  <a:off x="1190520" y="2817720"/>
                  <a:ext cx="76320" cy="12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V="1">
                  <a:off x="1190520" y="2817720"/>
                  <a:ext cx="76320" cy="12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1017360" y="1288800"/>
                  <a:ext cx="103320" cy="10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1019160" y="1288800"/>
                  <a:ext cx="101520" cy="10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V="1">
                  <a:off x="1182600" y="2812320"/>
                  <a:ext cx="7920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1136520" y="1195200"/>
                  <a:ext cx="84240" cy="12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817560" y="1537920"/>
                  <a:ext cx="129960" cy="74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flipH="1">
                  <a:off x="1995480" y="1069920"/>
                  <a:ext cx="4896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H="1" flipV="1">
                  <a:off x="2603520" y="2072520"/>
                  <a:ext cx="14760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flipV="1">
                  <a:off x="1482480" y="2915640"/>
                  <a:ext cx="334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 flipH="1">
                  <a:off x="1739520" y="1017720"/>
                  <a:ext cx="468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flipH="1" flipV="1">
                  <a:off x="2431800" y="2574360"/>
                  <a:ext cx="122400" cy="85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1717560" y="1017720"/>
                  <a:ext cx="144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1717560" y="1017720"/>
                  <a:ext cx="144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88760" y="1595160"/>
                  <a:ext cx="135000" cy="68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 flipH="1">
                  <a:off x="2333160" y="1312560"/>
                  <a:ext cx="10620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 flipH="1" flipV="1">
                  <a:off x="2086920" y="2857320"/>
                  <a:ext cx="6516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H="1" flipV="1">
                  <a:off x="2087280" y="2857320"/>
                  <a:ext cx="6192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 flipH="1" flipV="1">
                  <a:off x="2563560" y="2306520"/>
                  <a:ext cx="144720" cy="42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 flipH="1">
                  <a:off x="2106000" y="1123560"/>
                  <a:ext cx="6516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H="1">
                  <a:off x="2350800" y="1331640"/>
                  <a:ext cx="108000" cy="102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 flipH="1">
                  <a:off x="2350800" y="1331640"/>
                  <a:ext cx="108000" cy="102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H="1">
                  <a:off x="2350800" y="1331640"/>
                  <a:ext cx="10800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H="1">
                  <a:off x="2350800" y="1331640"/>
                  <a:ext cx="10800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H="1">
                  <a:off x="2350800" y="1331640"/>
                  <a:ext cx="10800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1573200" y="10267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 flipH="1">
                  <a:off x="2328840" y="1304640"/>
                  <a:ext cx="1029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H="1">
                  <a:off x="2515680" y="1604880"/>
                  <a:ext cx="135000" cy="64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flipH="1" flipV="1">
                  <a:off x="2265120" y="2748960"/>
                  <a:ext cx="90720" cy="11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1209600" y="1152360"/>
                  <a:ext cx="73080" cy="12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1388880" y="1069920"/>
                  <a:ext cx="4752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 flipH="1" flipV="1">
                  <a:off x="1915560" y="2915640"/>
                  <a:ext cx="349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92000" y="1590480"/>
                  <a:ext cx="133200" cy="68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 flipV="1">
                  <a:off x="1023840" y="2711160"/>
                  <a:ext cx="10152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flipV="1">
                  <a:off x="1420560" y="2900160"/>
                  <a:ext cx="4284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1209600" y="1152360"/>
                  <a:ext cx="71280" cy="12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V="1">
                  <a:off x="1725480" y="2939400"/>
                  <a:ext cx="144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flipH="1" flipV="1">
                  <a:off x="2139840" y="2831400"/>
                  <a:ext cx="71280" cy="131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 flipV="1">
                  <a:off x="1199880" y="2822400"/>
                  <a:ext cx="73080" cy="12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V="1">
                  <a:off x="1199880" y="2818800"/>
                  <a:ext cx="73080" cy="131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1647720" y="1020600"/>
                  <a:ext cx="936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 flipV="1">
                  <a:off x="2515680" y="2435040"/>
                  <a:ext cx="135000" cy="64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flipH="1">
                  <a:off x="2563560" y="1757160"/>
                  <a:ext cx="144720" cy="42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H="1">
                  <a:off x="1920240" y="1045800"/>
                  <a:ext cx="349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 flipH="1" flipV="1">
                  <a:off x="2346120" y="2674800"/>
                  <a:ext cx="108000" cy="105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H="1" flipV="1">
                  <a:off x="2346120" y="2674800"/>
                  <a:ext cx="108000" cy="105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flipH="1" flipV="1">
                  <a:off x="2345760" y="2678040"/>
                  <a:ext cx="104760" cy="10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 flipH="1" flipV="1">
                  <a:off x="2342880" y="2678040"/>
                  <a:ext cx="108000" cy="10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 flipV="1">
                  <a:off x="680760" y="2081160"/>
                  <a:ext cx="150840" cy="4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H="1" flipV="1">
                  <a:off x="2598480" y="2147760"/>
                  <a:ext cx="147600" cy="13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flipH="1" flipV="1">
                  <a:off x="2598480" y="2147400"/>
                  <a:ext cx="147600" cy="16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H="1">
                  <a:off x="2269440" y="1242720"/>
                  <a:ext cx="93960" cy="117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flipH="1">
                  <a:off x="2269440" y="1242720"/>
                  <a:ext cx="93960" cy="117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1425240" y="1060200"/>
                  <a:ext cx="4320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H="1">
                  <a:off x="2589120" y="1874520"/>
                  <a:ext cx="147600" cy="25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H="1">
                  <a:off x="2003040" y="1072800"/>
                  <a:ext cx="5076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V="1">
                  <a:off x="745920" y="2363040"/>
                  <a:ext cx="14148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H="1">
                  <a:off x="1969920" y="1060200"/>
                  <a:ext cx="3960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H="1">
                  <a:off x="1971360" y="1060200"/>
                  <a:ext cx="4320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H="1">
                  <a:off x="1971360" y="1060200"/>
                  <a:ext cx="4320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flipH="1">
                  <a:off x="1971360" y="1060200"/>
                  <a:ext cx="4320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1666800" y="1020600"/>
                  <a:ext cx="792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V="1">
                  <a:off x="1511280" y="2920320"/>
                  <a:ext cx="2844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V="1">
                  <a:off x="1511280" y="2920320"/>
                  <a:ext cx="2844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V="1">
                  <a:off x="684000" y="2106000"/>
                  <a:ext cx="147600" cy="7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V="1">
                  <a:off x="684000" y="2106000"/>
                  <a:ext cx="147600" cy="7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H="1">
                  <a:off x="2520360" y="1618920"/>
                  <a:ext cx="136440" cy="63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792000" y="1589040"/>
                  <a:ext cx="133200" cy="66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flipH="1">
                  <a:off x="2539440" y="1674720"/>
                  <a:ext cx="142920" cy="55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H="1" flipV="1">
                  <a:off x="2014200" y="2885760"/>
                  <a:ext cx="5364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V="1">
                  <a:off x="698400" y="2209680"/>
                  <a:ext cx="146160" cy="26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H="1" flipV="1">
                  <a:off x="2590560" y="2199960"/>
                  <a:ext cx="146160" cy="26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1268280" y="1118880"/>
                  <a:ext cx="6516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V="1">
                  <a:off x="993600" y="2687400"/>
                  <a:ext cx="104760" cy="10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915840" y="1396800"/>
                  <a:ext cx="115920" cy="95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H="1">
                  <a:off x="2581200" y="1834920"/>
                  <a:ext cx="149040" cy="31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>
                  <a:off x="2598120" y="1958760"/>
                  <a:ext cx="150840" cy="14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V="1">
                  <a:off x="1298520" y="2861640"/>
                  <a:ext cx="6192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flipH="1">
                  <a:off x="2182680" y="1172880"/>
                  <a:ext cx="79200" cy="12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290600" y="1109520"/>
                  <a:ext cx="6192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39600" y="1368360"/>
                  <a:ext cx="112680" cy="9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flipH="1">
                  <a:off x="2196720" y="1182600"/>
                  <a:ext cx="82440" cy="126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1280880" y="1114200"/>
                  <a:ext cx="6516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flipH="1">
                  <a:off x="2590200" y="1895400"/>
                  <a:ext cx="149400" cy="23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H="1">
                  <a:off x="2593800" y="1895400"/>
                  <a:ext cx="146160" cy="23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H="1" flipV="1">
                  <a:off x="2102760" y="2850840"/>
                  <a:ext cx="6516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V="1">
                  <a:off x="1357200" y="2883960"/>
                  <a:ext cx="54000" cy="14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flipH="1" flipV="1">
                  <a:off x="2298240" y="2720520"/>
                  <a:ext cx="98280" cy="115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684000" y="1973160"/>
                  <a:ext cx="150840" cy="10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flipH="1" flipV="1">
                  <a:off x="2584080" y="2233080"/>
                  <a:ext cx="145800" cy="31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flipH="1" flipV="1">
                  <a:off x="2518920" y="2428560"/>
                  <a:ext cx="136440" cy="64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flipH="1">
                  <a:off x="2077560" y="1106280"/>
                  <a:ext cx="5868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flipH="1">
                  <a:off x="2074680" y="1106280"/>
                  <a:ext cx="6048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flipH="1">
                  <a:off x="2074680" y="1106280"/>
                  <a:ext cx="6048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flipH="1" flipV="1">
                  <a:off x="1788840" y="2936520"/>
                  <a:ext cx="129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1223640" y="1142640"/>
                  <a:ext cx="71640" cy="131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968040" y="1336320"/>
                  <a:ext cx="108000" cy="102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flipH="1">
                  <a:off x="2135160" y="1139760"/>
                  <a:ext cx="71280" cy="134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1431720" y="2903400"/>
                  <a:ext cx="4140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flipH="1" flipV="1">
                  <a:off x="2585520" y="2218680"/>
                  <a:ext cx="149400" cy="28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1055520" y="1257120"/>
                  <a:ext cx="95400" cy="115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1436400" y="1055520"/>
                  <a:ext cx="4140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H="1" flipV="1">
                  <a:off x="2022120" y="2883960"/>
                  <a:ext cx="50760" cy="14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flipH="1" flipV="1">
                  <a:off x="2022120" y="2883960"/>
                  <a:ext cx="50760" cy="14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flipV="1">
                  <a:off x="1091880" y="2758680"/>
                  <a:ext cx="87480" cy="117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V="1">
                  <a:off x="1411200" y="2898720"/>
                  <a:ext cx="4428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flipH="1">
                  <a:off x="1999800" y="1072800"/>
                  <a:ext cx="4932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flipH="1">
                  <a:off x="1999800" y="1072800"/>
                  <a:ext cx="4932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1163520" y="1177560"/>
                  <a:ext cx="79200" cy="12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1163520" y="1177560"/>
                  <a:ext cx="81000" cy="12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1158840" y="1180800"/>
                  <a:ext cx="81000" cy="12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 flipV="1">
                  <a:off x="2322000" y="2700000"/>
                  <a:ext cx="10332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flipH="1">
                  <a:off x="2603520" y="2063520"/>
                  <a:ext cx="147600" cy="1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H="1">
                  <a:off x="2377440" y="1363320"/>
                  <a:ext cx="10980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flipH="1">
                  <a:off x="2106000" y="1123560"/>
                  <a:ext cx="6516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H="1">
                  <a:off x="2101320" y="1120680"/>
                  <a:ext cx="65160" cy="134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H="1">
                  <a:off x="1858680" y="1031760"/>
                  <a:ext cx="2376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V="1">
                  <a:off x="822240" y="2500200"/>
                  <a:ext cx="129960" cy="74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V="1">
                  <a:off x="693720" y="2180520"/>
                  <a:ext cx="14580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V="1">
                  <a:off x="714240" y="2279160"/>
                  <a:ext cx="146160" cy="37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1617480" y="1022040"/>
                  <a:ext cx="144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609560" y="1022040"/>
                  <a:ext cx="1764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1612800" y="1022040"/>
                  <a:ext cx="1440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1612800" y="1022040"/>
                  <a:ext cx="1440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V="1">
                  <a:off x="787320" y="2442960"/>
                  <a:ext cx="133200" cy="66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V="1">
                  <a:off x="836280" y="252216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V="1">
                  <a:off x="1017360" y="2706480"/>
                  <a:ext cx="100080" cy="110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flipV="1">
                  <a:off x="1474560" y="2915640"/>
                  <a:ext cx="367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 flipV="1">
                  <a:off x="1474560" y="2915640"/>
                  <a:ext cx="367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H="1" flipV="1">
                  <a:off x="2441160" y="2561760"/>
                  <a:ext cx="122040" cy="86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H="1">
                  <a:off x="2406600" y="1401480"/>
                  <a:ext cx="117360" cy="95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750600" y="1679400"/>
                  <a:ext cx="141480" cy="51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V="1">
                  <a:off x="934920" y="2635200"/>
                  <a:ext cx="112680" cy="97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flipV="1">
                  <a:off x="1268280" y="2850840"/>
                  <a:ext cx="6516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flipH="1" flipV="1">
                  <a:off x="2594880" y="2158920"/>
                  <a:ext cx="149400" cy="20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V="1">
                  <a:off x="685800" y="2144160"/>
                  <a:ext cx="150480" cy="16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H="1" flipV="1">
                  <a:off x="2450520" y="2546280"/>
                  <a:ext cx="125640" cy="83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H="1" flipV="1">
                  <a:off x="2450520" y="2546280"/>
                  <a:ext cx="125640" cy="83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H="1" flipV="1">
                  <a:off x="2450520" y="2546280"/>
                  <a:ext cx="125640" cy="83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H="1" flipV="1">
                  <a:off x="2450520" y="2546280"/>
                  <a:ext cx="125640" cy="83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flipH="1">
                  <a:off x="1837800" y="10267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911160" y="1401480"/>
                  <a:ext cx="117360" cy="95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911160" y="1403280"/>
                  <a:ext cx="11592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914400" y="1401480"/>
                  <a:ext cx="11412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904680" y="1411200"/>
                  <a:ext cx="11736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V="1">
                  <a:off x="1645920" y="2936520"/>
                  <a:ext cx="111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flipH="1">
                  <a:off x="1852560" y="1029960"/>
                  <a:ext cx="2376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909360" y="1406160"/>
                  <a:ext cx="11772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779400" y="1614240"/>
                  <a:ext cx="135000" cy="63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777600" y="1617480"/>
                  <a:ext cx="136800" cy="61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784080" y="1604880"/>
                  <a:ext cx="135000" cy="64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777600" y="1617480"/>
                  <a:ext cx="136800" cy="64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H="1" flipV="1">
                  <a:off x="1974240" y="2900160"/>
                  <a:ext cx="4284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H="1" flipV="1">
                  <a:off x="1965240" y="2903400"/>
                  <a:ext cx="3960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H="1" flipV="1">
                  <a:off x="1965240" y="2903400"/>
                  <a:ext cx="3960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flipH="1" flipV="1">
                  <a:off x="1961640" y="2903400"/>
                  <a:ext cx="4284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 flipV="1">
                  <a:off x="1960200" y="2906280"/>
                  <a:ext cx="42840" cy="14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V="1">
                  <a:off x="1645920" y="2936520"/>
                  <a:ext cx="972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V="1">
                  <a:off x="1643040" y="2936520"/>
                  <a:ext cx="126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flipH="1" flipV="1">
                  <a:off x="1966320" y="2903400"/>
                  <a:ext cx="4140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H="1" flipV="1">
                  <a:off x="1966320" y="2903400"/>
                  <a:ext cx="4140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flipH="1" flipV="1">
                  <a:off x="1923840" y="2912400"/>
                  <a:ext cx="367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774720" y="1622160"/>
                  <a:ext cx="136440" cy="61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774720" y="1622160"/>
                  <a:ext cx="136440" cy="61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V="1">
                  <a:off x="1468440" y="2912400"/>
                  <a:ext cx="349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 flipH="1" flipV="1">
                  <a:off x="1952640" y="2906640"/>
                  <a:ext cx="4104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flipH="1" flipV="1">
                  <a:off x="1952640" y="2906640"/>
                  <a:ext cx="4104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 flipV="1">
                  <a:off x="1955160" y="2906640"/>
                  <a:ext cx="3996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 flipH="1" flipV="1">
                  <a:off x="1955160" y="2906640"/>
                  <a:ext cx="3996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flipH="1" flipV="1">
                  <a:off x="1941120" y="2911320"/>
                  <a:ext cx="3780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V="1">
                  <a:off x="1714320" y="2939400"/>
                  <a:ext cx="144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 flipV="1">
                  <a:off x="1714320" y="2939400"/>
                  <a:ext cx="144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00000" y="1415880"/>
                  <a:ext cx="11916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H="1" flipV="1">
                  <a:off x="1745640" y="2939400"/>
                  <a:ext cx="468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 flipH="1" flipV="1">
                  <a:off x="1744200" y="2939400"/>
                  <a:ext cx="468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1585800" y="10267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582560" y="10267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582560" y="10267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 flipH="1">
                  <a:off x="2603520" y="2020680"/>
                  <a:ext cx="147600" cy="4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flipH="1" flipV="1">
                  <a:off x="2063160" y="2866320"/>
                  <a:ext cx="5868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 flipH="1">
                  <a:off x="2603520" y="2027160"/>
                  <a:ext cx="147600" cy="4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flipH="1" flipV="1">
                  <a:off x="2064960" y="2866320"/>
                  <a:ext cx="601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flipH="1" flipV="1">
                  <a:off x="2077920" y="2862000"/>
                  <a:ext cx="6192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 flipV="1">
                  <a:off x="2059920" y="2869560"/>
                  <a:ext cx="5724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 flipH="1" flipV="1">
                  <a:off x="2108160" y="2847600"/>
                  <a:ext cx="64800" cy="134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 flipH="1" flipV="1">
                  <a:off x="2482560" y="2500200"/>
                  <a:ext cx="130320" cy="74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 flipH="1" flipV="1">
                  <a:off x="2480760" y="2500200"/>
                  <a:ext cx="128520" cy="74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V="1">
                  <a:off x="920520" y="2620440"/>
                  <a:ext cx="115920" cy="9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flipV="1">
                  <a:off x="920520" y="2620440"/>
                  <a:ext cx="115920" cy="9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 flipH="1">
                  <a:off x="2603520" y="2044440"/>
                  <a:ext cx="147600" cy="1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 flipH="1">
                  <a:off x="2603520" y="2046240"/>
                  <a:ext cx="147600" cy="1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 flipV="1">
                  <a:off x="1174680" y="2808000"/>
                  <a:ext cx="77760" cy="12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1698480" y="1017720"/>
                  <a:ext cx="144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 flipH="1">
                  <a:off x="1957320" y="1055520"/>
                  <a:ext cx="4104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 flipH="1">
                  <a:off x="1750320" y="1017720"/>
                  <a:ext cx="828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 flipH="1">
                  <a:off x="2468520" y="1504800"/>
                  <a:ext cx="126720" cy="78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 flipH="1" flipV="1">
                  <a:off x="2603520" y="2066400"/>
                  <a:ext cx="147600" cy="1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 flipH="1" flipV="1">
                  <a:off x="2603520" y="2066400"/>
                  <a:ext cx="147600" cy="1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1130040" y="1199880"/>
                  <a:ext cx="85680" cy="12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 flipH="1">
                  <a:off x="1812240" y="1025280"/>
                  <a:ext cx="1764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 flipH="1">
                  <a:off x="2492280" y="1555560"/>
                  <a:ext cx="131760" cy="70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 flipH="1">
                  <a:off x="2492280" y="1555560"/>
                  <a:ext cx="131760" cy="70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 flipH="1">
                  <a:off x="2492280" y="1555560"/>
                  <a:ext cx="131760" cy="70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 flipV="1">
                  <a:off x="831600" y="2512440"/>
                  <a:ext cx="127080" cy="78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1861920" y="1031760"/>
                  <a:ext cx="2376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 flipH="1" flipV="1">
                  <a:off x="1854000" y="2926800"/>
                  <a:ext cx="2376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 flipH="1" flipV="1">
                  <a:off x="1857240" y="2926800"/>
                  <a:ext cx="2376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H="1" flipV="1">
                  <a:off x="1858680" y="2926800"/>
                  <a:ext cx="2376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968040" y="1336320"/>
                  <a:ext cx="111240" cy="102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 flipH="1">
                  <a:off x="2501640" y="1571400"/>
                  <a:ext cx="131760" cy="72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 flipV="1">
                  <a:off x="703080" y="2233440"/>
                  <a:ext cx="146160" cy="28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flipV="1">
                  <a:off x="1554120" y="2926800"/>
                  <a:ext cx="2376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2377440" y="1363320"/>
                  <a:ext cx="112680" cy="9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flipH="1">
                  <a:off x="2379240" y="1365120"/>
                  <a:ext cx="112680" cy="10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H="1" flipV="1">
                  <a:off x="2603520" y="2085840"/>
                  <a:ext cx="147600" cy="4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flipH="1">
                  <a:off x="2417400" y="1423800"/>
                  <a:ext cx="120600" cy="90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 flipV="1">
                  <a:off x="2290320" y="2725200"/>
                  <a:ext cx="98280" cy="115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H="1" flipV="1">
                  <a:off x="2293920" y="2725200"/>
                  <a:ext cx="95040" cy="115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 flipH="1" flipV="1">
                  <a:off x="2290320" y="2728800"/>
                  <a:ext cx="9828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1647720" y="1020600"/>
                  <a:ext cx="936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1647720" y="1020600"/>
                  <a:ext cx="936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V="1">
                  <a:off x="1388880" y="2893680"/>
                  <a:ext cx="4752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flipH="1" flipV="1">
                  <a:off x="1739520" y="2939400"/>
                  <a:ext cx="468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963360" y="1344240"/>
                  <a:ext cx="108000" cy="102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920520" y="1392120"/>
                  <a:ext cx="115920" cy="9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flipH="1">
                  <a:off x="2168280" y="1163520"/>
                  <a:ext cx="76320" cy="129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680760" y="2022120"/>
                  <a:ext cx="15084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flipH="1">
                  <a:off x="1957320" y="1055520"/>
                  <a:ext cx="4104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 flipH="1">
                  <a:off x="1957320" y="1055520"/>
                  <a:ext cx="4104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flipH="1" flipV="1">
                  <a:off x="2463120" y="252864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 flipH="1" flipV="1">
                  <a:off x="2593800" y="2184120"/>
                  <a:ext cx="147600" cy="20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flipV="1">
                  <a:off x="699840" y="2222280"/>
                  <a:ext cx="146160" cy="28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V="1">
                  <a:off x="1069920" y="2744280"/>
                  <a:ext cx="93600" cy="115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V="1">
                  <a:off x="1066680" y="2742840"/>
                  <a:ext cx="96840" cy="117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 flipH="1">
                  <a:off x="1998000" y="1072800"/>
                  <a:ext cx="4788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 flipH="1">
                  <a:off x="1998000" y="1072800"/>
                  <a:ext cx="4788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685800" y="1958760"/>
                  <a:ext cx="149040" cy="14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1488960" y="1044360"/>
                  <a:ext cx="316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 flipV="1">
                  <a:off x="1206360" y="2823480"/>
                  <a:ext cx="74520" cy="131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 flipV="1">
                  <a:off x="880920" y="2574720"/>
                  <a:ext cx="119160" cy="88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942840" y="1365120"/>
                  <a:ext cx="112680" cy="10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 flipH="1">
                  <a:off x="1729800" y="1017720"/>
                  <a:ext cx="180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1347480" y="1083960"/>
                  <a:ext cx="5580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1299960" y="1106280"/>
                  <a:ext cx="6048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 flipV="1">
                  <a:off x="742680" y="2353680"/>
                  <a:ext cx="14292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 flipV="1">
                  <a:off x="1563480" y="2930040"/>
                  <a:ext cx="2232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flipH="1">
                  <a:off x="2549520" y="1706400"/>
                  <a:ext cx="142560" cy="50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1091880" y="1228320"/>
                  <a:ext cx="9072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 flipV="1">
                  <a:off x="933120" y="2631960"/>
                  <a:ext cx="113040" cy="97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1726920" y="1017720"/>
                  <a:ext cx="180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 flipH="1">
                  <a:off x="1726560" y="1017720"/>
                  <a:ext cx="324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90480" y="1914120"/>
                  <a:ext cx="14904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 flipH="1" flipV="1">
                  <a:off x="2022120" y="2883960"/>
                  <a:ext cx="52200" cy="14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 flipH="1">
                  <a:off x="2187000" y="1176120"/>
                  <a:ext cx="79560" cy="12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684000" y="1993680"/>
                  <a:ext cx="147600" cy="9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 flipH="1">
                  <a:off x="2525400" y="1634760"/>
                  <a:ext cx="139680" cy="61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984240" y="1322280"/>
                  <a:ext cx="104760" cy="105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 flipH="1">
                  <a:off x="1825200" y="1025280"/>
                  <a:ext cx="1908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 flipH="1">
                  <a:off x="1825200" y="1025280"/>
                  <a:ext cx="1908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892080" y="1425240"/>
                  <a:ext cx="12060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1218960" y="1144440"/>
                  <a:ext cx="71640" cy="131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1220760" y="1144440"/>
                  <a:ext cx="71280" cy="131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flipH="1" flipV="1">
                  <a:off x="1976040" y="2900160"/>
                  <a:ext cx="4284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938160" y="1369800"/>
                  <a:ext cx="112680" cy="97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 flipH="1">
                  <a:off x="2430000" y="1439640"/>
                  <a:ext cx="119160" cy="88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 flipV="1">
                  <a:off x="693720" y="2190240"/>
                  <a:ext cx="14760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 flipV="1">
                  <a:off x="695160" y="2198160"/>
                  <a:ext cx="149400" cy="23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 flipV="1">
                  <a:off x="985680" y="2679480"/>
                  <a:ext cx="106200" cy="105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V="1">
                  <a:off x="988920" y="2682720"/>
                  <a:ext cx="104760" cy="10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flipV="1">
                  <a:off x="985680" y="2679120"/>
                  <a:ext cx="10620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H="1" flipV="1">
                  <a:off x="2511000" y="2442960"/>
                  <a:ext cx="136440" cy="64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H="1" flipV="1">
                  <a:off x="2511000" y="2442960"/>
                  <a:ext cx="136440" cy="64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 flipH="1" flipV="1">
                  <a:off x="2403360" y="2612880"/>
                  <a:ext cx="115920" cy="96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flipH="1" flipV="1">
                  <a:off x="2403360" y="2612520"/>
                  <a:ext cx="11592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90480" y="1909440"/>
                  <a:ext cx="14904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690480" y="1909440"/>
                  <a:ext cx="14904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690480" y="1909440"/>
                  <a:ext cx="14904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690480" y="1909440"/>
                  <a:ext cx="14904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690480" y="1909440"/>
                  <a:ext cx="14904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690480" y="1909440"/>
                  <a:ext cx="14904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690480" y="1909440"/>
                  <a:ext cx="14904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98400" y="1869840"/>
                  <a:ext cx="147600" cy="25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1685880" y="1017720"/>
                  <a:ext cx="468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1323720" y="1093680"/>
                  <a:ext cx="5724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1326960" y="1093680"/>
                  <a:ext cx="540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 flipV="1">
                  <a:off x="1317600" y="2869560"/>
                  <a:ext cx="5688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flipH="1" flipV="1">
                  <a:off x="2130120" y="2836440"/>
                  <a:ext cx="69840" cy="13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 flipH="1">
                  <a:off x="2594880" y="1917360"/>
                  <a:ext cx="149400" cy="20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flipH="1" flipV="1">
                  <a:off x="1731960" y="2939400"/>
                  <a:ext cx="288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 flipH="1" flipV="1">
                  <a:off x="1736280" y="2939400"/>
                  <a:ext cx="324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252440" y="1128600"/>
                  <a:ext cx="66600" cy="13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1079280" y="1236600"/>
                  <a:ext cx="93600" cy="118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1014120" y="1293480"/>
                  <a:ext cx="10188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1244520" y="1130040"/>
                  <a:ext cx="69840" cy="134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flipV="1">
                  <a:off x="1633320" y="2936520"/>
                  <a:ext cx="126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 flipH="1" flipV="1">
                  <a:off x="1745640" y="2939400"/>
                  <a:ext cx="468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 flipV="1">
                  <a:off x="1346040" y="2879280"/>
                  <a:ext cx="52560" cy="14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 flipV="1">
                  <a:off x="1323720" y="2871360"/>
                  <a:ext cx="5724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 flipV="1">
                  <a:off x="1323720" y="2871360"/>
                  <a:ext cx="558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 flipV="1">
                  <a:off x="1323720" y="2871360"/>
                  <a:ext cx="558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 flipH="1" flipV="1">
                  <a:off x="2477880" y="2504520"/>
                  <a:ext cx="130320" cy="75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 flipV="1">
                  <a:off x="1326960" y="2874240"/>
                  <a:ext cx="5724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flipH="1" flipV="1">
                  <a:off x="2487240" y="2490480"/>
                  <a:ext cx="129960" cy="74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 flipH="1">
                  <a:off x="2566440" y="1761840"/>
                  <a:ext cx="144360" cy="42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 flipV="1">
                  <a:off x="1590480" y="293184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flipV="1">
                  <a:off x="1590480" y="293184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flipV="1">
                  <a:off x="1590480" y="2931840"/>
                  <a:ext cx="1584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 flipV="1">
                  <a:off x="1592280" y="2931840"/>
                  <a:ext cx="172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768240" y="1639800"/>
                  <a:ext cx="136440" cy="58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 flipV="1">
                  <a:off x="1609560" y="2934720"/>
                  <a:ext cx="1764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 flipH="1">
                  <a:off x="2590200" y="1888920"/>
                  <a:ext cx="149400" cy="23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688680" y="1931760"/>
                  <a:ext cx="147600" cy="17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H="1">
                  <a:off x="2228760" y="1207800"/>
                  <a:ext cx="8568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H="1">
                  <a:off x="2228760" y="1207800"/>
                  <a:ext cx="8568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H="1">
                  <a:off x="2229840" y="1209600"/>
                  <a:ext cx="88920" cy="12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 flipV="1">
                  <a:off x="2206440" y="2790360"/>
                  <a:ext cx="84240" cy="12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1144440" y="1190520"/>
                  <a:ext cx="84240" cy="12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V="1">
                  <a:off x="1038240" y="2723400"/>
                  <a:ext cx="982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1144440" y="1190520"/>
                  <a:ext cx="81000" cy="12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 flipH="1" flipV="1">
                  <a:off x="2576160" y="2268360"/>
                  <a:ext cx="145800" cy="34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flipH="1" flipV="1">
                  <a:off x="1880640" y="2922120"/>
                  <a:ext cx="2556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flipH="1" flipV="1">
                  <a:off x="1880640" y="2922120"/>
                  <a:ext cx="2556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 flipH="1">
                  <a:off x="1871640" y="1035000"/>
                  <a:ext cx="2520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flipH="1" flipV="1">
                  <a:off x="2149200" y="2827080"/>
                  <a:ext cx="74880" cy="12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 flipH="1" flipV="1">
                  <a:off x="2563560" y="2307960"/>
                  <a:ext cx="144720" cy="42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 flipH="1" flipV="1">
                  <a:off x="2563560" y="2307960"/>
                  <a:ext cx="144720" cy="42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 flipH="1">
                  <a:off x="2558520" y="1734840"/>
                  <a:ext cx="144360" cy="45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 flipH="1">
                  <a:off x="1960560" y="1055520"/>
                  <a:ext cx="3960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flipH="1">
                  <a:off x="1960560" y="1058760"/>
                  <a:ext cx="3960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 flipV="1">
                  <a:off x="1257120" y="2845800"/>
                  <a:ext cx="65160" cy="13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flipH="1" flipV="1">
                  <a:off x="2585520" y="2217240"/>
                  <a:ext cx="149400" cy="24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 flipV="1">
                  <a:off x="680760" y="2066400"/>
                  <a:ext cx="150840" cy="1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 flipH="1" flipV="1">
                  <a:off x="2237760" y="2768400"/>
                  <a:ext cx="88920" cy="12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flipH="1" flipV="1">
                  <a:off x="2172600" y="2812680"/>
                  <a:ext cx="79560" cy="12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 flipH="1">
                  <a:off x="2342880" y="1320480"/>
                  <a:ext cx="1065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 flipH="1" flipV="1">
                  <a:off x="2255400" y="2757240"/>
                  <a:ext cx="90360" cy="118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 flipH="1" flipV="1">
                  <a:off x="2092320" y="2855160"/>
                  <a:ext cx="619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 flipV="1">
                  <a:off x="930240" y="2629800"/>
                  <a:ext cx="11592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 flipV="1">
                  <a:off x="930240" y="2629800"/>
                  <a:ext cx="11592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V="1">
                  <a:off x="923760" y="2621880"/>
                  <a:ext cx="11448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 flipV="1">
                  <a:off x="923760" y="2622240"/>
                  <a:ext cx="114480" cy="96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 flipV="1">
                  <a:off x="920520" y="2620440"/>
                  <a:ext cx="115920" cy="9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1636560" y="1020600"/>
                  <a:ext cx="1116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1645920" y="1020600"/>
                  <a:ext cx="972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834840" y="1509480"/>
                  <a:ext cx="12852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flipV="1">
                  <a:off x="707760" y="2247840"/>
                  <a:ext cx="146160" cy="34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 flipH="1">
                  <a:off x="2317680" y="1293480"/>
                  <a:ext cx="10296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flipV="1">
                  <a:off x="1360440" y="2883960"/>
                  <a:ext cx="50760" cy="14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V="1">
                  <a:off x="1366560" y="2885760"/>
                  <a:ext cx="507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 flipV="1">
                  <a:off x="1369800" y="2885760"/>
                  <a:ext cx="507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 flipV="1">
                  <a:off x="1385640" y="2893680"/>
                  <a:ext cx="4932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 flipV="1">
                  <a:off x="1380960" y="2890440"/>
                  <a:ext cx="493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 flipH="1">
                  <a:off x="1768320" y="1020600"/>
                  <a:ext cx="648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flipH="1">
                  <a:off x="1768320" y="1020600"/>
                  <a:ext cx="936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flipH="1">
                  <a:off x="2549520" y="1701720"/>
                  <a:ext cx="142560" cy="50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H="1">
                  <a:off x="2547360" y="1698480"/>
                  <a:ext cx="141480" cy="50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H="1" flipV="1">
                  <a:off x="2599920" y="2090160"/>
                  <a:ext cx="150840" cy="6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flipH="1">
                  <a:off x="2441520" y="1461960"/>
                  <a:ext cx="125280" cy="85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flipH="1" flipV="1">
                  <a:off x="2257200" y="2754000"/>
                  <a:ext cx="90720" cy="120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 flipH="1" flipV="1">
                  <a:off x="2260440" y="2752560"/>
                  <a:ext cx="92160" cy="118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 flipV="1">
                  <a:off x="1492200" y="2917080"/>
                  <a:ext cx="331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 flipV="1">
                  <a:off x="1492200" y="2917080"/>
                  <a:ext cx="331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 flipV="1">
                  <a:off x="1492200" y="2917080"/>
                  <a:ext cx="316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728640" y="1739520"/>
                  <a:ext cx="144360" cy="45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 flipH="1" flipV="1">
                  <a:off x="2466720" y="2527200"/>
                  <a:ext cx="123840" cy="80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V="1">
                  <a:off x="722160" y="2301480"/>
                  <a:ext cx="142920" cy="39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722160" y="2301120"/>
                  <a:ext cx="142920" cy="4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060200" y="1252440"/>
                  <a:ext cx="95400" cy="115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693720" y="1888920"/>
                  <a:ext cx="147600" cy="23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1341360" y="1088640"/>
                  <a:ext cx="540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 flipH="1" flipV="1">
                  <a:off x="2307960" y="2714400"/>
                  <a:ext cx="9864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 flipH="1">
                  <a:off x="2147760" y="1147680"/>
                  <a:ext cx="71280" cy="131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H="1">
                  <a:off x="2147400" y="1147680"/>
                  <a:ext cx="73080" cy="131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 flipH="1">
                  <a:off x="2131920" y="1137960"/>
                  <a:ext cx="6984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733320" y="1726920"/>
                  <a:ext cx="142920" cy="48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V="1">
                  <a:off x="1709640" y="2939400"/>
                  <a:ext cx="144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V="1">
                  <a:off x="1709640" y="2939400"/>
                  <a:ext cx="144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1514160" y="1036440"/>
                  <a:ext cx="2880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1514160" y="1036440"/>
                  <a:ext cx="2880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1514160" y="1036440"/>
                  <a:ext cx="2880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826920" y="1520640"/>
                  <a:ext cx="130320" cy="77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 flipV="1">
                  <a:off x="765000" y="2401200"/>
                  <a:ext cx="139680" cy="60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V="1">
                  <a:off x="793440" y="2454120"/>
                  <a:ext cx="135000" cy="67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 flipV="1">
                  <a:off x="958680" y="2655360"/>
                  <a:ext cx="111240" cy="102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 flipV="1">
                  <a:off x="1239840" y="2838240"/>
                  <a:ext cx="69840" cy="134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H="1" flipV="1">
                  <a:off x="2374920" y="2646000"/>
                  <a:ext cx="110880" cy="101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H="1" flipV="1">
                  <a:off x="2525400" y="2411280"/>
                  <a:ext cx="139680" cy="59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H="1" flipV="1">
                  <a:off x="2528280" y="2409480"/>
                  <a:ext cx="136440" cy="58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flipH="1" flipV="1">
                  <a:off x="2530080" y="2401200"/>
                  <a:ext cx="136440" cy="60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H="1" flipV="1">
                  <a:off x="2530440" y="2400120"/>
                  <a:ext cx="139680" cy="56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 flipV="1">
                  <a:off x="853920" y="2540880"/>
                  <a:ext cx="125280" cy="83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826920" y="1523880"/>
                  <a:ext cx="130320" cy="75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826920" y="1520640"/>
                  <a:ext cx="130320" cy="77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826920" y="1523880"/>
                  <a:ext cx="130320" cy="75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 flipH="1">
                  <a:off x="2485440" y="1537920"/>
                  <a:ext cx="128520" cy="74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H="1">
                  <a:off x="2485440" y="1537920"/>
                  <a:ext cx="128520" cy="74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 flipH="1">
                  <a:off x="2485440" y="1537920"/>
                  <a:ext cx="128520" cy="75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H="1">
                  <a:off x="2482560" y="1533240"/>
                  <a:ext cx="130320" cy="75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flipV="1">
                  <a:off x="731520" y="2325600"/>
                  <a:ext cx="144720" cy="43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 flipH="1" flipV="1">
                  <a:off x="1882440" y="2922120"/>
                  <a:ext cx="2880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 flipH="1" flipV="1">
                  <a:off x="1887120" y="2922480"/>
                  <a:ext cx="2844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 flipH="1" flipV="1">
                  <a:off x="1885680" y="2922120"/>
                  <a:ext cx="2880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750600" y="1677600"/>
                  <a:ext cx="14148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742680" y="1698480"/>
                  <a:ext cx="14292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742680" y="1698480"/>
                  <a:ext cx="14292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718920" y="1773000"/>
                  <a:ext cx="146160" cy="41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718920" y="1771560"/>
                  <a:ext cx="146160" cy="39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flipV="1">
                  <a:off x="915840" y="2615760"/>
                  <a:ext cx="117360" cy="9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flipV="1">
                  <a:off x="915840" y="2615760"/>
                  <a:ext cx="117360" cy="9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 flipH="1" flipV="1">
                  <a:off x="1887120" y="2922480"/>
                  <a:ext cx="2844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 flipH="1">
                  <a:off x="2449440" y="1473120"/>
                  <a:ext cx="125280" cy="83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 flipV="1">
                  <a:off x="1401480" y="2895480"/>
                  <a:ext cx="4464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 flipV="1">
                  <a:off x="1352520" y="2881080"/>
                  <a:ext cx="5400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1271520" y="1118880"/>
                  <a:ext cx="6516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712800" y="1804680"/>
                  <a:ext cx="142560" cy="34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 flipV="1">
                  <a:off x="826920" y="2508120"/>
                  <a:ext cx="130320" cy="75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846000" y="1490400"/>
                  <a:ext cx="127080" cy="80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 flipH="1" flipV="1">
                  <a:off x="2377440" y="2640960"/>
                  <a:ext cx="112680" cy="10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 flipV="1">
                  <a:off x="1091880" y="2758320"/>
                  <a:ext cx="9072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 flipH="1" flipV="1">
                  <a:off x="2585520" y="2217600"/>
                  <a:ext cx="149400" cy="28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745920" y="1693800"/>
                  <a:ext cx="141480" cy="53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 flipH="1">
                  <a:off x="2190240" y="1177560"/>
                  <a:ext cx="81000" cy="12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 flipV="1">
                  <a:off x="718920" y="2296440"/>
                  <a:ext cx="146160" cy="39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741240" y="1706400"/>
                  <a:ext cx="141120" cy="50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 flipH="1">
                  <a:off x="1915560" y="1044360"/>
                  <a:ext cx="349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 flipH="1">
                  <a:off x="1915560" y="1044360"/>
                  <a:ext cx="349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877680" y="1447560"/>
                  <a:ext cx="122400" cy="88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877680" y="1447560"/>
                  <a:ext cx="122400" cy="88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 flipH="1">
                  <a:off x="2553840" y="1715760"/>
                  <a:ext cx="142920" cy="50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1317600" y="1098360"/>
                  <a:ext cx="56880" cy="137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1319040" y="1096560"/>
                  <a:ext cx="5724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 flipH="1">
                  <a:off x="2204640" y="1187280"/>
                  <a:ext cx="81000" cy="12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 flipV="1">
                  <a:off x="942840" y="2640960"/>
                  <a:ext cx="11268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 flipV="1">
                  <a:off x="944280" y="2644560"/>
                  <a:ext cx="111240" cy="97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 flipV="1">
                  <a:off x="741240" y="2350440"/>
                  <a:ext cx="14112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 flipV="1">
                  <a:off x="741240" y="2346120"/>
                  <a:ext cx="141120" cy="50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 flipH="1">
                  <a:off x="2191680" y="1177560"/>
                  <a:ext cx="79560" cy="12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 flipH="1" flipV="1">
                  <a:off x="2514600" y="2439720"/>
                  <a:ext cx="133200" cy="64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 flipH="1" flipV="1">
                  <a:off x="1821960" y="2931840"/>
                  <a:ext cx="2052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680760" y="2036520"/>
                  <a:ext cx="150840" cy="2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 flipV="1">
                  <a:off x="769680" y="2411280"/>
                  <a:ext cx="136800" cy="59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 flipH="1" flipV="1">
                  <a:off x="2455200" y="2538360"/>
                  <a:ext cx="125640" cy="83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 flipH="1" flipV="1">
                  <a:off x="2496600" y="2468160"/>
                  <a:ext cx="135000" cy="72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 flipH="1" flipV="1">
                  <a:off x="2518920" y="2428200"/>
                  <a:ext cx="136440" cy="61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807840" y="1557000"/>
                  <a:ext cx="131760" cy="71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 flipH="1">
                  <a:off x="1782360" y="1020600"/>
                  <a:ext cx="1116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 flipV="1">
                  <a:off x="844560" y="2528640"/>
                  <a:ext cx="126720" cy="82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 flipH="1">
                  <a:off x="1834560" y="10267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1627200" y="1022040"/>
                  <a:ext cx="1404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1627200" y="1022040"/>
                  <a:ext cx="1404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1627200" y="1022040"/>
                  <a:ext cx="1404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1628640" y="1022040"/>
                  <a:ext cx="126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1628640" y="1022040"/>
                  <a:ext cx="126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1628640" y="1022040"/>
                  <a:ext cx="126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1628640" y="1022040"/>
                  <a:ext cx="126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1576080" y="1026720"/>
                  <a:ext cx="208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1577880" y="10267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1577880" y="10267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1492200" y="1041120"/>
                  <a:ext cx="331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1493640" y="1041120"/>
                  <a:ext cx="316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1493640" y="1041120"/>
                  <a:ext cx="316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1412640" y="1063440"/>
                  <a:ext cx="4284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1412640" y="1063440"/>
                  <a:ext cx="4284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690480" y="1904760"/>
                  <a:ext cx="14904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684000" y="1989000"/>
                  <a:ext cx="147600" cy="9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684000" y="2003040"/>
                  <a:ext cx="147600" cy="7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flipV="1">
                  <a:off x="709560" y="2261520"/>
                  <a:ext cx="145800" cy="36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 flipV="1">
                  <a:off x="757080" y="2387160"/>
                  <a:ext cx="139680" cy="55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 flipV="1">
                  <a:off x="757080" y="2385720"/>
                  <a:ext cx="139680" cy="56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 flipV="1">
                  <a:off x="760320" y="2395080"/>
                  <a:ext cx="139680" cy="56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flipV="1">
                  <a:off x="760320" y="2392200"/>
                  <a:ext cx="139680" cy="59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 flipV="1">
                  <a:off x="792000" y="2449440"/>
                  <a:ext cx="133200" cy="67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 flipV="1">
                  <a:off x="876240" y="2570040"/>
                  <a:ext cx="122040" cy="88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flipV="1">
                  <a:off x="876240" y="2570040"/>
                  <a:ext cx="122040" cy="88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flipV="1">
                  <a:off x="892080" y="2589120"/>
                  <a:ext cx="120600" cy="90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 flipV="1">
                  <a:off x="892080" y="2589120"/>
                  <a:ext cx="120600" cy="90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 flipV="1">
                  <a:off x="892080" y="2589120"/>
                  <a:ext cx="120600" cy="90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flipV="1">
                  <a:off x="900000" y="2597040"/>
                  <a:ext cx="117360" cy="91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flipV="1">
                  <a:off x="1103040" y="2766600"/>
                  <a:ext cx="88920" cy="118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 flipV="1">
                  <a:off x="1108080" y="2768400"/>
                  <a:ext cx="88560" cy="12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 flipV="1">
                  <a:off x="1106280" y="2768400"/>
                  <a:ext cx="88920" cy="12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 flipV="1">
                  <a:off x="1106280" y="2768400"/>
                  <a:ext cx="88920" cy="120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 flipV="1">
                  <a:off x="1106280" y="2766960"/>
                  <a:ext cx="88920" cy="12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 flipV="1">
                  <a:off x="1106280" y="2766960"/>
                  <a:ext cx="88920" cy="12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 flipV="1">
                  <a:off x="1106280" y="2766960"/>
                  <a:ext cx="88920" cy="12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 flipV="1">
                  <a:off x="1106280" y="2766960"/>
                  <a:ext cx="88920" cy="12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 flipV="1">
                  <a:off x="1261800" y="2847240"/>
                  <a:ext cx="6696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 flipV="1">
                  <a:off x="1307880" y="2866320"/>
                  <a:ext cx="5868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 flipV="1">
                  <a:off x="1331640" y="2874600"/>
                  <a:ext cx="5724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 flipV="1">
                  <a:off x="1622160" y="2935080"/>
                  <a:ext cx="1440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 flipV="1">
                  <a:off x="1618920" y="2934720"/>
                  <a:ext cx="1440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 flipH="1" flipV="1">
                  <a:off x="1909080" y="2917080"/>
                  <a:ext cx="334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 flipH="1" flipV="1">
                  <a:off x="1995120" y="2893320"/>
                  <a:ext cx="4572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 flipH="1" flipV="1">
                  <a:off x="2031840" y="2880720"/>
                  <a:ext cx="5256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 flipH="1" flipV="1">
                  <a:off x="2028600" y="2881080"/>
                  <a:ext cx="5400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 flipH="1" flipV="1">
                  <a:off x="2026800" y="2881080"/>
                  <a:ext cx="5220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 flipH="1" flipV="1">
                  <a:off x="2054160" y="2871360"/>
                  <a:ext cx="5688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 flipH="1" flipV="1">
                  <a:off x="2190240" y="2800080"/>
                  <a:ext cx="81000" cy="12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 flipH="1" flipV="1">
                  <a:off x="2293560" y="2725560"/>
                  <a:ext cx="9828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 flipH="1" flipV="1">
                  <a:off x="2435040" y="2570040"/>
                  <a:ext cx="122400" cy="88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 flipH="1" flipV="1">
                  <a:off x="2435040" y="2570040"/>
                  <a:ext cx="122400" cy="88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 flipH="1" flipV="1">
                  <a:off x="2435040" y="2571480"/>
                  <a:ext cx="122400" cy="87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 flipH="1" flipV="1">
                  <a:off x="2435040" y="2571480"/>
                  <a:ext cx="122400" cy="87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 flipH="1" flipV="1">
                  <a:off x="2450520" y="2547360"/>
                  <a:ext cx="125640" cy="83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flipH="1" flipV="1">
                  <a:off x="2468520" y="2522160"/>
                  <a:ext cx="12672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flipH="1" flipV="1">
                  <a:off x="2598120" y="2130120"/>
                  <a:ext cx="150840" cy="12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flipH="1" flipV="1">
                  <a:off x="2600280" y="2125080"/>
                  <a:ext cx="149040" cy="14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flipH="1">
                  <a:off x="2599920" y="1987200"/>
                  <a:ext cx="1508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 flipH="1">
                  <a:off x="2574720" y="1796760"/>
                  <a:ext cx="146160" cy="37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 flipH="1">
                  <a:off x="2539800" y="1672920"/>
                  <a:ext cx="13968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flipH="1">
                  <a:off x="2538360" y="1669680"/>
                  <a:ext cx="141120" cy="5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 flipH="1">
                  <a:off x="2538360" y="1669680"/>
                  <a:ext cx="141120" cy="5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flipH="1">
                  <a:off x="2539800" y="1669680"/>
                  <a:ext cx="139680" cy="5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flipH="1">
                  <a:off x="2285640" y="1260360"/>
                  <a:ext cx="96840" cy="113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 flipH="1">
                  <a:off x="2257200" y="1233360"/>
                  <a:ext cx="90720" cy="11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 flipH="1">
                  <a:off x="2101320" y="1120680"/>
                  <a:ext cx="65160" cy="134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 flipH="1">
                  <a:off x="2101320" y="1120680"/>
                  <a:ext cx="65160" cy="134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 flipH="1">
                  <a:off x="2101320" y="1120680"/>
                  <a:ext cx="65160" cy="134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 flipH="1">
                  <a:off x="2077560" y="1106280"/>
                  <a:ext cx="5868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 flipH="1">
                  <a:off x="2072880" y="1104840"/>
                  <a:ext cx="58680" cy="13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flipH="1">
                  <a:off x="2072880" y="1104840"/>
                  <a:ext cx="58680" cy="13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 flipH="1">
                  <a:off x="2072880" y="1104840"/>
                  <a:ext cx="58680" cy="13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flipV="1">
                  <a:off x="1676160" y="2939400"/>
                  <a:ext cx="792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 flipH="1">
                  <a:off x="1979280" y="1063440"/>
                  <a:ext cx="4464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1695240" y="1017720"/>
                  <a:ext cx="324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1695240" y="1017720"/>
                  <a:ext cx="468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flipH="1">
                  <a:off x="1946160" y="1053720"/>
                  <a:ext cx="381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736560" y="1717560"/>
                  <a:ext cx="141120" cy="50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718920" y="1773000"/>
                  <a:ext cx="144360" cy="41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709560" y="1809360"/>
                  <a:ext cx="145800" cy="36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709560" y="1809360"/>
                  <a:ext cx="145800" cy="36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1239840" y="1134720"/>
                  <a:ext cx="69840" cy="131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1184040" y="1166760"/>
                  <a:ext cx="77760" cy="126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1139760" y="1191960"/>
                  <a:ext cx="83880" cy="12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1014120" y="1290240"/>
                  <a:ext cx="103320" cy="110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973080" y="1331640"/>
                  <a:ext cx="10944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flipH="1" flipV="1">
                  <a:off x="2449440" y="2550600"/>
                  <a:ext cx="125280" cy="83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flipH="1" flipV="1">
                  <a:off x="2449440" y="2550600"/>
                  <a:ext cx="125280" cy="83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flipH="1" flipV="1">
                  <a:off x="2449080" y="2552040"/>
                  <a:ext cx="122040" cy="83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flipH="1" flipV="1">
                  <a:off x="2446200" y="2552040"/>
                  <a:ext cx="125280" cy="83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868320" y="1458720"/>
                  <a:ext cx="125280" cy="86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25480" y="1528560"/>
                  <a:ext cx="128520" cy="75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H="1" flipV="1">
                  <a:off x="2430000" y="2579400"/>
                  <a:ext cx="119160" cy="88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H="1">
                  <a:off x="2520360" y="1617480"/>
                  <a:ext cx="135000" cy="61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H="1">
                  <a:off x="2463120" y="1495080"/>
                  <a:ext cx="127080" cy="80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93720" y="1898280"/>
                  <a:ext cx="147600" cy="20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flipV="1">
                  <a:off x="722160" y="2298240"/>
                  <a:ext cx="142920" cy="40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flipV="1">
                  <a:off x="722160" y="2298240"/>
                  <a:ext cx="142920" cy="40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flipV="1">
                  <a:off x="722160" y="2298240"/>
                  <a:ext cx="142920" cy="40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 flipV="1">
                  <a:off x="722160" y="2298600"/>
                  <a:ext cx="142920" cy="42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flipH="1" flipV="1">
                  <a:off x="2295000" y="2723400"/>
                  <a:ext cx="982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flipV="1">
                  <a:off x="685800" y="2139840"/>
                  <a:ext cx="149040" cy="13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1455480" y="1050840"/>
                  <a:ext cx="3816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1455480" y="1050840"/>
                  <a:ext cx="3816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1441440" y="1055520"/>
                  <a:ext cx="4104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1441440" y="1055520"/>
                  <a:ext cx="4104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1441440" y="1055520"/>
                  <a:ext cx="4104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1371600" y="1077840"/>
                  <a:ext cx="50760" cy="14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895320" y="1423800"/>
                  <a:ext cx="118800" cy="90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896760" y="1423800"/>
                  <a:ext cx="117360" cy="90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895320" y="1423800"/>
                  <a:ext cx="118800" cy="90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895320" y="1423800"/>
                  <a:ext cx="118800" cy="90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684000" y="1989000"/>
                  <a:ext cx="147600" cy="9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684000" y="1992240"/>
                  <a:ext cx="147600" cy="5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680760" y="2054160"/>
                  <a:ext cx="150840" cy="1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680760" y="2054160"/>
                  <a:ext cx="150840" cy="1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flipV="1">
                  <a:off x="684000" y="2109240"/>
                  <a:ext cx="147600" cy="9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flipV="1">
                  <a:off x="693720" y="2184120"/>
                  <a:ext cx="147600" cy="20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flipV="1">
                  <a:off x="693720" y="2184120"/>
                  <a:ext cx="147600" cy="20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flipV="1">
                  <a:off x="693720" y="2184120"/>
                  <a:ext cx="147600" cy="20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V="1">
                  <a:off x="693720" y="2180520"/>
                  <a:ext cx="147600" cy="23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flipV="1">
                  <a:off x="693720" y="2180520"/>
                  <a:ext cx="14760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flipV="1">
                  <a:off x="699840" y="2219040"/>
                  <a:ext cx="146160" cy="26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V="1">
                  <a:off x="712800" y="2268360"/>
                  <a:ext cx="145800" cy="34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V="1">
                  <a:off x="718920" y="2288520"/>
                  <a:ext cx="144360" cy="37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flipV="1">
                  <a:off x="726840" y="2315880"/>
                  <a:ext cx="144720" cy="42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flipV="1">
                  <a:off x="896760" y="2597040"/>
                  <a:ext cx="120600" cy="90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flipV="1">
                  <a:off x="896760" y="2597040"/>
                  <a:ext cx="120600" cy="90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flipV="1">
                  <a:off x="1000080" y="2691720"/>
                  <a:ext cx="1029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flipV="1">
                  <a:off x="1003320" y="2694960"/>
                  <a:ext cx="1029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flipV="1">
                  <a:off x="1083960" y="2754000"/>
                  <a:ext cx="93960" cy="120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 flipV="1">
                  <a:off x="1136520" y="2787120"/>
                  <a:ext cx="84240" cy="12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flipV="1">
                  <a:off x="1136520" y="2787120"/>
                  <a:ext cx="84240" cy="12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flipV="1">
                  <a:off x="1514160" y="2922480"/>
                  <a:ext cx="3024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flipV="1">
                  <a:off x="1614240" y="2934720"/>
                  <a:ext cx="1440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 flipV="1">
                  <a:off x="1689120" y="2939400"/>
                  <a:ext cx="468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flipH="1" flipV="1">
                  <a:off x="2163240" y="2818800"/>
                  <a:ext cx="74520" cy="129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flipH="1" flipV="1">
                  <a:off x="2163240" y="2818800"/>
                  <a:ext cx="74520" cy="129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 flipH="1" flipV="1">
                  <a:off x="2209680" y="2787120"/>
                  <a:ext cx="84240" cy="12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 flipH="1" flipV="1">
                  <a:off x="2225160" y="2775960"/>
                  <a:ext cx="87480" cy="12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 flipH="1" flipV="1">
                  <a:off x="2261520" y="2748960"/>
                  <a:ext cx="93960" cy="11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H="1" flipV="1">
                  <a:off x="2261520" y="2749320"/>
                  <a:ext cx="93960" cy="120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 flipV="1">
                  <a:off x="2439720" y="2561760"/>
                  <a:ext cx="123840" cy="86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H="1" flipV="1">
                  <a:off x="2439720" y="2562120"/>
                  <a:ext cx="122400" cy="88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H="1" flipV="1">
                  <a:off x="2454120" y="2546280"/>
                  <a:ext cx="125280" cy="83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 flipV="1">
                  <a:off x="2490480" y="2485440"/>
                  <a:ext cx="131760" cy="70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flipH="1" flipV="1">
                  <a:off x="2571480" y="2287080"/>
                  <a:ext cx="144720" cy="37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H="1" flipV="1">
                  <a:off x="2603520" y="2085840"/>
                  <a:ext cx="147600" cy="5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 flipV="1">
                  <a:off x="2603520" y="2063520"/>
                  <a:ext cx="147600" cy="2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H="1" flipV="1">
                  <a:off x="2603520" y="2063520"/>
                  <a:ext cx="147600" cy="2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>
                  <a:off x="2584440" y="1847520"/>
                  <a:ext cx="147600" cy="28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H="1">
                  <a:off x="2584440" y="1847520"/>
                  <a:ext cx="147600" cy="28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H="1">
                  <a:off x="2584440" y="1847520"/>
                  <a:ext cx="147600" cy="31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flipH="1">
                  <a:off x="2501280" y="1576080"/>
                  <a:ext cx="135000" cy="69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flipH="1">
                  <a:off x="2185920" y="1176120"/>
                  <a:ext cx="79200" cy="12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H="1">
                  <a:off x="2079000" y="1109520"/>
                  <a:ext cx="6372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H="1">
                  <a:off x="2017080" y="1079280"/>
                  <a:ext cx="5076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flipH="1">
                  <a:off x="2017080" y="1079280"/>
                  <a:ext cx="5076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H="1">
                  <a:off x="2014200" y="1077840"/>
                  <a:ext cx="50760" cy="14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flipH="1">
                  <a:off x="2004480" y="1074600"/>
                  <a:ext cx="507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H="1">
                  <a:off x="2210760" y="1195200"/>
                  <a:ext cx="87480" cy="12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H="1">
                  <a:off x="2214360" y="1195200"/>
                  <a:ext cx="84240" cy="12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flipV="1">
                  <a:off x="1003320" y="2694960"/>
                  <a:ext cx="1029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flipV="1">
                  <a:off x="1003320" y="2694960"/>
                  <a:ext cx="1029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flipH="1" flipV="1">
                  <a:off x="2049120" y="2874240"/>
                  <a:ext cx="5364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flipH="1">
                  <a:off x="1796400" y="1022040"/>
                  <a:ext cx="111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680760" y="2031840"/>
                  <a:ext cx="150840" cy="2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703080" y="1838160"/>
                  <a:ext cx="147600" cy="31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704520" y="1834920"/>
                  <a:ext cx="146160" cy="34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704520" y="1834920"/>
                  <a:ext cx="146160" cy="31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704520" y="1834920"/>
                  <a:ext cx="146160" cy="31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H="1" flipV="1">
                  <a:off x="1863720" y="2926800"/>
                  <a:ext cx="2376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1242720" y="1133280"/>
                  <a:ext cx="69840" cy="13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1230120" y="1139760"/>
                  <a:ext cx="69840" cy="131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1177920" y="1168200"/>
                  <a:ext cx="75960" cy="129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1056960" y="1252440"/>
                  <a:ext cx="96840" cy="11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1031760" y="1276200"/>
                  <a:ext cx="10008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1000080" y="1304640"/>
                  <a:ext cx="1029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 flipH="1">
                  <a:off x="2450520" y="1476000"/>
                  <a:ext cx="125640" cy="83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760320" y="1653840"/>
                  <a:ext cx="139680" cy="56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flipH="1">
                  <a:off x="1899720" y="1039680"/>
                  <a:ext cx="2844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 flipH="1">
                  <a:off x="1900080" y="1039680"/>
                  <a:ext cx="3168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flipH="1">
                  <a:off x="2598120" y="1955520"/>
                  <a:ext cx="150840" cy="14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846000" y="1492200"/>
                  <a:ext cx="125280" cy="82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822240" y="1531800"/>
                  <a:ext cx="129960" cy="72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806400" y="1562040"/>
                  <a:ext cx="131760" cy="69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flipH="1">
                  <a:off x="1998000" y="1069920"/>
                  <a:ext cx="4788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flipH="1">
                  <a:off x="1998000" y="1069920"/>
                  <a:ext cx="4788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934920" y="1374480"/>
                  <a:ext cx="11268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 flipH="1" flipV="1">
                  <a:off x="2520360" y="2425320"/>
                  <a:ext cx="136440" cy="63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flipH="1" flipV="1">
                  <a:off x="2520360" y="2425320"/>
                  <a:ext cx="135000" cy="63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flipH="1" flipV="1">
                  <a:off x="2518920" y="2425320"/>
                  <a:ext cx="136440" cy="64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flipH="1" flipV="1">
                  <a:off x="2518920" y="2425320"/>
                  <a:ext cx="136440" cy="64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 flipH="1" flipV="1">
                  <a:off x="2518920" y="2428200"/>
                  <a:ext cx="136440" cy="61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flipV="1">
                  <a:off x="685800" y="2147760"/>
                  <a:ext cx="150480" cy="13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 flipV="1">
                  <a:off x="685800" y="2147760"/>
                  <a:ext cx="150480" cy="13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flipV="1">
                  <a:off x="920520" y="2620440"/>
                  <a:ext cx="115920" cy="9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flipV="1">
                  <a:off x="1689120" y="2939400"/>
                  <a:ext cx="468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 flipV="1">
                  <a:off x="1685880" y="2939400"/>
                  <a:ext cx="468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flipH="1">
                  <a:off x="1887480" y="1036440"/>
                  <a:ext cx="3168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1684080" y="1017720"/>
                  <a:ext cx="504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1684080" y="1017720"/>
                  <a:ext cx="504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1627200" y="1022040"/>
                  <a:ext cx="108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1627200" y="1022040"/>
                  <a:ext cx="108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1604880" y="1025280"/>
                  <a:ext cx="1404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1581120" y="10267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1539720" y="1031760"/>
                  <a:ext cx="27000" cy="14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1535040" y="1035000"/>
                  <a:ext cx="2700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1535040" y="1035000"/>
                  <a:ext cx="2700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1528560" y="1035000"/>
                  <a:ext cx="2556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1528560" y="1035000"/>
                  <a:ext cx="2880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1528560" y="1035000"/>
                  <a:ext cx="2556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1525320" y="1035000"/>
                  <a:ext cx="2880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1525320" y="1035000"/>
                  <a:ext cx="2880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1525320" y="1035000"/>
                  <a:ext cx="2880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1525320" y="1035000"/>
                  <a:ext cx="2880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1511280" y="1039680"/>
                  <a:ext cx="2844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1511280" y="1039680"/>
                  <a:ext cx="3168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1511280" y="1039680"/>
                  <a:ext cx="3168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1506240" y="1039680"/>
                  <a:ext cx="3204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1492200" y="1041120"/>
                  <a:ext cx="316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1488960" y="1044360"/>
                  <a:ext cx="349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1444320" y="1053720"/>
                  <a:ext cx="3816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1427040" y="1058760"/>
                  <a:ext cx="4140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1427040" y="1058760"/>
                  <a:ext cx="4140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1395360" y="1068120"/>
                  <a:ext cx="4896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1328760" y="1093680"/>
                  <a:ext cx="5544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690480" y="1908000"/>
                  <a:ext cx="149040" cy="18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flipV="1">
                  <a:off x="684000" y="2109240"/>
                  <a:ext cx="147600" cy="9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flipV="1">
                  <a:off x="688680" y="2148840"/>
                  <a:ext cx="147600" cy="15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flipV="1">
                  <a:off x="690480" y="2169720"/>
                  <a:ext cx="149040" cy="18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flipV="1">
                  <a:off x="693720" y="2185920"/>
                  <a:ext cx="147600" cy="21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 flipV="1">
                  <a:off x="712800" y="2265120"/>
                  <a:ext cx="142560" cy="36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flipV="1">
                  <a:off x="712800" y="2269440"/>
                  <a:ext cx="145800" cy="36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flipV="1">
                  <a:off x="712800" y="2268360"/>
                  <a:ext cx="145800" cy="34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flipV="1">
                  <a:off x="723600" y="2307960"/>
                  <a:ext cx="144720" cy="42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 flipV="1">
                  <a:off x="723600" y="2307960"/>
                  <a:ext cx="144720" cy="42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 flipV="1">
                  <a:off x="779400" y="2430000"/>
                  <a:ext cx="136440" cy="64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flipV="1">
                  <a:off x="782640" y="2435040"/>
                  <a:ext cx="136440" cy="64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 flipV="1">
                  <a:off x="788760" y="2447640"/>
                  <a:ext cx="135000" cy="66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flipV="1">
                  <a:off x="803160" y="2471040"/>
                  <a:ext cx="131760" cy="69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 flipV="1">
                  <a:off x="806400" y="2472840"/>
                  <a:ext cx="131760" cy="69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 flipV="1">
                  <a:off x="815760" y="2490480"/>
                  <a:ext cx="131760" cy="71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 flipV="1">
                  <a:off x="865080" y="2556720"/>
                  <a:ext cx="123840" cy="83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 flipV="1">
                  <a:off x="863280" y="2555280"/>
                  <a:ext cx="125640" cy="85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 flipV="1">
                  <a:off x="865080" y="2557080"/>
                  <a:ext cx="123840" cy="87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 flipV="1">
                  <a:off x="873000" y="2565000"/>
                  <a:ext cx="122040" cy="85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 flipV="1">
                  <a:off x="890280" y="2586960"/>
                  <a:ext cx="1191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 flipV="1">
                  <a:off x="890280" y="2586960"/>
                  <a:ext cx="1191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 flipV="1">
                  <a:off x="896760" y="2593440"/>
                  <a:ext cx="12060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 flipV="1">
                  <a:off x="896760" y="2593440"/>
                  <a:ext cx="12060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 flipV="1">
                  <a:off x="896760" y="2593440"/>
                  <a:ext cx="12060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 flipV="1">
                  <a:off x="901440" y="2598120"/>
                  <a:ext cx="117720" cy="9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 flipV="1">
                  <a:off x="979200" y="2673000"/>
                  <a:ext cx="104760" cy="10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 flipV="1">
                  <a:off x="998280" y="2688840"/>
                  <a:ext cx="10332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 flipV="1">
                  <a:off x="998280" y="2688840"/>
                  <a:ext cx="104760" cy="110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 flipV="1">
                  <a:off x="998280" y="2688840"/>
                  <a:ext cx="10476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 flipV="1">
                  <a:off x="1000080" y="2691720"/>
                  <a:ext cx="1029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 flipV="1">
                  <a:off x="1000080" y="2691720"/>
                  <a:ext cx="1029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flipV="1">
                  <a:off x="1087200" y="2757240"/>
                  <a:ext cx="92160" cy="118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 flipV="1">
                  <a:off x="1098360" y="2763720"/>
                  <a:ext cx="88920" cy="120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 flipV="1">
                  <a:off x="1101600" y="2763720"/>
                  <a:ext cx="88920" cy="12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 flipV="1">
                  <a:off x="1101600" y="2766600"/>
                  <a:ext cx="88920" cy="118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 flipV="1">
                  <a:off x="1225440" y="2831760"/>
                  <a:ext cx="6984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 flipV="1">
                  <a:off x="1290600" y="2860560"/>
                  <a:ext cx="6192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 flipV="1">
                  <a:off x="1446120" y="2908080"/>
                  <a:ext cx="3816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flipV="1">
                  <a:off x="1468440" y="2912400"/>
                  <a:ext cx="349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flipV="1">
                  <a:off x="1474560" y="2916000"/>
                  <a:ext cx="349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 flipV="1">
                  <a:off x="1614240" y="2934720"/>
                  <a:ext cx="1440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 flipV="1">
                  <a:off x="1612800" y="2934720"/>
                  <a:ext cx="1584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 flipV="1">
                  <a:off x="1618920" y="2934720"/>
                  <a:ext cx="1440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 flipV="1">
                  <a:off x="1622160" y="2935080"/>
                  <a:ext cx="1440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V="1">
                  <a:off x="1623960" y="2935080"/>
                  <a:ext cx="1404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 flipV="1">
                  <a:off x="1623960" y="2935080"/>
                  <a:ext cx="1260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 flipV="1">
                  <a:off x="1623960" y="2935080"/>
                  <a:ext cx="1404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 flipV="1">
                  <a:off x="1655640" y="2936520"/>
                  <a:ext cx="648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flipH="1" flipV="1">
                  <a:off x="1871640" y="2925360"/>
                  <a:ext cx="252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 flipH="1" flipV="1">
                  <a:off x="1891800" y="2920320"/>
                  <a:ext cx="2844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flipH="1" flipV="1">
                  <a:off x="1891800" y="2920320"/>
                  <a:ext cx="2844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 flipH="1" flipV="1">
                  <a:off x="1914480" y="2915640"/>
                  <a:ext cx="3312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 flipH="1" flipV="1">
                  <a:off x="1914480" y="2915640"/>
                  <a:ext cx="3312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flipH="1" flipV="1">
                  <a:off x="1914480" y="2917080"/>
                  <a:ext cx="331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 flipH="1" flipV="1">
                  <a:off x="2014200" y="2885760"/>
                  <a:ext cx="507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 flipH="1" flipV="1">
                  <a:off x="2023920" y="2883960"/>
                  <a:ext cx="540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 flipH="1" flipV="1">
                  <a:off x="2023920" y="2883960"/>
                  <a:ext cx="54000" cy="13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 flipH="1" flipV="1">
                  <a:off x="2069640" y="2864880"/>
                  <a:ext cx="60120" cy="137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flipH="1" flipV="1">
                  <a:off x="2069640" y="2865240"/>
                  <a:ext cx="6012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 flipH="1" flipV="1">
                  <a:off x="2125440" y="2838240"/>
                  <a:ext cx="69840" cy="134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 flipH="1" flipV="1">
                  <a:off x="2125080" y="2838240"/>
                  <a:ext cx="66600" cy="134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 flipH="1" flipV="1">
                  <a:off x="2172600" y="2812320"/>
                  <a:ext cx="7812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 flipH="1" flipV="1">
                  <a:off x="2171160" y="2812320"/>
                  <a:ext cx="7956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flipH="1" flipV="1">
                  <a:off x="2228760" y="2775960"/>
                  <a:ext cx="8568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flipH="1" flipV="1">
                  <a:off x="2233080" y="2771640"/>
                  <a:ext cx="88920" cy="12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 flipH="1" flipV="1">
                  <a:off x="2247480" y="2761920"/>
                  <a:ext cx="88920" cy="118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 flipH="1" flipV="1">
                  <a:off x="2252160" y="2758680"/>
                  <a:ext cx="90360" cy="117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 flipH="1" flipV="1">
                  <a:off x="2274840" y="2742480"/>
                  <a:ext cx="93600" cy="114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 flipH="1" flipV="1">
                  <a:off x="2274840" y="2742480"/>
                  <a:ext cx="93600" cy="114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 flipH="1" flipV="1">
                  <a:off x="2274840" y="2742480"/>
                  <a:ext cx="93600" cy="114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 flipH="1" flipV="1">
                  <a:off x="2274840" y="2742480"/>
                  <a:ext cx="93600" cy="114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 flipH="1" flipV="1">
                  <a:off x="2279160" y="2737800"/>
                  <a:ext cx="95400" cy="114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 flipH="1" flipV="1">
                  <a:off x="2279520" y="2737800"/>
                  <a:ext cx="93600" cy="11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 flipH="1" flipV="1">
                  <a:off x="2328840" y="2691720"/>
                  <a:ext cx="1029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 flipH="1" flipV="1">
                  <a:off x="2342880" y="2678040"/>
                  <a:ext cx="106560" cy="107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 flipH="1" flipV="1">
                  <a:off x="2352600" y="2668320"/>
                  <a:ext cx="109440" cy="102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 flipH="1" flipV="1">
                  <a:off x="2441160" y="2559960"/>
                  <a:ext cx="122040" cy="85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 flipH="1" flipV="1">
                  <a:off x="2468520" y="2522160"/>
                  <a:ext cx="12672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H="1" flipV="1">
                  <a:off x="2468520" y="2523600"/>
                  <a:ext cx="126720" cy="78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flipH="1" flipV="1">
                  <a:off x="2487600" y="2488680"/>
                  <a:ext cx="131760" cy="70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flipH="1" flipV="1">
                  <a:off x="2492280" y="2480760"/>
                  <a:ext cx="131760" cy="70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flipH="1" flipV="1">
                  <a:off x="2495520" y="2476080"/>
                  <a:ext cx="131760" cy="70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flipH="1" flipV="1">
                  <a:off x="2496960" y="2471400"/>
                  <a:ext cx="131760" cy="71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 flipH="1" flipV="1">
                  <a:off x="2496960" y="2472840"/>
                  <a:ext cx="131760" cy="69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 flipV="1">
                  <a:off x="2506680" y="2451960"/>
                  <a:ext cx="134640" cy="66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 flipH="1" flipV="1">
                  <a:off x="2515680" y="2430000"/>
                  <a:ext cx="136440" cy="64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 flipH="1" flipV="1">
                  <a:off x="2515680" y="2433240"/>
                  <a:ext cx="136440" cy="64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 flipH="1" flipV="1">
                  <a:off x="2519280" y="2430000"/>
                  <a:ext cx="133200" cy="63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 flipH="1" flipV="1">
                  <a:off x="2525400" y="2414160"/>
                  <a:ext cx="136800" cy="61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 flipH="1" flipV="1">
                  <a:off x="2525400" y="2414160"/>
                  <a:ext cx="136800" cy="61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flipH="1" flipV="1">
                  <a:off x="2557440" y="2331720"/>
                  <a:ext cx="141120" cy="48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flipH="1" flipV="1">
                  <a:off x="2561760" y="2320560"/>
                  <a:ext cx="144360" cy="42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 flipH="1" flipV="1">
                  <a:off x="2561760" y="2315520"/>
                  <a:ext cx="144360" cy="44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H="1" flipV="1">
                  <a:off x="2561760" y="2317680"/>
                  <a:ext cx="144360" cy="42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 flipH="1" flipV="1">
                  <a:off x="2569680" y="2296800"/>
                  <a:ext cx="142920" cy="42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 flipH="1" flipV="1">
                  <a:off x="2569680" y="2296800"/>
                  <a:ext cx="142920" cy="42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H="1" flipV="1">
                  <a:off x="2566800" y="2296800"/>
                  <a:ext cx="146160" cy="42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 flipH="1" flipV="1">
                  <a:off x="2569680" y="2296440"/>
                  <a:ext cx="142920" cy="39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 flipH="1" flipV="1">
                  <a:off x="2569680" y="2296440"/>
                  <a:ext cx="142920" cy="39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H="1" flipV="1">
                  <a:off x="2571480" y="2283840"/>
                  <a:ext cx="146160" cy="37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 flipH="1" flipV="1">
                  <a:off x="2579400" y="2255400"/>
                  <a:ext cx="146160" cy="32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 flipH="1" flipV="1">
                  <a:off x="2579400" y="2255760"/>
                  <a:ext cx="146160" cy="36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flipH="1" flipV="1">
                  <a:off x="2579400" y="2257200"/>
                  <a:ext cx="146160" cy="34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 flipH="1" flipV="1">
                  <a:off x="2589120" y="2212560"/>
                  <a:ext cx="146160" cy="24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flipH="1" flipV="1">
                  <a:off x="2598480" y="2139480"/>
                  <a:ext cx="147600" cy="16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H="1" flipV="1">
                  <a:off x="2598480" y="2139840"/>
                  <a:ext cx="147600" cy="13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flipH="1" flipV="1">
                  <a:off x="2598120" y="2128680"/>
                  <a:ext cx="150840" cy="10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 flipH="1" flipV="1">
                  <a:off x="2598120" y="2128680"/>
                  <a:ext cx="150840" cy="13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flipH="1" flipV="1">
                  <a:off x="2603520" y="2066400"/>
                  <a:ext cx="147600" cy="1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flipH="1">
                  <a:off x="2603520" y="2039760"/>
                  <a:ext cx="147600" cy="1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 flipH="1">
                  <a:off x="2603520" y="2039760"/>
                  <a:ext cx="147600" cy="1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 flipH="1">
                  <a:off x="2599920" y="2006280"/>
                  <a:ext cx="150840" cy="6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 flipH="1">
                  <a:off x="2599920" y="1989000"/>
                  <a:ext cx="150840" cy="9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 flipH="1">
                  <a:off x="2600280" y="1973160"/>
                  <a:ext cx="149040" cy="10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 flipH="1">
                  <a:off x="2598480" y="1941120"/>
                  <a:ext cx="147600" cy="17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 flipH="1">
                  <a:off x="2594880" y="1933200"/>
                  <a:ext cx="150840" cy="17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 flipH="1">
                  <a:off x="2594880" y="1933200"/>
                  <a:ext cx="150840" cy="17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 flipH="1">
                  <a:off x="2593800" y="1909440"/>
                  <a:ext cx="14760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flipH="1">
                  <a:off x="2593800" y="1909440"/>
                  <a:ext cx="14760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 flipH="1">
                  <a:off x="2530080" y="1644480"/>
                  <a:ext cx="136440" cy="56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 flipH="1">
                  <a:off x="2530080" y="1644480"/>
                  <a:ext cx="136440" cy="56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 flipH="1">
                  <a:off x="2523960" y="1628640"/>
                  <a:ext cx="138240" cy="63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 flipH="1">
                  <a:off x="2477880" y="1527120"/>
                  <a:ext cx="130320" cy="72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 flipH="1">
                  <a:off x="2477880" y="1527120"/>
                  <a:ext cx="130320" cy="75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 flipH="1">
                  <a:off x="2471760" y="1509480"/>
                  <a:ext cx="12672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 flipH="1">
                  <a:off x="2450520" y="1473120"/>
                  <a:ext cx="125640" cy="83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 flipH="1">
                  <a:off x="2398680" y="1392120"/>
                  <a:ext cx="115920" cy="9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 flipH="1">
                  <a:off x="2347560" y="1330200"/>
                  <a:ext cx="107640" cy="102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 flipH="1">
                  <a:off x="2347560" y="1330200"/>
                  <a:ext cx="107640" cy="10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 flipH="1">
                  <a:off x="2350440" y="1330200"/>
                  <a:ext cx="104760" cy="10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 flipH="1">
                  <a:off x="2312640" y="1285560"/>
                  <a:ext cx="99720" cy="110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 flipH="1">
                  <a:off x="2303280" y="1279440"/>
                  <a:ext cx="100080" cy="10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 flipH="1">
                  <a:off x="2303280" y="1279440"/>
                  <a:ext cx="100080" cy="10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 flipH="1">
                  <a:off x="2257200" y="1233360"/>
                  <a:ext cx="93600" cy="120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 flipH="1">
                  <a:off x="2180880" y="1171440"/>
                  <a:ext cx="75960" cy="12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 flipH="1">
                  <a:off x="2122200" y="1133280"/>
                  <a:ext cx="69840" cy="13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 flipH="1">
                  <a:off x="2101320" y="1120680"/>
                  <a:ext cx="65160" cy="134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 flipH="1">
                  <a:off x="2098080" y="1118880"/>
                  <a:ext cx="6516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 flipH="1">
                  <a:off x="2098080" y="1118880"/>
                  <a:ext cx="6516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 flipH="1">
                  <a:off x="2098440" y="1120680"/>
                  <a:ext cx="68400" cy="134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 flipH="1">
                  <a:off x="2093400" y="1115640"/>
                  <a:ext cx="6516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 flipH="1">
                  <a:off x="2093760" y="1115640"/>
                  <a:ext cx="6336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 flipH="1">
                  <a:off x="2087280" y="1114200"/>
                  <a:ext cx="61920" cy="13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 flipH="1">
                  <a:off x="2087280" y="1114200"/>
                  <a:ext cx="61920" cy="13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H="1">
                  <a:off x="2087280" y="1114200"/>
                  <a:ext cx="61920" cy="13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 flipH="1">
                  <a:off x="2087280" y="1114200"/>
                  <a:ext cx="6192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 flipH="1">
                  <a:off x="2077920" y="1109520"/>
                  <a:ext cx="6192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 flipH="1">
                  <a:off x="2077920" y="1109520"/>
                  <a:ext cx="6192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 flipH="1">
                  <a:off x="2014200" y="1077840"/>
                  <a:ext cx="50760" cy="14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flipH="1">
                  <a:off x="2017080" y="1077840"/>
                  <a:ext cx="50760" cy="14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flipH="1">
                  <a:off x="2007720" y="1074600"/>
                  <a:ext cx="507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 flipH="1">
                  <a:off x="2008080" y="1074600"/>
                  <a:ext cx="475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 flipH="1">
                  <a:off x="2004480" y="1074600"/>
                  <a:ext cx="493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 flipH="1">
                  <a:off x="1946160" y="1053720"/>
                  <a:ext cx="381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 flipH="1">
                  <a:off x="1858680" y="1031760"/>
                  <a:ext cx="2376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 flipH="1">
                  <a:off x="1979280" y="1063440"/>
                  <a:ext cx="4320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709560" y="1814400"/>
                  <a:ext cx="145800" cy="36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812520" y="1547640"/>
                  <a:ext cx="131760" cy="70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1277640" y="1115640"/>
                  <a:ext cx="65160" cy="134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flipH="1" flipV="1">
                  <a:off x="2558520" y="2325600"/>
                  <a:ext cx="144360" cy="43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 flipH="1">
                  <a:off x="2326680" y="1303200"/>
                  <a:ext cx="104760" cy="10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 flipV="1">
                  <a:off x="995040" y="2688840"/>
                  <a:ext cx="10656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 flipV="1">
                  <a:off x="995040" y="2688480"/>
                  <a:ext cx="10656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 flipV="1">
                  <a:off x="993600" y="2687040"/>
                  <a:ext cx="1047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 flipH="1" flipV="1">
                  <a:off x="2136600" y="2833200"/>
                  <a:ext cx="69840" cy="131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 flipH="1">
                  <a:off x="2574360" y="1790640"/>
                  <a:ext cx="142920" cy="37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 flipH="1">
                  <a:off x="2574720" y="1792080"/>
                  <a:ext cx="146160" cy="37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 flipH="1">
                  <a:off x="1937880" y="1050840"/>
                  <a:ext cx="3636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 flipH="1">
                  <a:off x="1904400" y="1041120"/>
                  <a:ext cx="334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747720" y="1688760"/>
                  <a:ext cx="13968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733320" y="1725480"/>
                  <a:ext cx="144360" cy="47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731520" y="1730160"/>
                  <a:ext cx="144720" cy="47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726840" y="1747440"/>
                  <a:ext cx="144720" cy="4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704520" y="1828440"/>
                  <a:ext cx="146160" cy="33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704520" y="1834920"/>
                  <a:ext cx="146160" cy="31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704520" y="1834920"/>
                  <a:ext cx="146160" cy="31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704520" y="1833480"/>
                  <a:ext cx="146160" cy="32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 flipH="1" flipV="1">
                  <a:off x="2269440" y="2744280"/>
                  <a:ext cx="95400" cy="11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 flipH="1">
                  <a:off x="2594880" y="1928520"/>
                  <a:ext cx="149400" cy="17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flipH="1">
                  <a:off x="2594880" y="1928520"/>
                  <a:ext cx="149400" cy="17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 flipH="1">
                  <a:off x="1981080" y="1064880"/>
                  <a:ext cx="4608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 flipH="1">
                  <a:off x="1981080" y="1064880"/>
                  <a:ext cx="4608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 flipH="1" flipV="1">
                  <a:off x="2589120" y="2214360"/>
                  <a:ext cx="146160" cy="28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 flipH="1" flipV="1">
                  <a:off x="2589120" y="2214360"/>
                  <a:ext cx="146160" cy="28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 flipH="1" flipV="1">
                  <a:off x="2589120" y="2214360"/>
                  <a:ext cx="146160" cy="28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 flipH="1" flipV="1">
                  <a:off x="1774800" y="2936520"/>
                  <a:ext cx="936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 flipH="1" flipV="1">
                  <a:off x="1750320" y="2939400"/>
                  <a:ext cx="828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 flipH="1" flipV="1">
                  <a:off x="1753920" y="2936520"/>
                  <a:ext cx="648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 flipH="1" flipV="1">
                  <a:off x="1753920" y="2936520"/>
                  <a:ext cx="648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 flipH="1" flipV="1">
                  <a:off x="1849320" y="2930040"/>
                  <a:ext cx="2232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 flipH="1" flipV="1">
                  <a:off x="1849320" y="2930040"/>
                  <a:ext cx="22320" cy="14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 flipH="1" flipV="1">
                  <a:off x="1966320" y="2903400"/>
                  <a:ext cx="4284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 flipH="1" flipV="1">
                  <a:off x="1966320" y="2903400"/>
                  <a:ext cx="4284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 flipH="1" flipV="1">
                  <a:off x="1964880" y="2903400"/>
                  <a:ext cx="4284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 flipH="1" flipV="1">
                  <a:off x="1964880" y="2903400"/>
                  <a:ext cx="42840" cy="14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1069920" y="1245960"/>
                  <a:ext cx="93600" cy="11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1008000" y="1298520"/>
                  <a:ext cx="102960" cy="10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1008000" y="1298520"/>
                  <a:ext cx="102960" cy="10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1003320" y="1303200"/>
                  <a:ext cx="102960" cy="10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1407960" y="1064880"/>
                  <a:ext cx="4608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 flipH="1">
                  <a:off x="2302920" y="1276200"/>
                  <a:ext cx="9828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 flipH="1">
                  <a:off x="2302920" y="1276200"/>
                  <a:ext cx="98280" cy="11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 flipH="1" flipV="1">
                  <a:off x="2490480" y="2484000"/>
                  <a:ext cx="131760" cy="72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830160" y="151884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792000" y="1590480"/>
                  <a:ext cx="133200" cy="68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 flipH="1" flipV="1">
                  <a:off x="1783800" y="2936520"/>
                  <a:ext cx="126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 flipH="1" flipV="1">
                  <a:off x="2490480" y="2485800"/>
                  <a:ext cx="128880" cy="74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703080" y="1846080"/>
                  <a:ext cx="146160" cy="29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703080" y="1847520"/>
                  <a:ext cx="146160" cy="31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1520640" y="1036440"/>
                  <a:ext cx="2844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1631880" y="1022040"/>
                  <a:ext cx="111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1631880" y="1022040"/>
                  <a:ext cx="111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1633320" y="1020600"/>
                  <a:ext cx="1260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745920" y="1693800"/>
                  <a:ext cx="139680" cy="53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 flipV="1">
                  <a:off x="846000" y="2532960"/>
                  <a:ext cx="127080" cy="82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787320" y="1598400"/>
                  <a:ext cx="133200" cy="66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787320" y="1598400"/>
                  <a:ext cx="133200" cy="66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 flipH="1">
                  <a:off x="2579400" y="1815840"/>
                  <a:ext cx="146160" cy="34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 flipV="1">
                  <a:off x="830160" y="2509560"/>
                  <a:ext cx="12852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1455480" y="1050840"/>
                  <a:ext cx="38160" cy="14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1398600" y="1068120"/>
                  <a:ext cx="4752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1298520" y="1106280"/>
                  <a:ext cx="5868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1298520" y="1106280"/>
                  <a:ext cx="61920" cy="13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760320" y="1655640"/>
                  <a:ext cx="139680" cy="56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760320" y="1655640"/>
                  <a:ext cx="139680" cy="56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760320" y="1655640"/>
                  <a:ext cx="139680" cy="56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 flipV="1">
                  <a:off x="761760" y="2400120"/>
                  <a:ext cx="139680" cy="56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 flipV="1">
                  <a:off x="1436400" y="2906280"/>
                  <a:ext cx="41400" cy="14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3" name=""/>
              <p:cNvGrpSpPr/>
              <p:nvPr/>
            </p:nvGrpSpPr>
            <p:grpSpPr>
              <a:xfrm>
                <a:off x="679320" y="1018800"/>
                <a:ext cx="2071440" cy="2070000"/>
                <a:chOff x="679320" y="1018800"/>
                <a:chExt cx="2071440" cy="2070000"/>
              </a:xfrm>
            </p:grpSpPr>
            <p:sp>
              <p:nvSpPr>
                <p:cNvPr id="1924" name=""/>
                <p:cNvSpPr/>
                <p:nvPr/>
              </p:nvSpPr>
              <p:spPr>
                <a:xfrm flipV="1">
                  <a:off x="1725480" y="1083960"/>
                  <a:ext cx="1440" cy="2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1568160" y="1028520"/>
                  <a:ext cx="2232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1552320" y="1033200"/>
                  <a:ext cx="2376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1552320" y="1031400"/>
                  <a:ext cx="2376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1553760" y="1031400"/>
                  <a:ext cx="2412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1483920" y="1045800"/>
                  <a:ext cx="3492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1483920" y="1045800"/>
                  <a:ext cx="3492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684000" y="1983960"/>
                  <a:ext cx="15084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684000" y="1983960"/>
                  <a:ext cx="15084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684000" y="1980720"/>
                  <a:ext cx="15084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684000" y="1988640"/>
                  <a:ext cx="14760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 flipV="1">
                  <a:off x="1650600" y="2938320"/>
                  <a:ext cx="972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 flipH="1" flipV="1">
                  <a:off x="2360520" y="2661480"/>
                  <a:ext cx="110880" cy="103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 flipH="1" flipV="1">
                  <a:off x="2579400" y="2252520"/>
                  <a:ext cx="146160" cy="33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 flipH="1" flipV="1">
                  <a:off x="2579400" y="225360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 flipH="1" flipV="1">
                  <a:off x="2579400" y="225360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 flipH="1">
                  <a:off x="2599560" y="1974600"/>
                  <a:ext cx="14940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 flipH="1">
                  <a:off x="2599560" y="1974600"/>
                  <a:ext cx="14940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 flipH="1">
                  <a:off x="2585520" y="1856880"/>
                  <a:ext cx="145800" cy="28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 flipH="1">
                  <a:off x="2585520" y="1856880"/>
                  <a:ext cx="145800" cy="28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flipH="1">
                  <a:off x="2552040" y="1714320"/>
                  <a:ext cx="141480" cy="48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 flipH="1">
                  <a:off x="2552040" y="1714320"/>
                  <a:ext cx="14436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 flipH="1">
                  <a:off x="2534760" y="1657080"/>
                  <a:ext cx="1378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 flipH="1">
                  <a:off x="2534760" y="1657080"/>
                  <a:ext cx="1378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 flipV="1">
                  <a:off x="798120" y="2463480"/>
                  <a:ext cx="13176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722160" y="1768320"/>
                  <a:ext cx="142920" cy="39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 flipH="1">
                  <a:off x="2461680" y="1496520"/>
                  <a:ext cx="12708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 flipH="1">
                  <a:off x="2463120" y="1496520"/>
                  <a:ext cx="12708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 flipH="1">
                  <a:off x="2463120" y="149832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 flipH="1">
                  <a:off x="2463120" y="149832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flipH="1">
                  <a:off x="2463120" y="149832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 flipH="1">
                  <a:off x="2463120" y="149832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 flipH="1">
                  <a:off x="2463120" y="149832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flipH="1">
                  <a:off x="2463120" y="149832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 flipH="1">
                  <a:off x="2298240" y="1272960"/>
                  <a:ext cx="982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 flipH="1">
                  <a:off x="2300040" y="1277640"/>
                  <a:ext cx="10152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 flipH="1">
                  <a:off x="2302920" y="1277640"/>
                  <a:ext cx="982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 flipH="1">
                  <a:off x="2302920" y="1277640"/>
                  <a:ext cx="982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 flipH="1">
                  <a:off x="2302920" y="1277640"/>
                  <a:ext cx="982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 flipH="1">
                  <a:off x="2302920" y="1277640"/>
                  <a:ext cx="982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 flipH="1">
                  <a:off x="2302920" y="1277640"/>
                  <a:ext cx="982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 flipH="1">
                  <a:off x="2302920" y="1277640"/>
                  <a:ext cx="982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 flipH="1">
                  <a:off x="2302920" y="1277640"/>
                  <a:ext cx="982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 flipH="1">
                  <a:off x="2458440" y="1491840"/>
                  <a:ext cx="12708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 flipH="1">
                  <a:off x="2461680" y="1493640"/>
                  <a:ext cx="127080" cy="82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 flipH="1">
                  <a:off x="2461680" y="1493640"/>
                  <a:ext cx="127080" cy="82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 flipH="1">
                  <a:off x="2461680" y="1493640"/>
                  <a:ext cx="127080" cy="82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 flipH="1">
                  <a:off x="2461680" y="1496520"/>
                  <a:ext cx="12708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 flipH="1">
                  <a:off x="2463120" y="1496520"/>
                  <a:ext cx="12564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699840" y="1858680"/>
                  <a:ext cx="146160" cy="28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699840" y="1858680"/>
                  <a:ext cx="146160" cy="2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699840" y="1856880"/>
                  <a:ext cx="146160" cy="28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699840" y="1854000"/>
                  <a:ext cx="149400" cy="28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699840" y="1854000"/>
                  <a:ext cx="149400" cy="28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699840" y="1854000"/>
                  <a:ext cx="149400" cy="28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699840" y="1854000"/>
                  <a:ext cx="149400" cy="28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755280" y="166644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757080" y="1666440"/>
                  <a:ext cx="139680" cy="5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757080" y="166500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757080" y="166500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757080" y="166500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757080" y="1665000"/>
                  <a:ext cx="13968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757080" y="1665000"/>
                  <a:ext cx="13968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757080" y="166176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757080" y="166176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757080" y="166176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757080" y="166176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 flipH="1" flipV="1">
                  <a:off x="2492280" y="2482560"/>
                  <a:ext cx="131760" cy="71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 flipH="1" flipV="1">
                  <a:off x="2492280" y="2482560"/>
                  <a:ext cx="131760" cy="71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 flipH="1" flipV="1">
                  <a:off x="2492280" y="2482200"/>
                  <a:ext cx="131760" cy="74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 flipH="1" flipV="1">
                  <a:off x="2491920" y="2482200"/>
                  <a:ext cx="129960" cy="74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flipH="1" flipV="1">
                  <a:off x="2491920" y="2482200"/>
                  <a:ext cx="129960" cy="74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1617480" y="1023480"/>
                  <a:ext cx="1440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1547640" y="1033200"/>
                  <a:ext cx="237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1533240" y="1036440"/>
                  <a:ext cx="2556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1533240" y="1036440"/>
                  <a:ext cx="2556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1533240" y="1036440"/>
                  <a:ext cx="2556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1533240" y="1036440"/>
                  <a:ext cx="2556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1533240" y="1036440"/>
                  <a:ext cx="2556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1530000" y="1036440"/>
                  <a:ext cx="270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1530000" y="1036440"/>
                  <a:ext cx="270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1530000" y="1036440"/>
                  <a:ext cx="288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1530000" y="1036440"/>
                  <a:ext cx="288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1530000" y="1036440"/>
                  <a:ext cx="288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1530000" y="1036440"/>
                  <a:ext cx="288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1530000" y="1036440"/>
                  <a:ext cx="288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1533240" y="1036440"/>
                  <a:ext cx="2556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1533240" y="1036440"/>
                  <a:ext cx="2556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1533240" y="1036440"/>
                  <a:ext cx="2556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1533240" y="1036440"/>
                  <a:ext cx="2556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1530000" y="1036440"/>
                  <a:ext cx="270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1530000" y="1036440"/>
                  <a:ext cx="270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1523880" y="1037880"/>
                  <a:ext cx="284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1523880" y="1037880"/>
                  <a:ext cx="284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1523880" y="1037880"/>
                  <a:ext cx="284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1523880" y="1037880"/>
                  <a:ext cx="284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1523880" y="1037880"/>
                  <a:ext cx="284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1523880" y="1037880"/>
                  <a:ext cx="284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1523880" y="1037880"/>
                  <a:ext cx="284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1518840" y="1037880"/>
                  <a:ext cx="2880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1518840" y="1037880"/>
                  <a:ext cx="2880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1518840" y="1037880"/>
                  <a:ext cx="2880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1518840" y="1037880"/>
                  <a:ext cx="2880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1520640" y="1037880"/>
                  <a:ext cx="284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518840" y="1037880"/>
                  <a:ext cx="2880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518840" y="1037880"/>
                  <a:ext cx="2880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736200" y="1722240"/>
                  <a:ext cx="141480" cy="4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36200" y="1722240"/>
                  <a:ext cx="141480" cy="4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736200" y="1722240"/>
                  <a:ext cx="141480" cy="4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736200" y="1722240"/>
                  <a:ext cx="141480" cy="4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36200" y="1722240"/>
                  <a:ext cx="141480" cy="4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736200" y="1722240"/>
                  <a:ext cx="141480" cy="4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736200" y="1722240"/>
                  <a:ext cx="141480" cy="4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736200" y="1722240"/>
                  <a:ext cx="141480" cy="4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736200" y="1722240"/>
                  <a:ext cx="141480" cy="4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736200" y="1722240"/>
                  <a:ext cx="141480" cy="4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709200" y="1815840"/>
                  <a:ext cx="146160" cy="33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709200" y="1815840"/>
                  <a:ext cx="146160" cy="33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709200" y="1815840"/>
                  <a:ext cx="146160" cy="33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709200" y="1812600"/>
                  <a:ext cx="146160" cy="36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709200" y="1812600"/>
                  <a:ext cx="146160" cy="36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V="1">
                  <a:off x="693360" y="2190600"/>
                  <a:ext cx="147600" cy="23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693360" y="2190600"/>
                  <a:ext cx="147600" cy="23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V="1">
                  <a:off x="693360" y="2190600"/>
                  <a:ext cx="147600" cy="23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V="1">
                  <a:off x="693360" y="2190240"/>
                  <a:ext cx="147600" cy="20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V="1">
                  <a:off x="693360" y="2190240"/>
                  <a:ext cx="147600" cy="20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760320" y="239652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760320" y="239652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760320" y="239652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760320" y="239652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760320" y="239652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761760" y="2396520"/>
                  <a:ext cx="13824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793440" y="2458440"/>
                  <a:ext cx="135000" cy="66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793440" y="2458440"/>
                  <a:ext cx="135000" cy="66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793440" y="2455560"/>
                  <a:ext cx="13500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793440" y="2455560"/>
                  <a:ext cx="13500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793440" y="2455560"/>
                  <a:ext cx="13500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892080" y="2593440"/>
                  <a:ext cx="12060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894960" y="2593440"/>
                  <a:ext cx="1191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894960" y="2593440"/>
                  <a:ext cx="11772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894960" y="2593440"/>
                  <a:ext cx="11772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894960" y="2593440"/>
                  <a:ext cx="11772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894960" y="2593440"/>
                  <a:ext cx="11772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1444320" y="2909160"/>
                  <a:ext cx="396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1444320" y="2909160"/>
                  <a:ext cx="396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1444320" y="2909160"/>
                  <a:ext cx="3816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1450800" y="2909520"/>
                  <a:ext cx="3816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1571400" y="2931840"/>
                  <a:ext cx="205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1571400" y="2931840"/>
                  <a:ext cx="205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1571400" y="2931840"/>
                  <a:ext cx="190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1571400" y="2931840"/>
                  <a:ext cx="190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1568160" y="2931840"/>
                  <a:ext cx="223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H="1" flipV="1">
                  <a:off x="1750320" y="2941200"/>
                  <a:ext cx="46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H="1" flipV="1">
                  <a:off x="1750320" y="2941200"/>
                  <a:ext cx="46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H="1" flipV="1">
                  <a:off x="1750320" y="2941200"/>
                  <a:ext cx="46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H="1" flipV="1">
                  <a:off x="1750320" y="2941200"/>
                  <a:ext cx="46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H="1" flipV="1">
                  <a:off x="1750320" y="2941200"/>
                  <a:ext cx="46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H="1" flipV="1">
                  <a:off x="1971000" y="290124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H="1" flipV="1">
                  <a:off x="1971000" y="290124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H="1" flipV="1">
                  <a:off x="1971000" y="290124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H="1" flipV="1">
                  <a:off x="1971000" y="2901240"/>
                  <a:ext cx="414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H="1" flipV="1">
                  <a:off x="1969560" y="290124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H="1" flipV="1">
                  <a:off x="2012400" y="2890080"/>
                  <a:ext cx="5076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H="1" flipV="1">
                  <a:off x="2012400" y="2890080"/>
                  <a:ext cx="5076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H="1" flipV="1">
                  <a:off x="2012400" y="2890080"/>
                  <a:ext cx="5076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H="1" flipV="1">
                  <a:off x="2009160" y="2890080"/>
                  <a:ext cx="5076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H="1" flipV="1">
                  <a:off x="2523600" y="2417040"/>
                  <a:ext cx="136440" cy="63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H="1" flipV="1">
                  <a:off x="2523600" y="2420640"/>
                  <a:ext cx="136440" cy="6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H="1" flipV="1">
                  <a:off x="2523600" y="2420640"/>
                  <a:ext cx="136440" cy="6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H="1" flipV="1">
                  <a:off x="2523600" y="2420640"/>
                  <a:ext cx="136440" cy="6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H="1" flipV="1">
                  <a:off x="2523600" y="2420640"/>
                  <a:ext cx="136440" cy="6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H="1" flipV="1">
                  <a:off x="2523600" y="242064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H="1" flipV="1">
                  <a:off x="2523600" y="242064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H="1" flipV="1">
                  <a:off x="2523600" y="242064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H="1" flipV="1">
                  <a:off x="2523600" y="242064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H="1" flipV="1">
                  <a:off x="2523600" y="242064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H="1" flipV="1">
                  <a:off x="2523600" y="242064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H="1" flipV="1">
                  <a:off x="2523600" y="2417040"/>
                  <a:ext cx="136440" cy="63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H="1" flipV="1">
                  <a:off x="2523600" y="2417040"/>
                  <a:ext cx="136440" cy="63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H="1" flipV="1">
                  <a:off x="2523600" y="2417400"/>
                  <a:ext cx="137880" cy="6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flipH="1" flipV="1">
                  <a:off x="2523600" y="2417040"/>
                  <a:ext cx="137880" cy="63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flipH="1" flipV="1">
                  <a:off x="2523600" y="2417040"/>
                  <a:ext cx="136440" cy="63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 flipH="1" flipV="1">
                  <a:off x="2523600" y="2417040"/>
                  <a:ext cx="136440" cy="63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 flipH="1" flipV="1">
                  <a:off x="2523600" y="2417040"/>
                  <a:ext cx="136440" cy="63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 flipH="1" flipV="1">
                  <a:off x="2556720" y="2336040"/>
                  <a:ext cx="141480" cy="47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 flipH="1" flipV="1">
                  <a:off x="2556720" y="2336040"/>
                  <a:ext cx="141480" cy="47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 flipH="1" flipV="1">
                  <a:off x="2553840" y="2338200"/>
                  <a:ext cx="144360" cy="48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 flipH="1" flipV="1">
                  <a:off x="2553840" y="2338200"/>
                  <a:ext cx="144360" cy="48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 flipH="1" flipV="1">
                  <a:off x="2553840" y="2338200"/>
                  <a:ext cx="144360" cy="48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 flipH="1">
                  <a:off x="2466720" y="1501560"/>
                  <a:ext cx="12384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 flipH="1">
                  <a:off x="2466720" y="1501560"/>
                  <a:ext cx="12384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 flipH="1">
                  <a:off x="2466360" y="150156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 flipH="1">
                  <a:off x="2466360" y="150156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 flipH="1">
                  <a:off x="2466360" y="150156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 flipH="1">
                  <a:off x="2466360" y="150156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 flipH="1">
                  <a:off x="2431440" y="1444320"/>
                  <a:ext cx="1206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 flipH="1">
                  <a:off x="2431440" y="1444320"/>
                  <a:ext cx="1206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 flipH="1">
                  <a:off x="2431440" y="1444320"/>
                  <a:ext cx="1206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 flipH="1">
                  <a:off x="2431440" y="1444320"/>
                  <a:ext cx="1206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 flipH="1">
                  <a:off x="2431800" y="1444320"/>
                  <a:ext cx="1224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 flipH="1">
                  <a:off x="2369520" y="1356840"/>
                  <a:ext cx="112680" cy="101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 flipH="1">
                  <a:off x="2373120" y="1356840"/>
                  <a:ext cx="109440" cy="101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 flipH="1">
                  <a:off x="2373120" y="1356840"/>
                  <a:ext cx="109440" cy="101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 flipH="1">
                  <a:off x="2161440" y="1158480"/>
                  <a:ext cx="7308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 flipH="1">
                  <a:off x="2161440" y="1158480"/>
                  <a:ext cx="7308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 flipH="1">
                  <a:off x="2161440" y="1158480"/>
                  <a:ext cx="7308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 flipH="1">
                  <a:off x="2161440" y="1158480"/>
                  <a:ext cx="7308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 flipH="1">
                  <a:off x="2161800" y="1158480"/>
                  <a:ext cx="7632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 flipH="1">
                  <a:off x="2161440" y="1158480"/>
                  <a:ext cx="7308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 flipH="1">
                  <a:off x="2161440" y="1158480"/>
                  <a:ext cx="7308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 flipH="1">
                  <a:off x="1744200" y="1018800"/>
                  <a:ext cx="468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 flipH="1">
                  <a:off x="1744200" y="1018800"/>
                  <a:ext cx="468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 flipH="1">
                  <a:off x="1745640" y="1018800"/>
                  <a:ext cx="468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V="1">
                  <a:off x="1661760" y="2938320"/>
                  <a:ext cx="792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 flipV="1">
                  <a:off x="1661760" y="2938320"/>
                  <a:ext cx="792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flipV="1">
                  <a:off x="1660320" y="2938320"/>
                  <a:ext cx="936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685440" y="1964880"/>
                  <a:ext cx="149400" cy="1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685440" y="1964880"/>
                  <a:ext cx="149400" cy="1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 flipH="1">
                  <a:off x="1901520" y="1041120"/>
                  <a:ext cx="316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H="1">
                  <a:off x="1901520" y="1041120"/>
                  <a:ext cx="316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 flipV="1">
                  <a:off x="1117440" y="2777760"/>
                  <a:ext cx="8712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 flipV="1">
                  <a:off x="1117440" y="2777760"/>
                  <a:ext cx="8712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 flipV="1">
                  <a:off x="1117440" y="2777760"/>
                  <a:ext cx="8712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 flipV="1">
                  <a:off x="1117440" y="2777760"/>
                  <a:ext cx="8712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 flipV="1">
                  <a:off x="1120680" y="2777760"/>
                  <a:ext cx="8568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 flipV="1">
                  <a:off x="1122120" y="2779200"/>
                  <a:ext cx="8748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 flipV="1">
                  <a:off x="1126800" y="2782080"/>
                  <a:ext cx="84240" cy="125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 flipV="1">
                  <a:off x="1126800" y="2782440"/>
                  <a:ext cx="8424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 flipV="1">
                  <a:off x="1126800" y="2782440"/>
                  <a:ext cx="8424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 flipV="1">
                  <a:off x="1126800" y="2782440"/>
                  <a:ext cx="8424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 flipV="1">
                  <a:off x="1125360" y="2782440"/>
                  <a:ext cx="8568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 flipV="1">
                  <a:off x="1125360" y="2782440"/>
                  <a:ext cx="8568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 flipV="1">
                  <a:off x="1130040" y="2784240"/>
                  <a:ext cx="84240" cy="123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V="1">
                  <a:off x="1130040" y="2784240"/>
                  <a:ext cx="84240" cy="123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 flipV="1">
                  <a:off x="1130040" y="2784240"/>
                  <a:ext cx="84240" cy="123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 flipV="1">
                  <a:off x="1131480" y="278424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 flipV="1">
                  <a:off x="1131480" y="278424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 flipV="1">
                  <a:off x="1131480" y="278424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 flipV="1">
                  <a:off x="1130040" y="2784240"/>
                  <a:ext cx="8568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 flipV="1">
                  <a:off x="1130040" y="2784240"/>
                  <a:ext cx="85680" cy="123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 flipV="1">
                  <a:off x="1131480" y="2787120"/>
                  <a:ext cx="8748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 flipV="1">
                  <a:off x="1131480" y="2787120"/>
                  <a:ext cx="8748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 flipV="1">
                  <a:off x="1131480" y="2784240"/>
                  <a:ext cx="8748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 flipV="1">
                  <a:off x="1134720" y="278748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 flipV="1">
                  <a:off x="1134720" y="278748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 flipV="1">
                  <a:off x="1134720" y="278748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 flipV="1">
                  <a:off x="1134720" y="278748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 flipV="1">
                  <a:off x="1134720" y="278748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 flipV="1">
                  <a:off x="1134720" y="278748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 flipV="1">
                  <a:off x="1134720" y="278748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 flipV="1">
                  <a:off x="1134720" y="278748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flipV="1">
                  <a:off x="1134720" y="2787120"/>
                  <a:ext cx="8424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 flipV="1">
                  <a:off x="1134720" y="2787120"/>
                  <a:ext cx="8424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 flipV="1">
                  <a:off x="1136520" y="2787480"/>
                  <a:ext cx="8388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 flipV="1">
                  <a:off x="1136520" y="2787480"/>
                  <a:ext cx="8388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 flipV="1">
                  <a:off x="1134720" y="2787480"/>
                  <a:ext cx="8568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 flipV="1">
                  <a:off x="1134720" y="2787480"/>
                  <a:ext cx="8568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 flipV="1">
                  <a:off x="1376280" y="2890080"/>
                  <a:ext cx="5076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 flipV="1">
                  <a:off x="1376280" y="2890080"/>
                  <a:ext cx="5076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 flipV="1">
                  <a:off x="1376280" y="2890080"/>
                  <a:ext cx="5076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 flipV="1">
                  <a:off x="1376280" y="2890080"/>
                  <a:ext cx="5076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 flipV="1">
                  <a:off x="1376280" y="2890080"/>
                  <a:ext cx="5076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 flipV="1">
                  <a:off x="1379160" y="2892240"/>
                  <a:ext cx="4788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 flipV="1">
                  <a:off x="1379160" y="2892240"/>
                  <a:ext cx="4788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 flipV="1">
                  <a:off x="1379160" y="2892240"/>
                  <a:ext cx="511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 flipV="1">
                  <a:off x="1380960" y="2892240"/>
                  <a:ext cx="493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V="1">
                  <a:off x="1380960" y="2892240"/>
                  <a:ext cx="493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 flipV="1">
                  <a:off x="1380960" y="2892240"/>
                  <a:ext cx="507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 flipV="1">
                  <a:off x="1384200" y="2891880"/>
                  <a:ext cx="4752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 flipV="1">
                  <a:off x="1384200" y="2891880"/>
                  <a:ext cx="4752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 flipV="1">
                  <a:off x="1384200" y="2892240"/>
                  <a:ext cx="475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 flipV="1">
                  <a:off x="1496880" y="2919240"/>
                  <a:ext cx="316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 flipV="1">
                  <a:off x="1498320" y="2922120"/>
                  <a:ext cx="3492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 flipV="1">
                  <a:off x="1501560" y="2922120"/>
                  <a:ext cx="316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 flipV="1">
                  <a:off x="1501560" y="2922120"/>
                  <a:ext cx="316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 flipV="1">
                  <a:off x="1501560" y="2922120"/>
                  <a:ext cx="316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 flipV="1">
                  <a:off x="1503000" y="2922120"/>
                  <a:ext cx="320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 flipV="1">
                  <a:off x="1503000" y="2922120"/>
                  <a:ext cx="302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 flipV="1">
                  <a:off x="1501560" y="2922120"/>
                  <a:ext cx="316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 flipV="1">
                  <a:off x="1503000" y="2922120"/>
                  <a:ext cx="320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 flipV="1">
                  <a:off x="1503000" y="2922120"/>
                  <a:ext cx="320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 flipV="1">
                  <a:off x="1506240" y="2922120"/>
                  <a:ext cx="316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 flipV="1">
                  <a:off x="1506240" y="2922120"/>
                  <a:ext cx="2880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 flipV="1">
                  <a:off x="1503000" y="2922120"/>
                  <a:ext cx="320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 flipV="1">
                  <a:off x="1503000" y="2922120"/>
                  <a:ext cx="320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 flipV="1">
                  <a:off x="1503000" y="2922120"/>
                  <a:ext cx="320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 flipV="1">
                  <a:off x="1503000" y="2922120"/>
                  <a:ext cx="320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 flipV="1">
                  <a:off x="1506240" y="2922120"/>
                  <a:ext cx="316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 flipV="1">
                  <a:off x="1506240" y="2922120"/>
                  <a:ext cx="316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 flipV="1">
                  <a:off x="1506240" y="2922120"/>
                  <a:ext cx="316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 flipV="1">
                  <a:off x="1509480" y="2921760"/>
                  <a:ext cx="2844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 flipV="1">
                  <a:off x="1509480" y="2921760"/>
                  <a:ext cx="3024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 flipV="1">
                  <a:off x="1509480" y="2921760"/>
                  <a:ext cx="3024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 flipV="1">
                  <a:off x="1509480" y="2921760"/>
                  <a:ext cx="3024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 flipV="1">
                  <a:off x="1509480" y="2921760"/>
                  <a:ext cx="2844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 flipH="1" flipV="1">
                  <a:off x="1773000" y="2938320"/>
                  <a:ext cx="936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 flipH="1" flipV="1">
                  <a:off x="1937880" y="2912760"/>
                  <a:ext cx="3780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 flipH="1" flipV="1">
                  <a:off x="1937880" y="2912760"/>
                  <a:ext cx="3780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 flipH="1" flipV="1">
                  <a:off x="2002680" y="2892240"/>
                  <a:ext cx="4788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 flipH="1" flipV="1">
                  <a:off x="1999800" y="2892240"/>
                  <a:ext cx="507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 flipH="1" flipV="1">
                  <a:off x="2000160" y="2891880"/>
                  <a:ext cx="4896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flipH="1" flipV="1">
                  <a:off x="2000160" y="2891880"/>
                  <a:ext cx="4896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flipH="1" flipV="1">
                  <a:off x="2000160" y="2891880"/>
                  <a:ext cx="4896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flipH="1" flipV="1">
                  <a:off x="2000160" y="2891880"/>
                  <a:ext cx="4896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 flipH="1" flipV="1">
                  <a:off x="2004480" y="2892240"/>
                  <a:ext cx="507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flipH="1" flipV="1">
                  <a:off x="2004480" y="2892240"/>
                  <a:ext cx="493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 flipH="1" flipV="1">
                  <a:off x="2004480" y="2892240"/>
                  <a:ext cx="493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 flipH="1" flipV="1">
                  <a:off x="2003040" y="2892240"/>
                  <a:ext cx="511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flipH="1" flipV="1">
                  <a:off x="2003040" y="2892240"/>
                  <a:ext cx="5112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 flipH="1" flipV="1">
                  <a:off x="2008080" y="2890080"/>
                  <a:ext cx="4752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 flipH="1" flipV="1">
                  <a:off x="2008080" y="2890080"/>
                  <a:ext cx="4752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 flipH="1" flipV="1">
                  <a:off x="2008080" y="2890080"/>
                  <a:ext cx="4752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 flipH="1" flipV="1">
                  <a:off x="2007720" y="2890080"/>
                  <a:ext cx="5076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 flipH="1" flipV="1">
                  <a:off x="2007720" y="2890080"/>
                  <a:ext cx="5076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 flipH="1" flipV="1">
                  <a:off x="2009160" y="2890080"/>
                  <a:ext cx="4932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 flipH="1" flipV="1">
                  <a:off x="2007720" y="2890080"/>
                  <a:ext cx="5076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 flipH="1" flipV="1">
                  <a:off x="2007720" y="2890080"/>
                  <a:ext cx="5076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 flipH="1" flipV="1">
                  <a:off x="2007720" y="2890080"/>
                  <a:ext cx="5076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 flipH="1" flipV="1">
                  <a:off x="2007720" y="2890080"/>
                  <a:ext cx="5076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 flipH="1" flipV="1">
                  <a:off x="2411280" y="2604240"/>
                  <a:ext cx="117360" cy="93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 flipH="1" flipV="1">
                  <a:off x="2411280" y="2604240"/>
                  <a:ext cx="117360" cy="93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 flipH="1" flipV="1">
                  <a:off x="2411280" y="2604240"/>
                  <a:ext cx="117360" cy="93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 flipH="1" flipV="1">
                  <a:off x="2411280" y="2604240"/>
                  <a:ext cx="117360" cy="93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 flipH="1" flipV="1">
                  <a:off x="2411280" y="2604240"/>
                  <a:ext cx="117360" cy="93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 flipH="1" flipV="1">
                  <a:off x="2411280" y="2604240"/>
                  <a:ext cx="117360" cy="93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 flipH="1" flipV="1">
                  <a:off x="2411280" y="2604240"/>
                  <a:ext cx="117360" cy="93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flipH="1" flipV="1">
                  <a:off x="2411280" y="2604240"/>
                  <a:ext cx="117360" cy="93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 flipH="1" flipV="1">
                  <a:off x="2411280" y="2604240"/>
                  <a:ext cx="117360" cy="93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 flipH="1" flipV="1">
                  <a:off x="2411280" y="2604600"/>
                  <a:ext cx="117360" cy="92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 flipH="1" flipV="1">
                  <a:off x="2411280" y="2604240"/>
                  <a:ext cx="117360" cy="93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 flipH="1" flipV="1">
                  <a:off x="2411280" y="2604240"/>
                  <a:ext cx="117360" cy="93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 flipH="1" flipV="1">
                  <a:off x="2415960" y="2599920"/>
                  <a:ext cx="117360" cy="90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 flipH="1" flipV="1">
                  <a:off x="2415960" y="2599920"/>
                  <a:ext cx="117360" cy="90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 flipH="1" flipV="1">
                  <a:off x="2417040" y="2598120"/>
                  <a:ext cx="11772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 flipH="1" flipV="1">
                  <a:off x="2415600" y="2598120"/>
                  <a:ext cx="1191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 flipH="1" flipV="1">
                  <a:off x="2417040" y="2595240"/>
                  <a:ext cx="11772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flipH="1" flipV="1">
                  <a:off x="2417040" y="2595240"/>
                  <a:ext cx="11772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 flipH="1" flipV="1">
                  <a:off x="2417040" y="2595240"/>
                  <a:ext cx="11772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 flipH="1" flipV="1">
                  <a:off x="2417040" y="2595240"/>
                  <a:ext cx="11772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 flipH="1" flipV="1">
                  <a:off x="2417040" y="2598120"/>
                  <a:ext cx="11772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 flipH="1" flipV="1">
                  <a:off x="2417040" y="2593440"/>
                  <a:ext cx="120600" cy="91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flipH="1" flipV="1">
                  <a:off x="2417040" y="2594880"/>
                  <a:ext cx="12060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 flipH="1" flipV="1">
                  <a:off x="2420640" y="2593440"/>
                  <a:ext cx="117360" cy="91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 flipH="1" flipV="1">
                  <a:off x="2420640" y="2593440"/>
                  <a:ext cx="1173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 flipH="1" flipV="1">
                  <a:off x="2420280" y="2593440"/>
                  <a:ext cx="1191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 flipH="1" flipV="1">
                  <a:off x="2420280" y="2593440"/>
                  <a:ext cx="1191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 flipH="1" flipV="1">
                  <a:off x="2420280" y="2590200"/>
                  <a:ext cx="1191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 flipH="1" flipV="1">
                  <a:off x="2420280" y="2590200"/>
                  <a:ext cx="1191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 flipH="1" flipV="1">
                  <a:off x="2420280" y="2590200"/>
                  <a:ext cx="1191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 flipH="1" flipV="1">
                  <a:off x="2420280" y="2590200"/>
                  <a:ext cx="1191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 flipH="1" flipV="1">
                  <a:off x="2422080" y="2588760"/>
                  <a:ext cx="120600" cy="90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 flipH="1" flipV="1">
                  <a:off x="2422080" y="2588760"/>
                  <a:ext cx="120600" cy="90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flipH="1" flipV="1">
                  <a:off x="2422080" y="2588760"/>
                  <a:ext cx="120600" cy="90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 flipH="1" flipV="1">
                  <a:off x="2422080" y="2588760"/>
                  <a:ext cx="120600" cy="90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flipH="1" flipV="1">
                  <a:off x="2424960" y="2588400"/>
                  <a:ext cx="119160" cy="87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 flipH="1" flipV="1">
                  <a:off x="2424960" y="2588400"/>
                  <a:ext cx="119160" cy="87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 flipH="1" flipV="1">
                  <a:off x="2424960" y="2588400"/>
                  <a:ext cx="119160" cy="87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 flipH="1" flipV="1">
                  <a:off x="2539800" y="2378880"/>
                  <a:ext cx="139680" cy="5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 flipH="1" flipV="1">
                  <a:off x="2539800" y="2378880"/>
                  <a:ext cx="139680" cy="5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 flipH="1" flipV="1">
                  <a:off x="2539800" y="2378880"/>
                  <a:ext cx="139680" cy="5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 flipH="1" flipV="1">
                  <a:off x="2539800" y="2378880"/>
                  <a:ext cx="139680" cy="5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 flipH="1" flipV="1">
                  <a:off x="2539800" y="2378880"/>
                  <a:ext cx="139680" cy="5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 flipH="1" flipV="1">
                  <a:off x="2539800" y="2378880"/>
                  <a:ext cx="139680" cy="5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 flipH="1" flipV="1">
                  <a:off x="2539440" y="2377800"/>
                  <a:ext cx="14292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 flipH="1" flipV="1">
                  <a:off x="2543040" y="2374560"/>
                  <a:ext cx="139680" cy="5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 flipH="1" flipV="1">
                  <a:off x="2543040" y="2377440"/>
                  <a:ext cx="13968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 flipH="1" flipV="1">
                  <a:off x="2543040" y="2377800"/>
                  <a:ext cx="13968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 flipH="1" flipV="1">
                  <a:off x="2543040" y="2377800"/>
                  <a:ext cx="13968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 flipH="1" flipV="1">
                  <a:off x="2543040" y="2377800"/>
                  <a:ext cx="13968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 flipH="1" flipV="1">
                  <a:off x="2539440" y="2377800"/>
                  <a:ext cx="14292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 flipH="1" flipV="1">
                  <a:off x="2539440" y="2377800"/>
                  <a:ext cx="14292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 flipH="1" flipV="1">
                  <a:off x="2539440" y="2377800"/>
                  <a:ext cx="14292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flipH="1" flipV="1">
                  <a:off x="2543040" y="2370960"/>
                  <a:ext cx="141120" cy="5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 flipH="1" flipV="1">
                  <a:off x="2543040" y="2370960"/>
                  <a:ext cx="141120" cy="5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 flipH="1" flipV="1">
                  <a:off x="2543040" y="2371320"/>
                  <a:ext cx="14112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 flipH="1" flipV="1">
                  <a:off x="2543040" y="2371320"/>
                  <a:ext cx="14112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flipH="1" flipV="1">
                  <a:off x="2543040" y="2371320"/>
                  <a:ext cx="14112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 flipH="1" flipV="1">
                  <a:off x="2543040" y="2370960"/>
                  <a:ext cx="141120" cy="5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 flipH="1" flipV="1">
                  <a:off x="2544480" y="2369880"/>
                  <a:ext cx="139680" cy="5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 flipH="1" flipV="1">
                  <a:off x="2544480" y="2369520"/>
                  <a:ext cx="13968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 flipH="1" flipV="1">
                  <a:off x="2544120" y="2366640"/>
                  <a:ext cx="14292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 flipH="1" flipV="1">
                  <a:off x="2544120" y="2364840"/>
                  <a:ext cx="14292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 flipH="1" flipV="1">
                  <a:off x="2544120" y="2364840"/>
                  <a:ext cx="14292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 flipH="1" flipV="1">
                  <a:off x="2544120" y="2364840"/>
                  <a:ext cx="14292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 flipH="1" flipV="1">
                  <a:off x="2544120" y="2364840"/>
                  <a:ext cx="14292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 flipH="1" flipV="1">
                  <a:off x="2544120" y="2364840"/>
                  <a:ext cx="14292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 flipH="1" flipV="1">
                  <a:off x="2544120" y="2364840"/>
                  <a:ext cx="14292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 flipH="1" flipV="1">
                  <a:off x="2544120" y="2364840"/>
                  <a:ext cx="14292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 flipH="1" flipV="1">
                  <a:off x="2547720" y="2364840"/>
                  <a:ext cx="13968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 flipH="1" flipV="1">
                  <a:off x="2547720" y="2361960"/>
                  <a:ext cx="13968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 flipH="1" flipV="1">
                  <a:off x="2548800" y="2356920"/>
                  <a:ext cx="14292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 flipH="1" flipV="1">
                  <a:off x="2548800" y="2356920"/>
                  <a:ext cx="14292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 flipH="1" flipV="1">
                  <a:off x="2548800" y="2355120"/>
                  <a:ext cx="14292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 flipH="1" flipV="1">
                  <a:off x="2548800" y="2355120"/>
                  <a:ext cx="14292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 flipH="1" flipV="1">
                  <a:off x="2548800" y="2355120"/>
                  <a:ext cx="14292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 flipH="1" flipV="1">
                  <a:off x="2548800" y="2355120"/>
                  <a:ext cx="14292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 flipH="1" flipV="1">
                  <a:off x="2548800" y="2355480"/>
                  <a:ext cx="142920" cy="5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 flipH="1" flipV="1">
                  <a:off x="2548800" y="2355480"/>
                  <a:ext cx="142920" cy="5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 flipH="1" flipV="1">
                  <a:off x="2548800" y="2355480"/>
                  <a:ext cx="142920" cy="5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 flipH="1" flipV="1">
                  <a:off x="2548800" y="2355480"/>
                  <a:ext cx="142920" cy="5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 flipH="1" flipV="1">
                  <a:off x="2548800" y="2355480"/>
                  <a:ext cx="142920" cy="5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 flipH="1" flipV="1">
                  <a:off x="2548800" y="2355480"/>
                  <a:ext cx="142920" cy="5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 flipH="1" flipV="1">
                  <a:off x="2548800" y="2355480"/>
                  <a:ext cx="142920" cy="5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 flipH="1" flipV="1">
                  <a:off x="2548800" y="2355480"/>
                  <a:ext cx="142920" cy="5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 flipH="1" flipV="1">
                  <a:off x="2599560" y="2125080"/>
                  <a:ext cx="14940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 flipH="1" flipV="1">
                  <a:off x="2599560" y="2125080"/>
                  <a:ext cx="14940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 flipH="1" flipV="1">
                  <a:off x="2599560" y="2125080"/>
                  <a:ext cx="14940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 flipH="1" flipV="1">
                  <a:off x="2599560" y="2120040"/>
                  <a:ext cx="14940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 flipH="1" flipV="1">
                  <a:off x="2599560" y="2120040"/>
                  <a:ext cx="14940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 flipH="1" flipV="1">
                  <a:off x="2599560" y="2117160"/>
                  <a:ext cx="149400" cy="12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 flipH="1" flipV="1">
                  <a:off x="2599560" y="2117160"/>
                  <a:ext cx="149400" cy="12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 flipH="1" flipV="1">
                  <a:off x="2599560" y="2117160"/>
                  <a:ext cx="149400" cy="12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 flipH="1" flipV="1">
                  <a:off x="2599560" y="2117520"/>
                  <a:ext cx="14940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 flipH="1" flipV="1">
                  <a:off x="2599560" y="2115360"/>
                  <a:ext cx="14940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 flipH="1" flipV="1">
                  <a:off x="2599560" y="2115360"/>
                  <a:ext cx="14940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 flipH="1" flipV="1">
                  <a:off x="2599560" y="2115360"/>
                  <a:ext cx="14940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 flipH="1" flipV="1">
                  <a:off x="2599560" y="2112480"/>
                  <a:ext cx="149400" cy="12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 flipH="1" flipV="1">
                  <a:off x="2599560" y="2115360"/>
                  <a:ext cx="14940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 flipH="1" flipV="1">
                  <a:off x="2599560" y="2112120"/>
                  <a:ext cx="14940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 flipH="1" flipV="1">
                  <a:off x="2599560" y="2112120"/>
                  <a:ext cx="15084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 flipH="1" flipV="1">
                  <a:off x="2599560" y="2112120"/>
                  <a:ext cx="15084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 flipH="1" flipV="1">
                  <a:off x="2599560" y="2112120"/>
                  <a:ext cx="14940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 flipH="1" flipV="1">
                  <a:off x="2599560" y="2111040"/>
                  <a:ext cx="1508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 flipH="1" flipV="1">
                  <a:off x="2599560" y="2111040"/>
                  <a:ext cx="1508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 flipH="1" flipV="1">
                  <a:off x="2599560" y="2112120"/>
                  <a:ext cx="15084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 flipH="1" flipV="1">
                  <a:off x="2599560" y="2112120"/>
                  <a:ext cx="15084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 flipH="1" flipV="1">
                  <a:off x="2599560" y="2111040"/>
                  <a:ext cx="1508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 flipH="1" flipV="1">
                  <a:off x="2599560" y="2111040"/>
                  <a:ext cx="1508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 flipH="1" flipV="1">
                  <a:off x="2599560" y="2111040"/>
                  <a:ext cx="1508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 flipH="1" flipV="1">
                  <a:off x="2599560" y="2111040"/>
                  <a:ext cx="1508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 flipH="1" flipV="1">
                  <a:off x="2599560" y="2111040"/>
                  <a:ext cx="1508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 flipH="1" flipV="1">
                  <a:off x="2599560" y="2106360"/>
                  <a:ext cx="1508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 flipH="1" flipV="1">
                  <a:off x="2599560" y="2106360"/>
                  <a:ext cx="1508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 flipH="1" flipV="1">
                  <a:off x="2599560" y="2106360"/>
                  <a:ext cx="1508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 flipH="1" flipV="1">
                  <a:off x="2599560" y="2106360"/>
                  <a:ext cx="1508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 flipH="1" flipV="1">
                  <a:off x="2599560" y="2106000"/>
                  <a:ext cx="150840" cy="6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 flipH="1" flipV="1">
                  <a:off x="2599560" y="2106000"/>
                  <a:ext cx="150840" cy="6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 flipH="1" flipV="1">
                  <a:off x="2599560" y="2106000"/>
                  <a:ext cx="150840" cy="6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 flipH="1" flipV="1">
                  <a:off x="2599560" y="2106000"/>
                  <a:ext cx="150840" cy="6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 flipH="1" flipV="1">
                  <a:off x="2599560" y="2106000"/>
                  <a:ext cx="150840" cy="6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 flipH="1" flipV="1">
                  <a:off x="2599560" y="2106000"/>
                  <a:ext cx="150840" cy="6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 flipH="1" flipV="1">
                  <a:off x="2599560" y="2106000"/>
                  <a:ext cx="150840" cy="6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 flipH="1">
                  <a:off x="2350800" y="1331640"/>
                  <a:ext cx="10800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 flipH="1">
                  <a:off x="2346120" y="1328400"/>
                  <a:ext cx="10800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 flipH="1">
                  <a:off x="2347560" y="1328400"/>
                  <a:ext cx="10656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 flipH="1">
                  <a:off x="2347560" y="1328400"/>
                  <a:ext cx="10656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 flipH="1">
                  <a:off x="2346120" y="1326960"/>
                  <a:ext cx="10800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 flipH="1">
                  <a:off x="2346120" y="1326960"/>
                  <a:ext cx="10800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 flipH="1">
                  <a:off x="2346120" y="1326960"/>
                  <a:ext cx="10800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 flipH="1">
                  <a:off x="2346120" y="1326960"/>
                  <a:ext cx="10800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 flipH="1">
                  <a:off x="2345760" y="1326960"/>
                  <a:ext cx="10476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 flipH="1">
                  <a:off x="2346120" y="1326960"/>
                  <a:ext cx="10800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 flipH="1">
                  <a:off x="2345760" y="1326960"/>
                  <a:ext cx="10476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 flipH="1">
                  <a:off x="2342880" y="1323720"/>
                  <a:ext cx="10656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 flipH="1">
                  <a:off x="2342880" y="1323720"/>
                  <a:ext cx="10656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 flipH="1">
                  <a:off x="2342880" y="1323720"/>
                  <a:ext cx="10656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 flipH="1">
                  <a:off x="2342880" y="1323720"/>
                  <a:ext cx="10800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 flipH="1">
                  <a:off x="2342880" y="1323720"/>
                  <a:ext cx="10800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 flipH="1">
                  <a:off x="2341440" y="1321920"/>
                  <a:ext cx="10800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 flipH="1">
                  <a:off x="2341440" y="1321920"/>
                  <a:ext cx="10800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 flipH="1">
                  <a:off x="2341440" y="1321920"/>
                  <a:ext cx="10800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 flipH="1">
                  <a:off x="2341080" y="1321920"/>
                  <a:ext cx="10476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 flipH="1">
                  <a:off x="2341080" y="1319040"/>
                  <a:ext cx="1047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 flipH="1">
                  <a:off x="2341080" y="1321920"/>
                  <a:ext cx="10476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 flipH="1">
                  <a:off x="2341080" y="1321920"/>
                  <a:ext cx="10476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 flipH="1">
                  <a:off x="2341080" y="1321920"/>
                  <a:ext cx="10476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flipH="1">
                  <a:off x="2341080" y="1321920"/>
                  <a:ext cx="10476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 flipH="1">
                  <a:off x="2341080" y="1321920"/>
                  <a:ext cx="10476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 flipH="1">
                  <a:off x="2337840" y="1317240"/>
                  <a:ext cx="10620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 flipH="1">
                  <a:off x="2337840" y="1317240"/>
                  <a:ext cx="10620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 flipH="1">
                  <a:off x="2337840" y="1317240"/>
                  <a:ext cx="10620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 flipH="1">
                  <a:off x="2337840" y="1317240"/>
                  <a:ext cx="10620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 flipH="1">
                  <a:off x="2337840" y="1319040"/>
                  <a:ext cx="10620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 flipH="1">
                  <a:off x="2337840" y="1319040"/>
                  <a:ext cx="10620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 flipH="1">
                  <a:off x="2337840" y="1319040"/>
                  <a:ext cx="10620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 flipH="1">
                  <a:off x="2337840" y="1319040"/>
                  <a:ext cx="10620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 flipH="1">
                  <a:off x="2337840" y="1319040"/>
                  <a:ext cx="10620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 flipH="1">
                  <a:off x="2337840" y="1319040"/>
                  <a:ext cx="10620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 flipH="1">
                  <a:off x="2337840" y="1319040"/>
                  <a:ext cx="10620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 flipH="1">
                  <a:off x="2337840" y="1319040"/>
                  <a:ext cx="10620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 flipH="1">
                  <a:off x="2338200" y="1317240"/>
                  <a:ext cx="10296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 flipH="1">
                  <a:off x="2337840" y="1317240"/>
                  <a:ext cx="10620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 flipH="1">
                  <a:off x="2336040" y="1314000"/>
                  <a:ext cx="10476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 flipH="1">
                  <a:off x="2336040" y="1314000"/>
                  <a:ext cx="10476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 flipH="1">
                  <a:off x="2070000" y="1106280"/>
                  <a:ext cx="5688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flipH="1">
                  <a:off x="2070000" y="1106280"/>
                  <a:ext cx="5688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 flipH="1">
                  <a:off x="2069640" y="1106280"/>
                  <a:ext cx="601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 flipH="1">
                  <a:off x="2069640" y="1106280"/>
                  <a:ext cx="601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 flipH="1">
                  <a:off x="2069640" y="1106280"/>
                  <a:ext cx="601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 flipH="1">
                  <a:off x="2069640" y="1106280"/>
                  <a:ext cx="601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 flipH="1">
                  <a:off x="2069640" y="1106280"/>
                  <a:ext cx="601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 flipH="1">
                  <a:off x="2069640" y="1106280"/>
                  <a:ext cx="601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 flipH="1">
                  <a:off x="2069640" y="1106280"/>
                  <a:ext cx="601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 flipH="1">
                  <a:off x="2069640" y="1106280"/>
                  <a:ext cx="601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 flipH="1">
                  <a:off x="2069640" y="1106280"/>
                  <a:ext cx="601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 flipH="1">
                  <a:off x="2067840" y="1106280"/>
                  <a:ext cx="5868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 flipH="1">
                  <a:off x="2067840" y="1106280"/>
                  <a:ext cx="5868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 flipH="1">
                  <a:off x="2067840" y="1106280"/>
                  <a:ext cx="5868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 flipH="1">
                  <a:off x="2067840" y="1103040"/>
                  <a:ext cx="5724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 flipH="1">
                  <a:off x="2067840" y="1103040"/>
                  <a:ext cx="5724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 flipH="1">
                  <a:off x="2067840" y="1103040"/>
                  <a:ext cx="5724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 flipH="1">
                  <a:off x="2067840" y="1103040"/>
                  <a:ext cx="5868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 flipH="1">
                  <a:off x="2067840" y="1103040"/>
                  <a:ext cx="5868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 flipH="1">
                  <a:off x="2067840" y="1103040"/>
                  <a:ext cx="5868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 flipH="1">
                  <a:off x="2064960" y="1103040"/>
                  <a:ext cx="6048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 flipH="1">
                  <a:off x="2064960" y="1103040"/>
                  <a:ext cx="6048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 flipH="1">
                  <a:off x="2067840" y="1103040"/>
                  <a:ext cx="5724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 flipH="1">
                  <a:off x="2064960" y="1103040"/>
                  <a:ext cx="6048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 flipH="1">
                  <a:off x="2064960" y="1103040"/>
                  <a:ext cx="6048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 flipH="1">
                  <a:off x="2064960" y="1103040"/>
                  <a:ext cx="6048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 flipH="1">
                  <a:off x="2064960" y="1103040"/>
                  <a:ext cx="6048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 flipH="1">
                  <a:off x="2064600" y="1103040"/>
                  <a:ext cx="5724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 flipH="1">
                  <a:off x="2044080" y="1093320"/>
                  <a:ext cx="5724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 flipH="1">
                  <a:off x="2045520" y="1093320"/>
                  <a:ext cx="558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 flipH="1">
                  <a:off x="2045520" y="1093320"/>
                  <a:ext cx="558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 flipH="1">
                  <a:off x="2045520" y="1093320"/>
                  <a:ext cx="558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 flipH="1">
                  <a:off x="2045520" y="1093320"/>
                  <a:ext cx="558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 flipH="1">
                  <a:off x="2044440" y="109332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 flipH="1">
                  <a:off x="2044440" y="109332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 flipH="1">
                  <a:off x="2044440" y="109332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 flipH="1">
                  <a:off x="2044440" y="109332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 flipH="1">
                  <a:off x="2044080" y="1093320"/>
                  <a:ext cx="5724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 flipH="1">
                  <a:off x="2040840" y="1090440"/>
                  <a:ext cx="5580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 flipH="1">
                  <a:off x="2040840" y="1090440"/>
                  <a:ext cx="5724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 flipH="1">
                  <a:off x="2044440" y="1090440"/>
                  <a:ext cx="5400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 flipH="1">
                  <a:off x="2044440" y="1090440"/>
                  <a:ext cx="5400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 flipH="1">
                  <a:off x="2040840" y="1090440"/>
                  <a:ext cx="558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 flipH="1">
                  <a:off x="2040840" y="1090440"/>
                  <a:ext cx="558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 flipH="1">
                  <a:off x="2040840" y="1090440"/>
                  <a:ext cx="558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 flipH="1">
                  <a:off x="2040840" y="1090440"/>
                  <a:ext cx="558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 flipH="1">
                  <a:off x="2040840" y="1090440"/>
                  <a:ext cx="558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 flipH="1">
                  <a:off x="2040840" y="1090440"/>
                  <a:ext cx="558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 flipH="1">
                  <a:off x="2040840" y="1090440"/>
                  <a:ext cx="558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 flipH="1">
                  <a:off x="2040840" y="1090440"/>
                  <a:ext cx="558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 flipH="1">
                  <a:off x="2040840" y="1090440"/>
                  <a:ext cx="558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 flipH="1">
                  <a:off x="2040840" y="1090440"/>
                  <a:ext cx="558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 flipH="1">
                  <a:off x="2040840" y="1090440"/>
                  <a:ext cx="558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 flipH="1">
                  <a:off x="2040840" y="1090440"/>
                  <a:ext cx="558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 flipH="1">
                  <a:off x="2040840" y="1090440"/>
                  <a:ext cx="558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 flipH="1">
                  <a:off x="2032920" y="1088640"/>
                  <a:ext cx="558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 flipH="1" flipV="1">
                  <a:off x="2599560" y="2107440"/>
                  <a:ext cx="15084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 flipH="1" flipV="1">
                  <a:off x="2599560" y="2107440"/>
                  <a:ext cx="15084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 flipH="1" flipV="1">
                  <a:off x="2599560" y="2107440"/>
                  <a:ext cx="15084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 flipH="1" flipV="1">
                  <a:off x="2599560" y="2107440"/>
                  <a:ext cx="15084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 flipH="1" flipV="1">
                  <a:off x="2599560" y="2107440"/>
                  <a:ext cx="15084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 flipH="1" flipV="1">
                  <a:off x="2599560" y="2107440"/>
                  <a:ext cx="15084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 flipH="1" flipV="1">
                  <a:off x="2599560" y="2107440"/>
                  <a:ext cx="15084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 flipH="1" flipV="1">
                  <a:off x="2599560" y="2107440"/>
                  <a:ext cx="15084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 flipH="1" flipV="1">
                  <a:off x="2599560" y="2107440"/>
                  <a:ext cx="15084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 flipH="1" flipV="1">
                  <a:off x="2599560" y="2111040"/>
                  <a:ext cx="150840" cy="6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1515960" y="1037880"/>
                  <a:ext cx="2844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1515960" y="1037880"/>
                  <a:ext cx="3168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1518840" y="1037880"/>
                  <a:ext cx="2880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 flipH="1">
                  <a:off x="2050920" y="1095120"/>
                  <a:ext cx="5688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 flipH="1">
                  <a:off x="2054160" y="1095120"/>
                  <a:ext cx="5688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 flipH="1" flipV="1">
                  <a:off x="2547720" y="2361960"/>
                  <a:ext cx="14112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 flipH="1" flipV="1">
                  <a:off x="2547720" y="2361960"/>
                  <a:ext cx="14112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 flipH="1" flipV="1">
                  <a:off x="2547720" y="2361960"/>
                  <a:ext cx="13968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 flipH="1" flipV="1">
                  <a:off x="2547720" y="2361960"/>
                  <a:ext cx="13968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 flipH="1" flipV="1">
                  <a:off x="2547720" y="2361960"/>
                  <a:ext cx="13968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 flipH="1" flipV="1">
                  <a:off x="2548800" y="2356920"/>
                  <a:ext cx="14292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 flipH="1" flipV="1">
                  <a:off x="2548800" y="2356920"/>
                  <a:ext cx="14292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 flipH="1" flipV="1">
                  <a:off x="2548800" y="2356920"/>
                  <a:ext cx="14292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 flipH="1" flipV="1">
                  <a:off x="2549160" y="2356920"/>
                  <a:ext cx="13968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 flipH="1" flipV="1">
                  <a:off x="2549160" y="2356920"/>
                  <a:ext cx="13968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 flipH="1" flipV="1">
                  <a:off x="2549160" y="2356920"/>
                  <a:ext cx="13968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flipV="1">
                  <a:off x="1139760" y="2788920"/>
                  <a:ext cx="8388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 flipV="1">
                  <a:off x="1136520" y="2788920"/>
                  <a:ext cx="8388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 flipV="1">
                  <a:off x="1136520" y="2788920"/>
                  <a:ext cx="8388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 flipV="1">
                  <a:off x="1136520" y="2788920"/>
                  <a:ext cx="8388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 flipV="1">
                  <a:off x="1136520" y="2788920"/>
                  <a:ext cx="8388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 flipH="1">
                  <a:off x="2347560" y="1328400"/>
                  <a:ext cx="10800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 flipH="1" flipV="1">
                  <a:off x="2422080" y="2590200"/>
                  <a:ext cx="1206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 flipH="1" flipV="1">
                  <a:off x="2422080" y="2590200"/>
                  <a:ext cx="12060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 flipH="1" flipV="1">
                  <a:off x="2422080" y="2590200"/>
                  <a:ext cx="12060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 flipH="1" flipV="1">
                  <a:off x="2411280" y="2604600"/>
                  <a:ext cx="117360" cy="92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flipH="1" flipV="1">
                  <a:off x="2411280" y="2604600"/>
                  <a:ext cx="117360" cy="92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flipH="1" flipV="1">
                  <a:off x="2412720" y="2603160"/>
                  <a:ext cx="11736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 flipH="1" flipV="1">
                  <a:off x="2412720" y="2602800"/>
                  <a:ext cx="1173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 flipH="1" flipV="1">
                  <a:off x="2599560" y="2117160"/>
                  <a:ext cx="149400" cy="12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 flipH="1" flipV="1">
                  <a:off x="2599560" y="2120040"/>
                  <a:ext cx="14940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 flipH="1" flipV="1">
                  <a:off x="2599560" y="2120040"/>
                  <a:ext cx="14940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 flipH="1" flipV="1">
                  <a:off x="2599560" y="2120040"/>
                  <a:ext cx="14940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 flipH="1" flipV="1">
                  <a:off x="2599560" y="2120040"/>
                  <a:ext cx="14940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 flipH="1" flipV="1">
                  <a:off x="2599560" y="2122200"/>
                  <a:ext cx="14940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 flipH="1" flipV="1">
                  <a:off x="2599560" y="2122200"/>
                  <a:ext cx="14940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 flipH="1" flipV="1">
                  <a:off x="2599560" y="2122200"/>
                  <a:ext cx="14940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 flipH="1">
                  <a:off x="2333160" y="1314000"/>
                  <a:ext cx="10620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 flipH="1">
                  <a:off x="2336040" y="1314000"/>
                  <a:ext cx="10332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flipH="1">
                  <a:off x="2336040" y="1314000"/>
                  <a:ext cx="10332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flipH="1">
                  <a:off x="2336040" y="1314000"/>
                  <a:ext cx="10332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 flipH="1">
                  <a:off x="2336040" y="1314000"/>
                  <a:ext cx="10332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 flipH="1">
                  <a:off x="2336040" y="1314000"/>
                  <a:ext cx="10332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 flipH="1">
                  <a:off x="2336040" y="1314000"/>
                  <a:ext cx="10332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flipH="1">
                  <a:off x="2336040" y="1314000"/>
                  <a:ext cx="10476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 flipH="1" flipV="1">
                  <a:off x="2412720" y="2603160"/>
                  <a:ext cx="11736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 flipH="1" flipV="1">
                  <a:off x="2412720" y="2602800"/>
                  <a:ext cx="1173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 flipV="1">
                  <a:off x="777600" y="2427120"/>
                  <a:ext cx="136440" cy="63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 flipH="1" flipV="1">
                  <a:off x="2593800" y="2172960"/>
                  <a:ext cx="147600" cy="2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 flipH="1" flipV="1">
                  <a:off x="2593800" y="2175840"/>
                  <a:ext cx="14760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 flipH="1" flipV="1">
                  <a:off x="1870920" y="2927160"/>
                  <a:ext cx="2556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 flipH="1">
                  <a:off x="2598120" y="1960200"/>
                  <a:ext cx="150840" cy="1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flipH="1">
                  <a:off x="2036520" y="1088640"/>
                  <a:ext cx="5544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 flipH="1">
                  <a:off x="2490480" y="1552320"/>
                  <a:ext cx="131760" cy="71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 flipV="1">
                  <a:off x="836280" y="252396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 flipH="1">
                  <a:off x="2087280" y="1115640"/>
                  <a:ext cx="619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 flipV="1">
                  <a:off x="714240" y="2278800"/>
                  <a:ext cx="14580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flipV="1">
                  <a:off x="714240" y="2275920"/>
                  <a:ext cx="144360" cy="37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flipV="1">
                  <a:off x="1530000" y="2926800"/>
                  <a:ext cx="2880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 flipV="1">
                  <a:off x="1533240" y="2927160"/>
                  <a:ext cx="2556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 flipH="1" flipV="1">
                  <a:off x="2453760" y="2542680"/>
                  <a:ext cx="127080" cy="84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 flipH="1" flipV="1">
                  <a:off x="2455200" y="2542680"/>
                  <a:ext cx="125640" cy="84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 flipH="1" flipV="1">
                  <a:off x="2455200" y="2542680"/>
                  <a:ext cx="125640" cy="84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 flipH="1">
                  <a:off x="2584080" y="1841040"/>
                  <a:ext cx="146160" cy="3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 flipH="1">
                  <a:off x="2584080" y="1841040"/>
                  <a:ext cx="146160" cy="3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 flipH="1">
                  <a:off x="2584080" y="1844280"/>
                  <a:ext cx="146160" cy="28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 flipH="1">
                  <a:off x="2328120" y="1306080"/>
                  <a:ext cx="10332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 flipH="1">
                  <a:off x="2328480" y="1306080"/>
                  <a:ext cx="10656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 flipH="1">
                  <a:off x="2333520" y="1311120"/>
                  <a:ext cx="10296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 flipH="1">
                  <a:off x="2333520" y="1311120"/>
                  <a:ext cx="10296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 flipH="1">
                  <a:off x="2333160" y="1311120"/>
                  <a:ext cx="10620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flipH="1">
                  <a:off x="1905840" y="1042560"/>
                  <a:ext cx="320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 flipH="1">
                  <a:off x="1905840" y="1042560"/>
                  <a:ext cx="3492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flipH="1">
                  <a:off x="1863000" y="1033200"/>
                  <a:ext cx="270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1580760" y="10285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flipH="1">
                  <a:off x="1904760" y="1042560"/>
                  <a:ext cx="316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flipH="1">
                  <a:off x="1904760" y="1042560"/>
                  <a:ext cx="316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1587240" y="1026720"/>
                  <a:ext cx="1908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1585800" y="1026720"/>
                  <a:ext cx="1908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1580760" y="10285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777600" y="161892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777600" y="1615680"/>
                  <a:ext cx="13644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777600" y="1615680"/>
                  <a:ext cx="13644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777600" y="1615680"/>
                  <a:ext cx="13644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777600" y="1615680"/>
                  <a:ext cx="13644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777600" y="1615680"/>
                  <a:ext cx="13644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779400" y="1615680"/>
                  <a:ext cx="134640" cy="63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779400" y="1615680"/>
                  <a:ext cx="134640" cy="63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779400" y="1615680"/>
                  <a:ext cx="136440" cy="63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779400" y="1614240"/>
                  <a:ext cx="13644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779400" y="1614240"/>
                  <a:ext cx="13644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flipH="1" flipV="1">
                  <a:off x="1995120" y="2895120"/>
                  <a:ext cx="46080" cy="144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1661760" y="1022040"/>
                  <a:ext cx="97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1614240" y="1023480"/>
                  <a:ext cx="1440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1503000" y="1041120"/>
                  <a:ext cx="320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1401480" y="1069560"/>
                  <a:ext cx="4464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1355400" y="1083960"/>
                  <a:ext cx="5256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flipV="1">
                  <a:off x="688680" y="2163600"/>
                  <a:ext cx="147600" cy="17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flipV="1">
                  <a:off x="688680" y="2166480"/>
                  <a:ext cx="150840" cy="15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flipV="1">
                  <a:off x="693360" y="2192040"/>
                  <a:ext cx="147600" cy="23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 flipV="1">
                  <a:off x="693360" y="2192040"/>
                  <a:ext cx="147600" cy="2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flipV="1">
                  <a:off x="693360" y="2192040"/>
                  <a:ext cx="147600" cy="2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flipV="1">
                  <a:off x="704520" y="2243880"/>
                  <a:ext cx="146160" cy="3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flipV="1">
                  <a:off x="704520" y="2242440"/>
                  <a:ext cx="146160" cy="3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flipV="1">
                  <a:off x="704520" y="2242440"/>
                  <a:ext cx="146160" cy="3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 flipV="1">
                  <a:off x="704520" y="2242800"/>
                  <a:ext cx="146160" cy="3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flipV="1">
                  <a:off x="704520" y="2242800"/>
                  <a:ext cx="146160" cy="3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 flipV="1">
                  <a:off x="714240" y="2280600"/>
                  <a:ext cx="145800" cy="36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 flipV="1">
                  <a:off x="714240" y="2279160"/>
                  <a:ext cx="14580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flipV="1">
                  <a:off x="714240" y="2278800"/>
                  <a:ext cx="14580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 flipV="1">
                  <a:off x="757080" y="2388960"/>
                  <a:ext cx="139680" cy="5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 flipV="1">
                  <a:off x="760320" y="239328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flipV="1">
                  <a:off x="1238040" y="2839680"/>
                  <a:ext cx="6984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flipV="1">
                  <a:off x="1292040" y="2861640"/>
                  <a:ext cx="601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 flipV="1">
                  <a:off x="1290240" y="2861640"/>
                  <a:ext cx="619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V="1">
                  <a:off x="1577880" y="2931480"/>
                  <a:ext cx="1908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flipV="1">
                  <a:off x="1577880" y="2931480"/>
                  <a:ext cx="1908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 flipH="1" flipV="1">
                  <a:off x="1774080" y="2938320"/>
                  <a:ext cx="972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flipH="1" flipV="1">
                  <a:off x="1872720" y="2927160"/>
                  <a:ext cx="270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 flipH="1" flipV="1">
                  <a:off x="1910880" y="2918880"/>
                  <a:ext cx="349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 flipH="1" flipV="1">
                  <a:off x="2049120" y="287640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flipH="1" flipV="1">
                  <a:off x="2045520" y="2876400"/>
                  <a:ext cx="5724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 flipH="1" flipV="1">
                  <a:off x="2049120" y="287640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flipH="1" flipV="1">
                  <a:off x="2122200" y="2842920"/>
                  <a:ext cx="6840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flipH="1" flipV="1">
                  <a:off x="2201400" y="2796840"/>
                  <a:ext cx="824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flipH="1" flipV="1">
                  <a:off x="2199960" y="279684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flipH="1" flipV="1">
                  <a:off x="2379240" y="2642760"/>
                  <a:ext cx="112680" cy="98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flipH="1" flipV="1">
                  <a:off x="2379240" y="2642760"/>
                  <a:ext cx="112680" cy="98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flipH="1" flipV="1">
                  <a:off x="2453760" y="2544120"/>
                  <a:ext cx="127080" cy="82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flipH="1" flipV="1">
                  <a:off x="2454120" y="2544120"/>
                  <a:ext cx="125280" cy="82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flipH="1" flipV="1">
                  <a:off x="2556720" y="2336040"/>
                  <a:ext cx="141480" cy="47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H="1" flipV="1">
                  <a:off x="2556720" y="2336040"/>
                  <a:ext cx="141480" cy="47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 flipH="1">
                  <a:off x="2598120" y="1964880"/>
                  <a:ext cx="15084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 flipH="1">
                  <a:off x="2598120" y="1964880"/>
                  <a:ext cx="15084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 flipH="1">
                  <a:off x="2598120" y="1964880"/>
                  <a:ext cx="150840" cy="1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flipH="1">
                  <a:off x="2598120" y="1966680"/>
                  <a:ext cx="150840" cy="12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flipH="1">
                  <a:off x="2598120" y="1966680"/>
                  <a:ext cx="150840" cy="12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flipH="1">
                  <a:off x="2598120" y="1962000"/>
                  <a:ext cx="150840" cy="14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 flipH="1">
                  <a:off x="2598120" y="1962000"/>
                  <a:ext cx="150840" cy="14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 flipH="1">
                  <a:off x="2598120" y="1962000"/>
                  <a:ext cx="150840" cy="14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flipH="1">
                  <a:off x="2598120" y="1964880"/>
                  <a:ext cx="15084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 flipH="1">
                  <a:off x="2584080" y="183636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 flipH="1">
                  <a:off x="2584080" y="1839600"/>
                  <a:ext cx="146160" cy="3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H="1">
                  <a:off x="2584080" y="1839600"/>
                  <a:ext cx="146160" cy="3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 flipH="1">
                  <a:off x="2584080" y="1839600"/>
                  <a:ext cx="146160" cy="3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 flipH="1">
                  <a:off x="2584080" y="1841040"/>
                  <a:ext cx="146160" cy="3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H="1">
                  <a:off x="2473200" y="1515600"/>
                  <a:ext cx="126720" cy="79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 flipH="1">
                  <a:off x="2331360" y="1309320"/>
                  <a:ext cx="10332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 flipH="1">
                  <a:off x="2331360" y="1309320"/>
                  <a:ext cx="10332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flipH="1">
                  <a:off x="1881000" y="1036440"/>
                  <a:ext cx="252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 flipH="1">
                  <a:off x="1881000" y="1036440"/>
                  <a:ext cx="252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 flipH="1">
                  <a:off x="1881000" y="1036440"/>
                  <a:ext cx="252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flipH="1">
                  <a:off x="1881000" y="1036440"/>
                  <a:ext cx="252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flipH="1">
                  <a:off x="1881000" y="1036440"/>
                  <a:ext cx="252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747360" y="1688760"/>
                  <a:ext cx="139680" cy="5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712440" y="180612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712440" y="180612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712440" y="180612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712440" y="180612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698400" y="1873080"/>
                  <a:ext cx="145800" cy="2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 flipH="1" flipV="1">
                  <a:off x="1870920" y="2927160"/>
                  <a:ext cx="2556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 flipH="1" flipV="1">
                  <a:off x="1870920" y="2927160"/>
                  <a:ext cx="2556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flipH="1" flipV="1">
                  <a:off x="1868040" y="2927160"/>
                  <a:ext cx="270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 flipH="1" flipV="1">
                  <a:off x="1868040" y="2927160"/>
                  <a:ext cx="270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 flipH="1" flipV="1">
                  <a:off x="1868400" y="2927160"/>
                  <a:ext cx="2376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1261800" y="1125360"/>
                  <a:ext cx="6516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1257120" y="1126800"/>
                  <a:ext cx="6660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1257120" y="1126800"/>
                  <a:ext cx="6660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1177560" y="1169640"/>
                  <a:ext cx="79560" cy="130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1177560" y="1169640"/>
                  <a:ext cx="79560" cy="130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760320" y="165708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760320" y="165708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760320" y="165708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 flipH="1">
                  <a:off x="2355120" y="1338120"/>
                  <a:ext cx="11124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1299960" y="1107720"/>
                  <a:ext cx="601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1299960" y="1106280"/>
                  <a:ext cx="61920" cy="137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 flipV="1">
                  <a:off x="703080" y="2229840"/>
                  <a:ext cx="146160" cy="28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929880" y="1380960"/>
                  <a:ext cx="11304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 flipH="1" flipV="1">
                  <a:off x="2293560" y="2725200"/>
                  <a:ext cx="98640" cy="114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 flipH="1" flipV="1">
                  <a:off x="2293560" y="2726640"/>
                  <a:ext cx="9864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 flipH="1" flipV="1">
                  <a:off x="2581200" y="2242800"/>
                  <a:ext cx="149040" cy="3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flipH="1" flipV="1">
                  <a:off x="2584080" y="2239560"/>
                  <a:ext cx="146160" cy="3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 flipH="1">
                  <a:off x="2487240" y="1547640"/>
                  <a:ext cx="131760" cy="72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 flipH="1">
                  <a:off x="2490120" y="1549080"/>
                  <a:ext cx="128520" cy="71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H="1">
                  <a:off x="2415960" y="1417320"/>
                  <a:ext cx="11736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1582560" y="10285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1582560" y="10285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1582560" y="10285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1585800" y="1026720"/>
                  <a:ext cx="1908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 flipV="1">
                  <a:off x="1558800" y="2931840"/>
                  <a:ext cx="2376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V="1">
                  <a:off x="1558800" y="2931840"/>
                  <a:ext cx="2376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 flipV="1">
                  <a:off x="1277640" y="2856960"/>
                  <a:ext cx="637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 flipH="1">
                  <a:off x="2599560" y="1985760"/>
                  <a:ext cx="14940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1631880" y="1023480"/>
                  <a:ext cx="1080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 flipH="1" flipV="1">
                  <a:off x="2505960" y="2453760"/>
                  <a:ext cx="135000" cy="66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 flipV="1">
                  <a:off x="1112760" y="2774520"/>
                  <a:ext cx="8892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flipH="1" flipV="1">
                  <a:off x="1998360" y="2894760"/>
                  <a:ext cx="4752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 flipH="1" flipV="1">
                  <a:off x="2000160" y="2891880"/>
                  <a:ext cx="4896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 flipH="1" flipV="1">
                  <a:off x="2598480" y="2144160"/>
                  <a:ext cx="147600" cy="14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flipH="1" flipV="1">
                  <a:off x="2598480" y="2144160"/>
                  <a:ext cx="147600" cy="14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 flipH="1">
                  <a:off x="2021760" y="1080720"/>
                  <a:ext cx="5076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736200" y="1722240"/>
                  <a:ext cx="141480" cy="4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736200" y="1722240"/>
                  <a:ext cx="141480" cy="4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 flipH="1">
                  <a:off x="1745640" y="1018800"/>
                  <a:ext cx="468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 flipH="1">
                  <a:off x="1745640" y="1018800"/>
                  <a:ext cx="468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 flipH="1">
                  <a:off x="1745640" y="1018800"/>
                  <a:ext cx="468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flipH="1">
                  <a:off x="1745640" y="1018800"/>
                  <a:ext cx="468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 flipV="1">
                  <a:off x="877680" y="2572560"/>
                  <a:ext cx="120600" cy="87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 flipV="1">
                  <a:off x="876240" y="2571120"/>
                  <a:ext cx="12204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flipH="1" flipV="1">
                  <a:off x="2271240" y="2744640"/>
                  <a:ext cx="96840" cy="117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 flipV="1">
                  <a:off x="765000" y="2405880"/>
                  <a:ext cx="139680" cy="5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 flipH="1" flipV="1">
                  <a:off x="2009160" y="2890080"/>
                  <a:ext cx="4932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flipH="1" flipV="1">
                  <a:off x="2009160" y="2890080"/>
                  <a:ext cx="4932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 flipH="1">
                  <a:off x="1792080" y="1023480"/>
                  <a:ext cx="1440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 flipH="1">
                  <a:off x="1792080" y="1023480"/>
                  <a:ext cx="1440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 flipH="1" flipV="1">
                  <a:off x="2408040" y="2607840"/>
                  <a:ext cx="11736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709200" y="181260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709200" y="181260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1125360" y="1206000"/>
                  <a:ext cx="8424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1125360" y="1206000"/>
                  <a:ext cx="8424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 flipH="1" flipV="1">
                  <a:off x="2509200" y="2449080"/>
                  <a:ext cx="133560" cy="66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H="1">
                  <a:off x="2599560" y="1995120"/>
                  <a:ext cx="15084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1674720" y="1018800"/>
                  <a:ext cx="612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 flipH="1" flipV="1">
                  <a:off x="2039760" y="2877480"/>
                  <a:ext cx="5400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flipH="1" flipV="1">
                  <a:off x="2106000" y="2849400"/>
                  <a:ext cx="66600" cy="134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1037880" y="1271160"/>
                  <a:ext cx="98640" cy="114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 flipV="1">
                  <a:off x="876240" y="2567880"/>
                  <a:ext cx="1188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flipV="1">
                  <a:off x="896760" y="2598120"/>
                  <a:ext cx="12060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 flipV="1">
                  <a:off x="896760" y="2595240"/>
                  <a:ext cx="12060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 flipV="1">
                  <a:off x="896760" y="2595240"/>
                  <a:ext cx="12060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 flipV="1">
                  <a:off x="896760" y="2595240"/>
                  <a:ext cx="12060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flipV="1">
                  <a:off x="896760" y="2595240"/>
                  <a:ext cx="12060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 flipV="1">
                  <a:off x="896760" y="2594880"/>
                  <a:ext cx="12060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 flipV="1">
                  <a:off x="896760" y="2594880"/>
                  <a:ext cx="12060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flipV="1">
                  <a:off x="896760" y="2594880"/>
                  <a:ext cx="12060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 flipV="1">
                  <a:off x="919080" y="2618640"/>
                  <a:ext cx="114120" cy="96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 flipV="1">
                  <a:off x="919080" y="2618640"/>
                  <a:ext cx="114120" cy="96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flipH="1" flipV="1">
                  <a:off x="2505960" y="2455560"/>
                  <a:ext cx="135000" cy="68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 flipH="1" flipV="1">
                  <a:off x="2506320" y="2455560"/>
                  <a:ext cx="13176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 flipH="1" flipV="1">
                  <a:off x="2506320" y="2455560"/>
                  <a:ext cx="13176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flipH="1">
                  <a:off x="2603160" y="2017440"/>
                  <a:ext cx="14760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 flipH="1">
                  <a:off x="2603160" y="2017440"/>
                  <a:ext cx="14760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 flipH="1" flipV="1">
                  <a:off x="1985760" y="2896560"/>
                  <a:ext cx="4608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flipH="1" flipV="1">
                  <a:off x="1985760" y="2896560"/>
                  <a:ext cx="4608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 flipV="1">
                  <a:off x="846000" y="2534760"/>
                  <a:ext cx="127080" cy="82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769680" y="1636560"/>
                  <a:ext cx="136440" cy="5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723600" y="1755360"/>
                  <a:ext cx="144360" cy="4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 flipH="1">
                  <a:off x="2408040" y="1409400"/>
                  <a:ext cx="11736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1047600" y="1263240"/>
                  <a:ext cx="98280" cy="115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flipV="1">
                  <a:off x="774360" y="2425320"/>
                  <a:ext cx="13680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 flipH="1">
                  <a:off x="1834560" y="10285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863280" y="1468080"/>
                  <a:ext cx="125640" cy="85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flipH="1">
                  <a:off x="1848960" y="1031400"/>
                  <a:ext cx="2196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 flipH="1">
                  <a:off x="1848960" y="1031400"/>
                  <a:ext cx="2196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 flipH="1">
                  <a:off x="1849320" y="1031400"/>
                  <a:ext cx="2376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 flipV="1">
                  <a:off x="1549080" y="2928240"/>
                  <a:ext cx="2376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 flipV="1">
                  <a:off x="685440" y="2134800"/>
                  <a:ext cx="149400" cy="1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 flipV="1">
                  <a:off x="685440" y="2134800"/>
                  <a:ext cx="149400" cy="1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1427040" y="1060200"/>
                  <a:ext cx="4284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1366560" y="1079280"/>
                  <a:ext cx="5076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 flipV="1">
                  <a:off x="680760" y="2074680"/>
                  <a:ext cx="150840" cy="2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 flipV="1">
                  <a:off x="680760" y="2074680"/>
                  <a:ext cx="150840" cy="2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 flipV="1">
                  <a:off x="680760" y="2074680"/>
                  <a:ext cx="150840" cy="2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 flipV="1">
                  <a:off x="680760" y="2074320"/>
                  <a:ext cx="15084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 flipV="1">
                  <a:off x="680760" y="2074320"/>
                  <a:ext cx="15084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flipV="1">
                  <a:off x="680760" y="2077560"/>
                  <a:ext cx="150840" cy="5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 flipV="1">
                  <a:off x="680760" y="2079000"/>
                  <a:ext cx="15084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 flipV="1">
                  <a:off x="680760" y="2079000"/>
                  <a:ext cx="15084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 flipV="1">
                  <a:off x="680760" y="2082240"/>
                  <a:ext cx="15084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 flipV="1">
                  <a:off x="680760" y="2083680"/>
                  <a:ext cx="15084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 flipV="1">
                  <a:off x="680760" y="2083680"/>
                  <a:ext cx="15084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flipV="1">
                  <a:off x="680760" y="2083680"/>
                  <a:ext cx="15084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 flipV="1">
                  <a:off x="680760" y="2083680"/>
                  <a:ext cx="15084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 flipV="1">
                  <a:off x="680760" y="2083680"/>
                  <a:ext cx="15084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flipV="1">
                  <a:off x="680760" y="2083680"/>
                  <a:ext cx="15084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 flipV="1">
                  <a:off x="817200" y="2494800"/>
                  <a:ext cx="130320" cy="73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 flipV="1">
                  <a:off x="1091880" y="2760120"/>
                  <a:ext cx="9072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V="1">
                  <a:off x="1487160" y="2918880"/>
                  <a:ext cx="334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 flipV="1">
                  <a:off x="1487160" y="2918880"/>
                  <a:ext cx="334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 flipV="1">
                  <a:off x="1487160" y="2918880"/>
                  <a:ext cx="334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 flipV="1">
                  <a:off x="1585800" y="2932920"/>
                  <a:ext cx="1908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 flipV="1">
                  <a:off x="1638000" y="2938320"/>
                  <a:ext cx="126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 flipH="1">
                  <a:off x="2599560" y="1980720"/>
                  <a:ext cx="14940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 flipH="1">
                  <a:off x="2599560" y="1979280"/>
                  <a:ext cx="14940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 flipH="1">
                  <a:off x="2599560" y="1980720"/>
                  <a:ext cx="14940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flipH="1">
                  <a:off x="2598120" y="1960200"/>
                  <a:ext cx="150840" cy="1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flipH="1">
                  <a:off x="2589120" y="1871280"/>
                  <a:ext cx="147600" cy="25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 flipH="1">
                  <a:off x="2525040" y="163332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 flipH="1">
                  <a:off x="2244240" y="1223640"/>
                  <a:ext cx="88920" cy="119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747360" y="1688760"/>
                  <a:ext cx="139680" cy="5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698400" y="1868040"/>
                  <a:ext cx="147600" cy="2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 flipH="1">
                  <a:off x="1861560" y="1033200"/>
                  <a:ext cx="255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 flipH="1">
                  <a:off x="1861560" y="1033200"/>
                  <a:ext cx="255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929880" y="1380960"/>
                  <a:ext cx="11304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 flipH="1">
                  <a:off x="2415960" y="1417320"/>
                  <a:ext cx="11736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 flipH="1" flipV="1">
                  <a:off x="1950840" y="2909160"/>
                  <a:ext cx="396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685440" y="1962000"/>
                  <a:ext cx="149400" cy="14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flipH="1">
                  <a:off x="2557080" y="1728360"/>
                  <a:ext cx="144720" cy="4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 flipH="1">
                  <a:off x="2557080" y="1728360"/>
                  <a:ext cx="144720" cy="4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 flipV="1">
                  <a:off x="717480" y="2288880"/>
                  <a:ext cx="145800" cy="39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1562040" y="1031400"/>
                  <a:ext cx="2052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817200" y="1539720"/>
                  <a:ext cx="130320" cy="74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817200" y="1539720"/>
                  <a:ext cx="130320" cy="74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947520" y="1361880"/>
                  <a:ext cx="112680" cy="101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 flipV="1">
                  <a:off x="901440" y="2603160"/>
                  <a:ext cx="12060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 flipV="1">
                  <a:off x="1312560" y="2871360"/>
                  <a:ext cx="5868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 flipV="1">
                  <a:off x="1312560" y="2871360"/>
                  <a:ext cx="5868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 flipV="1">
                  <a:off x="1477800" y="2917440"/>
                  <a:ext cx="3312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 flipV="1">
                  <a:off x="1657080" y="2938320"/>
                  <a:ext cx="972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 flipH="1" flipV="1">
                  <a:off x="2018880" y="2887200"/>
                  <a:ext cx="5076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 flipH="1" flipV="1">
                  <a:off x="2180520" y="2809080"/>
                  <a:ext cx="79560" cy="127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 flipH="1" flipV="1">
                  <a:off x="2180520" y="2809440"/>
                  <a:ext cx="79560" cy="128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 flipH="1" flipV="1">
                  <a:off x="2180520" y="2809440"/>
                  <a:ext cx="79560" cy="128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 flipH="1" flipV="1">
                  <a:off x="2214360" y="2787480"/>
                  <a:ext cx="8568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 flipH="1" flipV="1">
                  <a:off x="2214360" y="278748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 flipH="1" flipV="1">
                  <a:off x="2229840" y="2774520"/>
                  <a:ext cx="8748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 flipH="1" flipV="1">
                  <a:off x="2229840" y="2774520"/>
                  <a:ext cx="8748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 flipH="1" flipV="1">
                  <a:off x="2309040" y="2710800"/>
                  <a:ext cx="1018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 flipH="1" flipV="1">
                  <a:off x="2312640" y="2711160"/>
                  <a:ext cx="10008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 flipH="1" flipV="1">
                  <a:off x="2342880" y="2679480"/>
                  <a:ext cx="10656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flipH="1" flipV="1">
                  <a:off x="2424960" y="2585880"/>
                  <a:ext cx="119160" cy="88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 flipH="1" flipV="1">
                  <a:off x="2424960" y="2585880"/>
                  <a:ext cx="119160" cy="88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 flipH="1" flipV="1">
                  <a:off x="2424960" y="2585520"/>
                  <a:ext cx="1191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 flipH="1" flipV="1">
                  <a:off x="2466360" y="252540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 flipH="1" flipV="1">
                  <a:off x="2506320" y="2455560"/>
                  <a:ext cx="13176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 flipH="1" flipV="1">
                  <a:off x="2504880" y="2458440"/>
                  <a:ext cx="133200" cy="66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 flipH="1" flipV="1">
                  <a:off x="2504880" y="2458800"/>
                  <a:ext cx="13320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 flipH="1" flipV="1">
                  <a:off x="2569680" y="2293560"/>
                  <a:ext cx="142920" cy="39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 flipH="1">
                  <a:off x="2599560" y="2012760"/>
                  <a:ext cx="15084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 flipH="1">
                  <a:off x="2594880" y="1933200"/>
                  <a:ext cx="14940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 flipH="1">
                  <a:off x="2594880" y="1935000"/>
                  <a:ext cx="150840" cy="17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H="1">
                  <a:off x="2492280" y="1557000"/>
                  <a:ext cx="131760" cy="71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 flipV="1">
                  <a:off x="1488960" y="2918880"/>
                  <a:ext cx="349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 flipV="1">
                  <a:off x="1488960" y="2918880"/>
                  <a:ext cx="349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 flipV="1">
                  <a:off x="1488960" y="2918880"/>
                  <a:ext cx="349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 flipV="1">
                  <a:off x="1488960" y="2918880"/>
                  <a:ext cx="316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V="1">
                  <a:off x="1488960" y="2918880"/>
                  <a:ext cx="316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 flipV="1">
                  <a:off x="981000" y="2679120"/>
                  <a:ext cx="10764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 flipH="1" flipV="1">
                  <a:off x="2554200" y="2342520"/>
                  <a:ext cx="142560" cy="4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 flipV="1">
                  <a:off x="699840" y="2220120"/>
                  <a:ext cx="146160" cy="2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1614240" y="1023480"/>
                  <a:ext cx="1764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1525320" y="1036440"/>
                  <a:ext cx="284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1525320" y="1036440"/>
                  <a:ext cx="284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1528560" y="1036440"/>
                  <a:ext cx="252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1528560" y="1036440"/>
                  <a:ext cx="252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1528560" y="1036440"/>
                  <a:ext cx="252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1528560" y="1036440"/>
                  <a:ext cx="252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1365120" y="1080720"/>
                  <a:ext cx="5220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1365120" y="1080720"/>
                  <a:ext cx="522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 flipH="1" flipV="1">
                  <a:off x="2238120" y="2769840"/>
                  <a:ext cx="8568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flipH="1" flipV="1">
                  <a:off x="2234520" y="2772720"/>
                  <a:ext cx="88920" cy="119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704520" y="1830240"/>
                  <a:ext cx="146160" cy="33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flipH="1" flipV="1">
                  <a:off x="2341080" y="2683800"/>
                  <a:ext cx="10476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 flipH="1" flipV="1">
                  <a:off x="1901520" y="2922120"/>
                  <a:ext cx="316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 flipH="1" flipV="1">
                  <a:off x="1901520" y="2922120"/>
                  <a:ext cx="316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flipH="1" flipV="1">
                  <a:off x="1900080" y="2922120"/>
                  <a:ext cx="3312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flipH="1" flipV="1">
                  <a:off x="1788480" y="2938320"/>
                  <a:ext cx="126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flipH="1" flipV="1">
                  <a:off x="1792080" y="2936160"/>
                  <a:ext cx="1440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1257120" y="1126800"/>
                  <a:ext cx="6660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1258560" y="1125360"/>
                  <a:ext cx="6840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1238040" y="1136160"/>
                  <a:ext cx="6984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flipH="1" flipV="1">
                  <a:off x="2505960" y="2453760"/>
                  <a:ext cx="135000" cy="66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990360" y="1317240"/>
                  <a:ext cx="10620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>
                  <a:off x="990360" y="1317240"/>
                  <a:ext cx="10620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>
                  <a:off x="990360" y="1317240"/>
                  <a:ext cx="10620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985680" y="1321920"/>
                  <a:ext cx="10800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>
                  <a:off x="876240" y="1450800"/>
                  <a:ext cx="12204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>
                  <a:off x="876240" y="1450800"/>
                  <a:ext cx="122040" cy="87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836280" y="1506240"/>
                  <a:ext cx="13032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 flipH="1">
                  <a:off x="2264760" y="1239480"/>
                  <a:ext cx="90360" cy="117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>
                  <a:off x="811080" y="1552320"/>
                  <a:ext cx="131760" cy="73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801360" y="1572840"/>
                  <a:ext cx="13176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>
                  <a:off x="801360" y="1572840"/>
                  <a:ext cx="13176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 flipH="1" flipV="1">
                  <a:off x="2431440" y="2575800"/>
                  <a:ext cx="1206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 flipH="1">
                  <a:off x="1779120" y="1022040"/>
                  <a:ext cx="1260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 flipH="1">
                  <a:off x="1782000" y="1022040"/>
                  <a:ext cx="1116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 flipH="1">
                  <a:off x="2599560" y="1998360"/>
                  <a:ext cx="150840" cy="6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 flipH="1">
                  <a:off x="2599560" y="1998360"/>
                  <a:ext cx="1508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 flipV="1">
                  <a:off x="836280" y="252396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 flipV="1">
                  <a:off x="836280" y="252072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 flipH="1" flipV="1">
                  <a:off x="2544480" y="2366640"/>
                  <a:ext cx="139680" cy="5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 flipH="1" flipV="1">
                  <a:off x="2544480" y="2369520"/>
                  <a:ext cx="13968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 flipH="1" flipV="1">
                  <a:off x="2544480" y="2369520"/>
                  <a:ext cx="13968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 flipH="1" flipV="1">
                  <a:off x="2544480" y="2369520"/>
                  <a:ext cx="13968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 flipV="1">
                  <a:off x="684000" y="2106000"/>
                  <a:ext cx="147600" cy="6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 flipV="1">
                  <a:off x="684000" y="2103120"/>
                  <a:ext cx="14760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 flipV="1">
                  <a:off x="1493640" y="2918880"/>
                  <a:ext cx="316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 flipV="1">
                  <a:off x="684000" y="2096640"/>
                  <a:ext cx="147600" cy="6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 flipH="1">
                  <a:off x="2530080" y="1645920"/>
                  <a:ext cx="136800" cy="5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 flipV="1">
                  <a:off x="772920" y="2417040"/>
                  <a:ext cx="136440" cy="63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 flipV="1">
                  <a:off x="1230120" y="2838240"/>
                  <a:ext cx="6984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 flipH="1" flipV="1">
                  <a:off x="2147400" y="2828520"/>
                  <a:ext cx="7308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 flipH="1" flipV="1">
                  <a:off x="2444400" y="2558880"/>
                  <a:ext cx="122400" cy="87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 flipH="1" flipV="1">
                  <a:off x="2473200" y="2516040"/>
                  <a:ext cx="12672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 flipH="1" flipV="1">
                  <a:off x="2471040" y="2516040"/>
                  <a:ext cx="12852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 flipH="1">
                  <a:off x="2537640" y="1665000"/>
                  <a:ext cx="14004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 flipH="1" flipV="1">
                  <a:off x="1769400" y="2938320"/>
                  <a:ext cx="972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 flipH="1">
                  <a:off x="2383920" y="1374480"/>
                  <a:ext cx="11268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 flipH="1" flipV="1">
                  <a:off x="2086920" y="2858400"/>
                  <a:ext cx="6516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 flipH="1" flipV="1">
                  <a:off x="2250720" y="2760120"/>
                  <a:ext cx="9072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 flipH="1" flipV="1">
                  <a:off x="2444040" y="2558520"/>
                  <a:ext cx="125640" cy="83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 flipH="1" flipV="1">
                  <a:off x="2603160" y="2082240"/>
                  <a:ext cx="14760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 flipH="1">
                  <a:off x="2515680" y="1606320"/>
                  <a:ext cx="13500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 flipV="1">
                  <a:off x="684000" y="2125080"/>
                  <a:ext cx="15084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 flipV="1">
                  <a:off x="699840" y="2220480"/>
                  <a:ext cx="146160" cy="28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1458720" y="1052280"/>
                  <a:ext cx="3492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1458720" y="1052280"/>
                  <a:ext cx="3816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 flipH="1" flipV="1">
                  <a:off x="1837800" y="2931840"/>
                  <a:ext cx="190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 flipH="1">
                  <a:off x="1931400" y="1050480"/>
                  <a:ext cx="3492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1537920" y="1036440"/>
                  <a:ext cx="241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1537920" y="1036440"/>
                  <a:ext cx="241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1537920" y="1036440"/>
                  <a:ext cx="241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1537920" y="1033200"/>
                  <a:ext cx="255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 flipH="1">
                  <a:off x="2500200" y="1571400"/>
                  <a:ext cx="133200" cy="71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 flipH="1">
                  <a:off x="2500200" y="1572840"/>
                  <a:ext cx="13320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 flipH="1">
                  <a:off x="2500200" y="1572840"/>
                  <a:ext cx="13320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 flipH="1">
                  <a:off x="2558520" y="1733400"/>
                  <a:ext cx="142920" cy="45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 flipH="1">
                  <a:off x="2558520" y="1741320"/>
                  <a:ext cx="144360" cy="45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 flipH="1" flipV="1">
                  <a:off x="2446200" y="2557080"/>
                  <a:ext cx="123840" cy="84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 flipH="1" flipV="1">
                  <a:off x="2472840" y="2514240"/>
                  <a:ext cx="129960" cy="76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 flipH="1" flipV="1">
                  <a:off x="2476440" y="2510640"/>
                  <a:ext cx="126720" cy="79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 flipH="1" flipV="1">
                  <a:off x="2501640" y="2464920"/>
                  <a:ext cx="13176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 flipH="1">
                  <a:off x="2537640" y="1665000"/>
                  <a:ext cx="14004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 flipH="1">
                  <a:off x="2250360" y="1228320"/>
                  <a:ext cx="87480" cy="119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 flipV="1">
                  <a:off x="684000" y="2121840"/>
                  <a:ext cx="150840" cy="12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 flipH="1" flipV="1">
                  <a:off x="1765080" y="2938320"/>
                  <a:ext cx="936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 flipV="1">
                  <a:off x="698400" y="2215440"/>
                  <a:ext cx="147600" cy="2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695160" y="1882440"/>
                  <a:ext cx="149040" cy="23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1535040" y="1036440"/>
                  <a:ext cx="2700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703080" y="1847520"/>
                  <a:ext cx="146160" cy="30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 flipH="1" flipV="1">
                  <a:off x="2496960" y="2472480"/>
                  <a:ext cx="131760" cy="71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 flipH="1" flipV="1">
                  <a:off x="2562120" y="2322000"/>
                  <a:ext cx="141120" cy="44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flipH="1">
                  <a:off x="2523600" y="1625400"/>
                  <a:ext cx="136440" cy="63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 flipH="1">
                  <a:off x="2523600" y="162828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flipH="1" flipV="1">
                  <a:off x="1825560" y="2932920"/>
                  <a:ext cx="1728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846000" y="1493640"/>
                  <a:ext cx="125280" cy="82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846000" y="1493640"/>
                  <a:ext cx="125280" cy="82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 flipH="1">
                  <a:off x="2556720" y="1726920"/>
                  <a:ext cx="141480" cy="4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flipH="1">
                  <a:off x="1933200" y="1050480"/>
                  <a:ext cx="3672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 flipH="1" flipV="1">
                  <a:off x="2110680" y="2847240"/>
                  <a:ext cx="66600" cy="133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698400" y="1873080"/>
                  <a:ext cx="145800" cy="2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 flipV="1">
                  <a:off x="803160" y="2472480"/>
                  <a:ext cx="131760" cy="71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 flipV="1">
                  <a:off x="806040" y="2474280"/>
                  <a:ext cx="131760" cy="73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 flipH="1" flipV="1">
                  <a:off x="2552040" y="2350440"/>
                  <a:ext cx="14148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 flipH="1">
                  <a:off x="2122200" y="1134720"/>
                  <a:ext cx="6984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 flipH="1">
                  <a:off x="2379240" y="1369800"/>
                  <a:ext cx="11268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1665000" y="1022040"/>
                  <a:ext cx="64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1665000" y="1022040"/>
                  <a:ext cx="64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1665000" y="1022040"/>
                  <a:ext cx="64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 flipV="1">
                  <a:off x="745920" y="2360160"/>
                  <a:ext cx="139680" cy="5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flipV="1">
                  <a:off x="901440" y="2599920"/>
                  <a:ext cx="11736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 flipV="1">
                  <a:off x="901440" y="2599920"/>
                  <a:ext cx="11736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 flipV="1">
                  <a:off x="901440" y="2599920"/>
                  <a:ext cx="11736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 flipV="1">
                  <a:off x="901440" y="2599920"/>
                  <a:ext cx="11736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 flipV="1">
                  <a:off x="988920" y="2684160"/>
                  <a:ext cx="10476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 flipV="1">
                  <a:off x="1468080" y="2914200"/>
                  <a:ext cx="3492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 flipH="1" flipV="1">
                  <a:off x="2283840" y="2734920"/>
                  <a:ext cx="95400" cy="114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 flipH="1" flipV="1">
                  <a:off x="2283840" y="2734920"/>
                  <a:ext cx="95400" cy="114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 flipH="1" flipV="1">
                  <a:off x="2283840" y="2734920"/>
                  <a:ext cx="95400" cy="114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 flipH="1" flipV="1">
                  <a:off x="2283840" y="2734920"/>
                  <a:ext cx="95400" cy="114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 flipH="1" flipV="1">
                  <a:off x="2461680" y="2534760"/>
                  <a:ext cx="127080" cy="82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 flipH="1" flipV="1">
                  <a:off x="2462040" y="2534760"/>
                  <a:ext cx="123840" cy="82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 flipH="1">
                  <a:off x="2598120" y="1969920"/>
                  <a:ext cx="150840" cy="10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 flipH="1">
                  <a:off x="2599560" y="1969920"/>
                  <a:ext cx="149400" cy="10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 flipH="1">
                  <a:off x="2593800" y="1910880"/>
                  <a:ext cx="147600" cy="2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 flipH="1">
                  <a:off x="2593800" y="1914120"/>
                  <a:ext cx="14760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 flipH="1">
                  <a:off x="2528640" y="1642680"/>
                  <a:ext cx="138240" cy="6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 flipH="1">
                  <a:off x="2304720" y="1280880"/>
                  <a:ext cx="9864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 flipH="1" flipV="1">
                  <a:off x="1857240" y="2928240"/>
                  <a:ext cx="2376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 flipH="1" flipV="1">
                  <a:off x="1854000" y="2928240"/>
                  <a:ext cx="2232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867960" y="1460160"/>
                  <a:ext cx="122400" cy="87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 flipH="1" flipV="1">
                  <a:off x="2431440" y="2577240"/>
                  <a:ext cx="120600" cy="87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 flipH="1" flipV="1">
                  <a:off x="2431440" y="2577240"/>
                  <a:ext cx="1206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 flipH="1" flipV="1">
                  <a:off x="2431440" y="2577240"/>
                  <a:ext cx="1206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 flipH="1" flipV="1">
                  <a:off x="2430000" y="2577240"/>
                  <a:ext cx="12204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 flipH="1">
                  <a:off x="1983960" y="1066320"/>
                  <a:ext cx="44640" cy="144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 flipV="1">
                  <a:off x="1439640" y="2907720"/>
                  <a:ext cx="3960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 flipV="1">
                  <a:off x="1439640" y="2907720"/>
                  <a:ext cx="3960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 flipV="1">
                  <a:off x="1439640" y="2907720"/>
                  <a:ext cx="3960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 flipV="1">
                  <a:off x="1439640" y="2907720"/>
                  <a:ext cx="3960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 flipV="1">
                  <a:off x="1439640" y="2907720"/>
                  <a:ext cx="3960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1091880" y="1230120"/>
                  <a:ext cx="9072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 flipH="1" flipV="1">
                  <a:off x="2083680" y="2858400"/>
                  <a:ext cx="637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 flipH="1" flipV="1">
                  <a:off x="2083680" y="2858400"/>
                  <a:ext cx="637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882360" y="1441080"/>
                  <a:ext cx="1224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882360" y="1439640"/>
                  <a:ext cx="12240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 flipH="1">
                  <a:off x="2182680" y="1174320"/>
                  <a:ext cx="79200" cy="127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 flipH="1">
                  <a:off x="2233080" y="1214280"/>
                  <a:ext cx="8892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 flipH="1">
                  <a:off x="2341080" y="1319040"/>
                  <a:ext cx="1047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 flipH="1" flipV="1">
                  <a:off x="2511360" y="2444040"/>
                  <a:ext cx="134640" cy="66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 flipH="1" flipV="1">
                  <a:off x="2511360" y="2444040"/>
                  <a:ext cx="134640" cy="66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919080" y="1393560"/>
                  <a:ext cx="117360" cy="95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 flipH="1" flipV="1">
                  <a:off x="2365200" y="2660400"/>
                  <a:ext cx="108000" cy="100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 flipH="1" flipV="1">
                  <a:off x="2364840" y="2657160"/>
                  <a:ext cx="111240" cy="101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 flipH="1" flipV="1">
                  <a:off x="2368440" y="2655360"/>
                  <a:ext cx="109440" cy="9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 flipH="1" flipV="1">
                  <a:off x="2368440" y="2655720"/>
                  <a:ext cx="108000" cy="102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 flipV="1">
                  <a:off x="1071360" y="2749320"/>
                  <a:ext cx="93600" cy="117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 flipH="1" flipV="1">
                  <a:off x="1791720" y="2936160"/>
                  <a:ext cx="1116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1652400" y="1022040"/>
                  <a:ext cx="936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1652400" y="1022040"/>
                  <a:ext cx="936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1547640" y="1033200"/>
                  <a:ext cx="237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1547640" y="1033200"/>
                  <a:ext cx="237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1547640" y="1033200"/>
                  <a:ext cx="252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1547640" y="1033200"/>
                  <a:ext cx="252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 flipV="1">
                  <a:off x="1225440" y="2835000"/>
                  <a:ext cx="7272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 flipH="1" flipV="1">
                  <a:off x="2477880" y="2506320"/>
                  <a:ext cx="130320" cy="76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 flipH="1" flipV="1">
                  <a:off x="2477880" y="2506320"/>
                  <a:ext cx="130320" cy="76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 flipH="1">
                  <a:off x="2083680" y="1112400"/>
                  <a:ext cx="6372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 flipH="1">
                  <a:off x="2083680" y="1112400"/>
                  <a:ext cx="6372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 flipH="1">
                  <a:off x="2083680" y="1112400"/>
                  <a:ext cx="6372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 flipH="1">
                  <a:off x="2083680" y="1112400"/>
                  <a:ext cx="6516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 flipH="1">
                  <a:off x="2083680" y="1112400"/>
                  <a:ext cx="6516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 flipH="1">
                  <a:off x="2083680" y="1112400"/>
                  <a:ext cx="6516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 flipH="1">
                  <a:off x="2069640" y="1106280"/>
                  <a:ext cx="601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 flipV="1">
                  <a:off x="1496880" y="2919240"/>
                  <a:ext cx="316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 flipH="1" flipV="1">
                  <a:off x="2152080" y="2825280"/>
                  <a:ext cx="73080" cy="130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 flipH="1" flipV="1">
                  <a:off x="2152080" y="2825280"/>
                  <a:ext cx="7308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712440" y="1806120"/>
                  <a:ext cx="14292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712440" y="1806120"/>
                  <a:ext cx="14292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 flipH="1" flipV="1">
                  <a:off x="2593800" y="2190240"/>
                  <a:ext cx="146160" cy="20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1450800" y="1055520"/>
                  <a:ext cx="381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 flipH="1">
                  <a:off x="2107800" y="1126800"/>
                  <a:ext cx="6840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 flipH="1">
                  <a:off x="2107800" y="1126800"/>
                  <a:ext cx="6840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 flipH="1">
                  <a:off x="2107800" y="1126800"/>
                  <a:ext cx="6840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 flipH="1" flipV="1">
                  <a:off x="2603160" y="2083680"/>
                  <a:ext cx="14760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 flipH="1" flipV="1">
                  <a:off x="2603160" y="2083680"/>
                  <a:ext cx="14760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 flipH="1" flipV="1">
                  <a:off x="2598480" y="2139120"/>
                  <a:ext cx="14760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 flipH="1">
                  <a:off x="2156760" y="1155240"/>
                  <a:ext cx="73080" cy="130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 flipH="1" flipV="1">
                  <a:off x="2589120" y="2210760"/>
                  <a:ext cx="147600" cy="2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 flipH="1" flipV="1">
                  <a:off x="2589120" y="2210760"/>
                  <a:ext cx="147600" cy="2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 flipH="1">
                  <a:off x="2585880" y="1863360"/>
                  <a:ext cx="149040" cy="28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 flipV="1">
                  <a:off x="806040" y="2474280"/>
                  <a:ext cx="131760" cy="73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 flipH="1">
                  <a:off x="1755000" y="1018800"/>
                  <a:ext cx="828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 flipV="1">
                  <a:off x="1149120" y="2793240"/>
                  <a:ext cx="8424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1425240" y="1061640"/>
                  <a:ext cx="3996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 flipV="1">
                  <a:off x="760320" y="2392200"/>
                  <a:ext cx="139680" cy="56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 flipV="1">
                  <a:off x="760320" y="2392200"/>
                  <a:ext cx="139680" cy="56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 flipV="1">
                  <a:off x="760320" y="2392200"/>
                  <a:ext cx="136440" cy="56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 flipH="1">
                  <a:off x="2584080" y="1836360"/>
                  <a:ext cx="146160" cy="3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 flipH="1">
                  <a:off x="2473200" y="1515600"/>
                  <a:ext cx="126720" cy="76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 flipH="1">
                  <a:off x="2426760" y="1436400"/>
                  <a:ext cx="1206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 flipH="1">
                  <a:off x="2426760" y="1436400"/>
                  <a:ext cx="1206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 flipH="1">
                  <a:off x="2424960" y="1431720"/>
                  <a:ext cx="1191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 flipH="1">
                  <a:off x="2424960" y="1431720"/>
                  <a:ext cx="1191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 flipH="1">
                  <a:off x="2393640" y="1388880"/>
                  <a:ext cx="115920" cy="95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 flipH="1">
                  <a:off x="2328480" y="1306080"/>
                  <a:ext cx="10656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 flipH="1">
                  <a:off x="2328480" y="1306080"/>
                  <a:ext cx="106560" cy="111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 flipH="1">
                  <a:off x="2331360" y="1309320"/>
                  <a:ext cx="10332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 flipH="1">
                  <a:off x="2585880" y="1861920"/>
                  <a:ext cx="149040" cy="28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 flipH="1">
                  <a:off x="2584080" y="1844280"/>
                  <a:ext cx="146160" cy="3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 flipH="1">
                  <a:off x="2584080" y="1844280"/>
                  <a:ext cx="146160" cy="3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 flipH="1">
                  <a:off x="2584080" y="1844280"/>
                  <a:ext cx="146160" cy="3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 flipH="1">
                  <a:off x="2594880" y="1925280"/>
                  <a:ext cx="14940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 flipH="1">
                  <a:off x="2594880" y="1925280"/>
                  <a:ext cx="14940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 flipH="1" flipV="1">
                  <a:off x="1868400" y="2927160"/>
                  <a:ext cx="2376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 flipH="1" flipV="1">
                  <a:off x="1866240" y="2927160"/>
                  <a:ext cx="2556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 flipH="1">
                  <a:off x="1911240" y="1045800"/>
                  <a:ext cx="316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 flipV="1">
                  <a:off x="1091880" y="2760480"/>
                  <a:ext cx="87480" cy="117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 flipV="1">
                  <a:off x="693360" y="2195280"/>
                  <a:ext cx="147600" cy="23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 flipV="1">
                  <a:off x="693360" y="2195280"/>
                  <a:ext cx="147600" cy="23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1582560" y="10285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 flipH="1">
                  <a:off x="1744560" y="1018800"/>
                  <a:ext cx="144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 flipV="1">
                  <a:off x="1215720" y="2830320"/>
                  <a:ext cx="7452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 flipH="1" flipV="1">
                  <a:off x="2045520" y="2876400"/>
                  <a:ext cx="5580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 flipH="1" flipV="1">
                  <a:off x="2045520" y="2876400"/>
                  <a:ext cx="5580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 flipH="1" flipV="1">
                  <a:off x="2044080" y="2877840"/>
                  <a:ext cx="5724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 flipH="1" flipV="1">
                  <a:off x="2044080" y="2877840"/>
                  <a:ext cx="5724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 flipH="1" flipV="1">
                  <a:off x="2044440" y="287784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 flipH="1" flipV="1">
                  <a:off x="2044440" y="287784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 flipH="1" flipV="1">
                  <a:off x="2044440" y="287784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 flipH="1" flipV="1">
                  <a:off x="2044440" y="287784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 flipH="1" flipV="1">
                  <a:off x="2044440" y="287784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 flipH="1" flipV="1">
                  <a:off x="2044440" y="287784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 flipH="1" flipV="1">
                  <a:off x="2168280" y="2815920"/>
                  <a:ext cx="76320" cy="130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 flipH="1" flipV="1">
                  <a:off x="2167920" y="2815920"/>
                  <a:ext cx="74520" cy="130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 flipH="1">
                  <a:off x="2406240" y="1402920"/>
                  <a:ext cx="114480" cy="95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 flipH="1">
                  <a:off x="2405880" y="1402920"/>
                  <a:ext cx="117720" cy="95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 flipH="1">
                  <a:off x="2405880" y="1404720"/>
                  <a:ext cx="11772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 flipV="1">
                  <a:off x="769680" y="241272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 flipV="1">
                  <a:off x="769680" y="241272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 flipV="1">
                  <a:off x="1720440" y="2941200"/>
                  <a:ext cx="18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 flipH="1">
                  <a:off x="2593800" y="1900080"/>
                  <a:ext cx="147600" cy="20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 flipH="1" flipV="1">
                  <a:off x="1900080" y="2922120"/>
                  <a:ext cx="316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 flipV="1">
                  <a:off x="1483920" y="2917440"/>
                  <a:ext cx="3492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 flipV="1">
                  <a:off x="1483920" y="2917440"/>
                  <a:ext cx="3492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 flipV="1">
                  <a:off x="1483920" y="2917440"/>
                  <a:ext cx="3492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 flipV="1">
                  <a:off x="1482480" y="2917440"/>
                  <a:ext cx="334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 flipV="1">
                  <a:off x="1482480" y="2917440"/>
                  <a:ext cx="334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 flipV="1">
                  <a:off x="1479240" y="2917440"/>
                  <a:ext cx="3672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 flipH="1" flipV="1">
                  <a:off x="2387160" y="2633040"/>
                  <a:ext cx="11268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 flipH="1" flipV="1">
                  <a:off x="2509200" y="2450520"/>
                  <a:ext cx="133560" cy="68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1709640" y="1018800"/>
                  <a:ext cx="288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1712520" y="1018800"/>
                  <a:ext cx="180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 flipV="1">
                  <a:off x="1014120" y="2706480"/>
                  <a:ext cx="10152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 flipV="1">
                  <a:off x="1004760" y="2698560"/>
                  <a:ext cx="102960" cy="110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 flipV="1">
                  <a:off x="1004760" y="2698560"/>
                  <a:ext cx="102960" cy="110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 flipH="1" flipV="1">
                  <a:off x="2117520" y="2842920"/>
                  <a:ext cx="6984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 flipH="1" flipV="1">
                  <a:off x="2120400" y="2842920"/>
                  <a:ext cx="6660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 flipH="1" flipV="1">
                  <a:off x="2112480" y="2847240"/>
                  <a:ext cx="68040" cy="133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1483920" y="1045800"/>
                  <a:ext cx="3492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1483920" y="1045800"/>
                  <a:ext cx="3492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 flipH="1" flipV="1">
                  <a:off x="2593800" y="2187000"/>
                  <a:ext cx="14760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 flipH="1" flipV="1">
                  <a:off x="1779480" y="2938320"/>
                  <a:ext cx="93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 flipH="1" flipV="1">
                  <a:off x="2476080" y="2511000"/>
                  <a:ext cx="128520" cy="77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 flipV="1">
                  <a:off x="684000" y="2098440"/>
                  <a:ext cx="147600" cy="7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 flipV="1">
                  <a:off x="680760" y="2086920"/>
                  <a:ext cx="15084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 flipV="1">
                  <a:off x="684000" y="2101320"/>
                  <a:ext cx="147600" cy="6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 flipV="1">
                  <a:off x="680760" y="2093400"/>
                  <a:ext cx="15084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 flipV="1">
                  <a:off x="1196640" y="2820600"/>
                  <a:ext cx="76320" cy="130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 flipH="1" flipV="1">
                  <a:off x="2285640" y="2731680"/>
                  <a:ext cx="98640" cy="115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 flipH="1">
                  <a:off x="1951920" y="1056960"/>
                  <a:ext cx="414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 flipH="1" flipV="1">
                  <a:off x="2285640" y="2731680"/>
                  <a:ext cx="98640" cy="115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1326960" y="109512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1326960" y="109512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 flipV="1">
                  <a:off x="1317240" y="2871360"/>
                  <a:ext cx="5724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 flipV="1">
                  <a:off x="1103040" y="2768040"/>
                  <a:ext cx="8892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 flipH="1" flipV="1">
                  <a:off x="2021760" y="2885760"/>
                  <a:ext cx="5076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 flipH="1">
                  <a:off x="2492280" y="1553760"/>
                  <a:ext cx="131760" cy="71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 flipH="1">
                  <a:off x="2491920" y="1553760"/>
                  <a:ext cx="129960" cy="71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 flipH="1">
                  <a:off x="2491920" y="1553760"/>
                  <a:ext cx="129960" cy="71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 flipH="1">
                  <a:off x="2491920" y="1553760"/>
                  <a:ext cx="129960" cy="71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 flipV="1">
                  <a:off x="971280" y="2669400"/>
                  <a:ext cx="10800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 flipH="1" flipV="1">
                  <a:off x="2415960" y="2598480"/>
                  <a:ext cx="117360" cy="92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flipV="1">
                  <a:off x="1012680" y="2702880"/>
                  <a:ext cx="102960" cy="111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 flipV="1">
                  <a:off x="1012680" y="2702880"/>
                  <a:ext cx="102960" cy="111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 flipV="1">
                  <a:off x="1544400" y="2928600"/>
                  <a:ext cx="2376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 flipH="1" flipV="1">
                  <a:off x="2599560" y="2103120"/>
                  <a:ext cx="150840" cy="7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 flipH="1">
                  <a:off x="1976040" y="1064880"/>
                  <a:ext cx="432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 flipH="1">
                  <a:off x="1796760" y="1023480"/>
                  <a:ext cx="1440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 flipH="1">
                  <a:off x="1796760" y="1023480"/>
                  <a:ext cx="1440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1717560" y="1018800"/>
                  <a:ext cx="144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1209600" y="1153800"/>
                  <a:ext cx="7272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768240" y="1642680"/>
                  <a:ext cx="136440" cy="6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971280" y="1336320"/>
                  <a:ext cx="10800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 flipH="1">
                  <a:off x="2304720" y="1280880"/>
                  <a:ext cx="10152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 flipV="1">
                  <a:off x="685440" y="2136240"/>
                  <a:ext cx="149400" cy="14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 flipV="1">
                  <a:off x="685440" y="2136240"/>
                  <a:ext cx="149400" cy="14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 flipV="1">
                  <a:off x="685440" y="2136240"/>
                  <a:ext cx="149400" cy="14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 flipV="1">
                  <a:off x="685440" y="2136240"/>
                  <a:ext cx="149400" cy="14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 flipV="1">
                  <a:off x="688680" y="2150280"/>
                  <a:ext cx="147600" cy="1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 flipV="1">
                  <a:off x="1150560" y="2796840"/>
                  <a:ext cx="8280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 flipV="1">
                  <a:off x="1150560" y="2796840"/>
                  <a:ext cx="8280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 flipV="1">
                  <a:off x="1150560" y="2796840"/>
                  <a:ext cx="8280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896760" y="1422000"/>
                  <a:ext cx="117360" cy="90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1384200" y="1074240"/>
                  <a:ext cx="4752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1385640" y="1074240"/>
                  <a:ext cx="4932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 flipV="1">
                  <a:off x="1553760" y="2928240"/>
                  <a:ext cx="2232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 flipV="1">
                  <a:off x="752400" y="2378880"/>
                  <a:ext cx="139680" cy="5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 flipV="1">
                  <a:off x="752400" y="2379240"/>
                  <a:ext cx="139680" cy="5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 flipV="1">
                  <a:off x="752400" y="2377800"/>
                  <a:ext cx="13968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>
                  <a:off x="1557000" y="1031400"/>
                  <a:ext cx="2376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>
                  <a:off x="1557000" y="1031400"/>
                  <a:ext cx="2376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1553760" y="1031400"/>
                  <a:ext cx="2412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1553760" y="1031400"/>
                  <a:ext cx="2412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1411200" y="106488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680760" y="2018880"/>
                  <a:ext cx="150840" cy="5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 flipV="1">
                  <a:off x="688680" y="2160000"/>
                  <a:ext cx="147600" cy="20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 flipV="1">
                  <a:off x="688680" y="2160000"/>
                  <a:ext cx="147600" cy="20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 flipV="1">
                  <a:off x="688680" y="2160000"/>
                  <a:ext cx="147600" cy="20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 flipV="1">
                  <a:off x="693360" y="2190240"/>
                  <a:ext cx="147600" cy="20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 flipV="1">
                  <a:off x="693360" y="2190240"/>
                  <a:ext cx="147600" cy="20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 flipV="1">
                  <a:off x="693360" y="2187360"/>
                  <a:ext cx="147600" cy="23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 flipV="1">
                  <a:off x="779400" y="2431800"/>
                  <a:ext cx="136440" cy="63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 flipV="1">
                  <a:off x="779400" y="2429640"/>
                  <a:ext cx="13644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 flipV="1">
                  <a:off x="839520" y="252396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 flipV="1">
                  <a:off x="887040" y="2585880"/>
                  <a:ext cx="120960" cy="88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 flipV="1">
                  <a:off x="887040" y="2585880"/>
                  <a:ext cx="120960" cy="88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 flipV="1">
                  <a:off x="887040" y="2582280"/>
                  <a:ext cx="120960" cy="91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 flipV="1">
                  <a:off x="896760" y="2594880"/>
                  <a:ext cx="1173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 flipV="1">
                  <a:off x="1022040" y="2712240"/>
                  <a:ext cx="100080" cy="111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 flipV="1">
                  <a:off x="1195200" y="2820600"/>
                  <a:ext cx="76320" cy="130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 flipV="1">
                  <a:off x="1252440" y="2844000"/>
                  <a:ext cx="6660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 flipV="1">
                  <a:off x="1427040" y="290448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 flipH="1" flipV="1">
                  <a:off x="2044440" y="287784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 flipH="1" flipV="1">
                  <a:off x="2044440" y="287784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 flipH="1" flipV="1">
                  <a:off x="2044440" y="287784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 flipH="1" flipV="1">
                  <a:off x="2044440" y="287784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 flipH="1" flipV="1">
                  <a:off x="2044440" y="287784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 flipH="1" flipV="1">
                  <a:off x="2044440" y="287784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 flipH="1" flipV="1">
                  <a:off x="2044440" y="287784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 flipH="1" flipV="1">
                  <a:off x="2215800" y="2787120"/>
                  <a:ext cx="8424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 flipH="1" flipV="1">
                  <a:off x="2215800" y="2787120"/>
                  <a:ext cx="8424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 flipH="1" flipV="1">
                  <a:off x="2234520" y="2772720"/>
                  <a:ext cx="88920" cy="119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 flipH="1" flipV="1">
                  <a:off x="2234520" y="2772720"/>
                  <a:ext cx="8892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 flipH="1" flipV="1">
                  <a:off x="2307600" y="2715480"/>
                  <a:ext cx="982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 flipH="1" flipV="1">
                  <a:off x="2387160" y="2633040"/>
                  <a:ext cx="11412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 flipH="1" flipV="1">
                  <a:off x="2436480" y="2571480"/>
                  <a:ext cx="122400" cy="85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 flipH="1" flipV="1">
                  <a:off x="2458800" y="2537640"/>
                  <a:ext cx="12528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 flipH="1" flipV="1">
                  <a:off x="2458800" y="2537640"/>
                  <a:ext cx="12528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 flipH="1" flipV="1">
                  <a:off x="2458800" y="2537640"/>
                  <a:ext cx="12528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 flipH="1" flipV="1">
                  <a:off x="2496960" y="2472480"/>
                  <a:ext cx="131760" cy="71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 flipH="1" flipV="1">
                  <a:off x="2511360" y="2445840"/>
                  <a:ext cx="134640" cy="68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 flipH="1" flipV="1">
                  <a:off x="2557080" y="2333160"/>
                  <a:ext cx="144720" cy="4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 flipH="1" flipV="1">
                  <a:off x="2599560" y="2125080"/>
                  <a:ext cx="14940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 flipH="1" flipV="1">
                  <a:off x="2599560" y="2125080"/>
                  <a:ext cx="14940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 flipH="1" flipV="1">
                  <a:off x="2599560" y="2125080"/>
                  <a:ext cx="14940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 flipH="1">
                  <a:off x="2569680" y="1769760"/>
                  <a:ext cx="142920" cy="41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 flipH="1">
                  <a:off x="2501280" y="1576080"/>
                  <a:ext cx="13500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2" name=""/>
                <p:cNvSpPr/>
                <p:nvPr/>
              </p:nvSpPr>
              <p:spPr>
                <a:xfrm flipH="1">
                  <a:off x="2501280" y="1577520"/>
                  <a:ext cx="135000" cy="68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 flipH="1">
                  <a:off x="2405880" y="1404720"/>
                  <a:ext cx="11772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 flipH="1">
                  <a:off x="2405880" y="1404720"/>
                  <a:ext cx="117720" cy="96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 flipH="1">
                  <a:off x="2393640" y="1385640"/>
                  <a:ext cx="11592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 flipH="1">
                  <a:off x="2393640" y="1388880"/>
                  <a:ext cx="115920" cy="95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 flipH="1">
                  <a:off x="2307960" y="1282320"/>
                  <a:ext cx="1000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8" name=""/>
                <p:cNvSpPr/>
                <p:nvPr/>
              </p:nvSpPr>
              <p:spPr>
                <a:xfrm flipH="1">
                  <a:off x="2307960" y="1282320"/>
                  <a:ext cx="1000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 flipH="1">
                  <a:off x="2307960" y="1282320"/>
                  <a:ext cx="1000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 flipH="1">
                  <a:off x="2304720" y="1282320"/>
                  <a:ext cx="101520" cy="111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 flipH="1">
                  <a:off x="2247840" y="1225080"/>
                  <a:ext cx="88560" cy="120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 flipH="1">
                  <a:off x="2110680" y="1126800"/>
                  <a:ext cx="6660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 flipH="1">
                  <a:off x="2097000" y="1120320"/>
                  <a:ext cx="64800" cy="133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 flipH="1">
                  <a:off x="2097000" y="1120320"/>
                  <a:ext cx="64800" cy="133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 flipH="1">
                  <a:off x="2091960" y="1117440"/>
                  <a:ext cx="61920" cy="134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 flipH="1">
                  <a:off x="2091600" y="1117440"/>
                  <a:ext cx="65160" cy="134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 flipH="1">
                  <a:off x="2091600" y="1117440"/>
                  <a:ext cx="65160" cy="134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 flipV="1">
                  <a:off x="750600" y="2374560"/>
                  <a:ext cx="141480" cy="5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 flipH="1" flipV="1">
                  <a:off x="2566440" y="2304360"/>
                  <a:ext cx="144360" cy="41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 flipH="1" flipV="1">
                  <a:off x="2566440" y="2304360"/>
                  <a:ext cx="144360" cy="41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>
                  <a:off x="750600" y="1680840"/>
                  <a:ext cx="139680" cy="5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>
                  <a:off x="745920" y="1695240"/>
                  <a:ext cx="14112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>
                  <a:off x="717480" y="1788840"/>
                  <a:ext cx="14256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714240" y="1798200"/>
                  <a:ext cx="144360" cy="3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>
                  <a:off x="714240" y="1796760"/>
                  <a:ext cx="14436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6" name=""/>
                <p:cNvSpPr/>
                <p:nvPr/>
              </p:nvSpPr>
              <p:spPr>
                <a:xfrm>
                  <a:off x="714240" y="1796760"/>
                  <a:ext cx="14436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714240" y="1796760"/>
                  <a:ext cx="14436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714240" y="1796760"/>
                  <a:ext cx="14436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9" name=""/>
                <p:cNvSpPr/>
                <p:nvPr/>
              </p:nvSpPr>
              <p:spPr>
                <a:xfrm>
                  <a:off x="714240" y="1796760"/>
                  <a:ext cx="14436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>
                  <a:off x="712440" y="1798200"/>
                  <a:ext cx="14616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712440" y="1798200"/>
                  <a:ext cx="146160" cy="3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 flipH="1" flipV="1">
                  <a:off x="2341080" y="2680920"/>
                  <a:ext cx="10476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 flipH="1">
                  <a:off x="2265120" y="1239480"/>
                  <a:ext cx="9360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 flipV="1">
                  <a:off x="1134720" y="278748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 flipV="1">
                  <a:off x="1055520" y="2734920"/>
                  <a:ext cx="95040" cy="117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 flipV="1">
                  <a:off x="1052280" y="2734920"/>
                  <a:ext cx="96840" cy="114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 flipH="1" flipV="1">
                  <a:off x="1798200" y="2936160"/>
                  <a:ext cx="1404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 flipV="1">
                  <a:off x="684000" y="2103120"/>
                  <a:ext cx="147600" cy="7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 flipV="1">
                  <a:off x="684000" y="2103120"/>
                  <a:ext cx="147600" cy="7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0" name=""/>
                <p:cNvSpPr/>
                <p:nvPr/>
              </p:nvSpPr>
              <p:spPr>
                <a:xfrm>
                  <a:off x="1303200" y="1106280"/>
                  <a:ext cx="5868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1" name=""/>
                <p:cNvSpPr/>
                <p:nvPr/>
              </p:nvSpPr>
              <p:spPr>
                <a:xfrm flipV="1">
                  <a:off x="1195200" y="2818800"/>
                  <a:ext cx="7308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>
                  <a:off x="1014120" y="1294920"/>
                  <a:ext cx="101520" cy="109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>
                  <a:off x="999720" y="1306080"/>
                  <a:ext cx="10332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4" name=""/>
                <p:cNvSpPr/>
                <p:nvPr/>
              </p:nvSpPr>
              <p:spPr>
                <a:xfrm>
                  <a:off x="985680" y="1321920"/>
                  <a:ext cx="10620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>
                  <a:off x="985680" y="1321920"/>
                  <a:ext cx="10620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 flipV="1">
                  <a:off x="1187280" y="2815920"/>
                  <a:ext cx="75960" cy="130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 flipV="1">
                  <a:off x="1187280" y="2815920"/>
                  <a:ext cx="75960" cy="130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 flipV="1">
                  <a:off x="685440" y="2134440"/>
                  <a:ext cx="14940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 flipV="1">
                  <a:off x="685440" y="2134440"/>
                  <a:ext cx="14940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>
                  <a:off x="1131480" y="1201320"/>
                  <a:ext cx="8424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>
                  <a:off x="839520" y="150624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2" name=""/>
                <p:cNvSpPr/>
                <p:nvPr/>
              </p:nvSpPr>
              <p:spPr>
                <a:xfrm>
                  <a:off x="817200" y="1539720"/>
                  <a:ext cx="130320" cy="74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3" name=""/>
                <p:cNvSpPr/>
                <p:nvPr/>
              </p:nvSpPr>
              <p:spPr>
                <a:xfrm>
                  <a:off x="817200" y="1539720"/>
                  <a:ext cx="131760" cy="74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>
                  <a:off x="817200" y="1539720"/>
                  <a:ext cx="131760" cy="74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 flipH="1">
                  <a:off x="1994760" y="1071360"/>
                  <a:ext cx="4932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6" name=""/>
                <p:cNvSpPr/>
                <p:nvPr/>
              </p:nvSpPr>
              <p:spPr>
                <a:xfrm flipH="1">
                  <a:off x="1994760" y="1071360"/>
                  <a:ext cx="4932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 flipH="1">
                  <a:off x="2411280" y="1412640"/>
                  <a:ext cx="11880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8" name=""/>
                <p:cNvSpPr/>
                <p:nvPr/>
              </p:nvSpPr>
              <p:spPr>
                <a:xfrm flipH="1">
                  <a:off x="2411280" y="1412640"/>
                  <a:ext cx="11880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9" name=""/>
                <p:cNvSpPr/>
                <p:nvPr/>
              </p:nvSpPr>
              <p:spPr>
                <a:xfrm flipH="1">
                  <a:off x="1739160" y="1018800"/>
                  <a:ext cx="180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0" name=""/>
                <p:cNvSpPr/>
                <p:nvPr/>
              </p:nvSpPr>
              <p:spPr>
                <a:xfrm flipH="1">
                  <a:off x="1739160" y="1018800"/>
                  <a:ext cx="180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1" name=""/>
                <p:cNvSpPr/>
                <p:nvPr/>
              </p:nvSpPr>
              <p:spPr>
                <a:xfrm flipH="1" flipV="1">
                  <a:off x="2434680" y="2572560"/>
                  <a:ext cx="11916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2" name=""/>
                <p:cNvSpPr/>
                <p:nvPr/>
              </p:nvSpPr>
              <p:spPr>
                <a:xfrm flipV="1">
                  <a:off x="1220400" y="2833200"/>
                  <a:ext cx="7164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>
                  <a:off x="787320" y="1599840"/>
                  <a:ext cx="133200" cy="66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 flipH="1">
                  <a:off x="2333160" y="1311120"/>
                  <a:ext cx="10620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5" name=""/>
                <p:cNvSpPr/>
                <p:nvPr/>
              </p:nvSpPr>
              <p:spPr>
                <a:xfrm flipH="1">
                  <a:off x="2333160" y="1311120"/>
                  <a:ext cx="10620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 flipH="1">
                  <a:off x="2026800" y="1085400"/>
                  <a:ext cx="522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 flipH="1">
                  <a:off x="1748880" y="1018800"/>
                  <a:ext cx="468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 flipH="1" flipV="1">
                  <a:off x="2558520" y="2326680"/>
                  <a:ext cx="144360" cy="44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 flipH="1" flipV="1">
                  <a:off x="2558520" y="2327040"/>
                  <a:ext cx="142920" cy="4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 flipV="1">
                  <a:off x="684000" y="2101320"/>
                  <a:ext cx="147600" cy="6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1" name=""/>
                <p:cNvSpPr/>
                <p:nvPr/>
              </p:nvSpPr>
              <p:spPr>
                <a:xfrm flipH="1" flipV="1">
                  <a:off x="2566440" y="2304360"/>
                  <a:ext cx="144360" cy="4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2" name=""/>
                <p:cNvSpPr/>
                <p:nvPr/>
              </p:nvSpPr>
              <p:spPr>
                <a:xfrm>
                  <a:off x="1088640" y="1230120"/>
                  <a:ext cx="9072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 flipH="1" flipV="1">
                  <a:off x="2585880" y="2218680"/>
                  <a:ext cx="149040" cy="28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 flipH="1">
                  <a:off x="2352600" y="1336320"/>
                  <a:ext cx="109440" cy="103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 flipH="1">
                  <a:off x="2106000" y="1125360"/>
                  <a:ext cx="6516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 flipH="1">
                  <a:off x="2350800" y="1331640"/>
                  <a:ext cx="10800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7" name=""/>
                <p:cNvSpPr/>
                <p:nvPr/>
              </p:nvSpPr>
              <p:spPr>
                <a:xfrm flipH="1">
                  <a:off x="2350800" y="1331640"/>
                  <a:ext cx="10800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8" name=""/>
                <p:cNvSpPr/>
                <p:nvPr/>
              </p:nvSpPr>
              <p:spPr>
                <a:xfrm flipH="1">
                  <a:off x="2350800" y="1331640"/>
                  <a:ext cx="10800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 flipH="1">
                  <a:off x="2350800" y="1333080"/>
                  <a:ext cx="108000" cy="103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0" name=""/>
                <p:cNvSpPr/>
                <p:nvPr/>
              </p:nvSpPr>
              <p:spPr>
                <a:xfrm flipH="1">
                  <a:off x="2350800" y="1333080"/>
                  <a:ext cx="108000" cy="103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 flipH="1">
                  <a:off x="2350800" y="1333080"/>
                  <a:ext cx="108000" cy="103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>
                  <a:off x="1406160" y="1066320"/>
                  <a:ext cx="44640" cy="144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 flipH="1" flipV="1">
                  <a:off x="1919160" y="2917440"/>
                  <a:ext cx="3312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>
                  <a:off x="787320" y="1596600"/>
                  <a:ext cx="136440" cy="68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>
                  <a:off x="788760" y="1596600"/>
                  <a:ext cx="135000" cy="68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>
                  <a:off x="788760" y="1596600"/>
                  <a:ext cx="13500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7" name=""/>
                <p:cNvSpPr/>
                <p:nvPr/>
              </p:nvSpPr>
              <p:spPr>
                <a:xfrm>
                  <a:off x="731520" y="1731600"/>
                  <a:ext cx="144720" cy="4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 flipH="1">
                  <a:off x="2588760" y="1868040"/>
                  <a:ext cx="145800" cy="2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 flipH="1" flipV="1">
                  <a:off x="1725480" y="2941200"/>
                  <a:ext cx="14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 flipH="1" flipV="1">
                  <a:off x="2144520" y="2830320"/>
                  <a:ext cx="7128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 flipH="1" flipV="1">
                  <a:off x="2144520" y="2830320"/>
                  <a:ext cx="7128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1698480" y="1018800"/>
                  <a:ext cx="144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>
                  <a:off x="1223640" y="1144440"/>
                  <a:ext cx="7164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 flipH="1" flipV="1">
                  <a:off x="2142360" y="2830320"/>
                  <a:ext cx="7164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 flipH="1">
                  <a:off x="2574360" y="1788840"/>
                  <a:ext cx="14292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 flipH="1" flipV="1">
                  <a:off x="2290320" y="2727000"/>
                  <a:ext cx="98280" cy="115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 flipH="1" flipV="1">
                  <a:off x="2554200" y="2341080"/>
                  <a:ext cx="142560" cy="5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 flipV="1">
                  <a:off x="1307880" y="2868120"/>
                  <a:ext cx="5868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 flipH="1" flipV="1">
                  <a:off x="2515680" y="243504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 flipH="1" flipV="1">
                  <a:off x="2515680" y="2435040"/>
                  <a:ext cx="136440" cy="64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1" name=""/>
                <p:cNvSpPr/>
                <p:nvPr/>
              </p:nvSpPr>
              <p:spPr>
                <a:xfrm flipH="1">
                  <a:off x="2021760" y="1080720"/>
                  <a:ext cx="5076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2" name=""/>
                <p:cNvSpPr/>
                <p:nvPr/>
              </p:nvSpPr>
              <p:spPr>
                <a:xfrm flipV="1">
                  <a:off x="712440" y="2271240"/>
                  <a:ext cx="14616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 flipH="1">
                  <a:off x="1920240" y="1047600"/>
                  <a:ext cx="349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4" name=""/>
                <p:cNvSpPr/>
                <p:nvPr/>
              </p:nvSpPr>
              <p:spPr>
                <a:xfrm flipH="1" flipV="1">
                  <a:off x="2347560" y="2674440"/>
                  <a:ext cx="108000" cy="105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5" name=""/>
                <p:cNvSpPr/>
                <p:nvPr/>
              </p:nvSpPr>
              <p:spPr>
                <a:xfrm flipH="1" flipV="1">
                  <a:off x="2347560" y="2675880"/>
                  <a:ext cx="10656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 flipH="1" flipV="1">
                  <a:off x="2346120" y="2675880"/>
                  <a:ext cx="10800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 flipH="1" flipV="1">
                  <a:off x="2346120" y="2675880"/>
                  <a:ext cx="10800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8" name=""/>
                <p:cNvSpPr/>
                <p:nvPr/>
              </p:nvSpPr>
              <p:spPr>
                <a:xfrm flipH="1" flipV="1">
                  <a:off x="2346120" y="2675880"/>
                  <a:ext cx="10800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 flipH="1" flipV="1">
                  <a:off x="2346120" y="2675880"/>
                  <a:ext cx="10800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 flipH="1">
                  <a:off x="2603160" y="2055600"/>
                  <a:ext cx="147600" cy="1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1" name=""/>
                <p:cNvSpPr/>
                <p:nvPr/>
              </p:nvSpPr>
              <p:spPr>
                <a:xfrm flipH="1">
                  <a:off x="2603160" y="2055600"/>
                  <a:ext cx="147600" cy="1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1707840" y="1018800"/>
                  <a:ext cx="180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 flipV="1">
                  <a:off x="680760" y="2086920"/>
                  <a:ext cx="15084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 flipV="1">
                  <a:off x="680760" y="2086920"/>
                  <a:ext cx="15084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 flipH="1">
                  <a:off x="2558520" y="1733400"/>
                  <a:ext cx="142920" cy="48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 flipH="1" flipV="1">
                  <a:off x="2598480" y="2145960"/>
                  <a:ext cx="147600" cy="1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 flipH="1" flipV="1">
                  <a:off x="2598480" y="2145600"/>
                  <a:ext cx="147600" cy="1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 flipH="1" flipV="1">
                  <a:off x="2598480" y="2145600"/>
                  <a:ext cx="147600" cy="1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 flipH="1" flipV="1">
                  <a:off x="2384280" y="2636280"/>
                  <a:ext cx="11592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>
                  <a:off x="830160" y="1520640"/>
                  <a:ext cx="128520" cy="75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830160" y="1520640"/>
                  <a:ext cx="128520" cy="75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2" name=""/>
                <p:cNvSpPr/>
                <p:nvPr/>
              </p:nvSpPr>
              <p:spPr>
                <a:xfrm flipH="1">
                  <a:off x="2269800" y="1244160"/>
                  <a:ext cx="93600" cy="117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 flipV="1">
                  <a:off x="844200" y="2530080"/>
                  <a:ext cx="123840" cy="82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 flipH="1">
                  <a:off x="2589120" y="1875960"/>
                  <a:ext cx="147600" cy="25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 flipV="1">
                  <a:off x="1685520" y="2941200"/>
                  <a:ext cx="50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6" name=""/>
                <p:cNvSpPr/>
                <p:nvPr/>
              </p:nvSpPr>
              <p:spPr>
                <a:xfrm flipH="1">
                  <a:off x="2271600" y="1247400"/>
                  <a:ext cx="93600" cy="117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1660320" y="1022040"/>
                  <a:ext cx="936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>
                  <a:off x="1661760" y="1022040"/>
                  <a:ext cx="79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>
                  <a:off x="1661760" y="1022040"/>
                  <a:ext cx="79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830160" y="1520640"/>
                  <a:ext cx="128520" cy="75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 flipV="1">
                  <a:off x="747360" y="2366640"/>
                  <a:ext cx="13968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>
                  <a:off x="831600" y="1517400"/>
                  <a:ext cx="127080" cy="77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 flipV="1">
                  <a:off x="1514160" y="2923920"/>
                  <a:ext cx="302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4" name=""/>
                <p:cNvSpPr/>
                <p:nvPr/>
              </p:nvSpPr>
              <p:spPr>
                <a:xfrm flipV="1">
                  <a:off x="1514160" y="2923920"/>
                  <a:ext cx="2880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5" name=""/>
                <p:cNvSpPr/>
                <p:nvPr/>
              </p:nvSpPr>
              <p:spPr>
                <a:xfrm flipV="1">
                  <a:off x="1514160" y="2923920"/>
                  <a:ext cx="2880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 flipV="1">
                  <a:off x="1514160" y="2923920"/>
                  <a:ext cx="2880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7" name=""/>
                <p:cNvSpPr/>
                <p:nvPr/>
              </p:nvSpPr>
              <p:spPr>
                <a:xfrm flipV="1">
                  <a:off x="1514160" y="2923920"/>
                  <a:ext cx="2880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8" name=""/>
                <p:cNvSpPr/>
                <p:nvPr/>
              </p:nvSpPr>
              <p:spPr>
                <a:xfrm flipV="1">
                  <a:off x="1514160" y="2923920"/>
                  <a:ext cx="2880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 flipH="1" flipV="1">
                  <a:off x="2247480" y="2763000"/>
                  <a:ext cx="90360" cy="119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0" name=""/>
                <p:cNvSpPr/>
                <p:nvPr/>
              </p:nvSpPr>
              <p:spPr>
                <a:xfrm flipH="1">
                  <a:off x="2576160" y="1803240"/>
                  <a:ext cx="146160" cy="36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1" name=""/>
                <p:cNvSpPr/>
                <p:nvPr/>
              </p:nvSpPr>
              <p:spPr>
                <a:xfrm flipH="1">
                  <a:off x="2576160" y="180612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 flipV="1">
                  <a:off x="684000" y="2111040"/>
                  <a:ext cx="14760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3" name=""/>
                <p:cNvSpPr/>
                <p:nvPr/>
              </p:nvSpPr>
              <p:spPr>
                <a:xfrm>
                  <a:off x="788760" y="1595160"/>
                  <a:ext cx="135000" cy="66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4" name=""/>
                <p:cNvSpPr/>
                <p:nvPr/>
              </p:nvSpPr>
              <p:spPr>
                <a:xfrm>
                  <a:off x="788760" y="1591920"/>
                  <a:ext cx="135000" cy="68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 flipH="1">
                  <a:off x="2539440" y="1676160"/>
                  <a:ext cx="142920" cy="5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6" name=""/>
                <p:cNvSpPr/>
                <p:nvPr/>
              </p:nvSpPr>
              <p:spPr>
                <a:xfrm flipH="1" flipV="1">
                  <a:off x="2017440" y="2886840"/>
                  <a:ext cx="5256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7" name=""/>
                <p:cNvSpPr/>
                <p:nvPr/>
              </p:nvSpPr>
              <p:spPr>
                <a:xfrm flipH="1" flipV="1">
                  <a:off x="2017080" y="2886840"/>
                  <a:ext cx="5076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 flipH="1" flipV="1">
                  <a:off x="2017080" y="2886840"/>
                  <a:ext cx="5076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 flipH="1" flipV="1">
                  <a:off x="2482560" y="2499480"/>
                  <a:ext cx="130320" cy="73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0" name=""/>
                <p:cNvSpPr/>
                <p:nvPr/>
              </p:nvSpPr>
              <p:spPr>
                <a:xfrm flipV="1">
                  <a:off x="698400" y="2214000"/>
                  <a:ext cx="147600" cy="28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 flipH="1" flipV="1">
                  <a:off x="2462040" y="2534760"/>
                  <a:ext cx="123840" cy="82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2" name=""/>
                <p:cNvSpPr/>
                <p:nvPr/>
              </p:nvSpPr>
              <p:spPr>
                <a:xfrm flipH="1" flipV="1">
                  <a:off x="2462040" y="2534760"/>
                  <a:ext cx="123840" cy="82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3" name=""/>
                <p:cNvSpPr/>
                <p:nvPr/>
              </p:nvSpPr>
              <p:spPr>
                <a:xfrm flipH="1" flipV="1">
                  <a:off x="2458440" y="2537640"/>
                  <a:ext cx="12708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 flipH="1" flipV="1">
                  <a:off x="2458440" y="2537640"/>
                  <a:ext cx="12708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5" name=""/>
                <p:cNvSpPr/>
                <p:nvPr/>
              </p:nvSpPr>
              <p:spPr>
                <a:xfrm flipH="1">
                  <a:off x="2580840" y="1830240"/>
                  <a:ext cx="145800" cy="33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6" name=""/>
                <p:cNvSpPr/>
                <p:nvPr/>
              </p:nvSpPr>
              <p:spPr>
                <a:xfrm flipH="1">
                  <a:off x="2580840" y="1830240"/>
                  <a:ext cx="145800" cy="33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>
                  <a:off x="1263240" y="1125360"/>
                  <a:ext cx="6516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8" name=""/>
                <p:cNvSpPr/>
                <p:nvPr/>
              </p:nvSpPr>
              <p:spPr>
                <a:xfrm flipV="1">
                  <a:off x="1263240" y="2851920"/>
                  <a:ext cx="65160" cy="133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9" name=""/>
                <p:cNvSpPr/>
                <p:nvPr/>
              </p:nvSpPr>
              <p:spPr>
                <a:xfrm flipV="1">
                  <a:off x="1407960" y="289980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0" name=""/>
                <p:cNvSpPr/>
                <p:nvPr/>
              </p:nvSpPr>
              <p:spPr>
                <a:xfrm flipV="1">
                  <a:off x="1009440" y="2701080"/>
                  <a:ext cx="103320" cy="109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1" name=""/>
                <p:cNvSpPr/>
                <p:nvPr/>
              </p:nvSpPr>
              <p:spPr>
                <a:xfrm flipV="1">
                  <a:off x="1009440" y="2701080"/>
                  <a:ext cx="103320" cy="109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2" name=""/>
                <p:cNvSpPr/>
                <p:nvPr/>
              </p:nvSpPr>
              <p:spPr>
                <a:xfrm>
                  <a:off x="911160" y="1402920"/>
                  <a:ext cx="11736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3" name=""/>
                <p:cNvSpPr/>
                <p:nvPr/>
              </p:nvSpPr>
              <p:spPr>
                <a:xfrm>
                  <a:off x="1434960" y="1056960"/>
                  <a:ext cx="3960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4" name=""/>
                <p:cNvSpPr/>
                <p:nvPr/>
              </p:nvSpPr>
              <p:spPr>
                <a:xfrm flipH="1">
                  <a:off x="2598480" y="1956960"/>
                  <a:ext cx="147600" cy="1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5" name=""/>
                <p:cNvSpPr/>
                <p:nvPr/>
              </p:nvSpPr>
              <p:spPr>
                <a:xfrm flipH="1">
                  <a:off x="2598480" y="1956960"/>
                  <a:ext cx="147600" cy="1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6" name=""/>
                <p:cNvSpPr/>
                <p:nvPr/>
              </p:nvSpPr>
              <p:spPr>
                <a:xfrm flipH="1">
                  <a:off x="2182680" y="1174320"/>
                  <a:ext cx="79200" cy="127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7" name=""/>
                <p:cNvSpPr/>
                <p:nvPr/>
              </p:nvSpPr>
              <p:spPr>
                <a:xfrm>
                  <a:off x="1285560" y="1112400"/>
                  <a:ext cx="6192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8" name=""/>
                <p:cNvSpPr/>
                <p:nvPr/>
              </p:nvSpPr>
              <p:spPr>
                <a:xfrm>
                  <a:off x="1285560" y="1112400"/>
                  <a:ext cx="6192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9" name=""/>
                <p:cNvSpPr/>
                <p:nvPr/>
              </p:nvSpPr>
              <p:spPr>
                <a:xfrm>
                  <a:off x="934920" y="1374480"/>
                  <a:ext cx="11268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0" name=""/>
                <p:cNvSpPr/>
                <p:nvPr/>
              </p:nvSpPr>
              <p:spPr>
                <a:xfrm>
                  <a:off x="934920" y="1374480"/>
                  <a:ext cx="11592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1" name=""/>
                <p:cNvSpPr/>
                <p:nvPr/>
              </p:nvSpPr>
              <p:spPr>
                <a:xfrm flipH="1">
                  <a:off x="2196720" y="1184040"/>
                  <a:ext cx="82800" cy="127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2" name=""/>
                <p:cNvSpPr/>
                <p:nvPr/>
              </p:nvSpPr>
              <p:spPr>
                <a:xfrm flipH="1">
                  <a:off x="2196720" y="1184040"/>
                  <a:ext cx="82800" cy="127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3" name=""/>
                <p:cNvSpPr/>
                <p:nvPr/>
              </p:nvSpPr>
              <p:spPr>
                <a:xfrm>
                  <a:off x="1276200" y="1117440"/>
                  <a:ext cx="619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4" name=""/>
                <p:cNvSpPr/>
                <p:nvPr/>
              </p:nvSpPr>
              <p:spPr>
                <a:xfrm>
                  <a:off x="1474560" y="1047600"/>
                  <a:ext cx="349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5" name=""/>
                <p:cNvSpPr/>
                <p:nvPr/>
              </p:nvSpPr>
              <p:spPr>
                <a:xfrm flipH="1" flipV="1">
                  <a:off x="2106000" y="2849040"/>
                  <a:ext cx="6516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6" name=""/>
                <p:cNvSpPr/>
                <p:nvPr/>
              </p:nvSpPr>
              <p:spPr>
                <a:xfrm flipH="1" flipV="1">
                  <a:off x="2106000" y="2849040"/>
                  <a:ext cx="6516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7" name=""/>
                <p:cNvSpPr/>
                <p:nvPr/>
              </p:nvSpPr>
              <p:spPr>
                <a:xfrm flipH="1" flipV="1">
                  <a:off x="2476080" y="2511000"/>
                  <a:ext cx="128520" cy="77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8" name=""/>
                <p:cNvSpPr/>
                <p:nvPr/>
              </p:nvSpPr>
              <p:spPr>
                <a:xfrm>
                  <a:off x="768240" y="1641240"/>
                  <a:ext cx="136440" cy="5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9" name=""/>
                <p:cNvSpPr/>
                <p:nvPr/>
              </p:nvSpPr>
              <p:spPr>
                <a:xfrm flipH="1" flipV="1">
                  <a:off x="2556720" y="2332800"/>
                  <a:ext cx="141480" cy="4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0" name=""/>
                <p:cNvSpPr/>
                <p:nvPr/>
              </p:nvSpPr>
              <p:spPr>
                <a:xfrm flipH="1" flipV="1">
                  <a:off x="2584080" y="2233080"/>
                  <a:ext cx="147600" cy="28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1" name=""/>
                <p:cNvSpPr/>
                <p:nvPr/>
              </p:nvSpPr>
              <p:spPr>
                <a:xfrm flipH="1" flipV="1">
                  <a:off x="2584080" y="2233080"/>
                  <a:ext cx="146160" cy="29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2" name=""/>
                <p:cNvSpPr/>
                <p:nvPr/>
              </p:nvSpPr>
              <p:spPr>
                <a:xfrm flipH="1" flipV="1">
                  <a:off x="2585520" y="2228400"/>
                  <a:ext cx="145800" cy="28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3" name=""/>
                <p:cNvSpPr/>
                <p:nvPr/>
              </p:nvSpPr>
              <p:spPr>
                <a:xfrm flipH="1" flipV="1">
                  <a:off x="2518920" y="2427120"/>
                  <a:ext cx="136440" cy="64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4" name=""/>
                <p:cNvSpPr/>
                <p:nvPr/>
              </p:nvSpPr>
              <p:spPr>
                <a:xfrm flipH="1" flipV="1">
                  <a:off x="2518920" y="243000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5" name=""/>
                <p:cNvSpPr/>
                <p:nvPr/>
              </p:nvSpPr>
              <p:spPr>
                <a:xfrm flipH="1" flipV="1">
                  <a:off x="2518920" y="243000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6" name=""/>
                <p:cNvSpPr/>
                <p:nvPr/>
              </p:nvSpPr>
              <p:spPr>
                <a:xfrm flipH="1">
                  <a:off x="2398320" y="1395000"/>
                  <a:ext cx="115920" cy="96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7" name=""/>
                <p:cNvSpPr/>
                <p:nvPr/>
              </p:nvSpPr>
              <p:spPr>
                <a:xfrm flipH="1">
                  <a:off x="2072880" y="1106280"/>
                  <a:ext cx="59040" cy="137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8" name=""/>
                <p:cNvSpPr/>
                <p:nvPr/>
              </p:nvSpPr>
              <p:spPr>
                <a:xfrm flipH="1">
                  <a:off x="2072880" y="1107720"/>
                  <a:ext cx="619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9" name=""/>
                <p:cNvSpPr/>
                <p:nvPr/>
              </p:nvSpPr>
              <p:spPr>
                <a:xfrm flipH="1">
                  <a:off x="1892160" y="1041120"/>
                  <a:ext cx="316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0" name=""/>
                <p:cNvSpPr/>
                <p:nvPr/>
              </p:nvSpPr>
              <p:spPr>
                <a:xfrm flipH="1">
                  <a:off x="2603160" y="2055600"/>
                  <a:ext cx="147600" cy="1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1" name=""/>
                <p:cNvSpPr/>
                <p:nvPr/>
              </p:nvSpPr>
              <p:spPr>
                <a:xfrm flipV="1">
                  <a:off x="1304640" y="2866680"/>
                  <a:ext cx="60480" cy="138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2" name=""/>
                <p:cNvSpPr/>
                <p:nvPr/>
              </p:nvSpPr>
              <p:spPr>
                <a:xfrm flipH="1" flipV="1">
                  <a:off x="1791720" y="2936160"/>
                  <a:ext cx="1116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3" name=""/>
                <p:cNvSpPr/>
                <p:nvPr/>
              </p:nvSpPr>
              <p:spPr>
                <a:xfrm>
                  <a:off x="966600" y="1341000"/>
                  <a:ext cx="108000" cy="103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4" name=""/>
                <p:cNvSpPr/>
                <p:nvPr/>
              </p:nvSpPr>
              <p:spPr>
                <a:xfrm flipH="1">
                  <a:off x="2492280" y="1557000"/>
                  <a:ext cx="131760" cy="71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5" name=""/>
                <p:cNvSpPr/>
                <p:nvPr/>
              </p:nvSpPr>
              <p:spPr>
                <a:xfrm flipV="1">
                  <a:off x="1434960" y="2907720"/>
                  <a:ext cx="3960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6" name=""/>
                <p:cNvSpPr/>
                <p:nvPr/>
              </p:nvSpPr>
              <p:spPr>
                <a:xfrm flipH="1" flipV="1">
                  <a:off x="2585880" y="2220120"/>
                  <a:ext cx="149040" cy="2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7" name=""/>
                <p:cNvSpPr/>
                <p:nvPr/>
              </p:nvSpPr>
              <p:spPr>
                <a:xfrm flipH="1" flipV="1">
                  <a:off x="2585880" y="2220120"/>
                  <a:ext cx="149040" cy="2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8" name=""/>
                <p:cNvSpPr/>
                <p:nvPr/>
              </p:nvSpPr>
              <p:spPr>
                <a:xfrm flipV="1">
                  <a:off x="968040" y="2666520"/>
                  <a:ext cx="108000" cy="106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 flipH="1">
                  <a:off x="1937880" y="1052280"/>
                  <a:ext cx="378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1434960" y="1056960"/>
                  <a:ext cx="3960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1" name=""/>
                <p:cNvSpPr/>
                <p:nvPr/>
              </p:nvSpPr>
              <p:spPr>
                <a:xfrm flipH="1">
                  <a:off x="1787040" y="1022040"/>
                  <a:ext cx="1116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2" name=""/>
                <p:cNvSpPr/>
                <p:nvPr/>
              </p:nvSpPr>
              <p:spPr>
                <a:xfrm flipH="1">
                  <a:off x="2307960" y="1282320"/>
                  <a:ext cx="1000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 flipH="1">
                  <a:off x="2000160" y="1074240"/>
                  <a:ext cx="4896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4" name=""/>
                <p:cNvSpPr/>
                <p:nvPr/>
              </p:nvSpPr>
              <p:spPr>
                <a:xfrm flipH="1">
                  <a:off x="1768320" y="1022040"/>
                  <a:ext cx="936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"/>
                <p:cNvSpPr/>
                <p:nvPr/>
              </p:nvSpPr>
              <p:spPr>
                <a:xfrm flipH="1">
                  <a:off x="1768320" y="1022040"/>
                  <a:ext cx="936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6" name=""/>
                <p:cNvSpPr/>
                <p:nvPr/>
              </p:nvSpPr>
              <p:spPr>
                <a:xfrm>
                  <a:off x="1163520" y="1179360"/>
                  <a:ext cx="79200" cy="12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7" name=""/>
                <p:cNvSpPr/>
                <p:nvPr/>
              </p:nvSpPr>
              <p:spPr>
                <a:xfrm>
                  <a:off x="1158480" y="1182240"/>
                  <a:ext cx="81000" cy="127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>
                  <a:off x="1153800" y="1184040"/>
                  <a:ext cx="81000" cy="127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 flipH="1" flipV="1">
                  <a:off x="2322360" y="2701080"/>
                  <a:ext cx="102960" cy="109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 flipH="1" flipV="1">
                  <a:off x="2323440" y="2698560"/>
                  <a:ext cx="103320" cy="110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 flipV="1">
                  <a:off x="1253880" y="2847240"/>
                  <a:ext cx="68400" cy="133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 flipH="1">
                  <a:off x="2101320" y="1122120"/>
                  <a:ext cx="6516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3" name=""/>
                <p:cNvSpPr/>
                <p:nvPr/>
              </p:nvSpPr>
              <p:spPr>
                <a:xfrm flipV="1">
                  <a:off x="693360" y="2182320"/>
                  <a:ext cx="146160" cy="2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 flipH="1">
                  <a:off x="2441160" y="1460160"/>
                  <a:ext cx="122400" cy="87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 flipH="1">
                  <a:off x="2441160" y="1460160"/>
                  <a:ext cx="122400" cy="87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>
                  <a:off x="1604880" y="1026720"/>
                  <a:ext cx="172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1604880" y="1026720"/>
                  <a:ext cx="172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1604880" y="1026720"/>
                  <a:ext cx="172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9" name=""/>
                <p:cNvSpPr/>
                <p:nvPr/>
              </p:nvSpPr>
              <p:spPr>
                <a:xfrm>
                  <a:off x="1558800" y="1031400"/>
                  <a:ext cx="2196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0" name=""/>
                <p:cNvSpPr/>
                <p:nvPr/>
              </p:nvSpPr>
              <p:spPr>
                <a:xfrm>
                  <a:off x="1558800" y="1031400"/>
                  <a:ext cx="2196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>
                  <a:off x="1352160" y="108540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>
                  <a:off x="942840" y="1366560"/>
                  <a:ext cx="112680" cy="101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 flipV="1">
                  <a:off x="788760" y="2449080"/>
                  <a:ext cx="135000" cy="66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4" name=""/>
                <p:cNvSpPr/>
                <p:nvPr/>
              </p:nvSpPr>
              <p:spPr>
                <a:xfrm flipV="1">
                  <a:off x="839520" y="252540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5" name=""/>
                <p:cNvSpPr/>
                <p:nvPr/>
              </p:nvSpPr>
              <p:spPr>
                <a:xfrm flipV="1">
                  <a:off x="839520" y="2525040"/>
                  <a:ext cx="127080" cy="82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 flipV="1">
                  <a:off x="882360" y="2577240"/>
                  <a:ext cx="1206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 flipV="1">
                  <a:off x="1479240" y="2917440"/>
                  <a:ext cx="3492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8" name=""/>
                <p:cNvSpPr/>
                <p:nvPr/>
              </p:nvSpPr>
              <p:spPr>
                <a:xfrm flipV="1">
                  <a:off x="1479240" y="2917440"/>
                  <a:ext cx="3492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"/>
                <p:cNvSpPr/>
                <p:nvPr/>
              </p:nvSpPr>
              <p:spPr>
                <a:xfrm flipV="1">
                  <a:off x="1479240" y="2917440"/>
                  <a:ext cx="3492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0" name=""/>
                <p:cNvSpPr/>
                <p:nvPr/>
              </p:nvSpPr>
              <p:spPr>
                <a:xfrm flipH="1" flipV="1">
                  <a:off x="2440800" y="2561400"/>
                  <a:ext cx="125640" cy="86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 flipH="1" flipV="1">
                  <a:off x="2558520" y="2328480"/>
                  <a:ext cx="142920" cy="4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 flipH="1" flipV="1">
                  <a:off x="2558520" y="2328480"/>
                  <a:ext cx="142920" cy="4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 flipH="1" flipV="1">
                  <a:off x="2558520" y="2328120"/>
                  <a:ext cx="142920" cy="4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"/>
                <p:cNvSpPr/>
                <p:nvPr/>
              </p:nvSpPr>
              <p:spPr>
                <a:xfrm>
                  <a:off x="1266480" y="1122120"/>
                  <a:ext cx="6516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>
                  <a:off x="993600" y="1314000"/>
                  <a:ext cx="104760" cy="106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6" name=""/>
                <p:cNvSpPr/>
                <p:nvPr/>
              </p:nvSpPr>
              <p:spPr>
                <a:xfrm flipH="1">
                  <a:off x="2134440" y="1141200"/>
                  <a:ext cx="7164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7" name=""/>
                <p:cNvSpPr/>
                <p:nvPr/>
              </p:nvSpPr>
              <p:spPr>
                <a:xfrm flipH="1">
                  <a:off x="2134440" y="1141200"/>
                  <a:ext cx="7164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8" name=""/>
                <p:cNvSpPr/>
                <p:nvPr/>
              </p:nvSpPr>
              <p:spPr>
                <a:xfrm flipH="1" flipV="1">
                  <a:off x="2391840" y="2628360"/>
                  <a:ext cx="11268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9" name=""/>
                <p:cNvSpPr/>
                <p:nvPr/>
              </p:nvSpPr>
              <p:spPr>
                <a:xfrm flipH="1" flipV="1">
                  <a:off x="2374200" y="2646000"/>
                  <a:ext cx="112680" cy="100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0" name=""/>
                <p:cNvSpPr/>
                <p:nvPr/>
              </p:nvSpPr>
              <p:spPr>
                <a:xfrm flipH="1" flipV="1">
                  <a:off x="2374200" y="2646000"/>
                  <a:ext cx="112680" cy="100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1" name=""/>
                <p:cNvSpPr/>
                <p:nvPr/>
              </p:nvSpPr>
              <p:spPr>
                <a:xfrm flipH="1" flipV="1">
                  <a:off x="2374200" y="2647440"/>
                  <a:ext cx="11268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2" name=""/>
                <p:cNvSpPr/>
                <p:nvPr/>
              </p:nvSpPr>
              <p:spPr>
                <a:xfrm flipH="1" flipV="1">
                  <a:off x="2074320" y="2863440"/>
                  <a:ext cx="6012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3" name=""/>
                <p:cNvSpPr/>
                <p:nvPr/>
              </p:nvSpPr>
              <p:spPr>
                <a:xfrm flipH="1">
                  <a:off x="2161800" y="1160280"/>
                  <a:ext cx="76320" cy="129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 flipH="1">
                  <a:off x="2163240" y="1160280"/>
                  <a:ext cx="74520" cy="129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5" name=""/>
                <p:cNvSpPr/>
                <p:nvPr/>
              </p:nvSpPr>
              <p:spPr>
                <a:xfrm flipV="1">
                  <a:off x="757080" y="2391840"/>
                  <a:ext cx="13968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6" name=""/>
                <p:cNvSpPr/>
                <p:nvPr/>
              </p:nvSpPr>
              <p:spPr>
                <a:xfrm flipV="1">
                  <a:off x="757080" y="2391840"/>
                  <a:ext cx="13968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7" name=""/>
                <p:cNvSpPr/>
                <p:nvPr/>
              </p:nvSpPr>
              <p:spPr>
                <a:xfrm flipV="1">
                  <a:off x="757080" y="2391840"/>
                  <a:ext cx="139680" cy="53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8" name=""/>
                <p:cNvSpPr/>
                <p:nvPr/>
              </p:nvSpPr>
              <p:spPr>
                <a:xfrm>
                  <a:off x="688680" y="1929960"/>
                  <a:ext cx="147600" cy="1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>
                  <a:off x="690480" y="1923840"/>
                  <a:ext cx="14904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 flipV="1">
                  <a:off x="937800" y="2637720"/>
                  <a:ext cx="11304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1" name=""/>
                <p:cNvSpPr/>
                <p:nvPr/>
              </p:nvSpPr>
              <p:spPr>
                <a:xfrm flipV="1">
                  <a:off x="934920" y="2636280"/>
                  <a:ext cx="11592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 flipV="1">
                  <a:off x="934920" y="2636280"/>
                  <a:ext cx="11592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 flipV="1">
                  <a:off x="1272960" y="2853720"/>
                  <a:ext cx="6336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 flipH="1" flipV="1">
                  <a:off x="2594880" y="2160360"/>
                  <a:ext cx="149400" cy="17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 flipH="1" flipV="1">
                  <a:off x="2594880" y="2160360"/>
                  <a:ext cx="149400" cy="17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>
                  <a:off x="1379160" y="1074240"/>
                  <a:ext cx="51120" cy="144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7" name=""/>
                <p:cNvSpPr/>
                <p:nvPr/>
              </p:nvSpPr>
              <p:spPr>
                <a:xfrm>
                  <a:off x="1103040" y="1220400"/>
                  <a:ext cx="8892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>
                  <a:off x="1096560" y="1225080"/>
                  <a:ext cx="87480" cy="120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1096560" y="1225080"/>
                  <a:ext cx="90720" cy="120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0" name=""/>
                <p:cNvSpPr/>
                <p:nvPr/>
              </p:nvSpPr>
              <p:spPr>
                <a:xfrm>
                  <a:off x="684000" y="1993680"/>
                  <a:ext cx="14760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 flipV="1">
                  <a:off x="688680" y="2150280"/>
                  <a:ext cx="147600" cy="1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 flipH="1">
                  <a:off x="2415600" y="1420560"/>
                  <a:ext cx="119160" cy="92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 flipH="1">
                  <a:off x="1923480" y="1047600"/>
                  <a:ext cx="334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 flipH="1" flipV="1">
                  <a:off x="2454120" y="2544480"/>
                  <a:ext cx="125280" cy="84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 flipH="1" flipV="1">
                  <a:off x="2454120" y="2544480"/>
                  <a:ext cx="125280" cy="84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6" name=""/>
                <p:cNvSpPr/>
                <p:nvPr/>
              </p:nvSpPr>
              <p:spPr>
                <a:xfrm flipH="1" flipV="1">
                  <a:off x="2454120" y="2547360"/>
                  <a:ext cx="125280" cy="83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7" name=""/>
                <p:cNvSpPr/>
                <p:nvPr/>
              </p:nvSpPr>
              <p:spPr>
                <a:xfrm flipH="1" flipV="1">
                  <a:off x="2454120" y="2547360"/>
                  <a:ext cx="125280" cy="83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 flipH="1" flipV="1">
                  <a:off x="2454120" y="2547360"/>
                  <a:ext cx="125280" cy="83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 flipH="1" flipV="1">
                  <a:off x="2454120" y="2547360"/>
                  <a:ext cx="125280" cy="83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0" name=""/>
                <p:cNvSpPr/>
                <p:nvPr/>
              </p:nvSpPr>
              <p:spPr>
                <a:xfrm flipH="1" flipV="1">
                  <a:off x="2454120" y="2547360"/>
                  <a:ext cx="125280" cy="83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 flipH="1">
                  <a:off x="1837800" y="10285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2" name=""/>
                <p:cNvSpPr/>
                <p:nvPr/>
              </p:nvSpPr>
              <p:spPr>
                <a:xfrm flipH="1">
                  <a:off x="1847520" y="1031400"/>
                  <a:ext cx="2376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 flipV="1">
                  <a:off x="703080" y="2233080"/>
                  <a:ext cx="146160" cy="29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>
                  <a:off x="1355400" y="1083960"/>
                  <a:ext cx="5256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 flipH="1">
                  <a:off x="2599560" y="1990440"/>
                  <a:ext cx="150840" cy="7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 flipH="1">
                  <a:off x="2599560" y="1990440"/>
                  <a:ext cx="150840" cy="7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7" name=""/>
                <p:cNvSpPr/>
                <p:nvPr/>
              </p:nvSpPr>
              <p:spPr>
                <a:xfrm flipH="1">
                  <a:off x="2599560" y="1990440"/>
                  <a:ext cx="1508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>
                  <a:off x="906120" y="1407960"/>
                  <a:ext cx="11772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>
                  <a:off x="901440" y="1414080"/>
                  <a:ext cx="11736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>
                  <a:off x="900000" y="1417320"/>
                  <a:ext cx="11880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1" name=""/>
                <p:cNvSpPr/>
                <p:nvPr/>
              </p:nvSpPr>
              <p:spPr>
                <a:xfrm>
                  <a:off x="900000" y="1417320"/>
                  <a:ext cx="11880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900000" y="1417320"/>
                  <a:ext cx="11880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 flipV="1">
                  <a:off x="1469880" y="2914200"/>
                  <a:ext cx="3636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 flipV="1">
                  <a:off x="1468080" y="2914200"/>
                  <a:ext cx="3492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 flipV="1">
                  <a:off x="1641240" y="2938320"/>
                  <a:ext cx="111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 flipV="1">
                  <a:off x="1641240" y="2938320"/>
                  <a:ext cx="111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 flipV="1">
                  <a:off x="1641240" y="2938320"/>
                  <a:ext cx="93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 flipV="1">
                  <a:off x="1645920" y="2938320"/>
                  <a:ext cx="111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 flipV="1">
                  <a:off x="1645920" y="2938320"/>
                  <a:ext cx="972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 flipV="1">
                  <a:off x="1647720" y="2938320"/>
                  <a:ext cx="93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 flipV="1">
                  <a:off x="1647720" y="2938320"/>
                  <a:ext cx="93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 flipH="1">
                  <a:off x="2408040" y="1407960"/>
                  <a:ext cx="11736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 flipH="1" flipV="1">
                  <a:off x="2148840" y="2828160"/>
                  <a:ext cx="7452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 flipH="1">
                  <a:off x="1966320" y="1061640"/>
                  <a:ext cx="414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 flipH="1">
                  <a:off x="1966320" y="106164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>
                  <a:off x="777600" y="1620360"/>
                  <a:ext cx="136440" cy="63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>
                  <a:off x="777600" y="1620360"/>
                  <a:ext cx="136440" cy="63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777600" y="1618920"/>
                  <a:ext cx="13644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>
                  <a:off x="777600" y="1618920"/>
                  <a:ext cx="13644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>
                  <a:off x="777600" y="1618920"/>
                  <a:ext cx="13644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>
                  <a:off x="777600" y="1618920"/>
                  <a:ext cx="13644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2" name=""/>
                <p:cNvSpPr/>
                <p:nvPr/>
              </p:nvSpPr>
              <p:spPr>
                <a:xfrm>
                  <a:off x="774360" y="1623600"/>
                  <a:ext cx="13680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774360" y="1623600"/>
                  <a:ext cx="13680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774360" y="1623600"/>
                  <a:ext cx="13680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774360" y="1620360"/>
                  <a:ext cx="13680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774360" y="1620360"/>
                  <a:ext cx="13680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777600" y="1620360"/>
                  <a:ext cx="133560" cy="63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>
                  <a:off x="777600" y="1620360"/>
                  <a:ext cx="136440" cy="63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>
                  <a:off x="777600" y="1620360"/>
                  <a:ext cx="136440" cy="63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777600" y="1620360"/>
                  <a:ext cx="136440" cy="63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>
                  <a:off x="779400" y="1614240"/>
                  <a:ext cx="13644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779400" y="1614240"/>
                  <a:ext cx="13644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>
                  <a:off x="779400" y="1614240"/>
                  <a:ext cx="13644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779400" y="1614240"/>
                  <a:ext cx="13644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779400" y="1614240"/>
                  <a:ext cx="13644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779400" y="161424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>
                  <a:off x="779400" y="161424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779400" y="1611000"/>
                  <a:ext cx="13644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782280" y="1611000"/>
                  <a:ext cx="13356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774360" y="1623600"/>
                  <a:ext cx="13680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774360" y="1623600"/>
                  <a:ext cx="13680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2" name=""/>
                <p:cNvSpPr/>
                <p:nvPr/>
              </p:nvSpPr>
              <p:spPr>
                <a:xfrm flipH="1" flipV="1">
                  <a:off x="1976040" y="2901240"/>
                  <a:ext cx="4320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3" name=""/>
                <p:cNvSpPr/>
                <p:nvPr/>
              </p:nvSpPr>
              <p:spPr>
                <a:xfrm flipH="1" flipV="1">
                  <a:off x="1976040" y="2901240"/>
                  <a:ext cx="432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4" name=""/>
                <p:cNvSpPr/>
                <p:nvPr/>
              </p:nvSpPr>
              <p:spPr>
                <a:xfrm flipH="1" flipV="1">
                  <a:off x="1959840" y="2907720"/>
                  <a:ext cx="3996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5" name=""/>
                <p:cNvSpPr/>
                <p:nvPr/>
              </p:nvSpPr>
              <p:spPr>
                <a:xfrm flipH="1" flipV="1">
                  <a:off x="1966320" y="290448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6" name=""/>
                <p:cNvSpPr/>
                <p:nvPr/>
              </p:nvSpPr>
              <p:spPr>
                <a:xfrm flipH="1" flipV="1">
                  <a:off x="1966320" y="2904480"/>
                  <a:ext cx="414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7" name=""/>
                <p:cNvSpPr/>
                <p:nvPr/>
              </p:nvSpPr>
              <p:spPr>
                <a:xfrm flipH="1" flipV="1">
                  <a:off x="1966320" y="2904480"/>
                  <a:ext cx="414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8" name=""/>
                <p:cNvSpPr/>
                <p:nvPr/>
              </p:nvSpPr>
              <p:spPr>
                <a:xfrm flipH="1" flipV="1">
                  <a:off x="1966320" y="2904480"/>
                  <a:ext cx="414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9" name=""/>
                <p:cNvSpPr/>
                <p:nvPr/>
              </p:nvSpPr>
              <p:spPr>
                <a:xfrm flipH="1" flipV="1">
                  <a:off x="1966320" y="2904480"/>
                  <a:ext cx="414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0" name=""/>
                <p:cNvSpPr/>
                <p:nvPr/>
              </p:nvSpPr>
              <p:spPr>
                <a:xfrm flipH="1" flipV="1">
                  <a:off x="1964880" y="290448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1" name=""/>
                <p:cNvSpPr/>
                <p:nvPr/>
              </p:nvSpPr>
              <p:spPr>
                <a:xfrm flipH="1" flipV="1">
                  <a:off x="1964880" y="290448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2" name=""/>
                <p:cNvSpPr/>
                <p:nvPr/>
              </p:nvSpPr>
              <p:spPr>
                <a:xfrm flipH="1" flipV="1">
                  <a:off x="1964880" y="290448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3" name=""/>
                <p:cNvSpPr/>
                <p:nvPr/>
              </p:nvSpPr>
              <p:spPr>
                <a:xfrm flipH="1" flipV="1">
                  <a:off x="1964880" y="290448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4" name=""/>
                <p:cNvSpPr/>
                <p:nvPr/>
              </p:nvSpPr>
              <p:spPr>
                <a:xfrm flipH="1" flipV="1">
                  <a:off x="1964880" y="290448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5" name=""/>
                <p:cNvSpPr/>
                <p:nvPr/>
              </p:nvSpPr>
              <p:spPr>
                <a:xfrm flipH="1" flipV="1">
                  <a:off x="1964880" y="290448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6" name=""/>
                <p:cNvSpPr/>
                <p:nvPr/>
              </p:nvSpPr>
              <p:spPr>
                <a:xfrm flipH="1" flipV="1">
                  <a:off x="1965240" y="2904480"/>
                  <a:ext cx="396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7" name=""/>
                <p:cNvSpPr/>
                <p:nvPr/>
              </p:nvSpPr>
              <p:spPr>
                <a:xfrm flipH="1" flipV="1">
                  <a:off x="1965240" y="2904480"/>
                  <a:ext cx="396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8" name=""/>
                <p:cNvSpPr/>
                <p:nvPr/>
              </p:nvSpPr>
              <p:spPr>
                <a:xfrm flipH="1" flipV="1">
                  <a:off x="1965240" y="2904480"/>
                  <a:ext cx="396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9" name=""/>
                <p:cNvSpPr/>
                <p:nvPr/>
              </p:nvSpPr>
              <p:spPr>
                <a:xfrm flipH="1" flipV="1">
                  <a:off x="1965240" y="2904480"/>
                  <a:ext cx="396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0" name=""/>
                <p:cNvSpPr/>
                <p:nvPr/>
              </p:nvSpPr>
              <p:spPr>
                <a:xfrm flipH="1" flipV="1">
                  <a:off x="1961640" y="290448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1" name=""/>
                <p:cNvSpPr/>
                <p:nvPr/>
              </p:nvSpPr>
              <p:spPr>
                <a:xfrm flipH="1" flipV="1">
                  <a:off x="1961640" y="290448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2" name=""/>
                <p:cNvSpPr/>
                <p:nvPr/>
              </p:nvSpPr>
              <p:spPr>
                <a:xfrm flipH="1" flipV="1">
                  <a:off x="1961640" y="290448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3" name=""/>
                <p:cNvSpPr/>
                <p:nvPr/>
              </p:nvSpPr>
              <p:spPr>
                <a:xfrm flipH="1" flipV="1">
                  <a:off x="1961640" y="290448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4" name=""/>
                <p:cNvSpPr/>
                <p:nvPr/>
              </p:nvSpPr>
              <p:spPr>
                <a:xfrm flipH="1" flipV="1">
                  <a:off x="1962000" y="2904480"/>
                  <a:ext cx="410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5" name=""/>
                <p:cNvSpPr/>
                <p:nvPr/>
              </p:nvSpPr>
              <p:spPr>
                <a:xfrm flipH="1" flipV="1">
                  <a:off x="1962000" y="2904480"/>
                  <a:ext cx="410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6" name=""/>
                <p:cNvSpPr/>
                <p:nvPr/>
              </p:nvSpPr>
              <p:spPr>
                <a:xfrm flipH="1" flipV="1">
                  <a:off x="1962000" y="2904480"/>
                  <a:ext cx="410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7" name=""/>
                <p:cNvSpPr/>
                <p:nvPr/>
              </p:nvSpPr>
              <p:spPr>
                <a:xfrm flipH="1" flipV="1">
                  <a:off x="1962000" y="2904840"/>
                  <a:ext cx="410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8" name=""/>
                <p:cNvSpPr/>
                <p:nvPr/>
              </p:nvSpPr>
              <p:spPr>
                <a:xfrm flipH="1" flipV="1">
                  <a:off x="1962000" y="2904840"/>
                  <a:ext cx="410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"/>
                <p:cNvSpPr/>
                <p:nvPr/>
              </p:nvSpPr>
              <p:spPr>
                <a:xfrm flipH="1" flipV="1">
                  <a:off x="1969920" y="2904480"/>
                  <a:ext cx="396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0" name=""/>
                <p:cNvSpPr/>
                <p:nvPr/>
              </p:nvSpPr>
              <p:spPr>
                <a:xfrm flipH="1" flipV="1">
                  <a:off x="1966320" y="290448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1" name=""/>
                <p:cNvSpPr/>
                <p:nvPr/>
              </p:nvSpPr>
              <p:spPr>
                <a:xfrm flipH="1" flipV="1">
                  <a:off x="1966320" y="290448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"/>
                <p:cNvSpPr/>
                <p:nvPr/>
              </p:nvSpPr>
              <p:spPr>
                <a:xfrm flipH="1" flipV="1">
                  <a:off x="1925280" y="2914200"/>
                  <a:ext cx="3672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3" name=""/>
                <p:cNvSpPr/>
                <p:nvPr/>
              </p:nvSpPr>
              <p:spPr>
                <a:xfrm>
                  <a:off x="772920" y="162828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"/>
                <p:cNvSpPr/>
                <p:nvPr/>
              </p:nvSpPr>
              <p:spPr>
                <a:xfrm>
                  <a:off x="772920" y="162828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5" name=""/>
                <p:cNvSpPr/>
                <p:nvPr/>
              </p:nvSpPr>
              <p:spPr>
                <a:xfrm>
                  <a:off x="772920" y="162828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6" name=""/>
                <p:cNvSpPr/>
                <p:nvPr/>
              </p:nvSpPr>
              <p:spPr>
                <a:xfrm>
                  <a:off x="772920" y="162828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7" name=""/>
                <p:cNvSpPr/>
                <p:nvPr/>
              </p:nvSpPr>
              <p:spPr>
                <a:xfrm>
                  <a:off x="772920" y="162828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8" name=""/>
                <p:cNvSpPr/>
                <p:nvPr/>
              </p:nvSpPr>
              <p:spPr>
                <a:xfrm>
                  <a:off x="772920" y="162828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9" name=""/>
                <p:cNvSpPr/>
                <p:nvPr/>
              </p:nvSpPr>
              <p:spPr>
                <a:xfrm>
                  <a:off x="772920" y="162828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0" name=""/>
                <p:cNvSpPr/>
                <p:nvPr/>
              </p:nvSpPr>
              <p:spPr>
                <a:xfrm flipV="1">
                  <a:off x="1469880" y="2914200"/>
                  <a:ext cx="3636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1" name=""/>
                <p:cNvSpPr/>
                <p:nvPr/>
              </p:nvSpPr>
              <p:spPr>
                <a:xfrm flipH="1" flipV="1">
                  <a:off x="1933200" y="2914200"/>
                  <a:ext cx="36720" cy="144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2" name=""/>
                <p:cNvSpPr/>
                <p:nvPr/>
              </p:nvSpPr>
              <p:spPr>
                <a:xfrm flipH="1" flipV="1">
                  <a:off x="1933200" y="2914200"/>
                  <a:ext cx="36720" cy="144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3" name=""/>
                <p:cNvSpPr/>
                <p:nvPr/>
              </p:nvSpPr>
              <p:spPr>
                <a:xfrm flipH="1" flipV="1">
                  <a:off x="1955520" y="2907720"/>
                  <a:ext cx="3960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4" name=""/>
                <p:cNvSpPr/>
                <p:nvPr/>
              </p:nvSpPr>
              <p:spPr>
                <a:xfrm flipH="1" flipV="1">
                  <a:off x="1955520" y="2907720"/>
                  <a:ext cx="3960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5" name=""/>
                <p:cNvSpPr/>
                <p:nvPr/>
              </p:nvSpPr>
              <p:spPr>
                <a:xfrm flipH="1" flipV="1">
                  <a:off x="1957320" y="2907720"/>
                  <a:ext cx="4104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6" name=""/>
                <p:cNvSpPr/>
                <p:nvPr/>
              </p:nvSpPr>
              <p:spPr>
                <a:xfrm flipH="1" flipV="1">
                  <a:off x="1955520" y="2907720"/>
                  <a:ext cx="3960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7" name=""/>
                <p:cNvSpPr/>
                <p:nvPr/>
              </p:nvSpPr>
              <p:spPr>
                <a:xfrm flipH="1" flipV="1">
                  <a:off x="1942920" y="2909520"/>
                  <a:ext cx="3816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8" name=""/>
                <p:cNvSpPr/>
                <p:nvPr/>
              </p:nvSpPr>
              <p:spPr>
                <a:xfrm flipH="1" flipV="1">
                  <a:off x="1942920" y="2909520"/>
                  <a:ext cx="3816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9" name=""/>
                <p:cNvSpPr/>
                <p:nvPr/>
              </p:nvSpPr>
              <p:spPr>
                <a:xfrm flipH="1">
                  <a:off x="1983960" y="1066320"/>
                  <a:ext cx="44640" cy="144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0" name=""/>
                <p:cNvSpPr/>
                <p:nvPr/>
              </p:nvSpPr>
              <p:spPr>
                <a:xfrm flipV="1">
                  <a:off x="1717560" y="2941200"/>
                  <a:ext cx="14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1" name=""/>
                <p:cNvSpPr/>
                <p:nvPr/>
              </p:nvSpPr>
              <p:spPr>
                <a:xfrm flipV="1">
                  <a:off x="1714320" y="2941200"/>
                  <a:ext cx="14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2" name=""/>
                <p:cNvSpPr/>
                <p:nvPr/>
              </p:nvSpPr>
              <p:spPr>
                <a:xfrm flipH="1" flipV="1">
                  <a:off x="2058480" y="2871360"/>
                  <a:ext cx="5868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3" name=""/>
                <p:cNvSpPr/>
                <p:nvPr/>
              </p:nvSpPr>
              <p:spPr>
                <a:xfrm flipH="1" flipV="1">
                  <a:off x="2058480" y="2871360"/>
                  <a:ext cx="5868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4" name=""/>
                <p:cNvSpPr/>
                <p:nvPr/>
              </p:nvSpPr>
              <p:spPr>
                <a:xfrm flipH="1" flipV="1">
                  <a:off x="2058480" y="2871360"/>
                  <a:ext cx="5868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5" name=""/>
                <p:cNvSpPr/>
                <p:nvPr/>
              </p:nvSpPr>
              <p:spPr>
                <a:xfrm flipH="1">
                  <a:off x="2599560" y="2004840"/>
                  <a:ext cx="150840" cy="7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6" name=""/>
                <p:cNvSpPr/>
                <p:nvPr/>
              </p:nvSpPr>
              <p:spPr>
                <a:xfrm>
                  <a:off x="714240" y="1793520"/>
                  <a:ext cx="145800" cy="3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7" name=""/>
                <p:cNvSpPr/>
                <p:nvPr/>
              </p:nvSpPr>
              <p:spPr>
                <a:xfrm>
                  <a:off x="1338120" y="1090440"/>
                  <a:ext cx="5544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8" name=""/>
                <p:cNvSpPr/>
                <p:nvPr/>
              </p:nvSpPr>
              <p:spPr>
                <a:xfrm flipH="1" flipV="1">
                  <a:off x="1744200" y="2941200"/>
                  <a:ext cx="46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9" name=""/>
                <p:cNvSpPr/>
                <p:nvPr/>
              </p:nvSpPr>
              <p:spPr>
                <a:xfrm flipH="1" flipV="1">
                  <a:off x="1748880" y="2941200"/>
                  <a:ext cx="46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0" name=""/>
                <p:cNvSpPr/>
                <p:nvPr/>
              </p:nvSpPr>
              <p:spPr>
                <a:xfrm>
                  <a:off x="948960" y="1356840"/>
                  <a:ext cx="112680" cy="103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1" name=""/>
                <p:cNvSpPr/>
                <p:nvPr/>
              </p:nvSpPr>
              <p:spPr>
                <a:xfrm>
                  <a:off x="1577880" y="1028520"/>
                  <a:ext cx="219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2" name=""/>
                <p:cNvSpPr/>
                <p:nvPr/>
              </p:nvSpPr>
              <p:spPr>
                <a:xfrm>
                  <a:off x="1577880" y="1028520"/>
                  <a:ext cx="219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3" name=""/>
                <p:cNvSpPr/>
                <p:nvPr/>
              </p:nvSpPr>
              <p:spPr>
                <a:xfrm>
                  <a:off x="1577880" y="1028520"/>
                  <a:ext cx="219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4" name=""/>
                <p:cNvSpPr/>
                <p:nvPr/>
              </p:nvSpPr>
              <p:spPr>
                <a:xfrm>
                  <a:off x="1577880" y="1028520"/>
                  <a:ext cx="219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5" name=""/>
                <p:cNvSpPr/>
                <p:nvPr/>
              </p:nvSpPr>
              <p:spPr>
                <a:xfrm>
                  <a:off x="1577880" y="10285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6" name=""/>
                <p:cNvSpPr/>
                <p:nvPr/>
              </p:nvSpPr>
              <p:spPr>
                <a:xfrm>
                  <a:off x="1577880" y="10285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7" name=""/>
                <p:cNvSpPr/>
                <p:nvPr/>
              </p:nvSpPr>
              <p:spPr>
                <a:xfrm flipH="1" flipV="1">
                  <a:off x="2125440" y="2839320"/>
                  <a:ext cx="6984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8" name=""/>
                <p:cNvSpPr/>
                <p:nvPr/>
              </p:nvSpPr>
              <p:spPr>
                <a:xfrm flipH="1">
                  <a:off x="2333520" y="1311120"/>
                  <a:ext cx="10296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9" name=""/>
                <p:cNvSpPr/>
                <p:nvPr/>
              </p:nvSpPr>
              <p:spPr>
                <a:xfrm flipH="1" flipV="1">
                  <a:off x="2060280" y="2871360"/>
                  <a:ext cx="6048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0" name=""/>
                <p:cNvSpPr/>
                <p:nvPr/>
              </p:nvSpPr>
              <p:spPr>
                <a:xfrm flipH="1" flipV="1">
                  <a:off x="2067840" y="2866680"/>
                  <a:ext cx="58680" cy="138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1" name=""/>
                <p:cNvSpPr/>
                <p:nvPr/>
              </p:nvSpPr>
              <p:spPr>
                <a:xfrm flipH="1" flipV="1">
                  <a:off x="2079360" y="2861640"/>
                  <a:ext cx="6336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2" name=""/>
                <p:cNvSpPr/>
                <p:nvPr/>
              </p:nvSpPr>
              <p:spPr>
                <a:xfrm flipH="1" flipV="1">
                  <a:off x="2060280" y="2871360"/>
                  <a:ext cx="6048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3" name=""/>
                <p:cNvSpPr/>
                <p:nvPr/>
              </p:nvSpPr>
              <p:spPr>
                <a:xfrm flipH="1" flipV="1">
                  <a:off x="2082240" y="2861640"/>
                  <a:ext cx="601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4" name=""/>
                <p:cNvSpPr/>
                <p:nvPr/>
              </p:nvSpPr>
              <p:spPr>
                <a:xfrm flipH="1" flipV="1">
                  <a:off x="2110680" y="2847240"/>
                  <a:ext cx="66600" cy="133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5" name=""/>
                <p:cNvSpPr/>
                <p:nvPr/>
              </p:nvSpPr>
              <p:spPr>
                <a:xfrm flipH="1" flipV="1">
                  <a:off x="2110680" y="2847240"/>
                  <a:ext cx="66600" cy="133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6" name=""/>
                <p:cNvSpPr/>
                <p:nvPr/>
              </p:nvSpPr>
              <p:spPr>
                <a:xfrm flipH="1" flipV="1">
                  <a:off x="2482560" y="2499480"/>
                  <a:ext cx="130320" cy="73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7" name=""/>
                <p:cNvSpPr/>
                <p:nvPr/>
              </p:nvSpPr>
              <p:spPr>
                <a:xfrm flipH="1" flipV="1">
                  <a:off x="2482560" y="2499480"/>
                  <a:ext cx="130320" cy="73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8" name=""/>
                <p:cNvSpPr/>
                <p:nvPr/>
              </p:nvSpPr>
              <p:spPr>
                <a:xfrm flipH="1" flipV="1">
                  <a:off x="2482560" y="2499840"/>
                  <a:ext cx="130320" cy="76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9" name=""/>
                <p:cNvSpPr/>
                <p:nvPr/>
              </p:nvSpPr>
              <p:spPr>
                <a:xfrm flipH="1" flipV="1">
                  <a:off x="2482560" y="2499840"/>
                  <a:ext cx="130320" cy="76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0" name=""/>
                <p:cNvSpPr/>
                <p:nvPr/>
              </p:nvSpPr>
              <p:spPr>
                <a:xfrm flipH="1" flipV="1">
                  <a:off x="2482560" y="2499840"/>
                  <a:ext cx="130320" cy="76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1" name=""/>
                <p:cNvSpPr/>
                <p:nvPr/>
              </p:nvSpPr>
              <p:spPr>
                <a:xfrm flipH="1">
                  <a:off x="2599560" y="1983960"/>
                  <a:ext cx="14940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2" name=""/>
                <p:cNvSpPr/>
                <p:nvPr/>
              </p:nvSpPr>
              <p:spPr>
                <a:xfrm flipV="1">
                  <a:off x="923760" y="2623320"/>
                  <a:ext cx="114120" cy="96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3" name=""/>
                <p:cNvSpPr/>
                <p:nvPr/>
              </p:nvSpPr>
              <p:spPr>
                <a:xfrm flipV="1">
                  <a:off x="923760" y="2623320"/>
                  <a:ext cx="114120" cy="96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4" name=""/>
                <p:cNvSpPr/>
                <p:nvPr/>
              </p:nvSpPr>
              <p:spPr>
                <a:xfrm flipV="1">
                  <a:off x="923760" y="2623320"/>
                  <a:ext cx="114120" cy="96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5" name=""/>
                <p:cNvSpPr/>
                <p:nvPr/>
              </p:nvSpPr>
              <p:spPr>
                <a:xfrm>
                  <a:off x="1587240" y="1026720"/>
                  <a:ext cx="190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6" name=""/>
                <p:cNvSpPr/>
                <p:nvPr/>
              </p:nvSpPr>
              <p:spPr>
                <a:xfrm flipH="1">
                  <a:off x="2514240" y="1604520"/>
                  <a:ext cx="136800" cy="66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7" name=""/>
                <p:cNvSpPr/>
                <p:nvPr/>
              </p:nvSpPr>
              <p:spPr>
                <a:xfrm flipH="1" flipV="1">
                  <a:off x="2584080" y="2234880"/>
                  <a:ext cx="146160" cy="3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8" name=""/>
                <p:cNvSpPr/>
                <p:nvPr/>
              </p:nvSpPr>
              <p:spPr>
                <a:xfrm>
                  <a:off x="882360" y="1441080"/>
                  <a:ext cx="1206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9" name=""/>
                <p:cNvSpPr/>
                <p:nvPr/>
              </p:nvSpPr>
              <p:spPr>
                <a:xfrm>
                  <a:off x="882360" y="1441080"/>
                  <a:ext cx="1206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0" name=""/>
                <p:cNvSpPr/>
                <p:nvPr/>
              </p:nvSpPr>
              <p:spPr>
                <a:xfrm flipH="1" flipV="1">
                  <a:off x="2576160" y="2271240"/>
                  <a:ext cx="14472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1" name=""/>
                <p:cNvSpPr/>
                <p:nvPr/>
              </p:nvSpPr>
              <p:spPr>
                <a:xfrm>
                  <a:off x="723600" y="1760040"/>
                  <a:ext cx="144360" cy="4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2" name=""/>
                <p:cNvSpPr/>
                <p:nvPr/>
              </p:nvSpPr>
              <p:spPr>
                <a:xfrm flipV="1">
                  <a:off x="774360" y="2421720"/>
                  <a:ext cx="136800" cy="63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3" name=""/>
                <p:cNvSpPr/>
                <p:nvPr/>
              </p:nvSpPr>
              <p:spPr>
                <a:xfrm>
                  <a:off x="1160280" y="1182240"/>
                  <a:ext cx="79200" cy="127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4" name=""/>
                <p:cNvSpPr/>
                <p:nvPr/>
              </p:nvSpPr>
              <p:spPr>
                <a:xfrm>
                  <a:off x="1160280" y="1182240"/>
                  <a:ext cx="79200" cy="123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5" name=""/>
                <p:cNvSpPr/>
                <p:nvPr/>
              </p:nvSpPr>
              <p:spPr>
                <a:xfrm>
                  <a:off x="1160280" y="1182240"/>
                  <a:ext cx="79200" cy="123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6" name=""/>
                <p:cNvSpPr/>
                <p:nvPr/>
              </p:nvSpPr>
              <p:spPr>
                <a:xfrm>
                  <a:off x="1160280" y="1182240"/>
                  <a:ext cx="82440" cy="123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7" name=""/>
                <p:cNvSpPr/>
                <p:nvPr/>
              </p:nvSpPr>
              <p:spPr>
                <a:xfrm>
                  <a:off x="1160280" y="1179360"/>
                  <a:ext cx="82440" cy="12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8" name=""/>
                <p:cNvSpPr/>
                <p:nvPr/>
              </p:nvSpPr>
              <p:spPr>
                <a:xfrm>
                  <a:off x="1160280" y="1179360"/>
                  <a:ext cx="82440" cy="12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9" name=""/>
                <p:cNvSpPr/>
                <p:nvPr/>
              </p:nvSpPr>
              <p:spPr>
                <a:xfrm>
                  <a:off x="1160280" y="1179360"/>
                  <a:ext cx="82440" cy="12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0" name=""/>
                <p:cNvSpPr/>
                <p:nvPr/>
              </p:nvSpPr>
              <p:spPr>
                <a:xfrm>
                  <a:off x="1201680" y="1155240"/>
                  <a:ext cx="74520" cy="130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1" name=""/>
                <p:cNvSpPr/>
                <p:nvPr/>
              </p:nvSpPr>
              <p:spPr>
                <a:xfrm>
                  <a:off x="1042920" y="1267920"/>
                  <a:ext cx="98280" cy="113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2" name=""/>
                <p:cNvSpPr/>
                <p:nvPr/>
              </p:nvSpPr>
              <p:spPr>
                <a:xfrm flipH="1">
                  <a:off x="2580840" y="1831680"/>
                  <a:ext cx="14580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3" name=""/>
                <p:cNvSpPr/>
                <p:nvPr/>
              </p:nvSpPr>
              <p:spPr>
                <a:xfrm flipH="1">
                  <a:off x="1750680" y="1018800"/>
                  <a:ext cx="792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4" name=""/>
                <p:cNvSpPr/>
                <p:nvPr/>
              </p:nvSpPr>
              <p:spPr>
                <a:xfrm flipH="1">
                  <a:off x="2466360" y="1503000"/>
                  <a:ext cx="127080" cy="79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5" name=""/>
                <p:cNvSpPr/>
                <p:nvPr/>
              </p:nvSpPr>
              <p:spPr>
                <a:xfrm flipH="1">
                  <a:off x="2466360" y="1503000"/>
                  <a:ext cx="127080" cy="82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6" name=""/>
                <p:cNvSpPr/>
                <p:nvPr/>
              </p:nvSpPr>
              <p:spPr>
                <a:xfrm flipH="1" flipV="1">
                  <a:off x="1876320" y="2926800"/>
                  <a:ext cx="2520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7" name=""/>
                <p:cNvSpPr/>
                <p:nvPr/>
              </p:nvSpPr>
              <p:spPr>
                <a:xfrm flipH="1">
                  <a:off x="2215800" y="1198080"/>
                  <a:ext cx="84240" cy="125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8" name=""/>
                <p:cNvSpPr/>
                <p:nvPr/>
              </p:nvSpPr>
              <p:spPr>
                <a:xfrm>
                  <a:off x="1125360" y="1206000"/>
                  <a:ext cx="8568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9" name=""/>
                <p:cNvSpPr/>
                <p:nvPr/>
              </p:nvSpPr>
              <p:spPr>
                <a:xfrm>
                  <a:off x="1125360" y="1206000"/>
                  <a:ext cx="8568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0" name=""/>
                <p:cNvSpPr/>
                <p:nvPr/>
              </p:nvSpPr>
              <p:spPr>
                <a:xfrm>
                  <a:off x="1130040" y="1201320"/>
                  <a:ext cx="84240" cy="125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1" name=""/>
                <p:cNvSpPr/>
                <p:nvPr/>
              </p:nvSpPr>
              <p:spPr>
                <a:xfrm flipH="1" flipV="1">
                  <a:off x="1942920" y="2912400"/>
                  <a:ext cx="3816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2" name=""/>
                <p:cNvSpPr/>
                <p:nvPr/>
              </p:nvSpPr>
              <p:spPr>
                <a:xfrm>
                  <a:off x="904680" y="1414080"/>
                  <a:ext cx="117360" cy="92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3" name=""/>
                <p:cNvSpPr/>
                <p:nvPr/>
              </p:nvSpPr>
              <p:spPr>
                <a:xfrm>
                  <a:off x="1698480" y="1018800"/>
                  <a:ext cx="144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4" name=""/>
                <p:cNvSpPr/>
                <p:nvPr/>
              </p:nvSpPr>
              <p:spPr>
                <a:xfrm>
                  <a:off x="1698480" y="1018800"/>
                  <a:ext cx="468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5" name=""/>
                <p:cNvSpPr/>
                <p:nvPr/>
              </p:nvSpPr>
              <p:spPr>
                <a:xfrm flipH="1" flipV="1">
                  <a:off x="2266560" y="2749320"/>
                  <a:ext cx="92160" cy="117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6" name=""/>
                <p:cNvSpPr/>
                <p:nvPr/>
              </p:nvSpPr>
              <p:spPr>
                <a:xfrm flipV="1">
                  <a:off x="1191960" y="2818800"/>
                  <a:ext cx="7632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7" name=""/>
                <p:cNvSpPr/>
                <p:nvPr/>
              </p:nvSpPr>
              <p:spPr>
                <a:xfrm flipV="1">
                  <a:off x="1191960" y="2818800"/>
                  <a:ext cx="7452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8" name=""/>
                <p:cNvSpPr/>
                <p:nvPr/>
              </p:nvSpPr>
              <p:spPr>
                <a:xfrm flipV="1">
                  <a:off x="1190520" y="2818800"/>
                  <a:ext cx="7596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9" name=""/>
                <p:cNvSpPr/>
                <p:nvPr/>
              </p:nvSpPr>
              <p:spPr>
                <a:xfrm flipH="1">
                  <a:off x="2492280" y="1553760"/>
                  <a:ext cx="131760" cy="74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0" name=""/>
                <p:cNvSpPr/>
                <p:nvPr/>
              </p:nvSpPr>
              <p:spPr>
                <a:xfrm flipH="1">
                  <a:off x="1900080" y="1041120"/>
                  <a:ext cx="316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1" name=""/>
                <p:cNvSpPr/>
                <p:nvPr/>
              </p:nvSpPr>
              <p:spPr>
                <a:xfrm>
                  <a:off x="1106280" y="1218960"/>
                  <a:ext cx="8892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2" name=""/>
                <p:cNvSpPr/>
                <p:nvPr/>
              </p:nvSpPr>
              <p:spPr>
                <a:xfrm flipH="1" flipV="1">
                  <a:off x="1857240" y="2928240"/>
                  <a:ext cx="2376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3" name=""/>
                <p:cNvSpPr/>
                <p:nvPr/>
              </p:nvSpPr>
              <p:spPr>
                <a:xfrm flipH="1" flipV="1">
                  <a:off x="1857240" y="2928240"/>
                  <a:ext cx="2376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4" name=""/>
                <p:cNvSpPr/>
                <p:nvPr/>
              </p:nvSpPr>
              <p:spPr>
                <a:xfrm flipH="1" flipV="1">
                  <a:off x="1861920" y="2928240"/>
                  <a:ext cx="2376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5" name=""/>
                <p:cNvSpPr/>
                <p:nvPr/>
              </p:nvSpPr>
              <p:spPr>
                <a:xfrm flipH="1" flipV="1">
                  <a:off x="1861920" y="2928240"/>
                  <a:ext cx="2376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6" name=""/>
                <p:cNvSpPr/>
                <p:nvPr/>
              </p:nvSpPr>
              <p:spPr>
                <a:xfrm flipH="1" flipV="1">
                  <a:off x="1861920" y="2928240"/>
                  <a:ext cx="2376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7" name=""/>
                <p:cNvSpPr/>
                <p:nvPr/>
              </p:nvSpPr>
              <p:spPr>
                <a:xfrm>
                  <a:off x="966600" y="1341000"/>
                  <a:ext cx="108000" cy="103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8" name=""/>
                <p:cNvSpPr/>
                <p:nvPr/>
              </p:nvSpPr>
              <p:spPr>
                <a:xfrm flipH="1">
                  <a:off x="2511360" y="1596600"/>
                  <a:ext cx="134640" cy="68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9" name=""/>
                <p:cNvSpPr/>
                <p:nvPr/>
              </p:nvSpPr>
              <p:spPr>
                <a:xfrm flipH="1">
                  <a:off x="1736280" y="1018800"/>
                  <a:ext cx="468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0" name=""/>
                <p:cNvSpPr/>
                <p:nvPr/>
              </p:nvSpPr>
              <p:spPr>
                <a:xfrm flipH="1">
                  <a:off x="1736280" y="1018800"/>
                  <a:ext cx="468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1" name=""/>
                <p:cNvSpPr/>
                <p:nvPr/>
              </p:nvSpPr>
              <p:spPr>
                <a:xfrm flipH="1">
                  <a:off x="2500200" y="1572840"/>
                  <a:ext cx="13320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2" name=""/>
                <p:cNvSpPr/>
                <p:nvPr/>
              </p:nvSpPr>
              <p:spPr>
                <a:xfrm flipH="1" flipV="1">
                  <a:off x="2388600" y="2631600"/>
                  <a:ext cx="112680" cy="98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3" name=""/>
                <p:cNvSpPr/>
                <p:nvPr/>
              </p:nvSpPr>
              <p:spPr>
                <a:xfrm flipH="1">
                  <a:off x="2603160" y="2052360"/>
                  <a:ext cx="147600" cy="1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4" name=""/>
                <p:cNvSpPr/>
                <p:nvPr/>
              </p:nvSpPr>
              <p:spPr>
                <a:xfrm flipH="1">
                  <a:off x="1910880" y="1045800"/>
                  <a:ext cx="3492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5" name=""/>
                <p:cNvSpPr/>
                <p:nvPr/>
              </p:nvSpPr>
              <p:spPr>
                <a:xfrm flipV="1">
                  <a:off x="1557000" y="2928240"/>
                  <a:ext cx="2376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6" name=""/>
                <p:cNvSpPr/>
                <p:nvPr/>
              </p:nvSpPr>
              <p:spPr>
                <a:xfrm flipH="1">
                  <a:off x="2373120" y="1356840"/>
                  <a:ext cx="109440" cy="103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7" name=""/>
                <p:cNvSpPr/>
                <p:nvPr/>
              </p:nvSpPr>
              <p:spPr>
                <a:xfrm flipH="1" flipV="1">
                  <a:off x="2603160" y="2084040"/>
                  <a:ext cx="147600" cy="7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8" name=""/>
                <p:cNvSpPr/>
                <p:nvPr/>
              </p:nvSpPr>
              <p:spPr>
                <a:xfrm flipH="1" flipV="1">
                  <a:off x="2603160" y="2086920"/>
                  <a:ext cx="14760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9" name=""/>
                <p:cNvSpPr/>
                <p:nvPr/>
              </p:nvSpPr>
              <p:spPr>
                <a:xfrm flipH="1" flipV="1">
                  <a:off x="2293560" y="2726640"/>
                  <a:ext cx="9864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0" name=""/>
                <p:cNvSpPr/>
                <p:nvPr/>
              </p:nvSpPr>
              <p:spPr>
                <a:xfrm flipH="1" flipV="1">
                  <a:off x="1740960" y="2941200"/>
                  <a:ext cx="32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1" name=""/>
                <p:cNvSpPr/>
                <p:nvPr/>
              </p:nvSpPr>
              <p:spPr>
                <a:xfrm>
                  <a:off x="801360" y="1571400"/>
                  <a:ext cx="131760" cy="71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2" name=""/>
                <p:cNvSpPr/>
                <p:nvPr/>
              </p:nvSpPr>
              <p:spPr>
                <a:xfrm>
                  <a:off x="801360" y="1571400"/>
                  <a:ext cx="13176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3" name=""/>
                <p:cNvSpPr/>
                <p:nvPr/>
              </p:nvSpPr>
              <p:spPr>
                <a:xfrm>
                  <a:off x="801360" y="1571400"/>
                  <a:ext cx="13176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4" name=""/>
                <p:cNvSpPr/>
                <p:nvPr/>
              </p:nvSpPr>
              <p:spPr>
                <a:xfrm>
                  <a:off x="915840" y="1398240"/>
                  <a:ext cx="115920" cy="95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5" name=""/>
                <p:cNvSpPr/>
                <p:nvPr/>
              </p:nvSpPr>
              <p:spPr>
                <a:xfrm flipH="1">
                  <a:off x="2276280" y="1252080"/>
                  <a:ext cx="93600" cy="114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6" name=""/>
                <p:cNvSpPr/>
                <p:nvPr/>
              </p:nvSpPr>
              <p:spPr>
                <a:xfrm>
                  <a:off x="919080" y="1393560"/>
                  <a:ext cx="114120" cy="95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7" name=""/>
                <p:cNvSpPr/>
                <p:nvPr/>
              </p:nvSpPr>
              <p:spPr>
                <a:xfrm flipV="1">
                  <a:off x="863280" y="2557080"/>
                  <a:ext cx="125640" cy="84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8" name=""/>
                <p:cNvSpPr/>
                <p:nvPr/>
              </p:nvSpPr>
              <p:spPr>
                <a:xfrm flipH="1">
                  <a:off x="2436480" y="1450800"/>
                  <a:ext cx="1224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9" name=""/>
                <p:cNvSpPr/>
                <p:nvPr/>
              </p:nvSpPr>
              <p:spPr>
                <a:xfrm flipH="1">
                  <a:off x="1955520" y="1056960"/>
                  <a:ext cx="396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0" name=""/>
                <p:cNvSpPr/>
                <p:nvPr/>
              </p:nvSpPr>
              <p:spPr>
                <a:xfrm flipH="1" flipV="1">
                  <a:off x="2466720" y="2528280"/>
                  <a:ext cx="12384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1" name=""/>
                <p:cNvSpPr/>
                <p:nvPr/>
              </p:nvSpPr>
              <p:spPr>
                <a:xfrm flipH="1" flipV="1">
                  <a:off x="2463120" y="2528280"/>
                  <a:ext cx="12708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2" name=""/>
                <p:cNvSpPr/>
                <p:nvPr/>
              </p:nvSpPr>
              <p:spPr>
                <a:xfrm flipH="1" flipV="1">
                  <a:off x="2463120" y="2529720"/>
                  <a:ext cx="127080" cy="79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3" name=""/>
                <p:cNvSpPr/>
                <p:nvPr/>
              </p:nvSpPr>
              <p:spPr>
                <a:xfrm>
                  <a:off x="947520" y="1361880"/>
                  <a:ext cx="109440" cy="101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4" name=""/>
                <p:cNvSpPr/>
                <p:nvPr/>
              </p:nvSpPr>
              <p:spPr>
                <a:xfrm flipH="1" flipV="1">
                  <a:off x="2593800" y="2182320"/>
                  <a:ext cx="147600" cy="2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5" name=""/>
                <p:cNvSpPr/>
                <p:nvPr/>
              </p:nvSpPr>
              <p:spPr>
                <a:xfrm flipH="1" flipV="1">
                  <a:off x="2593800" y="2182320"/>
                  <a:ext cx="147600" cy="2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6" name=""/>
                <p:cNvSpPr/>
                <p:nvPr/>
              </p:nvSpPr>
              <p:spPr>
                <a:xfrm flipH="1">
                  <a:off x="2220480" y="1203120"/>
                  <a:ext cx="83880" cy="123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7" name=""/>
                <p:cNvSpPr/>
                <p:nvPr/>
              </p:nvSpPr>
              <p:spPr>
                <a:xfrm flipV="1">
                  <a:off x="1277640" y="2856960"/>
                  <a:ext cx="637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8" name=""/>
                <p:cNvSpPr/>
                <p:nvPr/>
              </p:nvSpPr>
              <p:spPr>
                <a:xfrm flipH="1" flipV="1">
                  <a:off x="2397960" y="2618640"/>
                  <a:ext cx="117720" cy="96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9" name=""/>
                <p:cNvSpPr/>
                <p:nvPr/>
              </p:nvSpPr>
              <p:spPr>
                <a:xfrm flipH="1">
                  <a:off x="1998360" y="1071360"/>
                  <a:ext cx="4752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0" name=""/>
                <p:cNvSpPr/>
                <p:nvPr/>
              </p:nvSpPr>
              <p:spPr>
                <a:xfrm flipH="1">
                  <a:off x="1998360" y="1074240"/>
                  <a:ext cx="4752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1" name=""/>
                <p:cNvSpPr/>
                <p:nvPr/>
              </p:nvSpPr>
              <p:spPr>
                <a:xfrm flipH="1">
                  <a:off x="1998360" y="1074240"/>
                  <a:ext cx="4752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2" name=""/>
                <p:cNvSpPr/>
                <p:nvPr/>
              </p:nvSpPr>
              <p:spPr>
                <a:xfrm flipH="1">
                  <a:off x="2509200" y="1591920"/>
                  <a:ext cx="133560" cy="68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3" name=""/>
                <p:cNvSpPr/>
                <p:nvPr/>
              </p:nvSpPr>
              <p:spPr>
                <a:xfrm flipH="1">
                  <a:off x="2505960" y="1587240"/>
                  <a:ext cx="135000" cy="68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4" name=""/>
                <p:cNvSpPr/>
                <p:nvPr/>
              </p:nvSpPr>
              <p:spPr>
                <a:xfrm>
                  <a:off x="788760" y="1591920"/>
                  <a:ext cx="135000" cy="68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5" name=""/>
                <p:cNvSpPr/>
                <p:nvPr/>
              </p:nvSpPr>
              <p:spPr>
                <a:xfrm flipH="1">
                  <a:off x="2223720" y="1206000"/>
                  <a:ext cx="8568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6" name=""/>
                <p:cNvSpPr/>
                <p:nvPr/>
              </p:nvSpPr>
              <p:spPr>
                <a:xfrm>
                  <a:off x="1482480" y="1045800"/>
                  <a:ext cx="334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7" name=""/>
                <p:cNvSpPr/>
                <p:nvPr/>
              </p:nvSpPr>
              <p:spPr>
                <a:xfrm flipV="1">
                  <a:off x="1303200" y="2866680"/>
                  <a:ext cx="58680" cy="138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8" name=""/>
                <p:cNvSpPr/>
                <p:nvPr/>
              </p:nvSpPr>
              <p:spPr>
                <a:xfrm flipV="1">
                  <a:off x="882360" y="2577240"/>
                  <a:ext cx="1206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9" name=""/>
                <p:cNvSpPr/>
                <p:nvPr/>
              </p:nvSpPr>
              <p:spPr>
                <a:xfrm flipV="1">
                  <a:off x="890280" y="2588760"/>
                  <a:ext cx="119160" cy="90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0" name=""/>
                <p:cNvSpPr/>
                <p:nvPr/>
              </p:nvSpPr>
              <p:spPr>
                <a:xfrm flipH="1">
                  <a:off x="2049120" y="109332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1" name=""/>
                <p:cNvSpPr/>
                <p:nvPr/>
              </p:nvSpPr>
              <p:spPr>
                <a:xfrm flipH="1">
                  <a:off x="1760400" y="1022040"/>
                  <a:ext cx="79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2" name=""/>
                <p:cNvSpPr/>
                <p:nvPr/>
              </p:nvSpPr>
              <p:spPr>
                <a:xfrm flipH="1">
                  <a:off x="1760400" y="1022040"/>
                  <a:ext cx="79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3" name=""/>
                <p:cNvSpPr/>
                <p:nvPr/>
              </p:nvSpPr>
              <p:spPr>
                <a:xfrm flipV="1">
                  <a:off x="1333440" y="2876400"/>
                  <a:ext cx="5544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4" name=""/>
                <p:cNvSpPr/>
                <p:nvPr/>
              </p:nvSpPr>
              <p:spPr>
                <a:xfrm flipH="1" flipV="1">
                  <a:off x="2495160" y="2481120"/>
                  <a:ext cx="131760" cy="71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5" name=""/>
                <p:cNvSpPr/>
                <p:nvPr/>
              </p:nvSpPr>
              <p:spPr>
                <a:xfrm>
                  <a:off x="1342800" y="1088640"/>
                  <a:ext cx="5544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6" name=""/>
                <p:cNvSpPr/>
                <p:nvPr/>
              </p:nvSpPr>
              <p:spPr>
                <a:xfrm flipV="1">
                  <a:off x="1082520" y="2753640"/>
                  <a:ext cx="90360" cy="119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7" name=""/>
                <p:cNvSpPr/>
                <p:nvPr/>
              </p:nvSpPr>
              <p:spPr>
                <a:xfrm flipV="1">
                  <a:off x="1082520" y="2755080"/>
                  <a:ext cx="92160" cy="117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8" name=""/>
                <p:cNvSpPr/>
                <p:nvPr/>
              </p:nvSpPr>
              <p:spPr>
                <a:xfrm flipH="1">
                  <a:off x="2548800" y="1704600"/>
                  <a:ext cx="14292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9" name=""/>
                <p:cNvSpPr/>
                <p:nvPr/>
              </p:nvSpPr>
              <p:spPr>
                <a:xfrm flipH="1">
                  <a:off x="1763280" y="1022040"/>
                  <a:ext cx="61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0" name=""/>
                <p:cNvSpPr/>
                <p:nvPr/>
              </p:nvSpPr>
              <p:spPr>
                <a:xfrm flipV="1">
                  <a:off x="1568160" y="2931840"/>
                  <a:ext cx="223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1" name=""/>
                <p:cNvSpPr/>
                <p:nvPr/>
              </p:nvSpPr>
              <p:spPr>
                <a:xfrm flipV="1">
                  <a:off x="1566720" y="2931840"/>
                  <a:ext cx="205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2" name=""/>
                <p:cNvSpPr/>
                <p:nvPr/>
              </p:nvSpPr>
              <p:spPr>
                <a:xfrm flipH="1">
                  <a:off x="2185920" y="1177560"/>
                  <a:ext cx="80640" cy="127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3" name=""/>
                <p:cNvSpPr/>
                <p:nvPr/>
              </p:nvSpPr>
              <p:spPr>
                <a:xfrm flipV="1">
                  <a:off x="684000" y="2112120"/>
                  <a:ext cx="14760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4" name=""/>
                <p:cNvSpPr/>
                <p:nvPr/>
              </p:nvSpPr>
              <p:spPr>
                <a:xfrm flipH="1">
                  <a:off x="2525040" y="1636560"/>
                  <a:ext cx="136440" cy="5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5" name=""/>
                <p:cNvSpPr/>
                <p:nvPr/>
              </p:nvSpPr>
              <p:spPr>
                <a:xfrm>
                  <a:off x="979200" y="1328400"/>
                  <a:ext cx="10800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6" name=""/>
                <p:cNvSpPr/>
                <p:nvPr/>
              </p:nvSpPr>
              <p:spPr>
                <a:xfrm flipH="1">
                  <a:off x="1825560" y="1026720"/>
                  <a:ext cx="187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7" name=""/>
                <p:cNvSpPr/>
                <p:nvPr/>
              </p:nvSpPr>
              <p:spPr>
                <a:xfrm flipH="1">
                  <a:off x="1825560" y="1026720"/>
                  <a:ext cx="187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8" name=""/>
                <p:cNvSpPr/>
                <p:nvPr/>
              </p:nvSpPr>
              <p:spPr>
                <a:xfrm flipH="1">
                  <a:off x="1828080" y="1026720"/>
                  <a:ext cx="1908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9" name=""/>
                <p:cNvSpPr/>
                <p:nvPr/>
              </p:nvSpPr>
              <p:spPr>
                <a:xfrm flipH="1" flipV="1">
                  <a:off x="2087280" y="2858400"/>
                  <a:ext cx="619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0" name=""/>
                <p:cNvSpPr/>
                <p:nvPr/>
              </p:nvSpPr>
              <p:spPr>
                <a:xfrm flipH="1">
                  <a:off x="2561760" y="1749240"/>
                  <a:ext cx="144360" cy="4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1" name=""/>
                <p:cNvSpPr/>
                <p:nvPr/>
              </p:nvSpPr>
              <p:spPr>
                <a:xfrm flipH="1">
                  <a:off x="1829880" y="1028520"/>
                  <a:ext cx="190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2" name=""/>
                <p:cNvSpPr/>
                <p:nvPr/>
              </p:nvSpPr>
              <p:spPr>
                <a:xfrm>
                  <a:off x="811080" y="1553760"/>
                  <a:ext cx="131760" cy="71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3" name=""/>
                <p:cNvSpPr/>
                <p:nvPr/>
              </p:nvSpPr>
              <p:spPr>
                <a:xfrm>
                  <a:off x="887040" y="1434600"/>
                  <a:ext cx="122400" cy="87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4" name=""/>
                <p:cNvSpPr/>
                <p:nvPr/>
              </p:nvSpPr>
              <p:spPr>
                <a:xfrm>
                  <a:off x="745920" y="1695240"/>
                  <a:ext cx="14112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5" name=""/>
                <p:cNvSpPr/>
                <p:nvPr/>
              </p:nvSpPr>
              <p:spPr>
                <a:xfrm>
                  <a:off x="1214280" y="1149120"/>
                  <a:ext cx="7308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6" name=""/>
                <p:cNvSpPr/>
                <p:nvPr/>
              </p:nvSpPr>
              <p:spPr>
                <a:xfrm flipH="1" flipV="1">
                  <a:off x="1980720" y="289980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7" name=""/>
                <p:cNvSpPr/>
                <p:nvPr/>
              </p:nvSpPr>
              <p:spPr>
                <a:xfrm flipH="1" flipV="1">
                  <a:off x="1978920" y="289980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8" name=""/>
                <p:cNvSpPr/>
                <p:nvPr/>
              </p:nvSpPr>
              <p:spPr>
                <a:xfrm flipH="1" flipV="1">
                  <a:off x="2580840" y="2252520"/>
                  <a:ext cx="145800" cy="33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 flipH="1" flipV="1">
                  <a:off x="2580840" y="2249280"/>
                  <a:ext cx="145800" cy="3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0" name=""/>
                <p:cNvSpPr/>
                <p:nvPr/>
              </p:nvSpPr>
              <p:spPr>
                <a:xfrm flipH="1" flipV="1">
                  <a:off x="2580840" y="2247480"/>
                  <a:ext cx="145800" cy="3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1" name=""/>
                <p:cNvSpPr/>
                <p:nvPr/>
              </p:nvSpPr>
              <p:spPr>
                <a:xfrm flipV="1">
                  <a:off x="709200" y="2261520"/>
                  <a:ext cx="146160" cy="3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2" name=""/>
                <p:cNvSpPr/>
                <p:nvPr/>
              </p:nvSpPr>
              <p:spPr>
                <a:xfrm flipH="1" flipV="1">
                  <a:off x="2298240" y="2721960"/>
                  <a:ext cx="982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3" name=""/>
                <p:cNvSpPr/>
                <p:nvPr/>
              </p:nvSpPr>
              <p:spPr>
                <a:xfrm flipH="1" flipV="1">
                  <a:off x="2298240" y="2722320"/>
                  <a:ext cx="98280" cy="115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4" name=""/>
                <p:cNvSpPr/>
                <p:nvPr/>
              </p:nvSpPr>
              <p:spPr>
                <a:xfrm flipH="1" flipV="1">
                  <a:off x="2097000" y="2853720"/>
                  <a:ext cx="6480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5" name=""/>
                <p:cNvSpPr/>
                <p:nvPr/>
              </p:nvSpPr>
              <p:spPr>
                <a:xfrm flipH="1" flipV="1">
                  <a:off x="2097000" y="2853720"/>
                  <a:ext cx="619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6" name=""/>
                <p:cNvSpPr/>
                <p:nvPr/>
              </p:nvSpPr>
              <p:spPr>
                <a:xfrm flipV="1">
                  <a:off x="1158480" y="2801160"/>
                  <a:ext cx="81000" cy="127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7" name=""/>
                <p:cNvSpPr/>
                <p:nvPr/>
              </p:nvSpPr>
              <p:spPr>
                <a:xfrm>
                  <a:off x="768240" y="1642680"/>
                  <a:ext cx="136440" cy="6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8" name=""/>
                <p:cNvSpPr/>
                <p:nvPr/>
              </p:nvSpPr>
              <p:spPr>
                <a:xfrm flipH="1" flipV="1">
                  <a:off x="2576160" y="2266560"/>
                  <a:ext cx="146160" cy="3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9" name=""/>
                <p:cNvSpPr/>
                <p:nvPr/>
              </p:nvSpPr>
              <p:spPr>
                <a:xfrm flipH="1">
                  <a:off x="2552040" y="1714320"/>
                  <a:ext cx="14436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0" name=""/>
                <p:cNvSpPr/>
                <p:nvPr/>
              </p:nvSpPr>
              <p:spPr>
                <a:xfrm flipH="1">
                  <a:off x="2430360" y="1441080"/>
                  <a:ext cx="1188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1" name=""/>
                <p:cNvSpPr/>
                <p:nvPr/>
              </p:nvSpPr>
              <p:spPr>
                <a:xfrm>
                  <a:off x="1041120" y="1267920"/>
                  <a:ext cx="98640" cy="115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2" name=""/>
                <p:cNvSpPr/>
                <p:nvPr/>
              </p:nvSpPr>
              <p:spPr>
                <a:xfrm flipV="1">
                  <a:off x="988920" y="2683800"/>
                  <a:ext cx="10476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3" name=""/>
                <p:cNvSpPr/>
                <p:nvPr/>
              </p:nvSpPr>
              <p:spPr>
                <a:xfrm flipV="1">
                  <a:off x="985680" y="2680920"/>
                  <a:ext cx="10800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4" name=""/>
                <p:cNvSpPr/>
                <p:nvPr/>
              </p:nvSpPr>
              <p:spPr>
                <a:xfrm flipV="1">
                  <a:off x="988920" y="2683800"/>
                  <a:ext cx="10476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5" name=""/>
                <p:cNvSpPr/>
                <p:nvPr/>
              </p:nvSpPr>
              <p:spPr>
                <a:xfrm flipV="1">
                  <a:off x="990360" y="2685600"/>
                  <a:ext cx="106200" cy="106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"/>
                <p:cNvSpPr/>
                <p:nvPr/>
              </p:nvSpPr>
              <p:spPr>
                <a:xfrm flipV="1">
                  <a:off x="1052280" y="2734920"/>
                  <a:ext cx="96840" cy="114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7" name=""/>
                <p:cNvSpPr/>
                <p:nvPr/>
              </p:nvSpPr>
              <p:spPr>
                <a:xfrm flipH="1">
                  <a:off x="2581200" y="1834920"/>
                  <a:ext cx="149040" cy="33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8" name=""/>
                <p:cNvSpPr/>
                <p:nvPr/>
              </p:nvSpPr>
              <p:spPr>
                <a:xfrm>
                  <a:off x="1211040" y="1150560"/>
                  <a:ext cx="7128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9" name=""/>
                <p:cNvSpPr/>
                <p:nvPr/>
              </p:nvSpPr>
              <p:spPr>
                <a:xfrm flipH="1" flipV="1">
                  <a:off x="2403360" y="2612880"/>
                  <a:ext cx="117360" cy="95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0" name=""/>
                <p:cNvSpPr/>
                <p:nvPr/>
              </p:nvSpPr>
              <p:spPr>
                <a:xfrm flipH="1" flipV="1">
                  <a:off x="2405880" y="2609280"/>
                  <a:ext cx="117720" cy="96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1" name=""/>
                <p:cNvSpPr/>
                <p:nvPr/>
              </p:nvSpPr>
              <p:spPr>
                <a:xfrm flipH="1" flipV="1">
                  <a:off x="2403360" y="2612880"/>
                  <a:ext cx="117360" cy="95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2" name=""/>
                <p:cNvSpPr/>
                <p:nvPr/>
              </p:nvSpPr>
              <p:spPr>
                <a:xfrm flipH="1">
                  <a:off x="1773000" y="1022040"/>
                  <a:ext cx="936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3" name=""/>
                <p:cNvSpPr/>
                <p:nvPr/>
              </p:nvSpPr>
              <p:spPr>
                <a:xfrm flipH="1">
                  <a:off x="2590200" y="1895040"/>
                  <a:ext cx="149400" cy="20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4" name=""/>
                <p:cNvSpPr/>
                <p:nvPr/>
              </p:nvSpPr>
              <p:spPr>
                <a:xfrm flipV="1">
                  <a:off x="784080" y="2440800"/>
                  <a:ext cx="13644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5" name=""/>
                <p:cNvSpPr/>
                <p:nvPr/>
              </p:nvSpPr>
              <p:spPr>
                <a:xfrm>
                  <a:off x="690480" y="1915920"/>
                  <a:ext cx="14904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6" name=""/>
                <p:cNvSpPr/>
                <p:nvPr/>
              </p:nvSpPr>
              <p:spPr>
                <a:xfrm>
                  <a:off x="690480" y="1915920"/>
                  <a:ext cx="14904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7" name=""/>
                <p:cNvSpPr/>
                <p:nvPr/>
              </p:nvSpPr>
              <p:spPr>
                <a:xfrm>
                  <a:off x="690480" y="1915920"/>
                  <a:ext cx="14904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8" name=""/>
                <p:cNvSpPr/>
                <p:nvPr/>
              </p:nvSpPr>
              <p:spPr>
                <a:xfrm>
                  <a:off x="690480" y="1915920"/>
                  <a:ext cx="14904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9" name=""/>
                <p:cNvSpPr/>
                <p:nvPr/>
              </p:nvSpPr>
              <p:spPr>
                <a:xfrm>
                  <a:off x="690480" y="1915920"/>
                  <a:ext cx="14904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0" name=""/>
                <p:cNvSpPr/>
                <p:nvPr/>
              </p:nvSpPr>
              <p:spPr>
                <a:xfrm>
                  <a:off x="690480" y="1915920"/>
                  <a:ext cx="14904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1" name=""/>
                <p:cNvSpPr/>
                <p:nvPr/>
              </p:nvSpPr>
              <p:spPr>
                <a:xfrm>
                  <a:off x="698400" y="1875960"/>
                  <a:ext cx="145800" cy="25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2" name=""/>
                <p:cNvSpPr/>
                <p:nvPr/>
              </p:nvSpPr>
              <p:spPr>
                <a:xfrm>
                  <a:off x="698400" y="1875960"/>
                  <a:ext cx="145800" cy="25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3" name=""/>
                <p:cNvSpPr/>
                <p:nvPr/>
              </p:nvSpPr>
              <p:spPr>
                <a:xfrm>
                  <a:off x="1680840" y="1018800"/>
                  <a:ext cx="468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4" name=""/>
                <p:cNvSpPr/>
                <p:nvPr/>
              </p:nvSpPr>
              <p:spPr>
                <a:xfrm>
                  <a:off x="1319040" y="1098360"/>
                  <a:ext cx="5724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5" name=""/>
                <p:cNvSpPr/>
                <p:nvPr/>
              </p:nvSpPr>
              <p:spPr>
                <a:xfrm>
                  <a:off x="1322280" y="1098360"/>
                  <a:ext cx="5688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"/>
                <p:cNvSpPr/>
                <p:nvPr/>
              </p:nvSpPr>
              <p:spPr>
                <a:xfrm flipV="1">
                  <a:off x="1314360" y="2871360"/>
                  <a:ext cx="5688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7" name=""/>
                <p:cNvSpPr/>
                <p:nvPr/>
              </p:nvSpPr>
              <p:spPr>
                <a:xfrm flipV="1">
                  <a:off x="1314360" y="2871360"/>
                  <a:ext cx="5688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8" name=""/>
                <p:cNvSpPr/>
                <p:nvPr/>
              </p:nvSpPr>
              <p:spPr>
                <a:xfrm flipV="1">
                  <a:off x="1314360" y="2871360"/>
                  <a:ext cx="5688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9" name=""/>
                <p:cNvSpPr/>
                <p:nvPr/>
              </p:nvSpPr>
              <p:spPr>
                <a:xfrm flipV="1">
                  <a:off x="1317240" y="2871360"/>
                  <a:ext cx="5724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0" name=""/>
                <p:cNvSpPr/>
                <p:nvPr/>
              </p:nvSpPr>
              <p:spPr>
                <a:xfrm flipV="1">
                  <a:off x="1322280" y="2873160"/>
                  <a:ext cx="5688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1" name=""/>
                <p:cNvSpPr/>
                <p:nvPr/>
              </p:nvSpPr>
              <p:spPr>
                <a:xfrm flipV="1">
                  <a:off x="1322280" y="2873160"/>
                  <a:ext cx="5688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2" name=""/>
                <p:cNvSpPr/>
                <p:nvPr/>
              </p:nvSpPr>
              <p:spPr>
                <a:xfrm flipV="1">
                  <a:off x="1326960" y="287640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3" name=""/>
                <p:cNvSpPr/>
                <p:nvPr/>
              </p:nvSpPr>
              <p:spPr>
                <a:xfrm flipH="1" flipV="1">
                  <a:off x="2131920" y="2838240"/>
                  <a:ext cx="6984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"/>
                <p:cNvSpPr/>
                <p:nvPr/>
              </p:nvSpPr>
              <p:spPr>
                <a:xfrm flipH="1" flipV="1">
                  <a:off x="2131920" y="2838240"/>
                  <a:ext cx="6984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 flipH="1">
                  <a:off x="2594880" y="1918800"/>
                  <a:ext cx="14940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6" name=""/>
                <p:cNvSpPr/>
                <p:nvPr/>
              </p:nvSpPr>
              <p:spPr>
                <a:xfrm flipH="1">
                  <a:off x="2533320" y="165708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7" name=""/>
                <p:cNvSpPr/>
                <p:nvPr/>
              </p:nvSpPr>
              <p:spPr>
                <a:xfrm flipH="1">
                  <a:off x="2533320" y="165708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8" name=""/>
                <p:cNvSpPr/>
                <p:nvPr/>
              </p:nvSpPr>
              <p:spPr>
                <a:xfrm>
                  <a:off x="1249200" y="1131480"/>
                  <a:ext cx="6804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9" name=""/>
                <p:cNvSpPr/>
                <p:nvPr/>
              </p:nvSpPr>
              <p:spPr>
                <a:xfrm>
                  <a:off x="1244520" y="1134720"/>
                  <a:ext cx="6804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"/>
                <p:cNvSpPr/>
                <p:nvPr/>
              </p:nvSpPr>
              <p:spPr>
                <a:xfrm>
                  <a:off x="1074600" y="1242720"/>
                  <a:ext cx="93600" cy="117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"/>
                <p:cNvSpPr/>
                <p:nvPr/>
              </p:nvSpPr>
              <p:spPr>
                <a:xfrm>
                  <a:off x="1074600" y="1242720"/>
                  <a:ext cx="90360" cy="119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2" name=""/>
                <p:cNvSpPr/>
                <p:nvPr/>
              </p:nvSpPr>
              <p:spPr>
                <a:xfrm>
                  <a:off x="1009440" y="1296720"/>
                  <a:ext cx="103320" cy="111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3" name=""/>
                <p:cNvSpPr/>
                <p:nvPr/>
              </p:nvSpPr>
              <p:spPr>
                <a:xfrm flipH="1">
                  <a:off x="2594880" y="1923840"/>
                  <a:ext cx="14940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4" name=""/>
                <p:cNvSpPr/>
                <p:nvPr/>
              </p:nvSpPr>
              <p:spPr>
                <a:xfrm flipV="1">
                  <a:off x="787320" y="2444040"/>
                  <a:ext cx="13320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5" name=""/>
                <p:cNvSpPr/>
                <p:nvPr/>
              </p:nvSpPr>
              <p:spPr>
                <a:xfrm flipH="1" flipV="1">
                  <a:off x="1748880" y="2941200"/>
                  <a:ext cx="61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6" name=""/>
                <p:cNvSpPr/>
                <p:nvPr/>
              </p:nvSpPr>
              <p:spPr>
                <a:xfrm flipV="1">
                  <a:off x="1328400" y="2876400"/>
                  <a:ext cx="558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7" name=""/>
                <p:cNvSpPr/>
                <p:nvPr/>
              </p:nvSpPr>
              <p:spPr>
                <a:xfrm flipH="1" flipV="1">
                  <a:off x="2480760" y="2501280"/>
                  <a:ext cx="128520" cy="75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8" name=""/>
                <p:cNvSpPr/>
                <p:nvPr/>
              </p:nvSpPr>
              <p:spPr>
                <a:xfrm flipH="1" flipV="1">
                  <a:off x="2480760" y="2501280"/>
                  <a:ext cx="128520" cy="75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9" name=""/>
                <p:cNvSpPr/>
                <p:nvPr/>
              </p:nvSpPr>
              <p:spPr>
                <a:xfrm>
                  <a:off x="680760" y="2033280"/>
                  <a:ext cx="150840" cy="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0" name=""/>
                <p:cNvSpPr/>
                <p:nvPr/>
              </p:nvSpPr>
              <p:spPr>
                <a:xfrm flipV="1">
                  <a:off x="1631880" y="2938320"/>
                  <a:ext cx="108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1" name=""/>
                <p:cNvSpPr/>
                <p:nvPr/>
              </p:nvSpPr>
              <p:spPr>
                <a:xfrm flipV="1">
                  <a:off x="1031760" y="2717280"/>
                  <a:ext cx="9972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2" name=""/>
                <p:cNvSpPr/>
                <p:nvPr/>
              </p:nvSpPr>
              <p:spPr>
                <a:xfrm flipV="1">
                  <a:off x="1591920" y="2932920"/>
                  <a:ext cx="2088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3" name=""/>
                <p:cNvSpPr/>
                <p:nvPr/>
              </p:nvSpPr>
              <p:spPr>
                <a:xfrm flipV="1">
                  <a:off x="1609560" y="2936520"/>
                  <a:ext cx="140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4" name=""/>
                <p:cNvSpPr/>
                <p:nvPr/>
              </p:nvSpPr>
              <p:spPr>
                <a:xfrm>
                  <a:off x="765000" y="164736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5" name=""/>
                <p:cNvSpPr/>
                <p:nvPr/>
              </p:nvSpPr>
              <p:spPr>
                <a:xfrm flipV="1">
                  <a:off x="849240" y="2537640"/>
                  <a:ext cx="12384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6" name=""/>
                <p:cNvSpPr/>
                <p:nvPr/>
              </p:nvSpPr>
              <p:spPr>
                <a:xfrm flipV="1">
                  <a:off x="1685520" y="2941200"/>
                  <a:ext cx="50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7" name=""/>
                <p:cNvSpPr/>
                <p:nvPr/>
              </p:nvSpPr>
              <p:spPr>
                <a:xfrm>
                  <a:off x="693360" y="1901520"/>
                  <a:ext cx="147600" cy="2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8" name=""/>
                <p:cNvSpPr/>
                <p:nvPr/>
              </p:nvSpPr>
              <p:spPr>
                <a:xfrm flipH="1">
                  <a:off x="2590200" y="1890360"/>
                  <a:ext cx="149400" cy="23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9" name=""/>
                <p:cNvSpPr/>
                <p:nvPr/>
              </p:nvSpPr>
              <p:spPr>
                <a:xfrm flipH="1">
                  <a:off x="2590200" y="1885680"/>
                  <a:ext cx="149400" cy="23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0" name=""/>
                <p:cNvSpPr/>
                <p:nvPr/>
              </p:nvSpPr>
              <p:spPr>
                <a:xfrm flipH="1">
                  <a:off x="2590200" y="1885680"/>
                  <a:ext cx="149400" cy="23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1" name=""/>
                <p:cNvSpPr/>
                <p:nvPr/>
              </p:nvSpPr>
              <p:spPr>
                <a:xfrm flipH="1">
                  <a:off x="2225520" y="1209240"/>
                  <a:ext cx="8712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2" name=""/>
                <p:cNvSpPr/>
                <p:nvPr/>
              </p:nvSpPr>
              <p:spPr>
                <a:xfrm flipH="1">
                  <a:off x="2225520" y="1209240"/>
                  <a:ext cx="8712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3" name=""/>
                <p:cNvSpPr/>
                <p:nvPr/>
              </p:nvSpPr>
              <p:spPr>
                <a:xfrm flipH="1">
                  <a:off x="2229840" y="1211040"/>
                  <a:ext cx="8748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4" name=""/>
                <p:cNvSpPr/>
                <p:nvPr/>
              </p:nvSpPr>
              <p:spPr>
                <a:xfrm flipH="1" flipV="1">
                  <a:off x="2209320" y="2792160"/>
                  <a:ext cx="8100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5" name=""/>
                <p:cNvSpPr/>
                <p:nvPr/>
              </p:nvSpPr>
              <p:spPr>
                <a:xfrm flipV="1">
                  <a:off x="1041120" y="2726640"/>
                  <a:ext cx="9864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6" name=""/>
                <p:cNvSpPr/>
                <p:nvPr/>
              </p:nvSpPr>
              <p:spPr>
                <a:xfrm flipV="1">
                  <a:off x="1033200" y="2720160"/>
                  <a:ext cx="10152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7" name=""/>
                <p:cNvSpPr/>
                <p:nvPr/>
              </p:nvSpPr>
              <p:spPr>
                <a:xfrm flipH="1">
                  <a:off x="2477880" y="1528560"/>
                  <a:ext cx="130320" cy="75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8" name=""/>
                <p:cNvSpPr/>
                <p:nvPr/>
              </p:nvSpPr>
              <p:spPr>
                <a:xfrm flipH="1">
                  <a:off x="2476080" y="1522080"/>
                  <a:ext cx="128520" cy="77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9" name=""/>
                <p:cNvSpPr/>
                <p:nvPr/>
              </p:nvSpPr>
              <p:spPr>
                <a:xfrm flipH="1">
                  <a:off x="2476080" y="1522080"/>
                  <a:ext cx="128520" cy="77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0" name=""/>
                <p:cNvSpPr/>
                <p:nvPr/>
              </p:nvSpPr>
              <p:spPr>
                <a:xfrm flipH="1">
                  <a:off x="2477880" y="1525320"/>
                  <a:ext cx="130320" cy="76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1" name=""/>
                <p:cNvSpPr/>
                <p:nvPr/>
              </p:nvSpPr>
              <p:spPr>
                <a:xfrm flipH="1">
                  <a:off x="2476080" y="1522080"/>
                  <a:ext cx="128520" cy="77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2" name=""/>
                <p:cNvSpPr/>
                <p:nvPr/>
              </p:nvSpPr>
              <p:spPr>
                <a:xfrm>
                  <a:off x="1317240" y="1099800"/>
                  <a:ext cx="57240" cy="138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3" name=""/>
                <p:cNvSpPr/>
                <p:nvPr/>
              </p:nvSpPr>
              <p:spPr>
                <a:xfrm>
                  <a:off x="1707840" y="1018800"/>
                  <a:ext cx="180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4" name=""/>
                <p:cNvSpPr/>
                <p:nvPr/>
              </p:nvSpPr>
              <p:spPr>
                <a:xfrm flipH="1">
                  <a:off x="1870920" y="1036440"/>
                  <a:ext cx="2556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5" name=""/>
                <p:cNvSpPr/>
                <p:nvPr/>
              </p:nvSpPr>
              <p:spPr>
                <a:xfrm flipH="1" flipV="1">
                  <a:off x="2152080" y="2825280"/>
                  <a:ext cx="7308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6" name=""/>
                <p:cNvSpPr/>
                <p:nvPr/>
              </p:nvSpPr>
              <p:spPr>
                <a:xfrm flipH="1" flipV="1">
                  <a:off x="2152080" y="2825280"/>
                  <a:ext cx="7308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7" name=""/>
                <p:cNvSpPr/>
                <p:nvPr/>
              </p:nvSpPr>
              <p:spPr>
                <a:xfrm flipH="1" flipV="1">
                  <a:off x="1782000" y="2938320"/>
                  <a:ext cx="111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8" name=""/>
                <p:cNvSpPr/>
                <p:nvPr/>
              </p:nvSpPr>
              <p:spPr>
                <a:xfrm flipH="1" flipV="1">
                  <a:off x="2563200" y="2309040"/>
                  <a:ext cx="144360" cy="4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9" name=""/>
                <p:cNvSpPr/>
                <p:nvPr/>
              </p:nvSpPr>
              <p:spPr>
                <a:xfrm flipH="1" flipV="1">
                  <a:off x="2557080" y="2331720"/>
                  <a:ext cx="144720" cy="4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0" name=""/>
                <p:cNvSpPr/>
                <p:nvPr/>
              </p:nvSpPr>
              <p:spPr>
                <a:xfrm flipH="1" flipV="1">
                  <a:off x="2557080" y="2331720"/>
                  <a:ext cx="144720" cy="4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1" name=""/>
                <p:cNvSpPr/>
                <p:nvPr/>
              </p:nvSpPr>
              <p:spPr>
                <a:xfrm flipH="1" flipV="1">
                  <a:off x="2594880" y="2158200"/>
                  <a:ext cx="14940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2" name=""/>
                <p:cNvSpPr/>
                <p:nvPr/>
              </p:nvSpPr>
              <p:spPr>
                <a:xfrm flipV="1">
                  <a:off x="1258560" y="2849400"/>
                  <a:ext cx="68400" cy="134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3" name=""/>
                <p:cNvSpPr/>
                <p:nvPr/>
              </p:nvSpPr>
              <p:spPr>
                <a:xfrm flipH="1">
                  <a:off x="2233080" y="1214280"/>
                  <a:ext cx="8892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4" name=""/>
                <p:cNvSpPr/>
                <p:nvPr/>
              </p:nvSpPr>
              <p:spPr>
                <a:xfrm flipH="1" flipV="1">
                  <a:off x="2588760" y="2215440"/>
                  <a:ext cx="145800" cy="2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5" name=""/>
                <p:cNvSpPr/>
                <p:nvPr/>
              </p:nvSpPr>
              <p:spPr>
                <a:xfrm flipH="1" flipV="1">
                  <a:off x="2599560" y="2091960"/>
                  <a:ext cx="150840" cy="6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6" name=""/>
                <p:cNvSpPr/>
                <p:nvPr/>
              </p:nvSpPr>
              <p:spPr>
                <a:xfrm flipH="1" flipV="1">
                  <a:off x="2177280" y="2810880"/>
                  <a:ext cx="78120" cy="127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7" name=""/>
                <p:cNvSpPr/>
                <p:nvPr/>
              </p:nvSpPr>
              <p:spPr>
                <a:xfrm flipV="1">
                  <a:off x="849240" y="2537640"/>
                  <a:ext cx="12384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8" name=""/>
                <p:cNvSpPr/>
                <p:nvPr/>
              </p:nvSpPr>
              <p:spPr>
                <a:xfrm flipH="1">
                  <a:off x="2350800" y="1333080"/>
                  <a:ext cx="108000" cy="106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9" name=""/>
                <p:cNvSpPr/>
                <p:nvPr/>
              </p:nvSpPr>
              <p:spPr>
                <a:xfrm flipH="1">
                  <a:off x="2352240" y="1333080"/>
                  <a:ext cx="106200" cy="106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0" name=""/>
                <p:cNvSpPr/>
                <p:nvPr/>
              </p:nvSpPr>
              <p:spPr>
                <a:xfrm flipH="1">
                  <a:off x="2352240" y="1333080"/>
                  <a:ext cx="106200" cy="106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1" name=""/>
                <p:cNvSpPr/>
                <p:nvPr/>
              </p:nvSpPr>
              <p:spPr>
                <a:xfrm flipH="1">
                  <a:off x="2352240" y="1333080"/>
                  <a:ext cx="106200" cy="106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2" name=""/>
                <p:cNvSpPr/>
                <p:nvPr/>
              </p:nvSpPr>
              <p:spPr>
                <a:xfrm flipH="1">
                  <a:off x="2352600" y="1333080"/>
                  <a:ext cx="109440" cy="106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3" name=""/>
                <p:cNvSpPr/>
                <p:nvPr/>
              </p:nvSpPr>
              <p:spPr>
                <a:xfrm>
                  <a:off x="1385640" y="1074240"/>
                  <a:ext cx="4932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4" name=""/>
                <p:cNvSpPr/>
                <p:nvPr/>
              </p:nvSpPr>
              <p:spPr>
                <a:xfrm>
                  <a:off x="1385640" y="1074240"/>
                  <a:ext cx="4932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5" name=""/>
                <p:cNvSpPr/>
                <p:nvPr/>
              </p:nvSpPr>
              <p:spPr>
                <a:xfrm>
                  <a:off x="1388880" y="1071360"/>
                  <a:ext cx="4608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6" name=""/>
                <p:cNvSpPr/>
                <p:nvPr/>
              </p:nvSpPr>
              <p:spPr>
                <a:xfrm>
                  <a:off x="1390320" y="1071360"/>
                  <a:ext cx="4932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7" name=""/>
                <p:cNvSpPr/>
                <p:nvPr/>
              </p:nvSpPr>
              <p:spPr>
                <a:xfrm flipH="1" flipV="1">
                  <a:off x="2430360" y="2580480"/>
                  <a:ext cx="1188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8" name=""/>
                <p:cNvSpPr/>
                <p:nvPr/>
              </p:nvSpPr>
              <p:spPr>
                <a:xfrm flipV="1">
                  <a:off x="1164960" y="2804400"/>
                  <a:ext cx="82440" cy="127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9" name=""/>
                <p:cNvSpPr/>
                <p:nvPr/>
              </p:nvSpPr>
              <p:spPr>
                <a:xfrm flipH="1">
                  <a:off x="2558520" y="1736280"/>
                  <a:ext cx="142920" cy="4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0" name=""/>
                <p:cNvSpPr/>
                <p:nvPr/>
              </p:nvSpPr>
              <p:spPr>
                <a:xfrm flipH="1" flipV="1">
                  <a:off x="2256840" y="2755440"/>
                  <a:ext cx="90360" cy="120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1" name=""/>
                <p:cNvSpPr/>
                <p:nvPr/>
              </p:nvSpPr>
              <p:spPr>
                <a:xfrm flipH="1">
                  <a:off x="2509200" y="1595160"/>
                  <a:ext cx="133560" cy="66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2" name=""/>
                <p:cNvSpPr/>
                <p:nvPr/>
              </p:nvSpPr>
              <p:spPr>
                <a:xfrm flipH="1">
                  <a:off x="2511360" y="1595160"/>
                  <a:ext cx="134640" cy="66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3" name=""/>
                <p:cNvSpPr/>
                <p:nvPr/>
              </p:nvSpPr>
              <p:spPr>
                <a:xfrm flipV="1">
                  <a:off x="933120" y="2633040"/>
                  <a:ext cx="11448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4" name=""/>
                <p:cNvSpPr/>
                <p:nvPr/>
              </p:nvSpPr>
              <p:spPr>
                <a:xfrm flipV="1">
                  <a:off x="925200" y="2626920"/>
                  <a:ext cx="115920" cy="98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5" name=""/>
                <p:cNvSpPr/>
                <p:nvPr/>
              </p:nvSpPr>
              <p:spPr>
                <a:xfrm>
                  <a:off x="1628640" y="1023480"/>
                  <a:ext cx="1260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6" name=""/>
                <p:cNvSpPr/>
                <p:nvPr/>
              </p:nvSpPr>
              <p:spPr>
                <a:xfrm>
                  <a:off x="1628640" y="1023480"/>
                  <a:ext cx="1260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7" name=""/>
                <p:cNvSpPr/>
                <p:nvPr/>
              </p:nvSpPr>
              <p:spPr>
                <a:xfrm>
                  <a:off x="1628640" y="1023480"/>
                  <a:ext cx="1260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8" name=""/>
                <p:cNvSpPr/>
                <p:nvPr/>
              </p:nvSpPr>
              <p:spPr>
                <a:xfrm>
                  <a:off x="1628640" y="1023480"/>
                  <a:ext cx="1260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9" name=""/>
                <p:cNvSpPr/>
                <p:nvPr/>
              </p:nvSpPr>
              <p:spPr>
                <a:xfrm>
                  <a:off x="1636560" y="1022040"/>
                  <a:ext cx="1116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0" name=""/>
                <p:cNvSpPr/>
                <p:nvPr/>
              </p:nvSpPr>
              <p:spPr>
                <a:xfrm>
                  <a:off x="684000" y="1974600"/>
                  <a:ext cx="15084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1" name=""/>
                <p:cNvSpPr/>
                <p:nvPr/>
              </p:nvSpPr>
              <p:spPr>
                <a:xfrm>
                  <a:off x="1393560" y="1071360"/>
                  <a:ext cx="4752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2" name=""/>
                <p:cNvSpPr/>
                <p:nvPr/>
              </p:nvSpPr>
              <p:spPr>
                <a:xfrm>
                  <a:off x="1395000" y="1069560"/>
                  <a:ext cx="46080" cy="144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3" name=""/>
                <p:cNvSpPr/>
                <p:nvPr/>
              </p:nvSpPr>
              <p:spPr>
                <a:xfrm>
                  <a:off x="1398240" y="1069560"/>
                  <a:ext cx="46080" cy="144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4" name=""/>
                <p:cNvSpPr/>
                <p:nvPr/>
              </p:nvSpPr>
              <p:spPr>
                <a:xfrm flipH="1">
                  <a:off x="2603160" y="2041200"/>
                  <a:ext cx="147600" cy="1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5" name=""/>
                <p:cNvSpPr/>
                <p:nvPr/>
              </p:nvSpPr>
              <p:spPr>
                <a:xfrm flipH="1" flipV="1">
                  <a:off x="2204280" y="2793240"/>
                  <a:ext cx="81000" cy="125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6" name=""/>
                <p:cNvSpPr/>
                <p:nvPr/>
              </p:nvSpPr>
              <p:spPr>
                <a:xfrm flipV="1">
                  <a:off x="707760" y="225360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7" name=""/>
                <p:cNvSpPr/>
                <p:nvPr/>
              </p:nvSpPr>
              <p:spPr>
                <a:xfrm flipV="1">
                  <a:off x="707760" y="225360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8" name=""/>
                <p:cNvSpPr/>
                <p:nvPr/>
              </p:nvSpPr>
              <p:spPr>
                <a:xfrm flipV="1">
                  <a:off x="707760" y="225360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9" name=""/>
                <p:cNvSpPr/>
                <p:nvPr/>
              </p:nvSpPr>
              <p:spPr>
                <a:xfrm flipV="1">
                  <a:off x="707760" y="225360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0" name=""/>
                <p:cNvSpPr/>
                <p:nvPr/>
              </p:nvSpPr>
              <p:spPr>
                <a:xfrm flipH="1">
                  <a:off x="2319120" y="1294920"/>
                  <a:ext cx="101520" cy="109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1" name=""/>
                <p:cNvSpPr/>
                <p:nvPr/>
              </p:nvSpPr>
              <p:spPr>
                <a:xfrm flipH="1">
                  <a:off x="2317320" y="1292040"/>
                  <a:ext cx="99720" cy="110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2" name=""/>
                <p:cNvSpPr/>
                <p:nvPr/>
              </p:nvSpPr>
              <p:spPr>
                <a:xfrm flipH="1">
                  <a:off x="2317680" y="1294920"/>
                  <a:ext cx="102960" cy="109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3" name=""/>
                <p:cNvSpPr/>
                <p:nvPr/>
              </p:nvSpPr>
              <p:spPr>
                <a:xfrm flipH="1" flipV="1">
                  <a:off x="2533320" y="239652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4" name=""/>
                <p:cNvSpPr/>
                <p:nvPr/>
              </p:nvSpPr>
              <p:spPr>
                <a:xfrm flipV="1">
                  <a:off x="1361880" y="288720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5" name=""/>
                <p:cNvSpPr/>
                <p:nvPr/>
              </p:nvSpPr>
              <p:spPr>
                <a:xfrm flipV="1">
                  <a:off x="1365120" y="2886840"/>
                  <a:ext cx="5076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6" name=""/>
                <p:cNvSpPr/>
                <p:nvPr/>
              </p:nvSpPr>
              <p:spPr>
                <a:xfrm flipV="1">
                  <a:off x="1365120" y="2886840"/>
                  <a:ext cx="5220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7" name=""/>
                <p:cNvSpPr/>
                <p:nvPr/>
              </p:nvSpPr>
              <p:spPr>
                <a:xfrm flipV="1">
                  <a:off x="1366560" y="2886840"/>
                  <a:ext cx="5400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8" name=""/>
                <p:cNvSpPr/>
                <p:nvPr/>
              </p:nvSpPr>
              <p:spPr>
                <a:xfrm flipV="1">
                  <a:off x="1371240" y="2890080"/>
                  <a:ext cx="4932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9" name=""/>
                <p:cNvSpPr/>
                <p:nvPr/>
              </p:nvSpPr>
              <p:spPr>
                <a:xfrm flipV="1">
                  <a:off x="1388880" y="2894760"/>
                  <a:ext cx="4752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0" name=""/>
                <p:cNvSpPr/>
                <p:nvPr/>
              </p:nvSpPr>
              <p:spPr>
                <a:xfrm flipH="1">
                  <a:off x="1767960" y="1022040"/>
                  <a:ext cx="61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1" name=""/>
                <p:cNvSpPr/>
                <p:nvPr/>
              </p:nvSpPr>
              <p:spPr>
                <a:xfrm flipH="1">
                  <a:off x="1767960" y="1022040"/>
                  <a:ext cx="61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2" name=""/>
                <p:cNvSpPr/>
                <p:nvPr/>
              </p:nvSpPr>
              <p:spPr>
                <a:xfrm flipH="1">
                  <a:off x="2548800" y="1699920"/>
                  <a:ext cx="14292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3" name=""/>
                <p:cNvSpPr/>
                <p:nvPr/>
              </p:nvSpPr>
              <p:spPr>
                <a:xfrm flipH="1">
                  <a:off x="2548800" y="1703160"/>
                  <a:ext cx="14292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4" name=""/>
                <p:cNvSpPr/>
                <p:nvPr/>
              </p:nvSpPr>
              <p:spPr>
                <a:xfrm flipH="1">
                  <a:off x="2547720" y="1698480"/>
                  <a:ext cx="14112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5" name=""/>
                <p:cNvSpPr/>
                <p:nvPr/>
              </p:nvSpPr>
              <p:spPr>
                <a:xfrm flipH="1">
                  <a:off x="1769760" y="1022040"/>
                  <a:ext cx="79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6" name=""/>
                <p:cNvSpPr/>
                <p:nvPr/>
              </p:nvSpPr>
              <p:spPr>
                <a:xfrm flipH="1">
                  <a:off x="1769760" y="1022040"/>
                  <a:ext cx="79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7" name=""/>
                <p:cNvSpPr/>
                <p:nvPr/>
              </p:nvSpPr>
              <p:spPr>
                <a:xfrm flipH="1">
                  <a:off x="1769400" y="1022040"/>
                  <a:ext cx="97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8" name=""/>
                <p:cNvSpPr/>
                <p:nvPr/>
              </p:nvSpPr>
              <p:spPr>
                <a:xfrm flipH="1" flipV="1">
                  <a:off x="2260440" y="2753640"/>
                  <a:ext cx="92160" cy="119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9" name=""/>
                <p:cNvSpPr/>
                <p:nvPr/>
              </p:nvSpPr>
              <p:spPr>
                <a:xfrm flipH="1" flipV="1">
                  <a:off x="2261880" y="2750760"/>
                  <a:ext cx="93600" cy="117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0" name=""/>
                <p:cNvSpPr/>
                <p:nvPr/>
              </p:nvSpPr>
              <p:spPr>
                <a:xfrm flipH="1" flipV="1">
                  <a:off x="2261880" y="2750400"/>
                  <a:ext cx="9360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1" name=""/>
                <p:cNvSpPr/>
                <p:nvPr/>
              </p:nvSpPr>
              <p:spPr>
                <a:xfrm flipH="1" flipV="1">
                  <a:off x="2534760" y="2393280"/>
                  <a:ext cx="1378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2" name=""/>
                <p:cNvSpPr/>
                <p:nvPr/>
              </p:nvSpPr>
              <p:spPr>
                <a:xfrm flipH="1">
                  <a:off x="2466360" y="1506240"/>
                  <a:ext cx="12852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3" name=""/>
                <p:cNvSpPr/>
                <p:nvPr/>
              </p:nvSpPr>
              <p:spPr>
                <a:xfrm flipV="1">
                  <a:off x="1496880" y="2918880"/>
                  <a:ext cx="316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4" name=""/>
                <p:cNvSpPr/>
                <p:nvPr/>
              </p:nvSpPr>
              <p:spPr>
                <a:xfrm flipV="1">
                  <a:off x="1496880" y="2918880"/>
                  <a:ext cx="3168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5" name=""/>
                <p:cNvSpPr/>
                <p:nvPr/>
              </p:nvSpPr>
              <p:spPr>
                <a:xfrm flipV="1">
                  <a:off x="1493640" y="2918880"/>
                  <a:ext cx="349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6" name=""/>
                <p:cNvSpPr/>
                <p:nvPr/>
              </p:nvSpPr>
              <p:spPr>
                <a:xfrm flipV="1">
                  <a:off x="1493640" y="2918880"/>
                  <a:ext cx="349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7" name=""/>
                <p:cNvSpPr/>
                <p:nvPr/>
              </p:nvSpPr>
              <p:spPr>
                <a:xfrm flipV="1">
                  <a:off x="1493640" y="2918880"/>
                  <a:ext cx="349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8" name=""/>
                <p:cNvSpPr/>
                <p:nvPr/>
              </p:nvSpPr>
              <p:spPr>
                <a:xfrm>
                  <a:off x="728280" y="1746000"/>
                  <a:ext cx="142920" cy="4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9" name=""/>
                <p:cNvSpPr/>
                <p:nvPr/>
              </p:nvSpPr>
              <p:spPr>
                <a:xfrm flipH="1">
                  <a:off x="2199600" y="1187280"/>
                  <a:ext cx="81000" cy="123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0" name=""/>
                <p:cNvSpPr/>
                <p:nvPr/>
              </p:nvSpPr>
              <p:spPr>
                <a:xfrm>
                  <a:off x="1307880" y="1103040"/>
                  <a:ext cx="5868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1" name=""/>
                <p:cNvSpPr/>
                <p:nvPr/>
              </p:nvSpPr>
              <p:spPr>
                <a:xfrm flipV="1">
                  <a:off x="723600" y="2309040"/>
                  <a:ext cx="144360" cy="4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2" name=""/>
                <p:cNvSpPr/>
                <p:nvPr/>
              </p:nvSpPr>
              <p:spPr>
                <a:xfrm>
                  <a:off x="836280" y="1507680"/>
                  <a:ext cx="127080" cy="79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3" name=""/>
                <p:cNvSpPr/>
                <p:nvPr/>
              </p:nvSpPr>
              <p:spPr>
                <a:xfrm flipV="1">
                  <a:off x="723600" y="2304360"/>
                  <a:ext cx="144360" cy="4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4" name=""/>
                <p:cNvSpPr/>
                <p:nvPr/>
              </p:nvSpPr>
              <p:spPr>
                <a:xfrm flipV="1">
                  <a:off x="723600" y="2307600"/>
                  <a:ext cx="144360" cy="4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5" name=""/>
                <p:cNvSpPr/>
                <p:nvPr/>
              </p:nvSpPr>
              <p:spPr>
                <a:xfrm flipV="1">
                  <a:off x="723600" y="2307600"/>
                  <a:ext cx="144360" cy="4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6" name=""/>
                <p:cNvSpPr/>
                <p:nvPr/>
              </p:nvSpPr>
              <p:spPr>
                <a:xfrm flipV="1">
                  <a:off x="723600" y="2307960"/>
                  <a:ext cx="144360" cy="39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7" name=""/>
                <p:cNvSpPr/>
                <p:nvPr/>
              </p:nvSpPr>
              <p:spPr>
                <a:xfrm flipV="1">
                  <a:off x="723600" y="2307960"/>
                  <a:ext cx="144360" cy="39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8" name=""/>
                <p:cNvSpPr/>
                <p:nvPr/>
              </p:nvSpPr>
              <p:spPr>
                <a:xfrm flipV="1">
                  <a:off x="723600" y="2304360"/>
                  <a:ext cx="144360" cy="4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9" name=""/>
                <p:cNvSpPr/>
                <p:nvPr/>
              </p:nvSpPr>
              <p:spPr>
                <a:xfrm>
                  <a:off x="693360" y="1896840"/>
                  <a:ext cx="14760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0" name=""/>
                <p:cNvSpPr/>
                <p:nvPr/>
              </p:nvSpPr>
              <p:spPr>
                <a:xfrm>
                  <a:off x="1333440" y="1093320"/>
                  <a:ext cx="5544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1" name=""/>
                <p:cNvSpPr/>
                <p:nvPr/>
              </p:nvSpPr>
              <p:spPr>
                <a:xfrm>
                  <a:off x="1336320" y="1090440"/>
                  <a:ext cx="5400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2" name=""/>
                <p:cNvSpPr/>
                <p:nvPr/>
              </p:nvSpPr>
              <p:spPr>
                <a:xfrm>
                  <a:off x="1336320" y="1090440"/>
                  <a:ext cx="5400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3" name=""/>
                <p:cNvSpPr/>
                <p:nvPr/>
              </p:nvSpPr>
              <p:spPr>
                <a:xfrm>
                  <a:off x="1328400" y="1093320"/>
                  <a:ext cx="5724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4" name=""/>
                <p:cNvSpPr/>
                <p:nvPr/>
              </p:nvSpPr>
              <p:spPr>
                <a:xfrm flipH="1">
                  <a:off x="2152080" y="1153800"/>
                  <a:ext cx="7308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5" name=""/>
                <p:cNvSpPr/>
                <p:nvPr/>
              </p:nvSpPr>
              <p:spPr>
                <a:xfrm flipH="1">
                  <a:off x="2148840" y="1150560"/>
                  <a:ext cx="7452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6" name=""/>
                <p:cNvSpPr/>
                <p:nvPr/>
              </p:nvSpPr>
              <p:spPr>
                <a:xfrm flipH="1">
                  <a:off x="2148840" y="1150560"/>
                  <a:ext cx="7452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7" name=""/>
                <p:cNvSpPr/>
                <p:nvPr/>
              </p:nvSpPr>
              <p:spPr>
                <a:xfrm flipH="1">
                  <a:off x="2148840" y="1150560"/>
                  <a:ext cx="7452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8" name=""/>
                <p:cNvSpPr/>
                <p:nvPr/>
              </p:nvSpPr>
              <p:spPr>
                <a:xfrm flipV="1">
                  <a:off x="1523880" y="2923920"/>
                  <a:ext cx="252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9" name=""/>
                <p:cNvSpPr/>
                <p:nvPr/>
              </p:nvSpPr>
              <p:spPr>
                <a:xfrm flipV="1">
                  <a:off x="1520640" y="2923920"/>
                  <a:ext cx="2844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0" name=""/>
                <p:cNvSpPr/>
                <p:nvPr/>
              </p:nvSpPr>
              <p:spPr>
                <a:xfrm flipH="1">
                  <a:off x="2156760" y="1155240"/>
                  <a:ext cx="73080" cy="130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1" name=""/>
                <p:cNvSpPr/>
                <p:nvPr/>
              </p:nvSpPr>
              <p:spPr>
                <a:xfrm flipH="1">
                  <a:off x="2009160" y="1079280"/>
                  <a:ext cx="5076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2" name=""/>
                <p:cNvSpPr/>
                <p:nvPr/>
              </p:nvSpPr>
              <p:spPr>
                <a:xfrm flipH="1" flipV="1">
                  <a:off x="2307960" y="2712240"/>
                  <a:ext cx="1000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3" name=""/>
                <p:cNvSpPr/>
                <p:nvPr/>
              </p:nvSpPr>
              <p:spPr>
                <a:xfrm flipH="1" flipV="1">
                  <a:off x="2300040" y="2720160"/>
                  <a:ext cx="10152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4" name=""/>
                <p:cNvSpPr/>
                <p:nvPr/>
              </p:nvSpPr>
              <p:spPr>
                <a:xfrm>
                  <a:off x="731520" y="1733400"/>
                  <a:ext cx="144720" cy="45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5" name=""/>
                <p:cNvSpPr/>
                <p:nvPr/>
              </p:nvSpPr>
              <p:spPr>
                <a:xfrm flipV="1">
                  <a:off x="1709640" y="2941200"/>
                  <a:ext cx="14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6" name=""/>
                <p:cNvSpPr/>
                <p:nvPr/>
              </p:nvSpPr>
              <p:spPr>
                <a:xfrm flipV="1">
                  <a:off x="840960" y="2528280"/>
                  <a:ext cx="12708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7" name=""/>
                <p:cNvSpPr/>
                <p:nvPr/>
              </p:nvSpPr>
              <p:spPr>
                <a:xfrm>
                  <a:off x="1665000" y="1022040"/>
                  <a:ext cx="64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8" name=""/>
                <p:cNvSpPr/>
                <p:nvPr/>
              </p:nvSpPr>
              <p:spPr>
                <a:xfrm>
                  <a:off x="1665000" y="1022040"/>
                  <a:ext cx="64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9" name=""/>
                <p:cNvSpPr/>
                <p:nvPr/>
              </p:nvSpPr>
              <p:spPr>
                <a:xfrm>
                  <a:off x="1665000" y="1022040"/>
                  <a:ext cx="64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"/>
                <p:cNvSpPr/>
                <p:nvPr/>
              </p:nvSpPr>
              <p:spPr>
                <a:xfrm>
                  <a:off x="1665000" y="1022040"/>
                  <a:ext cx="64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1" name=""/>
                <p:cNvSpPr/>
                <p:nvPr/>
              </p:nvSpPr>
              <p:spPr>
                <a:xfrm>
                  <a:off x="1666800" y="1022040"/>
                  <a:ext cx="79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>
                  <a:off x="1510920" y="1041120"/>
                  <a:ext cx="320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3" name=""/>
                <p:cNvSpPr/>
                <p:nvPr/>
              </p:nvSpPr>
              <p:spPr>
                <a:xfrm>
                  <a:off x="1509480" y="1041120"/>
                  <a:ext cx="284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"/>
                <p:cNvSpPr/>
                <p:nvPr/>
              </p:nvSpPr>
              <p:spPr>
                <a:xfrm>
                  <a:off x="1271520" y="1120320"/>
                  <a:ext cx="6480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"/>
                <p:cNvSpPr/>
                <p:nvPr/>
              </p:nvSpPr>
              <p:spPr>
                <a:xfrm>
                  <a:off x="1271520" y="1120320"/>
                  <a:ext cx="64800" cy="133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6" name=""/>
                <p:cNvSpPr/>
                <p:nvPr/>
              </p:nvSpPr>
              <p:spPr>
                <a:xfrm flipV="1">
                  <a:off x="718920" y="2293560"/>
                  <a:ext cx="14436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 flipV="1">
                  <a:off x="768240" y="2408040"/>
                  <a:ext cx="136440" cy="56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8" name=""/>
                <p:cNvSpPr/>
                <p:nvPr/>
              </p:nvSpPr>
              <p:spPr>
                <a:xfrm flipV="1">
                  <a:off x="777600" y="243000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9" name=""/>
                <p:cNvSpPr/>
                <p:nvPr/>
              </p:nvSpPr>
              <p:spPr>
                <a:xfrm flipV="1">
                  <a:off x="904680" y="2604240"/>
                  <a:ext cx="117360" cy="93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0" name=""/>
                <p:cNvSpPr/>
                <p:nvPr/>
              </p:nvSpPr>
              <p:spPr>
                <a:xfrm flipV="1">
                  <a:off x="1239480" y="2839320"/>
                  <a:ext cx="6840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1" name=""/>
                <p:cNvSpPr/>
                <p:nvPr/>
              </p:nvSpPr>
              <p:spPr>
                <a:xfrm flipV="1">
                  <a:off x="1238040" y="2839320"/>
                  <a:ext cx="6984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2" name=""/>
                <p:cNvSpPr/>
                <p:nvPr/>
              </p:nvSpPr>
              <p:spPr>
                <a:xfrm flipV="1">
                  <a:off x="1244520" y="2842920"/>
                  <a:ext cx="6804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3" name=""/>
                <p:cNvSpPr/>
                <p:nvPr/>
              </p:nvSpPr>
              <p:spPr>
                <a:xfrm flipV="1">
                  <a:off x="1244520" y="2842920"/>
                  <a:ext cx="6804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4" name=""/>
                <p:cNvSpPr/>
                <p:nvPr/>
              </p:nvSpPr>
              <p:spPr>
                <a:xfrm flipH="1" flipV="1">
                  <a:off x="1985760" y="2896560"/>
                  <a:ext cx="4608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5" name=""/>
                <p:cNvSpPr/>
                <p:nvPr/>
              </p:nvSpPr>
              <p:spPr>
                <a:xfrm flipH="1" flipV="1">
                  <a:off x="2374200" y="2646000"/>
                  <a:ext cx="112680" cy="100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6" name=""/>
                <p:cNvSpPr/>
                <p:nvPr/>
              </p:nvSpPr>
              <p:spPr>
                <a:xfrm flipH="1" flipV="1">
                  <a:off x="2525400" y="2412360"/>
                  <a:ext cx="139680" cy="60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7" name=""/>
                <p:cNvSpPr/>
                <p:nvPr/>
              </p:nvSpPr>
              <p:spPr>
                <a:xfrm flipH="1" flipV="1">
                  <a:off x="2525040" y="241272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8" name=""/>
                <p:cNvSpPr/>
                <p:nvPr/>
              </p:nvSpPr>
              <p:spPr>
                <a:xfrm flipH="1" flipV="1">
                  <a:off x="2530080" y="2401200"/>
                  <a:ext cx="139680" cy="5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9" name=""/>
                <p:cNvSpPr/>
                <p:nvPr/>
              </p:nvSpPr>
              <p:spPr>
                <a:xfrm flipH="1" flipV="1">
                  <a:off x="2530080" y="240264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 flipH="1" flipV="1">
                  <a:off x="2530080" y="240264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 flipH="1" flipV="1">
                  <a:off x="2552040" y="2345760"/>
                  <a:ext cx="14148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2" name=""/>
                <p:cNvSpPr/>
                <p:nvPr/>
              </p:nvSpPr>
              <p:spPr>
                <a:xfrm flipH="1" flipV="1">
                  <a:off x="2594880" y="2167920"/>
                  <a:ext cx="14940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3" name=""/>
                <p:cNvSpPr/>
                <p:nvPr/>
              </p:nvSpPr>
              <p:spPr>
                <a:xfrm flipH="1">
                  <a:off x="2401560" y="1395000"/>
                  <a:ext cx="114480" cy="96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4" name=""/>
                <p:cNvSpPr/>
                <p:nvPr/>
              </p:nvSpPr>
              <p:spPr>
                <a:xfrm flipH="1">
                  <a:off x="2130120" y="1139400"/>
                  <a:ext cx="6984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5" name=""/>
                <p:cNvSpPr/>
                <p:nvPr/>
              </p:nvSpPr>
              <p:spPr>
                <a:xfrm flipH="1">
                  <a:off x="2059920" y="1099800"/>
                  <a:ext cx="5724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6" name=""/>
                <p:cNvSpPr/>
                <p:nvPr/>
              </p:nvSpPr>
              <p:spPr>
                <a:xfrm flipH="1">
                  <a:off x="1974600" y="1064880"/>
                  <a:ext cx="446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 flipH="1">
                  <a:off x="2256840" y="1234800"/>
                  <a:ext cx="9036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8" name=""/>
                <p:cNvSpPr/>
                <p:nvPr/>
              </p:nvSpPr>
              <p:spPr>
                <a:xfrm>
                  <a:off x="1595160" y="1026720"/>
                  <a:ext cx="190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9" name=""/>
                <p:cNvSpPr/>
                <p:nvPr/>
              </p:nvSpPr>
              <p:spPr>
                <a:xfrm>
                  <a:off x="822240" y="1530000"/>
                  <a:ext cx="129960" cy="76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 flipH="1">
                  <a:off x="2485440" y="1539720"/>
                  <a:ext cx="128520" cy="74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1" name=""/>
                <p:cNvSpPr/>
                <p:nvPr/>
              </p:nvSpPr>
              <p:spPr>
                <a:xfrm flipV="1">
                  <a:off x="717480" y="2285640"/>
                  <a:ext cx="14256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 flipV="1">
                  <a:off x="718920" y="2295360"/>
                  <a:ext cx="146160" cy="41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 flipH="1" flipV="1">
                  <a:off x="1885320" y="2923920"/>
                  <a:ext cx="2844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4" name=""/>
                <p:cNvSpPr/>
                <p:nvPr/>
              </p:nvSpPr>
              <p:spPr>
                <a:xfrm flipH="1" flipV="1">
                  <a:off x="1890360" y="2923920"/>
                  <a:ext cx="2880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5" name=""/>
                <p:cNvSpPr/>
                <p:nvPr/>
              </p:nvSpPr>
              <p:spPr>
                <a:xfrm flipH="1" flipV="1">
                  <a:off x="1887120" y="2923920"/>
                  <a:ext cx="284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6" name=""/>
                <p:cNvSpPr/>
                <p:nvPr/>
              </p:nvSpPr>
              <p:spPr>
                <a:xfrm>
                  <a:off x="741240" y="1704600"/>
                  <a:ext cx="14112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7" name=""/>
                <p:cNvSpPr/>
                <p:nvPr/>
              </p:nvSpPr>
              <p:spPr>
                <a:xfrm>
                  <a:off x="741240" y="1704600"/>
                  <a:ext cx="14112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8" name=""/>
                <p:cNvSpPr/>
                <p:nvPr/>
              </p:nvSpPr>
              <p:spPr>
                <a:xfrm>
                  <a:off x="733320" y="1726920"/>
                  <a:ext cx="144360" cy="4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9" name=""/>
                <p:cNvSpPr/>
                <p:nvPr/>
              </p:nvSpPr>
              <p:spPr>
                <a:xfrm>
                  <a:off x="718920" y="1777680"/>
                  <a:ext cx="144360" cy="39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>
                  <a:off x="718920" y="1777680"/>
                  <a:ext cx="144360" cy="39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"/>
                <p:cNvSpPr/>
                <p:nvPr/>
              </p:nvSpPr>
              <p:spPr>
                <a:xfrm flipH="1" flipV="1">
                  <a:off x="1890360" y="2923920"/>
                  <a:ext cx="302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>
                  <a:off x="1514160" y="1037880"/>
                  <a:ext cx="2880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3" name=""/>
                <p:cNvSpPr/>
                <p:nvPr/>
              </p:nvSpPr>
              <p:spPr>
                <a:xfrm flipV="1">
                  <a:off x="1403280" y="2900160"/>
                  <a:ext cx="4572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"/>
                <p:cNvSpPr/>
                <p:nvPr/>
              </p:nvSpPr>
              <p:spPr>
                <a:xfrm>
                  <a:off x="761760" y="1650600"/>
                  <a:ext cx="139680" cy="5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 flipV="1">
                  <a:off x="1723680" y="1083960"/>
                  <a:ext cx="1800" cy="2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6" name=""/>
                <p:cNvSpPr/>
                <p:nvPr/>
              </p:nvSpPr>
              <p:spPr>
                <a:xfrm>
                  <a:off x="1288800" y="1110960"/>
                  <a:ext cx="619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7" name=""/>
                <p:cNvSpPr/>
                <p:nvPr/>
              </p:nvSpPr>
              <p:spPr>
                <a:xfrm>
                  <a:off x="1285560" y="1112400"/>
                  <a:ext cx="6372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8" name=""/>
                <p:cNvSpPr/>
                <p:nvPr/>
              </p:nvSpPr>
              <p:spPr>
                <a:xfrm>
                  <a:off x="1284120" y="1112400"/>
                  <a:ext cx="6192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9" name=""/>
                <p:cNvSpPr/>
                <p:nvPr/>
              </p:nvSpPr>
              <p:spPr>
                <a:xfrm>
                  <a:off x="1044360" y="1266480"/>
                  <a:ext cx="95400" cy="114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0" name=""/>
                <p:cNvSpPr/>
                <p:nvPr/>
              </p:nvSpPr>
              <p:spPr>
                <a:xfrm>
                  <a:off x="1293480" y="1110960"/>
                  <a:ext cx="6048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1" name=""/>
                <p:cNvSpPr/>
                <p:nvPr/>
              </p:nvSpPr>
              <p:spPr>
                <a:xfrm flipH="1">
                  <a:off x="1819080" y="1026720"/>
                  <a:ext cx="172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2" name=""/>
                <p:cNvSpPr/>
                <p:nvPr/>
              </p:nvSpPr>
              <p:spPr>
                <a:xfrm>
                  <a:off x="853920" y="1479240"/>
                  <a:ext cx="125280" cy="84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3" name=""/>
                <p:cNvSpPr/>
                <p:nvPr/>
              </p:nvSpPr>
              <p:spPr>
                <a:xfrm>
                  <a:off x="825120" y="1525320"/>
                  <a:ext cx="130320" cy="76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4" name=""/>
                <p:cNvSpPr/>
                <p:nvPr/>
              </p:nvSpPr>
              <p:spPr>
                <a:xfrm flipH="1">
                  <a:off x="1772640" y="1022040"/>
                  <a:ext cx="126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5" name=""/>
                <p:cNvSpPr/>
                <p:nvPr/>
              </p:nvSpPr>
              <p:spPr>
                <a:xfrm flipH="1">
                  <a:off x="1772640" y="1022040"/>
                  <a:ext cx="126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6" name=""/>
                <p:cNvSpPr/>
                <p:nvPr/>
              </p:nvSpPr>
              <p:spPr>
                <a:xfrm flipH="1" flipV="1">
                  <a:off x="2066400" y="2866680"/>
                  <a:ext cx="58680" cy="138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7" name=""/>
                <p:cNvSpPr/>
                <p:nvPr/>
              </p:nvSpPr>
              <p:spPr>
                <a:xfrm flipV="1">
                  <a:off x="1080720" y="2753640"/>
                  <a:ext cx="92160" cy="119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8" name=""/>
                <p:cNvSpPr/>
                <p:nvPr/>
              </p:nvSpPr>
              <p:spPr>
                <a:xfrm>
                  <a:off x="749160" y="1680840"/>
                  <a:ext cx="141120" cy="5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9" name=""/>
                <p:cNvSpPr/>
                <p:nvPr/>
              </p:nvSpPr>
              <p:spPr>
                <a:xfrm>
                  <a:off x="1363320" y="1080720"/>
                  <a:ext cx="5076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0" name=""/>
                <p:cNvSpPr/>
                <p:nvPr/>
              </p:nvSpPr>
              <p:spPr>
                <a:xfrm flipV="1">
                  <a:off x="715680" y="2285640"/>
                  <a:ext cx="14292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1" name=""/>
                <p:cNvSpPr/>
                <p:nvPr/>
              </p:nvSpPr>
              <p:spPr>
                <a:xfrm flipH="1">
                  <a:off x="2277360" y="1253880"/>
                  <a:ext cx="95400" cy="115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2" name=""/>
                <p:cNvSpPr/>
                <p:nvPr/>
              </p:nvSpPr>
              <p:spPr>
                <a:xfrm>
                  <a:off x="1039680" y="1271160"/>
                  <a:ext cx="982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3" name=""/>
                <p:cNvSpPr/>
                <p:nvPr/>
              </p:nvSpPr>
              <p:spPr>
                <a:xfrm flipV="1">
                  <a:off x="1401480" y="2900160"/>
                  <a:ext cx="4608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4" name=""/>
                <p:cNvSpPr/>
                <p:nvPr/>
              </p:nvSpPr>
              <p:spPr>
                <a:xfrm flipV="1">
                  <a:off x="696600" y="2210760"/>
                  <a:ext cx="146160" cy="2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5" name=""/>
                <p:cNvSpPr/>
                <p:nvPr/>
              </p:nvSpPr>
              <p:spPr>
                <a:xfrm flipV="1">
                  <a:off x="696600" y="2210760"/>
                  <a:ext cx="146160" cy="2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>
                  <a:off x="687240" y="1929960"/>
                  <a:ext cx="147600" cy="1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7" name=""/>
                <p:cNvSpPr/>
                <p:nvPr/>
              </p:nvSpPr>
              <p:spPr>
                <a:xfrm>
                  <a:off x="687240" y="1939680"/>
                  <a:ext cx="147600" cy="17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8" name=""/>
                <p:cNvSpPr/>
                <p:nvPr/>
              </p:nvSpPr>
              <p:spPr>
                <a:xfrm>
                  <a:off x="687240" y="1939680"/>
                  <a:ext cx="147600" cy="17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9" name=""/>
                <p:cNvSpPr/>
                <p:nvPr/>
              </p:nvSpPr>
              <p:spPr>
                <a:xfrm flipH="1">
                  <a:off x="2141280" y="1145880"/>
                  <a:ext cx="7128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0" name=""/>
                <p:cNvSpPr/>
                <p:nvPr/>
              </p:nvSpPr>
              <p:spPr>
                <a:xfrm flipH="1">
                  <a:off x="2145600" y="1149120"/>
                  <a:ext cx="7164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1" name=""/>
                <p:cNvSpPr/>
                <p:nvPr/>
              </p:nvSpPr>
              <p:spPr>
                <a:xfrm flipH="1">
                  <a:off x="2141280" y="1145880"/>
                  <a:ext cx="7128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2" name=""/>
                <p:cNvSpPr/>
                <p:nvPr/>
              </p:nvSpPr>
              <p:spPr>
                <a:xfrm flipH="1">
                  <a:off x="2141280" y="1145880"/>
                  <a:ext cx="7128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3" name=""/>
                <p:cNvSpPr/>
                <p:nvPr/>
              </p:nvSpPr>
              <p:spPr>
                <a:xfrm flipH="1">
                  <a:off x="2141280" y="1145880"/>
                  <a:ext cx="7128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4" name=""/>
                <p:cNvSpPr/>
                <p:nvPr/>
              </p:nvSpPr>
              <p:spPr>
                <a:xfrm flipH="1">
                  <a:off x="2141280" y="1145880"/>
                  <a:ext cx="7128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5" name=""/>
                <p:cNvSpPr/>
                <p:nvPr/>
              </p:nvSpPr>
              <p:spPr>
                <a:xfrm flipH="1">
                  <a:off x="2141280" y="1145880"/>
                  <a:ext cx="7128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6" name=""/>
                <p:cNvSpPr/>
                <p:nvPr/>
              </p:nvSpPr>
              <p:spPr>
                <a:xfrm flipV="1">
                  <a:off x="1161720" y="2801160"/>
                  <a:ext cx="79560" cy="127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7" name=""/>
                <p:cNvSpPr/>
                <p:nvPr/>
              </p:nvSpPr>
              <p:spPr>
                <a:xfrm>
                  <a:off x="688680" y="1909440"/>
                  <a:ext cx="149400" cy="20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>
                  <a:off x="688680" y="1909440"/>
                  <a:ext cx="149400" cy="20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9" name=""/>
                <p:cNvSpPr/>
                <p:nvPr/>
              </p:nvSpPr>
              <p:spPr>
                <a:xfrm>
                  <a:off x="688680" y="1915920"/>
                  <a:ext cx="14940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0" name=""/>
                <p:cNvSpPr/>
                <p:nvPr/>
              </p:nvSpPr>
              <p:spPr>
                <a:xfrm flipV="1">
                  <a:off x="900000" y="2599920"/>
                  <a:ext cx="11736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1" name=""/>
                <p:cNvSpPr/>
                <p:nvPr/>
              </p:nvSpPr>
              <p:spPr>
                <a:xfrm flipH="1">
                  <a:off x="2498400" y="1571400"/>
                  <a:ext cx="13176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2" name=""/>
                <p:cNvSpPr/>
                <p:nvPr/>
              </p:nvSpPr>
              <p:spPr>
                <a:xfrm flipV="1">
                  <a:off x="937800" y="2640960"/>
                  <a:ext cx="11304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3" name=""/>
                <p:cNvSpPr/>
                <p:nvPr/>
              </p:nvSpPr>
              <p:spPr>
                <a:xfrm flipV="1">
                  <a:off x="937800" y="2640960"/>
                  <a:ext cx="11304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4" name=""/>
                <p:cNvSpPr/>
                <p:nvPr/>
              </p:nvSpPr>
              <p:spPr>
                <a:xfrm flipV="1">
                  <a:off x="933120" y="2636280"/>
                  <a:ext cx="11268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5" name=""/>
                <p:cNvSpPr/>
                <p:nvPr/>
              </p:nvSpPr>
              <p:spPr>
                <a:xfrm flipV="1">
                  <a:off x="937800" y="2640960"/>
                  <a:ext cx="11304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>
                  <a:off x="858600" y="1472760"/>
                  <a:ext cx="125280" cy="84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7" name=""/>
                <p:cNvSpPr/>
                <p:nvPr/>
              </p:nvSpPr>
              <p:spPr>
                <a:xfrm>
                  <a:off x="858600" y="1472760"/>
                  <a:ext cx="123840" cy="84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8" name=""/>
                <p:cNvSpPr/>
                <p:nvPr/>
              </p:nvSpPr>
              <p:spPr>
                <a:xfrm>
                  <a:off x="857160" y="1477800"/>
                  <a:ext cx="125280" cy="83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9" name=""/>
                <p:cNvSpPr/>
                <p:nvPr/>
              </p:nvSpPr>
              <p:spPr>
                <a:xfrm flipV="1">
                  <a:off x="1029960" y="2717280"/>
                  <a:ext cx="1000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0" name=""/>
                <p:cNvSpPr/>
                <p:nvPr/>
              </p:nvSpPr>
              <p:spPr>
                <a:xfrm flipH="1" flipV="1">
                  <a:off x="2091600" y="2853720"/>
                  <a:ext cx="6516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 flipV="1">
                  <a:off x="894960" y="2598120"/>
                  <a:ext cx="1209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"/>
                <p:cNvSpPr/>
                <p:nvPr/>
              </p:nvSpPr>
              <p:spPr>
                <a:xfrm flipH="1" flipV="1">
                  <a:off x="2509200" y="2445840"/>
                  <a:ext cx="135000" cy="68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"/>
                <p:cNvSpPr/>
                <p:nvPr/>
              </p:nvSpPr>
              <p:spPr>
                <a:xfrm>
                  <a:off x="1339560" y="1090440"/>
                  <a:ext cx="5256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4" name=""/>
                <p:cNvSpPr/>
                <p:nvPr/>
              </p:nvSpPr>
              <p:spPr>
                <a:xfrm>
                  <a:off x="691920" y="1895040"/>
                  <a:ext cx="147600" cy="23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5" name=""/>
                <p:cNvSpPr/>
                <p:nvPr/>
              </p:nvSpPr>
              <p:spPr>
                <a:xfrm flipH="1" flipV="1">
                  <a:off x="2363040" y="2656800"/>
                  <a:ext cx="111240" cy="103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>
                  <a:off x="679320" y="2023920"/>
                  <a:ext cx="15084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"/>
                <p:cNvSpPr/>
                <p:nvPr/>
              </p:nvSpPr>
              <p:spPr>
                <a:xfrm>
                  <a:off x="679320" y="2033280"/>
                  <a:ext cx="150840" cy="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"/>
                <p:cNvSpPr/>
                <p:nvPr/>
              </p:nvSpPr>
              <p:spPr>
                <a:xfrm>
                  <a:off x="679320" y="2033280"/>
                  <a:ext cx="150840" cy="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9" name=""/>
                <p:cNvSpPr/>
                <p:nvPr/>
              </p:nvSpPr>
              <p:spPr>
                <a:xfrm flipV="1">
                  <a:off x="711000" y="226944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0" name=""/>
                <p:cNvSpPr/>
                <p:nvPr/>
              </p:nvSpPr>
              <p:spPr>
                <a:xfrm flipV="1">
                  <a:off x="763200" y="2402640"/>
                  <a:ext cx="13680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 flipH="1" flipV="1">
                  <a:off x="1804680" y="2936520"/>
                  <a:ext cx="144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2" name=""/>
                <p:cNvSpPr/>
                <p:nvPr/>
              </p:nvSpPr>
              <p:spPr>
                <a:xfrm flipH="1" flipV="1">
                  <a:off x="1804680" y="2936520"/>
                  <a:ext cx="144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3" name=""/>
                <p:cNvSpPr/>
                <p:nvPr/>
              </p:nvSpPr>
              <p:spPr>
                <a:xfrm flipH="1" flipV="1">
                  <a:off x="2451960" y="2544480"/>
                  <a:ext cx="125640" cy="84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"/>
                <p:cNvSpPr/>
                <p:nvPr/>
              </p:nvSpPr>
              <p:spPr>
                <a:xfrm flipH="1" flipV="1">
                  <a:off x="2451960" y="2544480"/>
                  <a:ext cx="125640" cy="84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5" name=""/>
                <p:cNvSpPr/>
                <p:nvPr/>
              </p:nvSpPr>
              <p:spPr>
                <a:xfrm flipH="1" flipV="1">
                  <a:off x="2495160" y="2474280"/>
                  <a:ext cx="131760" cy="73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6" name=""/>
                <p:cNvSpPr/>
                <p:nvPr/>
              </p:nvSpPr>
              <p:spPr>
                <a:xfrm flipH="1" flipV="1">
                  <a:off x="2533320" y="2392200"/>
                  <a:ext cx="139680" cy="56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7" name=""/>
                <p:cNvSpPr/>
                <p:nvPr/>
              </p:nvSpPr>
              <p:spPr>
                <a:xfrm flipH="1">
                  <a:off x="2568240" y="1777680"/>
                  <a:ext cx="14616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8" name=""/>
                <p:cNvSpPr/>
                <p:nvPr/>
              </p:nvSpPr>
              <p:spPr>
                <a:xfrm>
                  <a:off x="777600" y="1615680"/>
                  <a:ext cx="135000" cy="63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9" name=""/>
                <p:cNvSpPr/>
                <p:nvPr/>
              </p:nvSpPr>
              <p:spPr>
                <a:xfrm>
                  <a:off x="814320" y="1544400"/>
                  <a:ext cx="128520" cy="74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"/>
                <p:cNvSpPr/>
                <p:nvPr/>
              </p:nvSpPr>
              <p:spPr>
                <a:xfrm>
                  <a:off x="777600" y="1614240"/>
                  <a:ext cx="13644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1" name=""/>
                <p:cNvSpPr/>
                <p:nvPr/>
              </p:nvSpPr>
              <p:spPr>
                <a:xfrm>
                  <a:off x="1644480" y="1022040"/>
                  <a:ext cx="936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2" name=""/>
                <p:cNvSpPr/>
                <p:nvPr/>
              </p:nvSpPr>
              <p:spPr>
                <a:xfrm>
                  <a:off x="1644480" y="1022040"/>
                  <a:ext cx="936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3" name=""/>
                <p:cNvSpPr/>
                <p:nvPr/>
              </p:nvSpPr>
              <p:spPr>
                <a:xfrm>
                  <a:off x="1644480" y="1022040"/>
                  <a:ext cx="1116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4" name=""/>
                <p:cNvSpPr/>
                <p:nvPr/>
              </p:nvSpPr>
              <p:spPr>
                <a:xfrm>
                  <a:off x="1645920" y="1022040"/>
                  <a:ext cx="97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5" name=""/>
                <p:cNvSpPr/>
                <p:nvPr/>
              </p:nvSpPr>
              <p:spPr>
                <a:xfrm>
                  <a:off x="1645920" y="1022040"/>
                  <a:ext cx="97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6" name=""/>
                <p:cNvSpPr/>
                <p:nvPr/>
              </p:nvSpPr>
              <p:spPr>
                <a:xfrm>
                  <a:off x="1645920" y="1022040"/>
                  <a:ext cx="97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>
                  <a:off x="1593720" y="1026720"/>
                  <a:ext cx="190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8" name=""/>
                <p:cNvSpPr/>
                <p:nvPr/>
              </p:nvSpPr>
              <p:spPr>
                <a:xfrm>
                  <a:off x="1593720" y="1026720"/>
                  <a:ext cx="190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"/>
                <p:cNvSpPr/>
                <p:nvPr/>
              </p:nvSpPr>
              <p:spPr>
                <a:xfrm>
                  <a:off x="1595160" y="1026720"/>
                  <a:ext cx="176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0" name=""/>
                <p:cNvSpPr/>
                <p:nvPr/>
              </p:nvSpPr>
              <p:spPr>
                <a:xfrm>
                  <a:off x="1595160" y="1026720"/>
                  <a:ext cx="176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1" name=""/>
                <p:cNvSpPr/>
                <p:nvPr/>
              </p:nvSpPr>
              <p:spPr>
                <a:xfrm>
                  <a:off x="1595160" y="1026720"/>
                  <a:ext cx="176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>
                  <a:off x="1509480" y="1041120"/>
                  <a:ext cx="284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3" name=""/>
                <p:cNvSpPr/>
                <p:nvPr/>
              </p:nvSpPr>
              <p:spPr>
                <a:xfrm>
                  <a:off x="1509480" y="1041120"/>
                  <a:ext cx="284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4" name=""/>
                <p:cNvSpPr/>
                <p:nvPr/>
              </p:nvSpPr>
              <p:spPr>
                <a:xfrm>
                  <a:off x="1509480" y="1041120"/>
                  <a:ext cx="284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>
                  <a:off x="1509480" y="1041120"/>
                  <a:ext cx="316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6" name=""/>
                <p:cNvSpPr/>
                <p:nvPr/>
              </p:nvSpPr>
              <p:spPr>
                <a:xfrm>
                  <a:off x="1509480" y="1041120"/>
                  <a:ext cx="316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7" name=""/>
                <p:cNvSpPr/>
                <p:nvPr/>
              </p:nvSpPr>
              <p:spPr>
                <a:xfrm>
                  <a:off x="1512720" y="1037880"/>
                  <a:ext cx="2844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"/>
                <p:cNvSpPr/>
                <p:nvPr/>
              </p:nvSpPr>
              <p:spPr>
                <a:xfrm>
                  <a:off x="1512720" y="1037880"/>
                  <a:ext cx="2844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9" name=""/>
                <p:cNvSpPr/>
                <p:nvPr/>
              </p:nvSpPr>
              <p:spPr>
                <a:xfrm>
                  <a:off x="1512720" y="1037880"/>
                  <a:ext cx="2844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0" name=""/>
                <p:cNvSpPr/>
                <p:nvPr/>
              </p:nvSpPr>
              <p:spPr>
                <a:xfrm>
                  <a:off x="1512720" y="1037880"/>
                  <a:ext cx="2844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>
                  <a:off x="1420560" y="106164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2" name=""/>
                <p:cNvSpPr/>
                <p:nvPr/>
              </p:nvSpPr>
              <p:spPr>
                <a:xfrm>
                  <a:off x="691920" y="1891800"/>
                  <a:ext cx="147600" cy="24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3" name=""/>
                <p:cNvSpPr/>
                <p:nvPr/>
              </p:nvSpPr>
              <p:spPr>
                <a:xfrm>
                  <a:off x="691920" y="1891800"/>
                  <a:ext cx="147600" cy="24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>
                  <a:off x="691920" y="1891800"/>
                  <a:ext cx="147600" cy="24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5" name=""/>
                <p:cNvSpPr/>
                <p:nvPr/>
              </p:nvSpPr>
              <p:spPr>
                <a:xfrm>
                  <a:off x="691920" y="1891800"/>
                  <a:ext cx="147600" cy="24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6" name=""/>
                <p:cNvSpPr/>
                <p:nvPr/>
              </p:nvSpPr>
              <p:spPr>
                <a:xfrm>
                  <a:off x="691920" y="1891800"/>
                  <a:ext cx="147600" cy="2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>
                  <a:off x="691920" y="1891800"/>
                  <a:ext cx="147600" cy="2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8" name=""/>
                <p:cNvSpPr/>
                <p:nvPr/>
              </p:nvSpPr>
              <p:spPr>
                <a:xfrm>
                  <a:off x="691920" y="1891800"/>
                  <a:ext cx="147600" cy="2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9" name=""/>
                <p:cNvSpPr/>
                <p:nvPr/>
              </p:nvSpPr>
              <p:spPr>
                <a:xfrm>
                  <a:off x="691920" y="1891800"/>
                  <a:ext cx="147600" cy="2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>
                  <a:off x="691920" y="1891800"/>
                  <a:ext cx="147600" cy="2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1" name=""/>
                <p:cNvSpPr/>
                <p:nvPr/>
              </p:nvSpPr>
              <p:spPr>
                <a:xfrm>
                  <a:off x="691920" y="1891800"/>
                  <a:ext cx="147600" cy="2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2" name=""/>
                <p:cNvSpPr/>
                <p:nvPr/>
              </p:nvSpPr>
              <p:spPr>
                <a:xfrm>
                  <a:off x="688680" y="1915920"/>
                  <a:ext cx="14940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3" name=""/>
                <p:cNvSpPr/>
                <p:nvPr/>
              </p:nvSpPr>
              <p:spPr>
                <a:xfrm>
                  <a:off x="688680" y="1915920"/>
                  <a:ext cx="14940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4" name=""/>
                <p:cNvSpPr/>
                <p:nvPr/>
              </p:nvSpPr>
              <p:spPr>
                <a:xfrm>
                  <a:off x="687240" y="1925280"/>
                  <a:ext cx="14760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5" name=""/>
                <p:cNvSpPr/>
                <p:nvPr/>
              </p:nvSpPr>
              <p:spPr>
                <a:xfrm>
                  <a:off x="682560" y="1990440"/>
                  <a:ext cx="14760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 flipV="1">
                  <a:off x="706320" y="2252520"/>
                  <a:ext cx="145800" cy="33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7" name=""/>
                <p:cNvSpPr/>
                <p:nvPr/>
              </p:nvSpPr>
              <p:spPr>
                <a:xfrm flipV="1">
                  <a:off x="725400" y="2312280"/>
                  <a:ext cx="144360" cy="4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8" name=""/>
                <p:cNvSpPr/>
                <p:nvPr/>
              </p:nvSpPr>
              <p:spPr>
                <a:xfrm flipV="1">
                  <a:off x="750600" y="2377800"/>
                  <a:ext cx="13968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 flipV="1">
                  <a:off x="753840" y="2384280"/>
                  <a:ext cx="139680" cy="5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0" name=""/>
                <p:cNvSpPr/>
                <p:nvPr/>
              </p:nvSpPr>
              <p:spPr>
                <a:xfrm flipV="1">
                  <a:off x="782280" y="2440800"/>
                  <a:ext cx="13680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1" name=""/>
                <p:cNvSpPr/>
                <p:nvPr/>
              </p:nvSpPr>
              <p:spPr>
                <a:xfrm flipV="1">
                  <a:off x="782280" y="2440800"/>
                  <a:ext cx="13680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 flipV="1">
                  <a:off x="782280" y="2440800"/>
                  <a:ext cx="13680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 flipV="1">
                  <a:off x="866520" y="2563560"/>
                  <a:ext cx="125280" cy="87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4" name=""/>
                <p:cNvSpPr/>
                <p:nvPr/>
              </p:nvSpPr>
              <p:spPr>
                <a:xfrm flipV="1">
                  <a:off x="866520" y="2563560"/>
                  <a:ext cx="125280" cy="87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 flipV="1">
                  <a:off x="869760" y="2563560"/>
                  <a:ext cx="122040" cy="87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6" name=""/>
                <p:cNvSpPr/>
                <p:nvPr/>
              </p:nvSpPr>
              <p:spPr>
                <a:xfrm flipV="1">
                  <a:off x="884160" y="2582280"/>
                  <a:ext cx="1188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7" name=""/>
                <p:cNvSpPr/>
                <p:nvPr/>
              </p:nvSpPr>
              <p:spPr>
                <a:xfrm flipV="1">
                  <a:off x="884160" y="2580840"/>
                  <a:ext cx="118800" cy="90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 flipV="1">
                  <a:off x="890280" y="2590200"/>
                  <a:ext cx="12060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9" name=""/>
                <p:cNvSpPr/>
                <p:nvPr/>
              </p:nvSpPr>
              <p:spPr>
                <a:xfrm flipV="1">
                  <a:off x="890280" y="2590200"/>
                  <a:ext cx="12060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0" name=""/>
                <p:cNvSpPr/>
                <p:nvPr/>
              </p:nvSpPr>
              <p:spPr>
                <a:xfrm flipV="1">
                  <a:off x="890280" y="2590200"/>
                  <a:ext cx="12060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 flipV="1">
                  <a:off x="1091880" y="2763000"/>
                  <a:ext cx="90720" cy="119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2" name=""/>
                <p:cNvSpPr/>
                <p:nvPr/>
              </p:nvSpPr>
              <p:spPr>
                <a:xfrm flipV="1">
                  <a:off x="1099800" y="2764800"/>
                  <a:ext cx="8892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3" name=""/>
                <p:cNvSpPr/>
                <p:nvPr/>
              </p:nvSpPr>
              <p:spPr>
                <a:xfrm flipV="1">
                  <a:off x="1096560" y="2764800"/>
                  <a:ext cx="9216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"/>
                <p:cNvSpPr/>
                <p:nvPr/>
              </p:nvSpPr>
              <p:spPr>
                <a:xfrm flipV="1">
                  <a:off x="1095120" y="2763360"/>
                  <a:ext cx="9036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5" name=""/>
                <p:cNvSpPr/>
                <p:nvPr/>
              </p:nvSpPr>
              <p:spPr>
                <a:xfrm flipV="1">
                  <a:off x="1095120" y="2763000"/>
                  <a:ext cx="90360" cy="119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6" name=""/>
                <p:cNvSpPr/>
                <p:nvPr/>
              </p:nvSpPr>
              <p:spPr>
                <a:xfrm flipV="1">
                  <a:off x="1095120" y="2763000"/>
                  <a:ext cx="87480" cy="119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 flipV="1">
                  <a:off x="1139760" y="2792160"/>
                  <a:ext cx="8388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8" name=""/>
                <p:cNvSpPr/>
                <p:nvPr/>
              </p:nvSpPr>
              <p:spPr>
                <a:xfrm flipV="1">
                  <a:off x="1255320" y="2847240"/>
                  <a:ext cx="6696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9" name=""/>
                <p:cNvSpPr/>
                <p:nvPr/>
              </p:nvSpPr>
              <p:spPr>
                <a:xfrm flipV="1">
                  <a:off x="1250640" y="2844000"/>
                  <a:ext cx="6660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0" name=""/>
                <p:cNvSpPr/>
                <p:nvPr/>
              </p:nvSpPr>
              <p:spPr>
                <a:xfrm flipV="1">
                  <a:off x="1607760" y="2936520"/>
                  <a:ext cx="144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1" name=""/>
                <p:cNvSpPr/>
                <p:nvPr/>
              </p:nvSpPr>
              <p:spPr>
                <a:xfrm flipV="1">
                  <a:off x="1687320" y="2941200"/>
                  <a:ext cx="46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2" name=""/>
                <p:cNvSpPr/>
                <p:nvPr/>
              </p:nvSpPr>
              <p:spPr>
                <a:xfrm flipV="1">
                  <a:off x="1684080" y="2941200"/>
                  <a:ext cx="46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3" name=""/>
                <p:cNvSpPr/>
                <p:nvPr/>
              </p:nvSpPr>
              <p:spPr>
                <a:xfrm flipH="1" flipV="1">
                  <a:off x="1900080" y="2922120"/>
                  <a:ext cx="316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4" name=""/>
                <p:cNvSpPr/>
                <p:nvPr/>
              </p:nvSpPr>
              <p:spPr>
                <a:xfrm flipH="1" flipV="1">
                  <a:off x="1900080" y="2922120"/>
                  <a:ext cx="316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5" name=""/>
                <p:cNvSpPr/>
                <p:nvPr/>
              </p:nvSpPr>
              <p:spPr>
                <a:xfrm flipH="1" flipV="1">
                  <a:off x="2025360" y="2882160"/>
                  <a:ext cx="5256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6" name=""/>
                <p:cNvSpPr/>
                <p:nvPr/>
              </p:nvSpPr>
              <p:spPr>
                <a:xfrm flipH="1" flipV="1">
                  <a:off x="2025360" y="2882160"/>
                  <a:ext cx="5256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7" name=""/>
                <p:cNvSpPr/>
                <p:nvPr/>
              </p:nvSpPr>
              <p:spPr>
                <a:xfrm flipH="1" flipV="1">
                  <a:off x="2025360" y="2882160"/>
                  <a:ext cx="5256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8" name=""/>
                <p:cNvSpPr/>
                <p:nvPr/>
              </p:nvSpPr>
              <p:spPr>
                <a:xfrm flipH="1" flipV="1">
                  <a:off x="2022120" y="2885760"/>
                  <a:ext cx="540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9" name=""/>
                <p:cNvSpPr/>
                <p:nvPr/>
              </p:nvSpPr>
              <p:spPr>
                <a:xfrm flipH="1" flipV="1">
                  <a:off x="2021760" y="2885760"/>
                  <a:ext cx="5076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0" name=""/>
                <p:cNvSpPr/>
                <p:nvPr/>
              </p:nvSpPr>
              <p:spPr>
                <a:xfrm flipH="1" flipV="1">
                  <a:off x="2020320" y="2885760"/>
                  <a:ext cx="5220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1" name=""/>
                <p:cNvSpPr/>
                <p:nvPr/>
              </p:nvSpPr>
              <p:spPr>
                <a:xfrm flipH="1" flipV="1">
                  <a:off x="2020320" y="2885760"/>
                  <a:ext cx="5076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2" name=""/>
                <p:cNvSpPr/>
                <p:nvPr/>
              </p:nvSpPr>
              <p:spPr>
                <a:xfrm flipH="1" flipV="1">
                  <a:off x="2017440" y="2885760"/>
                  <a:ext cx="5400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3" name=""/>
                <p:cNvSpPr/>
                <p:nvPr/>
              </p:nvSpPr>
              <p:spPr>
                <a:xfrm flipH="1" flipV="1">
                  <a:off x="2017080" y="2887200"/>
                  <a:ext cx="5076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4" name=""/>
                <p:cNvSpPr/>
                <p:nvPr/>
              </p:nvSpPr>
              <p:spPr>
                <a:xfrm flipH="1" flipV="1">
                  <a:off x="2044080" y="2876400"/>
                  <a:ext cx="5724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5" name=""/>
                <p:cNvSpPr/>
                <p:nvPr/>
              </p:nvSpPr>
              <p:spPr>
                <a:xfrm flipH="1" flipV="1">
                  <a:off x="2044080" y="2876400"/>
                  <a:ext cx="5724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6" name=""/>
                <p:cNvSpPr/>
                <p:nvPr/>
              </p:nvSpPr>
              <p:spPr>
                <a:xfrm flipH="1" flipV="1">
                  <a:off x="2180520" y="2806200"/>
                  <a:ext cx="79560" cy="130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7" name=""/>
                <p:cNvSpPr/>
                <p:nvPr/>
              </p:nvSpPr>
              <p:spPr>
                <a:xfrm flipH="1" flipV="1">
                  <a:off x="2204640" y="2791800"/>
                  <a:ext cx="82800" cy="127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8" name=""/>
                <p:cNvSpPr/>
                <p:nvPr/>
              </p:nvSpPr>
              <p:spPr>
                <a:xfrm flipH="1" flipV="1">
                  <a:off x="2214360" y="278424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9" name=""/>
                <p:cNvSpPr/>
                <p:nvPr/>
              </p:nvSpPr>
              <p:spPr>
                <a:xfrm flipH="1" flipV="1">
                  <a:off x="2212200" y="2787480"/>
                  <a:ext cx="860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0" name=""/>
                <p:cNvSpPr/>
                <p:nvPr/>
              </p:nvSpPr>
              <p:spPr>
                <a:xfrm flipH="1" flipV="1">
                  <a:off x="2237760" y="2769480"/>
                  <a:ext cx="8748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1" name=""/>
                <p:cNvSpPr/>
                <p:nvPr/>
              </p:nvSpPr>
              <p:spPr>
                <a:xfrm flipH="1" flipV="1">
                  <a:off x="2236320" y="2769480"/>
                  <a:ext cx="8892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2" name=""/>
                <p:cNvSpPr/>
                <p:nvPr/>
              </p:nvSpPr>
              <p:spPr>
                <a:xfrm flipH="1" flipV="1">
                  <a:off x="2236320" y="2769480"/>
                  <a:ext cx="8892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3" name=""/>
                <p:cNvSpPr/>
                <p:nvPr/>
              </p:nvSpPr>
              <p:spPr>
                <a:xfrm flipH="1" flipV="1">
                  <a:off x="2236320" y="2769840"/>
                  <a:ext cx="8892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4" name=""/>
                <p:cNvSpPr/>
                <p:nvPr/>
              </p:nvSpPr>
              <p:spPr>
                <a:xfrm flipH="1" flipV="1">
                  <a:off x="2242800" y="2764800"/>
                  <a:ext cx="9216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5" name=""/>
                <p:cNvSpPr/>
                <p:nvPr/>
              </p:nvSpPr>
              <p:spPr>
                <a:xfrm flipH="1" flipV="1">
                  <a:off x="2287440" y="2731320"/>
                  <a:ext cx="9504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6" name=""/>
                <p:cNvSpPr/>
                <p:nvPr/>
              </p:nvSpPr>
              <p:spPr>
                <a:xfrm flipH="1" flipV="1">
                  <a:off x="2288520" y="2729880"/>
                  <a:ext cx="96840" cy="114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7" name=""/>
                <p:cNvSpPr/>
                <p:nvPr/>
              </p:nvSpPr>
              <p:spPr>
                <a:xfrm flipH="1" flipV="1">
                  <a:off x="2325600" y="2696760"/>
                  <a:ext cx="10296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8" name=""/>
                <p:cNvSpPr/>
                <p:nvPr/>
              </p:nvSpPr>
              <p:spPr>
                <a:xfrm flipH="1" flipV="1">
                  <a:off x="2325600" y="2696760"/>
                  <a:ext cx="10296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9" name=""/>
                <p:cNvSpPr/>
                <p:nvPr/>
              </p:nvSpPr>
              <p:spPr>
                <a:xfrm flipH="1" flipV="1">
                  <a:off x="2325600" y="2696760"/>
                  <a:ext cx="10296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0" name=""/>
                <p:cNvSpPr/>
                <p:nvPr/>
              </p:nvSpPr>
              <p:spPr>
                <a:xfrm flipH="1" flipV="1">
                  <a:off x="2325600" y="2696760"/>
                  <a:ext cx="10296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1" name=""/>
                <p:cNvSpPr/>
                <p:nvPr/>
              </p:nvSpPr>
              <p:spPr>
                <a:xfrm flipH="1" flipV="1">
                  <a:off x="2372760" y="2646000"/>
                  <a:ext cx="112680" cy="100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2" name=""/>
                <p:cNvSpPr/>
                <p:nvPr/>
              </p:nvSpPr>
              <p:spPr>
                <a:xfrm flipH="1" flipV="1">
                  <a:off x="2430000" y="2575800"/>
                  <a:ext cx="1206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3" name=""/>
                <p:cNvSpPr/>
                <p:nvPr/>
              </p:nvSpPr>
              <p:spPr>
                <a:xfrm flipH="1" flipV="1">
                  <a:off x="2430000" y="2575800"/>
                  <a:ext cx="1206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4" name=""/>
                <p:cNvSpPr/>
                <p:nvPr/>
              </p:nvSpPr>
              <p:spPr>
                <a:xfrm flipH="1" flipV="1">
                  <a:off x="2430000" y="2575800"/>
                  <a:ext cx="1206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5" name=""/>
                <p:cNvSpPr/>
                <p:nvPr/>
              </p:nvSpPr>
              <p:spPr>
                <a:xfrm flipH="1" flipV="1">
                  <a:off x="2430000" y="2577240"/>
                  <a:ext cx="1206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6" name=""/>
                <p:cNvSpPr/>
                <p:nvPr/>
              </p:nvSpPr>
              <p:spPr>
                <a:xfrm flipH="1" flipV="1">
                  <a:off x="2465280" y="2525040"/>
                  <a:ext cx="126720" cy="82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7" name=""/>
                <p:cNvSpPr/>
                <p:nvPr/>
              </p:nvSpPr>
              <p:spPr>
                <a:xfrm flipH="1" flipV="1">
                  <a:off x="2465280" y="2525040"/>
                  <a:ext cx="126720" cy="82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8" name=""/>
                <p:cNvSpPr/>
                <p:nvPr/>
              </p:nvSpPr>
              <p:spPr>
                <a:xfrm flipH="1" flipV="1">
                  <a:off x="2465280" y="2528640"/>
                  <a:ext cx="12672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9" name=""/>
                <p:cNvSpPr/>
                <p:nvPr/>
              </p:nvSpPr>
              <p:spPr>
                <a:xfrm flipH="1" flipV="1">
                  <a:off x="2465280" y="2528640"/>
                  <a:ext cx="12672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0" name=""/>
                <p:cNvSpPr/>
                <p:nvPr/>
              </p:nvSpPr>
              <p:spPr>
                <a:xfrm flipH="1" flipV="1">
                  <a:off x="2465280" y="2528640"/>
                  <a:ext cx="12672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1" name=""/>
                <p:cNvSpPr/>
                <p:nvPr/>
              </p:nvSpPr>
              <p:spPr>
                <a:xfrm flipH="1" flipV="1">
                  <a:off x="2465280" y="2528640"/>
                  <a:ext cx="12672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2" name=""/>
                <p:cNvSpPr/>
                <p:nvPr/>
              </p:nvSpPr>
              <p:spPr>
                <a:xfrm flipH="1" flipV="1">
                  <a:off x="2485800" y="2490120"/>
                  <a:ext cx="131760" cy="73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3" name=""/>
                <p:cNvSpPr/>
                <p:nvPr/>
              </p:nvSpPr>
              <p:spPr>
                <a:xfrm flipH="1" flipV="1">
                  <a:off x="2485800" y="2490120"/>
                  <a:ext cx="130320" cy="73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4" name=""/>
                <p:cNvSpPr/>
                <p:nvPr/>
              </p:nvSpPr>
              <p:spPr>
                <a:xfrm flipH="1" flipV="1">
                  <a:off x="2485800" y="2490120"/>
                  <a:ext cx="130320" cy="73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5" name=""/>
                <p:cNvSpPr/>
                <p:nvPr/>
              </p:nvSpPr>
              <p:spPr>
                <a:xfrm flipH="1" flipV="1">
                  <a:off x="2485800" y="2491560"/>
                  <a:ext cx="130320" cy="71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6" name=""/>
                <p:cNvSpPr/>
                <p:nvPr/>
              </p:nvSpPr>
              <p:spPr>
                <a:xfrm flipH="1" flipV="1">
                  <a:off x="2531880" y="2396520"/>
                  <a:ext cx="139680" cy="5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7" name=""/>
                <p:cNvSpPr/>
                <p:nvPr/>
              </p:nvSpPr>
              <p:spPr>
                <a:xfrm flipH="1" flipV="1">
                  <a:off x="2547360" y="2355120"/>
                  <a:ext cx="14292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8" name=""/>
                <p:cNvSpPr/>
                <p:nvPr/>
              </p:nvSpPr>
              <p:spPr>
                <a:xfrm flipH="1" flipV="1">
                  <a:off x="2577600" y="2258640"/>
                  <a:ext cx="145800" cy="3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9" name=""/>
                <p:cNvSpPr/>
                <p:nvPr/>
              </p:nvSpPr>
              <p:spPr>
                <a:xfrm flipH="1" flipV="1">
                  <a:off x="2597040" y="2139480"/>
                  <a:ext cx="147600" cy="1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0" name=""/>
                <p:cNvSpPr/>
                <p:nvPr/>
              </p:nvSpPr>
              <p:spPr>
                <a:xfrm flipH="1" flipV="1">
                  <a:off x="2597040" y="2139480"/>
                  <a:ext cx="147600" cy="1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1" name=""/>
                <p:cNvSpPr/>
                <p:nvPr/>
              </p:nvSpPr>
              <p:spPr>
                <a:xfrm flipH="1" flipV="1">
                  <a:off x="2597040" y="2139480"/>
                  <a:ext cx="147600" cy="1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2" name=""/>
                <p:cNvSpPr/>
                <p:nvPr/>
              </p:nvSpPr>
              <p:spPr>
                <a:xfrm flipH="1" flipV="1">
                  <a:off x="2597040" y="2139480"/>
                  <a:ext cx="147600" cy="1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3" name=""/>
                <p:cNvSpPr/>
                <p:nvPr/>
              </p:nvSpPr>
              <p:spPr>
                <a:xfrm flipH="1" flipV="1">
                  <a:off x="2596680" y="2134800"/>
                  <a:ext cx="150840" cy="1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4" name=""/>
                <p:cNvSpPr/>
                <p:nvPr/>
              </p:nvSpPr>
              <p:spPr>
                <a:xfrm flipH="1" flipV="1">
                  <a:off x="2596680" y="2134800"/>
                  <a:ext cx="150840" cy="1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5" name=""/>
                <p:cNvSpPr/>
                <p:nvPr/>
              </p:nvSpPr>
              <p:spPr>
                <a:xfrm flipH="1" flipV="1">
                  <a:off x="2596680" y="2134800"/>
                  <a:ext cx="150840" cy="1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6" name=""/>
                <p:cNvSpPr/>
                <p:nvPr/>
              </p:nvSpPr>
              <p:spPr>
                <a:xfrm flipH="1" flipV="1">
                  <a:off x="2596680" y="2136240"/>
                  <a:ext cx="150840" cy="12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7" name=""/>
                <p:cNvSpPr/>
                <p:nvPr/>
              </p:nvSpPr>
              <p:spPr>
                <a:xfrm flipH="1" flipV="1">
                  <a:off x="2596680" y="2136240"/>
                  <a:ext cx="150840" cy="12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8" name=""/>
                <p:cNvSpPr/>
                <p:nvPr/>
              </p:nvSpPr>
              <p:spPr>
                <a:xfrm flipH="1" flipV="1">
                  <a:off x="2596680" y="2131560"/>
                  <a:ext cx="150840" cy="12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9" name=""/>
                <p:cNvSpPr/>
                <p:nvPr/>
              </p:nvSpPr>
              <p:spPr>
                <a:xfrm flipH="1" flipV="1">
                  <a:off x="2596680" y="2131560"/>
                  <a:ext cx="150840" cy="1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0" name=""/>
                <p:cNvSpPr/>
                <p:nvPr/>
              </p:nvSpPr>
              <p:spPr>
                <a:xfrm flipH="1">
                  <a:off x="2598120" y="1993680"/>
                  <a:ext cx="1508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1" name=""/>
                <p:cNvSpPr/>
                <p:nvPr/>
              </p:nvSpPr>
              <p:spPr>
                <a:xfrm flipH="1">
                  <a:off x="2591640" y="1910880"/>
                  <a:ext cx="147960" cy="2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2" name=""/>
                <p:cNvSpPr/>
                <p:nvPr/>
              </p:nvSpPr>
              <p:spPr>
                <a:xfrm flipH="1">
                  <a:off x="2587320" y="1873080"/>
                  <a:ext cx="147600" cy="2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3" name=""/>
                <p:cNvSpPr/>
                <p:nvPr/>
              </p:nvSpPr>
              <p:spPr>
                <a:xfrm flipH="1">
                  <a:off x="2537640" y="1676160"/>
                  <a:ext cx="142920" cy="5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4" name=""/>
                <p:cNvSpPr/>
                <p:nvPr/>
              </p:nvSpPr>
              <p:spPr>
                <a:xfrm flipH="1">
                  <a:off x="2537640" y="1679400"/>
                  <a:ext cx="14292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5" name=""/>
                <p:cNvSpPr/>
                <p:nvPr/>
              </p:nvSpPr>
              <p:spPr>
                <a:xfrm flipH="1">
                  <a:off x="2541240" y="1679400"/>
                  <a:ext cx="13968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6" name=""/>
                <p:cNvSpPr/>
                <p:nvPr/>
              </p:nvSpPr>
              <p:spPr>
                <a:xfrm flipH="1">
                  <a:off x="2537640" y="1676160"/>
                  <a:ext cx="142920" cy="5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7" name=""/>
                <p:cNvSpPr/>
                <p:nvPr/>
              </p:nvSpPr>
              <p:spPr>
                <a:xfrm flipH="1">
                  <a:off x="2322360" y="1299960"/>
                  <a:ext cx="10152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8" name=""/>
                <p:cNvSpPr/>
                <p:nvPr/>
              </p:nvSpPr>
              <p:spPr>
                <a:xfrm flipH="1">
                  <a:off x="2283840" y="1261800"/>
                  <a:ext cx="96840" cy="114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9" name=""/>
                <p:cNvSpPr/>
                <p:nvPr/>
              </p:nvSpPr>
              <p:spPr>
                <a:xfrm flipH="1">
                  <a:off x="2255400" y="1234800"/>
                  <a:ext cx="9036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0" name=""/>
                <p:cNvSpPr/>
                <p:nvPr/>
              </p:nvSpPr>
              <p:spPr>
                <a:xfrm flipH="1">
                  <a:off x="2255400" y="1234800"/>
                  <a:ext cx="9036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1" name=""/>
                <p:cNvSpPr/>
                <p:nvPr/>
              </p:nvSpPr>
              <p:spPr>
                <a:xfrm flipH="1">
                  <a:off x="2258640" y="1234800"/>
                  <a:ext cx="9072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2" name=""/>
                <p:cNvSpPr/>
                <p:nvPr/>
              </p:nvSpPr>
              <p:spPr>
                <a:xfrm flipH="1">
                  <a:off x="2258640" y="1234800"/>
                  <a:ext cx="9072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3" name=""/>
                <p:cNvSpPr/>
                <p:nvPr/>
              </p:nvSpPr>
              <p:spPr>
                <a:xfrm flipH="1">
                  <a:off x="2111040" y="1130040"/>
                  <a:ext cx="6840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4" name=""/>
                <p:cNvSpPr/>
                <p:nvPr/>
              </p:nvSpPr>
              <p:spPr>
                <a:xfrm flipH="1">
                  <a:off x="2099880" y="1122120"/>
                  <a:ext cx="6696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5" name=""/>
                <p:cNvSpPr/>
                <p:nvPr/>
              </p:nvSpPr>
              <p:spPr>
                <a:xfrm flipH="1">
                  <a:off x="2099880" y="1122120"/>
                  <a:ext cx="6696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6" name=""/>
                <p:cNvSpPr/>
                <p:nvPr/>
              </p:nvSpPr>
              <p:spPr>
                <a:xfrm flipH="1">
                  <a:off x="2076120" y="1110960"/>
                  <a:ext cx="619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7" name=""/>
                <p:cNvSpPr/>
                <p:nvPr/>
              </p:nvSpPr>
              <p:spPr>
                <a:xfrm flipH="1">
                  <a:off x="2077560" y="1110960"/>
                  <a:ext cx="601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8" name=""/>
                <p:cNvSpPr/>
                <p:nvPr/>
              </p:nvSpPr>
              <p:spPr>
                <a:xfrm flipH="1">
                  <a:off x="2077560" y="1110960"/>
                  <a:ext cx="601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9" name=""/>
                <p:cNvSpPr/>
                <p:nvPr/>
              </p:nvSpPr>
              <p:spPr>
                <a:xfrm flipH="1">
                  <a:off x="2077560" y="1110960"/>
                  <a:ext cx="601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0" name=""/>
                <p:cNvSpPr/>
                <p:nvPr/>
              </p:nvSpPr>
              <p:spPr>
                <a:xfrm flipH="1">
                  <a:off x="2071080" y="1106280"/>
                  <a:ext cx="58680" cy="137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1" name=""/>
                <p:cNvSpPr/>
                <p:nvPr/>
              </p:nvSpPr>
              <p:spPr>
                <a:xfrm flipV="1">
                  <a:off x="1139760" y="2792160"/>
                  <a:ext cx="8388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2" name=""/>
                <p:cNvSpPr/>
                <p:nvPr/>
              </p:nvSpPr>
              <p:spPr>
                <a:xfrm flipV="1">
                  <a:off x="1139760" y="2788920"/>
                  <a:ext cx="824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3" name=""/>
                <p:cNvSpPr/>
                <p:nvPr/>
              </p:nvSpPr>
              <p:spPr>
                <a:xfrm flipV="1">
                  <a:off x="1137960" y="278892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4" name=""/>
                <p:cNvSpPr/>
                <p:nvPr/>
              </p:nvSpPr>
              <p:spPr>
                <a:xfrm>
                  <a:off x="1712520" y="1018800"/>
                  <a:ext cx="180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5" name=""/>
                <p:cNvSpPr/>
                <p:nvPr/>
              </p:nvSpPr>
              <p:spPr>
                <a:xfrm>
                  <a:off x="1715760" y="1018800"/>
                  <a:ext cx="180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6" name=""/>
                <p:cNvSpPr/>
                <p:nvPr/>
              </p:nvSpPr>
              <p:spPr>
                <a:xfrm flipH="1">
                  <a:off x="1944360" y="1055520"/>
                  <a:ext cx="381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7" name=""/>
                <p:cNvSpPr/>
                <p:nvPr/>
              </p:nvSpPr>
              <p:spPr>
                <a:xfrm flipH="1">
                  <a:off x="1944360" y="1055520"/>
                  <a:ext cx="3816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8" name=""/>
                <p:cNvSpPr/>
                <p:nvPr/>
              </p:nvSpPr>
              <p:spPr>
                <a:xfrm>
                  <a:off x="739440" y="1704600"/>
                  <a:ext cx="14148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9" name=""/>
                <p:cNvSpPr/>
                <p:nvPr/>
              </p:nvSpPr>
              <p:spPr>
                <a:xfrm>
                  <a:off x="739440" y="1704600"/>
                  <a:ext cx="14148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0" name=""/>
                <p:cNvSpPr/>
                <p:nvPr/>
              </p:nvSpPr>
              <p:spPr>
                <a:xfrm>
                  <a:off x="712440" y="1796760"/>
                  <a:ext cx="14472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1" name=""/>
                <p:cNvSpPr/>
                <p:nvPr/>
              </p:nvSpPr>
              <p:spPr>
                <a:xfrm>
                  <a:off x="1252440" y="1126800"/>
                  <a:ext cx="6804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2" name=""/>
                <p:cNvSpPr/>
                <p:nvPr/>
              </p:nvSpPr>
              <p:spPr>
                <a:xfrm>
                  <a:off x="1252440" y="1126800"/>
                  <a:ext cx="6804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3" name=""/>
                <p:cNvSpPr/>
                <p:nvPr/>
              </p:nvSpPr>
              <p:spPr>
                <a:xfrm>
                  <a:off x="1252440" y="1126800"/>
                  <a:ext cx="6804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4" name=""/>
                <p:cNvSpPr/>
                <p:nvPr/>
              </p:nvSpPr>
              <p:spPr>
                <a:xfrm>
                  <a:off x="1252440" y="1126800"/>
                  <a:ext cx="6804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5" name=""/>
                <p:cNvSpPr/>
                <p:nvPr/>
              </p:nvSpPr>
              <p:spPr>
                <a:xfrm>
                  <a:off x="1252440" y="1126800"/>
                  <a:ext cx="6804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6" name=""/>
                <p:cNvSpPr/>
                <p:nvPr/>
              </p:nvSpPr>
              <p:spPr>
                <a:xfrm>
                  <a:off x="1252440" y="1126800"/>
                  <a:ext cx="6804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7" name=""/>
                <p:cNvSpPr/>
                <p:nvPr/>
              </p:nvSpPr>
              <p:spPr>
                <a:xfrm>
                  <a:off x="1252440" y="1126800"/>
                  <a:ext cx="6804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8" name=""/>
                <p:cNvSpPr/>
                <p:nvPr/>
              </p:nvSpPr>
              <p:spPr>
                <a:xfrm>
                  <a:off x="1245960" y="1131480"/>
                  <a:ext cx="6660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9" name=""/>
                <p:cNvSpPr/>
                <p:nvPr/>
              </p:nvSpPr>
              <p:spPr>
                <a:xfrm>
                  <a:off x="1214280" y="1149120"/>
                  <a:ext cx="7128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0" name=""/>
                <p:cNvSpPr/>
                <p:nvPr/>
              </p:nvSpPr>
              <p:spPr>
                <a:xfrm>
                  <a:off x="1214280" y="1149120"/>
                  <a:ext cx="7128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1" name=""/>
                <p:cNvSpPr/>
                <p:nvPr/>
              </p:nvSpPr>
              <p:spPr>
                <a:xfrm>
                  <a:off x="1214280" y="1149120"/>
                  <a:ext cx="7128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2" name=""/>
                <p:cNvSpPr/>
                <p:nvPr/>
              </p:nvSpPr>
              <p:spPr>
                <a:xfrm>
                  <a:off x="1214280" y="1149120"/>
                  <a:ext cx="7452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3" name=""/>
                <p:cNvSpPr/>
                <p:nvPr/>
              </p:nvSpPr>
              <p:spPr>
                <a:xfrm>
                  <a:off x="1214280" y="1149120"/>
                  <a:ext cx="7452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4" name=""/>
                <p:cNvSpPr/>
                <p:nvPr/>
              </p:nvSpPr>
              <p:spPr>
                <a:xfrm>
                  <a:off x="1214280" y="1149120"/>
                  <a:ext cx="7452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5" name=""/>
                <p:cNvSpPr/>
                <p:nvPr/>
              </p:nvSpPr>
              <p:spPr>
                <a:xfrm>
                  <a:off x="1198440" y="1158480"/>
                  <a:ext cx="7308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6" name=""/>
                <p:cNvSpPr/>
                <p:nvPr/>
              </p:nvSpPr>
              <p:spPr>
                <a:xfrm>
                  <a:off x="1153800" y="1184040"/>
                  <a:ext cx="82800" cy="127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7" name=""/>
                <p:cNvSpPr/>
                <p:nvPr/>
              </p:nvSpPr>
              <p:spPr>
                <a:xfrm>
                  <a:off x="1026720" y="1280880"/>
                  <a:ext cx="1018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8" name=""/>
                <p:cNvSpPr/>
                <p:nvPr/>
              </p:nvSpPr>
              <p:spPr>
                <a:xfrm>
                  <a:off x="1026720" y="1280880"/>
                  <a:ext cx="1018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9" name=""/>
                <p:cNvSpPr/>
                <p:nvPr/>
              </p:nvSpPr>
              <p:spPr>
                <a:xfrm>
                  <a:off x="1026720" y="1280880"/>
                  <a:ext cx="1018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0" name=""/>
                <p:cNvSpPr/>
                <p:nvPr/>
              </p:nvSpPr>
              <p:spPr>
                <a:xfrm>
                  <a:off x="998280" y="1306080"/>
                  <a:ext cx="10656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1" name=""/>
                <p:cNvSpPr/>
                <p:nvPr/>
              </p:nvSpPr>
              <p:spPr>
                <a:xfrm>
                  <a:off x="1001520" y="1306080"/>
                  <a:ext cx="10332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2" name=""/>
                <p:cNvSpPr/>
                <p:nvPr/>
              </p:nvSpPr>
              <p:spPr>
                <a:xfrm>
                  <a:off x="983880" y="1321920"/>
                  <a:ext cx="10656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3" name=""/>
                <p:cNvSpPr/>
                <p:nvPr/>
              </p:nvSpPr>
              <p:spPr>
                <a:xfrm flipH="1" flipV="1">
                  <a:off x="2444040" y="2553480"/>
                  <a:ext cx="125640" cy="87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4" name=""/>
                <p:cNvSpPr/>
                <p:nvPr/>
              </p:nvSpPr>
              <p:spPr>
                <a:xfrm flipH="1" flipV="1">
                  <a:off x="2442960" y="2558520"/>
                  <a:ext cx="125280" cy="83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5" name=""/>
                <p:cNvSpPr/>
                <p:nvPr/>
              </p:nvSpPr>
              <p:spPr>
                <a:xfrm flipH="1" flipV="1">
                  <a:off x="2442960" y="2558520"/>
                  <a:ext cx="125280" cy="83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6" name=""/>
                <p:cNvSpPr/>
                <p:nvPr/>
              </p:nvSpPr>
              <p:spPr>
                <a:xfrm flipH="1" flipV="1">
                  <a:off x="2442960" y="2558880"/>
                  <a:ext cx="125280" cy="87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7" name=""/>
                <p:cNvSpPr/>
                <p:nvPr/>
              </p:nvSpPr>
              <p:spPr>
                <a:xfrm flipH="1" flipV="1">
                  <a:off x="2442960" y="2558880"/>
                  <a:ext cx="125280" cy="87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8" name=""/>
                <p:cNvSpPr/>
                <p:nvPr/>
              </p:nvSpPr>
              <p:spPr>
                <a:xfrm flipH="1" flipV="1">
                  <a:off x="2457360" y="2538000"/>
                  <a:ext cx="125280" cy="84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9" name=""/>
                <p:cNvSpPr/>
                <p:nvPr/>
              </p:nvSpPr>
              <p:spPr>
                <a:xfrm>
                  <a:off x="876240" y="1445760"/>
                  <a:ext cx="12204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0" name=""/>
                <p:cNvSpPr/>
                <p:nvPr/>
              </p:nvSpPr>
              <p:spPr>
                <a:xfrm>
                  <a:off x="804600" y="1561680"/>
                  <a:ext cx="131760" cy="71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1" name=""/>
                <p:cNvSpPr/>
                <p:nvPr/>
              </p:nvSpPr>
              <p:spPr>
                <a:xfrm>
                  <a:off x="804600" y="1561680"/>
                  <a:ext cx="131760" cy="71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2" name=""/>
                <p:cNvSpPr/>
                <p:nvPr/>
              </p:nvSpPr>
              <p:spPr>
                <a:xfrm flipH="1" flipV="1">
                  <a:off x="2423520" y="2585880"/>
                  <a:ext cx="119160" cy="88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3" name=""/>
                <p:cNvSpPr/>
                <p:nvPr/>
              </p:nvSpPr>
              <p:spPr>
                <a:xfrm flipH="1" flipV="1">
                  <a:off x="2423520" y="2585880"/>
                  <a:ext cx="119160" cy="88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4" name=""/>
                <p:cNvSpPr/>
                <p:nvPr/>
              </p:nvSpPr>
              <p:spPr>
                <a:xfrm flipH="1">
                  <a:off x="2464920" y="1503000"/>
                  <a:ext cx="128520" cy="82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5" name=""/>
                <p:cNvSpPr/>
                <p:nvPr/>
              </p:nvSpPr>
              <p:spPr>
                <a:xfrm flipH="1">
                  <a:off x="2466360" y="150624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6" name=""/>
                <p:cNvSpPr/>
                <p:nvPr/>
              </p:nvSpPr>
              <p:spPr>
                <a:xfrm flipH="1">
                  <a:off x="2466360" y="150624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7" name=""/>
                <p:cNvSpPr/>
                <p:nvPr/>
              </p:nvSpPr>
              <p:spPr>
                <a:xfrm flipH="1">
                  <a:off x="2461680" y="1498320"/>
                  <a:ext cx="127080" cy="82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8" name=""/>
                <p:cNvSpPr/>
                <p:nvPr/>
              </p:nvSpPr>
              <p:spPr>
                <a:xfrm flipH="1">
                  <a:off x="2461680" y="1498320"/>
                  <a:ext cx="127080" cy="82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9" name=""/>
                <p:cNvSpPr/>
                <p:nvPr/>
              </p:nvSpPr>
              <p:spPr>
                <a:xfrm flipV="1">
                  <a:off x="815760" y="2496600"/>
                  <a:ext cx="131760" cy="74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0" name=""/>
                <p:cNvSpPr/>
                <p:nvPr/>
              </p:nvSpPr>
              <p:spPr>
                <a:xfrm flipV="1">
                  <a:off x="815760" y="2496600"/>
                  <a:ext cx="131760" cy="74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1" name=""/>
                <p:cNvSpPr/>
                <p:nvPr/>
              </p:nvSpPr>
              <p:spPr>
                <a:xfrm>
                  <a:off x="693360" y="1885680"/>
                  <a:ext cx="149400" cy="23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2" name=""/>
                <p:cNvSpPr/>
                <p:nvPr/>
              </p:nvSpPr>
              <p:spPr>
                <a:xfrm flipV="1">
                  <a:off x="715680" y="2288880"/>
                  <a:ext cx="146160" cy="39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3" name=""/>
                <p:cNvSpPr/>
                <p:nvPr/>
              </p:nvSpPr>
              <p:spPr>
                <a:xfrm flipV="1">
                  <a:off x="715680" y="2288880"/>
                  <a:ext cx="146160" cy="39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4" name=""/>
                <p:cNvSpPr/>
                <p:nvPr/>
              </p:nvSpPr>
              <p:spPr>
                <a:xfrm flipV="1">
                  <a:off x="715680" y="2288880"/>
                  <a:ext cx="14616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5" name=""/>
                <p:cNvSpPr/>
                <p:nvPr/>
              </p:nvSpPr>
              <p:spPr>
                <a:xfrm flipV="1">
                  <a:off x="717480" y="2290320"/>
                  <a:ext cx="14436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6" name=""/>
                <p:cNvSpPr/>
                <p:nvPr/>
              </p:nvSpPr>
              <p:spPr>
                <a:xfrm flipV="1">
                  <a:off x="717480" y="2290320"/>
                  <a:ext cx="14436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7" name=""/>
                <p:cNvSpPr/>
                <p:nvPr/>
              </p:nvSpPr>
              <p:spPr>
                <a:xfrm flipV="1">
                  <a:off x="717480" y="2290320"/>
                  <a:ext cx="14436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8" name=""/>
                <p:cNvSpPr/>
                <p:nvPr/>
              </p:nvSpPr>
              <p:spPr>
                <a:xfrm flipH="1" flipV="1">
                  <a:off x="2129760" y="2834640"/>
                  <a:ext cx="7308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9" name=""/>
                <p:cNvSpPr/>
                <p:nvPr/>
              </p:nvSpPr>
              <p:spPr>
                <a:xfrm flipH="1" flipV="1">
                  <a:off x="2579400" y="224892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0" name=""/>
                <p:cNvSpPr/>
                <p:nvPr/>
              </p:nvSpPr>
              <p:spPr>
                <a:xfrm flipV="1">
                  <a:off x="684000" y="2131560"/>
                  <a:ext cx="149040" cy="12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1" name=""/>
                <p:cNvSpPr/>
                <p:nvPr/>
              </p:nvSpPr>
              <p:spPr>
                <a:xfrm flipV="1">
                  <a:off x="684000" y="2131560"/>
                  <a:ext cx="149040" cy="12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2" name=""/>
                <p:cNvSpPr/>
                <p:nvPr/>
              </p:nvSpPr>
              <p:spPr>
                <a:xfrm flipV="1">
                  <a:off x="684000" y="2130120"/>
                  <a:ext cx="149040" cy="1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3" name=""/>
                <p:cNvSpPr/>
                <p:nvPr/>
              </p:nvSpPr>
              <p:spPr>
                <a:xfrm flipV="1">
                  <a:off x="684000" y="2130120"/>
                  <a:ext cx="149040" cy="1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4" name=""/>
                <p:cNvSpPr/>
                <p:nvPr/>
              </p:nvSpPr>
              <p:spPr>
                <a:xfrm flipV="1">
                  <a:off x="684000" y="2129760"/>
                  <a:ext cx="14904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5" name=""/>
                <p:cNvSpPr/>
                <p:nvPr/>
              </p:nvSpPr>
              <p:spPr>
                <a:xfrm>
                  <a:off x="1598400" y="1026720"/>
                  <a:ext cx="172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6" name=""/>
                <p:cNvSpPr/>
                <p:nvPr/>
              </p:nvSpPr>
              <p:spPr>
                <a:xfrm>
                  <a:off x="1552320" y="1031400"/>
                  <a:ext cx="2376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7" name=""/>
                <p:cNvSpPr/>
                <p:nvPr/>
              </p:nvSpPr>
              <p:spPr>
                <a:xfrm>
                  <a:off x="1456920" y="1052280"/>
                  <a:ext cx="3816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8" name=""/>
                <p:cNvSpPr/>
                <p:nvPr/>
              </p:nvSpPr>
              <p:spPr>
                <a:xfrm>
                  <a:off x="1458720" y="1052280"/>
                  <a:ext cx="3636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9" name=""/>
                <p:cNvSpPr/>
                <p:nvPr/>
              </p:nvSpPr>
              <p:spPr>
                <a:xfrm>
                  <a:off x="1439640" y="1056960"/>
                  <a:ext cx="414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0" name=""/>
                <p:cNvSpPr/>
                <p:nvPr/>
              </p:nvSpPr>
              <p:spPr>
                <a:xfrm>
                  <a:off x="1423800" y="106164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1" name=""/>
                <p:cNvSpPr/>
                <p:nvPr/>
              </p:nvSpPr>
              <p:spPr>
                <a:xfrm>
                  <a:off x="1423800" y="106164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2" name=""/>
                <p:cNvSpPr/>
                <p:nvPr/>
              </p:nvSpPr>
              <p:spPr>
                <a:xfrm>
                  <a:off x="1423800" y="106164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3" name=""/>
                <p:cNvSpPr/>
                <p:nvPr/>
              </p:nvSpPr>
              <p:spPr>
                <a:xfrm>
                  <a:off x="1420560" y="106164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4" name=""/>
                <p:cNvSpPr/>
                <p:nvPr/>
              </p:nvSpPr>
              <p:spPr>
                <a:xfrm>
                  <a:off x="904680" y="1409400"/>
                  <a:ext cx="11736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5" name=""/>
                <p:cNvSpPr/>
                <p:nvPr/>
              </p:nvSpPr>
              <p:spPr>
                <a:xfrm>
                  <a:off x="904680" y="1409400"/>
                  <a:ext cx="11736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6" name=""/>
                <p:cNvSpPr/>
                <p:nvPr/>
              </p:nvSpPr>
              <p:spPr>
                <a:xfrm>
                  <a:off x="904680" y="1409400"/>
                  <a:ext cx="11736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7" name=""/>
                <p:cNvSpPr/>
                <p:nvPr/>
              </p:nvSpPr>
              <p:spPr>
                <a:xfrm>
                  <a:off x="904680" y="1409400"/>
                  <a:ext cx="11736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8" name=""/>
                <p:cNvSpPr/>
                <p:nvPr/>
              </p:nvSpPr>
              <p:spPr>
                <a:xfrm>
                  <a:off x="691920" y="1890360"/>
                  <a:ext cx="147600" cy="23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9" name=""/>
                <p:cNvSpPr/>
                <p:nvPr/>
              </p:nvSpPr>
              <p:spPr>
                <a:xfrm>
                  <a:off x="693360" y="1890360"/>
                  <a:ext cx="146160" cy="23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0" name=""/>
                <p:cNvSpPr/>
                <p:nvPr/>
              </p:nvSpPr>
              <p:spPr>
                <a:xfrm>
                  <a:off x="682560" y="1976040"/>
                  <a:ext cx="150480" cy="12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1" name=""/>
                <p:cNvSpPr/>
                <p:nvPr/>
              </p:nvSpPr>
              <p:spPr>
                <a:xfrm>
                  <a:off x="679320" y="2041200"/>
                  <a:ext cx="150840" cy="1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2" name=""/>
                <p:cNvSpPr/>
                <p:nvPr/>
              </p:nvSpPr>
              <p:spPr>
                <a:xfrm>
                  <a:off x="679320" y="2042640"/>
                  <a:ext cx="150840" cy="1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3" name=""/>
                <p:cNvSpPr/>
                <p:nvPr/>
              </p:nvSpPr>
              <p:spPr>
                <a:xfrm flipV="1">
                  <a:off x="688680" y="2171160"/>
                  <a:ext cx="14940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4" name=""/>
                <p:cNvSpPr/>
                <p:nvPr/>
              </p:nvSpPr>
              <p:spPr>
                <a:xfrm flipV="1">
                  <a:off x="688680" y="2171160"/>
                  <a:ext cx="14940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5" name=""/>
                <p:cNvSpPr/>
                <p:nvPr/>
              </p:nvSpPr>
              <p:spPr>
                <a:xfrm flipV="1">
                  <a:off x="693360" y="2195280"/>
                  <a:ext cx="146160" cy="23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6" name=""/>
                <p:cNvSpPr/>
                <p:nvPr/>
              </p:nvSpPr>
              <p:spPr>
                <a:xfrm flipV="1">
                  <a:off x="693360" y="2201040"/>
                  <a:ext cx="149400" cy="27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7" name=""/>
                <p:cNvSpPr/>
                <p:nvPr/>
              </p:nvSpPr>
              <p:spPr>
                <a:xfrm flipV="1">
                  <a:off x="693360" y="2201040"/>
                  <a:ext cx="149400" cy="24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8" name=""/>
                <p:cNvSpPr/>
                <p:nvPr/>
              </p:nvSpPr>
              <p:spPr>
                <a:xfrm flipV="1">
                  <a:off x="693360" y="2201040"/>
                  <a:ext cx="149400" cy="24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9" name=""/>
                <p:cNvSpPr/>
                <p:nvPr/>
              </p:nvSpPr>
              <p:spPr>
                <a:xfrm flipV="1">
                  <a:off x="696600" y="2208960"/>
                  <a:ext cx="146160" cy="25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0" name=""/>
                <p:cNvSpPr/>
                <p:nvPr/>
              </p:nvSpPr>
              <p:spPr>
                <a:xfrm flipV="1">
                  <a:off x="712440" y="2279160"/>
                  <a:ext cx="14616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1" name=""/>
                <p:cNvSpPr/>
                <p:nvPr/>
              </p:nvSpPr>
              <p:spPr>
                <a:xfrm flipV="1">
                  <a:off x="712440" y="2279160"/>
                  <a:ext cx="14616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2" name=""/>
                <p:cNvSpPr/>
                <p:nvPr/>
              </p:nvSpPr>
              <p:spPr>
                <a:xfrm flipV="1">
                  <a:off x="722160" y="2304360"/>
                  <a:ext cx="144360" cy="41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3" name=""/>
                <p:cNvSpPr/>
                <p:nvPr/>
              </p:nvSpPr>
              <p:spPr>
                <a:xfrm flipV="1">
                  <a:off x="720360" y="2302920"/>
                  <a:ext cx="146160" cy="4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4" name=""/>
                <p:cNvSpPr/>
                <p:nvPr/>
              </p:nvSpPr>
              <p:spPr>
                <a:xfrm flipV="1">
                  <a:off x="722160" y="2309040"/>
                  <a:ext cx="144360" cy="4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5" name=""/>
                <p:cNvSpPr/>
                <p:nvPr/>
              </p:nvSpPr>
              <p:spPr>
                <a:xfrm flipV="1">
                  <a:off x="725400" y="2312280"/>
                  <a:ext cx="144360" cy="4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6" name=""/>
                <p:cNvSpPr/>
                <p:nvPr/>
              </p:nvSpPr>
              <p:spPr>
                <a:xfrm flipV="1">
                  <a:off x="760320" y="239796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7" name=""/>
                <p:cNvSpPr/>
                <p:nvPr/>
              </p:nvSpPr>
              <p:spPr>
                <a:xfrm flipV="1">
                  <a:off x="801360" y="2472840"/>
                  <a:ext cx="13176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8" name=""/>
                <p:cNvSpPr/>
                <p:nvPr/>
              </p:nvSpPr>
              <p:spPr>
                <a:xfrm flipV="1">
                  <a:off x="809280" y="2482200"/>
                  <a:ext cx="131760" cy="74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9" name=""/>
                <p:cNvSpPr/>
                <p:nvPr/>
              </p:nvSpPr>
              <p:spPr>
                <a:xfrm flipV="1">
                  <a:off x="833040" y="2518560"/>
                  <a:ext cx="127080" cy="79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0" name=""/>
                <p:cNvSpPr/>
                <p:nvPr/>
              </p:nvSpPr>
              <p:spPr>
                <a:xfrm flipV="1">
                  <a:off x="847440" y="2537640"/>
                  <a:ext cx="12708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1" name=""/>
                <p:cNvSpPr/>
                <p:nvPr/>
              </p:nvSpPr>
              <p:spPr>
                <a:xfrm flipV="1">
                  <a:off x="888840" y="2585520"/>
                  <a:ext cx="1191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2" name=""/>
                <p:cNvSpPr/>
                <p:nvPr/>
              </p:nvSpPr>
              <p:spPr>
                <a:xfrm flipV="1">
                  <a:off x="888840" y="2588400"/>
                  <a:ext cx="119160" cy="87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3" name=""/>
                <p:cNvSpPr/>
                <p:nvPr/>
              </p:nvSpPr>
              <p:spPr>
                <a:xfrm flipV="1">
                  <a:off x="888840" y="2588760"/>
                  <a:ext cx="119160" cy="90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4" name=""/>
                <p:cNvSpPr/>
                <p:nvPr/>
              </p:nvSpPr>
              <p:spPr>
                <a:xfrm flipV="1">
                  <a:off x="888840" y="2588760"/>
                  <a:ext cx="119160" cy="90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5" name=""/>
                <p:cNvSpPr/>
                <p:nvPr/>
              </p:nvSpPr>
              <p:spPr>
                <a:xfrm flipV="1">
                  <a:off x="888840" y="2588760"/>
                  <a:ext cx="119160" cy="90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6" name=""/>
                <p:cNvSpPr/>
                <p:nvPr/>
              </p:nvSpPr>
              <p:spPr>
                <a:xfrm flipV="1">
                  <a:off x="946080" y="2647800"/>
                  <a:ext cx="109440" cy="101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7" name=""/>
                <p:cNvSpPr/>
                <p:nvPr/>
              </p:nvSpPr>
              <p:spPr>
                <a:xfrm flipV="1">
                  <a:off x="946080" y="2647440"/>
                  <a:ext cx="10944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8" name=""/>
                <p:cNvSpPr/>
                <p:nvPr/>
              </p:nvSpPr>
              <p:spPr>
                <a:xfrm flipV="1">
                  <a:off x="988920" y="2685600"/>
                  <a:ext cx="106200" cy="106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9" name=""/>
                <p:cNvSpPr/>
                <p:nvPr/>
              </p:nvSpPr>
              <p:spPr>
                <a:xfrm flipV="1">
                  <a:off x="988920" y="2685600"/>
                  <a:ext cx="106200" cy="106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0" name=""/>
                <p:cNvSpPr/>
                <p:nvPr/>
              </p:nvSpPr>
              <p:spPr>
                <a:xfrm flipV="1">
                  <a:off x="988920" y="2685600"/>
                  <a:ext cx="106200" cy="106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1" name=""/>
                <p:cNvSpPr/>
                <p:nvPr/>
              </p:nvSpPr>
              <p:spPr>
                <a:xfrm flipV="1">
                  <a:off x="988920" y="2685600"/>
                  <a:ext cx="106200" cy="106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2" name=""/>
                <p:cNvSpPr/>
                <p:nvPr/>
              </p:nvSpPr>
              <p:spPr>
                <a:xfrm flipV="1">
                  <a:off x="991800" y="2688480"/>
                  <a:ext cx="10476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3" name=""/>
                <p:cNvSpPr/>
                <p:nvPr/>
              </p:nvSpPr>
              <p:spPr>
                <a:xfrm flipV="1">
                  <a:off x="1074600" y="2750760"/>
                  <a:ext cx="91800" cy="117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4" name=""/>
                <p:cNvSpPr/>
                <p:nvPr/>
              </p:nvSpPr>
              <p:spPr>
                <a:xfrm flipV="1">
                  <a:off x="1604880" y="2936520"/>
                  <a:ext cx="158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5" name=""/>
                <p:cNvSpPr/>
                <p:nvPr/>
              </p:nvSpPr>
              <p:spPr>
                <a:xfrm flipV="1">
                  <a:off x="1604880" y="2936520"/>
                  <a:ext cx="158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6" name=""/>
                <p:cNvSpPr/>
                <p:nvPr/>
              </p:nvSpPr>
              <p:spPr>
                <a:xfrm flipV="1">
                  <a:off x="1603080" y="2936520"/>
                  <a:ext cx="176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7" name=""/>
                <p:cNvSpPr/>
                <p:nvPr/>
              </p:nvSpPr>
              <p:spPr>
                <a:xfrm flipV="1">
                  <a:off x="1603080" y="2936520"/>
                  <a:ext cx="176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8" name=""/>
                <p:cNvSpPr/>
                <p:nvPr/>
              </p:nvSpPr>
              <p:spPr>
                <a:xfrm flipV="1">
                  <a:off x="1688760" y="2941200"/>
                  <a:ext cx="32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9" name=""/>
                <p:cNvSpPr/>
                <p:nvPr/>
              </p:nvSpPr>
              <p:spPr>
                <a:xfrm flipH="1" flipV="1">
                  <a:off x="1903320" y="2919240"/>
                  <a:ext cx="316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0" name=""/>
                <p:cNvSpPr/>
                <p:nvPr/>
              </p:nvSpPr>
              <p:spPr>
                <a:xfrm flipH="1" flipV="1">
                  <a:off x="2026800" y="2882160"/>
                  <a:ext cx="5364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1" name=""/>
                <p:cNvSpPr/>
                <p:nvPr/>
              </p:nvSpPr>
              <p:spPr>
                <a:xfrm flipH="1" flipV="1">
                  <a:off x="2025360" y="2882160"/>
                  <a:ext cx="5256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2" name=""/>
                <p:cNvSpPr/>
                <p:nvPr/>
              </p:nvSpPr>
              <p:spPr>
                <a:xfrm flipH="1" flipV="1">
                  <a:off x="2063160" y="2867760"/>
                  <a:ext cx="57240" cy="140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3" name=""/>
                <p:cNvSpPr/>
                <p:nvPr/>
              </p:nvSpPr>
              <p:spPr>
                <a:xfrm flipH="1" flipV="1">
                  <a:off x="2086920" y="2856960"/>
                  <a:ext cx="6516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4" name=""/>
                <p:cNvSpPr/>
                <p:nvPr/>
              </p:nvSpPr>
              <p:spPr>
                <a:xfrm flipH="1" flipV="1">
                  <a:off x="2118960" y="2842920"/>
                  <a:ext cx="6984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5" name=""/>
                <p:cNvSpPr/>
                <p:nvPr/>
              </p:nvSpPr>
              <p:spPr>
                <a:xfrm flipH="1" flipV="1">
                  <a:off x="2155320" y="2823480"/>
                  <a:ext cx="7308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6" name=""/>
                <p:cNvSpPr/>
                <p:nvPr/>
              </p:nvSpPr>
              <p:spPr>
                <a:xfrm flipH="1" flipV="1">
                  <a:off x="2165040" y="2818800"/>
                  <a:ext cx="7632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7" name=""/>
                <p:cNvSpPr/>
                <p:nvPr/>
              </p:nvSpPr>
              <p:spPr>
                <a:xfrm flipH="1" flipV="1">
                  <a:off x="2204640" y="279216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8" name=""/>
                <p:cNvSpPr/>
                <p:nvPr/>
              </p:nvSpPr>
              <p:spPr>
                <a:xfrm flipH="1" flipV="1">
                  <a:off x="2212560" y="2787480"/>
                  <a:ext cx="8424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9" name=""/>
                <p:cNvSpPr/>
                <p:nvPr/>
              </p:nvSpPr>
              <p:spPr>
                <a:xfrm flipH="1" flipV="1">
                  <a:off x="2255400" y="2755080"/>
                  <a:ext cx="90360" cy="117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0" name=""/>
                <p:cNvSpPr/>
                <p:nvPr/>
              </p:nvSpPr>
              <p:spPr>
                <a:xfrm flipH="1" flipV="1">
                  <a:off x="2273040" y="2744280"/>
                  <a:ext cx="93600" cy="114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1" name=""/>
                <p:cNvSpPr/>
                <p:nvPr/>
              </p:nvSpPr>
              <p:spPr>
                <a:xfrm flipH="1" flipV="1">
                  <a:off x="2273040" y="2744280"/>
                  <a:ext cx="93600" cy="114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2" name=""/>
                <p:cNvSpPr/>
                <p:nvPr/>
              </p:nvSpPr>
              <p:spPr>
                <a:xfrm flipH="1" flipV="1">
                  <a:off x="2306160" y="2715840"/>
                  <a:ext cx="9972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3" name=""/>
                <p:cNvSpPr/>
                <p:nvPr/>
              </p:nvSpPr>
              <p:spPr>
                <a:xfrm flipH="1" flipV="1">
                  <a:off x="2320200" y="2701080"/>
                  <a:ext cx="103320" cy="109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4" name=""/>
                <p:cNvSpPr/>
                <p:nvPr/>
              </p:nvSpPr>
              <p:spPr>
                <a:xfrm flipH="1" flipV="1">
                  <a:off x="2350800" y="2671560"/>
                  <a:ext cx="106560" cy="102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5" name=""/>
                <p:cNvSpPr/>
                <p:nvPr/>
              </p:nvSpPr>
              <p:spPr>
                <a:xfrm flipH="1" flipV="1">
                  <a:off x="2400120" y="2617560"/>
                  <a:ext cx="117360" cy="93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6" name=""/>
                <p:cNvSpPr/>
                <p:nvPr/>
              </p:nvSpPr>
              <p:spPr>
                <a:xfrm flipH="1" flipV="1">
                  <a:off x="2447280" y="2552400"/>
                  <a:ext cx="125640" cy="84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7" name=""/>
                <p:cNvSpPr/>
                <p:nvPr/>
              </p:nvSpPr>
              <p:spPr>
                <a:xfrm flipH="1" flipV="1">
                  <a:off x="2485800" y="2491920"/>
                  <a:ext cx="130320" cy="74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8" name=""/>
                <p:cNvSpPr/>
                <p:nvPr/>
              </p:nvSpPr>
              <p:spPr>
                <a:xfrm flipH="1" flipV="1">
                  <a:off x="2485800" y="2491920"/>
                  <a:ext cx="130320" cy="74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9" name=""/>
                <p:cNvSpPr/>
                <p:nvPr/>
              </p:nvSpPr>
              <p:spPr>
                <a:xfrm flipH="1" flipV="1">
                  <a:off x="2485800" y="2491920"/>
                  <a:ext cx="130320" cy="74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0" name=""/>
                <p:cNvSpPr/>
                <p:nvPr/>
              </p:nvSpPr>
              <p:spPr>
                <a:xfrm flipH="1" flipV="1">
                  <a:off x="2531520" y="2398320"/>
                  <a:ext cx="136440" cy="6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1" name=""/>
                <p:cNvSpPr/>
                <p:nvPr/>
              </p:nvSpPr>
              <p:spPr>
                <a:xfrm flipH="1" flipV="1">
                  <a:off x="2568240" y="2293560"/>
                  <a:ext cx="146160" cy="39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2" name=""/>
                <p:cNvSpPr/>
                <p:nvPr/>
              </p:nvSpPr>
              <p:spPr>
                <a:xfrm flipH="1" flipV="1">
                  <a:off x="2593800" y="2167920"/>
                  <a:ext cx="14904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3" name=""/>
                <p:cNvSpPr/>
                <p:nvPr/>
              </p:nvSpPr>
              <p:spPr>
                <a:xfrm flipH="1" flipV="1">
                  <a:off x="2601720" y="2069280"/>
                  <a:ext cx="147600" cy="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4" name=""/>
                <p:cNvSpPr/>
                <p:nvPr/>
              </p:nvSpPr>
              <p:spPr>
                <a:xfrm flipH="1" flipV="1">
                  <a:off x="2601720" y="2069280"/>
                  <a:ext cx="147600" cy="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5" name=""/>
                <p:cNvSpPr/>
                <p:nvPr/>
              </p:nvSpPr>
              <p:spPr>
                <a:xfrm flipH="1" flipV="1">
                  <a:off x="2601720" y="2069280"/>
                  <a:ext cx="147600" cy="3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6" name=""/>
                <p:cNvSpPr/>
                <p:nvPr/>
              </p:nvSpPr>
              <p:spPr>
                <a:xfrm flipH="1">
                  <a:off x="2598120" y="2012760"/>
                  <a:ext cx="150840" cy="6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7" name=""/>
                <p:cNvSpPr/>
                <p:nvPr/>
              </p:nvSpPr>
              <p:spPr>
                <a:xfrm flipH="1">
                  <a:off x="2598120" y="1990440"/>
                  <a:ext cx="1508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8" name=""/>
                <p:cNvSpPr/>
                <p:nvPr/>
              </p:nvSpPr>
              <p:spPr>
                <a:xfrm flipH="1">
                  <a:off x="2577600" y="1821960"/>
                  <a:ext cx="14580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9" name=""/>
                <p:cNvSpPr/>
                <p:nvPr/>
              </p:nvSpPr>
              <p:spPr>
                <a:xfrm flipH="1">
                  <a:off x="2574720" y="180612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0" name=""/>
                <p:cNvSpPr/>
                <p:nvPr/>
              </p:nvSpPr>
              <p:spPr>
                <a:xfrm flipH="1">
                  <a:off x="2574720" y="180612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1" name=""/>
                <p:cNvSpPr/>
                <p:nvPr/>
              </p:nvSpPr>
              <p:spPr>
                <a:xfrm flipH="1">
                  <a:off x="2569680" y="1787040"/>
                  <a:ext cx="14580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2" name=""/>
                <p:cNvSpPr/>
                <p:nvPr/>
              </p:nvSpPr>
              <p:spPr>
                <a:xfrm flipH="1">
                  <a:off x="2531880" y="165528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3" name=""/>
                <p:cNvSpPr/>
                <p:nvPr/>
              </p:nvSpPr>
              <p:spPr>
                <a:xfrm flipH="1">
                  <a:off x="2502720" y="1582560"/>
                  <a:ext cx="133560" cy="68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4" name=""/>
                <p:cNvSpPr/>
                <p:nvPr/>
              </p:nvSpPr>
              <p:spPr>
                <a:xfrm flipH="1">
                  <a:off x="2502720" y="1582560"/>
                  <a:ext cx="133560" cy="68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5" name=""/>
                <p:cNvSpPr/>
                <p:nvPr/>
              </p:nvSpPr>
              <p:spPr>
                <a:xfrm flipH="1">
                  <a:off x="2425320" y="1436400"/>
                  <a:ext cx="120960" cy="92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6" name=""/>
                <p:cNvSpPr/>
                <p:nvPr/>
              </p:nvSpPr>
              <p:spPr>
                <a:xfrm flipH="1">
                  <a:off x="2425320" y="1436400"/>
                  <a:ext cx="12096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7" name=""/>
                <p:cNvSpPr/>
                <p:nvPr/>
              </p:nvSpPr>
              <p:spPr>
                <a:xfrm flipH="1">
                  <a:off x="2425320" y="1436400"/>
                  <a:ext cx="12096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8" name=""/>
                <p:cNvSpPr/>
                <p:nvPr/>
              </p:nvSpPr>
              <p:spPr>
                <a:xfrm flipH="1">
                  <a:off x="2425320" y="1436400"/>
                  <a:ext cx="12096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9" name=""/>
                <p:cNvSpPr/>
                <p:nvPr/>
              </p:nvSpPr>
              <p:spPr>
                <a:xfrm flipH="1">
                  <a:off x="2423520" y="1431720"/>
                  <a:ext cx="1191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0" name=""/>
                <p:cNvSpPr/>
                <p:nvPr/>
              </p:nvSpPr>
              <p:spPr>
                <a:xfrm flipH="1">
                  <a:off x="2423520" y="1431720"/>
                  <a:ext cx="1191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1" name=""/>
                <p:cNvSpPr/>
                <p:nvPr/>
              </p:nvSpPr>
              <p:spPr>
                <a:xfrm flipH="1">
                  <a:off x="2423520" y="1434600"/>
                  <a:ext cx="119160" cy="87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2" name=""/>
                <p:cNvSpPr/>
                <p:nvPr/>
              </p:nvSpPr>
              <p:spPr>
                <a:xfrm flipH="1">
                  <a:off x="2368080" y="1356840"/>
                  <a:ext cx="112680" cy="101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3" name=""/>
                <p:cNvSpPr/>
                <p:nvPr/>
              </p:nvSpPr>
              <p:spPr>
                <a:xfrm flipH="1">
                  <a:off x="2120760" y="1134720"/>
                  <a:ext cx="6984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4" name=""/>
                <p:cNvSpPr/>
                <p:nvPr/>
              </p:nvSpPr>
              <p:spPr>
                <a:xfrm flipH="1">
                  <a:off x="2120760" y="1134720"/>
                  <a:ext cx="6984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5" name=""/>
                <p:cNvSpPr/>
                <p:nvPr/>
              </p:nvSpPr>
              <p:spPr>
                <a:xfrm flipH="1">
                  <a:off x="2120760" y="1134720"/>
                  <a:ext cx="6984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6" name=""/>
                <p:cNvSpPr/>
                <p:nvPr/>
              </p:nvSpPr>
              <p:spPr>
                <a:xfrm flipH="1">
                  <a:off x="2120760" y="1134720"/>
                  <a:ext cx="6984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7" name=""/>
                <p:cNvSpPr/>
                <p:nvPr/>
              </p:nvSpPr>
              <p:spPr>
                <a:xfrm flipH="1">
                  <a:off x="2077920" y="1110960"/>
                  <a:ext cx="6336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8" name=""/>
                <p:cNvSpPr/>
                <p:nvPr/>
              </p:nvSpPr>
              <p:spPr>
                <a:xfrm flipH="1">
                  <a:off x="2077920" y="1110960"/>
                  <a:ext cx="6336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9" name=""/>
                <p:cNvSpPr/>
                <p:nvPr/>
              </p:nvSpPr>
              <p:spPr>
                <a:xfrm flipH="1">
                  <a:off x="2020320" y="1083960"/>
                  <a:ext cx="522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0" name=""/>
                <p:cNvSpPr/>
                <p:nvPr/>
              </p:nvSpPr>
              <p:spPr>
                <a:xfrm flipH="1">
                  <a:off x="2012400" y="1079280"/>
                  <a:ext cx="5076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1" name=""/>
                <p:cNvSpPr/>
                <p:nvPr/>
              </p:nvSpPr>
              <p:spPr>
                <a:xfrm flipH="1">
                  <a:off x="2005920" y="1076040"/>
                  <a:ext cx="4788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2" name=""/>
                <p:cNvSpPr/>
                <p:nvPr/>
              </p:nvSpPr>
              <p:spPr>
                <a:xfrm flipH="1">
                  <a:off x="2212560" y="1198080"/>
                  <a:ext cx="84240" cy="123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3" name=""/>
                <p:cNvSpPr/>
                <p:nvPr/>
              </p:nvSpPr>
              <p:spPr>
                <a:xfrm flipH="1">
                  <a:off x="2212560" y="1198080"/>
                  <a:ext cx="84240" cy="123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4" name=""/>
                <p:cNvSpPr/>
                <p:nvPr/>
              </p:nvSpPr>
              <p:spPr>
                <a:xfrm flipH="1" flipV="1">
                  <a:off x="2504880" y="2455560"/>
                  <a:ext cx="13176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5" name=""/>
                <p:cNvSpPr/>
                <p:nvPr/>
              </p:nvSpPr>
              <p:spPr>
                <a:xfrm flipH="1">
                  <a:off x="2423520" y="1431720"/>
                  <a:ext cx="1191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6" name=""/>
                <p:cNvSpPr/>
                <p:nvPr/>
              </p:nvSpPr>
              <p:spPr>
                <a:xfrm flipH="1">
                  <a:off x="2423520" y="1431720"/>
                  <a:ext cx="11916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7" name=""/>
                <p:cNvSpPr/>
                <p:nvPr/>
              </p:nvSpPr>
              <p:spPr>
                <a:xfrm flipV="1">
                  <a:off x="991800" y="2688480"/>
                  <a:ext cx="10476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8" name=""/>
                <p:cNvSpPr/>
                <p:nvPr/>
              </p:nvSpPr>
              <p:spPr>
                <a:xfrm flipH="1">
                  <a:off x="2546280" y="1698480"/>
                  <a:ext cx="14112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9" name=""/>
                <p:cNvSpPr/>
                <p:nvPr/>
              </p:nvSpPr>
              <p:spPr>
                <a:xfrm flipH="1" flipV="1">
                  <a:off x="2039760" y="2877840"/>
                  <a:ext cx="5544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0" name=""/>
                <p:cNvSpPr/>
                <p:nvPr/>
              </p:nvSpPr>
              <p:spPr>
                <a:xfrm flipH="1">
                  <a:off x="1794960" y="1023480"/>
                  <a:ext cx="1116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1" name=""/>
                <p:cNvSpPr/>
                <p:nvPr/>
              </p:nvSpPr>
              <p:spPr>
                <a:xfrm flipH="1">
                  <a:off x="1794960" y="1023480"/>
                  <a:ext cx="1404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2" name=""/>
                <p:cNvSpPr/>
                <p:nvPr/>
              </p:nvSpPr>
              <p:spPr>
                <a:xfrm flipH="1">
                  <a:off x="1794960" y="1023480"/>
                  <a:ext cx="1404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3" name=""/>
                <p:cNvSpPr/>
                <p:nvPr/>
              </p:nvSpPr>
              <p:spPr>
                <a:xfrm flipH="1">
                  <a:off x="2354040" y="1338120"/>
                  <a:ext cx="108000" cy="102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4" name=""/>
                <p:cNvSpPr/>
                <p:nvPr/>
              </p:nvSpPr>
              <p:spPr>
                <a:xfrm flipH="1">
                  <a:off x="2258640" y="1238040"/>
                  <a:ext cx="92160" cy="118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5" name=""/>
                <p:cNvSpPr/>
                <p:nvPr/>
              </p:nvSpPr>
              <p:spPr>
                <a:xfrm flipH="1">
                  <a:off x="2522160" y="1628280"/>
                  <a:ext cx="13680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6" name=""/>
                <p:cNvSpPr/>
                <p:nvPr/>
              </p:nvSpPr>
              <p:spPr>
                <a:xfrm flipH="1" flipV="1">
                  <a:off x="2288520" y="2729880"/>
                  <a:ext cx="96840" cy="114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7" name=""/>
                <p:cNvSpPr/>
                <p:nvPr/>
              </p:nvSpPr>
              <p:spPr>
                <a:xfrm flipV="1">
                  <a:off x="811080" y="2486880"/>
                  <a:ext cx="129960" cy="71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8" name=""/>
                <p:cNvSpPr/>
                <p:nvPr/>
              </p:nvSpPr>
              <p:spPr>
                <a:xfrm>
                  <a:off x="706320" y="1825200"/>
                  <a:ext cx="145800" cy="3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9" name=""/>
                <p:cNvSpPr/>
                <p:nvPr/>
              </p:nvSpPr>
              <p:spPr>
                <a:xfrm>
                  <a:off x="706320" y="1825200"/>
                  <a:ext cx="145800" cy="3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0" name=""/>
                <p:cNvSpPr/>
                <p:nvPr/>
              </p:nvSpPr>
              <p:spPr>
                <a:xfrm>
                  <a:off x="706320" y="1825200"/>
                  <a:ext cx="145800" cy="3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1" name=""/>
                <p:cNvSpPr/>
                <p:nvPr/>
              </p:nvSpPr>
              <p:spPr>
                <a:xfrm>
                  <a:off x="706320" y="1825200"/>
                  <a:ext cx="145800" cy="3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2" name=""/>
                <p:cNvSpPr/>
                <p:nvPr/>
              </p:nvSpPr>
              <p:spPr>
                <a:xfrm>
                  <a:off x="706320" y="1825200"/>
                  <a:ext cx="145800" cy="3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3" name=""/>
                <p:cNvSpPr/>
                <p:nvPr/>
              </p:nvSpPr>
              <p:spPr>
                <a:xfrm>
                  <a:off x="706320" y="1821960"/>
                  <a:ext cx="14580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4" name=""/>
                <p:cNvSpPr/>
                <p:nvPr/>
              </p:nvSpPr>
              <p:spPr>
                <a:xfrm>
                  <a:off x="706320" y="1821960"/>
                  <a:ext cx="14580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5" name=""/>
                <p:cNvSpPr/>
                <p:nvPr/>
              </p:nvSpPr>
              <p:spPr>
                <a:xfrm>
                  <a:off x="706320" y="1821960"/>
                  <a:ext cx="14580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6" name=""/>
                <p:cNvSpPr/>
                <p:nvPr/>
              </p:nvSpPr>
              <p:spPr>
                <a:xfrm>
                  <a:off x="706320" y="1821960"/>
                  <a:ext cx="14580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7" name=""/>
                <p:cNvSpPr/>
                <p:nvPr/>
              </p:nvSpPr>
              <p:spPr>
                <a:xfrm>
                  <a:off x="1706400" y="1018800"/>
                  <a:ext cx="144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8" name=""/>
                <p:cNvSpPr/>
                <p:nvPr/>
              </p:nvSpPr>
              <p:spPr>
                <a:xfrm>
                  <a:off x="1706400" y="1018800"/>
                  <a:ext cx="144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9" name=""/>
                <p:cNvSpPr/>
                <p:nvPr/>
              </p:nvSpPr>
              <p:spPr>
                <a:xfrm flipH="1" flipV="1">
                  <a:off x="2509200" y="2444040"/>
                  <a:ext cx="135000" cy="66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0" name=""/>
                <p:cNvSpPr/>
                <p:nvPr/>
              </p:nvSpPr>
              <p:spPr>
                <a:xfrm flipH="1" flipV="1">
                  <a:off x="1836360" y="2931840"/>
                  <a:ext cx="208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1" name=""/>
                <p:cNvSpPr/>
                <p:nvPr/>
              </p:nvSpPr>
              <p:spPr>
                <a:xfrm flipV="1">
                  <a:off x="679320" y="2086920"/>
                  <a:ext cx="15084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2" name=""/>
                <p:cNvSpPr/>
                <p:nvPr/>
              </p:nvSpPr>
              <p:spPr>
                <a:xfrm>
                  <a:off x="1080720" y="1234800"/>
                  <a:ext cx="9216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3" name=""/>
                <p:cNvSpPr/>
                <p:nvPr/>
              </p:nvSpPr>
              <p:spPr>
                <a:xfrm>
                  <a:off x="1044360" y="1266480"/>
                  <a:ext cx="95400" cy="114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4" name=""/>
                <p:cNvSpPr/>
                <p:nvPr/>
              </p:nvSpPr>
              <p:spPr>
                <a:xfrm>
                  <a:off x="1010880" y="1296720"/>
                  <a:ext cx="10008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5" name=""/>
                <p:cNvSpPr/>
                <p:nvPr/>
              </p:nvSpPr>
              <p:spPr>
                <a:xfrm flipH="1" flipV="1">
                  <a:off x="2151000" y="2825280"/>
                  <a:ext cx="7272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6" name=""/>
                <p:cNvSpPr/>
                <p:nvPr/>
              </p:nvSpPr>
              <p:spPr>
                <a:xfrm flipH="1">
                  <a:off x="2449440" y="1479240"/>
                  <a:ext cx="125280" cy="82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7" name=""/>
                <p:cNvSpPr/>
                <p:nvPr/>
              </p:nvSpPr>
              <p:spPr>
                <a:xfrm flipH="1">
                  <a:off x="2449440" y="1479240"/>
                  <a:ext cx="125280" cy="82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8" name=""/>
                <p:cNvSpPr/>
                <p:nvPr/>
              </p:nvSpPr>
              <p:spPr>
                <a:xfrm>
                  <a:off x="766440" y="1641240"/>
                  <a:ext cx="136440" cy="5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9" name=""/>
                <p:cNvSpPr/>
                <p:nvPr/>
              </p:nvSpPr>
              <p:spPr>
                <a:xfrm>
                  <a:off x="766440" y="1641240"/>
                  <a:ext cx="136440" cy="5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0" name=""/>
                <p:cNvSpPr/>
                <p:nvPr/>
              </p:nvSpPr>
              <p:spPr>
                <a:xfrm>
                  <a:off x="766440" y="1641240"/>
                  <a:ext cx="136440" cy="58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1" name=""/>
                <p:cNvSpPr/>
                <p:nvPr/>
              </p:nvSpPr>
              <p:spPr>
                <a:xfrm flipH="1">
                  <a:off x="1897920" y="1041120"/>
                  <a:ext cx="320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2" name=""/>
                <p:cNvSpPr/>
                <p:nvPr/>
              </p:nvSpPr>
              <p:spPr>
                <a:xfrm flipH="1">
                  <a:off x="2596680" y="1962000"/>
                  <a:ext cx="150840" cy="14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3" name=""/>
                <p:cNvSpPr/>
                <p:nvPr/>
              </p:nvSpPr>
              <p:spPr>
                <a:xfrm>
                  <a:off x="852120" y="1482480"/>
                  <a:ext cx="12564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4" name=""/>
                <p:cNvSpPr/>
                <p:nvPr/>
              </p:nvSpPr>
              <p:spPr>
                <a:xfrm>
                  <a:off x="852120" y="1479240"/>
                  <a:ext cx="127080" cy="84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5" name=""/>
                <p:cNvSpPr/>
                <p:nvPr/>
              </p:nvSpPr>
              <p:spPr>
                <a:xfrm>
                  <a:off x="849240" y="1487160"/>
                  <a:ext cx="12528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6" name=""/>
                <p:cNvSpPr/>
                <p:nvPr/>
              </p:nvSpPr>
              <p:spPr>
                <a:xfrm>
                  <a:off x="830160" y="1517400"/>
                  <a:ext cx="126720" cy="77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7" name=""/>
                <p:cNvSpPr/>
                <p:nvPr/>
              </p:nvSpPr>
              <p:spPr>
                <a:xfrm>
                  <a:off x="830160" y="1517400"/>
                  <a:ext cx="126720" cy="77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8" name=""/>
                <p:cNvSpPr/>
                <p:nvPr/>
              </p:nvSpPr>
              <p:spPr>
                <a:xfrm>
                  <a:off x="820440" y="1533240"/>
                  <a:ext cx="130320" cy="73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9" name=""/>
                <p:cNvSpPr/>
                <p:nvPr/>
              </p:nvSpPr>
              <p:spPr>
                <a:xfrm>
                  <a:off x="820440" y="1533240"/>
                  <a:ext cx="130320" cy="73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0" name=""/>
                <p:cNvSpPr/>
                <p:nvPr/>
              </p:nvSpPr>
              <p:spPr>
                <a:xfrm>
                  <a:off x="811080" y="1549080"/>
                  <a:ext cx="131760" cy="71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1" name=""/>
                <p:cNvSpPr/>
                <p:nvPr/>
              </p:nvSpPr>
              <p:spPr>
                <a:xfrm flipH="1" flipV="1">
                  <a:off x="2063520" y="2868120"/>
                  <a:ext cx="6048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2" name=""/>
                <p:cNvSpPr/>
                <p:nvPr/>
              </p:nvSpPr>
              <p:spPr>
                <a:xfrm flipH="1">
                  <a:off x="1996920" y="1074240"/>
                  <a:ext cx="4752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3" name=""/>
                <p:cNvSpPr/>
                <p:nvPr/>
              </p:nvSpPr>
              <p:spPr>
                <a:xfrm flipV="1">
                  <a:off x="745920" y="2366640"/>
                  <a:ext cx="13968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4" name=""/>
                <p:cNvSpPr/>
                <p:nvPr/>
              </p:nvSpPr>
              <p:spPr>
                <a:xfrm>
                  <a:off x="942840" y="1364760"/>
                  <a:ext cx="110880" cy="100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5" name=""/>
                <p:cNvSpPr/>
                <p:nvPr/>
              </p:nvSpPr>
              <p:spPr>
                <a:xfrm flipH="1" flipV="1">
                  <a:off x="2517120" y="2431440"/>
                  <a:ext cx="13356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6" name=""/>
                <p:cNvSpPr/>
                <p:nvPr/>
              </p:nvSpPr>
              <p:spPr>
                <a:xfrm flipH="1" flipV="1">
                  <a:off x="2517120" y="2431440"/>
                  <a:ext cx="13356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7" name=""/>
                <p:cNvSpPr/>
                <p:nvPr/>
              </p:nvSpPr>
              <p:spPr>
                <a:xfrm flipH="1" flipV="1">
                  <a:off x="2514240" y="2435040"/>
                  <a:ext cx="13680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8" name=""/>
                <p:cNvSpPr/>
                <p:nvPr/>
              </p:nvSpPr>
              <p:spPr>
                <a:xfrm flipV="1">
                  <a:off x="684000" y="2136240"/>
                  <a:ext cx="149040" cy="12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9" name=""/>
                <p:cNvSpPr/>
                <p:nvPr/>
              </p:nvSpPr>
              <p:spPr>
                <a:xfrm flipV="1">
                  <a:off x="1012680" y="2706480"/>
                  <a:ext cx="10296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0" name=""/>
                <p:cNvSpPr/>
                <p:nvPr/>
              </p:nvSpPr>
              <p:spPr>
                <a:xfrm flipH="1" flipV="1">
                  <a:off x="2579400" y="224892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1" name=""/>
                <p:cNvSpPr/>
                <p:nvPr/>
              </p:nvSpPr>
              <p:spPr>
                <a:xfrm flipH="1">
                  <a:off x="2488680" y="1549080"/>
                  <a:ext cx="128520" cy="74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2" name=""/>
                <p:cNvSpPr/>
                <p:nvPr/>
              </p:nvSpPr>
              <p:spPr>
                <a:xfrm flipH="1">
                  <a:off x="1888560" y="1037880"/>
                  <a:ext cx="2844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3" name=""/>
                <p:cNvSpPr/>
                <p:nvPr/>
              </p:nvSpPr>
              <p:spPr>
                <a:xfrm flipH="1">
                  <a:off x="1888560" y="1037880"/>
                  <a:ext cx="2844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4" name=""/>
                <p:cNvSpPr/>
                <p:nvPr/>
              </p:nvSpPr>
              <p:spPr>
                <a:xfrm flipH="1" flipV="1">
                  <a:off x="2517120" y="2427120"/>
                  <a:ext cx="136440" cy="63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5" name=""/>
                <p:cNvSpPr/>
                <p:nvPr/>
              </p:nvSpPr>
              <p:spPr>
                <a:xfrm>
                  <a:off x="1644480" y="1022040"/>
                  <a:ext cx="936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6" name=""/>
                <p:cNvSpPr/>
                <p:nvPr/>
              </p:nvSpPr>
              <p:spPr>
                <a:xfrm>
                  <a:off x="1620720" y="1023480"/>
                  <a:ext cx="1404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7" name=""/>
                <p:cNvSpPr/>
                <p:nvPr/>
              </p:nvSpPr>
              <p:spPr>
                <a:xfrm>
                  <a:off x="1622160" y="1023480"/>
                  <a:ext cx="1260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>
                  <a:off x="1622160" y="1023480"/>
                  <a:ext cx="1260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>
                  <a:off x="1595160" y="1026720"/>
                  <a:ext cx="176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>
                  <a:off x="1595160" y="1026720"/>
                  <a:ext cx="205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>
                  <a:off x="1557000" y="1031400"/>
                  <a:ext cx="2232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>
                  <a:off x="1550880" y="1031400"/>
                  <a:ext cx="2376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>
                  <a:off x="1550880" y="1031400"/>
                  <a:ext cx="2376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>
                  <a:off x="1552320" y="1031400"/>
                  <a:ext cx="2232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>
                  <a:off x="1552320" y="1031400"/>
                  <a:ext cx="23760" cy="147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6" name=""/>
                <p:cNvSpPr/>
                <p:nvPr/>
              </p:nvSpPr>
              <p:spPr>
                <a:xfrm>
                  <a:off x="1545840" y="1033200"/>
                  <a:ext cx="2412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7" name=""/>
                <p:cNvSpPr/>
                <p:nvPr/>
              </p:nvSpPr>
              <p:spPr>
                <a:xfrm>
                  <a:off x="1545840" y="1033200"/>
                  <a:ext cx="2412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8" name=""/>
                <p:cNvSpPr/>
                <p:nvPr/>
              </p:nvSpPr>
              <p:spPr>
                <a:xfrm>
                  <a:off x="1542960" y="1033200"/>
                  <a:ext cx="270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9" name=""/>
                <p:cNvSpPr/>
                <p:nvPr/>
              </p:nvSpPr>
              <p:spPr>
                <a:xfrm>
                  <a:off x="1542960" y="1033200"/>
                  <a:ext cx="270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0" name=""/>
                <p:cNvSpPr/>
                <p:nvPr/>
              </p:nvSpPr>
              <p:spPr>
                <a:xfrm>
                  <a:off x="1542960" y="1033200"/>
                  <a:ext cx="237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1" name=""/>
                <p:cNvSpPr/>
                <p:nvPr/>
              </p:nvSpPr>
              <p:spPr>
                <a:xfrm>
                  <a:off x="1542960" y="1033200"/>
                  <a:ext cx="2376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2" name=""/>
                <p:cNvSpPr/>
                <p:nvPr/>
              </p:nvSpPr>
              <p:spPr>
                <a:xfrm>
                  <a:off x="1526760" y="1036440"/>
                  <a:ext cx="288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3" name=""/>
                <p:cNvSpPr/>
                <p:nvPr/>
              </p:nvSpPr>
              <p:spPr>
                <a:xfrm>
                  <a:off x="1526760" y="1036440"/>
                  <a:ext cx="288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4" name=""/>
                <p:cNvSpPr/>
                <p:nvPr/>
              </p:nvSpPr>
              <p:spPr>
                <a:xfrm>
                  <a:off x="1523880" y="1036440"/>
                  <a:ext cx="284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5" name=""/>
                <p:cNvSpPr/>
                <p:nvPr/>
              </p:nvSpPr>
              <p:spPr>
                <a:xfrm>
                  <a:off x="1514160" y="1037880"/>
                  <a:ext cx="2880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6" name=""/>
                <p:cNvSpPr/>
                <p:nvPr/>
              </p:nvSpPr>
              <p:spPr>
                <a:xfrm>
                  <a:off x="1517400" y="1037880"/>
                  <a:ext cx="2844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7" name=""/>
                <p:cNvSpPr/>
                <p:nvPr/>
              </p:nvSpPr>
              <p:spPr>
                <a:xfrm>
                  <a:off x="1504800" y="1041120"/>
                  <a:ext cx="316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8" name=""/>
                <p:cNvSpPr/>
                <p:nvPr/>
              </p:nvSpPr>
              <p:spPr>
                <a:xfrm>
                  <a:off x="1444320" y="1055520"/>
                  <a:ext cx="3816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9" name=""/>
                <p:cNvSpPr/>
                <p:nvPr/>
              </p:nvSpPr>
              <p:spPr>
                <a:xfrm>
                  <a:off x="1442880" y="1055520"/>
                  <a:ext cx="3960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0" name=""/>
                <p:cNvSpPr/>
                <p:nvPr/>
              </p:nvSpPr>
              <p:spPr>
                <a:xfrm>
                  <a:off x="1442880" y="1055520"/>
                  <a:ext cx="3960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1" name=""/>
                <p:cNvSpPr/>
                <p:nvPr/>
              </p:nvSpPr>
              <p:spPr>
                <a:xfrm>
                  <a:off x="1430280" y="1060200"/>
                  <a:ext cx="4104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2" name=""/>
                <p:cNvSpPr/>
                <p:nvPr/>
              </p:nvSpPr>
              <p:spPr>
                <a:xfrm>
                  <a:off x="1430280" y="1060200"/>
                  <a:ext cx="4104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3" name=""/>
                <p:cNvSpPr/>
                <p:nvPr/>
              </p:nvSpPr>
              <p:spPr>
                <a:xfrm>
                  <a:off x="1396800" y="1069560"/>
                  <a:ext cx="4608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4" name=""/>
                <p:cNvSpPr/>
                <p:nvPr/>
              </p:nvSpPr>
              <p:spPr>
                <a:xfrm>
                  <a:off x="1396800" y="1069560"/>
                  <a:ext cx="4752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5" name=""/>
                <p:cNvSpPr/>
                <p:nvPr/>
              </p:nvSpPr>
              <p:spPr>
                <a:xfrm>
                  <a:off x="1344240" y="1088640"/>
                  <a:ext cx="5256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6" name=""/>
                <p:cNvSpPr/>
                <p:nvPr/>
              </p:nvSpPr>
              <p:spPr>
                <a:xfrm>
                  <a:off x="1344240" y="1088640"/>
                  <a:ext cx="5256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7" name=""/>
                <p:cNvSpPr/>
                <p:nvPr/>
              </p:nvSpPr>
              <p:spPr>
                <a:xfrm>
                  <a:off x="1334880" y="1090440"/>
                  <a:ext cx="54000" cy="142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8" name=""/>
                <p:cNvSpPr/>
                <p:nvPr/>
              </p:nvSpPr>
              <p:spPr>
                <a:xfrm>
                  <a:off x="933120" y="1374480"/>
                  <a:ext cx="11592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9" name=""/>
                <p:cNvSpPr/>
                <p:nvPr/>
              </p:nvSpPr>
              <p:spPr>
                <a:xfrm>
                  <a:off x="691920" y="1901520"/>
                  <a:ext cx="147600" cy="22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0" name=""/>
                <p:cNvSpPr/>
                <p:nvPr/>
              </p:nvSpPr>
              <p:spPr>
                <a:xfrm>
                  <a:off x="684000" y="1966680"/>
                  <a:ext cx="149040" cy="12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1" name=""/>
                <p:cNvSpPr/>
                <p:nvPr/>
              </p:nvSpPr>
              <p:spPr>
                <a:xfrm>
                  <a:off x="682560" y="1995120"/>
                  <a:ext cx="14760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2" name=""/>
                <p:cNvSpPr/>
                <p:nvPr/>
              </p:nvSpPr>
              <p:spPr>
                <a:xfrm>
                  <a:off x="682560" y="1999800"/>
                  <a:ext cx="147600" cy="7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3" name=""/>
                <p:cNvSpPr/>
                <p:nvPr/>
              </p:nvSpPr>
              <p:spPr>
                <a:xfrm>
                  <a:off x="682560" y="2003040"/>
                  <a:ext cx="147600" cy="6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4" name=""/>
                <p:cNvSpPr/>
                <p:nvPr/>
              </p:nvSpPr>
              <p:spPr>
                <a:xfrm>
                  <a:off x="682560" y="2003040"/>
                  <a:ext cx="147600" cy="6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5" name=""/>
                <p:cNvSpPr/>
                <p:nvPr/>
              </p:nvSpPr>
              <p:spPr>
                <a:xfrm>
                  <a:off x="679320" y="2028600"/>
                  <a:ext cx="15084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6" name=""/>
                <p:cNvSpPr/>
                <p:nvPr/>
              </p:nvSpPr>
              <p:spPr>
                <a:xfrm flipV="1">
                  <a:off x="682560" y="2096640"/>
                  <a:ext cx="147600" cy="6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7" name=""/>
                <p:cNvSpPr/>
                <p:nvPr/>
              </p:nvSpPr>
              <p:spPr>
                <a:xfrm flipV="1">
                  <a:off x="682560" y="2112120"/>
                  <a:ext cx="14760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8" name=""/>
                <p:cNvSpPr/>
                <p:nvPr/>
              </p:nvSpPr>
              <p:spPr>
                <a:xfrm flipV="1">
                  <a:off x="682560" y="2117160"/>
                  <a:ext cx="150480" cy="12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9" name=""/>
                <p:cNvSpPr/>
                <p:nvPr/>
              </p:nvSpPr>
              <p:spPr>
                <a:xfrm flipV="1">
                  <a:off x="684000" y="2141280"/>
                  <a:ext cx="149040" cy="14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0" name=""/>
                <p:cNvSpPr/>
                <p:nvPr/>
              </p:nvSpPr>
              <p:spPr>
                <a:xfrm flipV="1">
                  <a:off x="688680" y="2175840"/>
                  <a:ext cx="14940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1" name=""/>
                <p:cNvSpPr/>
                <p:nvPr/>
              </p:nvSpPr>
              <p:spPr>
                <a:xfrm flipV="1">
                  <a:off x="706320" y="2248920"/>
                  <a:ext cx="14580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2" name=""/>
                <p:cNvSpPr/>
                <p:nvPr/>
              </p:nvSpPr>
              <p:spPr>
                <a:xfrm flipV="1">
                  <a:off x="706320" y="2253600"/>
                  <a:ext cx="14580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3" name=""/>
                <p:cNvSpPr/>
                <p:nvPr/>
              </p:nvSpPr>
              <p:spPr>
                <a:xfrm flipV="1">
                  <a:off x="706320" y="2253600"/>
                  <a:ext cx="14580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4" name=""/>
                <p:cNvSpPr/>
                <p:nvPr/>
              </p:nvSpPr>
              <p:spPr>
                <a:xfrm flipV="1">
                  <a:off x="706320" y="2253600"/>
                  <a:ext cx="14580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5" name=""/>
                <p:cNvSpPr/>
                <p:nvPr/>
              </p:nvSpPr>
              <p:spPr>
                <a:xfrm flipV="1">
                  <a:off x="707760" y="225828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6" name=""/>
                <p:cNvSpPr/>
                <p:nvPr/>
              </p:nvSpPr>
              <p:spPr>
                <a:xfrm flipV="1">
                  <a:off x="725400" y="2312280"/>
                  <a:ext cx="144360" cy="4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7" name=""/>
                <p:cNvSpPr/>
                <p:nvPr/>
              </p:nvSpPr>
              <p:spPr>
                <a:xfrm flipV="1">
                  <a:off x="731520" y="2336040"/>
                  <a:ext cx="144720" cy="47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8" name=""/>
                <p:cNvSpPr/>
                <p:nvPr/>
              </p:nvSpPr>
              <p:spPr>
                <a:xfrm flipV="1">
                  <a:off x="749160" y="2377440"/>
                  <a:ext cx="14112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9" name=""/>
                <p:cNvSpPr/>
                <p:nvPr/>
              </p:nvSpPr>
              <p:spPr>
                <a:xfrm flipV="1">
                  <a:off x="768240" y="2412720"/>
                  <a:ext cx="136440" cy="61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0" name=""/>
                <p:cNvSpPr/>
                <p:nvPr/>
              </p:nvSpPr>
              <p:spPr>
                <a:xfrm flipV="1">
                  <a:off x="772920" y="2421720"/>
                  <a:ext cx="136440" cy="63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1" name=""/>
                <p:cNvSpPr/>
                <p:nvPr/>
              </p:nvSpPr>
              <p:spPr>
                <a:xfrm flipV="1">
                  <a:off x="782280" y="2439360"/>
                  <a:ext cx="135000" cy="66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2" name=""/>
                <p:cNvSpPr/>
                <p:nvPr/>
              </p:nvSpPr>
              <p:spPr>
                <a:xfrm flipV="1">
                  <a:off x="785520" y="2444040"/>
                  <a:ext cx="13356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3" name=""/>
                <p:cNvSpPr/>
                <p:nvPr/>
              </p:nvSpPr>
              <p:spPr>
                <a:xfrm flipV="1">
                  <a:off x="814320" y="2491920"/>
                  <a:ext cx="131760" cy="74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4" name=""/>
                <p:cNvSpPr/>
                <p:nvPr/>
              </p:nvSpPr>
              <p:spPr>
                <a:xfrm flipV="1">
                  <a:off x="814320" y="2491560"/>
                  <a:ext cx="131760" cy="71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5" name=""/>
                <p:cNvSpPr/>
                <p:nvPr/>
              </p:nvSpPr>
              <p:spPr>
                <a:xfrm flipV="1">
                  <a:off x="814320" y="2491560"/>
                  <a:ext cx="131760" cy="71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6" name=""/>
                <p:cNvSpPr/>
                <p:nvPr/>
              </p:nvSpPr>
              <p:spPr>
                <a:xfrm flipV="1">
                  <a:off x="853920" y="2547360"/>
                  <a:ext cx="125280" cy="83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7" name=""/>
                <p:cNvSpPr/>
                <p:nvPr/>
              </p:nvSpPr>
              <p:spPr>
                <a:xfrm flipV="1">
                  <a:off x="857160" y="2549160"/>
                  <a:ext cx="125280" cy="84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8" name=""/>
                <p:cNvSpPr/>
                <p:nvPr/>
              </p:nvSpPr>
              <p:spPr>
                <a:xfrm flipV="1">
                  <a:off x="880920" y="2580480"/>
                  <a:ext cx="12204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9" name=""/>
                <p:cNvSpPr/>
                <p:nvPr/>
              </p:nvSpPr>
              <p:spPr>
                <a:xfrm flipV="1">
                  <a:off x="880920" y="2580480"/>
                  <a:ext cx="12204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0" name=""/>
                <p:cNvSpPr/>
                <p:nvPr/>
              </p:nvSpPr>
              <p:spPr>
                <a:xfrm flipV="1">
                  <a:off x="880920" y="2580480"/>
                  <a:ext cx="12204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1" name=""/>
                <p:cNvSpPr/>
                <p:nvPr/>
              </p:nvSpPr>
              <p:spPr>
                <a:xfrm flipV="1">
                  <a:off x="880920" y="2580480"/>
                  <a:ext cx="12204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2" name=""/>
                <p:cNvSpPr/>
                <p:nvPr/>
              </p:nvSpPr>
              <p:spPr>
                <a:xfrm flipV="1">
                  <a:off x="884160" y="2582280"/>
                  <a:ext cx="1188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3" name=""/>
                <p:cNvSpPr/>
                <p:nvPr/>
              </p:nvSpPr>
              <p:spPr>
                <a:xfrm flipV="1">
                  <a:off x="884160" y="2582280"/>
                  <a:ext cx="1188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4" name=""/>
                <p:cNvSpPr/>
                <p:nvPr/>
              </p:nvSpPr>
              <p:spPr>
                <a:xfrm flipV="1">
                  <a:off x="884160" y="2582280"/>
                  <a:ext cx="11880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5" name=""/>
                <p:cNvSpPr/>
                <p:nvPr/>
              </p:nvSpPr>
              <p:spPr>
                <a:xfrm flipV="1">
                  <a:off x="885600" y="2582280"/>
                  <a:ext cx="120600" cy="91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6" name=""/>
                <p:cNvSpPr/>
                <p:nvPr/>
              </p:nvSpPr>
              <p:spPr>
                <a:xfrm flipV="1">
                  <a:off x="885600" y="2582280"/>
                  <a:ext cx="120600" cy="91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7" name=""/>
                <p:cNvSpPr/>
                <p:nvPr/>
              </p:nvSpPr>
              <p:spPr>
                <a:xfrm flipV="1">
                  <a:off x="885600" y="2582280"/>
                  <a:ext cx="120600" cy="91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8" name=""/>
                <p:cNvSpPr/>
                <p:nvPr/>
              </p:nvSpPr>
              <p:spPr>
                <a:xfrm flipV="1">
                  <a:off x="888840" y="2588760"/>
                  <a:ext cx="119160" cy="90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9" name=""/>
                <p:cNvSpPr/>
                <p:nvPr/>
              </p:nvSpPr>
              <p:spPr>
                <a:xfrm flipV="1">
                  <a:off x="888840" y="2588760"/>
                  <a:ext cx="119160" cy="90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0" name=""/>
                <p:cNvSpPr/>
                <p:nvPr/>
              </p:nvSpPr>
              <p:spPr>
                <a:xfrm flipV="1">
                  <a:off x="902880" y="2604240"/>
                  <a:ext cx="117720" cy="93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1" name=""/>
                <p:cNvSpPr/>
                <p:nvPr/>
              </p:nvSpPr>
              <p:spPr>
                <a:xfrm flipV="1">
                  <a:off x="964800" y="2664720"/>
                  <a:ext cx="108000" cy="103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2" name=""/>
                <p:cNvSpPr/>
                <p:nvPr/>
              </p:nvSpPr>
              <p:spPr>
                <a:xfrm flipV="1">
                  <a:off x="964800" y="2664720"/>
                  <a:ext cx="108000" cy="103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3" name=""/>
                <p:cNvSpPr/>
                <p:nvPr/>
              </p:nvSpPr>
              <p:spPr>
                <a:xfrm flipV="1">
                  <a:off x="964800" y="2664720"/>
                  <a:ext cx="108000" cy="103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4" name=""/>
                <p:cNvSpPr/>
                <p:nvPr/>
              </p:nvSpPr>
              <p:spPr>
                <a:xfrm flipV="1">
                  <a:off x="964800" y="2664720"/>
                  <a:ext cx="108000" cy="103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5" name=""/>
                <p:cNvSpPr/>
                <p:nvPr/>
              </p:nvSpPr>
              <p:spPr>
                <a:xfrm flipV="1">
                  <a:off x="969840" y="2669400"/>
                  <a:ext cx="10800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6" name=""/>
                <p:cNvSpPr/>
                <p:nvPr/>
              </p:nvSpPr>
              <p:spPr>
                <a:xfrm flipV="1">
                  <a:off x="987120" y="2684160"/>
                  <a:ext cx="10476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7" name=""/>
                <p:cNvSpPr/>
                <p:nvPr/>
              </p:nvSpPr>
              <p:spPr>
                <a:xfrm flipV="1">
                  <a:off x="987120" y="2683800"/>
                  <a:ext cx="10476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8" name=""/>
                <p:cNvSpPr/>
                <p:nvPr/>
              </p:nvSpPr>
              <p:spPr>
                <a:xfrm flipV="1">
                  <a:off x="988920" y="2684160"/>
                  <a:ext cx="10620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9" name=""/>
                <p:cNvSpPr/>
                <p:nvPr/>
              </p:nvSpPr>
              <p:spPr>
                <a:xfrm flipV="1">
                  <a:off x="988920" y="2684160"/>
                  <a:ext cx="10620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0" name=""/>
                <p:cNvSpPr/>
                <p:nvPr/>
              </p:nvSpPr>
              <p:spPr>
                <a:xfrm flipV="1">
                  <a:off x="988920" y="2684160"/>
                  <a:ext cx="10620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1" name=""/>
                <p:cNvSpPr/>
                <p:nvPr/>
              </p:nvSpPr>
              <p:spPr>
                <a:xfrm flipV="1">
                  <a:off x="987120" y="2684160"/>
                  <a:ext cx="10476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2" name=""/>
                <p:cNvSpPr/>
                <p:nvPr/>
              </p:nvSpPr>
              <p:spPr>
                <a:xfrm flipV="1">
                  <a:off x="988920" y="2685600"/>
                  <a:ext cx="10620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3" name=""/>
                <p:cNvSpPr/>
                <p:nvPr/>
              </p:nvSpPr>
              <p:spPr>
                <a:xfrm flipV="1">
                  <a:off x="988920" y="2685600"/>
                  <a:ext cx="10620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4" name=""/>
                <p:cNvSpPr/>
                <p:nvPr/>
              </p:nvSpPr>
              <p:spPr>
                <a:xfrm flipV="1">
                  <a:off x="988920" y="2685600"/>
                  <a:ext cx="10620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5" name=""/>
                <p:cNvSpPr/>
                <p:nvPr/>
              </p:nvSpPr>
              <p:spPr>
                <a:xfrm flipV="1">
                  <a:off x="988920" y="2685600"/>
                  <a:ext cx="10620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6" name=""/>
                <p:cNvSpPr/>
                <p:nvPr/>
              </p:nvSpPr>
              <p:spPr>
                <a:xfrm flipV="1">
                  <a:off x="1055520" y="2736000"/>
                  <a:ext cx="96840" cy="117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7" name=""/>
                <p:cNvSpPr/>
                <p:nvPr/>
              </p:nvSpPr>
              <p:spPr>
                <a:xfrm flipV="1">
                  <a:off x="1074600" y="2750760"/>
                  <a:ext cx="93600" cy="117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8" name=""/>
                <p:cNvSpPr/>
                <p:nvPr/>
              </p:nvSpPr>
              <p:spPr>
                <a:xfrm flipV="1">
                  <a:off x="1087200" y="2758320"/>
                  <a:ext cx="90360" cy="119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9" name=""/>
                <p:cNvSpPr/>
                <p:nvPr/>
              </p:nvSpPr>
              <p:spPr>
                <a:xfrm flipV="1">
                  <a:off x="1087200" y="2758320"/>
                  <a:ext cx="90360" cy="119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0" name=""/>
                <p:cNvSpPr/>
                <p:nvPr/>
              </p:nvSpPr>
              <p:spPr>
                <a:xfrm flipV="1">
                  <a:off x="1087200" y="2758320"/>
                  <a:ext cx="90360" cy="119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1" name=""/>
                <p:cNvSpPr/>
                <p:nvPr/>
              </p:nvSpPr>
              <p:spPr>
                <a:xfrm flipV="1">
                  <a:off x="1087200" y="2758320"/>
                  <a:ext cx="90360" cy="119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2" name=""/>
                <p:cNvSpPr/>
                <p:nvPr/>
              </p:nvSpPr>
              <p:spPr>
                <a:xfrm flipV="1">
                  <a:off x="1090440" y="2760120"/>
                  <a:ext cx="9036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3" name=""/>
                <p:cNvSpPr/>
                <p:nvPr/>
              </p:nvSpPr>
              <p:spPr>
                <a:xfrm flipV="1">
                  <a:off x="1090440" y="2760120"/>
                  <a:ext cx="9036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4" name=""/>
                <p:cNvSpPr/>
                <p:nvPr/>
              </p:nvSpPr>
              <p:spPr>
                <a:xfrm flipV="1">
                  <a:off x="1090440" y="2760120"/>
                  <a:ext cx="9036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5" name=""/>
                <p:cNvSpPr/>
                <p:nvPr/>
              </p:nvSpPr>
              <p:spPr>
                <a:xfrm flipV="1">
                  <a:off x="1090440" y="2760120"/>
                  <a:ext cx="9036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6" name=""/>
                <p:cNvSpPr/>
                <p:nvPr/>
              </p:nvSpPr>
              <p:spPr>
                <a:xfrm flipV="1">
                  <a:off x="1090440" y="2760120"/>
                  <a:ext cx="9036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7" name=""/>
                <p:cNvSpPr/>
                <p:nvPr/>
              </p:nvSpPr>
              <p:spPr>
                <a:xfrm flipV="1">
                  <a:off x="1090440" y="2760120"/>
                  <a:ext cx="9036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8" name=""/>
                <p:cNvSpPr/>
                <p:nvPr/>
              </p:nvSpPr>
              <p:spPr>
                <a:xfrm flipV="1">
                  <a:off x="1091880" y="2760120"/>
                  <a:ext cx="90720" cy="120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9" name=""/>
                <p:cNvSpPr/>
                <p:nvPr/>
              </p:nvSpPr>
              <p:spPr>
                <a:xfrm flipV="1">
                  <a:off x="1106280" y="2769840"/>
                  <a:ext cx="8712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0" name=""/>
                <p:cNvSpPr/>
                <p:nvPr/>
              </p:nvSpPr>
              <p:spPr>
                <a:xfrm flipV="1">
                  <a:off x="1147680" y="2793240"/>
                  <a:ext cx="8064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1" name=""/>
                <p:cNvSpPr/>
                <p:nvPr/>
              </p:nvSpPr>
              <p:spPr>
                <a:xfrm flipV="1">
                  <a:off x="1147680" y="2793240"/>
                  <a:ext cx="80640" cy="125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2" name=""/>
                <p:cNvSpPr/>
                <p:nvPr/>
              </p:nvSpPr>
              <p:spPr>
                <a:xfrm flipV="1">
                  <a:off x="1147680" y="2793240"/>
                  <a:ext cx="8064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3" name=""/>
                <p:cNvSpPr/>
                <p:nvPr/>
              </p:nvSpPr>
              <p:spPr>
                <a:xfrm flipV="1">
                  <a:off x="1214280" y="2830320"/>
                  <a:ext cx="7452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4" name=""/>
                <p:cNvSpPr/>
                <p:nvPr/>
              </p:nvSpPr>
              <p:spPr>
                <a:xfrm flipV="1">
                  <a:off x="1231560" y="2838240"/>
                  <a:ext cx="7164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5" name=""/>
                <p:cNvSpPr/>
                <p:nvPr/>
              </p:nvSpPr>
              <p:spPr>
                <a:xfrm flipV="1">
                  <a:off x="1231560" y="2838240"/>
                  <a:ext cx="7164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6" name=""/>
                <p:cNvSpPr/>
                <p:nvPr/>
              </p:nvSpPr>
              <p:spPr>
                <a:xfrm flipV="1">
                  <a:off x="1280880" y="2858400"/>
                  <a:ext cx="6336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7" name=""/>
                <p:cNvSpPr/>
                <p:nvPr/>
              </p:nvSpPr>
              <p:spPr>
                <a:xfrm flipV="1">
                  <a:off x="1279440" y="2858400"/>
                  <a:ext cx="6480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8" name=""/>
                <p:cNvSpPr/>
                <p:nvPr/>
              </p:nvSpPr>
              <p:spPr>
                <a:xfrm flipV="1">
                  <a:off x="1279440" y="2858400"/>
                  <a:ext cx="6480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9" name=""/>
                <p:cNvSpPr/>
                <p:nvPr/>
              </p:nvSpPr>
              <p:spPr>
                <a:xfrm flipV="1">
                  <a:off x="1279440" y="2858400"/>
                  <a:ext cx="6480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0" name=""/>
                <p:cNvSpPr/>
                <p:nvPr/>
              </p:nvSpPr>
              <p:spPr>
                <a:xfrm flipV="1">
                  <a:off x="1322280" y="2873160"/>
                  <a:ext cx="5688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1" name=""/>
                <p:cNvSpPr/>
                <p:nvPr/>
              </p:nvSpPr>
              <p:spPr>
                <a:xfrm flipV="1">
                  <a:off x="1442880" y="2909160"/>
                  <a:ext cx="396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2" name=""/>
                <p:cNvSpPr/>
                <p:nvPr/>
              </p:nvSpPr>
              <p:spPr>
                <a:xfrm flipV="1">
                  <a:off x="1461960" y="2914200"/>
                  <a:ext cx="38160" cy="144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3" name=""/>
                <p:cNvSpPr/>
                <p:nvPr/>
              </p:nvSpPr>
              <p:spPr>
                <a:xfrm flipV="1">
                  <a:off x="1569960" y="2931840"/>
                  <a:ext cx="205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4" name=""/>
                <p:cNvSpPr/>
                <p:nvPr/>
              </p:nvSpPr>
              <p:spPr>
                <a:xfrm flipV="1">
                  <a:off x="1599840" y="2936520"/>
                  <a:ext cx="176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5" name=""/>
                <p:cNvSpPr/>
                <p:nvPr/>
              </p:nvSpPr>
              <p:spPr>
                <a:xfrm flipV="1">
                  <a:off x="1607760" y="2936520"/>
                  <a:ext cx="144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6" name=""/>
                <p:cNvSpPr/>
                <p:nvPr/>
              </p:nvSpPr>
              <p:spPr>
                <a:xfrm flipV="1">
                  <a:off x="1604880" y="2936520"/>
                  <a:ext cx="172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7" name=""/>
                <p:cNvSpPr/>
                <p:nvPr/>
              </p:nvSpPr>
              <p:spPr>
                <a:xfrm flipV="1">
                  <a:off x="1604880" y="2936520"/>
                  <a:ext cx="172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8" name=""/>
                <p:cNvSpPr/>
                <p:nvPr/>
              </p:nvSpPr>
              <p:spPr>
                <a:xfrm flipV="1">
                  <a:off x="1611000" y="2936520"/>
                  <a:ext cx="158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9" name=""/>
                <p:cNvSpPr/>
                <p:nvPr/>
              </p:nvSpPr>
              <p:spPr>
                <a:xfrm flipV="1">
                  <a:off x="1611000" y="2936520"/>
                  <a:ext cx="144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0" name=""/>
                <p:cNvSpPr/>
                <p:nvPr/>
              </p:nvSpPr>
              <p:spPr>
                <a:xfrm flipV="1">
                  <a:off x="1611000" y="2936520"/>
                  <a:ext cx="144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1" name=""/>
                <p:cNvSpPr/>
                <p:nvPr/>
              </p:nvSpPr>
              <p:spPr>
                <a:xfrm flipV="1">
                  <a:off x="1611000" y="2936520"/>
                  <a:ext cx="144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2" name=""/>
                <p:cNvSpPr/>
                <p:nvPr/>
              </p:nvSpPr>
              <p:spPr>
                <a:xfrm flipV="1">
                  <a:off x="1611000" y="2936520"/>
                  <a:ext cx="144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3" name=""/>
                <p:cNvSpPr/>
                <p:nvPr/>
              </p:nvSpPr>
              <p:spPr>
                <a:xfrm flipV="1">
                  <a:off x="1611000" y="2936520"/>
                  <a:ext cx="144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4" name=""/>
                <p:cNvSpPr/>
                <p:nvPr/>
              </p:nvSpPr>
              <p:spPr>
                <a:xfrm flipV="1">
                  <a:off x="1611000" y="2936520"/>
                  <a:ext cx="144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5" name=""/>
                <p:cNvSpPr/>
                <p:nvPr/>
              </p:nvSpPr>
              <p:spPr>
                <a:xfrm flipH="1" flipV="1">
                  <a:off x="1763640" y="2938320"/>
                  <a:ext cx="792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6" name=""/>
                <p:cNvSpPr/>
                <p:nvPr/>
              </p:nvSpPr>
              <p:spPr>
                <a:xfrm flipH="1" flipV="1">
                  <a:off x="1763640" y="2938320"/>
                  <a:ext cx="792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7" name=""/>
                <p:cNvSpPr/>
                <p:nvPr/>
              </p:nvSpPr>
              <p:spPr>
                <a:xfrm flipH="1" flipV="1">
                  <a:off x="1761480" y="2938320"/>
                  <a:ext cx="972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8" name=""/>
                <p:cNvSpPr/>
                <p:nvPr/>
              </p:nvSpPr>
              <p:spPr>
                <a:xfrm flipH="1" flipV="1">
                  <a:off x="1861920" y="2928240"/>
                  <a:ext cx="23760" cy="149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9" name=""/>
                <p:cNvSpPr/>
                <p:nvPr/>
              </p:nvSpPr>
              <p:spPr>
                <a:xfrm flipH="1" flipV="1">
                  <a:off x="1865160" y="2927160"/>
                  <a:ext cx="252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0" name=""/>
                <p:cNvSpPr/>
                <p:nvPr/>
              </p:nvSpPr>
              <p:spPr>
                <a:xfrm flipH="1" flipV="1">
                  <a:off x="1865160" y="2927160"/>
                  <a:ext cx="2520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1" name=""/>
                <p:cNvSpPr/>
                <p:nvPr/>
              </p:nvSpPr>
              <p:spPr>
                <a:xfrm flipH="1" flipV="1">
                  <a:off x="1883880" y="2923920"/>
                  <a:ext cx="2844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2" name=""/>
                <p:cNvSpPr/>
                <p:nvPr/>
              </p:nvSpPr>
              <p:spPr>
                <a:xfrm flipH="1" flipV="1">
                  <a:off x="1883880" y="2923920"/>
                  <a:ext cx="2844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3" name=""/>
                <p:cNvSpPr/>
                <p:nvPr/>
              </p:nvSpPr>
              <p:spPr>
                <a:xfrm flipH="1" flipV="1">
                  <a:off x="1883880" y="2923920"/>
                  <a:ext cx="2844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4" name=""/>
                <p:cNvSpPr/>
                <p:nvPr/>
              </p:nvSpPr>
              <p:spPr>
                <a:xfrm flipH="1" flipV="1">
                  <a:off x="1883880" y="2923920"/>
                  <a:ext cx="2844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5" name=""/>
                <p:cNvSpPr/>
                <p:nvPr/>
              </p:nvSpPr>
              <p:spPr>
                <a:xfrm flipH="1" flipV="1">
                  <a:off x="1883880" y="2923920"/>
                  <a:ext cx="2844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6" name=""/>
                <p:cNvSpPr/>
                <p:nvPr/>
              </p:nvSpPr>
              <p:spPr>
                <a:xfrm flipH="1" flipV="1">
                  <a:off x="1883880" y="2923920"/>
                  <a:ext cx="2844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7" name=""/>
                <p:cNvSpPr/>
                <p:nvPr/>
              </p:nvSpPr>
              <p:spPr>
                <a:xfrm flipH="1" flipV="1">
                  <a:off x="1883880" y="2923920"/>
                  <a:ext cx="2844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8" name=""/>
                <p:cNvSpPr/>
                <p:nvPr/>
              </p:nvSpPr>
              <p:spPr>
                <a:xfrm flipH="1" flipV="1">
                  <a:off x="1903320" y="2919240"/>
                  <a:ext cx="316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9" name=""/>
                <p:cNvSpPr/>
                <p:nvPr/>
              </p:nvSpPr>
              <p:spPr>
                <a:xfrm flipH="1" flipV="1">
                  <a:off x="1903320" y="2919240"/>
                  <a:ext cx="3168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0" name=""/>
                <p:cNvSpPr/>
                <p:nvPr/>
              </p:nvSpPr>
              <p:spPr>
                <a:xfrm flipH="1" flipV="1">
                  <a:off x="1904400" y="2918880"/>
                  <a:ext cx="3492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1" name=""/>
                <p:cNvSpPr/>
                <p:nvPr/>
              </p:nvSpPr>
              <p:spPr>
                <a:xfrm flipH="1" flipV="1">
                  <a:off x="2005920" y="2890080"/>
                  <a:ext cx="4788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2" name=""/>
                <p:cNvSpPr/>
                <p:nvPr/>
              </p:nvSpPr>
              <p:spPr>
                <a:xfrm flipH="1" flipV="1">
                  <a:off x="2015640" y="2886840"/>
                  <a:ext cx="5076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3" name=""/>
                <p:cNvSpPr/>
                <p:nvPr/>
              </p:nvSpPr>
              <p:spPr>
                <a:xfrm flipH="1" flipV="1">
                  <a:off x="2017080" y="2887200"/>
                  <a:ext cx="5076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4" name=""/>
                <p:cNvSpPr/>
                <p:nvPr/>
              </p:nvSpPr>
              <p:spPr>
                <a:xfrm flipH="1" flipV="1">
                  <a:off x="2039760" y="2877480"/>
                  <a:ext cx="5544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5" name=""/>
                <p:cNvSpPr/>
                <p:nvPr/>
              </p:nvSpPr>
              <p:spPr>
                <a:xfrm flipH="1" flipV="1">
                  <a:off x="2039400" y="2877480"/>
                  <a:ext cx="5220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6" name=""/>
                <p:cNvSpPr/>
                <p:nvPr/>
              </p:nvSpPr>
              <p:spPr>
                <a:xfrm flipH="1" flipV="1">
                  <a:off x="2061720" y="2867760"/>
                  <a:ext cx="58680" cy="140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7" name=""/>
                <p:cNvSpPr/>
                <p:nvPr/>
              </p:nvSpPr>
              <p:spPr>
                <a:xfrm flipH="1" flipV="1">
                  <a:off x="2061720" y="2867760"/>
                  <a:ext cx="58680" cy="140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8" name=""/>
                <p:cNvSpPr/>
                <p:nvPr/>
              </p:nvSpPr>
              <p:spPr>
                <a:xfrm flipH="1" flipV="1">
                  <a:off x="2061720" y="2867760"/>
                  <a:ext cx="58680" cy="140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9" name=""/>
                <p:cNvSpPr/>
                <p:nvPr/>
              </p:nvSpPr>
              <p:spPr>
                <a:xfrm flipH="1" flipV="1">
                  <a:off x="2090520" y="2856960"/>
                  <a:ext cx="619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0" name=""/>
                <p:cNvSpPr/>
                <p:nvPr/>
              </p:nvSpPr>
              <p:spPr>
                <a:xfrm flipH="1" flipV="1">
                  <a:off x="2115720" y="2844000"/>
                  <a:ext cx="6804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1" name=""/>
                <p:cNvSpPr/>
                <p:nvPr/>
              </p:nvSpPr>
              <p:spPr>
                <a:xfrm flipH="1" flipV="1">
                  <a:off x="2125440" y="2839680"/>
                  <a:ext cx="6984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2" name=""/>
                <p:cNvSpPr/>
                <p:nvPr/>
              </p:nvSpPr>
              <p:spPr>
                <a:xfrm flipH="1" flipV="1">
                  <a:off x="2161800" y="2818800"/>
                  <a:ext cx="7488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3" name=""/>
                <p:cNvSpPr/>
                <p:nvPr/>
              </p:nvSpPr>
              <p:spPr>
                <a:xfrm flipH="1" flipV="1">
                  <a:off x="2194920" y="2800080"/>
                  <a:ext cx="82440" cy="123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4" name=""/>
                <p:cNvSpPr/>
                <p:nvPr/>
              </p:nvSpPr>
              <p:spPr>
                <a:xfrm flipH="1" flipV="1">
                  <a:off x="2194920" y="2800080"/>
                  <a:ext cx="82440" cy="123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5" name=""/>
                <p:cNvSpPr/>
                <p:nvPr/>
              </p:nvSpPr>
              <p:spPr>
                <a:xfrm flipH="1" flipV="1">
                  <a:off x="2209320" y="2788920"/>
                  <a:ext cx="8388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6" name=""/>
                <p:cNvSpPr/>
                <p:nvPr/>
              </p:nvSpPr>
              <p:spPr>
                <a:xfrm flipH="1" flipV="1">
                  <a:off x="2209320" y="2788920"/>
                  <a:ext cx="8388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7" name=""/>
                <p:cNvSpPr/>
                <p:nvPr/>
              </p:nvSpPr>
              <p:spPr>
                <a:xfrm flipH="1" flipV="1">
                  <a:off x="2209320" y="2788920"/>
                  <a:ext cx="83880" cy="125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8" name=""/>
                <p:cNvSpPr/>
                <p:nvPr/>
              </p:nvSpPr>
              <p:spPr>
                <a:xfrm flipH="1" flipV="1">
                  <a:off x="2223360" y="2779200"/>
                  <a:ext cx="87480" cy="122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9" name=""/>
                <p:cNvSpPr/>
                <p:nvPr/>
              </p:nvSpPr>
              <p:spPr>
                <a:xfrm flipH="1" flipV="1">
                  <a:off x="2226960" y="2777760"/>
                  <a:ext cx="8568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0" name=""/>
                <p:cNvSpPr/>
                <p:nvPr/>
              </p:nvSpPr>
              <p:spPr>
                <a:xfrm flipH="1" flipV="1">
                  <a:off x="2223360" y="2777760"/>
                  <a:ext cx="87480" cy="123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1" name=""/>
                <p:cNvSpPr/>
                <p:nvPr/>
              </p:nvSpPr>
              <p:spPr>
                <a:xfrm flipH="1" flipV="1">
                  <a:off x="2241000" y="2768400"/>
                  <a:ext cx="88920" cy="118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2" name=""/>
                <p:cNvSpPr/>
                <p:nvPr/>
              </p:nvSpPr>
              <p:spPr>
                <a:xfrm flipH="1" flipV="1">
                  <a:off x="2245680" y="2763000"/>
                  <a:ext cx="90360" cy="119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3" name=""/>
                <p:cNvSpPr/>
                <p:nvPr/>
              </p:nvSpPr>
              <p:spPr>
                <a:xfrm flipH="1" flipV="1">
                  <a:off x="2245680" y="2763000"/>
                  <a:ext cx="90360" cy="119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4" name=""/>
                <p:cNvSpPr/>
                <p:nvPr/>
              </p:nvSpPr>
              <p:spPr>
                <a:xfrm flipH="1" flipV="1">
                  <a:off x="2268360" y="2746080"/>
                  <a:ext cx="93600" cy="117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5" name=""/>
                <p:cNvSpPr/>
                <p:nvPr/>
              </p:nvSpPr>
              <p:spPr>
                <a:xfrm flipH="1" flipV="1">
                  <a:off x="2268360" y="2746080"/>
                  <a:ext cx="93600" cy="117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6" name=""/>
                <p:cNvSpPr/>
                <p:nvPr/>
              </p:nvSpPr>
              <p:spPr>
                <a:xfrm flipH="1" flipV="1">
                  <a:off x="2268360" y="2746080"/>
                  <a:ext cx="93600" cy="117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7" name=""/>
                <p:cNvSpPr/>
                <p:nvPr/>
              </p:nvSpPr>
              <p:spPr>
                <a:xfrm flipH="1" flipV="1">
                  <a:off x="2269440" y="2744640"/>
                  <a:ext cx="96840" cy="117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8" name=""/>
                <p:cNvSpPr/>
                <p:nvPr/>
              </p:nvSpPr>
              <p:spPr>
                <a:xfrm flipH="1" flipV="1">
                  <a:off x="2277720" y="2739240"/>
                  <a:ext cx="93600" cy="117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9" name=""/>
                <p:cNvSpPr/>
                <p:nvPr/>
              </p:nvSpPr>
              <p:spPr>
                <a:xfrm flipH="1" flipV="1">
                  <a:off x="2277720" y="2739240"/>
                  <a:ext cx="93600" cy="117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0" name=""/>
                <p:cNvSpPr/>
                <p:nvPr/>
              </p:nvSpPr>
              <p:spPr>
                <a:xfrm flipH="1" flipV="1">
                  <a:off x="2274120" y="2739240"/>
                  <a:ext cx="96840" cy="117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1" name=""/>
                <p:cNvSpPr/>
                <p:nvPr/>
              </p:nvSpPr>
              <p:spPr>
                <a:xfrm flipH="1" flipV="1">
                  <a:off x="2320200" y="2701080"/>
                  <a:ext cx="103320" cy="109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2" name=""/>
                <p:cNvSpPr/>
                <p:nvPr/>
              </p:nvSpPr>
              <p:spPr>
                <a:xfrm flipH="1" flipV="1">
                  <a:off x="2325600" y="2696760"/>
                  <a:ext cx="10296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3" name=""/>
                <p:cNvSpPr/>
                <p:nvPr/>
              </p:nvSpPr>
              <p:spPr>
                <a:xfrm flipH="1" flipV="1">
                  <a:off x="2325600" y="2698200"/>
                  <a:ext cx="102960" cy="10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4" name=""/>
                <p:cNvSpPr/>
                <p:nvPr/>
              </p:nvSpPr>
              <p:spPr>
                <a:xfrm flipH="1" flipV="1">
                  <a:off x="2325240" y="2696760"/>
                  <a:ext cx="10476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5" name=""/>
                <p:cNvSpPr/>
                <p:nvPr/>
              </p:nvSpPr>
              <p:spPr>
                <a:xfrm flipH="1" flipV="1">
                  <a:off x="2326680" y="2693520"/>
                  <a:ext cx="10332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6" name=""/>
                <p:cNvSpPr/>
                <p:nvPr/>
              </p:nvSpPr>
              <p:spPr>
                <a:xfrm flipH="1" flipV="1">
                  <a:off x="2344320" y="2675880"/>
                  <a:ext cx="107640" cy="106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7" name=""/>
                <p:cNvSpPr/>
                <p:nvPr/>
              </p:nvSpPr>
              <p:spPr>
                <a:xfrm flipH="1" flipV="1">
                  <a:off x="2346120" y="2674440"/>
                  <a:ext cx="108000" cy="105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8" name=""/>
                <p:cNvSpPr/>
                <p:nvPr/>
              </p:nvSpPr>
              <p:spPr>
                <a:xfrm flipH="1" flipV="1">
                  <a:off x="2387160" y="2628360"/>
                  <a:ext cx="11556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9" name=""/>
                <p:cNvSpPr/>
                <p:nvPr/>
              </p:nvSpPr>
              <p:spPr>
                <a:xfrm flipH="1" flipV="1">
                  <a:off x="2420280" y="2590200"/>
                  <a:ext cx="12060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0" name=""/>
                <p:cNvSpPr/>
                <p:nvPr/>
              </p:nvSpPr>
              <p:spPr>
                <a:xfrm flipH="1" flipV="1">
                  <a:off x="2419200" y="2590200"/>
                  <a:ext cx="118800" cy="90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1" name=""/>
                <p:cNvSpPr/>
                <p:nvPr/>
              </p:nvSpPr>
              <p:spPr>
                <a:xfrm flipH="1" flipV="1">
                  <a:off x="2432880" y="2572560"/>
                  <a:ext cx="119160" cy="88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2" name=""/>
                <p:cNvSpPr/>
                <p:nvPr/>
              </p:nvSpPr>
              <p:spPr>
                <a:xfrm flipH="1" flipV="1">
                  <a:off x="2442600" y="2558880"/>
                  <a:ext cx="122040" cy="87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3" name=""/>
                <p:cNvSpPr/>
                <p:nvPr/>
              </p:nvSpPr>
              <p:spPr>
                <a:xfrm flipH="1" flipV="1">
                  <a:off x="2442600" y="2561760"/>
                  <a:ext cx="122040" cy="84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4" name=""/>
                <p:cNvSpPr/>
                <p:nvPr/>
              </p:nvSpPr>
              <p:spPr>
                <a:xfrm flipH="1" flipV="1">
                  <a:off x="2442600" y="2561760"/>
                  <a:ext cx="122040" cy="84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5" name=""/>
                <p:cNvSpPr/>
                <p:nvPr/>
              </p:nvSpPr>
              <p:spPr>
                <a:xfrm flipH="1" flipV="1">
                  <a:off x="2451960" y="2544480"/>
                  <a:ext cx="125640" cy="84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6" name=""/>
                <p:cNvSpPr/>
                <p:nvPr/>
              </p:nvSpPr>
              <p:spPr>
                <a:xfrm flipH="1" flipV="1">
                  <a:off x="2451960" y="2544480"/>
                  <a:ext cx="125640" cy="84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7" name=""/>
                <p:cNvSpPr/>
                <p:nvPr/>
              </p:nvSpPr>
              <p:spPr>
                <a:xfrm flipH="1" flipV="1">
                  <a:off x="2461680" y="2528280"/>
                  <a:ext cx="12708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8" name=""/>
                <p:cNvSpPr/>
                <p:nvPr/>
              </p:nvSpPr>
              <p:spPr>
                <a:xfrm flipH="1" flipV="1">
                  <a:off x="2461680" y="2529720"/>
                  <a:ext cx="127080" cy="79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9" name=""/>
                <p:cNvSpPr/>
                <p:nvPr/>
              </p:nvSpPr>
              <p:spPr>
                <a:xfrm flipH="1" flipV="1">
                  <a:off x="2461680" y="2529720"/>
                  <a:ext cx="127080" cy="79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0" name=""/>
                <p:cNvSpPr/>
                <p:nvPr/>
              </p:nvSpPr>
              <p:spPr>
                <a:xfrm flipH="1" flipV="1">
                  <a:off x="2471040" y="2516040"/>
                  <a:ext cx="12708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1" name=""/>
                <p:cNvSpPr/>
                <p:nvPr/>
              </p:nvSpPr>
              <p:spPr>
                <a:xfrm flipH="1" flipV="1">
                  <a:off x="2479320" y="2504520"/>
                  <a:ext cx="128880" cy="75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2" name=""/>
                <p:cNvSpPr/>
                <p:nvPr/>
              </p:nvSpPr>
              <p:spPr>
                <a:xfrm flipH="1" flipV="1">
                  <a:off x="2478960" y="2504520"/>
                  <a:ext cx="127080" cy="75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3" name=""/>
                <p:cNvSpPr/>
                <p:nvPr/>
              </p:nvSpPr>
              <p:spPr>
                <a:xfrm flipH="1" flipV="1">
                  <a:off x="2484360" y="2494800"/>
                  <a:ext cx="131760" cy="73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4" name=""/>
                <p:cNvSpPr/>
                <p:nvPr/>
              </p:nvSpPr>
              <p:spPr>
                <a:xfrm flipH="1" flipV="1">
                  <a:off x="2493720" y="2477880"/>
                  <a:ext cx="131760" cy="71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5" name=""/>
                <p:cNvSpPr/>
                <p:nvPr/>
              </p:nvSpPr>
              <p:spPr>
                <a:xfrm flipH="1" flipV="1">
                  <a:off x="2493720" y="2477880"/>
                  <a:ext cx="131760" cy="71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6" name=""/>
                <p:cNvSpPr/>
                <p:nvPr/>
              </p:nvSpPr>
              <p:spPr>
                <a:xfrm flipH="1" flipV="1">
                  <a:off x="2498040" y="2468160"/>
                  <a:ext cx="13356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7" name=""/>
                <p:cNvSpPr/>
                <p:nvPr/>
              </p:nvSpPr>
              <p:spPr>
                <a:xfrm flipH="1" flipV="1">
                  <a:off x="2502720" y="2458440"/>
                  <a:ext cx="133560" cy="66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8" name=""/>
                <p:cNvSpPr/>
                <p:nvPr/>
              </p:nvSpPr>
              <p:spPr>
                <a:xfrm flipH="1" flipV="1">
                  <a:off x="2512440" y="2439360"/>
                  <a:ext cx="13644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9" name=""/>
                <p:cNvSpPr/>
                <p:nvPr/>
              </p:nvSpPr>
              <p:spPr>
                <a:xfrm flipH="1" flipV="1">
                  <a:off x="2512440" y="2439360"/>
                  <a:ext cx="13644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0" name=""/>
                <p:cNvSpPr/>
                <p:nvPr/>
              </p:nvSpPr>
              <p:spPr>
                <a:xfrm flipH="1" flipV="1">
                  <a:off x="2513880" y="2436120"/>
                  <a:ext cx="13500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1" name=""/>
                <p:cNvSpPr/>
                <p:nvPr/>
              </p:nvSpPr>
              <p:spPr>
                <a:xfrm flipH="1" flipV="1">
                  <a:off x="2513880" y="2436120"/>
                  <a:ext cx="135000" cy="65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2" name=""/>
                <p:cNvSpPr/>
                <p:nvPr/>
              </p:nvSpPr>
              <p:spPr>
                <a:xfrm flipH="1" flipV="1">
                  <a:off x="2518920" y="2421720"/>
                  <a:ext cx="136440" cy="63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3" name=""/>
                <p:cNvSpPr/>
                <p:nvPr/>
              </p:nvSpPr>
              <p:spPr>
                <a:xfrm flipH="1" flipV="1">
                  <a:off x="2536560" y="238680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4" name=""/>
                <p:cNvSpPr/>
                <p:nvPr/>
              </p:nvSpPr>
              <p:spPr>
                <a:xfrm flipH="1" flipV="1">
                  <a:off x="2536560" y="2386800"/>
                  <a:ext cx="139680" cy="57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5" name=""/>
                <p:cNvSpPr/>
                <p:nvPr/>
              </p:nvSpPr>
              <p:spPr>
                <a:xfrm flipH="1" flipV="1">
                  <a:off x="2552040" y="2338200"/>
                  <a:ext cx="144360" cy="48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6" name=""/>
                <p:cNvSpPr/>
                <p:nvPr/>
              </p:nvSpPr>
              <p:spPr>
                <a:xfrm flipH="1" flipV="1">
                  <a:off x="2556720" y="2328120"/>
                  <a:ext cx="142920" cy="49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7" name=""/>
                <p:cNvSpPr/>
                <p:nvPr/>
              </p:nvSpPr>
              <p:spPr>
                <a:xfrm flipH="1" flipV="1">
                  <a:off x="2557080" y="2323800"/>
                  <a:ext cx="144720" cy="46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8" name=""/>
                <p:cNvSpPr/>
                <p:nvPr/>
              </p:nvSpPr>
              <p:spPr>
                <a:xfrm flipH="1" flipV="1">
                  <a:off x="2565000" y="2302920"/>
                  <a:ext cx="144720" cy="4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9" name=""/>
                <p:cNvSpPr/>
                <p:nvPr/>
              </p:nvSpPr>
              <p:spPr>
                <a:xfrm flipH="1" flipV="1">
                  <a:off x="2565000" y="2302920"/>
                  <a:ext cx="144720" cy="42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0" name=""/>
                <p:cNvSpPr/>
                <p:nvPr/>
              </p:nvSpPr>
              <p:spPr>
                <a:xfrm flipH="1" flipV="1">
                  <a:off x="2577600" y="2261520"/>
                  <a:ext cx="142920" cy="36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1" name=""/>
                <p:cNvSpPr/>
                <p:nvPr/>
              </p:nvSpPr>
              <p:spPr>
                <a:xfrm flipH="1" flipV="1">
                  <a:off x="2577600" y="2261520"/>
                  <a:ext cx="142920" cy="36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2" name=""/>
                <p:cNvSpPr/>
                <p:nvPr/>
              </p:nvSpPr>
              <p:spPr>
                <a:xfrm flipH="1" flipV="1">
                  <a:off x="2577600" y="2261520"/>
                  <a:ext cx="142920" cy="36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3" name=""/>
                <p:cNvSpPr/>
                <p:nvPr/>
              </p:nvSpPr>
              <p:spPr>
                <a:xfrm flipH="1" flipV="1">
                  <a:off x="2577600" y="2261520"/>
                  <a:ext cx="142920" cy="36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4" name=""/>
                <p:cNvSpPr/>
                <p:nvPr/>
              </p:nvSpPr>
              <p:spPr>
                <a:xfrm flipH="1" flipV="1">
                  <a:off x="2593800" y="2167920"/>
                  <a:ext cx="14904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5" name=""/>
                <p:cNvSpPr/>
                <p:nvPr/>
              </p:nvSpPr>
              <p:spPr>
                <a:xfrm flipH="1" flipV="1">
                  <a:off x="2593800" y="2167920"/>
                  <a:ext cx="14904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6" name=""/>
                <p:cNvSpPr/>
                <p:nvPr/>
              </p:nvSpPr>
              <p:spPr>
                <a:xfrm flipH="1" flipV="1">
                  <a:off x="2597040" y="2145600"/>
                  <a:ext cx="147600" cy="1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7" name=""/>
                <p:cNvSpPr/>
                <p:nvPr/>
              </p:nvSpPr>
              <p:spPr>
                <a:xfrm flipH="1" flipV="1">
                  <a:off x="2597040" y="2145600"/>
                  <a:ext cx="147600" cy="176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8" name=""/>
                <p:cNvSpPr/>
                <p:nvPr/>
              </p:nvSpPr>
              <p:spPr>
                <a:xfrm flipH="1" flipV="1">
                  <a:off x="2597040" y="2141280"/>
                  <a:ext cx="147600" cy="17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9" name=""/>
                <p:cNvSpPr/>
                <p:nvPr/>
              </p:nvSpPr>
              <p:spPr>
                <a:xfrm flipH="1" flipV="1">
                  <a:off x="2596680" y="2134440"/>
                  <a:ext cx="15084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0" name=""/>
                <p:cNvSpPr/>
                <p:nvPr/>
              </p:nvSpPr>
              <p:spPr>
                <a:xfrm flipH="1" flipV="1">
                  <a:off x="2596680" y="2134440"/>
                  <a:ext cx="15084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1" name=""/>
                <p:cNvSpPr/>
                <p:nvPr/>
              </p:nvSpPr>
              <p:spPr>
                <a:xfrm flipH="1" flipV="1">
                  <a:off x="2596680" y="2134440"/>
                  <a:ext cx="15084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2" name=""/>
                <p:cNvSpPr/>
                <p:nvPr/>
              </p:nvSpPr>
              <p:spPr>
                <a:xfrm flipH="1" flipV="1">
                  <a:off x="2596680" y="2134440"/>
                  <a:ext cx="150840" cy="11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3" name=""/>
                <p:cNvSpPr/>
                <p:nvPr/>
              </p:nvSpPr>
              <p:spPr>
                <a:xfrm flipH="1" flipV="1">
                  <a:off x="2601720" y="2083680"/>
                  <a:ext cx="147600" cy="4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4" name=""/>
                <p:cNvSpPr/>
                <p:nvPr/>
              </p:nvSpPr>
              <p:spPr>
                <a:xfrm flipH="1" flipV="1">
                  <a:off x="2601720" y="2072520"/>
                  <a:ext cx="147600" cy="1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5" name=""/>
                <p:cNvSpPr/>
                <p:nvPr/>
              </p:nvSpPr>
              <p:spPr>
                <a:xfrm flipH="1">
                  <a:off x="2601720" y="2045880"/>
                  <a:ext cx="147600" cy="1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6" name=""/>
                <p:cNvSpPr/>
                <p:nvPr/>
              </p:nvSpPr>
              <p:spPr>
                <a:xfrm flipH="1">
                  <a:off x="2598120" y="2003040"/>
                  <a:ext cx="150840" cy="9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7" name=""/>
                <p:cNvSpPr/>
                <p:nvPr/>
              </p:nvSpPr>
              <p:spPr>
                <a:xfrm flipH="1">
                  <a:off x="2598120" y="1993680"/>
                  <a:ext cx="150840" cy="9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8" name=""/>
                <p:cNvSpPr/>
                <p:nvPr/>
              </p:nvSpPr>
              <p:spPr>
                <a:xfrm flipH="1">
                  <a:off x="2598120" y="1995120"/>
                  <a:ext cx="150840" cy="7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9" name=""/>
                <p:cNvSpPr/>
                <p:nvPr/>
              </p:nvSpPr>
              <p:spPr>
                <a:xfrm flipH="1">
                  <a:off x="2593440" y="1939680"/>
                  <a:ext cx="150840" cy="17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0" name=""/>
                <p:cNvSpPr/>
                <p:nvPr/>
              </p:nvSpPr>
              <p:spPr>
                <a:xfrm flipH="1">
                  <a:off x="2593440" y="1939680"/>
                  <a:ext cx="150840" cy="17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1" name=""/>
                <p:cNvSpPr/>
                <p:nvPr/>
              </p:nvSpPr>
              <p:spPr>
                <a:xfrm flipH="1">
                  <a:off x="2593440" y="1939680"/>
                  <a:ext cx="150840" cy="17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2" name=""/>
                <p:cNvSpPr/>
                <p:nvPr/>
              </p:nvSpPr>
              <p:spPr>
                <a:xfrm flipH="1">
                  <a:off x="2591640" y="1915920"/>
                  <a:ext cx="150840" cy="21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3" name=""/>
                <p:cNvSpPr/>
                <p:nvPr/>
              </p:nvSpPr>
              <p:spPr>
                <a:xfrm flipH="1">
                  <a:off x="2589120" y="1885680"/>
                  <a:ext cx="149040" cy="25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4" name=""/>
                <p:cNvSpPr/>
                <p:nvPr/>
              </p:nvSpPr>
              <p:spPr>
                <a:xfrm flipH="1">
                  <a:off x="2556720" y="1733400"/>
                  <a:ext cx="142920" cy="45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5" name=""/>
                <p:cNvSpPr/>
                <p:nvPr/>
              </p:nvSpPr>
              <p:spPr>
                <a:xfrm flipH="1">
                  <a:off x="2550600" y="1714320"/>
                  <a:ext cx="14436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6" name=""/>
                <p:cNvSpPr/>
                <p:nvPr/>
              </p:nvSpPr>
              <p:spPr>
                <a:xfrm flipH="1">
                  <a:off x="2550600" y="1714320"/>
                  <a:ext cx="14436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7" name=""/>
                <p:cNvSpPr/>
                <p:nvPr/>
              </p:nvSpPr>
              <p:spPr>
                <a:xfrm flipH="1">
                  <a:off x="2546280" y="1695240"/>
                  <a:ext cx="14112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8" name=""/>
                <p:cNvSpPr/>
                <p:nvPr/>
              </p:nvSpPr>
              <p:spPr>
                <a:xfrm flipH="1">
                  <a:off x="2546280" y="1695240"/>
                  <a:ext cx="14112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9" name=""/>
                <p:cNvSpPr/>
                <p:nvPr/>
              </p:nvSpPr>
              <p:spPr>
                <a:xfrm flipH="1">
                  <a:off x="2540880" y="1684080"/>
                  <a:ext cx="14148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0" name=""/>
                <p:cNvSpPr/>
                <p:nvPr/>
              </p:nvSpPr>
              <p:spPr>
                <a:xfrm flipH="1">
                  <a:off x="2540880" y="1684080"/>
                  <a:ext cx="141480" cy="52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1" name=""/>
                <p:cNvSpPr/>
                <p:nvPr/>
              </p:nvSpPr>
              <p:spPr>
                <a:xfrm flipH="1">
                  <a:off x="2528640" y="1647360"/>
                  <a:ext cx="139680" cy="6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2" name=""/>
                <p:cNvSpPr/>
                <p:nvPr/>
              </p:nvSpPr>
              <p:spPr>
                <a:xfrm flipH="1">
                  <a:off x="2528640" y="1647360"/>
                  <a:ext cx="139680" cy="6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3" name=""/>
                <p:cNvSpPr/>
                <p:nvPr/>
              </p:nvSpPr>
              <p:spPr>
                <a:xfrm flipH="1">
                  <a:off x="2522160" y="1630080"/>
                  <a:ext cx="136800" cy="60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4" name=""/>
                <p:cNvSpPr/>
                <p:nvPr/>
              </p:nvSpPr>
              <p:spPr>
                <a:xfrm flipH="1">
                  <a:off x="2512440" y="1604520"/>
                  <a:ext cx="136440" cy="66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5" name=""/>
                <p:cNvSpPr/>
                <p:nvPr/>
              </p:nvSpPr>
              <p:spPr>
                <a:xfrm flipH="1">
                  <a:off x="2504880" y="1585440"/>
                  <a:ext cx="131760" cy="66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6" name=""/>
                <p:cNvSpPr/>
                <p:nvPr/>
              </p:nvSpPr>
              <p:spPr>
                <a:xfrm flipH="1">
                  <a:off x="2504520" y="1585440"/>
                  <a:ext cx="13500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7" name=""/>
                <p:cNvSpPr/>
                <p:nvPr/>
              </p:nvSpPr>
              <p:spPr>
                <a:xfrm flipH="1">
                  <a:off x="2504520" y="1587240"/>
                  <a:ext cx="135000" cy="68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8" name=""/>
                <p:cNvSpPr/>
                <p:nvPr/>
              </p:nvSpPr>
              <p:spPr>
                <a:xfrm flipH="1">
                  <a:off x="2479320" y="1530000"/>
                  <a:ext cx="128880" cy="76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9" name=""/>
                <p:cNvSpPr/>
                <p:nvPr/>
              </p:nvSpPr>
              <p:spPr>
                <a:xfrm flipH="1">
                  <a:off x="2469600" y="1512720"/>
                  <a:ext cx="12852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0" name=""/>
                <p:cNvSpPr/>
                <p:nvPr/>
              </p:nvSpPr>
              <p:spPr>
                <a:xfrm flipH="1">
                  <a:off x="2469600" y="1512720"/>
                  <a:ext cx="12852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1" name=""/>
                <p:cNvSpPr/>
                <p:nvPr/>
              </p:nvSpPr>
              <p:spPr>
                <a:xfrm flipH="1">
                  <a:off x="2449440" y="1477800"/>
                  <a:ext cx="125280" cy="83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2" name=""/>
                <p:cNvSpPr/>
                <p:nvPr/>
              </p:nvSpPr>
              <p:spPr>
                <a:xfrm flipH="1">
                  <a:off x="2392200" y="1385640"/>
                  <a:ext cx="115920" cy="98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3" name=""/>
                <p:cNvSpPr/>
                <p:nvPr/>
              </p:nvSpPr>
              <p:spPr>
                <a:xfrm flipH="1">
                  <a:off x="2311200" y="1290240"/>
                  <a:ext cx="10008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4" name=""/>
                <p:cNvSpPr/>
                <p:nvPr/>
              </p:nvSpPr>
              <p:spPr>
                <a:xfrm flipH="1">
                  <a:off x="2311200" y="1290240"/>
                  <a:ext cx="10008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5" name=""/>
                <p:cNvSpPr/>
                <p:nvPr/>
              </p:nvSpPr>
              <p:spPr>
                <a:xfrm flipH="1">
                  <a:off x="2302920" y="1280880"/>
                  <a:ext cx="982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6" name=""/>
                <p:cNvSpPr/>
                <p:nvPr/>
              </p:nvSpPr>
              <p:spPr>
                <a:xfrm flipH="1">
                  <a:off x="2302920" y="1280880"/>
                  <a:ext cx="982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7" name=""/>
                <p:cNvSpPr/>
                <p:nvPr/>
              </p:nvSpPr>
              <p:spPr>
                <a:xfrm flipH="1">
                  <a:off x="2302920" y="1280880"/>
                  <a:ext cx="982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8" name=""/>
                <p:cNvSpPr/>
                <p:nvPr/>
              </p:nvSpPr>
              <p:spPr>
                <a:xfrm flipH="1">
                  <a:off x="2302920" y="1280880"/>
                  <a:ext cx="982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9" name=""/>
                <p:cNvSpPr/>
                <p:nvPr/>
              </p:nvSpPr>
              <p:spPr>
                <a:xfrm flipH="1">
                  <a:off x="2302920" y="1280880"/>
                  <a:ext cx="982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0" name=""/>
                <p:cNvSpPr/>
                <p:nvPr/>
              </p:nvSpPr>
              <p:spPr>
                <a:xfrm flipH="1">
                  <a:off x="2302920" y="1280880"/>
                  <a:ext cx="982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1" name=""/>
                <p:cNvSpPr/>
                <p:nvPr/>
              </p:nvSpPr>
              <p:spPr>
                <a:xfrm flipH="1">
                  <a:off x="2302920" y="1280880"/>
                  <a:ext cx="982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2" name=""/>
                <p:cNvSpPr/>
                <p:nvPr/>
              </p:nvSpPr>
              <p:spPr>
                <a:xfrm flipH="1">
                  <a:off x="2174400" y="1168200"/>
                  <a:ext cx="75960" cy="128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3" name=""/>
                <p:cNvSpPr/>
                <p:nvPr/>
              </p:nvSpPr>
              <p:spPr>
                <a:xfrm flipH="1">
                  <a:off x="2174400" y="1169640"/>
                  <a:ext cx="75960" cy="127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4" name=""/>
                <p:cNvSpPr/>
                <p:nvPr/>
              </p:nvSpPr>
              <p:spPr>
                <a:xfrm flipH="1">
                  <a:off x="2174760" y="1169640"/>
                  <a:ext cx="79200" cy="127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5" name=""/>
                <p:cNvSpPr/>
                <p:nvPr/>
              </p:nvSpPr>
              <p:spPr>
                <a:xfrm flipH="1">
                  <a:off x="2169720" y="1164960"/>
                  <a:ext cx="76320" cy="129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6" name=""/>
                <p:cNvSpPr/>
                <p:nvPr/>
              </p:nvSpPr>
              <p:spPr>
                <a:xfrm flipH="1">
                  <a:off x="2169720" y="1164960"/>
                  <a:ext cx="76320" cy="129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7" name=""/>
                <p:cNvSpPr/>
                <p:nvPr/>
              </p:nvSpPr>
              <p:spPr>
                <a:xfrm flipH="1">
                  <a:off x="2161800" y="1160280"/>
                  <a:ext cx="74880" cy="129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8" name=""/>
                <p:cNvSpPr/>
                <p:nvPr/>
              </p:nvSpPr>
              <p:spPr>
                <a:xfrm flipH="1">
                  <a:off x="2161800" y="1160280"/>
                  <a:ext cx="74880" cy="1299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9" name=""/>
                <p:cNvSpPr/>
                <p:nvPr/>
              </p:nvSpPr>
              <p:spPr>
                <a:xfrm flipH="1">
                  <a:off x="2120760" y="1134720"/>
                  <a:ext cx="6984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0" name=""/>
                <p:cNvSpPr/>
                <p:nvPr/>
              </p:nvSpPr>
              <p:spPr>
                <a:xfrm flipH="1">
                  <a:off x="2118960" y="1134720"/>
                  <a:ext cx="6984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1" name=""/>
                <p:cNvSpPr/>
                <p:nvPr/>
              </p:nvSpPr>
              <p:spPr>
                <a:xfrm flipH="1">
                  <a:off x="2111040" y="1130040"/>
                  <a:ext cx="68400" cy="133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2" name=""/>
                <p:cNvSpPr/>
                <p:nvPr/>
              </p:nvSpPr>
              <p:spPr>
                <a:xfrm flipH="1">
                  <a:off x="2099520" y="1122120"/>
                  <a:ext cx="6516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3" name=""/>
                <p:cNvSpPr/>
                <p:nvPr/>
              </p:nvSpPr>
              <p:spPr>
                <a:xfrm flipH="1">
                  <a:off x="2099520" y="1122120"/>
                  <a:ext cx="6516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4" name=""/>
                <p:cNvSpPr/>
                <p:nvPr/>
              </p:nvSpPr>
              <p:spPr>
                <a:xfrm flipH="1">
                  <a:off x="2099520" y="1122120"/>
                  <a:ext cx="6516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5" name=""/>
                <p:cNvSpPr/>
                <p:nvPr/>
              </p:nvSpPr>
              <p:spPr>
                <a:xfrm flipH="1">
                  <a:off x="2099520" y="1122120"/>
                  <a:ext cx="6516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6" name=""/>
                <p:cNvSpPr/>
                <p:nvPr/>
              </p:nvSpPr>
              <p:spPr>
                <a:xfrm flipH="1">
                  <a:off x="2099520" y="1122120"/>
                  <a:ext cx="65160" cy="135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7" name=""/>
                <p:cNvSpPr/>
                <p:nvPr/>
              </p:nvSpPr>
              <p:spPr>
                <a:xfrm flipH="1">
                  <a:off x="2097000" y="1120320"/>
                  <a:ext cx="6480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8" name=""/>
                <p:cNvSpPr/>
                <p:nvPr/>
              </p:nvSpPr>
              <p:spPr>
                <a:xfrm flipH="1">
                  <a:off x="2097000" y="1120320"/>
                  <a:ext cx="6480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9" name=""/>
                <p:cNvSpPr/>
                <p:nvPr/>
              </p:nvSpPr>
              <p:spPr>
                <a:xfrm flipH="1">
                  <a:off x="2097000" y="1120320"/>
                  <a:ext cx="6480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0" name=""/>
                <p:cNvSpPr/>
                <p:nvPr/>
              </p:nvSpPr>
              <p:spPr>
                <a:xfrm flipH="1">
                  <a:off x="2095200" y="1117440"/>
                  <a:ext cx="619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1" name=""/>
                <p:cNvSpPr/>
                <p:nvPr/>
              </p:nvSpPr>
              <p:spPr>
                <a:xfrm flipH="1">
                  <a:off x="2095200" y="1120320"/>
                  <a:ext cx="61920" cy="133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2" name=""/>
                <p:cNvSpPr/>
                <p:nvPr/>
              </p:nvSpPr>
              <p:spPr>
                <a:xfrm flipH="1">
                  <a:off x="2091600" y="1117440"/>
                  <a:ext cx="6516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3" name=""/>
                <p:cNvSpPr/>
                <p:nvPr/>
              </p:nvSpPr>
              <p:spPr>
                <a:xfrm flipH="1">
                  <a:off x="2085480" y="1115640"/>
                  <a:ext cx="6516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4" name=""/>
                <p:cNvSpPr/>
                <p:nvPr/>
              </p:nvSpPr>
              <p:spPr>
                <a:xfrm flipH="1">
                  <a:off x="2086920" y="1115640"/>
                  <a:ext cx="637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5" name=""/>
                <p:cNvSpPr/>
                <p:nvPr/>
              </p:nvSpPr>
              <p:spPr>
                <a:xfrm flipH="1">
                  <a:off x="2080800" y="1112400"/>
                  <a:ext cx="6192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6" name=""/>
                <p:cNvSpPr/>
                <p:nvPr/>
              </p:nvSpPr>
              <p:spPr>
                <a:xfrm flipH="1">
                  <a:off x="2080800" y="1112400"/>
                  <a:ext cx="6192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7" name=""/>
                <p:cNvSpPr/>
                <p:nvPr/>
              </p:nvSpPr>
              <p:spPr>
                <a:xfrm flipH="1">
                  <a:off x="2080800" y="1112400"/>
                  <a:ext cx="61920" cy="136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8" name=""/>
                <p:cNvSpPr/>
                <p:nvPr/>
              </p:nvSpPr>
              <p:spPr>
                <a:xfrm flipH="1">
                  <a:off x="2077560" y="1110960"/>
                  <a:ext cx="60120" cy="136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9" name=""/>
                <p:cNvSpPr/>
                <p:nvPr/>
              </p:nvSpPr>
              <p:spPr>
                <a:xfrm flipH="1">
                  <a:off x="2022120" y="1083960"/>
                  <a:ext cx="5400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0" name=""/>
                <p:cNvSpPr/>
                <p:nvPr/>
              </p:nvSpPr>
              <p:spPr>
                <a:xfrm flipH="1">
                  <a:off x="2022120" y="1083960"/>
                  <a:ext cx="54000" cy="1411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1" name=""/>
                <p:cNvSpPr/>
                <p:nvPr/>
              </p:nvSpPr>
              <p:spPr>
                <a:xfrm flipH="1">
                  <a:off x="2020320" y="1083960"/>
                  <a:ext cx="522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2" name=""/>
                <p:cNvSpPr/>
                <p:nvPr/>
              </p:nvSpPr>
              <p:spPr>
                <a:xfrm flipH="1">
                  <a:off x="2020320" y="1083960"/>
                  <a:ext cx="5220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3" name=""/>
                <p:cNvSpPr/>
                <p:nvPr/>
              </p:nvSpPr>
              <p:spPr>
                <a:xfrm flipH="1">
                  <a:off x="2015640" y="1080720"/>
                  <a:ext cx="5076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4" name=""/>
                <p:cNvSpPr/>
                <p:nvPr/>
              </p:nvSpPr>
              <p:spPr>
                <a:xfrm flipH="1">
                  <a:off x="2005920" y="1076040"/>
                  <a:ext cx="5076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5" name=""/>
                <p:cNvSpPr/>
                <p:nvPr/>
              </p:nvSpPr>
              <p:spPr>
                <a:xfrm flipH="1">
                  <a:off x="2001600" y="1074240"/>
                  <a:ext cx="47520" cy="141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6" name=""/>
                <p:cNvSpPr/>
                <p:nvPr/>
              </p:nvSpPr>
              <p:spPr>
                <a:xfrm flipH="1">
                  <a:off x="1860480" y="1033200"/>
                  <a:ext cx="25200" cy="1490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7" name=""/>
                <p:cNvSpPr/>
                <p:nvPr/>
              </p:nvSpPr>
              <p:spPr>
                <a:xfrm flipH="1">
                  <a:off x="1857240" y="1033200"/>
                  <a:ext cx="2376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8" name=""/>
                <p:cNvSpPr/>
                <p:nvPr/>
              </p:nvSpPr>
              <p:spPr>
                <a:xfrm>
                  <a:off x="711000" y="1801440"/>
                  <a:ext cx="14616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9" name=""/>
                <p:cNvSpPr/>
                <p:nvPr/>
              </p:nvSpPr>
              <p:spPr>
                <a:xfrm>
                  <a:off x="819000" y="1534680"/>
                  <a:ext cx="131760" cy="74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0" name=""/>
                <p:cNvSpPr/>
                <p:nvPr/>
              </p:nvSpPr>
              <p:spPr>
                <a:xfrm>
                  <a:off x="1293480" y="1107720"/>
                  <a:ext cx="6048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1" name=""/>
                <p:cNvSpPr/>
                <p:nvPr/>
              </p:nvSpPr>
              <p:spPr>
                <a:xfrm>
                  <a:off x="1293480" y="1107720"/>
                  <a:ext cx="60480" cy="139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2" name=""/>
                <p:cNvSpPr/>
                <p:nvPr/>
              </p:nvSpPr>
              <p:spPr>
                <a:xfrm flipH="1" flipV="1">
                  <a:off x="2542680" y="2366640"/>
                  <a:ext cx="14292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3" name=""/>
                <p:cNvSpPr/>
                <p:nvPr/>
              </p:nvSpPr>
              <p:spPr>
                <a:xfrm flipH="1" flipV="1">
                  <a:off x="2542680" y="2366640"/>
                  <a:ext cx="14292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4" name=""/>
                <p:cNvSpPr/>
                <p:nvPr/>
              </p:nvSpPr>
              <p:spPr>
                <a:xfrm flipH="1">
                  <a:off x="2587320" y="1871280"/>
                  <a:ext cx="147600" cy="25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5" name=""/>
                <p:cNvSpPr/>
                <p:nvPr/>
              </p:nvSpPr>
              <p:spPr>
                <a:xfrm flipH="1">
                  <a:off x="2326680" y="1306080"/>
                  <a:ext cx="10332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6" name=""/>
                <p:cNvSpPr/>
                <p:nvPr/>
              </p:nvSpPr>
              <p:spPr>
                <a:xfrm flipH="1" flipV="1">
                  <a:off x="2573280" y="2279160"/>
                  <a:ext cx="14256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7" name=""/>
                <p:cNvSpPr/>
                <p:nvPr/>
              </p:nvSpPr>
              <p:spPr>
                <a:xfrm flipH="1" flipV="1">
                  <a:off x="2573280" y="2280960"/>
                  <a:ext cx="14256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8" name=""/>
                <p:cNvSpPr/>
                <p:nvPr/>
              </p:nvSpPr>
              <p:spPr>
                <a:xfrm flipV="1">
                  <a:off x="987120" y="2683800"/>
                  <a:ext cx="104760" cy="104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9" name=""/>
                <p:cNvSpPr/>
                <p:nvPr/>
              </p:nvSpPr>
              <p:spPr>
                <a:xfrm flipV="1">
                  <a:off x="983880" y="2680920"/>
                  <a:ext cx="108000" cy="108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0" name=""/>
                <p:cNvSpPr/>
                <p:nvPr/>
              </p:nvSpPr>
              <p:spPr>
                <a:xfrm flipV="1">
                  <a:off x="983880" y="2680920"/>
                  <a:ext cx="106560" cy="106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1" name=""/>
                <p:cNvSpPr/>
                <p:nvPr/>
              </p:nvSpPr>
              <p:spPr>
                <a:xfrm flipV="1">
                  <a:off x="983880" y="2680920"/>
                  <a:ext cx="106560" cy="106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2" name=""/>
                <p:cNvSpPr/>
                <p:nvPr/>
              </p:nvSpPr>
              <p:spPr>
                <a:xfrm flipV="1">
                  <a:off x="983880" y="2680920"/>
                  <a:ext cx="106560" cy="106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3" name=""/>
                <p:cNvSpPr/>
                <p:nvPr/>
              </p:nvSpPr>
              <p:spPr>
                <a:xfrm>
                  <a:off x="739440" y="1704600"/>
                  <a:ext cx="14148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4" name=""/>
                <p:cNvSpPr/>
                <p:nvPr/>
              </p:nvSpPr>
              <p:spPr>
                <a:xfrm>
                  <a:off x="739440" y="1704600"/>
                  <a:ext cx="14148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5" name=""/>
                <p:cNvSpPr/>
                <p:nvPr/>
              </p:nvSpPr>
              <p:spPr>
                <a:xfrm flipH="1" flipV="1">
                  <a:off x="2565000" y="2304360"/>
                  <a:ext cx="144720" cy="41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6" name=""/>
                <p:cNvSpPr/>
                <p:nvPr/>
              </p:nvSpPr>
              <p:spPr>
                <a:xfrm flipV="1">
                  <a:off x="1085760" y="2758320"/>
                  <a:ext cx="90360" cy="119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7" name=""/>
                <p:cNvSpPr/>
                <p:nvPr/>
              </p:nvSpPr>
              <p:spPr>
                <a:xfrm flipV="1">
                  <a:off x="1085760" y="2758320"/>
                  <a:ext cx="90360" cy="117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8" name=""/>
                <p:cNvSpPr/>
                <p:nvPr/>
              </p:nvSpPr>
              <p:spPr>
                <a:xfrm flipH="1">
                  <a:off x="2322360" y="1301400"/>
                  <a:ext cx="102960" cy="1112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9" name=""/>
                <p:cNvSpPr/>
                <p:nvPr/>
              </p:nvSpPr>
              <p:spPr>
                <a:xfrm flipV="1">
                  <a:off x="1414080" y="2901240"/>
                  <a:ext cx="4284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0" name=""/>
                <p:cNvSpPr/>
                <p:nvPr/>
              </p:nvSpPr>
              <p:spPr>
                <a:xfrm flipH="1">
                  <a:off x="2572920" y="1798200"/>
                  <a:ext cx="145800" cy="3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1" name=""/>
                <p:cNvSpPr/>
                <p:nvPr/>
              </p:nvSpPr>
              <p:spPr>
                <a:xfrm flipH="1">
                  <a:off x="2572920" y="1798200"/>
                  <a:ext cx="145800" cy="367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2" name=""/>
                <p:cNvSpPr/>
                <p:nvPr/>
              </p:nvSpPr>
              <p:spPr>
                <a:xfrm flipH="1">
                  <a:off x="1935000" y="1052280"/>
                  <a:ext cx="3816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3" name=""/>
                <p:cNvSpPr/>
                <p:nvPr/>
              </p:nvSpPr>
              <p:spPr>
                <a:xfrm flipH="1">
                  <a:off x="1904760" y="1042560"/>
                  <a:ext cx="316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4" name=""/>
                <p:cNvSpPr/>
                <p:nvPr/>
              </p:nvSpPr>
              <p:spPr>
                <a:xfrm flipH="1">
                  <a:off x="1904760" y="1042560"/>
                  <a:ext cx="3168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5" name=""/>
                <p:cNvSpPr/>
                <p:nvPr/>
              </p:nvSpPr>
              <p:spPr>
                <a:xfrm flipH="1" flipV="1">
                  <a:off x="2601720" y="2063520"/>
                  <a:ext cx="147600" cy="1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6" name=""/>
                <p:cNvSpPr/>
                <p:nvPr/>
              </p:nvSpPr>
              <p:spPr>
                <a:xfrm>
                  <a:off x="753840" y="1671480"/>
                  <a:ext cx="139680" cy="55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7" name=""/>
                <p:cNvSpPr/>
                <p:nvPr/>
              </p:nvSpPr>
              <p:spPr>
                <a:xfrm>
                  <a:off x="744480" y="1695240"/>
                  <a:ext cx="14112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8" name=""/>
                <p:cNvSpPr/>
                <p:nvPr/>
              </p:nvSpPr>
              <p:spPr>
                <a:xfrm>
                  <a:off x="744480" y="1695240"/>
                  <a:ext cx="141120" cy="54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9" name=""/>
                <p:cNvSpPr/>
                <p:nvPr/>
              </p:nvSpPr>
              <p:spPr>
                <a:xfrm>
                  <a:off x="736200" y="1717200"/>
                  <a:ext cx="142920" cy="47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0" name=""/>
                <p:cNvSpPr/>
                <p:nvPr/>
              </p:nvSpPr>
              <p:spPr>
                <a:xfrm>
                  <a:off x="731520" y="1731600"/>
                  <a:ext cx="142920" cy="47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1" name=""/>
                <p:cNvSpPr/>
                <p:nvPr/>
              </p:nvSpPr>
              <p:spPr>
                <a:xfrm>
                  <a:off x="707760" y="1815840"/>
                  <a:ext cx="146160" cy="36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2" name=""/>
                <p:cNvSpPr/>
                <p:nvPr/>
              </p:nvSpPr>
              <p:spPr>
                <a:xfrm>
                  <a:off x="706320" y="1821960"/>
                  <a:ext cx="14580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3" name=""/>
                <p:cNvSpPr/>
                <p:nvPr/>
              </p:nvSpPr>
              <p:spPr>
                <a:xfrm>
                  <a:off x="706320" y="1820520"/>
                  <a:ext cx="145800" cy="36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4" name=""/>
                <p:cNvSpPr/>
                <p:nvPr/>
              </p:nvSpPr>
              <p:spPr>
                <a:xfrm>
                  <a:off x="706320" y="1820520"/>
                  <a:ext cx="145800" cy="3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5" name=""/>
                <p:cNvSpPr/>
                <p:nvPr/>
              </p:nvSpPr>
              <p:spPr>
                <a:xfrm>
                  <a:off x="706320" y="1820520"/>
                  <a:ext cx="145800" cy="3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6" name=""/>
                <p:cNvSpPr/>
                <p:nvPr/>
              </p:nvSpPr>
              <p:spPr>
                <a:xfrm>
                  <a:off x="706320" y="1820520"/>
                  <a:ext cx="145800" cy="3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7" name=""/>
                <p:cNvSpPr/>
                <p:nvPr/>
              </p:nvSpPr>
              <p:spPr>
                <a:xfrm>
                  <a:off x="706320" y="1820520"/>
                  <a:ext cx="145800" cy="3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8" name=""/>
                <p:cNvSpPr/>
                <p:nvPr/>
              </p:nvSpPr>
              <p:spPr>
                <a:xfrm>
                  <a:off x="706320" y="1820520"/>
                  <a:ext cx="145800" cy="3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9" name=""/>
                <p:cNvSpPr/>
                <p:nvPr/>
              </p:nvSpPr>
              <p:spPr>
                <a:xfrm>
                  <a:off x="706320" y="1820520"/>
                  <a:ext cx="145800" cy="3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0" name=""/>
                <p:cNvSpPr/>
                <p:nvPr/>
              </p:nvSpPr>
              <p:spPr>
                <a:xfrm>
                  <a:off x="706320" y="1821960"/>
                  <a:ext cx="14580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1" name=""/>
                <p:cNvSpPr/>
                <p:nvPr/>
              </p:nvSpPr>
              <p:spPr>
                <a:xfrm>
                  <a:off x="706320" y="1821960"/>
                  <a:ext cx="14580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2" name=""/>
                <p:cNvSpPr/>
                <p:nvPr/>
              </p:nvSpPr>
              <p:spPr>
                <a:xfrm flipH="1">
                  <a:off x="2593800" y="1933200"/>
                  <a:ext cx="14904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3" name=""/>
                <p:cNvSpPr/>
                <p:nvPr/>
              </p:nvSpPr>
              <p:spPr>
                <a:xfrm flipH="1">
                  <a:off x="2593800" y="1933200"/>
                  <a:ext cx="14904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4" name=""/>
                <p:cNvSpPr/>
                <p:nvPr/>
              </p:nvSpPr>
              <p:spPr>
                <a:xfrm flipH="1">
                  <a:off x="2593800" y="1933200"/>
                  <a:ext cx="14904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5" name=""/>
                <p:cNvSpPr/>
                <p:nvPr/>
              </p:nvSpPr>
              <p:spPr>
                <a:xfrm flipH="1">
                  <a:off x="2593800" y="1933200"/>
                  <a:ext cx="149040" cy="19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6" name=""/>
                <p:cNvSpPr/>
                <p:nvPr/>
              </p:nvSpPr>
              <p:spPr>
                <a:xfrm flipH="1">
                  <a:off x="2593800" y="1935000"/>
                  <a:ext cx="149040" cy="172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7" name=""/>
                <p:cNvSpPr/>
                <p:nvPr/>
              </p:nvSpPr>
              <p:spPr>
                <a:xfrm flipH="1">
                  <a:off x="2574720" y="1807920"/>
                  <a:ext cx="146160" cy="36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8" name=""/>
                <p:cNvSpPr/>
                <p:nvPr/>
              </p:nvSpPr>
              <p:spPr>
                <a:xfrm flipH="1" flipV="1">
                  <a:off x="2583720" y="2220480"/>
                  <a:ext cx="149400" cy="28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9" name=""/>
                <p:cNvSpPr/>
                <p:nvPr/>
              </p:nvSpPr>
              <p:spPr>
                <a:xfrm flipH="1" flipV="1">
                  <a:off x="2583720" y="2220480"/>
                  <a:ext cx="149400" cy="28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0" name=""/>
                <p:cNvSpPr/>
                <p:nvPr/>
              </p:nvSpPr>
              <p:spPr>
                <a:xfrm flipH="1" flipV="1">
                  <a:off x="1742400" y="2941200"/>
                  <a:ext cx="46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1" name=""/>
                <p:cNvSpPr/>
                <p:nvPr/>
              </p:nvSpPr>
              <p:spPr>
                <a:xfrm flipH="1" flipV="1">
                  <a:off x="1739520" y="2941200"/>
                  <a:ext cx="50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2" name=""/>
                <p:cNvSpPr/>
                <p:nvPr/>
              </p:nvSpPr>
              <p:spPr>
                <a:xfrm flipH="1" flipV="1">
                  <a:off x="1739520" y="2941200"/>
                  <a:ext cx="504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3" name=""/>
                <p:cNvSpPr/>
                <p:nvPr/>
              </p:nvSpPr>
              <p:spPr>
                <a:xfrm flipH="1" flipV="1">
                  <a:off x="1742400" y="2941200"/>
                  <a:ext cx="468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4" name=""/>
                <p:cNvSpPr/>
                <p:nvPr/>
              </p:nvSpPr>
              <p:spPr>
                <a:xfrm flipH="1" flipV="1">
                  <a:off x="1766520" y="2938320"/>
                  <a:ext cx="6480" cy="15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5" name=""/>
                <p:cNvSpPr/>
                <p:nvPr/>
              </p:nvSpPr>
              <p:spPr>
                <a:xfrm flipH="1" flipV="1">
                  <a:off x="1959840" y="2904840"/>
                  <a:ext cx="4140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6" name=""/>
                <p:cNvSpPr/>
                <p:nvPr/>
              </p:nvSpPr>
              <p:spPr>
                <a:xfrm flipH="1" flipV="1">
                  <a:off x="1958400" y="2904840"/>
                  <a:ext cx="42840" cy="146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7" name=""/>
                <p:cNvSpPr/>
                <p:nvPr/>
              </p:nvSpPr>
              <p:spPr>
                <a:xfrm flipH="1" flipV="1">
                  <a:off x="1958760" y="2907720"/>
                  <a:ext cx="3960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8" name=""/>
                <p:cNvSpPr/>
                <p:nvPr/>
              </p:nvSpPr>
              <p:spPr>
                <a:xfrm flipH="1" flipV="1">
                  <a:off x="1958760" y="2907720"/>
                  <a:ext cx="3960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9" name=""/>
                <p:cNvSpPr/>
                <p:nvPr/>
              </p:nvSpPr>
              <p:spPr>
                <a:xfrm flipH="1" flipV="1">
                  <a:off x="1955160" y="2907720"/>
                  <a:ext cx="4284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0" name=""/>
                <p:cNvSpPr/>
                <p:nvPr/>
              </p:nvSpPr>
              <p:spPr>
                <a:xfrm flipH="1" flipV="1">
                  <a:off x="1955160" y="2907720"/>
                  <a:ext cx="4140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1" name=""/>
                <p:cNvSpPr/>
                <p:nvPr/>
              </p:nvSpPr>
              <p:spPr>
                <a:xfrm flipH="1" flipV="1">
                  <a:off x="1955160" y="2907720"/>
                  <a:ext cx="4140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2" name=""/>
                <p:cNvSpPr/>
                <p:nvPr/>
              </p:nvSpPr>
              <p:spPr>
                <a:xfrm flipH="1" flipV="1">
                  <a:off x="1955160" y="2907720"/>
                  <a:ext cx="4140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3" name=""/>
                <p:cNvSpPr/>
                <p:nvPr/>
              </p:nvSpPr>
              <p:spPr>
                <a:xfrm flipH="1" flipV="1">
                  <a:off x="1955160" y="2907720"/>
                  <a:ext cx="4140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4" name=""/>
                <p:cNvSpPr/>
                <p:nvPr/>
              </p:nvSpPr>
              <p:spPr>
                <a:xfrm flipH="1" flipV="1">
                  <a:off x="1955160" y="2907720"/>
                  <a:ext cx="41400" cy="142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5" name=""/>
                <p:cNvSpPr/>
                <p:nvPr/>
              </p:nvSpPr>
              <p:spPr>
                <a:xfrm>
                  <a:off x="1226880" y="1141200"/>
                  <a:ext cx="6984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6" name=""/>
                <p:cNvSpPr/>
                <p:nvPr/>
              </p:nvSpPr>
              <p:spPr>
                <a:xfrm>
                  <a:off x="1017360" y="1287000"/>
                  <a:ext cx="10332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7" name=""/>
                <p:cNvSpPr/>
                <p:nvPr/>
              </p:nvSpPr>
              <p:spPr>
                <a:xfrm>
                  <a:off x="1020600" y="1287000"/>
                  <a:ext cx="100080" cy="112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8" name=""/>
                <p:cNvSpPr/>
                <p:nvPr/>
              </p:nvSpPr>
              <p:spPr>
                <a:xfrm>
                  <a:off x="1015920" y="1290240"/>
                  <a:ext cx="102960" cy="109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9" name=""/>
                <p:cNvSpPr/>
                <p:nvPr/>
              </p:nvSpPr>
              <p:spPr>
                <a:xfrm>
                  <a:off x="1012680" y="1294920"/>
                  <a:ext cx="101520" cy="109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0" name=""/>
                <p:cNvSpPr/>
                <p:nvPr/>
              </p:nvSpPr>
              <p:spPr>
                <a:xfrm>
                  <a:off x="1423800" y="1060200"/>
                  <a:ext cx="42840" cy="1458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1" name=""/>
                <p:cNvSpPr/>
                <p:nvPr/>
              </p:nvSpPr>
              <p:spPr>
                <a:xfrm flipH="1">
                  <a:off x="2447280" y="1474560"/>
                  <a:ext cx="125640" cy="83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2" name=""/>
                <p:cNvSpPr/>
                <p:nvPr/>
              </p:nvSpPr>
              <p:spPr>
                <a:xfrm flipH="1" flipV="1">
                  <a:off x="2485800" y="2490120"/>
                  <a:ext cx="131760" cy="73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3" name=""/>
                <p:cNvSpPr/>
                <p:nvPr/>
              </p:nvSpPr>
              <p:spPr>
                <a:xfrm flipH="1" flipV="1">
                  <a:off x="2485800" y="2490120"/>
                  <a:ext cx="131760" cy="73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4" name=""/>
                <p:cNvSpPr/>
                <p:nvPr/>
              </p:nvSpPr>
              <p:spPr>
                <a:xfrm>
                  <a:off x="852120" y="1482480"/>
                  <a:ext cx="12564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5" name=""/>
                <p:cNvSpPr/>
                <p:nvPr/>
              </p:nvSpPr>
              <p:spPr>
                <a:xfrm>
                  <a:off x="834840" y="1507680"/>
                  <a:ext cx="127080" cy="79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6" name=""/>
                <p:cNvSpPr/>
                <p:nvPr/>
              </p:nvSpPr>
              <p:spPr>
                <a:xfrm>
                  <a:off x="834840" y="1507680"/>
                  <a:ext cx="127080" cy="795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7" name=""/>
                <p:cNvSpPr/>
                <p:nvPr/>
              </p:nvSpPr>
              <p:spPr>
                <a:xfrm>
                  <a:off x="830160" y="1512720"/>
                  <a:ext cx="129960" cy="792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8" name=""/>
                <p:cNvSpPr/>
                <p:nvPr/>
              </p:nvSpPr>
              <p:spPr>
                <a:xfrm>
                  <a:off x="820440" y="1530000"/>
                  <a:ext cx="130320" cy="763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9" name=""/>
                <p:cNvSpPr/>
                <p:nvPr/>
              </p:nvSpPr>
              <p:spPr>
                <a:xfrm>
                  <a:off x="796680" y="1577520"/>
                  <a:ext cx="13176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0" name=""/>
                <p:cNvSpPr/>
                <p:nvPr/>
              </p:nvSpPr>
              <p:spPr>
                <a:xfrm>
                  <a:off x="796680" y="1577520"/>
                  <a:ext cx="131760" cy="69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1" name=""/>
                <p:cNvSpPr/>
                <p:nvPr/>
              </p:nvSpPr>
              <p:spPr>
                <a:xfrm flipV="1">
                  <a:off x="744480" y="2361600"/>
                  <a:ext cx="141120" cy="50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2" name=""/>
                <p:cNvSpPr/>
                <p:nvPr/>
              </p:nvSpPr>
              <p:spPr>
                <a:xfrm flipV="1">
                  <a:off x="1176120" y="2810880"/>
                  <a:ext cx="76320" cy="127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3" name=""/>
                <p:cNvSpPr/>
                <p:nvPr/>
              </p:nvSpPr>
              <p:spPr>
                <a:xfrm flipH="1" flipV="1">
                  <a:off x="2485800" y="2491920"/>
                  <a:ext cx="130320" cy="74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4" name=""/>
                <p:cNvSpPr/>
                <p:nvPr/>
              </p:nvSpPr>
              <p:spPr>
                <a:xfrm flipH="1" flipV="1">
                  <a:off x="2485800" y="2491920"/>
                  <a:ext cx="130320" cy="74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5" name=""/>
                <p:cNvSpPr/>
                <p:nvPr/>
              </p:nvSpPr>
              <p:spPr>
                <a:xfrm flipH="1" flipV="1">
                  <a:off x="2485800" y="2491920"/>
                  <a:ext cx="130320" cy="74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6" name=""/>
                <p:cNvSpPr/>
                <p:nvPr/>
              </p:nvSpPr>
              <p:spPr>
                <a:xfrm flipH="1" flipV="1">
                  <a:off x="2485800" y="2491920"/>
                  <a:ext cx="130320" cy="74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7" name=""/>
                <p:cNvSpPr/>
                <p:nvPr/>
              </p:nvSpPr>
              <p:spPr>
                <a:xfrm flipH="1" flipV="1">
                  <a:off x="2484360" y="2491920"/>
                  <a:ext cx="131760" cy="74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8" name=""/>
                <p:cNvSpPr/>
                <p:nvPr/>
              </p:nvSpPr>
              <p:spPr>
                <a:xfrm flipH="1" flipV="1">
                  <a:off x="2484360" y="2491920"/>
                  <a:ext cx="131760" cy="74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9" name=""/>
                <p:cNvSpPr/>
                <p:nvPr/>
              </p:nvSpPr>
              <p:spPr>
                <a:xfrm flipH="1" flipV="1">
                  <a:off x="2484360" y="2491920"/>
                  <a:ext cx="131760" cy="74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0" name=""/>
                <p:cNvSpPr/>
                <p:nvPr/>
              </p:nvSpPr>
              <p:spPr>
                <a:xfrm flipH="1" flipV="1">
                  <a:off x="2484360" y="2491920"/>
                  <a:ext cx="131760" cy="74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1" name=""/>
                <p:cNvSpPr/>
                <p:nvPr/>
              </p:nvSpPr>
              <p:spPr>
                <a:xfrm>
                  <a:off x="703080" y="1834920"/>
                  <a:ext cx="146160" cy="3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2" name=""/>
                <p:cNvSpPr/>
                <p:nvPr/>
              </p:nvSpPr>
              <p:spPr>
                <a:xfrm>
                  <a:off x="703080" y="183168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3" name=""/>
                <p:cNvSpPr/>
                <p:nvPr/>
              </p:nvSpPr>
              <p:spPr>
                <a:xfrm>
                  <a:off x="703080" y="183168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4" name=""/>
                <p:cNvSpPr/>
                <p:nvPr/>
              </p:nvSpPr>
              <p:spPr>
                <a:xfrm>
                  <a:off x="703080" y="1831680"/>
                  <a:ext cx="146160" cy="349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5" name=""/>
                <p:cNvSpPr/>
                <p:nvPr/>
              </p:nvSpPr>
              <p:spPr>
                <a:xfrm>
                  <a:off x="703080" y="1831680"/>
                  <a:ext cx="146160" cy="3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6" name=""/>
                <p:cNvSpPr/>
                <p:nvPr/>
              </p:nvSpPr>
              <p:spPr>
                <a:xfrm>
                  <a:off x="703080" y="1831680"/>
                  <a:ext cx="146160" cy="3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7" name=""/>
                <p:cNvSpPr/>
                <p:nvPr/>
              </p:nvSpPr>
              <p:spPr>
                <a:xfrm>
                  <a:off x="703080" y="1831680"/>
                  <a:ext cx="146160" cy="3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8" name=""/>
                <p:cNvSpPr/>
                <p:nvPr/>
              </p:nvSpPr>
              <p:spPr>
                <a:xfrm>
                  <a:off x="703080" y="1831680"/>
                  <a:ext cx="146160" cy="3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9" name=""/>
                <p:cNvSpPr/>
                <p:nvPr/>
              </p:nvSpPr>
              <p:spPr>
                <a:xfrm flipH="1">
                  <a:off x="2465280" y="1501560"/>
                  <a:ext cx="12672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0" name=""/>
                <p:cNvSpPr/>
                <p:nvPr/>
              </p:nvSpPr>
              <p:spPr>
                <a:xfrm flipH="1">
                  <a:off x="2465280" y="1501560"/>
                  <a:ext cx="12672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1" name=""/>
                <p:cNvSpPr/>
                <p:nvPr/>
              </p:nvSpPr>
              <p:spPr>
                <a:xfrm flipH="1">
                  <a:off x="2465280" y="1501560"/>
                  <a:ext cx="12672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2" name=""/>
                <p:cNvSpPr/>
                <p:nvPr/>
              </p:nvSpPr>
              <p:spPr>
                <a:xfrm flipH="1">
                  <a:off x="2465280" y="1501560"/>
                  <a:ext cx="12672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3" name=""/>
                <p:cNvSpPr/>
                <p:nvPr/>
              </p:nvSpPr>
              <p:spPr>
                <a:xfrm flipH="1">
                  <a:off x="2465280" y="1501560"/>
                  <a:ext cx="126720" cy="810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4" name=""/>
                <p:cNvSpPr/>
                <p:nvPr/>
              </p:nvSpPr>
              <p:spPr>
                <a:xfrm flipH="1">
                  <a:off x="2459880" y="1493640"/>
                  <a:ext cx="127080" cy="824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5" name=""/>
                <p:cNvSpPr/>
                <p:nvPr/>
              </p:nvSpPr>
              <p:spPr>
                <a:xfrm>
                  <a:off x="703080" y="1834920"/>
                  <a:ext cx="146160" cy="3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6" name=""/>
                <p:cNvSpPr/>
                <p:nvPr/>
              </p:nvSpPr>
              <p:spPr>
                <a:xfrm>
                  <a:off x="703080" y="1834920"/>
                  <a:ext cx="146160" cy="316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7" name=""/>
                <p:cNvSpPr/>
                <p:nvPr/>
              </p:nvSpPr>
              <p:spPr>
                <a:xfrm flipH="1" flipV="1">
                  <a:off x="2593440" y="2155320"/>
                  <a:ext cx="150840" cy="2052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8" name=""/>
                <p:cNvSpPr/>
                <p:nvPr/>
              </p:nvSpPr>
              <p:spPr>
                <a:xfrm>
                  <a:off x="712440" y="1788840"/>
                  <a:ext cx="146160" cy="381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9" name=""/>
                <p:cNvSpPr/>
                <p:nvPr/>
              </p:nvSpPr>
              <p:spPr>
                <a:xfrm>
                  <a:off x="1109520" y="1215720"/>
                  <a:ext cx="85680" cy="1224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0" name=""/>
                <p:cNvSpPr/>
                <p:nvPr/>
              </p:nvSpPr>
              <p:spPr>
                <a:xfrm>
                  <a:off x="1645920" y="1022040"/>
                  <a:ext cx="97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1" name=""/>
                <p:cNvSpPr/>
                <p:nvPr/>
              </p:nvSpPr>
              <p:spPr>
                <a:xfrm>
                  <a:off x="1649160" y="1022040"/>
                  <a:ext cx="97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2" name=""/>
                <p:cNvSpPr/>
                <p:nvPr/>
              </p:nvSpPr>
              <p:spPr>
                <a:xfrm>
                  <a:off x="1649160" y="1022040"/>
                  <a:ext cx="97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3" name=""/>
                <p:cNvSpPr/>
                <p:nvPr/>
              </p:nvSpPr>
              <p:spPr>
                <a:xfrm>
                  <a:off x="1649160" y="1022040"/>
                  <a:ext cx="972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4" name=""/>
                <p:cNvSpPr/>
                <p:nvPr/>
              </p:nvSpPr>
              <p:spPr>
                <a:xfrm flipH="1" flipV="1">
                  <a:off x="1794960" y="2936160"/>
                  <a:ext cx="1404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5" name=""/>
                <p:cNvSpPr/>
                <p:nvPr/>
              </p:nvSpPr>
              <p:spPr>
                <a:xfrm flipH="1" flipV="1">
                  <a:off x="1794960" y="2936160"/>
                  <a:ext cx="11160" cy="15084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6" name=""/>
                <p:cNvSpPr/>
                <p:nvPr/>
              </p:nvSpPr>
              <p:spPr>
                <a:xfrm flipH="1">
                  <a:off x="2577600" y="1820520"/>
                  <a:ext cx="145800" cy="33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7" name=""/>
                <p:cNvSpPr/>
                <p:nvPr/>
              </p:nvSpPr>
              <p:spPr>
                <a:xfrm>
                  <a:off x="937800" y="1369800"/>
                  <a:ext cx="113040" cy="100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8" name=""/>
                <p:cNvSpPr/>
                <p:nvPr/>
              </p:nvSpPr>
              <p:spPr>
                <a:xfrm>
                  <a:off x="763200" y="1642680"/>
                  <a:ext cx="139680" cy="6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9" name=""/>
                <p:cNvSpPr/>
                <p:nvPr/>
              </p:nvSpPr>
              <p:spPr>
                <a:xfrm>
                  <a:off x="763200" y="1642680"/>
                  <a:ext cx="139680" cy="6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0" name=""/>
                <p:cNvSpPr/>
                <p:nvPr/>
              </p:nvSpPr>
              <p:spPr>
                <a:xfrm>
                  <a:off x="763200" y="1642680"/>
                  <a:ext cx="139680" cy="6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1" name=""/>
                <p:cNvSpPr/>
                <p:nvPr/>
              </p:nvSpPr>
              <p:spPr>
                <a:xfrm>
                  <a:off x="763200" y="1642680"/>
                  <a:ext cx="139680" cy="6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2" name=""/>
                <p:cNvSpPr/>
                <p:nvPr/>
              </p:nvSpPr>
              <p:spPr>
                <a:xfrm>
                  <a:off x="763200" y="1642680"/>
                  <a:ext cx="139680" cy="6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3" name=""/>
                <p:cNvSpPr/>
                <p:nvPr/>
              </p:nvSpPr>
              <p:spPr>
                <a:xfrm>
                  <a:off x="766440" y="1642680"/>
                  <a:ext cx="136440" cy="6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4" name=""/>
                <p:cNvSpPr/>
                <p:nvPr/>
              </p:nvSpPr>
              <p:spPr>
                <a:xfrm>
                  <a:off x="766440" y="1642680"/>
                  <a:ext cx="136440" cy="6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5" name=""/>
                <p:cNvSpPr/>
                <p:nvPr/>
              </p:nvSpPr>
              <p:spPr>
                <a:xfrm>
                  <a:off x="766440" y="1642680"/>
                  <a:ext cx="136440" cy="604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6" name=""/>
                <p:cNvSpPr/>
                <p:nvPr/>
              </p:nvSpPr>
              <p:spPr>
                <a:xfrm flipV="1">
                  <a:off x="755280" y="2388960"/>
                  <a:ext cx="139680" cy="568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7" name=""/>
                <p:cNvSpPr/>
                <p:nvPr/>
              </p:nvSpPr>
              <p:spPr>
                <a:xfrm flipV="1">
                  <a:off x="1428480" y="2904480"/>
                  <a:ext cx="396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8" name=""/>
                <p:cNvSpPr/>
                <p:nvPr/>
              </p:nvSpPr>
              <p:spPr>
                <a:xfrm flipV="1">
                  <a:off x="1428480" y="2904480"/>
                  <a:ext cx="39600" cy="1443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9" name=""/>
                <p:cNvSpPr/>
                <p:nvPr/>
              </p:nvSpPr>
              <p:spPr>
                <a:xfrm flipH="1">
                  <a:off x="2185560" y="1177560"/>
                  <a:ext cx="82440" cy="12708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0" name=""/>
                <p:cNvSpPr/>
                <p:nvPr/>
              </p:nvSpPr>
              <p:spPr>
                <a:xfrm flipV="1">
                  <a:off x="1541160" y="2927160"/>
                  <a:ext cx="23760" cy="14760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1" name=""/>
                <p:cNvSpPr/>
                <p:nvPr/>
              </p:nvSpPr>
              <p:spPr>
                <a:xfrm flipH="1" flipV="1">
                  <a:off x="2141280" y="2833200"/>
                  <a:ext cx="7128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2" name=""/>
                <p:cNvSpPr/>
                <p:nvPr/>
              </p:nvSpPr>
              <p:spPr>
                <a:xfrm flipH="1" flipV="1">
                  <a:off x="2137680" y="2833200"/>
                  <a:ext cx="71640" cy="131760"/>
                </a:xfrm>
                <a:prstGeom prst="line">
                  <a:avLst/>
                </a:prstGeom>
                <a:ln w="324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03" name=""/>
            <p:cNvGrpSpPr/>
            <p:nvPr/>
          </p:nvGrpSpPr>
          <p:grpSpPr>
            <a:xfrm>
              <a:off x="4029120" y="1981080"/>
              <a:ext cx="5191200" cy="4724640"/>
              <a:chOff x="4029120" y="1981080"/>
              <a:chExt cx="5191200" cy="4724640"/>
            </a:xfrm>
          </p:grpSpPr>
          <p:grpSp>
            <p:nvGrpSpPr>
              <p:cNvPr id="4804" name=""/>
              <p:cNvGrpSpPr/>
              <p:nvPr/>
            </p:nvGrpSpPr>
            <p:grpSpPr>
              <a:xfrm>
                <a:off x="4741560" y="1981080"/>
                <a:ext cx="3378600" cy="1162080"/>
                <a:chOff x="4741560" y="1981080"/>
                <a:chExt cx="3378600" cy="1162080"/>
              </a:xfrm>
            </p:grpSpPr>
            <p:sp>
              <p:nvSpPr>
                <p:cNvPr id="4805" name=""/>
                <p:cNvSpPr/>
                <p:nvPr/>
              </p:nvSpPr>
              <p:spPr>
                <a:xfrm>
                  <a:off x="4741560" y="2409840"/>
                  <a:ext cx="337860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move tRNAs, tRNA synthetas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- three codons “free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- Viral resistance?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6" name=""/>
                <p:cNvSpPr/>
                <p:nvPr/>
              </p:nvSpPr>
              <p:spPr>
                <a:xfrm>
                  <a:off x="5235840" y="1981080"/>
                  <a:ext cx="2602440" cy="368280"/>
                </a:xfrm>
                <a:prstGeom prst="rect">
                  <a:avLst/>
                </a:pr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. AGR (R)  &gt;  CGR (R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8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9120" y="3233880"/>
                <a:ext cx="5191200" cy="3471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808" name=""/>
          <p:cNvGrpSpPr/>
          <p:nvPr/>
        </p:nvGrpSpPr>
        <p:grpSpPr>
          <a:xfrm>
            <a:off x="833400" y="746280"/>
            <a:ext cx="8386920" cy="5959440"/>
            <a:chOff x="833400" y="746280"/>
            <a:chExt cx="8386920" cy="5959440"/>
          </a:xfrm>
        </p:grpSpPr>
        <p:grpSp>
          <p:nvGrpSpPr>
            <p:cNvPr id="4809" name=""/>
            <p:cNvGrpSpPr/>
            <p:nvPr/>
          </p:nvGrpSpPr>
          <p:grpSpPr>
            <a:xfrm>
              <a:off x="833400" y="1171440"/>
              <a:ext cx="1763280" cy="1763640"/>
              <a:chOff x="833400" y="1171440"/>
              <a:chExt cx="1763280" cy="1763640"/>
            </a:xfrm>
          </p:grpSpPr>
          <p:sp>
            <p:nvSpPr>
              <p:cNvPr id="4810" name=""/>
              <p:cNvSpPr/>
              <p:nvPr/>
            </p:nvSpPr>
            <p:spPr>
              <a:xfrm flipV="1">
                <a:off x="1723320" y="1226520"/>
                <a:ext cx="1080" cy="187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1475640" y="1206360"/>
                <a:ext cx="33480" cy="121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 flipH="1">
                <a:off x="2272320" y="1459440"/>
                <a:ext cx="95760" cy="864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900720" y="1717560"/>
                <a:ext cx="119160" cy="486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 flipH="1" flipV="1">
                <a:off x="2374920" y="2420640"/>
                <a:ext cx="111960" cy="608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1635480" y="1175400"/>
                <a:ext cx="9360" cy="1267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1560960" y="1185840"/>
                <a:ext cx="2268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1551600" y="1187640"/>
                <a:ext cx="2412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 flipV="1">
                <a:off x="900720" y="2342160"/>
                <a:ext cx="119160" cy="486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 flipV="1">
                <a:off x="1013040" y="2510280"/>
                <a:ext cx="102960" cy="770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 flipV="1">
                <a:off x="1485000" y="2782080"/>
                <a:ext cx="3492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 flipH="1" flipV="1">
                <a:off x="1863720" y="2793960"/>
                <a:ext cx="2448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 flipH="1" flipV="1">
                <a:off x="2403720" y="2362680"/>
                <a:ext cx="115920" cy="536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 flipH="1">
                <a:off x="2468160" y="1982880"/>
                <a:ext cx="127080" cy="104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 flipH="1">
                <a:off x="2103120" y="1295640"/>
                <a:ext cx="64440" cy="1108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 flipH="1">
                <a:off x="2095200" y="1291680"/>
                <a:ext cx="64800" cy="1108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 flipH="1">
                <a:off x="2035440" y="1254960"/>
                <a:ext cx="52560" cy="1148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 flipV="1">
                <a:off x="1207800" y="2670120"/>
                <a:ext cx="73080" cy="103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 flipV="1">
                <a:off x="1207800" y="2671200"/>
                <a:ext cx="73080" cy="1040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 flipV="1">
                <a:off x="1532520" y="2792880"/>
                <a:ext cx="2664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 flipH="1" flipV="1">
                <a:off x="1964160" y="2766240"/>
                <a:ext cx="43200" cy="1202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 flipH="1" flipV="1">
                <a:off x="2307240" y="2522160"/>
                <a:ext cx="99720" cy="795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 flipH="1" flipV="1">
                <a:off x="2315160" y="2512800"/>
                <a:ext cx="99720" cy="76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 flipH="1" flipV="1">
                <a:off x="2316960" y="2508840"/>
                <a:ext cx="102960" cy="76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 flipH="1" flipV="1">
                <a:off x="2417040" y="2330280"/>
                <a:ext cx="118800" cy="471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 flipH="1" flipV="1">
                <a:off x="2419560" y="2323440"/>
                <a:ext cx="119880" cy="457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 flipH="1" flipV="1">
                <a:off x="2419560" y="2323440"/>
                <a:ext cx="119880" cy="457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 flipH="1" flipV="1">
                <a:off x="2423880" y="2318400"/>
                <a:ext cx="118800" cy="446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 flipH="1" flipV="1">
                <a:off x="2425320" y="2310120"/>
                <a:ext cx="121680" cy="442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 flipH="1" flipV="1">
                <a:off x="2468160" y="2113920"/>
                <a:ext cx="127080" cy="93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 flipH="1" flipV="1">
                <a:off x="2468160" y="2106000"/>
                <a:ext cx="127080" cy="93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 flipH="1" flipV="1">
                <a:off x="2468160" y="2106000"/>
                <a:ext cx="127080" cy="79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 flipH="1" flipV="1">
                <a:off x="2468160" y="2103120"/>
                <a:ext cx="127080" cy="79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 flipH="1">
                <a:off x="2255760" y="1437480"/>
                <a:ext cx="88920" cy="889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 flipH="1">
                <a:off x="2251800" y="1433520"/>
                <a:ext cx="91800" cy="889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 flipH="1">
                <a:off x="2244960" y="1425600"/>
                <a:ext cx="90360" cy="918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 flipH="1" flipV="1">
                <a:off x="2423880" y="2318400"/>
                <a:ext cx="118800" cy="446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 flipH="1" flipV="1">
                <a:off x="2307240" y="2521080"/>
                <a:ext cx="101160" cy="795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 flipH="1" flipV="1">
                <a:off x="2468160" y="2109960"/>
                <a:ext cx="127080" cy="79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921240" y="1670400"/>
                <a:ext cx="115920" cy="554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1631160" y="1175400"/>
                <a:ext cx="11880" cy="1267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1409400" y="1226520"/>
                <a:ext cx="45360" cy="1191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 flipV="1">
                <a:off x="1305360" y="2721600"/>
                <a:ext cx="59400" cy="1137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 flipV="1">
                <a:off x="1552680" y="2793960"/>
                <a:ext cx="24120" cy="1270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 flipH="1" flipV="1">
                <a:off x="1996200" y="2754000"/>
                <a:ext cx="47520" cy="1188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 flipH="1" flipV="1">
                <a:off x="2139840" y="2678400"/>
                <a:ext cx="72720" cy="1065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 flipH="1" flipV="1">
                <a:off x="2305080" y="2526480"/>
                <a:ext cx="98640" cy="795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 flipH="1">
                <a:off x="2395440" y="1670400"/>
                <a:ext cx="113760" cy="554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 flipH="1">
                <a:off x="2032920" y="1253880"/>
                <a:ext cx="55440" cy="1159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1048320" y="1478520"/>
                <a:ext cx="95760" cy="835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 flipH="1" flipV="1">
                <a:off x="2207160" y="2626920"/>
                <a:ext cx="83880" cy="957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 flipH="1">
                <a:off x="2311200" y="1510920"/>
                <a:ext cx="99720" cy="76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939960" y="1635120"/>
                <a:ext cx="111960" cy="619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 flipV="1">
                <a:off x="856080" y="2223720"/>
                <a:ext cx="124200" cy="309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 flipV="1">
                <a:off x="860040" y="2237400"/>
                <a:ext cx="124200" cy="295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 flipH="1" flipV="1">
                <a:off x="2174760" y="2653560"/>
                <a:ext cx="77040" cy="1011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 flipH="1">
                <a:off x="2437200" y="1798920"/>
                <a:ext cx="122760" cy="363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 flipH="1" flipV="1">
                <a:off x="1800360" y="2802240"/>
                <a:ext cx="14400" cy="1285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 flipV="1">
                <a:off x="848160" y="2185920"/>
                <a:ext cx="124200" cy="216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 flipH="1" flipV="1">
                <a:off x="2325240" y="2498400"/>
                <a:ext cx="103680" cy="756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 flipV="1">
                <a:off x="1025280" y="2525040"/>
                <a:ext cx="100080" cy="795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837360" y="1973520"/>
                <a:ext cx="127080" cy="118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949320" y="1614960"/>
                <a:ext cx="111960" cy="633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 flipV="1">
                <a:off x="1485000" y="2782080"/>
                <a:ext cx="32400" cy="1227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833400" y="2051640"/>
                <a:ext cx="128160" cy="14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936000" y="1639080"/>
                <a:ext cx="113760" cy="619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 flipV="1">
                <a:off x="964440" y="2450880"/>
                <a:ext cx="109440" cy="67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 flipH="1">
                <a:off x="2408400" y="1706760"/>
                <a:ext cx="116280" cy="486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 flipH="1" flipV="1">
                <a:off x="1759680" y="2806560"/>
                <a:ext cx="5040" cy="1285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 flipH="1">
                <a:off x="2415600" y="1725840"/>
                <a:ext cx="118800" cy="482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 flipH="1">
                <a:off x="2396880" y="1674360"/>
                <a:ext cx="115920" cy="554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 flipH="1" flipV="1">
                <a:off x="1757160" y="2806560"/>
                <a:ext cx="6480" cy="1285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 flipH="1" flipV="1">
                <a:off x="2363040" y="2445480"/>
                <a:ext cx="108000" cy="644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 flipH="1" flipV="1">
                <a:off x="2435760" y="2281320"/>
                <a:ext cx="119880" cy="378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 flipH="1">
                <a:off x="2170800" y="1349640"/>
                <a:ext cx="77040" cy="1011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1564920" y="1183320"/>
                <a:ext cx="20160" cy="1270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 flipH="1" flipV="1">
                <a:off x="2454480" y="2209680"/>
                <a:ext cx="124200" cy="270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1675800" y="1171440"/>
                <a:ext cx="5400" cy="1285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 flipH="1">
                <a:off x="2421000" y="1743480"/>
                <a:ext cx="121680" cy="457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 flipH="1">
                <a:off x="1908720" y="1199520"/>
                <a:ext cx="3240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 flipH="1">
                <a:off x="2247840" y="1426680"/>
                <a:ext cx="88920" cy="918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 flipH="1">
                <a:off x="2091960" y="1290240"/>
                <a:ext cx="63720" cy="1094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 flipV="1">
                <a:off x="1164600" y="2643120"/>
                <a:ext cx="79920" cy="1000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 flipH="1" flipV="1">
                <a:off x="2255760" y="2579400"/>
                <a:ext cx="91800" cy="907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 flipH="1">
                <a:off x="2358720" y="1591920"/>
                <a:ext cx="108000" cy="662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860040" y="1839600"/>
                <a:ext cx="124200" cy="309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1483920" y="1202400"/>
                <a:ext cx="3348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 flipV="1">
                <a:off x="1123920" y="2612880"/>
                <a:ext cx="84960" cy="961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 flipV="1">
                <a:off x="1140120" y="2625480"/>
                <a:ext cx="83520" cy="97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 flipV="1">
                <a:off x="1716480" y="2809080"/>
                <a:ext cx="1080" cy="1256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 flipH="1">
                <a:off x="2423520" y="1747440"/>
                <a:ext cx="119880" cy="457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1716480" y="1171440"/>
                <a:ext cx="1080" cy="1285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 flipV="1">
                <a:off x="1240200" y="2688840"/>
                <a:ext cx="68760" cy="1080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 flipV="1">
                <a:off x="1049760" y="2549160"/>
                <a:ext cx="95760" cy="838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 flipV="1">
                <a:off x="1080720" y="2577960"/>
                <a:ext cx="91800" cy="874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907920" y="1701360"/>
                <a:ext cx="117360" cy="49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 flipV="1">
                <a:off x="1077840" y="2575440"/>
                <a:ext cx="91800" cy="878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1133640" y="1390320"/>
                <a:ext cx="83520" cy="957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 flipV="1">
                <a:off x="1469160" y="2778120"/>
                <a:ext cx="34920" cy="1231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 flipH="1" flipV="1">
                <a:off x="1851480" y="2796840"/>
                <a:ext cx="2412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 flipH="1" flipV="1">
                <a:off x="2431800" y="2291400"/>
                <a:ext cx="120240" cy="417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 flipV="1">
                <a:off x="892800" y="2323440"/>
                <a:ext cx="118800" cy="471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 flipH="1">
                <a:off x="2399040" y="1678320"/>
                <a:ext cx="116280" cy="554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 flipH="1" flipV="1">
                <a:off x="2439720" y="2266920"/>
                <a:ext cx="122760" cy="363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861840" y="1831320"/>
                <a:ext cx="124200" cy="320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1107720" y="1414440"/>
                <a:ext cx="87840" cy="932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1095480" y="1426680"/>
                <a:ext cx="89280" cy="918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 flipH="1" flipV="1">
                <a:off x="1869480" y="2792880"/>
                <a:ext cx="2664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 flipH="1" flipV="1">
                <a:off x="2325240" y="2498400"/>
                <a:ext cx="103680" cy="756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1064520" y="1459440"/>
                <a:ext cx="93240" cy="864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 flipH="1">
                <a:off x="2358720" y="1591920"/>
                <a:ext cx="108000" cy="662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925200" y="1659600"/>
                <a:ext cx="114840" cy="579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 flipV="1">
                <a:off x="944280" y="2418120"/>
                <a:ext cx="111960" cy="637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 flipV="1">
                <a:off x="1033560" y="2530440"/>
                <a:ext cx="98640" cy="824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 flipV="1">
                <a:off x="1364760" y="2746080"/>
                <a:ext cx="51480" cy="1173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 flipH="1">
                <a:off x="2433600" y="1779840"/>
                <a:ext cx="121680" cy="417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1052280" y="1474200"/>
                <a:ext cx="95760" cy="838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 flipH="1">
                <a:off x="2186640" y="1363320"/>
                <a:ext cx="79560" cy="997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1464840" y="1207800"/>
                <a:ext cx="36360" cy="1227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flipH="1" flipV="1">
                <a:off x="2168280" y="2657880"/>
                <a:ext cx="75600" cy="1015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928080" y="1659600"/>
                <a:ext cx="113400" cy="579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1033560" y="1494720"/>
                <a:ext cx="98640" cy="806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 flipH="1" flipV="1">
                <a:off x="2048040" y="2730960"/>
                <a:ext cx="55440" cy="1159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843840" y="1923120"/>
                <a:ext cx="125640" cy="187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 flipV="1">
                <a:off x="1473120" y="2781000"/>
                <a:ext cx="36360" cy="121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 flipV="1">
                <a:off x="1077840" y="2575080"/>
                <a:ext cx="94680" cy="903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 flipV="1">
                <a:off x="1185120" y="2655000"/>
                <a:ext cx="75240" cy="1026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 flipH="1" flipV="1">
                <a:off x="2229120" y="2606040"/>
                <a:ext cx="86400" cy="94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 flipH="1">
                <a:off x="1836720" y="1183320"/>
                <a:ext cx="2016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 flipH="1" flipV="1">
                <a:off x="2303280" y="2526480"/>
                <a:ext cx="100080" cy="824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1464840" y="1207800"/>
                <a:ext cx="34920" cy="1227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 flipH="1" flipV="1">
                <a:off x="2431800" y="2289960"/>
                <a:ext cx="123120" cy="388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892800" y="1735560"/>
                <a:ext cx="119880" cy="471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 flipH="1">
                <a:off x="2071800" y="1275120"/>
                <a:ext cx="60840" cy="1148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839880" y="1947600"/>
                <a:ext cx="125640" cy="144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flipV="1">
                <a:off x="1156680" y="2637720"/>
                <a:ext cx="79560" cy="97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 flipV="1">
                <a:off x="1336320" y="2734560"/>
                <a:ext cx="55440" cy="1148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 flipH="1">
                <a:off x="1820520" y="1179360"/>
                <a:ext cx="18720" cy="1270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 flipV="1">
                <a:off x="837360" y="2134440"/>
                <a:ext cx="128160" cy="122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 flipV="1">
                <a:off x="852120" y="2203200"/>
                <a:ext cx="124200" cy="244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1023840" y="1508040"/>
                <a:ext cx="99720" cy="781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 flipH="1">
                <a:off x="2446560" y="1835640"/>
                <a:ext cx="124200" cy="309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 flipH="1" flipV="1">
                <a:off x="1928520" y="2778120"/>
                <a:ext cx="36360" cy="1231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 flipH="1" flipV="1">
                <a:off x="1893600" y="2786040"/>
                <a:ext cx="3096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912960" y="1688040"/>
                <a:ext cx="115920" cy="540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 flipV="1">
                <a:off x="1504080" y="2786040"/>
                <a:ext cx="2952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 flipH="1" flipV="1">
                <a:off x="1902960" y="2784600"/>
                <a:ext cx="3240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 flipH="1" flipV="1">
                <a:off x="1919520" y="2780640"/>
                <a:ext cx="3240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 flipH="1" flipV="1">
                <a:off x="1919160" y="2781000"/>
                <a:ext cx="33480" cy="121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 flipV="1">
                <a:off x="1713960" y="2809080"/>
                <a:ext cx="1080" cy="1256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1600200" y="1179360"/>
                <a:ext cx="17640" cy="1270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 flipH="1" flipV="1">
                <a:off x="2008080" y="2750040"/>
                <a:ext cx="48600" cy="1188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 flipH="1" flipV="1">
                <a:off x="2016720" y="2746080"/>
                <a:ext cx="51120" cy="1159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 flipH="1" flipV="1">
                <a:off x="2008080" y="2750040"/>
                <a:ext cx="48600" cy="1188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 flipH="1" flipV="1">
                <a:off x="2007360" y="2750040"/>
                <a:ext cx="49680" cy="1188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 flipV="1">
                <a:off x="1040400" y="2538720"/>
                <a:ext cx="97200" cy="824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 flipH="1">
                <a:off x="2470680" y="2046600"/>
                <a:ext cx="125640" cy="10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 flipH="1">
                <a:off x="2140920" y="1326960"/>
                <a:ext cx="74520" cy="103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1697760" y="1171440"/>
                <a:ext cx="2520" cy="1285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 flipH="1">
                <a:off x="2470680" y="2047680"/>
                <a:ext cx="125640" cy="14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 flipH="1">
                <a:off x="1796400" y="1177920"/>
                <a:ext cx="14400" cy="1256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 flipH="1">
                <a:off x="2395440" y="1667520"/>
                <a:ext cx="113760" cy="554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 flipH="1">
                <a:off x="2470680" y="2054520"/>
                <a:ext cx="125640" cy="14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 flipH="1" flipV="1">
                <a:off x="2204280" y="2626560"/>
                <a:ext cx="83880" cy="982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1036080" y="1491840"/>
                <a:ext cx="97200" cy="824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 flipH="1">
                <a:off x="2328840" y="1541880"/>
                <a:ext cx="104040" cy="727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 flipH="1">
                <a:off x="2147400" y="1330920"/>
                <a:ext cx="71640" cy="1040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837360" y="1974600"/>
                <a:ext cx="127080" cy="104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 flipH="1">
                <a:off x="2391120" y="1659600"/>
                <a:ext cx="113400" cy="579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 flipH="1">
                <a:off x="2147760" y="1330920"/>
                <a:ext cx="72720" cy="1040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 flipH="1" flipV="1">
                <a:off x="2031480" y="2739240"/>
                <a:ext cx="52560" cy="1159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945360" y="1625760"/>
                <a:ext cx="110880" cy="608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1009080" y="1526760"/>
                <a:ext cx="102600" cy="756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1013040" y="1521720"/>
                <a:ext cx="102960" cy="76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 flipH="1" flipV="1">
                <a:off x="1943280" y="2774160"/>
                <a:ext cx="37800" cy="1202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 flipH="1" flipV="1">
                <a:off x="1972080" y="2763360"/>
                <a:ext cx="43200" cy="121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 flipV="1">
                <a:off x="1095480" y="2590200"/>
                <a:ext cx="89280" cy="892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 flipV="1">
                <a:off x="1145880" y="2630880"/>
                <a:ext cx="82440" cy="957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 flipH="1" flipV="1">
                <a:off x="2296800" y="2534760"/>
                <a:ext cx="100080" cy="795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841320" y="1934280"/>
                <a:ext cx="127080" cy="16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988560" y="1555200"/>
                <a:ext cx="104040" cy="716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 flipV="1">
                <a:off x="1640880" y="2805120"/>
                <a:ext cx="10440" cy="1285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907920" y="1701360"/>
                <a:ext cx="115920" cy="49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 flipV="1">
                <a:off x="1132200" y="2618640"/>
                <a:ext cx="83520" cy="957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1228320" y="1318680"/>
                <a:ext cx="68760" cy="1069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 flipH="1">
                <a:off x="2367000" y="1609200"/>
                <a:ext cx="109440" cy="619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 flipH="1">
                <a:off x="1847520" y="1185840"/>
                <a:ext cx="2160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 flipH="1" flipV="1">
                <a:off x="2442600" y="2254680"/>
                <a:ext cx="124200" cy="352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 flipH="1">
                <a:off x="2161440" y="1343160"/>
                <a:ext cx="75600" cy="1026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 flipH="1" flipV="1">
                <a:off x="2095200" y="2706480"/>
                <a:ext cx="64800" cy="1105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 flipV="1">
                <a:off x="986040" y="2477520"/>
                <a:ext cx="105480" cy="716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1644840" y="1173600"/>
                <a:ext cx="10440" cy="1285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925200" y="1663560"/>
                <a:ext cx="114840" cy="554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 flipV="1">
                <a:off x="869760" y="2266920"/>
                <a:ext cx="122760" cy="349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 flipH="1">
                <a:off x="2069280" y="1275120"/>
                <a:ext cx="59760" cy="1119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 flipH="1" flipV="1">
                <a:off x="1863360" y="2793960"/>
                <a:ext cx="2556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1540440" y="1189800"/>
                <a:ext cx="2448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833400" y="2022120"/>
                <a:ext cx="128160" cy="39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 flipV="1">
                <a:off x="929160" y="2395080"/>
                <a:ext cx="114840" cy="594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 flipV="1">
                <a:off x="1023840" y="2521080"/>
                <a:ext cx="99720" cy="795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 flipH="1" flipV="1">
                <a:off x="2404800" y="2361600"/>
                <a:ext cx="115920" cy="49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 flipH="1" flipV="1">
                <a:off x="2407320" y="2354400"/>
                <a:ext cx="117720" cy="514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885960" y="1751400"/>
                <a:ext cx="121680" cy="435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 flipV="1">
                <a:off x="1036080" y="2534760"/>
                <a:ext cx="97200" cy="824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1172880" y="1359360"/>
                <a:ext cx="76680" cy="997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 flipH="1" flipV="1">
                <a:off x="2327760" y="2495520"/>
                <a:ext cx="103680" cy="756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 flipH="1">
                <a:off x="2192400" y="1370160"/>
                <a:ext cx="82440" cy="997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 flipV="1">
                <a:off x="1152360" y="2634840"/>
                <a:ext cx="80640" cy="986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 flipH="1">
                <a:off x="1885680" y="1194120"/>
                <a:ext cx="2952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1001160" y="1537920"/>
                <a:ext cx="102600" cy="756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999360" y="1539000"/>
                <a:ext cx="104040" cy="756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837360" y="1969200"/>
                <a:ext cx="127080" cy="122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 flipV="1">
                <a:off x="1252440" y="2697120"/>
                <a:ext cx="67680" cy="1080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 flipV="1">
                <a:off x="1140120" y="2625480"/>
                <a:ext cx="83520" cy="97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 flipH="1">
                <a:off x="2119320" y="1307880"/>
                <a:ext cx="68760" cy="1080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 flipH="1" flipV="1">
                <a:off x="1805760" y="2802600"/>
                <a:ext cx="17280" cy="1267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 flipH="1">
                <a:off x="1771920" y="1173600"/>
                <a:ext cx="9360" cy="1285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911880" y="1692000"/>
                <a:ext cx="115920" cy="540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1492200" y="1199520"/>
                <a:ext cx="3204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1469160" y="1206360"/>
                <a:ext cx="34920" cy="121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 flipV="1">
                <a:off x="839880" y="2146320"/>
                <a:ext cx="125640" cy="16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 flipV="1">
                <a:off x="898200" y="2338560"/>
                <a:ext cx="118800" cy="475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 flipV="1">
                <a:off x="1001160" y="2495520"/>
                <a:ext cx="102600" cy="741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 flipV="1">
                <a:off x="1001160" y="2495520"/>
                <a:ext cx="103680" cy="756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 flipH="1" flipV="1">
                <a:off x="2356200" y="2450880"/>
                <a:ext cx="110880" cy="67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 flipH="1">
                <a:off x="2417040" y="1729800"/>
                <a:ext cx="118800" cy="457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 flipH="1">
                <a:off x="2291400" y="1483560"/>
                <a:ext cx="97200" cy="824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 flipH="1">
                <a:off x="1908720" y="1199520"/>
                <a:ext cx="3240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868320" y="1810800"/>
                <a:ext cx="121680" cy="352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 flipH="1" flipV="1">
                <a:off x="1823400" y="2800800"/>
                <a:ext cx="17280" cy="1256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 flipH="1">
                <a:off x="2354760" y="1584000"/>
                <a:ext cx="108000" cy="673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1060560" y="1463400"/>
                <a:ext cx="93240" cy="864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 flipH="1">
                <a:off x="2470680" y="2043720"/>
                <a:ext cx="125640" cy="25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 flipV="1">
                <a:off x="868320" y="2262960"/>
                <a:ext cx="121680" cy="352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 flipH="1" flipV="1">
                <a:off x="2211840" y="2625480"/>
                <a:ext cx="83520" cy="957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1597320" y="1179360"/>
                <a:ext cx="16200" cy="1270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1464840" y="1207800"/>
                <a:ext cx="36360" cy="1227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841320" y="1927440"/>
                <a:ext cx="127080" cy="183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 flipV="1">
                <a:off x="872640" y="2277720"/>
                <a:ext cx="122760" cy="374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 flipV="1">
                <a:off x="907920" y="2357640"/>
                <a:ext cx="117360" cy="49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 flipV="1">
                <a:off x="948240" y="2424960"/>
                <a:ext cx="111960" cy="619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 flipV="1">
                <a:off x="1179360" y="2651040"/>
                <a:ext cx="76680" cy="1026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 flipV="1">
                <a:off x="1183680" y="2655000"/>
                <a:ext cx="76680" cy="1026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 flipV="1">
                <a:off x="1559520" y="2796840"/>
                <a:ext cx="2160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 flipV="1">
                <a:off x="1693440" y="2809080"/>
                <a:ext cx="3960" cy="1256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 flipH="1" flipV="1">
                <a:off x="2096640" y="2706480"/>
                <a:ext cx="63360" cy="1105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 flipH="1" flipV="1">
                <a:off x="2388240" y="2395080"/>
                <a:ext cx="114840" cy="579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 flipH="1">
                <a:off x="2450520" y="1851840"/>
                <a:ext cx="124200" cy="295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 flipH="1">
                <a:off x="2316960" y="1521720"/>
                <a:ext cx="102960" cy="76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 flipH="1">
                <a:off x="2096640" y="1291680"/>
                <a:ext cx="63360" cy="1108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 flipH="1">
                <a:off x="2061000" y="1270080"/>
                <a:ext cx="57960" cy="1134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 flipH="1">
                <a:off x="2028960" y="1251000"/>
                <a:ext cx="54000" cy="1159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 flipH="1">
                <a:off x="2178720" y="1355040"/>
                <a:ext cx="76680" cy="1029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 flipH="1" flipV="1">
                <a:off x="2208960" y="2625480"/>
                <a:ext cx="83520" cy="957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 flipV="1">
                <a:off x="835920" y="2093400"/>
                <a:ext cx="125640" cy="54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 flipH="1">
                <a:off x="2341440" y="1562040"/>
                <a:ext cx="106560" cy="716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972360" y="1578240"/>
                <a:ext cx="108000" cy="687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945360" y="1621800"/>
                <a:ext cx="111960" cy="619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 flipV="1">
                <a:off x="1280880" y="2710800"/>
                <a:ext cx="63360" cy="1108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 flipV="1">
                <a:off x="1127880" y="2617200"/>
                <a:ext cx="83880" cy="932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 flipH="1">
                <a:off x="2174760" y="1353960"/>
                <a:ext cx="77040" cy="1015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1688040" y="1171440"/>
                <a:ext cx="3960" cy="1285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1552680" y="1187640"/>
                <a:ext cx="2268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1521720" y="1194120"/>
                <a:ext cx="2952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1383840" y="1235880"/>
                <a:ext cx="48600" cy="1188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 flipV="1">
                <a:off x="843840" y="2166840"/>
                <a:ext cx="125640" cy="201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 flipV="1">
                <a:off x="845640" y="2178720"/>
                <a:ext cx="126720" cy="22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 flipV="1">
                <a:off x="857520" y="2227680"/>
                <a:ext cx="124200" cy="309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 flipV="1">
                <a:off x="905040" y="2353320"/>
                <a:ext cx="118800" cy="486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 flipV="1">
                <a:off x="928080" y="2391120"/>
                <a:ext cx="113400" cy="579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 flipV="1">
                <a:off x="928080" y="2393640"/>
                <a:ext cx="113400" cy="565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 flipV="1">
                <a:off x="1013040" y="2510280"/>
                <a:ext cx="102960" cy="770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 flipV="1">
                <a:off x="1015560" y="2512800"/>
                <a:ext cx="100080" cy="76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 flipV="1">
                <a:off x="1015560" y="2512800"/>
                <a:ext cx="101520" cy="76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 flipV="1">
                <a:off x="1015560" y="2512800"/>
                <a:ext cx="101520" cy="76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 flipV="1">
                <a:off x="1023840" y="2521080"/>
                <a:ext cx="99720" cy="795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 flipV="1">
                <a:off x="1189080" y="2659320"/>
                <a:ext cx="78480" cy="1029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 flipV="1">
                <a:off x="1191960" y="2658960"/>
                <a:ext cx="75600" cy="1040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 flipV="1">
                <a:off x="1191960" y="2661840"/>
                <a:ext cx="75600" cy="1015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 flipV="1">
                <a:off x="1193040" y="2661480"/>
                <a:ext cx="75600" cy="1040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 flipV="1">
                <a:off x="1352520" y="2741400"/>
                <a:ext cx="52560" cy="1162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 flipV="1">
                <a:off x="1504080" y="2786040"/>
                <a:ext cx="2952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 flipH="1" flipV="1">
                <a:off x="1743480" y="2809080"/>
                <a:ext cx="5040" cy="1256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 flipH="1" flipV="1">
                <a:off x="1851480" y="2796840"/>
                <a:ext cx="2412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 flipH="1" flipV="1">
                <a:off x="2016360" y="2746080"/>
                <a:ext cx="52200" cy="1159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 flipH="1" flipV="1">
                <a:off x="2071800" y="2718360"/>
                <a:ext cx="60840" cy="1119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 flipH="1" flipV="1">
                <a:off x="2129040" y="2683800"/>
                <a:ext cx="71280" cy="1094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 flipH="1" flipV="1">
                <a:off x="2140920" y="2678040"/>
                <a:ext cx="71640" cy="1040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 flipH="1" flipV="1">
                <a:off x="2199240" y="2633400"/>
                <a:ext cx="80640" cy="997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 flipH="1" flipV="1">
                <a:off x="2233080" y="2602080"/>
                <a:ext cx="87840" cy="94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 flipH="1" flipV="1">
                <a:off x="2337480" y="2478960"/>
                <a:ext cx="106560" cy="716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 flipH="1" flipV="1">
                <a:off x="2368440" y="2433240"/>
                <a:ext cx="110880" cy="648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 flipH="1" flipV="1">
                <a:off x="2435760" y="2281320"/>
                <a:ext cx="122760" cy="363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 flipH="1" flipV="1">
                <a:off x="2458440" y="2189880"/>
                <a:ext cx="124200" cy="216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 flipH="1" flipV="1">
                <a:off x="2464200" y="2146320"/>
                <a:ext cx="127080" cy="16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 flipH="1" flipV="1">
                <a:off x="2467080" y="2117880"/>
                <a:ext cx="128160" cy="93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 flipH="1">
                <a:off x="2468520" y="2011320"/>
                <a:ext cx="128160" cy="64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 flipH="1">
                <a:off x="2454480" y="1878840"/>
                <a:ext cx="125640" cy="241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 flipH="1">
                <a:off x="2427840" y="1762560"/>
                <a:ext cx="120240" cy="43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 flipH="1">
                <a:off x="2419920" y="1733760"/>
                <a:ext cx="118800" cy="457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 flipH="1">
                <a:off x="2291400" y="1483560"/>
                <a:ext cx="97200" cy="824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 flipH="1">
                <a:off x="2061000" y="1270080"/>
                <a:ext cx="59400" cy="1134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 flipH="1">
                <a:off x="1968840" y="1222560"/>
                <a:ext cx="45720" cy="1202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880560" y="1770480"/>
                <a:ext cx="120240" cy="403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 flipH="1">
                <a:off x="2233080" y="1410480"/>
                <a:ext cx="87840" cy="932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 flipH="1">
                <a:off x="2446560" y="1831320"/>
                <a:ext cx="124200" cy="320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 flipH="1">
                <a:off x="1902960" y="1198080"/>
                <a:ext cx="32400" cy="1242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872640" y="1797480"/>
                <a:ext cx="122760" cy="363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 flipH="1" flipV="1">
                <a:off x="1807920" y="2802600"/>
                <a:ext cx="16200" cy="1267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1109160" y="1411920"/>
                <a:ext cx="87480" cy="9432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972360" y="1578240"/>
                <a:ext cx="108000" cy="687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956160" y="1607040"/>
                <a:ext cx="109440" cy="6336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 flipH="1">
                <a:off x="1796400" y="1177920"/>
                <a:ext cx="14400" cy="12564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1236240" y="1311840"/>
                <a:ext cx="68760" cy="1080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900720" y="1717560"/>
                <a:ext cx="119160" cy="4860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 flipV="1">
                <a:off x="1395720" y="2755080"/>
                <a:ext cx="44640" cy="121680"/>
              </a:xfrm>
              <a:prstGeom prst="line">
                <a:avLst/>
              </a:prstGeom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6" name=""/>
            <p:cNvGrpSpPr/>
            <p:nvPr/>
          </p:nvGrpSpPr>
          <p:grpSpPr>
            <a:xfrm>
              <a:off x="4029120" y="746280"/>
              <a:ext cx="5191200" cy="5959440"/>
              <a:chOff x="4029120" y="746280"/>
              <a:chExt cx="5191200" cy="5959440"/>
            </a:xfrm>
          </p:grpSpPr>
          <p:grpSp>
            <p:nvGrpSpPr>
              <p:cNvPr id="5127" name=""/>
              <p:cNvGrpSpPr/>
              <p:nvPr/>
            </p:nvGrpSpPr>
            <p:grpSpPr>
              <a:xfrm>
                <a:off x="4298040" y="746280"/>
                <a:ext cx="4285080" cy="1162080"/>
                <a:chOff x="4298040" y="746280"/>
                <a:chExt cx="4285080" cy="1162080"/>
              </a:xfrm>
            </p:grpSpPr>
            <p:sp>
              <p:nvSpPr>
                <p:cNvPr id="5128" name=""/>
                <p:cNvSpPr/>
                <p:nvPr/>
              </p:nvSpPr>
              <p:spPr>
                <a:xfrm>
                  <a:off x="4298040" y="1175040"/>
                  <a:ext cx="428508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move RF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- one codon available for unnatural amino acid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- Viral resistance?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9" name=""/>
                <p:cNvSpPr/>
                <p:nvPr/>
              </p:nvSpPr>
              <p:spPr>
                <a:xfrm>
                  <a:off x="4800600" y="746280"/>
                  <a:ext cx="2921040" cy="3682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. UAG stop  &gt;  UAA sto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13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029120" y="3233880"/>
                <a:ext cx="5191200" cy="3471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131" name=""/>
          <p:cNvGrpSpPr/>
          <p:nvPr/>
        </p:nvGrpSpPr>
        <p:grpSpPr>
          <a:xfrm>
            <a:off x="152280" y="871560"/>
            <a:ext cx="9068040" cy="5838120"/>
            <a:chOff x="152280" y="871560"/>
            <a:chExt cx="9068040" cy="5838120"/>
          </a:xfrm>
        </p:grpSpPr>
        <p:sp>
          <p:nvSpPr>
            <p:cNvPr id="5132" name=""/>
            <p:cNvSpPr/>
            <p:nvPr/>
          </p:nvSpPr>
          <p:spPr>
            <a:xfrm>
              <a:off x="533520" y="871560"/>
              <a:ext cx="2361960" cy="2362320"/>
            </a:xfrm>
            <a:prstGeom prst="donut">
              <a:avLst>
                <a:gd name="adj" fmla="val 625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3" name=""/>
            <p:cNvGrpSpPr/>
            <p:nvPr/>
          </p:nvGrpSpPr>
          <p:grpSpPr>
            <a:xfrm>
              <a:off x="152280" y="3233880"/>
              <a:ext cx="9068040" cy="3475800"/>
              <a:chOff x="152280" y="3233880"/>
              <a:chExt cx="9068040" cy="3475800"/>
            </a:xfrm>
          </p:grpSpPr>
          <p:sp>
            <p:nvSpPr>
              <p:cNvPr id="5134" name=""/>
              <p:cNvSpPr/>
              <p:nvPr/>
            </p:nvSpPr>
            <p:spPr>
              <a:xfrm>
                <a:off x="304920" y="5337000"/>
                <a:ext cx="306720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.  Codons: AGY Ser    &gt;  UCX S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.  tRNAs: AGY Ser &gt; AGY Le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.  Codons: UUR/CUX Leu  &gt; AGY S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.   tRNAs: UUR Leu  &gt; UUR S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.  Codons: UCX Ser  &gt;  UUR S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Leu &amp; Ser now switch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304920" y="3933720"/>
                <a:ext cx="28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RNAs: AGY (S) &gt; AGY (L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453960" y="3505320"/>
                <a:ext cx="274644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. AGY (S)  &gt;  UCX (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307800" y="4848120"/>
                <a:ext cx="28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RNAs: UUR (L) &gt; UUR (S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152280" y="4419720"/>
                <a:ext cx="350532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. UUR/CUX (L)  &gt;  AGY (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3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029120" y="3233880"/>
                <a:ext cx="5191200" cy="3471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140" name=""/>
          <p:cNvSpPr/>
          <p:nvPr/>
        </p:nvSpPr>
        <p:spPr>
          <a:xfrm>
            <a:off x="960480" y="1298520"/>
            <a:ext cx="1508040" cy="15080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20:15:39Z</dcterms:created>
  <dc:creator>Peter Carr</dc:creator>
  <dc:description/>
  <dc:language>en-US</dc:language>
  <cp:lastModifiedBy>Peter Carr</cp:lastModifiedBy>
  <dcterms:modified xsi:type="dcterms:W3CDTF">2006-10-11T21:48:34Z</dcterms:modified>
  <cp:revision>6</cp:revision>
  <dc:subject/>
  <dc:title>PowerPoint Presentation</dc:title>
</cp:coreProperties>
</file>