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ct" ContentType="image/x-pict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72A2-C31A-432E-A5A8-2BF6FEBB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2048-0E99-49C8-950B-700326476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5820-33A6-4E82-8800-A216E859A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D2D4-88D9-4BBF-8DF0-B37A27879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9810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77BF-D4B5-4DF0-A426-55EB8E80E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100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00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522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4100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00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B476-A579-48EC-A9A5-52C4EAA525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9810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4100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30080" y="53352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522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4100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30080" y="3836880"/>
            <a:ext cx="284616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FD78-DBD1-4235-ACEC-533C47659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B5D5-3626-4A99-BA58-EA37DBAE3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9810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D1A3-051E-4411-AEB6-A0C257D68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C380-253D-492C-9EAE-AC11F2215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83688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4989-16A4-4EB8-A15C-1AA6F874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533520"/>
            <a:ext cx="431352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836880"/>
            <a:ext cx="8839440" cy="301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8B8A-768E-4B4A-B2C3-32EC10B64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BC8-71B5-47A7-B630-77C996A64C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858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30680" y="1333440"/>
            <a:ext cx="3635280" cy="421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0560" y="1333440"/>
            <a:ext cx="4064040" cy="41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4749-1084-4888-BDB8-F03A162ABA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70000" y="932040"/>
            <a:ext cx="4991040" cy="49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78D0-4D14-444C-AC3C-04BA6DE8C6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200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6B5D-0045-42F5-9453-B536F20EFA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6868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replicating machines - 7 states per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Macintosh HD:Users:saul:presentations:MIT_CBA_2006.ppt_media:mechrep_cd-2.mov" descr=""/>
          <p:cNvPicPr/>
          <p:nvPr/>
        </p:nvPicPr>
        <p:blipFill>
          <a:blip r:embed="rId1"/>
          <a:stretch/>
        </p:blipFill>
        <p:spPr>
          <a:xfrm>
            <a:off x="317520" y="162576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22" name="Macintosh HD:Users:saul:presentations:MIT_CBA_2006.ppt_media:rep5mer-2.mov" descr=""/>
          <p:cNvPicPr/>
          <p:nvPr/>
        </p:nvPicPr>
        <p:blipFill>
          <a:blip r:embed="rId2"/>
          <a:stretch/>
        </p:blipFill>
        <p:spPr>
          <a:xfrm>
            <a:off x="4699080" y="162576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Macintosh HD:Users:saul:presentations:MIT_CBA_2006.ppt_media:fmit-4.mov" descr=""/>
          <p:cNvPicPr/>
          <p:nvPr/>
        </p:nvPicPr>
        <p:blipFill>
          <a:blip r:embed="rId1"/>
          <a:stretch/>
        </p:blipFill>
        <p:spPr>
          <a:xfrm>
            <a:off x="203040" y="67320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65280" y="4216320"/>
            <a:ext cx="1338120" cy="2146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84600" y="469800"/>
            <a:ext cx="4241880" cy="6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384800" y="2717640"/>
            <a:ext cx="447984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304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d arbitrary 3D objects, program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6520" y="620640"/>
            <a:ext cx="3822840" cy="2884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47800" y="3657600"/>
            <a:ext cx="1971720" cy="311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68280" y="609480"/>
            <a:ext cx="3801960" cy="2921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016600" y="3695760"/>
            <a:ext cx="309888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Macintosh HD:Users:saul:presentations:MIT_CBA_2006.ppt_media:SphereS-2.mov" descr=""/>
          <p:cNvPicPr/>
          <p:nvPr/>
        </p:nvPicPr>
        <p:blipFill>
          <a:blip r:embed="rId1"/>
          <a:stretch/>
        </p:blipFill>
        <p:spPr>
          <a:xfrm>
            <a:off x="1536840" y="119376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 g</dc:creator>
  <dc:description/>
  <dc:language>en-US</dc:language>
  <cp:lastModifiedBy>s G</cp:lastModifiedBy>
  <dcterms:modified xsi:type="dcterms:W3CDTF">2006-10-12T12:16:24Z</dcterms:modified>
  <cp:revision>1</cp:revision>
  <dc:subject/>
  <dc:title>ifabricate</dc:title>
</cp:coreProperties>
</file>