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6.png" ContentType="image/png"/>
  <Override PartName="/ppt/media/image20.wmf" ContentType="image/x-wmf"/>
  <Override PartName="/ppt/media/image22.jpeg" ContentType="image/jpeg"/>
  <Override PartName="/ppt/media/image1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370-AD1F-4165-86BF-1AC23395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04B-05EB-48B2-889C-C3DFD189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1A0-3266-4B3F-8685-898F7C13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0F6-D0C2-44CD-8914-310B0420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6E8-3954-4068-9C00-783899EB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D8D-EAAE-49E9-8A58-6953C809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D57-63EF-4DCC-BE10-0E17D874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59D-D90E-417A-B12F-DFA9BC5A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F9E-751C-4F5D-B7C9-D0D92165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036-6A79-4DF4-99C2-E20EF52D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B9F-FB67-4F66-9F53-DFFC2ADA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C79-7C1D-4F35-89DF-EB53AD05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8FF6-BBEB-44D2-AD6C-7352EA3F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hyperlink" Target="http://cba.mit.edu/media/logos/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hyperlink" Target="http://www.sciam.com/subscribe.cfm?lsource=toc_current" TargetMode="External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00800"/>
            <a:ext cx="9144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NSF-CBA Program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MIT Cambridge, MA  October 12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07920"/>
            <a:ext cx="91440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  <a:ea typeface="Arial"/>
              </a:rPr>
              <a:t>Avogadro Scale Engineering &amp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  <a:ea typeface="Arial"/>
              </a:rPr>
              <a:t>Fabricational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olecular Machine (Jacobson) Group jacobson@media.mit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0"/>
            <a:ext cx="350532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00400" y="2438280"/>
            <a:ext cx="2887560" cy="28958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295280" y="76320"/>
            <a:ext cx="1293120" cy="767160"/>
            <a:chOff x="1295280" y="76320"/>
            <a:chExt cx="1293120" cy="767160"/>
          </a:xfrm>
        </p:grpSpPr>
        <p:sp>
          <p:nvSpPr>
            <p:cNvPr id="48" name=""/>
            <p:cNvSpPr/>
            <p:nvPr/>
          </p:nvSpPr>
          <p:spPr>
            <a:xfrm>
              <a:off x="1295280" y="366840"/>
              <a:ext cx="5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46280" y="76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43160" y="366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85440" y="2620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17600" y="1635120"/>
            <a:ext cx="591840" cy="563040"/>
            <a:chOff x="417600" y="1635120"/>
            <a:chExt cx="591840" cy="563040"/>
          </a:xfrm>
        </p:grpSpPr>
        <p:sp>
          <p:nvSpPr>
            <p:cNvPr id="53" name=""/>
            <p:cNvSpPr/>
            <p:nvPr/>
          </p:nvSpPr>
          <p:spPr>
            <a:xfrm>
              <a:off x="417600" y="1918800"/>
              <a:ext cx="124920" cy="122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01840" y="1948680"/>
              <a:ext cx="162360" cy="25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1480" y="1834920"/>
              <a:ext cx="248760" cy="244080"/>
            </a:xfrm>
            <a:prstGeom prst="ellipse">
              <a:avLst/>
            </a:prstGeom>
            <a:gradFill rotWithShape="0">
              <a:gsLst>
                <a:gs pos="0">
                  <a:srgbClr val="b9b9ec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6400" y="1721160"/>
              <a:ext cx="0" cy="14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801720" y="1987200"/>
              <a:ext cx="141480" cy="777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55840" y="2010960"/>
              <a:ext cx="98640" cy="1209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360" y="2075760"/>
              <a:ext cx="124560" cy="122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4880" y="2010240"/>
              <a:ext cx="124560" cy="1216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3040" y="1635120"/>
              <a:ext cx="124920" cy="122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3120" y="825480"/>
            <a:ext cx="1201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 molec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1n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6040" y="5721480"/>
            <a:ext cx="19224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PowerPC 75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cro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6mm×8.799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5×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4320" y="5256360"/>
            <a:ext cx="1411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iconduc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5760" y="2900520"/>
            <a:ext cx="8628120" cy="672120"/>
            <a:chOff x="185760" y="2900520"/>
            <a:chExt cx="8628120" cy="672120"/>
          </a:xfrm>
        </p:grpSpPr>
        <p:grpSp>
          <p:nvGrpSpPr>
            <p:cNvPr id="66" name=""/>
            <p:cNvGrpSpPr/>
            <p:nvPr/>
          </p:nvGrpSpPr>
          <p:grpSpPr>
            <a:xfrm>
              <a:off x="363600" y="2900520"/>
              <a:ext cx="8450280" cy="245880"/>
              <a:chOff x="363600" y="2900520"/>
              <a:chExt cx="8450280" cy="245880"/>
            </a:xfrm>
          </p:grpSpPr>
          <p:sp>
            <p:nvSpPr>
              <p:cNvPr id="67" name=""/>
              <p:cNvSpPr/>
              <p:nvPr/>
            </p:nvSpPr>
            <p:spPr>
              <a:xfrm>
                <a:off x="363600" y="3023280"/>
                <a:ext cx="845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2120" rIns="132120" tIns="-65880" bIns="-65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363600" y="2900520"/>
                <a:ext cx="7801920" cy="245880"/>
                <a:chOff x="363600" y="2900520"/>
                <a:chExt cx="7801920" cy="2458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6360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33812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8788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26456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3908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21396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18884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16552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31300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" name=""/>
            <p:cNvGrpSpPr/>
            <p:nvPr/>
          </p:nvGrpSpPr>
          <p:grpSpPr>
            <a:xfrm>
              <a:off x="185760" y="3164040"/>
              <a:ext cx="8272440" cy="408600"/>
              <a:chOff x="185760" y="3164040"/>
              <a:chExt cx="8272440" cy="408600"/>
            </a:xfrm>
          </p:grpSpPr>
          <p:sp>
            <p:nvSpPr>
              <p:cNvPr id="79" name=""/>
              <p:cNvSpPr/>
              <p:nvPr/>
            </p:nvSpPr>
            <p:spPr>
              <a:xfrm>
                <a:off x="185760" y="3164040"/>
                <a:ext cx="7092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9881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2020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9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963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442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470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93388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7888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267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8253360" y="2602080"/>
            <a:ext cx="439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118800" tIns="59400" bIns="59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01680" y="5256360"/>
            <a:ext cx="1270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per wi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 0.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36440" y="527040"/>
            <a:ext cx="12337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(S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04960" y="816120"/>
            <a:ext cx="857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3480" y="2257560"/>
            <a:ext cx="806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2160" y="2293920"/>
            <a:ext cx="0" cy="687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030400"/>
            <a:ext cx="0" cy="950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454880" y="3057480"/>
            <a:ext cx="676440" cy="979200"/>
            <a:chOff x="7454880" y="3057480"/>
            <a:chExt cx="676440" cy="979200"/>
          </a:xfrm>
        </p:grpSpPr>
        <p:sp>
          <p:nvSpPr>
            <p:cNvPr id="96" name=""/>
            <p:cNvSpPr/>
            <p:nvPr/>
          </p:nvSpPr>
          <p:spPr>
            <a:xfrm flipV="1">
              <a:off x="7460640" y="3057480"/>
              <a:ext cx="0" cy="979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54880" y="4036680"/>
              <a:ext cx="676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rcRect l="0" t="0" r="5082" b="0"/>
          <a:stretch/>
        </p:blipFill>
        <p:spPr>
          <a:xfrm>
            <a:off x="3516480" y="649440"/>
            <a:ext cx="1698480" cy="14335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4751280" y="2346480"/>
            <a:ext cx="1101600" cy="634680"/>
            <a:chOff x="4751280" y="2346480"/>
            <a:chExt cx="1101600" cy="634680"/>
          </a:xfrm>
        </p:grpSpPr>
        <p:sp>
          <p:nvSpPr>
            <p:cNvPr id="100" name=""/>
            <p:cNvSpPr/>
            <p:nvPr/>
          </p:nvSpPr>
          <p:spPr>
            <a:xfrm>
              <a:off x="4766040" y="2346480"/>
              <a:ext cx="0" cy="63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51280" y="2356560"/>
              <a:ext cx="11016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622880" y="5637240"/>
            <a:ext cx="178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tube 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kk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95320" y="2295360"/>
            <a:ext cx="952200" cy="685800"/>
            <a:chOff x="1795320" y="2295360"/>
            <a:chExt cx="952200" cy="685800"/>
          </a:xfrm>
        </p:grpSpPr>
        <p:sp>
          <p:nvSpPr>
            <p:cNvPr id="104" name=""/>
            <p:cNvSpPr/>
            <p:nvPr/>
          </p:nvSpPr>
          <p:spPr>
            <a:xfrm>
              <a:off x="1803600" y="229536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95320" y="2295360"/>
              <a:ext cx="952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658960" y="898560"/>
            <a:ext cx="704880" cy="18828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208160" y="3102480"/>
            <a:ext cx="674640" cy="978840"/>
            <a:chOff x="1208160" y="3102480"/>
            <a:chExt cx="674640" cy="978840"/>
          </a:xfrm>
        </p:grpSpPr>
        <p:sp>
          <p:nvSpPr>
            <p:cNvPr id="108" name=""/>
            <p:cNvSpPr/>
            <p:nvPr/>
          </p:nvSpPr>
          <p:spPr>
            <a:xfrm flipV="1">
              <a:off x="1877040" y="3102480"/>
              <a:ext cx="0" cy="9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208160" y="4081320"/>
              <a:ext cx="674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17360" y="3716280"/>
            <a:ext cx="1389240" cy="1443240"/>
            <a:chOff x="117360" y="3716280"/>
            <a:chExt cx="1389240" cy="144324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rcRect l="9399" t="8175" r="9399" b="11321"/>
            <a:stretch/>
          </p:blipFill>
          <p:spPr>
            <a:xfrm>
              <a:off x="117360" y="3716280"/>
              <a:ext cx="138924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34520" y="3816000"/>
              <a:ext cx="78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V="1">
            <a:off x="2757600" y="3076200"/>
            <a:ext cx="0" cy="1436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rcRect l="31563" t="0" r="30481" b="0"/>
          <a:stretch/>
        </p:blipFill>
        <p:spPr>
          <a:xfrm>
            <a:off x="7499520" y="3649680"/>
            <a:ext cx="1617480" cy="2092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0" t="0" r="16303" b="7605"/>
          <a:stretch/>
        </p:blipFill>
        <p:spPr>
          <a:xfrm>
            <a:off x="5438880" y="1030320"/>
            <a:ext cx="1677960" cy="142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657440" y="1636560"/>
            <a:ext cx="912600" cy="885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4400"/>
            <a:ext cx="91440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Complexity vs.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rcRect l="11949" t="0" r="22303" b="0"/>
          <a:stretch/>
        </p:blipFill>
        <p:spPr>
          <a:xfrm>
            <a:off x="4157640" y="3490920"/>
            <a:ext cx="1749600" cy="1290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840280" y="3797280"/>
            <a:ext cx="1265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I 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 0.1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646440" y="3066120"/>
            <a:ext cx="956880" cy="2499120"/>
            <a:chOff x="3646440" y="3066120"/>
            <a:chExt cx="956880" cy="2499120"/>
          </a:xfrm>
        </p:grpSpPr>
        <p:grpSp>
          <p:nvGrpSpPr>
            <p:cNvPr id="121" name=""/>
            <p:cNvGrpSpPr/>
            <p:nvPr/>
          </p:nvGrpSpPr>
          <p:grpSpPr>
            <a:xfrm>
              <a:off x="3646440" y="3066120"/>
              <a:ext cx="956880" cy="2499120"/>
              <a:chOff x="3646440" y="3066120"/>
              <a:chExt cx="956880" cy="2499120"/>
            </a:xfrm>
          </p:grpSpPr>
          <p:sp>
            <p:nvSpPr>
              <p:cNvPr id="122" name=""/>
              <p:cNvSpPr/>
              <p:nvPr/>
            </p:nvSpPr>
            <p:spPr>
              <a:xfrm flipV="1">
                <a:off x="3654720" y="3066120"/>
                <a:ext cx="0" cy="2499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46440" y="5565240"/>
                <a:ext cx="95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668040" y="4267080"/>
              <a:ext cx="436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610760" y="566640"/>
            <a:ext cx="7063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486400" y="2637000"/>
            <a:ext cx="2013120" cy="344160"/>
            <a:chOff x="5486400" y="2637000"/>
            <a:chExt cx="2013120" cy="344160"/>
          </a:xfrm>
        </p:grpSpPr>
        <p:sp>
          <p:nvSpPr>
            <p:cNvPr id="127" name=""/>
            <p:cNvSpPr/>
            <p:nvPr/>
          </p:nvSpPr>
          <p:spPr>
            <a:xfrm>
              <a:off x="5490360" y="2637000"/>
              <a:ext cx="0" cy="34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486400" y="2642040"/>
              <a:ext cx="2013120" cy="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7372440" y="1089000"/>
            <a:ext cx="1122120" cy="161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rcRect l="0" t="0" r="5019" b="4910"/>
          <a:stretch/>
        </p:blipFill>
        <p:spPr>
          <a:xfrm>
            <a:off x="4245120" y="4819680"/>
            <a:ext cx="1476360" cy="1789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1676520" y="4419720"/>
            <a:ext cx="1828800" cy="104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38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hemical Synthesis</a:t>
            </a:r>
            <a:br>
              <a:rPr sz="36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Solid Phase Synth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NA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3244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med.upenn.edu/naf/services/catalog99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7200" y="1704960"/>
            <a:ext cx="167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2870280"/>
            <a:ext cx="2525760" cy="2644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091240" y="1743120"/>
            <a:ext cx="1960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819520" y="2543040"/>
            <a:ext cx="1447560" cy="3124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21280" y="6548400"/>
            <a:ext cx="504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hem.ucl.ac.uk/bsm/xtal/teach/repl/klenow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324480" y="2467080"/>
            <a:ext cx="2667240" cy="169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62720" y="4143240"/>
            <a:ext cx="2743200" cy="1625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78560" y="5715000"/>
            <a:ext cx="341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'-5' proofreading exonuc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181480" y="2543040"/>
            <a:ext cx="1138320" cy="1524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088040" y="1725480"/>
            <a:ext cx="197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Steps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46120" y="6302520"/>
            <a:ext cx="50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1993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352-355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638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iological Synthesis</a:t>
            </a:r>
            <a:br>
              <a:rPr sz="36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Error Correcting Polymer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6600" y="1725480"/>
            <a:ext cx="167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1600200"/>
            <a:ext cx="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05120" y="2514600"/>
            <a:ext cx="624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] Quantum Phase Sp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] Error Correcting Fabr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] Fault Tolerant Hardware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] Fault Tolerant Software or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762120"/>
            <a:ext cx="789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which increase the complexity of a system exponentially with a linear addi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4280" y="144360"/>
            <a:ext cx="77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Resources for Exponential Sc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29040" y="1828800"/>
                <a:ext cx="2705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76320" y="0"/>
            <a:ext cx="90676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Complexity Per Unit 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" y="12952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I]Non Error Correc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77400" y="25909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II] Triply Error Correc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447920" y="3124080"/>
                <a:ext cx="5790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B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7396200" y="175248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62400" y="175248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19960" y="175248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708040" y="175248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29680" y="259092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95880" y="259092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53440" y="259092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41520" y="259092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05920" y="312408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71760" y="312408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29680" y="312408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17400" y="312408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05920" y="365760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71760" y="365760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29680" y="365760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717400" y="365760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2514600" cy="1990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81600" y="43830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31000" y="632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0" y="4648320"/>
                <a:ext cx="83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B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8079120" y="632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29400" y="4703760"/>
            <a:ext cx="2514600" cy="1544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935840" y="4343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29000" y="4403880"/>
            <a:ext cx="3124080" cy="192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478560" y="4800600"/>
                <a:ext cx="83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B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1906920" y="632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6760" y="44197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0"/>
            <a:ext cx="1752480" cy="482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886200" y="525600"/>
                <a:ext cx="1143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6858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43840" y="6095880"/>
            <a:ext cx="78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ornl.gov/hgmis/publicat/microbial/image3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2060280" cy="2454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011240"/>
            <a:ext cx="4343400" cy="3130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480" y="3946680"/>
            <a:ext cx="350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ature Biotechnology 18, 85-90 (January 2000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38862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ormed Services University of the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4480" y="0"/>
            <a:ext cx="510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Deinococcus radioduran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3.2 Mb,  4-10 Copies of Genom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4880" y="4876920"/>
            <a:ext cx="86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. radiodur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 Million Rads (17kGy) – 200 DS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Thousand Rads – 2 or 3 DS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840" y="6613560"/>
            <a:ext cx="392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otos provided by David Schwartz (University of Wisconsin, Madison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653160" y="1066680"/>
            <a:ext cx="2414520" cy="3124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629400" y="26668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D. radioduran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75 million rads, 24 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67120" y="1038240"/>
            <a:ext cx="191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D. radioduran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75 million rads, 0 h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505320"/>
            <a:ext cx="464832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219640" y="457200"/>
          <a:ext cx="342900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457200"/>
                    <a:ext cx="342900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724280" y="380880"/>
            <a:ext cx="0" cy="266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June 2006 issue conten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066680"/>
            <a:ext cx="1515960" cy="19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1981080" y="1143000"/>
          <a:ext cx="2438640" cy="191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143000"/>
                    <a:ext cx="243864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152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oF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-Building a Fab for Biolog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14720" y="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ynthetic Sel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3505320"/>
            <a:ext cx="449568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505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Molecular Machines Group-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5562720" y="4029120"/>
            <a:ext cx="3581280" cy="2600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367160" y="6689880"/>
            <a:ext cx="470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hetech.org/exhibits_events/traveling/robotzoo/about/images/grasshopper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4952880"/>
            <a:ext cx="236232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Air inlets</a:t>
            </a:r>
            <a:r>
              <a:rPr b="0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Crushers</a:t>
            </a:r>
            <a:r>
              <a:rPr b="0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Ganglion</a:t>
            </a:r>
            <a:r>
              <a:rPr b="0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Multiple Visual sensors</a:t>
            </a:r>
            <a:r>
              <a:rPr b="0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Muscles</a:t>
            </a:r>
            <a:r>
              <a:rPr b="0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Pincers</a:t>
            </a:r>
            <a:r>
              <a:rPr b="0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Sensory receptors</a:t>
            </a:r>
            <a:r>
              <a:rPr b="0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Stridulatory pegs</a:t>
            </a:r>
            <a:r>
              <a:rPr b="0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Times New Roman"/>
              </a:rPr>
              <a:t>W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962520"/>
            <a:ext cx="4267080" cy="3443400"/>
            <a:chOff x="228600" y="3962520"/>
            <a:chExt cx="4267080" cy="3443400"/>
          </a:xfrm>
        </p:grpSpPr>
        <p:sp>
          <p:nvSpPr>
            <p:cNvPr id="213" name=""/>
            <p:cNvSpPr/>
            <p:nvPr/>
          </p:nvSpPr>
          <p:spPr>
            <a:xfrm>
              <a:off x="228600" y="3962520"/>
              <a:ext cx="3657600" cy="34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cul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Joseph Jacob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raduate Stud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ian Ch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avid Ko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ris Em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Jae Bum J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am Hwa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imin J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ndergr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am Sterling,Lu Chen,Ekatarin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ak,Michael 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14600" y="3962520"/>
              <a:ext cx="198108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search Scientists and Post Do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eter Car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angjun Mo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lum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aul Griff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ris Em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Jae Bum J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Jason Pa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rot="16200000">
            <a:off x="7521840" y="15760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iffith, S. et. 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botics: Self-replication from random parts.”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atur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005),  437(7059),  6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107520"/>
            <a:ext cx="49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r, P. et.al. .. “ Protein-mediated error correction for de novo DNA synthesi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.”    Nucleic Acid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(2004),  32(20),  e162/1-e162/9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3:44Z</dcterms:created>
  <dc:creator>saul griffith</dc:creator>
  <dc:description/>
  <dc:language>en-US</dc:language>
  <cp:lastModifiedBy>MIT</cp:lastModifiedBy>
  <dcterms:modified xsi:type="dcterms:W3CDTF">2006-10-11T19:17:37Z</dcterms:modified>
  <cp:revision>332</cp:revision>
  <dc:subject/>
  <dc:title>Predicated assembly and biomimetics in micro/nano-manufacture</dc:title>
</cp:coreProperties>
</file>