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ct" ContentType="image/x-pict"/>
  <Override PartName="/ppt/media/image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B86D-6C84-423B-A6AA-288E0785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0F48-C20B-4310-8498-5717EE8E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D294-C443-4FD3-8BEC-3088FA9F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D7CF-3079-47A5-9BAD-E9EB8875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BB8E-FA66-46BF-B0D3-56281F8D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DCB4-2170-4A3C-9E1C-2EE017E7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6C52-0B92-4478-89F6-8DD4A5A0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F8B1-194B-4441-8A98-27052304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BA94-6F0D-40E6-B48A-DEC092B9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7307-9B32-459B-8E6D-359D18F5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1BF8-47A0-4500-8AE0-A8F8B1E6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8DF5-AB2B-40AA-BBA7-CE04D3F0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427A-BF20-4284-B541-7F29DBF3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A482-906F-4222-BDD5-0C7ACEF7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C13C-F41A-494F-A413-F02CF8F3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AF21-4FA1-4CA4-B7B8-E05A9107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026B-D3CE-4E4F-9912-1A030615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38F3-3ACC-4AA3-BC7C-4CE8F15F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1C7-464B-4C15-B623-D2C8AFB4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4F85-7081-4458-BBD4-278E51AB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0A4D-7580-4134-91DD-FC3F2BF5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B0C2-4E90-4EFF-9727-C0BEAB96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825E-545C-40DB-BD0A-BB71A827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D47F-9F0A-4D07-A3A9-0667B2E9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3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92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515E-D0BB-4886-9685-7CA13114AD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3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47D9-4E13-44E8-B76E-DB44B4AB1D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7920" y="914400"/>
            <a:ext cx="242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AB LA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4953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3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11560" y="1096920"/>
            <a:ext cx="45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dfd"/>
                </a:solidFill>
                <a:latin typeface="Arial"/>
              </a:rPr>
              <a:t>FAB LAB ECO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14160" y="2514600"/>
            <a:ext cx="4315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dfd"/>
                </a:solidFill>
                <a:latin typeface="Arial"/>
              </a:rPr>
              <a:t>Fab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dfd"/>
                </a:solidFill>
                <a:latin typeface="Arial"/>
              </a:rPr>
              <a:t>Fab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dfd"/>
                </a:solidFill>
                <a:latin typeface="Arial"/>
              </a:rPr>
              <a:t>Research Partne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3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382200" y="68580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fdfd"/>
                </a:solidFill>
                <a:latin typeface="Arial"/>
              </a:rPr>
              <a:t>THE FAB 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46800" y="1523880"/>
            <a:ext cx="7251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dfd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dfdfd"/>
                </a:solidFill>
                <a:latin typeface="Arial"/>
              </a:rPr>
              <a:t>Industrial grade, off-the-shelf fabrication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fdfd"/>
                </a:solidFill>
                <a:latin typeface="Arial"/>
                <a:ea typeface="ＭＳ Ｐゴシック"/>
              </a:rPr>
              <a:t>NC M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fdfd"/>
                </a:solidFill>
                <a:latin typeface="Arial"/>
                <a:ea typeface="ＭＳ Ｐゴシック"/>
              </a:rPr>
              <a:t>Vinyl C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fdfd"/>
                </a:solidFill>
                <a:latin typeface="Arial"/>
                <a:ea typeface="ＭＳ Ｐゴシック"/>
              </a:rPr>
              <a:t>Laser C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fdfd"/>
                </a:solidFill>
                <a:latin typeface="Arial"/>
                <a:ea typeface="ＭＳ Ｐゴシック"/>
              </a:rPr>
              <a:t>Plasma Cutter/Wood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dfd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dfdfd"/>
                </a:solidFill>
                <a:latin typeface="Arial"/>
              </a:rPr>
              <a:t>Electronic component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dfd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fdfd"/>
                </a:solidFill>
                <a:latin typeface="Arial"/>
              </a:rPr>
              <a:t>Open Source Design 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dfd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fdfd"/>
                </a:solidFill>
                <a:latin typeface="Arial"/>
              </a:rPr>
              <a:t>CAM Software developed by 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fdfd"/>
                </a:solidFill>
                <a:latin typeface="Arial"/>
              </a:rPr>
              <a:t>Cost of Equipment  $4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fdfd"/>
                </a:solidFill>
                <a:latin typeface="Arial"/>
              </a:rPr>
              <a:t>Cost of materials and consumables $5-1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3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43640" y="1523880"/>
            <a:ext cx="3478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dfd"/>
                </a:solidFill>
                <a:latin typeface="Arial"/>
              </a:rPr>
              <a:t>Empowe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dfd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dfd"/>
                </a:solidFill>
                <a:latin typeface="Arial"/>
              </a:rPr>
              <a:t>Business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dfd"/>
                </a:solidFill>
                <a:latin typeface="Arial"/>
              </a:rPr>
              <a:t>Invention (as a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40880" y="1066680"/>
            <a:ext cx="20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RO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3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LassPB:Rodneyvac.mov" descr=""/>
          <p:cNvPicPr/>
          <p:nvPr/>
        </p:nvPicPr>
        <p:blipFill>
          <a:blip r:embed="rId1"/>
          <a:stretch/>
        </p:blipFill>
        <p:spPr>
          <a:xfrm>
            <a:off x="2540160" y="1905120"/>
            <a:ext cx="4063680" cy="3047760"/>
          </a:xfrm>
          <a:prstGeom prst="rect">
            <a:avLst/>
          </a:prstGeom>
          <a:ln w="0">
            <a:noFill/>
          </a:ln>
        </p:spPr>
      </p:pic>
      <p:pic>
        <p:nvPicPr>
          <p:cNvPr id="99" name="LassPB:Rodneyvac.mov" descr=""/>
          <p:cNvPicPr/>
          <p:nvPr/>
        </p:nvPicPr>
        <p:blipFill>
          <a:blip r:embed="rId2"/>
          <a:stretch/>
        </p:blipFill>
        <p:spPr>
          <a:xfrm>
            <a:off x="2540160" y="1905120"/>
            <a:ext cx="40636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852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3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5280" y="150840"/>
            <a:ext cx="889164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3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280" y="150840"/>
            <a:ext cx="889164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3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5280" y="150840"/>
            <a:ext cx="889164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3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562720" cy="4191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22480" y="76212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fdfd"/>
                </a:solidFill>
                <a:latin typeface="Arial"/>
              </a:rPr>
              <a:t>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erry Lassiter</cp:lastModifiedBy>
  <dcterms:modified xsi:type="dcterms:W3CDTF">2006-10-12T04:30:47Z</dcterms:modified>
  <cp:revision>12</cp:revision>
  <dc:subject/>
  <dc:title>PowerPoint Presentation</dc:title>
</cp:coreProperties>
</file>