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EL 06.10.12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F23EFB8-D3E8-4855-BC77-5BB7926F6B9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ch Center’s charter includes identifying disruptive technologies and engaging in early stag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ongoing partnerships with several research univer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sco has been a sponsor of the Media Lab since 2004; internet Zero is one of a few projects we are actively involved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a few years, sensors and other devices will predominate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zero holds the promise of IP  of “IP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ve been hearing about the “Smart House” for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f the incremental cost of adding intelligence to a device is $1-2 and the existing wiring becomes the medi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red analogy: sub-horsepower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KEL 06.10.1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F4DF98-3712-4791-AD3E-3B0219A34C49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KEL 06.10.1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D87A020-BF51-4E89-B2C0-4D53DD07EE26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920"/>
            <a:chOff x="609480" y="528480"/>
            <a:chExt cx="1444680" cy="763920"/>
          </a:xfrm>
        </p:grpSpPr>
        <p:sp>
          <p:nvSpPr>
            <p:cNvPr id="50" name=""/>
            <p:cNvSpPr/>
            <p:nvPr/>
          </p:nvSpPr>
          <p:spPr>
            <a:xfrm>
              <a:off x="1015920" y="1035000"/>
              <a:ext cx="666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040" y="1028880"/>
              <a:ext cx="190800" cy="2635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1240" y="1028880"/>
              <a:ext cx="190800" cy="2635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680" y="1028880"/>
              <a:ext cx="261720" cy="2635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6760" y="1028880"/>
              <a:ext cx="171360" cy="26352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3320"/>
              <a:ext cx="61920" cy="1285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408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000" y="528480"/>
              <a:ext cx="61920" cy="39528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60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3320"/>
              <a:ext cx="66600" cy="12852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312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3360" cy="39528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64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0800" y="733320"/>
              <a:ext cx="63360" cy="1285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69252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3440" y="163044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c0c0c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1828800"/>
            <a:ext cx="9144000" cy="2743200"/>
            <a:chOff x="0" y="1828800"/>
            <a:chExt cx="9144000" cy="27432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0" r="-36" b="0"/>
            <a:stretch/>
          </p:blipFill>
          <p:spPr>
            <a:xfrm>
              <a:off x="5029200" y="1830600"/>
              <a:ext cx="411480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1828800"/>
              <a:ext cx="5038560" cy="2743200"/>
            </a:xfrm>
            <a:prstGeom prst="rect">
              <a:avLst/>
            </a:prstGeom>
            <a:solidFill>
              <a:srgbClr val="018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69252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 Zero Progress Re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c0c0c4"/>
                </a:solidFill>
                <a:latin typeface="Arial"/>
              </a:rPr>
              <a:t>Kerry Lynn, Cisco Technology Center</a:t>
            </a: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Cisco Technology Center Mission: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6050160" cy="408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efb525"/>
                </a:solidFill>
                <a:latin typeface="Arial"/>
              </a:rPr>
              <a:t>Initi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o identify nascent markets and technologies, working closely with leading Cisco, industry, and academic part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efb525"/>
                </a:solidFill>
                <a:latin typeface="Arial"/>
              </a:rPr>
              <a:t>Incub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ing and disruptive technologies to expand Cisco’s presence into adjacent and strategic mark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efb525"/>
                </a:solidFill>
                <a:latin typeface="Arial"/>
              </a:rPr>
              <a:t>Acceler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new technologies and products into Cisco’s portfolio by partnering with internal organiz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560" y="130500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5932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29400" y="1828800"/>
            <a:ext cx="781200" cy="100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238880" y="3048120"/>
            <a:ext cx="828720" cy="12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620120" y="4648320"/>
            <a:ext cx="942840" cy="1257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Evolution in Both Directions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1904760" cy="1791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19400" cy="2021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57600" y="5028120"/>
            <a:ext cx="1706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efb525"/>
                </a:solidFill>
                <a:latin typeface="Arial"/>
              </a:rPr>
              <a:t>ARPANET c. 19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38440" y="3886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59b7d9"/>
          </a:solidFill>
          <a:ln w="9360">
            <a:solidFill>
              <a:srgbClr val="59b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296040" y="3367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59b7d9"/>
          </a:solidFill>
          <a:ln w="9360">
            <a:solidFill>
              <a:srgbClr val="59b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732840"/>
            <a:ext cx="1706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efb525"/>
                </a:solidFill>
                <a:latin typeface="Arial"/>
              </a:rPr>
              <a:t>Internet 1, 2, ...,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505480" y="4775040"/>
            <a:ext cx="2419200" cy="181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867280" y="6561720"/>
            <a:ext cx="1706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efb525"/>
                </a:solidFill>
                <a:latin typeface="Arial"/>
              </a:rPr>
              <a:t>internet 0 c.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The “Internet of Things”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560" y="130500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5932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xt big th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3924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560" y="6333120"/>
            <a:ext cx="466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Scientific American, October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17241" t="0" r="10136" b="0"/>
          <a:stretch/>
        </p:blipFill>
        <p:spPr>
          <a:xfrm>
            <a:off x="4762440" y="2057400"/>
            <a:ext cx="2171880" cy="40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689120" y="2057400"/>
            <a:ext cx="3111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Demo: Interop with Existing Standards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0 integrated into a $70 Linksys WRT54G running OpenW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ernet / 802.11g / i0 conn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0 interfaced via RS232 + S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dump runs on SLIP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(over TCP) to TFTP (over UDP)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560" y="130500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5932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Come See the Demo!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00080" y="2133720"/>
            <a:ext cx="71438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44:57Z</dcterms:created>
  <dc:creator>Kerry Lynn</dc:creator>
  <dc:description/>
  <cp:keywords/>
  <dc:language>en-US</dc:language>
  <cp:lastModifiedBy>Kerry Lynn</cp:lastModifiedBy>
  <cp:lastPrinted>1999-01-27T00:54:54Z</cp:lastPrinted>
  <dcterms:modified xsi:type="dcterms:W3CDTF">2006-10-11T23:25:39Z</dcterms:modified>
  <cp:revision>14</cp:revision>
  <dc:subject>Guide for Creating Powerpoint Presentations</dc:subject>
  <dc:title>Before You Begin: Assign Information Class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