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8.pct" ContentType="image/x-pict"/>
  <Override PartName="/ppt/media/image20.pct" ContentType="image/x-pict"/>
  <Override PartName="/ppt/media/image13.png" ContentType="image/png"/>
  <Override PartName="/ppt/media/image6.jpeg" ContentType="image/jpeg"/>
  <Override PartName="/ppt/media/image23.pct" ContentType="image/x-pict"/>
  <Override PartName="/ppt/media/image14.png" ContentType="image/png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  <a:ea typeface="ヒラギノ角ゴ Pro W3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BF31-66F3-4B6B-AB29-F1377BCD947E}" type="slidenum">
              <a:rPr b="0" lang="en-US" sz="1200" spc="-1" strike="noStrike">
                <a:solidFill>
                  <a:srgbClr val="ffffff"/>
                </a:solidFill>
                <a:latin typeface="Gill 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arting to create life in the lab from scratch using biomolecules or protei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m=func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0’s saw the birth of high Reynolds number fluidic logic, an all-fluidic logic family dependent on inertial properties of fluid jets. Complex machine controllers, displays and preliminary information processing units were built, competing 60’s electronics.  Thus a highly complex labyrinth of macro-channels could manipulate multiple fluid jets precisely.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 in integrated fluid manipulation has increase manifold since than with introduction of large, bulky robots (used in every biotech lab) and more recently microfluidic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 times have seen a a rebirth of complex fluid manipulation with the introduction of microfluidic large scale integration and elastomeric pneumatic valves. It is now possible to fit 10,000 valves on a single 2cmx2cm chip controlling femtoliters of fluid. These chips require external control with 100’s of macro-sized solenoids and immense reagent to chip plumbing.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 a new way of on-chip internal process control in microfluidic devices using Bubble Logic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monstrate  all-fluidic computation at low Reynolds numb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bble is a bit, carrying both information and materials payload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of Chemistry and Computation (process control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we show AND/OR logic gates, toggle flip-flop and a Ring oscillator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let based segmented-flow reactor : 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spers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mix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z range opera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ternal control element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 residence tim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4BA6-1ED5-4066-A64B-B4E5D31B876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97F5-AD1A-4C0D-A6DA-772BAFD0CCF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407E-F410-4C09-9C67-159FBAE84E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2D71-1535-4021-9619-2030247D1E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C320-136C-450E-B270-30D91C0F6F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5318-0F1B-4681-8AF9-D08A0919F8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46D4-5F50-42F6-8EA6-F3CCC6C5B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02C4-8BE5-4A57-B204-E7D762D957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BA8E-D675-4413-8FDF-ED7ECAF56B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CD05-5C57-477B-A3BC-5376283892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0953-23D4-4869-A89C-3FF2F6AF66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D179-D6A7-455F-965E-C68C84B240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1014-B179-4027-B2AE-F78035A695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3D07-BC96-495D-89A3-F21453E8E9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F307-FEA5-4C48-A129-F74E863FD1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784E-6F6D-4B87-A0D8-4D37A1B667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882F-9E18-4C74-9FEF-33B3F71DF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F2D0-7C2A-45F5-BEBC-3C73DDD016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1BC0-74EB-45E2-BC6C-101D907554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EE40-C747-4AE8-B474-17C576CA55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9E08-BAB4-4E8A-A763-7E1F3F7D0B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4FC9-9A01-46E6-ADDC-7F0D8CC023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CCF8-35B1-42FD-BFAA-C2A48AE4AA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8400-6344-4A2A-8D6D-88AEF9842B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C3F-6E70-4BCC-9B19-FEA3BD9D27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A5C-17B3-4ECD-A177-08480D16CE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1FE-43E0-4426-8819-588152181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73E-07A3-4218-8848-A30E9B0D9A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F1C-DF6E-4344-B007-BDFAF8013B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87D-DDD1-4A5D-ABFD-81D2C5796A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7CC-24BE-4894-9349-BAAC9288D5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F73-7F45-48F7-A258-8BF8D68C8A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2AF-D2FD-4B5E-8C31-4198BC085B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72B-56DE-4AC0-A372-E56B5D1836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E10-A4F6-4662-91C8-4E590CBC0E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D2E-8D61-4DBC-B828-1965FAFD1C4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62B9B-BEAF-4137-85DF-4475226E8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98431-91FA-4687-A261-3DDB613583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F0A66-E848-40ED-8D83-04ABB7AFFD9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F7C32-5072-41C8-8871-AFCCDC6AFC0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837AE-2225-4012-B0FB-4E6669E903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0FFC9-1E4A-4F65-92CB-FA739762988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5F175-18C9-442E-A25F-FFC6841AB0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9C454-6534-4954-9889-1E7242E69B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E2493-57A9-479A-B45B-2ECE1C188A7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13C25-AACD-460C-A350-6276C6FC7EB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87912-B0C0-46B0-9B63-7DD34BACA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B9B31-A33A-4DF9-8D6E-1AFB97FFDA3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555840" indent="-35568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8560" indent="-35568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2280" indent="-35568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65640" indent="-3560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08360" indent="-3560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08360" indent="-3560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08360" indent="-3560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74120" indent="-30348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66800" indent="-30348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1200" indent="-30348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5960" indent="-3038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8640" indent="-3038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8640" indent="-3038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8640" indent="-3038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12300120" y="9144000"/>
            <a:ext cx="5457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110F-09DD-4277-BF12-A63DD41C913F}" type="slidenum"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9640" indent="-4824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406440">
              <a:spcBef>
                <a:spcPts val="11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1360" indent="-33012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2262240" indent="-330120">
              <a:spcBef>
                <a:spcPts val="11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1320" indent="-330120">
              <a:spcBef>
                <a:spcPts val="11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1320" indent="-330120">
              <a:spcBef>
                <a:spcPts val="11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1320" indent="-330120">
              <a:spcBef>
                <a:spcPts val="11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10478880" y="8889480"/>
            <a:ext cx="39348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8351-26DC-4592-A038-C8AFB1C66F37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12248640" y="9144000"/>
            <a:ext cx="5461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878-802B-4673-91C0-358331564FBD}" type="slidenum"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4"/>
          </p:nvPr>
        </p:nvSpPr>
        <p:spPr>
          <a:xfrm>
            <a:off x="12274200" y="9144000"/>
            <a:ext cx="5461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7033-0A34-4F97-8284-60C2B19DE32D}" type="slidenum"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555840" indent="-35568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8560" indent="-35568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32280" indent="-35568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65640" indent="-3560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08360" indent="-3560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08360" indent="-3560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08360" indent="-356040">
              <a:spcBef>
                <a:spcPts val="40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image" Target="../media/image21.pct"/><Relationship Id="rId4" Type="http://schemas.openxmlformats.org/officeDocument/2006/relationships/image" Target="../media/image22.pct"/><Relationship Id="rId5" Type="http://schemas.openxmlformats.org/officeDocument/2006/relationships/image" Target="../media/image2.png"/><Relationship Id="rId6" Type="http://schemas.openxmlformats.org/officeDocument/2006/relationships/image" Target="../media/image23.pct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622080"/>
            <a:ext cx="10464840" cy="504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icroslots and Microfluidic Logic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702288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Yael Maguire and Manu Prakash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Oct 12, 2006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88920" y="63360"/>
            <a:ext cx="1028520" cy="9781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9958320" y="5867280"/>
            <a:ext cx="30463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f we make life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93996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59320" indent="-545040"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will we understand what we’ve mad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206280" y="2222640"/>
            <a:ext cx="5168880" cy="38764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764320" y="5143680"/>
            <a:ext cx="3295440" cy="28256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5842080" y="2781360"/>
            <a:ext cx="3182760" cy="21081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/>
          <a:stretch/>
        </p:blipFill>
        <p:spPr>
          <a:xfrm>
            <a:off x="9285120" y="5118120"/>
            <a:ext cx="2818080" cy="28623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626080" y="22986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10666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Sweedler et al, Chem Rev, 1999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>
            <a:off x="9487080" y="2298600"/>
            <a:ext cx="52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1066680"/>
                <a:tab algn="l" pos="5232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, Sweedler/Whitesides et al,  APL, 199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9067680" y="8064360"/>
            <a:ext cx="372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1066680"/>
                <a:tab algn="l" pos="374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Massin et al, JMR, 200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5257800" y="8064360"/>
            <a:ext cx="436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106668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alton et al,  AnalChem, 200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9156600" y="2781360"/>
            <a:ext cx="3543480" cy="23414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7"/>
          <a:stretch/>
        </p:blipFill>
        <p:spPr>
          <a:xfrm>
            <a:off x="279360" y="6111720"/>
            <a:ext cx="3378240" cy="34308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3276720" y="8534520"/>
            <a:ext cx="102488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5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10</a:t>
            </a:r>
            <a:r>
              <a:rPr b="0" lang="en-US" sz="5400" spc="-1" strike="noStrike" baseline="42000">
                <a:solidFill>
                  <a:srgbClr val="ffffff"/>
                </a:solidFill>
                <a:latin typeface="Gill Sans"/>
                <a:ea typeface="Gill Sans"/>
              </a:rPr>
              <a:t>13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-10</a:t>
            </a:r>
            <a:r>
              <a:rPr b="0" lang="en-US" sz="5400" spc="-1" strike="noStrike" baseline="42000">
                <a:solidFill>
                  <a:srgbClr val="ffffff"/>
                </a:solidFill>
                <a:latin typeface="Gill Sans"/>
                <a:ea typeface="Gill Sans"/>
              </a:rPr>
              <a:t>14</a:t>
            </a:r>
            <a:r>
              <a:rPr b="0" lang="en-US" sz="5400" spc="-1" strike="noStrike" baseline="58000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(100pmols -1nmol) biomolecule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8"/>
          <a:stretch/>
        </p:blipFill>
        <p:spPr>
          <a:xfrm>
            <a:off x="114480" y="88920"/>
            <a:ext cx="102852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D3CF-1084-4D70-B151-103AC1BE6B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-901800" y="-2527200"/>
            <a:ext cx="7353360" cy="71229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317600" y="2984400"/>
            <a:ext cx="1122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lu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09680" y="1828800"/>
            <a:ext cx="231840" cy="13190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597560" y="1117440"/>
            <a:ext cx="147600" cy="9399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4614840" y="1219320"/>
            <a:ext cx="188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60 u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23760" y="2413080"/>
            <a:ext cx="7581960" cy="50814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7327800" y="111240"/>
            <a:ext cx="5550120" cy="95155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27080" y="7480440"/>
            <a:ext cx="40510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8x more  sensitive than best planar prob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3911760" y="7797960"/>
            <a:ext cx="40510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0</a:t>
            </a:r>
            <a:r>
              <a:rPr b="0" lang="en-US" sz="4200" spc="-1" strike="noStrike" baseline="32000">
                <a:solidFill>
                  <a:srgbClr val="ffffff"/>
                </a:solidFill>
                <a:latin typeface="Gill Sans"/>
                <a:ea typeface="Gill Sans"/>
              </a:rPr>
              <a:t>1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olecu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88920" y="88920"/>
            <a:ext cx="102852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47A4-CBE8-44CB-846A-2479A2D679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utur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203040" y="2235240"/>
            <a:ext cx="6415200" cy="471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6831000" y="2222640"/>
            <a:ext cx="5934240" cy="47368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59160" y="7175520"/>
            <a:ext cx="5782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0</a:t>
            </a:r>
            <a:r>
              <a:rPr b="0" lang="en-US" sz="4300" spc="-1" strike="noStrike" baseline="32000">
                <a:solidFill>
                  <a:srgbClr val="ffffff"/>
                </a:solidFill>
                <a:latin typeface="Gill Sans"/>
                <a:ea typeface="Gill Sans"/>
              </a:rPr>
              <a:t>10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molecules at ro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emperat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6972480" y="7201080"/>
            <a:ext cx="58546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00 sensors in 5mm</a:t>
            </a:r>
            <a:r>
              <a:rPr b="0" lang="en-US" sz="4200" spc="-1" strike="noStrike" baseline="32000">
                <a:solidFill>
                  <a:srgbClr val="ffffff"/>
                </a:solidFill>
                <a:latin typeface="Gill Sans"/>
                <a:ea typeface="Gill Sans"/>
              </a:rPr>
              <a:t>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88920" y="88920"/>
            <a:ext cx="102852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11F8-4046-42B6-B3FC-CC38577556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5423040" y="4330800"/>
            <a:ext cx="7264440" cy="4824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740560" y="1739880"/>
            <a:ext cx="6502320" cy="2082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689880" y="9423360"/>
            <a:ext cx="2273040" cy="1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2334960" y="9105840"/>
            <a:ext cx="4066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Complexity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6117840" y="1193760"/>
            <a:ext cx="52016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           2006            2007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330120" y="1955880"/>
            <a:ext cx="4348080" cy="49910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977760" y="6832440"/>
            <a:ext cx="3035520" cy="21621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881720" y="1409760"/>
            <a:ext cx="129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0’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4991040" y="1511280"/>
            <a:ext cx="1800" cy="7910640"/>
          </a:xfrm>
          <a:prstGeom prst="line">
            <a:avLst/>
          </a:prstGeom>
          <a:ln w="63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157680" y="114480"/>
            <a:ext cx="12297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Complexity in fluid manipulation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6099120" y="3898800"/>
            <a:ext cx="5526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ore’s Law for Microfluidic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8160" y="8724960"/>
            <a:ext cx="102852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65320" y="-216000"/>
            <a:ext cx="106758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  <a:ea typeface="Arial"/>
              </a:rPr>
              <a:t>Microfluidic Bubble Logic</a:t>
            </a:r>
            <a:endParaRPr b="0" lang="en-US" sz="6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14480" y="787320"/>
            <a:ext cx="5638680" cy="44593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862920" y="5207040"/>
            <a:ext cx="24429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linearity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6502320" y="863640"/>
            <a:ext cx="4660920" cy="35892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7048440" y="4013280"/>
            <a:ext cx="4076640" cy="15303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7479360" y="5207040"/>
            <a:ext cx="20116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tability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6286680" y="6251400"/>
            <a:ext cx="4025880" cy="33386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16200000">
            <a:off x="549360" y="7401240"/>
            <a:ext cx="274320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cadability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5854680" y="1079640"/>
            <a:ext cx="1440" cy="47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0" y="5740200"/>
            <a:ext cx="13004640" cy="10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12600" y="8724960"/>
            <a:ext cx="1028880" cy="9777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6"/>
          <a:stretch/>
        </p:blipFill>
        <p:spPr>
          <a:xfrm>
            <a:off x="2514600" y="60958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el Maguire</cp:lastModifiedBy>
  <dcterms:modified xsi:type="dcterms:W3CDTF">2006-10-12T00:56:32Z</dcterms:modified>
  <cp:revision>1</cp:revision>
  <dc:subject/>
  <dc:title>Microslots and Microfluidic Logic</dc:title>
</cp:coreProperties>
</file>