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733-4CA6-4E7E-AFEB-29DBB466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EBD-E713-4214-B639-FFD758AE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9E5-7F07-436D-AC09-EFDAFC66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994-ACCC-43E2-9D7C-CAEA2765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150-7AA3-4286-8564-5629F11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727-7DE4-4584-B287-748AEFE0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65B-9CA2-452D-B85B-8A6018E7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67C-AD20-4730-AE31-F8284E5A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8AF-439A-4405-9E56-DA1B858C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AE-9470-4D43-AF7C-B24773F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091-5FB5-4538-A573-E8F4EE78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0CF-99AB-428C-B870-DE93F71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5515-CE4B-4AF2-9E5E-C11B2AEC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ic@afrispa.org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b Labs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133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M.K Osiak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9051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200400"/>
            <a:ext cx="814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 Consultant and Journ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y of the Ghana ISP Assoc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Secretary of the African ISP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POPTECH 2005 F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ic@afrispa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280" y="150840"/>
            <a:ext cx="8891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rom Af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ana - 1 existing and 2 mor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ya - 4 requ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wanda - 3 requ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e Verde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anda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eria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frica - 3 existing and 5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grassroots growth process leading to an institu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is Dem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0512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s want to produce technology - need the TOOLS to fish not the FIS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specific solutions to African problems like energy,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the global technolog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dustrial research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usinesses from R &amp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 solutions that’s global in nature but local i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gap between industry and 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quired info and infra structure for competitiveness in the knowledge econom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b Eco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01924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esearch Institutions like MIT, CSIR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 Foundation - Global, Regional and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5:50:42Z</dcterms:created>
  <dc:creator>Brian Longwe</dc:creator>
  <dc:description/>
  <dc:language>en-US</dc:language>
  <cp:lastModifiedBy>Brian Longwe</cp:lastModifiedBy>
  <cp:lastPrinted>2006-10-11T20:37:32Z</cp:lastPrinted>
  <dcterms:modified xsi:type="dcterms:W3CDTF">2006-10-11T20:34:38Z</dcterms:modified>
  <cp:revision>25</cp:revision>
  <dc:subject/>
  <dc:title>The Fab Foundation Africa</dc:title>
</cp:coreProperties>
</file>