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BF91-03B1-48D0-9E19-7F85CAB67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D995-D6DE-4A97-BC5C-FD60ABBAD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0983-ACBB-47CD-83DA-BACC8D8B5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99E2-3F4D-4B16-B75C-B71740435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B853-D972-418E-B62D-DAEF0B070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FBFCB-07D4-46FE-8CAA-C7934DB7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8E9E3-D173-4AED-8D2C-0ACCB181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0FA41-7EB8-4A1C-8193-D4C295B3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8769F-7C7A-4F53-9699-F87A57C6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3529-CEE3-4AC8-95CF-549DD1D8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9523-4354-423A-AE78-12F96DA9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1C9F-F2D5-4FA9-985F-7475B827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CFBA-AD26-4D75-94D6-FEC8988B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6307-FECB-45BD-9E92-1DB96F90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3403-752C-4F92-B955-ADFE011D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B126-C075-4A8B-8C6D-068434D0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EE080-FB17-426D-AC3A-497D47EA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59C8-A002-41CE-8A3B-59B1E52C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2138-1FCF-4E13-89D4-512A0D57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A1DD-2E5A-4D03-AD02-68E7FC36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6E77-1698-43A5-AE47-6274CA5F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5C9C-B634-4A51-8025-2B94749A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861E5-B594-4AE6-A580-1C7CBA8A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50C5A-5BE9-40E9-B680-FC7E3C4D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7F6AD-736E-4018-8C5F-04819C93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CB61-9B37-43CD-A79B-E367365C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5431F-0136-49D7-9AF2-EEC9B100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2E578-A70B-42CA-BBC3-E3275E5C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A02D-A3DA-4180-8722-B3E18EBC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532B-5A13-4C35-8894-D3AEB8CFF7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FDE7-1009-45A0-850E-5DEB1AE2BE5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0B34-962C-46F7-93C6-F04DF3D3843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B24A-9F2C-4CD5-B747-681EB6E9B6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athematical Programming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owards programming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mat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4197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blo A. Parril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for Information and Decision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achusetts Institute of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mit.edu/~parr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238880" y="304920"/>
            <a:ext cx="1447920" cy="790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638680" y="0"/>
            <a:ext cx="1409760" cy="1514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961920" cy="14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0FAE-6BDC-468A-875A-415B4B9E862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897DD9F-0127-47C1-B7C4-7E3182D980F4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systems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lob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al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utation, and communi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tra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timization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conv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problems and their relax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mises of decent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14757" b="0"/>
          <a:stretch/>
        </p:blipFill>
        <p:spPr>
          <a:xfrm>
            <a:off x="6934320" y="2971800"/>
            <a:ext cx="17524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5CBD-BEC2-4935-9C96-FEA70102E07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00C4D1-980A-473B-B546-63616C20D8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1839960"/>
            <a:ext cx="807696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al principl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east action, Dirichlet, etc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se, local actio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, via Euler-Lagran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gine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cal interactions towards desired global goals (no “emergence”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? And why should this 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ted systems: global to lo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162920" y="1600200"/>
            <a:ext cx="1676160" cy="1447560"/>
            <a:chOff x="7162920" y="1600200"/>
            <a:chExt cx="1676160" cy="1447560"/>
          </a:xfrm>
        </p:grpSpPr>
        <p:grpSp>
          <p:nvGrpSpPr>
            <p:cNvPr id="124" name=""/>
            <p:cNvGrpSpPr/>
            <p:nvPr/>
          </p:nvGrpSpPr>
          <p:grpSpPr>
            <a:xfrm>
              <a:off x="7234200" y="1675800"/>
              <a:ext cx="1482840" cy="1295280"/>
              <a:chOff x="7234200" y="1675800"/>
              <a:chExt cx="1482840" cy="1295280"/>
            </a:xfrm>
          </p:grpSpPr>
          <p:cxnSp>
            <p:nvCxnSpPr>
              <p:cNvPr id="125" name=""/>
              <p:cNvCxnSpPr>
                <a:stCxn id="126" idx="2"/>
                <a:endCxn id="127" idx="6"/>
              </p:cNvCxnSpPr>
              <p:nvPr/>
            </p:nvCxnSpPr>
            <p:spPr>
              <a:xfrm flipH="1" flipV="1">
                <a:off x="8339400" y="2704320"/>
                <a:ext cx="357120" cy="76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8" name=""/>
              <p:cNvCxnSpPr>
                <a:stCxn id="126" idx="1"/>
                <a:endCxn id="129" idx="5"/>
              </p:cNvCxnSpPr>
              <p:nvPr/>
            </p:nvCxnSpPr>
            <p:spPr>
              <a:xfrm flipH="1" flipV="1">
                <a:off x="8210880" y="1729440"/>
                <a:ext cx="505800" cy="997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0" name=""/>
              <p:cNvCxnSpPr>
                <a:stCxn id="131" idx="6"/>
                <a:endCxn id="127" idx="2"/>
              </p:cNvCxnSpPr>
              <p:nvPr/>
            </p:nvCxnSpPr>
            <p:spPr>
              <a:xfrm>
                <a:off x="7983000" y="2666880"/>
                <a:ext cx="214560" cy="38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2" name=""/>
              <p:cNvCxnSpPr>
                <a:stCxn id="133" idx="6"/>
                <a:endCxn id="126" idx="3"/>
              </p:cNvCxnSpPr>
              <p:nvPr/>
            </p:nvCxnSpPr>
            <p:spPr>
              <a:xfrm flipV="1">
                <a:off x="7518960" y="2834280"/>
                <a:ext cx="1198440" cy="137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4" name=""/>
              <p:cNvCxnSpPr>
                <a:stCxn id="135" idx="7"/>
                <a:endCxn id="129" idx="3"/>
              </p:cNvCxnSpPr>
              <p:nvPr/>
            </p:nvCxnSpPr>
            <p:spPr>
              <a:xfrm flipV="1">
                <a:off x="7712280" y="1729440"/>
                <a:ext cx="398520" cy="616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6" name=""/>
              <p:cNvCxnSpPr>
                <a:stCxn id="137" idx="6"/>
                <a:endCxn id="129" idx="2"/>
              </p:cNvCxnSpPr>
              <p:nvPr/>
            </p:nvCxnSpPr>
            <p:spPr>
              <a:xfrm>
                <a:off x="7661880" y="1675800"/>
                <a:ext cx="428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8" name=""/>
              <p:cNvCxnSpPr>
                <a:stCxn id="139" idx="4"/>
                <a:endCxn id="133" idx="0"/>
              </p:cNvCxnSpPr>
              <p:nvPr/>
            </p:nvCxnSpPr>
            <p:spPr>
              <a:xfrm>
                <a:off x="7234200" y="2133000"/>
                <a:ext cx="214560" cy="762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0" name=""/>
              <p:cNvCxnSpPr>
                <a:stCxn id="137" idx="3"/>
                <a:endCxn id="139" idx="7"/>
              </p:cNvCxnSpPr>
              <p:nvPr/>
            </p:nvCxnSpPr>
            <p:spPr>
              <a:xfrm flipH="1">
                <a:off x="7283880" y="1730160"/>
                <a:ext cx="255960" cy="273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1" name=""/>
              <p:cNvCxnSpPr>
                <a:stCxn id="135" idx="5"/>
                <a:endCxn id="131" idx="1"/>
              </p:cNvCxnSpPr>
              <p:nvPr/>
            </p:nvCxnSpPr>
            <p:spPr>
              <a:xfrm>
                <a:off x="7712640" y="2454120"/>
                <a:ext cx="149040" cy="159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2" name=""/>
              <p:cNvCxnSpPr>
                <a:stCxn id="133" idx="7"/>
                <a:endCxn id="131" idx="3"/>
              </p:cNvCxnSpPr>
              <p:nvPr/>
            </p:nvCxnSpPr>
            <p:spPr>
              <a:xfrm flipV="1">
                <a:off x="7498080" y="2720160"/>
                <a:ext cx="363240" cy="197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3" name=""/>
              <p:cNvCxnSpPr>
                <a:stCxn id="137" idx="4"/>
                <a:endCxn id="135" idx="0"/>
              </p:cNvCxnSpPr>
              <p:nvPr/>
            </p:nvCxnSpPr>
            <p:spPr>
              <a:xfrm>
                <a:off x="7590240" y="1751760"/>
                <a:ext cx="71640" cy="572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4" name=""/>
              <p:cNvCxnSpPr>
                <a:stCxn id="139" idx="5"/>
                <a:endCxn id="135" idx="1"/>
              </p:cNvCxnSpPr>
              <p:nvPr/>
            </p:nvCxnSpPr>
            <p:spPr>
              <a:xfrm>
                <a:off x="7284240" y="2111040"/>
                <a:ext cx="327240" cy="235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45" name=""/>
            <p:cNvGrpSpPr/>
            <p:nvPr/>
          </p:nvGrpSpPr>
          <p:grpSpPr>
            <a:xfrm>
              <a:off x="7162920" y="1600200"/>
              <a:ext cx="1676160" cy="1447560"/>
              <a:chOff x="7162920" y="1600200"/>
              <a:chExt cx="1676160" cy="1447560"/>
            </a:xfrm>
          </p:grpSpPr>
          <p:sp>
            <p:nvSpPr>
              <p:cNvPr id="137" name=""/>
              <p:cNvSpPr/>
              <p:nvPr/>
            </p:nvSpPr>
            <p:spPr>
              <a:xfrm>
                <a:off x="7519320" y="1600200"/>
                <a:ext cx="142560" cy="15228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97200" y="2628720"/>
                <a:ext cx="142200" cy="15228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590600" y="2324160"/>
                <a:ext cx="142560" cy="15228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90280" y="1600200"/>
                <a:ext cx="142200" cy="15228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62920" y="1981080"/>
                <a:ext cx="142560" cy="15228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840440" y="2590920"/>
                <a:ext cx="142560" cy="15228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376760" y="2895480"/>
                <a:ext cx="142560" cy="15228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696520" y="2705040"/>
                <a:ext cx="142560" cy="15228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BD028-E524-43D7-AA06-CB9603FEAFA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365F2A-42DD-41AA-9C3B-0178F168EA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09480" y="1752480"/>
            <a:ext cx="8077320" cy="42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"…in fact, the great watershed in optimization isn't between linearity and nonlinearity, but convexity and nonconvexity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. Tyrrell Rockafellar, in SIAM Review, 199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geometry from loc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ient methods will conver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ally exploit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vex, what to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16000" y="45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xity is cruci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019920" y="380880"/>
            <a:ext cx="2819160" cy="1523880"/>
            <a:chOff x="6019920" y="380880"/>
            <a:chExt cx="2819160" cy="1523880"/>
          </a:xfrm>
        </p:grpSpPr>
        <p:sp>
          <p:nvSpPr>
            <p:cNvPr id="150" name=""/>
            <p:cNvSpPr/>
            <p:nvPr/>
          </p:nvSpPr>
          <p:spPr>
            <a:xfrm>
              <a:off x="6019920" y="455400"/>
              <a:ext cx="1190520" cy="1374840"/>
            </a:xfrm>
            <a:custGeom>
              <a:avLst/>
              <a:gdLst/>
              <a:ahLst/>
              <a:rect l="l" t="t" r="r" b="b"/>
              <a:pathLst>
                <a:path w="1240" h="1862">
                  <a:moveTo>
                    <a:pt x="161" y="127"/>
                  </a:moveTo>
                  <a:cubicBezTo>
                    <a:pt x="0" y="267"/>
                    <a:pt x="15" y="1104"/>
                    <a:pt x="143" y="1370"/>
                  </a:cubicBezTo>
                  <a:cubicBezTo>
                    <a:pt x="271" y="1636"/>
                    <a:pt x="766" y="1862"/>
                    <a:pt x="927" y="1722"/>
                  </a:cubicBezTo>
                  <a:cubicBezTo>
                    <a:pt x="1088" y="1582"/>
                    <a:pt x="1240" y="795"/>
                    <a:pt x="1112" y="529"/>
                  </a:cubicBezTo>
                  <a:cubicBezTo>
                    <a:pt x="984" y="263"/>
                    <a:pt x="392" y="0"/>
                    <a:pt x="161" y="127"/>
                  </a:cubicBezTo>
                  <a:close/>
                </a:path>
              </a:pathLst>
            </a:custGeom>
            <a:solidFill>
              <a:srgbClr val="33cccc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62800" y="380880"/>
              <a:ext cx="1376280" cy="1523880"/>
            </a:xfrm>
            <a:custGeom>
              <a:avLst/>
              <a:gdLst/>
              <a:ahLst/>
              <a:rect l="l" t="t" r="r" b="b"/>
              <a:pathLst>
                <a:path w="1433" h="2064">
                  <a:moveTo>
                    <a:pt x="18" y="688"/>
                  </a:moveTo>
                  <a:cubicBezTo>
                    <a:pt x="0" y="790"/>
                    <a:pt x="693" y="654"/>
                    <a:pt x="795" y="771"/>
                  </a:cubicBezTo>
                  <a:cubicBezTo>
                    <a:pt x="897" y="888"/>
                    <a:pt x="730" y="1184"/>
                    <a:pt x="631" y="1392"/>
                  </a:cubicBezTo>
                  <a:cubicBezTo>
                    <a:pt x="532" y="1600"/>
                    <a:pt x="87" y="1982"/>
                    <a:pt x="201" y="2023"/>
                  </a:cubicBezTo>
                  <a:cubicBezTo>
                    <a:pt x="315" y="2064"/>
                    <a:pt x="1199" y="1950"/>
                    <a:pt x="1316" y="1639"/>
                  </a:cubicBezTo>
                  <a:cubicBezTo>
                    <a:pt x="1433" y="1328"/>
                    <a:pt x="1121" y="316"/>
                    <a:pt x="905" y="158"/>
                  </a:cubicBezTo>
                  <a:cubicBezTo>
                    <a:pt x="689" y="0"/>
                    <a:pt x="97" y="546"/>
                    <a:pt x="18" y="688"/>
                  </a:cubicBezTo>
                  <a:close/>
                </a:path>
              </a:pathLst>
            </a:custGeom>
            <a:solidFill>
              <a:srgbClr val="cc99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924680" y="840960"/>
              <a:ext cx="92160" cy="85068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A84BE-E7D3-4E04-891A-2F3B8382656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2F8CAB-86DA-48E4-806B-895D6869BA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1392120"/>
            <a:ext cx="8915400" cy="6094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016000" y="45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xify” nonconvex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629400" y="3580920"/>
            <a:ext cx="0" cy="2057400"/>
          </a:xfrm>
          <a:prstGeom prst="line">
            <a:avLst/>
          </a:prstGeom>
          <a:ln cap="sq" w="88920">
            <a:solidFill>
              <a:srgbClr val="ff6600"/>
            </a:solidFill>
            <a:miter/>
            <a:headEnd len="sm" type="oval" w="sm"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09D82-68BD-4B95-B081-A678EC737A0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87488A-13A8-4A8C-A6FD-18D11674EB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057400"/>
            <a:ext cx="769608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s: probabilistic, algebraic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ic, proof theoretic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to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definite programming (SDP) and sum of squares (S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from real algebraic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es of relax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pps: global optimization, dynamical systems, entanglement, geometric theorem proving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16000" y="45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xity is rel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174000" y="533520"/>
            <a:ext cx="2732400" cy="1980720"/>
            <a:chOff x="6174000" y="533520"/>
            <a:chExt cx="2732400" cy="1980720"/>
          </a:xfrm>
        </p:grpSpPr>
        <p:sp>
          <p:nvSpPr>
            <p:cNvPr id="161" name=""/>
            <p:cNvSpPr/>
            <p:nvPr/>
          </p:nvSpPr>
          <p:spPr>
            <a:xfrm flipV="1">
              <a:off x="6589080" y="942840"/>
              <a:ext cx="1806840" cy="15710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867000" y="943200"/>
              <a:ext cx="1251000" cy="157104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144920" y="943200"/>
              <a:ext cx="694800" cy="1571040"/>
            </a:xfrm>
            <a:prstGeom prst="triangle">
              <a:avLst>
                <a:gd name="adj" fmla="val 50000"/>
              </a:avLst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83880" y="53352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99cc"/>
                  </a:solidFill>
                  <a:latin typeface="Times New Roman"/>
                </a:rPr>
                <a:t>Relax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74000" y="114804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Times New Roman"/>
                </a:rPr>
                <a:t>NP-ha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E2379-4141-45F9-9C93-4DDAF70DCFF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0A219C-45F8-498B-9BBE-2B6C65C776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challenges and conn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eme parallelization and decent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: convexity and decent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recent work on consensus-type schemes, currently being exten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s: shadow prices, mechanis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 with belief-propa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399DC-5308-476B-93D0-649999DCB85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C81DCD-ED8A-444B-ADA4-05FD789CD3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PP</cp:lastModifiedBy>
  <cp:lastPrinted>2009-04-22T19:24:48Z</cp:lastPrinted>
  <dcterms:modified xsi:type="dcterms:W3CDTF">2006-10-11T06:59:29Z</dcterms:modified>
  <cp:revision>59</cp:revision>
  <dc:subject/>
  <dc:title>PowerPoint Presentation</dc:title>
</cp:coreProperties>
</file>