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42E-DCF3-4B60-B223-9D706851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671-1982-4F0B-BD5E-FAA6AB2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029-7130-491F-BF4B-0D96091D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5B7-91BE-416A-95AB-39F31CD7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A1F-A2BC-4B61-969C-51E1D9F7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5B4-D3BE-4394-9B3F-314971B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EA2-E3C9-418D-BDA2-D44F26A4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93E-A6AB-42C4-84B2-4D7EFF1E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570-16B2-4144-A57B-D2BA8A48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2E4-F92A-4DD7-A5C6-3024D01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8F9-22A1-48D4-8658-602B2986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AE8-40AE-430A-B872-EEF0874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D05-AF1F-4DAE-83BE-55AE6E3B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151920"/>
            <a:ext cx="5181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ff9933"/>
                </a:solidFill>
                <a:latin typeface="Verdana"/>
              </a:rPr>
              <a:t>Rapid Housing Prototyping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0066"/>
                </a:solidFill>
                <a:latin typeface="Tahoma"/>
              </a:rPr>
              <a:t>ddf.mit.edu</a:t>
            </a:r>
            <a:br>
              <a:rPr sz="1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gital Fabrication and Housing Delivery System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4191120"/>
            <a:ext cx="1371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Tahoma"/>
              </a:rPr>
              <a:t>C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f. Larry S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aniel Carod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hu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Tahoma"/>
              </a:rPr>
              <a:t>C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ffie Ma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l Scheff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aan Coet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k Conrad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62485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ahoma"/>
              </a:rPr>
              <a:t>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Project &amp; Purp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earch Goal: Explore solutions to housing crisis in South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th Africa needs 350,000 homes in 7 years – Government man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ution - concept to construction digital fabrica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b Labs Can be used for digital design and fabricate hou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fig_01" descr=""/>
          <p:cNvPicPr/>
          <p:nvPr/>
        </p:nvPicPr>
        <p:blipFill>
          <a:blip r:embed="rId1"/>
          <a:stretch/>
        </p:blipFill>
        <p:spPr>
          <a:xfrm>
            <a:off x="4572000" y="1816200"/>
            <a:ext cx="2205000" cy="164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0" y="330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FKai-SB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75640" y="1816200"/>
            <a:ext cx="2192040" cy="164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0" y="3613320"/>
            <a:ext cx="2192400" cy="164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77080" y="3613320"/>
            <a:ext cx="21906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501480"/>
            <a:ext cx="2532240" cy="170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2960" y="501480"/>
            <a:ext cx="2532240" cy="170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62920" y="662040"/>
            <a:ext cx="183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Verdana"/>
              </a:rPr>
              <a:t>Auto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tructio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8580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Verdana"/>
              </a:rPr>
              <a:t>Auto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28800" y="2400480"/>
            <a:ext cx="5486400" cy="41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67480" y="26668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t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24480" y="28954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238880" y="281916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9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27824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4268880" cy="3125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4343400" cy="31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52280" y="304920"/>
            <a:ext cx="4267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2:52:44Z</dcterms:created>
  <dc:creator>Larry Sass</dc:creator>
  <dc:description/>
  <dc:language>en-US</dc:language>
  <cp:lastModifiedBy>Larry Sass</cp:lastModifiedBy>
  <dcterms:modified xsi:type="dcterms:W3CDTF">2006-10-10T19:13:52Z</dcterms:modified>
  <cp:revision>164</cp:revision>
  <dc:subject/>
  <dc:title>Digital Fabrication Tomorrow Design Process</dc:title>
</cp:coreProperties>
</file>