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5A4-CD64-4AB4-812C-D5FD551E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2520" y="3886200"/>
            <a:ext cx="350532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2520" y="4881600"/>
            <a:ext cx="350532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2A3-C211-4A49-9C13-2D312A80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2520" y="38862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48920" y="38862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2520" y="48816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48920" y="48816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02C-F55D-46F1-B8C2-06BB1318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2520" y="3886200"/>
            <a:ext cx="11286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38000" y="3886200"/>
            <a:ext cx="11286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23480" y="3886200"/>
            <a:ext cx="11286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2520" y="4881600"/>
            <a:ext cx="11286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38000" y="4881600"/>
            <a:ext cx="11286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23480" y="4881600"/>
            <a:ext cx="11286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DF2-A3B4-40D2-835A-1C418C5C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F088-002D-4D4E-97CD-DE149D28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2520" y="3886200"/>
            <a:ext cx="3505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5A99-2193-4C73-BB38-7EE1360A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2520" y="3886200"/>
            <a:ext cx="35053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1799-3BFD-492C-9EB2-8390B7FC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2520" y="3886200"/>
            <a:ext cx="171036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748920" y="3886200"/>
            <a:ext cx="171036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C059-3056-4789-B74C-D985C1E9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3E52-2DD1-4F0C-99EE-BEB3950E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609588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0D76-5706-4972-88A9-D4FC562A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2520" y="38862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48920" y="3886200"/>
            <a:ext cx="171036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2520" y="48816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14BD-EDE4-4D07-9C81-70775D6B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2520" y="3886200"/>
            <a:ext cx="3505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1E0-A2FD-411A-9A73-3C183546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2520" y="3886200"/>
            <a:ext cx="171036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48920" y="38862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748920" y="48816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BB67-A372-47D7-8BF2-83451F10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2520" y="38862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48920" y="38862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2520" y="4881600"/>
            <a:ext cx="350532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5C20-A88F-4BD4-88EC-B7D84C43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2520" y="3886200"/>
            <a:ext cx="350532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2520" y="4881600"/>
            <a:ext cx="350532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F35C-981C-46BF-9082-032E406D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520" y="38862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748920" y="38862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2520" y="48816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748920" y="48816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1D95-A80C-4293-91A0-515F0478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2520" y="3886200"/>
            <a:ext cx="11286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38000" y="3886200"/>
            <a:ext cx="11286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23480" y="3886200"/>
            <a:ext cx="11286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2520" y="4881600"/>
            <a:ext cx="11286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6138000" y="4881600"/>
            <a:ext cx="11286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323480" y="4881600"/>
            <a:ext cx="11286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3588-2AFC-483F-B1F0-7FF42E7B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2520" y="3886200"/>
            <a:ext cx="35053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D5B-61FD-407B-8B6F-9C4CF125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2520" y="3886200"/>
            <a:ext cx="171036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48920" y="3886200"/>
            <a:ext cx="171036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691-85A4-484C-8966-5CC6573C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818-A71F-4412-A5B1-0747D1BB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609588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145-A099-4151-A70F-7C690AFA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2520" y="38862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48920" y="3886200"/>
            <a:ext cx="171036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2520" y="48816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2B5-A41D-447E-91B8-5044F25B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2520" y="3886200"/>
            <a:ext cx="171036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48920" y="38862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48920" y="48816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AE0-6646-49E2-A8D6-29A280AD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2520" y="38862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48920" y="3886200"/>
            <a:ext cx="17103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2520" y="4881600"/>
            <a:ext cx="350532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418-24CC-4FDD-ABF1-6A4B2FEF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524280"/>
            <a:ext cx="190512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4360" y="6524640"/>
            <a:ext cx="4608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0095-45BC-4F5D-A8BA-925A564DC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1905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195280" y="6453000"/>
            <a:ext cx="482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ADF1-1CDF-4526-A229-1E833EDD5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34920" y="191628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FAB LAB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PROJEC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43280" y="4149360"/>
            <a:ext cx="4105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ABORATORY OF TELE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George Sergia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ergiadi@auth.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93920" y="347760"/>
          <a:ext cx="5819760" cy="137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3920" y="347760"/>
                    <a:ext cx="581976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BA PROGRAM REVIEW MEDIA LAB M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CTOBER 12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34920" y="191628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ANK YOU FOR YOUR ATTENTION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43280" y="4149360"/>
            <a:ext cx="4105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ABORATORY OF TELE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George Sergia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sergiadi@auth.g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93920" y="347760"/>
          <a:ext cx="5819760" cy="137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3920" y="347760"/>
                    <a:ext cx="581976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BA PROGRAM REVIEW MEDIA LAB M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CTOBER 12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THE WORLD IS WIRELES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8000" y="1844640"/>
            <a:ext cx="6400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51120" y="1647720"/>
            <a:ext cx="54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1989000"/>
            <a:ext cx="58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1773360"/>
            <a:ext cx="648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ommunication is crucial, especially in developing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eploying Mesh-Networks seems to be the 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nfrastructure equipment cost should remain very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802.11 radios are very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ntenna costs still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A PROGRAM REVIEW MEDIA LAB M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2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ntenna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9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2487600" cy="4751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932360" y="4005360"/>
            <a:ext cx="3313080" cy="2496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23440" y="328356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rice: $349.90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364000" y="11253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A PROGRAM REVIEW MEDIA LAB M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2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Fab Lab WiFi Antenna Project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49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1557360"/>
            <a:ext cx="563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Window 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elf adhesive co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AD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lexible low-loss cable, or no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411280" y="3716280"/>
            <a:ext cx="5759640" cy="245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A PROGRAM REVIEW MEDIA LAB 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2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aramond"/>
              </a:rPr>
              <a:t>    “</a:t>
            </a:r>
            <a:r>
              <a:rPr b="1" lang="en-GB" sz="3600" spc="-1" strike="noStrike">
                <a:solidFill>
                  <a:srgbClr val="000000"/>
                </a:solidFill>
                <a:latin typeface="Garamond"/>
              </a:rPr>
              <a:t>Isotropic” Antenna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49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1700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ain 3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987640" y="270828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A PROGRAM REVIEW MEDIA LAB 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2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en-GB" sz="3600" spc="-1" strike="noStrike">
                <a:solidFill>
                  <a:srgbClr val="000000"/>
                </a:solidFill>
                <a:latin typeface="Garamond"/>
              </a:rPr>
              <a:t>Higher gain Array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9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>
            <a:lum contrast="66000"/>
          </a:blip>
          <a:stretch/>
        </p:blipFill>
        <p:spPr>
          <a:xfrm>
            <a:off x="2484360" y="2421000"/>
            <a:ext cx="5616720" cy="3930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95640" y="1700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rectivity 1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H /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V- Gain 9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A PROGRAM REVIEW MEDIA LAB 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2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aramond"/>
              </a:rPr>
              <a:t>New approaches – Planar Antenna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9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1844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ain &gt;9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835280" y="2276640"/>
            <a:ext cx="6913440" cy="402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A PROGRAM REVIEW MEDIA LAB 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2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en-GB" sz="3600" spc="-1" strike="noStrike">
                <a:solidFill>
                  <a:srgbClr val="000000"/>
                </a:solidFill>
                <a:latin typeface="Garamond"/>
              </a:rPr>
              <a:t>Higher gain planar antenna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49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1700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lanar structure - Gain &gt;12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835280" y="2133720"/>
            <a:ext cx="6913440" cy="406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A PROGRAM REVIEW MEDIA LAB 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2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Achieved Target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49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1773360"/>
            <a:ext cx="68403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1792440"/>
            <a:ext cx="56894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Very low cost, 1 or 2 US 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Low manufacturing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ab Lab easily reproducible, by unskilled “Fablabers”, using the Fab Lab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A PROGRAM REVIEW MEDIA LAB 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2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6:28:18Z</dcterms:created>
  <dc:creator>Alexiadis</dc:creator>
  <dc:description/>
  <dc:language>en-US</dc:language>
  <cp:lastModifiedBy>G. Sergiadis</cp:lastModifiedBy>
  <dcterms:modified xsi:type="dcterms:W3CDTF">2006-10-11T13:29:11Z</dcterms:modified>
  <cp:revision>197</cp:revision>
  <dc:subject/>
  <dc:title>No Slide Title</dc:title>
</cp:coreProperties>
</file>