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jpeg" ContentType="image/jpeg"/>
  <Override PartName="/ppt/media/image9.wmf" ContentType="image/x-wmf"/>
  <Override PartName="/ppt/media/image6.jpeg" ContentType="image/jpeg"/>
  <Override PartName="/ppt/media/image11.jpeg" ContentType="image/jpeg"/>
  <Override PartName="/ppt/media/image7.png" ContentType="image/png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C8CBB-1837-48C7-97CB-EDE3CF35B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LS=dynamic light scattering, UV-Vis= UV, visible spectroscop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can: Brush-like molecule found in cartilage tissue, 400nm long, made individually by cell. Health of aggrecan determines the health of your joint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F63DC-DE3C-4209-97F4-E56445297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7BCA0-FC17-432A-9E40-43BB8F64A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3D7AD-81BC-4BDA-B462-4E9548317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EA720-710B-4B42-BC04-566332148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57B04-AA1F-46BF-9DA8-41394A0AD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F969D-BB02-4C3D-93F9-785102066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06E4C-197D-44E1-87BD-134CD132E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0F011-CD5F-45AA-BEA4-C3766E913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F5ED3-D6F0-4AA0-9B4C-A49397B67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AA5EE-D07B-4EF2-A5C2-2A849FD4C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50858-A014-4BE7-BA13-C8077AE5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1F4B1-07EE-40DC-B5D4-1EF8D9E3B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40FC5-55D2-4E0C-88AE-6BA7FE86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EB2E3-EDB8-4F20-B8A0-9962099F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BCCE2-ED8C-4368-B388-06768474B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5EE29-0598-414B-AF3D-191E70A08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C0596-B2D5-43FB-BE4F-9F4A5DC20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3EFC3-ED11-4DAE-888E-C1533D377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A4363-07E6-4921-9126-26877A13A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27BD5-E3B7-49DC-BF79-FC27A3F85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39F9A-B70B-499E-BBAA-E625EAA78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4D848-3E8E-4FF0-9FE5-7061C5EF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C486E-16A1-4C35-B0F8-EE536D4C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37570-B0AB-4FC5-AD7A-4422403A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60BE4-DDF6-428E-A618-F168ACD5EC5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AD8C9-9E5C-4D55-957B-B72EB8211D5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Dielectric Spectroscopy in a Variable Nanometer Gap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velop an instrument to confine fluids in nanometer-thin film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tudy their properties using electrochemical impedance measuremen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403848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ypothe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4876920"/>
            <a:ext cx="82296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ake advantage of nanoscale effects of fluids to create a new type of electrochemical sens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mplementary instrument to NMR, DLS, UV-Vis, atomic absorpt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Prof. Alexander H. Slocum and Hongshen 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tudying the electrokinetic properties of large molecule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f. Al Grodzinsky: aggreca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Hydrodynamic permeability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Rigidity of the aggrecan core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4572000"/>
            <a:ext cx="822960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ow-cost blood osmolality me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attery and supercapacitor re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ow-cost drinking water monit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onitoring industrial chemicals (low conductivity fluids, e.g. oils and cryogenic fluid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329000" y="2057400"/>
            <a:ext cx="1462320" cy="149868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2762280" y="2057400"/>
            <a:ext cx="1733400" cy="1477800"/>
            <a:chOff x="2762280" y="2057400"/>
            <a:chExt cx="1733400" cy="1477800"/>
          </a:xfrm>
        </p:grpSpPr>
        <p:grpSp>
          <p:nvGrpSpPr>
            <p:cNvPr id="116" name=""/>
            <p:cNvGrpSpPr/>
            <p:nvPr/>
          </p:nvGrpSpPr>
          <p:grpSpPr>
            <a:xfrm>
              <a:off x="2762280" y="2057400"/>
              <a:ext cx="1733400" cy="1477800"/>
              <a:chOff x="2762280" y="2057400"/>
              <a:chExt cx="1733400" cy="1477800"/>
            </a:xfrm>
          </p:grpSpPr>
          <p:pic>
            <p:nvPicPr>
              <p:cNvPr id="11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837520" y="2057400"/>
                <a:ext cx="1495080" cy="120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" name=""/>
              <p:cNvSpPr/>
              <p:nvPr/>
            </p:nvSpPr>
            <p:spPr>
              <a:xfrm>
                <a:off x="2762280" y="3230640"/>
                <a:ext cx="17334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  <a:ea typeface="SimSun"/>
                  </a:rPr>
                  <a:t> 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  <a:ea typeface="SimSun"/>
                  </a:rPr>
                  <a:t>Aggrecan monomer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3148560" y="2786040"/>
              <a:ext cx="533520" cy="234720"/>
              <a:chOff x="3148560" y="2786040"/>
              <a:chExt cx="533520" cy="234720"/>
            </a:xfrm>
          </p:grpSpPr>
          <p:sp>
            <p:nvSpPr>
              <p:cNvPr id="120" name=""/>
              <p:cNvSpPr/>
              <p:nvPr/>
            </p:nvSpPr>
            <p:spPr>
              <a:xfrm>
                <a:off x="3222000" y="2896200"/>
                <a:ext cx="230040" cy="0"/>
              </a:xfrm>
              <a:prstGeom prst="line">
                <a:avLst/>
              </a:prstGeom>
              <a:ln w="1332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148560" y="2786040"/>
                <a:ext cx="533520" cy="23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514"/>
                    </a:solidFill>
                    <a:latin typeface="Arial Narrow"/>
                    <a:ea typeface="SimSun"/>
                  </a:rPr>
                  <a:t>50nm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35000" y="2058840"/>
            <a:ext cx="2760480" cy="14241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5867280" y="1981080"/>
            <a:ext cx="327672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Flat versus Spherical Electrod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97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24691" t="27270" r="20968" b="34449"/>
          <a:stretch/>
        </p:blipFill>
        <p:spPr>
          <a:xfrm>
            <a:off x="228600" y="1066680"/>
            <a:ext cx="4191120" cy="1836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rcRect l="0" t="12058" r="8750" b="23649"/>
          <a:stretch/>
        </p:blipFill>
        <p:spPr>
          <a:xfrm>
            <a:off x="4724280" y="1066680"/>
            <a:ext cx="4191120" cy="18367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04920" y="2895480"/>
            <a:ext cx="3962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ifficult to maintain parallelis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76920" y="2895480"/>
            <a:ext cx="3962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lectrodes always tang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876920" y="5867280"/>
            <a:ext cx="3962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Tungsten carbide or Si-Nitride ball, Ra = 4nm, ~$6 eac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rcRect l="51876" t="4945" r="313" b="58607"/>
          <a:stretch/>
        </p:blipFill>
        <p:spPr>
          <a:xfrm>
            <a:off x="228600" y="3352680"/>
            <a:ext cx="4191120" cy="24368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80880" y="5867280"/>
            <a:ext cx="3962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Si wafer, Ra = 1n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1364973825ns%20W2C%20and%20SiN+Pt" descr=""/>
          <p:cNvPicPr/>
          <p:nvPr/>
        </p:nvPicPr>
        <p:blipFill>
          <a:blip r:embed="rId4"/>
          <a:srcRect l="0" t="0" r="50004" b="0"/>
          <a:stretch/>
        </p:blipFill>
        <p:spPr>
          <a:xfrm>
            <a:off x="4724280" y="3352680"/>
            <a:ext cx="419112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isposable Fluid Cell Cartridg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i-Nitride ball, 60nm Pt fil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6858000" cy="40100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57200" y="6324480"/>
            <a:ext cx="8229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Patent Pend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lexure Mechanis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0" y="1066680"/>
          <a:ext cx="9144000" cy="536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6680"/>
                    <a:ext cx="9144000" cy="536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457200" y="6469200"/>
            <a:ext cx="8229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Patent Pend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sul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3" name="2632466691mM%20NaCl%20annotated" descr=""/>
          <p:cNvPicPr/>
          <p:nvPr/>
        </p:nvPicPr>
        <p:blipFill>
          <a:blip r:embed="rId1"/>
          <a:stretch/>
        </p:blipFill>
        <p:spPr>
          <a:xfrm>
            <a:off x="838080" y="1230480"/>
            <a:ext cx="7467840" cy="52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ongshen Ma</cp:lastModifiedBy>
  <dcterms:modified xsi:type="dcterms:W3CDTF">2006-10-11T04:28:11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