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18313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18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09720" y="4669920"/>
            <a:ext cx="4998960" cy="41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081080" y="934920"/>
            <a:ext cx="4657680" cy="322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78280" y="111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78280" y="93218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31680" y="9321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1680" y="111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09720" y="4669920"/>
            <a:ext cx="49989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081080" y="934920"/>
            <a:ext cx="4657680" cy="3224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73324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33720" y="3816360"/>
            <a:ext cx="73324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1040" y="129852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720" y="381636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91040" y="381636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23608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3040" y="1298520"/>
            <a:ext cx="23608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092360" y="1298520"/>
            <a:ext cx="23608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33720" y="3816360"/>
            <a:ext cx="23608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13040" y="3816360"/>
            <a:ext cx="23608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092360" y="3816360"/>
            <a:ext cx="23608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33720" y="1298520"/>
            <a:ext cx="733248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733248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35780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91040" y="1298520"/>
            <a:ext cx="35780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33720" y="414360"/>
            <a:ext cx="73562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91040" y="1298520"/>
            <a:ext cx="35780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33720" y="381636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35780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91040" y="129852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91040" y="381636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91040" y="1298520"/>
            <a:ext cx="3578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33720" y="3816360"/>
            <a:ext cx="733248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8800" y="6676920"/>
            <a:ext cx="2430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omation BU/Connectivity and PS/AGP – T. Snide – 10/12/20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5680" y="6238800"/>
            <a:ext cx="918684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133720" y="1298520"/>
            <a:ext cx="733248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51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263520">
              <a:spcBef>
                <a:spcPts val="451"/>
              </a:spcBef>
              <a:buClr>
                <a:srgbClr val="008000"/>
              </a:buClr>
              <a:buSzPct val="85000"/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90440"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190440"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8160" y="6686640"/>
            <a:ext cx="85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3B2042D1-F664-4E8C-8649-4B129ABB4EA7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114800" y="6332400"/>
            <a:ext cx="1079640" cy="466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906120" cy="28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3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utomation Business Unit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Quality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Excellence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2880" y="257040"/>
            <a:ext cx="1942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American Global Products</a:t>
            </a:r>
            <a:br>
              <a:rPr sz="1100"/>
            </a:b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Science &amp; Technolo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3360" y="2023560"/>
            <a:ext cx="54417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0 @ Schneider Electric </a:t>
            </a:r>
            <a:br>
              <a:rPr sz="26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d A. Snide,  12 October 2006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5040360"/>
            <a:ext cx="3500280" cy="1471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057480"/>
            <a:ext cx="2070000" cy="84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1480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utomation Business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057400"/>
            <a:ext cx="5486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br>
              <a:rPr sz="2600"/>
            </a:br>
            <a:br>
              <a:rPr sz="2600"/>
            </a:br>
            <a:br>
              <a:rPr sz="1800"/>
            </a:br>
            <a:br>
              <a:rPr sz="18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1059" t="0" r="6814" b="0"/>
          <a:stretch/>
        </p:blipFill>
        <p:spPr>
          <a:xfrm>
            <a:off x="4114800" y="762120"/>
            <a:ext cx="543708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Internet 0 Value Proposi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5880" y="990360"/>
            <a:ext cx="337032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t all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models require different protocols and translation to commun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 model uses IP communications at all levels; no trans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spcBef>
                <a:spcPts val="400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Effective for Simple De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using the power lines for communication, Internet 0 has a lower port cost and installation c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tential total cost for components can be &lt; 1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no cabl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048120" cy="183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352680" y="1278000"/>
            <a:ext cx="1371600" cy="108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198108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990720"/>
            <a:ext cx="563904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petitor’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3657600"/>
            <a:ext cx="5639040" cy="2514600"/>
            <a:chOff x="380880" y="3657600"/>
            <a:chExt cx="5639040" cy="25146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33520" y="3959280"/>
              <a:ext cx="3047760" cy="183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3581280" y="4191120"/>
              <a:ext cx="1371600" cy="1218600"/>
              <a:chOff x="3581280" y="4191120"/>
              <a:chExt cx="1371600" cy="1218600"/>
            </a:xfrm>
          </p:grpSpPr>
          <p:pic>
            <p:nvPicPr>
              <p:cNvPr id="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81280" y="4325400"/>
                <a:ext cx="1371600" cy="108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3708720" y="4191120"/>
                <a:ext cx="988560" cy="1107000"/>
              </a:xfrm>
              <a:prstGeom prst="noSmoking">
                <a:avLst>
                  <a:gd name="adj" fmla="val 12500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80880" y="3657600"/>
              <a:ext cx="5639040" cy="251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Schneider Electric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419720" y="50292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Arial"/>
              </a:rPr>
              <a:t>&lt; 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tential I0 Applications for Schneider Electri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38680" y="990360"/>
            <a:ext cx="382752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strial Auto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irst target devices are simple items such as push buttons, pilot lights, relays, thermometers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s that do not change state often and can support a low data rate (1 megabit per second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irst Schneider Electric version of Internet 0 Devices are 24 Volt DC ba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ing Auto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ing, HVAC applications, sensory, energy sav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spcBef>
                <a:spcPts val="3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ical Dis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 panel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spcBef>
                <a:spcPts val="3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Internet 0 network is proven reliable, higher-end devices can be suppor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9840" y="990720"/>
            <a:ext cx="2582640" cy="2743200"/>
            <a:chOff x="339840" y="990720"/>
            <a:chExt cx="2582640" cy="27432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454040" y="2614680"/>
              <a:ext cx="1212840" cy="1119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0" name=""/>
            <p:cNvGraphicFramePr/>
            <p:nvPr/>
          </p:nvGraphicFramePr>
          <p:xfrm>
            <a:off x="339840" y="1830240"/>
            <a:ext cx="1181160" cy="1559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9840" y="1830240"/>
                      <a:ext cx="1181160" cy="15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1212840" y="1494000"/>
              <a:ext cx="121140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727200" y="990720"/>
              <a:ext cx="7761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676520" y="1066680"/>
              <a:ext cx="1245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</a:rPr>
                <a:t>Push But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0" y="1382760"/>
            <a:ext cx="630360" cy="195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124080" y="1143000"/>
            <a:ext cx="1981440" cy="2057400"/>
            <a:chOff x="3124080" y="1143000"/>
            <a:chExt cx="1981440" cy="2057400"/>
          </a:xfrm>
        </p:grpSpPr>
        <p:graphicFrame>
          <p:nvGraphicFramePr>
            <p:cNvPr id="77" name=""/>
            <p:cNvGraphicFramePr/>
            <p:nvPr/>
          </p:nvGraphicFramePr>
          <p:xfrm>
            <a:off x="3124080" y="1984320"/>
            <a:ext cx="905040" cy="121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1984320"/>
                      <a:ext cx="90504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9" name="" descr=""/>
            <p:cNvPicPr/>
            <p:nvPr/>
          </p:nvPicPr>
          <p:blipFill>
            <a:blip r:embed="rId8"/>
            <a:stretch/>
          </p:blipFill>
          <p:spPr>
            <a:xfrm>
              <a:off x="3833640" y="1143000"/>
              <a:ext cx="104328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114800" y="259092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</a:rPr>
                <a:t>Pilot Ligh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5200" y="3686040"/>
            <a:ext cx="2725560" cy="2486160"/>
            <a:chOff x="1465200" y="3686040"/>
            <a:chExt cx="2725560" cy="2486160"/>
          </a:xfrm>
        </p:grpSpPr>
        <p:pic>
          <p:nvPicPr>
            <p:cNvPr id="82" name="" descr=""/>
            <p:cNvPicPr/>
            <p:nvPr/>
          </p:nvPicPr>
          <p:blipFill>
            <a:blip r:embed="rId9"/>
            <a:stretch/>
          </p:blipFill>
          <p:spPr>
            <a:xfrm>
              <a:off x="2886120" y="3686040"/>
              <a:ext cx="1279440" cy="130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1465200" y="4114800"/>
              <a:ext cx="2725560" cy="2057400"/>
              <a:chOff x="1465200" y="4114800"/>
              <a:chExt cx="2725560" cy="2057400"/>
            </a:xfrm>
          </p:grpSpPr>
          <p:pic>
            <p:nvPicPr>
              <p:cNvPr id="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65200" y="4114800"/>
                <a:ext cx="1277640" cy="130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12760" y="4862520"/>
                <a:ext cx="1278000" cy="130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2057040" y="5715000"/>
                <a:ext cx="11113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Arial"/>
                  </a:rPr>
                  <a:t>Relay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this demonstratio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38120" y="1298520"/>
            <a:ext cx="54277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ddress three key questions about the techn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it work in Schneider product applica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the technical capabilities and limita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 per node costs as advertis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spcBef>
                <a:spcPts val="400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hose the Schneider Electric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600" spc="-1" strike="noStrike">
                <a:solidFill>
                  <a:srgbClr val="0033cc"/>
                </a:solidFill>
                <a:latin typeface="Comic Sans MS"/>
              </a:rPr>
              <a:t>All in one panel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architectu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help validate the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Internet 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t is a fully contained network usually with a communication path to a control network which closely matches our prototyping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spcBef>
                <a:spcPts val="3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t has sufficient number of devices using 24 volts DC where most of the communication will be local to the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spcBef>
                <a:spcPts val="3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ach panel has a different function which will prove out our networking model for Internet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1134720" y="3611160"/>
            <a:ext cx="17442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4d4d4d"/>
            </a:solidFill>
            <a:miter/>
          </a:ln>
          <a:effectLst>
            <a:outerShdw dist="89604" dir="2700000" blurRad="0" rotWithShape="0">
              <a:srgbClr val="a7a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sz="1600" spc="-1" strike="noStrike">
                <a:solidFill>
                  <a:srgbClr val="003399"/>
                </a:solidFill>
                <a:latin typeface="Comic Sans MS"/>
              </a:rPr>
              <a:t>All in one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387440"/>
            <a:ext cx="3352320" cy="1904400"/>
            <a:chOff x="304920" y="1387440"/>
            <a:chExt cx="3352320" cy="1904400"/>
          </a:xfrm>
        </p:grpSpPr>
        <p:sp>
          <p:nvSpPr>
            <p:cNvPr id="91" name=""/>
            <p:cNvSpPr/>
            <p:nvPr/>
          </p:nvSpPr>
          <p:spPr>
            <a:xfrm>
              <a:off x="304920" y="1387440"/>
              <a:ext cx="3352320" cy="1904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75520" y="1475640"/>
              <a:ext cx="558000" cy="4449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4d4d4d"/>
                  </a:solidFill>
                  <a:latin typeface="Arial"/>
                </a:rPr>
                <a:t>Safe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21360" y="1788480"/>
              <a:ext cx="558000" cy="437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010000"/>
                  </a:solidFill>
                  <a:latin typeface="Arial"/>
                </a:rPr>
                <a:t>Pow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010000"/>
                  </a:solidFill>
                  <a:latin typeface="Arial"/>
                </a:rPr>
                <a:t>suppl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66040" y="2684520"/>
              <a:ext cx="489240" cy="437760"/>
            </a:xfrm>
            <a:prstGeom prst="rect">
              <a:avLst/>
            </a:prstGeom>
            <a:solidFill>
              <a:srgbClr val="99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000000"/>
                  </a:solidFill>
                  <a:latin typeface="Arial"/>
                </a:rPr>
                <a:t>Mo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7680" y="2504520"/>
              <a:ext cx="312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75520" y="236520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2360" y="1913760"/>
              <a:ext cx="237240" cy="4377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4d4d4d"/>
                  </a:solidFill>
                  <a:latin typeface="Arial"/>
                </a:rPr>
                <a:t>I/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2800" y="250452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20200" y="1910160"/>
              <a:ext cx="631800" cy="4377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3320" y="2680560"/>
              <a:ext cx="489600" cy="441720"/>
            </a:xfrm>
            <a:prstGeom prst="rect">
              <a:avLst/>
            </a:prstGeom>
            <a:solidFill>
              <a:srgbClr val="99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000000"/>
                  </a:solidFill>
                  <a:latin typeface="Arial"/>
                </a:rPr>
                <a:t>start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67600" y="2684520"/>
              <a:ext cx="489600" cy="437760"/>
            </a:xfrm>
            <a:prstGeom prst="rect">
              <a:avLst/>
            </a:prstGeom>
            <a:solidFill>
              <a:srgbClr val="99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18040" y="2514240"/>
              <a:ext cx="0" cy="1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23320" y="25142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23320" y="25142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8080" y="25142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9120" y="1764360"/>
              <a:ext cx="489240" cy="437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600" spc="-1" strike="noStrike">
                  <a:solidFill>
                    <a:srgbClr val="010000"/>
                  </a:solidFill>
                  <a:latin typeface="Arial"/>
                </a:rPr>
                <a:t>HM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18080" y="2904840"/>
              <a:ext cx="1306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10600" y="2684520"/>
              <a:ext cx="489600" cy="4377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500" spc="-1" strike="noStrike">
                  <a:solidFill>
                    <a:srgbClr val="4d4d4d"/>
                  </a:solidFill>
                  <a:latin typeface="Arial"/>
                </a:rPr>
                <a:t>I/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78360" y="2042280"/>
              <a:ext cx="1418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33880" y="2684520"/>
              <a:ext cx="489240" cy="4377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sz="500" spc="-1" strike="noStrike">
                  <a:solidFill>
                    <a:srgbClr val="4d4d4d"/>
                  </a:solidFill>
                  <a:latin typeface="Arial"/>
                </a:rPr>
                <a:t>I/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298520"/>
            <a:ext cx="481788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etwork of 25 Internet 0 nodes has been developed using simple Industrial Automation devi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-lights, push-buttons and push-button/pilot ligh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Internet 0 SLIP bridge is used to interface to a compu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etwork operates at 24 volts DC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etwork works at its original speed with no speed improvements added at this time. (about 400 kilobits per seco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ximum distance for communication between 2 nodes to date has been 31 mete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ignal was degraded but the true distance limit of communication has not been determined but is certainly longer than 30 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ly connection to the node and device combination is the two wire power li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64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portunitie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733248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character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randomized traffic from severa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4-corner testing; max # of nodes, max. distance, max daisy-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some “noisy” devices in th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mprovements (without added co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the bit width, time between bytes and time between packets is fixed and very long, shorten the time between the bytes and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 the collision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packets to be interleaved during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 the current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internal operating speed of the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mprovements (increased co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the processor at 20MHz using and external crystal and capac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de-off between network speed and node cost will need to be character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720" y="414360"/>
            <a:ext cx="735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1298520"/>
            <a:ext cx="733248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0 is viable for simple devices in All-In-One-Pane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263520">
              <a:spcBef>
                <a:spcPts val="499"/>
              </a:spcBef>
              <a:buClr>
                <a:srgbClr val="008000"/>
              </a:buClr>
              <a:buSzPct val="85000"/>
              <a:buFont typeface="Arial"/>
              <a:buChar char="–"/>
              <a:tabLst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 simple devices is truly v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263520">
              <a:spcBef>
                <a:spcPts val="499"/>
              </a:spcBef>
              <a:buClr>
                <a:srgbClr val="008000"/>
              </a:buClr>
              <a:buSzPct val="85000"/>
              <a:buFont typeface="Arial"/>
              <a:buChar char="–"/>
              <a:tabLst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duction of the per node cost is signif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263520">
              <a:spcBef>
                <a:spcPts val="499"/>
              </a:spcBef>
              <a:buClr>
                <a:srgbClr val="008000"/>
              </a:buClr>
              <a:buSzPct val="85000"/>
              <a:buFont typeface="Arial"/>
              <a:buChar char="–"/>
              <a:tabLst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sibility a network administrator can have with Internet 0 is greatly enh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0">
              <a:spcBef>
                <a:spcPts val="249"/>
              </a:spcBef>
              <a:buNone/>
              <a:tabLst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orth exploring the use of Internet 0 in higher performance devices and Human Machine Interface-like dev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believe other Schneider Electric business units could use Internet 0 in other physical medi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12:48:19Z</dcterms:created>
  <dc:creator>Greg Lakis</dc:creator>
  <dc:description/>
  <cp:keywords/>
  <dc:language>en-US</dc:language>
  <cp:lastModifiedBy>Schneider Automation</cp:lastModifiedBy>
  <cp:lastPrinted>2003-03-13T08:43:31Z</cp:lastPrinted>
  <dcterms:modified xsi:type="dcterms:W3CDTF">2006-10-11T16:58:11Z</dcterms:modified>
  <cp:revision>61</cp:revision>
  <dc:subject/>
  <dc:title>Internet 0 Corporate Demonstration    Todd A. Snide,  20 July 2006 </dc:title>
</cp:coreProperties>
</file>