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F9F5-8142-435E-A8C4-37B5BB0B0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C0DB-A94D-4DE4-915C-CC2CEEF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F8DA-98F2-4872-8BD5-F140CF0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50D2-5BE8-442D-B3E2-3D15B2210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093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881F-980A-4ED5-85F6-6A04F44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070E-0718-4EE7-913E-9BC131B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0FB6-BA1C-481A-9ECC-173E365E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6D5D-AAF9-47DE-8236-85B6B27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093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179B-C5BF-4031-986F-A00364CA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2417-A6D7-4478-8CCF-143BFAC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FCE4-302E-4D86-AD36-AF8F635A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5EB8-7CA6-4056-89A9-5507C54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9480" y="380880"/>
            <a:ext cx="5029200" cy="1379520"/>
            <a:chOff x="609480" y="380880"/>
            <a:chExt cx="5029200" cy="13795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502920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981080" y="380880"/>
              <a:ext cx="3657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ab282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lins/I0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987-F10F-4EB2-B3C1-C44B52C59F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91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57240">
            <a:solidFill>
              <a:srgbClr val="b50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6675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2" marL="914400" indent="-57240" algn="ctr">
              <a:spcBef>
                <a:spcPts val="601"/>
              </a:spcBef>
              <a:buClr>
                <a:srgbClr val="ab282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a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1a5b"/>
              </a:solidFill>
              <a:latin typeface="Arial"/>
            </a:endParaRPr>
          </a:p>
          <a:p>
            <a:pPr lvl="3" marL="1371600" indent="-171360" algn="ctr">
              <a:spcBef>
                <a:spcPts val="499"/>
              </a:spcBef>
              <a:buClr>
                <a:srgbClr val="ab282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4" marL="1828800" indent="-285840" algn="ctr">
              <a:spcBef>
                <a:spcPts val="499"/>
              </a:spcBef>
              <a:buClr>
                <a:srgbClr val="ab282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5" marL="182880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6" marL="182880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Internet Ø: Introduction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Karen Sollins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MIT CSAIL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0417"/>
                </a:solidFill>
                <a:latin typeface="Arial"/>
              </a:rPr>
              <a:t>October 12, 2006</a:t>
            </a:r>
            <a:endParaRPr b="0" lang="en-US" sz="3200" spc="-1" strike="noStrike">
              <a:solidFill>
                <a:srgbClr val="b504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Lighting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Air temp and flow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Power mgmt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Elevators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Sensors/embedded devices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a5b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Extremely inexpensive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Extremely small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Low communication footprint: slow and low volume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Direct peer communication (where possible)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a5b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05520" y="2057400"/>
            <a:ext cx="3276360" cy="2057400"/>
            <a:chOff x="5105520" y="2057400"/>
            <a:chExt cx="3276360" cy="2057400"/>
          </a:xfrm>
        </p:grpSpPr>
        <p:grpSp>
          <p:nvGrpSpPr>
            <p:cNvPr id="89" name=""/>
            <p:cNvGrpSpPr/>
            <p:nvPr/>
          </p:nvGrpSpPr>
          <p:grpSpPr>
            <a:xfrm>
              <a:off x="5263200" y="2133720"/>
              <a:ext cx="2961360" cy="1860120"/>
              <a:chOff x="5263200" y="2133720"/>
              <a:chExt cx="2961360" cy="18601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5263200" y="2133720"/>
                <a:ext cx="1052280" cy="1860120"/>
                <a:chOff x="5263200" y="2133720"/>
                <a:chExt cx="1052280" cy="1860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63200" y="2741040"/>
                  <a:ext cx="1052280" cy="63144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Layer 2/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odul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382720" y="3686760"/>
                  <a:ext cx="81324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ed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614200" y="2133720"/>
                  <a:ext cx="34992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I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4" name=""/>
                <p:cNvCxnSpPr>
                  <a:stCxn id="93" idx="2"/>
                  <a:endCxn id="91" idx="0"/>
                </p:cNvCxnSpPr>
                <p:nvPr/>
              </p:nvCxnSpPr>
              <p:spPr>
                <a:xfrm>
                  <a:off x="5788440" y="2409120"/>
                  <a:ext cx="1080" cy="33228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95" name=""/>
                <p:cNvCxnSpPr>
                  <a:stCxn id="91" idx="2"/>
                  <a:endCxn id="92" idx="0"/>
                </p:cNvCxnSpPr>
                <p:nvPr/>
              </p:nvCxnSpPr>
              <p:spPr>
                <a:xfrm>
                  <a:off x="5788440" y="3299760"/>
                  <a:ext cx="1080" cy="38736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  <p:grpSp>
            <p:nvGrpSpPr>
              <p:cNvPr id="96" name=""/>
              <p:cNvGrpSpPr/>
              <p:nvPr/>
            </p:nvGrpSpPr>
            <p:grpSpPr>
              <a:xfrm>
                <a:off x="7172280" y="2133720"/>
                <a:ext cx="1052280" cy="1860120"/>
                <a:chOff x="7172280" y="2133720"/>
                <a:chExt cx="1052280" cy="1860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172280" y="2741040"/>
                  <a:ext cx="1052280" cy="63144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Layer 2/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odul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291800" y="3686760"/>
                  <a:ext cx="81324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ed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523280" y="2133720"/>
                  <a:ext cx="34992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I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0" name=""/>
                <p:cNvCxnSpPr>
                  <a:stCxn id="99" idx="2"/>
                  <a:endCxn id="97" idx="0"/>
                </p:cNvCxnSpPr>
                <p:nvPr/>
              </p:nvCxnSpPr>
              <p:spPr>
                <a:xfrm>
                  <a:off x="7697520" y="2409120"/>
                  <a:ext cx="1080" cy="33228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01" name=""/>
                <p:cNvCxnSpPr>
                  <a:stCxn id="97" idx="2"/>
                  <a:endCxn id="98" idx="0"/>
                </p:cNvCxnSpPr>
                <p:nvPr/>
              </p:nvCxnSpPr>
              <p:spPr>
                <a:xfrm>
                  <a:off x="7697520" y="3299760"/>
                  <a:ext cx="1080" cy="38736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  <p:sp>
            <p:nvSpPr>
              <p:cNvPr id="102" name=""/>
              <p:cNvSpPr/>
              <p:nvPr/>
            </p:nvSpPr>
            <p:spPr>
              <a:xfrm>
                <a:off x="6555600" y="2741040"/>
                <a:ext cx="381600" cy="540000"/>
              </a:xfrm>
              <a:prstGeom prst="rect">
                <a:avLst/>
              </a:prstGeom>
              <a:noFill/>
              <a:ln w="6480">
                <a:solidFill>
                  <a:srgbClr val="091a5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"/>
              <p:cNvCxnSpPr>
                <a:stCxn id="91" idx="3"/>
                <a:endCxn id="102" idx="1"/>
              </p:cNvCxnSpPr>
              <p:nvPr/>
            </p:nvCxnSpPr>
            <p:spPr>
              <a:xfrm flipV="1">
                <a:off x="6320160" y="3010680"/>
                <a:ext cx="236160" cy="1044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04" name=""/>
              <p:cNvCxnSpPr>
                <a:stCxn id="102" idx="3"/>
                <a:endCxn id="97" idx="1"/>
              </p:cNvCxnSpPr>
              <p:nvPr/>
            </p:nvCxnSpPr>
            <p:spPr>
              <a:xfrm>
                <a:off x="6937560" y="3011040"/>
                <a:ext cx="229680" cy="1044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05" name=""/>
              <p:cNvCxnSpPr>
                <a:stCxn id="93" idx="3"/>
                <a:endCxn id="99" idx="1"/>
              </p:cNvCxnSpPr>
              <p:nvPr/>
            </p:nvCxnSpPr>
            <p:spPr>
              <a:xfrm>
                <a:off x="5968800" y="2270880"/>
                <a:ext cx="1550160" cy="108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06" name=""/>
            <p:cNvSpPr/>
            <p:nvPr/>
          </p:nvSpPr>
          <p:spPr>
            <a:xfrm>
              <a:off x="5105520" y="2057400"/>
              <a:ext cx="3276360" cy="2057400"/>
            </a:xfrm>
            <a:prstGeom prst="rect">
              <a:avLst/>
            </a:prstGeom>
            <a:noFill/>
            <a:ln w="6480">
              <a:solidFill>
                <a:srgbClr val="091a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05520" y="4572000"/>
            <a:ext cx="3276360" cy="2057400"/>
            <a:chOff x="5105520" y="4572000"/>
            <a:chExt cx="3276360" cy="2057400"/>
          </a:xfrm>
        </p:grpSpPr>
        <p:grpSp>
          <p:nvGrpSpPr>
            <p:cNvPr id="108" name=""/>
            <p:cNvGrpSpPr/>
            <p:nvPr/>
          </p:nvGrpSpPr>
          <p:grpSpPr>
            <a:xfrm>
              <a:off x="5262480" y="4648320"/>
              <a:ext cx="2808720" cy="1866240"/>
              <a:chOff x="5262480" y="4648320"/>
              <a:chExt cx="2808720" cy="18662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262480" y="4648320"/>
                <a:ext cx="1052280" cy="1866240"/>
                <a:chOff x="5262480" y="4648320"/>
                <a:chExt cx="1052280" cy="18662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2480" y="5257800"/>
                  <a:ext cx="1052280" cy="63144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Layer 2/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odul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97120" y="6207480"/>
                  <a:ext cx="81324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ed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613840" y="4648320"/>
                  <a:ext cx="34992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I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13" name=""/>
                <p:cNvCxnSpPr>
                  <a:stCxn id="112" idx="2"/>
                  <a:endCxn id="110" idx="0"/>
                </p:cNvCxnSpPr>
                <p:nvPr/>
              </p:nvCxnSpPr>
              <p:spPr>
                <a:xfrm>
                  <a:off x="5788800" y="4924800"/>
                  <a:ext cx="1080" cy="33336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14" name=""/>
                <p:cNvCxnSpPr>
                  <a:stCxn id="110" idx="2"/>
                  <a:endCxn id="111" idx="0"/>
                </p:cNvCxnSpPr>
                <p:nvPr/>
              </p:nvCxnSpPr>
              <p:spPr>
                <a:xfrm>
                  <a:off x="5788800" y="5817960"/>
                  <a:ext cx="1080" cy="38880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  <p:grpSp>
            <p:nvGrpSpPr>
              <p:cNvPr id="115" name=""/>
              <p:cNvGrpSpPr/>
              <p:nvPr/>
            </p:nvGrpSpPr>
            <p:grpSpPr>
              <a:xfrm>
                <a:off x="7018920" y="4648320"/>
                <a:ext cx="1052280" cy="1866240"/>
                <a:chOff x="7018920" y="4648320"/>
                <a:chExt cx="1052280" cy="1866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018920" y="5257800"/>
                  <a:ext cx="1052280" cy="63144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Layer 2/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odul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37720" y="6207480"/>
                  <a:ext cx="81324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Med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70280" y="4648320"/>
                  <a:ext cx="349920" cy="307080"/>
                </a:xfrm>
                <a:prstGeom prst="rect">
                  <a:avLst/>
                </a:prstGeom>
                <a:noFill/>
                <a:ln w="6480">
                  <a:solidFill>
                    <a:srgbClr val="091a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91a5b"/>
                      </a:solidFill>
                      <a:latin typeface="Arial"/>
                    </a:rPr>
                    <a:t>I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19" name=""/>
                <p:cNvCxnSpPr>
                  <a:stCxn id="118" idx="2"/>
                  <a:endCxn id="116" idx="0"/>
                </p:cNvCxnSpPr>
                <p:nvPr/>
              </p:nvCxnSpPr>
              <p:spPr>
                <a:xfrm>
                  <a:off x="7545240" y="4924800"/>
                  <a:ext cx="1080" cy="33336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20" name=""/>
                <p:cNvCxnSpPr>
                  <a:stCxn id="116" idx="2"/>
                  <a:endCxn id="117" idx="0"/>
                </p:cNvCxnSpPr>
                <p:nvPr/>
              </p:nvCxnSpPr>
              <p:spPr>
                <a:xfrm>
                  <a:off x="7545240" y="5817960"/>
                  <a:ext cx="1080" cy="388800"/>
                </a:xfrm>
                <a:prstGeom prst="straightConnector1">
                  <a:avLst/>
                </a:prstGeom>
                <a:ln w="19080">
                  <a:solidFill>
                    <a:srgbClr val="091a5b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  <p:sp>
            <p:nvSpPr>
              <p:cNvPr id="121" name=""/>
              <p:cNvSpPr/>
              <p:nvPr/>
            </p:nvSpPr>
            <p:spPr>
              <a:xfrm>
                <a:off x="6479640" y="6206040"/>
                <a:ext cx="381600" cy="270720"/>
              </a:xfrm>
              <a:prstGeom prst="rect">
                <a:avLst/>
              </a:prstGeom>
              <a:noFill/>
              <a:ln w="6480">
                <a:solidFill>
                  <a:srgbClr val="091a5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"/>
              <p:cNvCxnSpPr>
                <a:stCxn id="111" idx="3"/>
                <a:endCxn id="121" idx="1"/>
              </p:cNvCxnSpPr>
              <p:nvPr/>
            </p:nvCxnSpPr>
            <p:spPr>
              <a:xfrm flipV="1">
                <a:off x="6200640" y="6341040"/>
                <a:ext cx="279000" cy="324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23" name=""/>
              <p:cNvCxnSpPr>
                <a:stCxn id="121" idx="3"/>
                <a:endCxn id="117" idx="1"/>
              </p:cNvCxnSpPr>
              <p:nvPr/>
            </p:nvCxnSpPr>
            <p:spPr>
              <a:xfrm>
                <a:off x="6860880" y="6341400"/>
                <a:ext cx="272520" cy="324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24" name=""/>
              <p:cNvCxnSpPr>
                <a:stCxn id="110" idx="3"/>
                <a:endCxn id="116" idx="1"/>
              </p:cNvCxnSpPr>
              <p:nvPr/>
            </p:nvCxnSpPr>
            <p:spPr>
              <a:xfrm>
                <a:off x="6320520" y="5538240"/>
                <a:ext cx="694080" cy="108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25" name=""/>
              <p:cNvCxnSpPr>
                <a:stCxn id="112" idx="3"/>
                <a:endCxn id="118" idx="1"/>
              </p:cNvCxnSpPr>
              <p:nvPr/>
            </p:nvCxnSpPr>
            <p:spPr>
              <a:xfrm>
                <a:off x="5968800" y="4786200"/>
                <a:ext cx="1397520" cy="1080"/>
              </a:xfrm>
              <a:prstGeom prst="straightConnector1">
                <a:avLst/>
              </a:prstGeom>
              <a:ln w="6480">
                <a:solidFill>
                  <a:srgbClr val="091a5b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26" name=""/>
            <p:cNvSpPr/>
            <p:nvPr/>
          </p:nvSpPr>
          <p:spPr>
            <a:xfrm>
              <a:off x="5105520" y="4572000"/>
              <a:ext cx="3276360" cy="2057400"/>
            </a:xfrm>
            <a:prstGeom prst="rect">
              <a:avLst/>
            </a:prstGeom>
            <a:noFill/>
            <a:ln w="6480">
              <a:solidFill>
                <a:srgbClr val="091a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95480" y="5148360"/>
              <a:ext cx="423000" cy="3682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91a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91a5b"/>
                  </a:solidFill>
                  <a:latin typeface="Arial"/>
                </a:rPr>
                <a:t>I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400800" y="411480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6480">
            <a:solidFill>
              <a:srgbClr val="091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Design: Criteria and Encoding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Medium independence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Collision/reflection avoidance: bit length longer than net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End-to-end modulation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01960" y="1981080"/>
            <a:ext cx="172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UDP, T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16840" y="2662200"/>
            <a:ext cx="49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05880" y="326880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S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33520" y="3876840"/>
            <a:ext cx="10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ASC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69600" y="4484520"/>
            <a:ext cx="78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004e"/>
                </a:solidFill>
                <a:latin typeface="Arial"/>
              </a:rPr>
              <a:t>8N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00640" y="5762520"/>
            <a:ext cx="423720" cy="355680"/>
            <a:chOff x="4400640" y="5762520"/>
            <a:chExt cx="423720" cy="355680"/>
          </a:xfrm>
        </p:grpSpPr>
        <p:sp>
          <p:nvSpPr>
            <p:cNvPr id="137" name=""/>
            <p:cNvSpPr/>
            <p:nvPr/>
          </p:nvSpPr>
          <p:spPr>
            <a:xfrm>
              <a:off x="440712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178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0640" y="611100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1880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11760" y="5762520"/>
            <a:ext cx="425520" cy="355680"/>
            <a:chOff x="4811760" y="5762520"/>
            <a:chExt cx="425520" cy="355680"/>
          </a:xfrm>
        </p:grpSpPr>
        <p:sp>
          <p:nvSpPr>
            <p:cNvPr id="142" name=""/>
            <p:cNvSpPr/>
            <p:nvPr/>
          </p:nvSpPr>
          <p:spPr>
            <a:xfrm>
              <a:off x="481824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3044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1760" y="6111000"/>
              <a:ext cx="4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064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27560" y="5762520"/>
            <a:ext cx="425520" cy="355680"/>
            <a:chOff x="5227560" y="5762520"/>
            <a:chExt cx="425520" cy="355680"/>
          </a:xfrm>
        </p:grpSpPr>
        <p:sp>
          <p:nvSpPr>
            <p:cNvPr id="147" name=""/>
            <p:cNvSpPr/>
            <p:nvPr/>
          </p:nvSpPr>
          <p:spPr>
            <a:xfrm>
              <a:off x="523404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4624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27560" y="6111000"/>
              <a:ext cx="4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4644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635800" y="5762520"/>
            <a:ext cx="423720" cy="355680"/>
            <a:chOff x="5635800" y="5762520"/>
            <a:chExt cx="423720" cy="355680"/>
          </a:xfrm>
        </p:grpSpPr>
        <p:sp>
          <p:nvSpPr>
            <p:cNvPr id="152" name=""/>
            <p:cNvSpPr/>
            <p:nvPr/>
          </p:nvSpPr>
          <p:spPr>
            <a:xfrm>
              <a:off x="56422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5304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5800" y="611100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5396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49800" y="5762520"/>
            <a:ext cx="425520" cy="355680"/>
            <a:chOff x="6049800" y="5762520"/>
            <a:chExt cx="425520" cy="355680"/>
          </a:xfrm>
        </p:grpSpPr>
        <p:sp>
          <p:nvSpPr>
            <p:cNvPr id="157" name=""/>
            <p:cNvSpPr/>
            <p:nvPr/>
          </p:nvSpPr>
          <p:spPr>
            <a:xfrm>
              <a:off x="60562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84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49800" y="6111000"/>
              <a:ext cx="4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6868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458040" y="5762520"/>
            <a:ext cx="423720" cy="355680"/>
            <a:chOff x="6458040" y="5762520"/>
            <a:chExt cx="423720" cy="355680"/>
          </a:xfrm>
        </p:grpSpPr>
        <p:sp>
          <p:nvSpPr>
            <p:cNvPr id="162" name=""/>
            <p:cNvSpPr/>
            <p:nvPr/>
          </p:nvSpPr>
          <p:spPr>
            <a:xfrm>
              <a:off x="646452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752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8040" y="611100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7620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873840" y="5762520"/>
            <a:ext cx="423720" cy="355680"/>
            <a:chOff x="6873840" y="5762520"/>
            <a:chExt cx="423720" cy="355680"/>
          </a:xfrm>
        </p:grpSpPr>
        <p:sp>
          <p:nvSpPr>
            <p:cNvPr id="167" name=""/>
            <p:cNvSpPr/>
            <p:nvPr/>
          </p:nvSpPr>
          <p:spPr>
            <a:xfrm>
              <a:off x="688032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108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3840" y="611100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9200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280280" y="5762520"/>
            <a:ext cx="425520" cy="355680"/>
            <a:chOff x="7280280" y="5762520"/>
            <a:chExt cx="425520" cy="355680"/>
          </a:xfrm>
        </p:grpSpPr>
        <p:sp>
          <p:nvSpPr>
            <p:cNvPr id="172" name=""/>
            <p:cNvSpPr/>
            <p:nvPr/>
          </p:nvSpPr>
          <p:spPr>
            <a:xfrm>
              <a:off x="728676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896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80280" y="6111000"/>
              <a:ext cx="4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916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696080" y="5762520"/>
            <a:ext cx="425520" cy="355680"/>
            <a:chOff x="7696080" y="5762520"/>
            <a:chExt cx="425520" cy="355680"/>
          </a:xfrm>
        </p:grpSpPr>
        <p:sp>
          <p:nvSpPr>
            <p:cNvPr id="177" name=""/>
            <p:cNvSpPr/>
            <p:nvPr/>
          </p:nvSpPr>
          <p:spPr>
            <a:xfrm>
              <a:off x="770256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1476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96080" y="6111000"/>
              <a:ext cx="4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1496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104320" y="5762520"/>
            <a:ext cx="423720" cy="355680"/>
            <a:chOff x="8104320" y="5762520"/>
            <a:chExt cx="423720" cy="355680"/>
          </a:xfrm>
        </p:grpSpPr>
        <p:sp>
          <p:nvSpPr>
            <p:cNvPr id="182" name=""/>
            <p:cNvSpPr/>
            <p:nvPr/>
          </p:nvSpPr>
          <p:spPr>
            <a:xfrm>
              <a:off x="811080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21560" y="576252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04320" y="611100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22480" y="59547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00720" y="5486040"/>
            <a:ext cx="3921120" cy="624960"/>
            <a:chOff x="4500720" y="5486040"/>
            <a:chExt cx="3921120" cy="624960"/>
          </a:xfrm>
        </p:grpSpPr>
        <p:sp>
          <p:nvSpPr>
            <p:cNvPr id="187" name=""/>
            <p:cNvSpPr/>
            <p:nvPr/>
          </p:nvSpPr>
          <p:spPr>
            <a:xfrm flipV="1">
              <a:off x="4500720" y="54914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32360" y="54914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54508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75784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16428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7700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8976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40268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01540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703760" y="54914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21196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421840" y="5486040"/>
              <a:ext cx="0" cy="619560"/>
            </a:xfrm>
            <a:prstGeom prst="line">
              <a:avLst/>
            </a:prstGeom>
            <a:ln w="28440">
              <a:solidFill>
                <a:srgbClr val="a8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192200" y="63896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56400" y="6389640"/>
            <a:ext cx="3874680" cy="470880"/>
            <a:chOff x="4856400" y="6389640"/>
            <a:chExt cx="3874680" cy="470880"/>
          </a:xfrm>
        </p:grpSpPr>
        <p:sp>
          <p:nvSpPr>
            <p:cNvPr id="201" name=""/>
            <p:cNvSpPr/>
            <p:nvPr/>
          </p:nvSpPr>
          <p:spPr>
            <a:xfrm>
              <a:off x="7907400" y="6389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640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6608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8188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156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9944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0912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24920" y="63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600" y="640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9004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56240" y="2343240"/>
            <a:ext cx="0" cy="347400"/>
          </a:xfrm>
          <a:prstGeom prst="line">
            <a:avLst/>
          </a:prstGeom>
          <a:ln w="28440">
            <a:solidFill>
              <a:srgbClr val="4b4b4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54800" y="2987640"/>
            <a:ext cx="0" cy="349200"/>
          </a:xfrm>
          <a:prstGeom prst="line">
            <a:avLst/>
          </a:prstGeom>
          <a:ln w="28440">
            <a:solidFill>
              <a:srgbClr val="4b4b4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61280" y="3595680"/>
            <a:ext cx="0" cy="349200"/>
          </a:xfrm>
          <a:prstGeom prst="line">
            <a:avLst/>
          </a:prstGeom>
          <a:ln w="28440">
            <a:solidFill>
              <a:srgbClr val="4b4b4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54800" y="4203720"/>
            <a:ext cx="0" cy="349200"/>
          </a:xfrm>
          <a:prstGeom prst="line">
            <a:avLst/>
          </a:prstGeom>
          <a:ln w="28440">
            <a:solidFill>
              <a:srgbClr val="4b4b4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54800" y="4800600"/>
            <a:ext cx="0" cy="349200"/>
          </a:xfrm>
          <a:prstGeom prst="line">
            <a:avLst/>
          </a:prstGeom>
          <a:ln w="28440">
            <a:solidFill>
              <a:srgbClr val="4b4b4b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0960" y="49086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9004e"/>
                </a:solidFill>
                <a:latin typeface="Arial"/>
                <a:ea typeface="Arial"/>
              </a:rPr>
              <a:t>Δ</a:t>
            </a:r>
            <a:r>
              <a:rPr b="1" lang="en-US" sz="2400" spc="-1" strike="noStrike">
                <a:solidFill>
                  <a:srgbClr val="09004e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19680" y="61038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09000" y="61038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232240" y="6111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609588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21560" y="61038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64192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05952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46740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88032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28820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701120" y="6103440"/>
            <a:ext cx="0" cy="1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Application Support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THTP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ingle packet payload only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Minimum HTTP support: GET, POST, reply, extremely limited error msgs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tandard HTTP format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1a5b"/>
                </a:solidFill>
                <a:latin typeface="Arial"/>
              </a:rPr>
              <a:t>Scalable encryption: basis for authentication, privacy, integrity</a:t>
            </a:r>
            <a:endParaRPr b="0" lang="en-US" sz="32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Looking forward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Federation: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a5b"/>
                </a:solidFill>
                <a:latin typeface="Arial"/>
              </a:rPr>
              <a:t>Multiple Internet Ø nets interconnected: how to allow individual nets retain simplicity</a:t>
            </a:r>
            <a:endParaRPr b="0" lang="en-US" sz="2400" spc="-1" strike="noStrike">
              <a:solidFill>
                <a:srgbClr val="091a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28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a5b"/>
                </a:solidFill>
                <a:latin typeface="Arial"/>
              </a:rPr>
              <a:t>Integrating Internet Ø nets with larger Internet</a:t>
            </a:r>
            <a:endParaRPr b="0" lang="en-US" sz="24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Commercial potential: device, power and control, networking, building industry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Services, functionality, support structure between THTP and applications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a5b"/>
                </a:solidFill>
                <a:latin typeface="Arial"/>
              </a:rPr>
              <a:t>Internet 0: Inter-device Internetworking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Krikorian, MS Thesis, 2004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a5b"/>
                </a:solidFill>
                <a:latin typeface="Arial"/>
              </a:rPr>
              <a:t>The Internet of Things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Gershenfeld, Krikorian, Cohen, </a:t>
            </a:r>
            <a:r>
              <a:rPr b="0" i="1" lang="en-US" sz="1800" spc="-1" strike="noStrike">
                <a:solidFill>
                  <a:srgbClr val="091a5b"/>
                </a:solidFill>
                <a:latin typeface="Arial"/>
              </a:rPr>
              <a:t>Scientific American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Oct. 2004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a5b"/>
                </a:solidFill>
                <a:latin typeface="Arial"/>
              </a:rPr>
              <a:t>SEA: A Scalable Encryption Algorithm for Small Embedded Applications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Standaert, Piret, Gershenfeld, Quisquater,</a:t>
            </a:r>
            <a:r>
              <a:rPr b="0" i="1" lang="en-US" sz="1800" spc="-1" strike="noStrike">
                <a:solidFill>
                  <a:srgbClr val="091a5b"/>
                </a:solidFill>
                <a:latin typeface="Arial"/>
              </a:rPr>
              <a:t> ECRYPT Workshop on RFID and Lightweight Crypto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Graz, Austria, 2005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a5b"/>
                </a:solidFill>
                <a:latin typeface="Arial"/>
              </a:rPr>
              <a:t>Design Issues in Internet 0 Federation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Sollins, Li, MIT Dspace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a5b"/>
                </a:solidFill>
                <a:latin typeface="Arial"/>
              </a:rPr>
              <a:t>Internet Ø: Interdevice Internetworking</a:t>
            </a:r>
            <a:r>
              <a:rPr b="0" lang="en-US" sz="1800" spc="-1" strike="noStrike">
                <a:solidFill>
                  <a:srgbClr val="091a5b"/>
                </a:solidFill>
                <a:latin typeface="Arial"/>
              </a:rPr>
              <a:t>, Gershenfeld, Cohen, submitted for pub in </a:t>
            </a:r>
            <a:r>
              <a:rPr b="0" i="1" lang="en-US" sz="1800" spc="-1" strike="noStrike">
                <a:solidFill>
                  <a:srgbClr val="091a5b"/>
                </a:solidFill>
                <a:latin typeface="Arial"/>
              </a:rPr>
              <a:t>IEEE Circuits and Devices Mag.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1a5b"/>
                </a:solidFill>
                <a:latin typeface="Arial"/>
              </a:rPr>
              <a:t>Internet 0: A proposal for End-to-End Modulation</a:t>
            </a:r>
            <a:r>
              <a:rPr b="0" i="1" lang="en-US" sz="1800" spc="-1" strike="noStrike">
                <a:solidFill>
                  <a:srgbClr val="091a5b"/>
                </a:solidFill>
                <a:latin typeface="Arial"/>
              </a:rPr>
              <a:t>, Gershenfeld, Cohen, Snide, Lynn, to be submitted to IETF as Informational RFC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1a5b"/>
                </a:solidFill>
                <a:latin typeface="Arial"/>
              </a:rPr>
              <a:t>Trivial Hypertext Transfer Protocol (THTP)</a:t>
            </a:r>
            <a:r>
              <a:rPr b="0" i="1" lang="en-US" sz="1800" spc="-1" strike="noStrike">
                <a:solidFill>
                  <a:srgbClr val="091a5b"/>
                </a:solidFill>
                <a:latin typeface="Arial"/>
              </a:rPr>
              <a:t>, Gershenfeld, Snide, Johnson, Lynn, submitted to IETF as Informational RFC</a:t>
            </a:r>
            <a:endParaRPr b="0" lang="en-US" sz="1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1a5b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91a5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Standardization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, Rob Beverly, MIT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IØ interfaces for devices and controllers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, Todd Snide, Schneider Electric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IØ in Linksys routers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, Kerry Lynn,Cisco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IØ and SunSpot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: Doug Johnson, Danny Cohen, Sun Microsystems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b28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91a5b"/>
                </a:solidFill>
                <a:latin typeface="Arial"/>
              </a:rPr>
              <a:t>Scalable Encryption for Embedded Applications</a:t>
            </a:r>
            <a:r>
              <a:rPr b="0" lang="en-US" sz="2800" spc="-1" strike="noStrike">
                <a:solidFill>
                  <a:srgbClr val="091a5b"/>
                </a:solidFill>
                <a:latin typeface="Arial"/>
              </a:rPr>
              <a:t>, Jean-Jacques Quisquater, Université Catholique de Louvain</a:t>
            </a: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1a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21:27:31Z</dcterms:created>
  <dc:creator>Karen Sollins</dc:creator>
  <dc:description/>
  <dc:language>en-US</dc:language>
  <cp:lastModifiedBy>Karen Sollins</cp:lastModifiedBy>
  <dcterms:modified xsi:type="dcterms:W3CDTF">2006-10-10T19:32:32Z</dcterms:modified>
  <cp:revision>3</cp:revision>
  <dc:subject/>
  <dc:title>Internet Ø: Introduction</dc:title>
</cp:coreProperties>
</file>