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666-44D1-4D87-860B-AC885E67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D58-C0A8-4904-BE31-F135CAD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D96-A5A6-48A7-B0D5-C681FED6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05F-9E21-423C-87F5-7D12ACA6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C73-7C16-4156-A680-268EF044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D88-A6B5-457E-A082-4A521A0B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654-3367-4838-9AFC-B9BE1FDA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FF9-6E5A-4B1A-A756-32DC39B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903-15E4-4A31-AF3B-51F7378A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E9A-F81C-45CF-B201-FA3AB06B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6EA-D5F8-4393-8BB2-2FC8C521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086-3BD0-43E7-84D3-C8430BD7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030-F66F-4707-AEAD-1E691E4C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pus Energy U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lligent Infrastructure for Energy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5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Co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 of Facilities, Manager of Sustainable Engineering and Utility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17520" y="228600"/>
          <a:ext cx="71773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28600"/>
                    <a:ext cx="71773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gen Energy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0108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12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FLOW TO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219320"/>
            <a:ext cx="914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1219320"/>
            <a:ext cx="152388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S/P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4038480"/>
            <a:ext cx="15238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S/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440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865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398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335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761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67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057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897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LED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1523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523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2057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906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44956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49528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4864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03480" y="331308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505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12408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048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ct Steam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1809720"/>
            <a:ext cx="83055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le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us Elect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1623960"/>
            <a:ext cx="8458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DATA FY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582560"/>
          <a:ext cx="8534160" cy="42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82560"/>
                    <a:ext cx="8534160" cy="42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-380880" y="-399960"/>
          <a:ext cx="9524880" cy="73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399960"/>
                    <a:ext cx="9524880" cy="73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711360" y="1787400"/>
            <a:ext cx="7924320" cy="2265480"/>
            <a:chOff x="711360" y="1787400"/>
            <a:chExt cx="7924320" cy="2265480"/>
          </a:xfrm>
        </p:grpSpPr>
        <p:graphicFrame>
          <p:nvGraphicFramePr>
            <p:cNvPr id="89" name=""/>
            <p:cNvGraphicFramePr/>
            <p:nvPr/>
          </p:nvGraphicFramePr>
          <p:xfrm>
            <a:off x="711360" y="1787400"/>
            <a:ext cx="6015960" cy="2265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1360" y="1787400"/>
                      <a:ext cx="6015960" cy="22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3989520" y="2871000"/>
              <a:ext cx="2572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667480" y="2431080"/>
              <a:ext cx="2968200" cy="1076040"/>
              <a:chOff x="5667480" y="2431080"/>
              <a:chExt cx="2968200" cy="1076040"/>
            </a:xfrm>
          </p:grpSpPr>
          <p:sp>
            <p:nvSpPr>
              <p:cNvPr id="93" name=""/>
              <p:cNvSpPr/>
              <p:nvPr/>
            </p:nvSpPr>
            <p:spPr>
              <a:xfrm>
                <a:off x="5667480" y="2556360"/>
                <a:ext cx="1484280" cy="316800"/>
              </a:xfrm>
              <a:custGeom>
                <a:avLst/>
                <a:gdLst>
                  <a:gd name="textAreaLeft" fmla="*/ 0 w 1484280"/>
                  <a:gd name="textAreaRight" fmla="*/ 536040 w 1484280"/>
                  <a:gd name="textAreaTop" fmla="*/ 7920 h 316800"/>
                  <a:gd name="textAreaBottom" fmla="*/ 308880 h 31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1800"/>
                    </a:lnTo>
                    <a:cubicBezTo>
                      <a:pt x="10800" y="2700"/>
                      <a:pt x="16200" y="3600"/>
                      <a:pt x="21600" y="3600"/>
                    </a:cubicBezTo>
                    <a:cubicBezTo>
                      <a:pt x="16200" y="3600"/>
                      <a:pt x="10800" y="4500"/>
                      <a:pt x="10800" y="54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4280" y="2431080"/>
                <a:ext cx="1481400" cy="10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1120" bIns="51120" anchor="t">
                <a:spAutoFit/>
              </a:bodyPr>
              <a:p>
                <a:pPr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18,000 Ton Reduction Needed for 2005 Lev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416040" y="2344680"/>
              <a:ext cx="1514160" cy="401040"/>
            </a:xfrm>
            <a:prstGeom prst="downArrowCallout">
              <a:avLst>
                <a:gd name="adj1" fmla="val 94398"/>
                <a:gd name="adj2" fmla="val 94390"/>
                <a:gd name="adj3" fmla="val 16667"/>
                <a:gd name="adj4" fmla="val 6666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e Are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11360" y="927000"/>
            <a:ext cx="71625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 GHG Inventory shows our emissions come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ilding energy consumption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ransportation (including commuting) 9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olid waste 0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22200"/>
            <a:ext cx="833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Greenhouse Gas Profile 1990-20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1360" y="4057560"/>
            <a:ext cx="77212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e can reduce our emission to 2005 levels (or better) through several key strategi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516720"/>
            <a:ext cx="284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6576840"/>
            <a:ext cx="284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5EDD6C-F747-49E1-9EED-A695A1E82818}" type="slidenum">
              <a:rPr b="0" lang="en-US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28600"/>
            <a:ext cx="7823160" cy="4586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464160"/>
            <a:ext cx="853416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03040" y="6481800"/>
            <a:ext cx="1866960" cy="32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27120" y="4624560"/>
          <a:ext cx="3843360" cy="176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7120" y="4624560"/>
                    <a:ext cx="384336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648400" y="4935600"/>
            <a:ext cx="34066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 fontScale="65000"/>
          </a:bodyPr>
          <a:p>
            <a:pPr marL="248400" indent="-248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revolving loan fu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ergy conserv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-generation expan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stainable desig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ewable pow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nts for student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146480" y="4719240"/>
            <a:ext cx="1298520" cy="1523880"/>
          </a:xfrm>
          <a:prstGeom prst="upArrow">
            <a:avLst>
              <a:gd name="adj1" fmla="val 50000"/>
              <a:gd name="adj2" fmla="val 2933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di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9600" y="304920"/>
          <a:ext cx="648504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304920"/>
                    <a:ext cx="648504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2:25:06Z</dcterms:created>
  <dc:creator>plcooper</dc:creator>
  <dc:description/>
  <dc:language>en-US</dc:language>
  <cp:lastModifiedBy>plcooper</cp:lastModifiedBy>
  <dcterms:modified xsi:type="dcterms:W3CDTF">2007-05-24T20:25:11Z</dcterms:modified>
  <cp:revision>4</cp:revision>
  <dc:subject/>
  <dc:title>Campus Energy Use Intelligent Infrastructure for Energy Efficiency</dc:title>
</cp:coreProperties>
</file>