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DD4-0ACC-4FD2-A62D-AD6D960C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A6E-13BF-4CFD-A082-5A98663F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661-A7CE-48FC-8634-B7BA8062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43C-FD77-4798-B2EE-5D48B378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65A-503F-475C-9359-138AA1CE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273-C34E-4B9B-ADC9-0F0452E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578-026F-4481-8843-C0C329FF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BF6-23A0-4D9F-9D4E-17DD081B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B3D-4607-4A74-BEB2-8915459A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463-B3A8-49EA-88E1-619DF41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F34-D9F3-4A09-B05C-C5F2BA8B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515-3C42-40D3-91C6-F59E04CF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AB3-1E06-4527-A0C4-4182237B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81680" y="1657440"/>
            <a:ext cx="2362320" cy="234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3930" t="0" r="19932" b="0"/>
          <a:stretch/>
        </p:blipFill>
        <p:spPr>
          <a:xfrm>
            <a:off x="0" y="1638360"/>
            <a:ext cx="6629400" cy="521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72320" y="4114800"/>
            <a:ext cx="237168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e Test B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1219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E. F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ez Ma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6583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 microturbine, Chicago,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2108160" cy="199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4687" r="0" b="0"/>
          <a:stretch/>
        </p:blipFill>
        <p:spPr>
          <a:xfrm>
            <a:off x="6858000" y="3809880"/>
            <a:ext cx="209880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26431" t="0" r="7496" b="0"/>
          <a:stretch/>
        </p:blipFill>
        <p:spPr>
          <a:xfrm>
            <a:off x="0" y="1633680"/>
            <a:ext cx="6629400" cy="52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e Test B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amic tube solar shading, 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828800"/>
            <a:ext cx="5105520" cy="4724280"/>
            <a:chOff x="609480" y="1828800"/>
            <a:chExt cx="5105520" cy="4724280"/>
          </a:xfrm>
        </p:grpSpPr>
        <p:sp>
          <p:nvSpPr>
            <p:cNvPr id="53" name=""/>
            <p:cNvSpPr/>
            <p:nvPr/>
          </p:nvSpPr>
          <p:spPr>
            <a:xfrm>
              <a:off x="609480" y="1828800"/>
              <a:ext cx="2210040" cy="472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0400" y="38098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tegrated façade and microclimate behav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720" y="38862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819520" y="41148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12000"/>
          </a:blip>
          <a:srcRect l="1316" t="0" r="12457" b="0"/>
          <a:stretch/>
        </p:blipFill>
        <p:spPr>
          <a:xfrm>
            <a:off x="0" y="133524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e Test B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12000"/>
          </a:blip>
          <a:srcRect l="10198" t="0" r="10198" b="0"/>
          <a:stretch/>
        </p:blipFill>
        <p:spPr>
          <a:xfrm>
            <a:off x="0" y="876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e Test B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12000"/>
          </a:blip>
          <a:srcRect l="10198" t="0" r="10198" b="0"/>
          <a:stretch/>
        </p:blipFill>
        <p:spPr>
          <a:xfrm>
            <a:off x="0" y="876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e Test B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6324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ed floor and outsid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12000"/>
          </a:blip>
          <a:srcRect l="10198" t="0" r="10198" b="0"/>
          <a:stretch/>
        </p:blipFill>
        <p:spPr>
          <a:xfrm>
            <a:off x="0" y="876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e Test B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12000"/>
          </a:blip>
          <a:srcRect l="10198" t="0" r="10198" b="0"/>
          <a:stretch/>
        </p:blipFill>
        <p:spPr>
          <a:xfrm>
            <a:off x="0" y="876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e Test Be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3244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wal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2:36:30Z</dcterms:created>
  <dc:creator>John E. Fernandez</dc:creator>
  <dc:description/>
  <dc:language>en-US</dc:language>
  <cp:lastModifiedBy>John E. Fernandez</cp:lastModifiedBy>
  <dcterms:modified xsi:type="dcterms:W3CDTF">2007-05-25T03:03:07Z</dcterms:modified>
  <cp:revision>8</cp:revision>
  <dc:subject/>
  <dc:title>Slide 1</dc:title>
</cp:coreProperties>
</file>