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0015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790015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03C9-EA8D-4F89-A896-3B15CA8AF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F012-6DE0-47A3-BE0C-FB28857E72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Improving campus energy management holds promise for lowering energy use and cost, reducing emissions, and providing an important learning environment for faculty, students, and staff. A number of options for achieving these goals have been suggested. It is recommended that as a next step a comprehensive assessment and analysis of these approaches and alternatives be conducted in order to understand fully the opportunities, trade-offs, benefits and costs before committing to a course of 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Improving campus energy management holds promise for lowering energy use and cost, reducing emissions, and providing an important learning environment for faculty, students, and staff. A number of options for achieving these goals have been suggested. It is recommended that as a next step a comprehensive assessment and analysis of these approaches and alternatives be conducted in order to understand fully the opportunities, trade-offs, benefits and costs before committing to a course of 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90015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3064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90015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3064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90015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9001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90015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90015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90015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90015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90015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3064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90015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0015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79001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8393400" y="648648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73CC-DF9F-419A-A8D6-E741E1E76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 flipH="1">
            <a:off x="3200040" y="457200"/>
            <a:ext cx="5638680" cy="0"/>
          </a:xfrm>
          <a:prstGeom prst="line">
            <a:avLst/>
          </a:prstGeom>
          <a:ln w="7632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 flipH="1">
            <a:off x="304920" y="6477120"/>
            <a:ext cx="5333760" cy="0"/>
          </a:xfrm>
          <a:prstGeom prst="line">
            <a:avLst/>
          </a:prstGeom>
          <a:ln w="1260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201960" y="6486480"/>
            <a:ext cx="176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 Energy Initi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0015"/>
                </a:solidFill>
                <a:latin typeface="Times New Roman"/>
              </a:rPr>
              <a:t>MIT Energy Initiative</a:t>
            </a:r>
            <a:endParaRPr b="1" lang="en-US" sz="4400" spc="-1" strike="noStrike">
              <a:solidFill>
                <a:srgbClr val="790015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organization to serve as a focal point for cross-disciplinary energy research and education at 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subsume all energy research and education at 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disciplinary, multi-faculty, multi-year, sustained research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going major thru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ulty recru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Cam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source (internal – exter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in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it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0015"/>
                </a:solidFill>
                <a:latin typeface="Times New Roman"/>
              </a:rPr>
              <a:t>MIT Energy Initiative</a:t>
            </a:r>
            <a:endParaRPr b="1" lang="en-US" sz="4400" spc="-1" strike="noStrike">
              <a:solidFill>
                <a:srgbClr val="790015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bert Armstrong, Chemical Engineering, Associate Dir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gela Belcher, Materials Science &amp; Engineering and Biological Engine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 Deutch, Institute Professor (Chemist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on Glicksman, Architecture and Mechanical Engine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becca Henderson, Sloan School of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fessor Paul Joskow, Econo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nest Moniz, Physics, Dir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nuel Sachs, Mechanical Engine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80440" y="1690560"/>
            <a:ext cx="278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ergy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0015"/>
                </a:solidFill>
                <a:latin typeface="Times New Roman"/>
              </a:rPr>
              <a:t>Major Themes of MITEI</a:t>
            </a:r>
            <a:endParaRPr b="1" lang="en-US" sz="4400" spc="-1" strike="noStrike">
              <a:solidFill>
                <a:srgbClr val="790015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today’s energ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ve today’s energy systems to higher efficiency, lower cost, less environmental impact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r to marketplace implies strong industry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ce and technology for a clean energy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ing research to underpin critical breakthroug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esearch in university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systems for a rapidly developing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developing countries drive many of the leading energy/environmental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advanced developing economies offer opportunities for new energy development technologies/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0015"/>
                </a:solidFill>
                <a:latin typeface="Times New Roman"/>
              </a:rPr>
              <a:t>Launching MITEI</a:t>
            </a:r>
            <a:endParaRPr b="1" lang="en-US" sz="4400" spc="-1" strike="noStrike">
              <a:solidFill>
                <a:srgbClr val="790015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core focus are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us energ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ing traction over the last six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62120" y="13716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057400" y="1676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898560" y="534960"/>
            <a:ext cx="740736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838080" y="685800"/>
            <a:ext cx="708660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0015"/>
                </a:solidFill>
                <a:latin typeface="Times New Roman"/>
              </a:rPr>
              <a:t>MIT Campus Energy Initiative</a:t>
            </a:r>
            <a:endParaRPr b="1" lang="en-US" sz="4400" spc="-1" strike="noStrike">
              <a:solidFill>
                <a:srgbClr val="790015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by example/”walk the tal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MIT campus energy efficiency and provide platform for research and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a leadership role in modeling institutional energy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hensive assessment of options for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student fund for campus energy projects/RFP for initial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90015"/>
                </a:solidFill>
                <a:latin typeface="Times New Roman"/>
              </a:rPr>
              <a:t>MIT Campus Energy Initiative </a:t>
            </a:r>
            <a:br>
              <a:rPr sz="4000"/>
            </a:br>
            <a:r>
              <a:rPr b="1" lang="en-US" sz="4000" spc="-1" strike="noStrike">
                <a:solidFill>
                  <a:srgbClr val="790015"/>
                </a:solidFill>
                <a:latin typeface="Times New Roman"/>
              </a:rPr>
              <a:t>Task Force</a:t>
            </a:r>
            <a:endParaRPr b="1" lang="en-US" sz="4000" spc="-1" strike="noStrike">
              <a:solidFill>
                <a:srgbClr val="790015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Theresa Stone and Leon Glicksman– co-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ing – Vladimir Bulov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- Bob Ja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ities – Meg Jac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an – John St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 – Chris Zegras, Les Nor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ion – Walt Henr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 Van Schalkw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es, Task force staff – Peter Cooper, Steve La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ost’s office – Lorna Gib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&amp;T – Laxmi R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– Jason Jay, Ariel Espo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n for student life – Larry Bened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staff members – Diana Daigle, Dick Fe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rwin Greenbl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0015"/>
                </a:solidFill>
                <a:latin typeface="Times New Roman"/>
              </a:rPr>
              <a:t>MIT Campus Energy Initiative</a:t>
            </a:r>
            <a:endParaRPr b="1" lang="en-US" sz="4400" spc="-1" strike="noStrike">
              <a:solidFill>
                <a:srgbClr val="790015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MIT campus energy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ofit of Existing Buil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effective, Major efficiency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Buildings as test beds for research,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688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990720"/>
            <a:ext cx="198144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990720"/>
            <a:ext cx="21333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1523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1523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129528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Energy Efficiency,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2895480"/>
            <a:ext cx="55627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Scale Demos / Prototy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, Run, 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-Scale Test Beds on MIT Ca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0:48:54Z</dcterms:created>
  <dc:creator>LG</dc:creator>
  <dc:description/>
  <dc:language>en-US</dc:language>
  <cp:lastModifiedBy>LG</cp:lastModifiedBy>
  <dcterms:modified xsi:type="dcterms:W3CDTF">2007-05-24T20:19:25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ReviewCycleID">
    <vt:r8>865178337</vt:r8>
  </property>
</Properties>
</file>