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B248-ECD5-4507-BEDA-0585EC7D5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7874-0243-4898-A8A2-CC9126F2C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848F-CCB6-4CD5-A37C-59D226DA3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39C3-19DF-4761-BBA8-FC97125AF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CE13-4B16-4FFB-8CB6-AF124F68B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F385-C00B-43EB-A54C-59A1DF80B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0FC7-FEC8-40E1-BB82-3B2AFE5BB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4A0C-D8F2-4A10-930D-5C0DF785E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AFB1-C0F0-47BD-BD99-7AB2DF359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08F5-AA73-453F-B9D2-EF65BF51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F2C4-6885-4485-8DEA-61AB35C4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228B-A5E7-4E29-8EFE-284E94AC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571680" indent="-11448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05821-320E-4B2F-AF52-9F2501647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Just In Ti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Carbon Footpr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002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anu Gupta, Stephen Intille and Kent Larson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IT Media Lab, House_n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58816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ug@mit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ille@mit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ll@mit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Carbon Footpr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easurement &amp; calculation of CO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emitted as part of daily life activiti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y measure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571680" indent="-11448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nserve energy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571680" indent="-11448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llow people to be aware of their emission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571680" indent="-11448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Help people change usage patterns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571680" indent="-11448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ts our responsibility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Analysis T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Lucida Sans"/>
              </a:rPr>
              <a:t>Handlense sensor visualization too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571680" indent="-1144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"/>
              </a:rPr>
              <a:t>Developed at House_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184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 flipH="1" flipV="1">
            <a:off x="2514240" y="4952520"/>
            <a:ext cx="10666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35812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3581280" y="4800600"/>
            <a:ext cx="22860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581280" y="4190760"/>
            <a:ext cx="3049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90800" y="579132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used lights &amp; De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895480" y="2209680"/>
            <a:ext cx="18288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505320" y="2209680"/>
            <a:ext cx="121896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95480" y="2209680"/>
            <a:ext cx="1828800" cy="266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24280" y="2209680"/>
            <a:ext cx="16765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285640" y="2209680"/>
            <a:ext cx="24382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81880" y="1905120"/>
            <a:ext cx="20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mpire power 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ed U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343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28600" y="3048120"/>
            <a:ext cx="6553080" cy="22161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 flipH="1" flipV="1">
            <a:off x="1295280" y="4647960"/>
            <a:ext cx="6098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1905120" y="3505320"/>
            <a:ext cx="160020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676160" y="2286000"/>
            <a:ext cx="236196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95280" y="5715000"/>
            <a:ext cx="133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ices in 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60360" y="205740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ace in 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otal electricity consumed in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1 day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13.45 KWh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ith an “optimal” change in behavior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but without impacting quality of life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571680" indent="-11448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y would have saved ~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38% (5KWh)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of the total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lectricity consumed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havior Change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o motivate energy conservation behavior two strategies can be used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sponsive Automation*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Just in Time Intervention*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Current research is on designing these strategies and testing how 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uch energy can be saved using them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0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6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havioral Chang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fac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0" y="1600200"/>
            <a:ext cx="43434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ring the use of phones for just-in-time positive reinforc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 idea: positive reinforcement tied to small behavior changes (Detected by sens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lead to gradual behavior chan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62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stem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nsor Network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ntrol and Actuation system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obile Devic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tervention strategi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60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System 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ow power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ireles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ffordable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al Time interaction with mobile devic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on intrusiv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ight mix of automation and interventio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8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hank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Our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ehavior chang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easuring and motivating energy conservation behavior at the personal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laceLab- A Live-In Labora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frame panorama lores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2914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52280" y="4343400"/>
            <a:ext cx="87631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114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ata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1448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nly electric current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1448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37 different electrical circuits fitted with current sen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1448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ircuits are divided into residential spaces and residential appli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114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laceLab- A Live-In Labora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frame panorama lores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2914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04920" y="4114800"/>
            <a:ext cx="8534160" cy="23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170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ata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8640" indent="-1098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 Couple lived in the PlaceLab for 10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8640" indent="-1098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One day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8640" indent="-1098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nn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Video analysis of usage, movement and behavior patter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8640" indent="-1098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urrent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f each individual appliance/device’s energy consu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0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6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8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380880" y="-404640"/>
            <a:ext cx="9677160" cy="7338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-304920" y="-299880"/>
            <a:ext cx="906804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3T02:59:44Z</dcterms:created>
  <dc:creator>Manu Gupta</dc:creator>
  <dc:description/>
  <dc:language>en-US</dc:language>
  <cp:lastModifiedBy>Manu Gupta</cp:lastModifiedBy>
  <dcterms:modified xsi:type="dcterms:W3CDTF">2007-05-24T21:59:03Z</dcterms:modified>
  <cp:revision>19</cp:revision>
  <dc:subject/>
  <dc:title>Just In Time  Carbon Footprint</dc:title>
</cp:coreProperties>
</file>