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7.wmf" ContentType="image/x-wmf"/>
  <Override PartName="/ppt/media/image10.png" ContentType="image/png"/>
  <Override PartName="/ppt/media/image6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49360" y="152352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5704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45320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849360" y="4309560"/>
            <a:ext cx="22816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8360" y="430956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8360" y="1523520"/>
            <a:ext cx="3458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040" y="4309560"/>
            <a:ext cx="7086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040" y="6629040"/>
            <a:ext cx="7086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4d4d4d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USC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 Viterbi School of Engineering       .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0"/>
            <a:ext cx="7010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7086600" cy="24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057400" cy="24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3300"/>
                </a:solidFill>
                <a:latin typeface="Times New Roman"/>
              </a:rPr>
              <a:t>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57400" y="0"/>
            <a:ext cx="7238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9400"/>
            <a:ext cx="20574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057400" cy="140328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8858160" y="6648480"/>
            <a:ext cx="196920" cy="193680"/>
            <a:chOff x="8858160" y="6648480"/>
            <a:chExt cx="196920" cy="193680"/>
          </a:xfrm>
        </p:grpSpPr>
        <p:sp>
          <p:nvSpPr>
            <p:cNvPr id="10" name=""/>
            <p:cNvSpPr/>
            <p:nvPr/>
          </p:nvSpPr>
          <p:spPr>
            <a:xfrm>
              <a:off x="8858160" y="6648480"/>
              <a:ext cx="19692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99560" y="6648480"/>
              <a:ext cx="76320" cy="18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966160" y="6689880"/>
              <a:ext cx="763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ontour Crafting Proces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33530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286000" y="990720"/>
            <a:ext cx="3200400" cy="1447560"/>
            <a:chOff x="2286000" y="990720"/>
            <a:chExt cx="3200400" cy="1447560"/>
          </a:xfrm>
        </p:grpSpPr>
        <p:pic>
          <p:nvPicPr>
            <p:cNvPr id="52" name="" descr=""/>
            <p:cNvPicPr/>
            <p:nvPr/>
          </p:nvPicPr>
          <p:blipFill>
            <a:blip r:embed="rId2">
              <a:lum contrast="36000"/>
            </a:blip>
            <a:stretch/>
          </p:blipFill>
          <p:spPr>
            <a:xfrm>
              <a:off x="2286000" y="990720"/>
              <a:ext cx="1526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>
              <a:lum contrast="30000"/>
            </a:blip>
            <a:stretch/>
          </p:blipFill>
          <p:spPr>
            <a:xfrm>
              <a:off x="3837600" y="990720"/>
              <a:ext cx="164880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380880" y="2666880"/>
            <a:ext cx="198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CC builds objects by extruding paste material  in a layer by layer fashion while smoothing part surface with a robotically controlled Trow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514600" y="2438280"/>
            <a:ext cx="2819520" cy="19828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5638680" y="2590920"/>
            <a:ext cx="3352680" cy="4038120"/>
            <a:chOff x="5638680" y="2590920"/>
            <a:chExt cx="3352680" cy="403812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5640120" y="4678560"/>
              <a:ext cx="3348000" cy="19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6938280" y="2596320"/>
              <a:ext cx="2053080" cy="20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5638680" y="2590920"/>
              <a:ext cx="1288080" cy="20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286000" y="4495680"/>
            <a:ext cx="3200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Constructio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Crafting – Energy Aspe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076" t="5734" r="-2148" b="5377"/>
          <a:stretch/>
        </p:blipFill>
        <p:spPr>
          <a:xfrm>
            <a:off x="2209680" y="1523880"/>
            <a:ext cx="6782040" cy="489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828800"/>
            <a:ext cx="2286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On site custom design construction with fully electric CC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Wasteless operation at unprecedented speed: An average home built in on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se result in dramatic saving in construc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matic imbedding of heating / cooling elem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48000"/>
          </a:blip>
          <a:srcRect l="37606" t="15075" r="6321" b="20173"/>
          <a:stretch/>
        </p:blipFill>
        <p:spPr>
          <a:xfrm>
            <a:off x="4191120" y="1143000"/>
            <a:ext cx="341316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191120" y="4876920"/>
            <a:ext cx="3429000" cy="149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49602" b="0"/>
          <a:stretch/>
        </p:blipFill>
        <p:spPr>
          <a:xfrm>
            <a:off x="2362320" y="2133720"/>
            <a:ext cx="1600200" cy="3046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22860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ichrome wire coil or copper pipe for carrying heating or cooling liquids may be automatically imbedded upon co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bedding sensors and IT compon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230800" cy="556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36232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Conductive concrete may be used to power densely imbedded sensors and actu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72388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een Ligh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7086600" cy="538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523880"/>
            <a:ext cx="19051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ermanently imbedded lighting by extruding LEDs with conductive and translucent concrete to create building structures that provide reliable and low energy consuming illu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translucent concrete shown, Litracon, is already in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6:29:31Z</dcterms:created>
  <dc:creator> Berok</dc:creator>
  <dc:description/>
  <dc:language>en-US</dc:language>
  <cp:lastModifiedBy> Berok</cp:lastModifiedBy>
  <dcterms:modified xsi:type="dcterms:W3CDTF">2007-05-25T07:23:45Z</dcterms:modified>
  <cp:revision>3</cp:revision>
  <dc:subject/>
  <dc:title>Automated Construction by  Contour Crafting – Energy Aspects</dc:title>
</cp:coreProperties>
</file>